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4C7-3EA1-4F24-9B32-9301C95F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1D6-8F56-47C3-B401-B26AC5D4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347-4A3E-4B6A-B6CB-17670AFD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E3D-AB06-459C-812E-B18F316C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6E43-3BED-4D1D-B841-41A63873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39D3-E5F8-472B-AD95-62B844F4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AAC1-A424-4355-8484-6966AEA7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D86C-1951-4C16-AA7D-1E73D805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F3D3-C4F9-47FD-8F18-C14850AC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0539-E976-4555-9AC9-16E31F77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98EA-1397-4924-AF6C-B00FE637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E08-639C-4C16-AE36-A2C2C028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A41F-A6C6-405A-B2C3-5574EB1F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0D95-52EE-4CD7-B100-26B69599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FDC9-3317-4C66-A85C-F86C0457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FB01-4CBF-4300-B1BD-3CFE0400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4F44-FF23-4224-B895-0433BA74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559-BCE8-437A-A487-1E7B2288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03F-1EE2-4016-AE5A-AF5485AA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BA4-C15F-48F2-B816-C368E9C3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9E1-0B5F-441C-A407-C261AB56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D5C-421C-4675-BC83-F488FEA5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03F-D9AB-47EA-95FF-05A65F3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FA4F-602D-4E15-B5B9-A80EC0BF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6A64-2F88-4EAA-B5E5-8E1C9D8BE90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463680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0B1D-D8AA-489B-BB82-6687608D5B7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23640" y="515736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  <a:ea typeface="新細明體"/>
              </a:rPr>
              <a:t>圖書館書籍借閱統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0000"/>
                </a:solidFill>
                <a:latin typeface="Arial"/>
                <a:ea typeface="新細明體"/>
              </a:rPr>
              <a:t>借閱書籍英雄榜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26920" y="1916280"/>
            <a:ext cx="5545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國貿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甲游純慧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259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國貿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乙林昌盛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248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商經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丙徐玉真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244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廣設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乙沈芳儀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229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商經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甲倪品山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208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商經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乙賴書敏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20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商經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甲李千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199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資處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丙潘絮瑩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188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室設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乙張德煌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156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廣設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丙駱玉琴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15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冊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0000"/>
                </a:solidFill>
                <a:latin typeface="Arial"/>
                <a:ea typeface="新細明體"/>
              </a:rPr>
              <a:t>借閱書籍排行榜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26920" y="1916280"/>
            <a:ext cx="5545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達文西密碼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1120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佐賀的超級阿嬤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1046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追風箏的孩子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898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世界是平的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884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作最好的自己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75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公開我的英文單字簿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750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想吃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美食報告書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717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有一天啊寶寶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685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記憶力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61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時間管理高手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(601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次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0000"/>
                </a:solidFill>
                <a:latin typeface="Arial"/>
                <a:ea typeface="新細明體"/>
              </a:rPr>
              <a:t>圖書借閱統計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8785440" cy="475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06:41:53Z</dcterms:created>
  <dc:creator>user</dc:creator>
  <dc:description/>
  <dc:language>en-US</dc:language>
  <cp:lastModifiedBy>SuperXP</cp:lastModifiedBy>
  <dcterms:modified xsi:type="dcterms:W3CDTF">2006-09-01T03:24:34Z</dcterms:modified>
  <cp:revision>13</cp:revision>
  <dc:subject/>
  <dc:title>圖書館書籍借閱統計</dc:title>
</cp:coreProperties>
</file>