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552-C4B0-4251-BEF6-ACA1798F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755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5640" y="4370760"/>
            <a:ext cx="755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B1C-7D78-4B58-8631-771900C4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36889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89240" y="2420640"/>
            <a:ext cx="36889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5640" y="4370760"/>
            <a:ext cx="36889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89240" y="4370760"/>
            <a:ext cx="36889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314-771C-4F96-AB36-F6EE4E45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2433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71640" y="2420640"/>
            <a:ext cx="2433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27640" y="2420640"/>
            <a:ext cx="2433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5640" y="4370760"/>
            <a:ext cx="2433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71640" y="4370760"/>
            <a:ext cx="2433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27640" y="4370760"/>
            <a:ext cx="2433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2578-29C3-4A0E-A623-0877B58A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160E8-8332-4DA4-80CA-7AD6A2CB5D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15640" y="2420640"/>
            <a:ext cx="75596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1E25D-AC93-4FCA-9502-D8EFEB50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75596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7C5AD-E7EB-410B-B3C0-9457FCA1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36889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89240" y="2420640"/>
            <a:ext cx="36889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A3D13-76FC-4BC1-8AA8-889984F1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29671-1305-43A3-B9C7-2B7E4926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3CC59-1409-4C4F-A862-B56462DA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36889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89240" y="2420640"/>
            <a:ext cx="36889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15640" y="4370760"/>
            <a:ext cx="36889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94448-AF56-4AC6-91A5-7E8786B3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5640" y="2420640"/>
            <a:ext cx="75596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D6A-02AB-43AB-BBCC-8B84BBC4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36889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89240" y="2420640"/>
            <a:ext cx="36889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89240" y="4370760"/>
            <a:ext cx="36889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0E06E-2916-4825-9854-C70F6BA9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36889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89240" y="2420640"/>
            <a:ext cx="36889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5640" y="4370760"/>
            <a:ext cx="755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B7520-459F-4E89-922F-E34077AA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755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15640" y="4370760"/>
            <a:ext cx="755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C998D-9FEB-4B6E-8CBD-ED9D89CA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36889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9240" y="2420640"/>
            <a:ext cx="36889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15640" y="4370760"/>
            <a:ext cx="36889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89240" y="4370760"/>
            <a:ext cx="36889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E6F4A-0069-4FC2-9319-8C4015D6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2433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71640" y="2420640"/>
            <a:ext cx="2433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7640" y="2420640"/>
            <a:ext cx="2433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15640" y="4370760"/>
            <a:ext cx="2433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71640" y="4370760"/>
            <a:ext cx="2433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7640" y="4370760"/>
            <a:ext cx="2433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61E7E-6810-4184-A495-4583C6FC6B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75596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2DAB-CD9A-46D2-91B0-71E14343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36889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89240" y="2420640"/>
            <a:ext cx="36889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2F97-EDB7-4D54-84DB-D7368E23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84C6-188E-4FDD-920F-3E8BDF69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8BD-56B2-4125-8E4B-829942CF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36889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89240" y="2420640"/>
            <a:ext cx="36889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5640" y="4370760"/>
            <a:ext cx="36889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B01F-0168-48EC-9668-BD40BB67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36889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89240" y="2420640"/>
            <a:ext cx="36889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89240" y="4370760"/>
            <a:ext cx="36889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9DA-E0BC-4EF7-B98C-664143AD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36889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89240" y="2420640"/>
            <a:ext cx="36889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5640" y="4370760"/>
            <a:ext cx="755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281-27AA-40E5-948E-56FB9147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920" y="6141960"/>
            <a:ext cx="8244000" cy="95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a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57798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2556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E701-7C60-47BB-A928-4880473680F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115640" y="2420640"/>
            <a:ext cx="75596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40600" y="5000760"/>
            <a:ext cx="1103400" cy="185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43080"/>
            <a:ext cx="9144000" cy="651492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983280" y="3546360"/>
            <a:ext cx="2160720" cy="3311640"/>
            <a:chOff x="6983280" y="3546360"/>
            <a:chExt cx="2160720" cy="3311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 flipH="1">
              <a:off x="6983280" y="3546360"/>
              <a:ext cx="2160720" cy="160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6983280" y="4955760"/>
              <a:ext cx="1576440" cy="190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5"/>
          </p:nvPr>
        </p:nvSpPr>
        <p:spPr>
          <a:xfrm>
            <a:off x="2556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8949-FE5B-4625-BAF0-D95B0CCAAC6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2898360"/>
            <a:ext cx="77724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500" spc="-1" strike="noStrike">
                <a:solidFill>
                  <a:srgbClr val="333399"/>
                </a:solidFill>
                <a:latin typeface="Arial"/>
              </a:rPr>
              <a:t>宣傳簡報</a:t>
            </a:r>
            <a:endParaRPr b="0" lang="en-US" sz="85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Arial"/>
              </a:rPr>
              <a:t>明星中學啦啦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Arial"/>
              </a:rPr>
              <a:t>文宣組製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4941720"/>
            <a:ext cx="1807920" cy="152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68360" y="692280"/>
            <a:ext cx="777708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5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華康海報體W9"/>
              </a:rPr>
              <a:t>明星中學啦啦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華康海報體W9"/>
              <a:ea typeface="華康海報體W9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AA77C-B8E4-4FD7-B4B6-CA83ACE3E60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200" spc="-1" strike="noStrike">
                <a:solidFill>
                  <a:srgbClr val="009999"/>
                </a:solidFill>
                <a:latin typeface="Arial"/>
              </a:rPr>
              <a:t>啦啦隊成立宗旨</a:t>
            </a: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75596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培養啦啦隊之技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培養團體默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增進體能、強建體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培養活潑合群之個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展現自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ACC-BCF2-4B31-B1E8-E637AEC9130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200" spc="-1" strike="noStrike">
                <a:solidFill>
                  <a:srgbClr val="009999"/>
                </a:solidFill>
                <a:latin typeface="Arial"/>
              </a:rPr>
              <a:t>啦啦隊經歷</a:t>
            </a: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75596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年成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年加入全國體育協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年舉辦成立十週年歡慶表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年成員超過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7BA8-3558-4A72-967D-FD2874ABFE7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200" spc="-1" strike="noStrike">
                <a:solidFill>
                  <a:srgbClr val="009999"/>
                </a:solidFill>
                <a:latin typeface="Arial"/>
              </a:rPr>
              <a:t>啦啦隊得獎紀錄</a:t>
            </a: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75596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年全國中學啦啦隊錦標賽第二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年全國中學啦啦隊錦標賽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總冠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年全國中學啦啦隊錦標賽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總冠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年全國中學啦啦隊錦標賽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總冠軍</a:t>
            </a:r>
            <a:br>
              <a:rPr sz="3200"/>
            </a:br>
            <a:r>
              <a:rPr b="0" lang="zh-TW" sz="5400" spc="-1" strike="noStrike">
                <a:solidFill>
                  <a:srgbClr val="ff0000"/>
                </a:solidFill>
                <a:latin typeface="Arial"/>
              </a:rPr>
              <a:t>蟬連三連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A293-204C-4F91-964D-FD6FD983E8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200" spc="-1" strike="noStrike">
                <a:solidFill>
                  <a:srgbClr val="009999"/>
                </a:solidFill>
                <a:latin typeface="Arial"/>
              </a:rPr>
              <a:t>活動時間地點</a:t>
            </a: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75596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時間：每週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)7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地點：操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指導老師：楊建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啦啦隊隊長：李蓓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76AF-50F6-4EAC-9715-4F5C477202F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200" spc="-1" strike="noStrike">
                <a:solidFill>
                  <a:srgbClr val="009999"/>
                </a:solidFill>
                <a:latin typeface="Arial"/>
              </a:rPr>
              <a:t>報名方法</a:t>
            </a:r>
            <a:endParaRPr b="0" lang="en-US" sz="6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75596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週一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週五可至社團辦公室報名，或到學務處拿取入社申請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社團辦公室位於：知賢樓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樓 教室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3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B3F-5969-4C65-AC97-6A6EDD0A25EE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02:20:31Z</dcterms:created>
  <dc:creator>SuperXP</dc:creator>
  <dc:description/>
  <dc:language>en-US</dc:language>
  <cp:lastModifiedBy>SuperXP</cp:lastModifiedBy>
  <dcterms:modified xsi:type="dcterms:W3CDTF">2006-09-08T03:43:31Z</dcterms:modified>
  <cp:revision>11</cp:revision>
  <dc:subject/>
  <dc:title>簡介</dc:title>
</cp:coreProperties>
</file>