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520-8238-413B-89CD-F1C2A99F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E8D-B881-488A-BDFD-931444B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3E1-1ABB-4843-86ED-ED6A4ADB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592-2DB6-4111-9184-C9F557CA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42E-75F1-423C-B05D-2D8EA4DC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3137-FC07-4C87-B95C-43CA435E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055E-97D0-415D-B7DF-887D046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6A8-4205-4F55-B1F3-7ACC5708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3CC4-D038-4952-8CC6-C70D5D1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1D1-641C-4591-AD4D-215DDFCF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4E9-172A-4290-BCF4-61FC886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548-2299-4967-B6B1-6A1CC95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B912-B350-4B66-98CA-8D234C37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4397-040F-4F49-9ECD-29BCECE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9E6-D604-4849-AF5F-2FB9D2E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090-17AD-49FF-8EFF-9BCFCF09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00AF-90C1-4E18-89F5-F22FE7B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B1C-62DF-4E03-8184-487B7C2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43E-8CA2-4CA6-B941-21BEFDE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8AC-F450-4F2E-A1EF-E5F4ABC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B1-16AC-40F7-9CA3-1737449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0E9-5A96-4F4C-9925-E0C9A8A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839-AB70-4026-9388-AEFCB90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779-93A2-4F14-9152-37B88AB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AF7B-7255-4855-A319-2F6FDBD10F3A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32F-FA53-46F6-A23A-F3E057BBE2C1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84800" y="2739960"/>
            <a:ext cx="4759200" cy="4118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6666"/>
                </a:solidFill>
                <a:latin typeface="Verdana"/>
                <a:ea typeface="華康海報體W9"/>
              </a:rPr>
              <a:t>登山社年度結算</a:t>
            </a:r>
            <a:endParaRPr b="1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製作人：登山社 總務 王維聲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>
            <a:off x="-360" y="4370400"/>
            <a:ext cx="4932360" cy="2487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25960" y="186120"/>
            <a:ext cx="8077680" cy="11480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33"/>
                </a:solidFill>
                <a:latin typeface="Verdana"/>
                <a:ea typeface="華康魏碑體"/>
              </a:rPr>
              <a:t>本學期活動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9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迎新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陽明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期中社團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社團耶誕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煮湯圓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拉拉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7:00:32Z</dcterms:created>
  <dc:creator>黛琳</dc:creator>
  <dc:description/>
  <dc:language>en-US</dc:language>
  <cp:lastModifiedBy>SuperXP</cp:lastModifiedBy>
  <dcterms:modified xsi:type="dcterms:W3CDTF">2006-09-07T01:59:28Z</dcterms:modified>
  <cp:revision>58</cp:revision>
  <dc:subject/>
  <dc:title>投影片 1</dc:title>
</cp:coreProperties>
</file>