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346-6182-4790-9BBE-3E11DE51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A84-D46D-4184-965C-0BFFED58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3C7-16EB-40FD-8606-0A870127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70B-BFEB-4AF5-ADD8-374F2366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7261-7295-4E4D-BE89-72B04ABD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B194-68D9-484D-A193-89C90923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5BCB-F99F-45E0-8E04-0E4D1FE7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E3C4-A510-4BDB-98DD-8A90CB59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5706-69F4-444B-ACA8-6CF8B07F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92A9-9B7D-47C8-869C-286200F8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8EB8-E728-4252-95CB-926008B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2BD-96D5-42B4-A968-DB3823FD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992C-8708-4935-92AD-74F5D92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A352-C905-472A-BEC0-2D964C74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127F-3A9A-43F9-94F2-C4BB4172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6501-AC49-47B3-81D3-927ACBC0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DF03-5E1E-4008-BB65-65817390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615-D6E7-4B87-B36A-947A6CE7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291-AB91-48E7-96CF-1CF489DD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27F-BAEE-4114-B368-7E347659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B41-096A-4686-B177-648EF801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85C-4571-464D-8C44-8BDCE465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EF8-2D54-440A-860D-BD8488C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892-8E29-4B61-87B0-15CDC9D5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57B-40B2-43C1-9778-3CBB0AA4097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ADA-D276-4B11-A449-CDEC00EFF47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06560" y="1341360"/>
            <a:ext cx="6337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9999"/>
                </a:solidFill>
                <a:latin typeface="Arial"/>
                <a:ea typeface="華康童童體"/>
              </a:rPr>
              <a:t>親愛的老師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9999"/>
                </a:solidFill>
                <a:latin typeface="Arial"/>
                <a:ea typeface="華康童童體"/>
              </a:rPr>
              <a:t>畢業在即，回想這三年來接受老師的教誨，真是依依不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06560" y="134136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9999"/>
                </a:solidFill>
                <a:latin typeface="Arial"/>
                <a:ea typeface="華康童童體"/>
              </a:rPr>
              <a:t>今年我們要發揮所學，用電子卡片祝賀老師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5:14:15Z</dcterms:created>
  <dc:creator>SuperXP</dc:creator>
  <dc:description/>
  <dc:language>en-US</dc:language>
  <cp:lastModifiedBy>SuperXP</cp:lastModifiedBy>
  <dcterms:modified xsi:type="dcterms:W3CDTF">2006-09-04T04:53:54Z</dcterms:modified>
  <cp:revision>8</cp:revision>
  <dc:subject/>
  <dc:title>投影片 1</dc:title>
</cp:coreProperties>
</file>