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21BD-93A5-4DC0-B52C-33EABBBB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00CA-3168-4BC3-8947-DBB91A7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49D9-A61E-413F-BB79-9391EC1F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60A8-14D3-4DAA-9108-02599A8B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088-B081-4DCC-9349-49899274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479-B0A8-4623-AF8E-BCA9C21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EF85-645E-4B0A-8CEE-CE7BEEBB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74E-CD92-4662-A94C-02EEB19A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77F5-C1F1-445A-8A74-28B68A65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4AF3-A20B-42F8-9736-FC84A03E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844A-84CF-40DF-A72F-1E1B744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8FEA-9DB4-4AB5-9F64-C5C2303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63F-4B45-45D5-B324-8688EBC9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F850-E335-4104-9361-75D1EC3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BC15-CCF3-44B9-A35F-74CCD07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120-4228-45F5-99FD-7FE57F6A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C437-B5E4-4BF1-817A-443C18E3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D9CC-5B8B-4C06-993A-340B580C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3194-7FEE-4227-B0F9-B1B4A82E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C486-4B57-46C5-BD18-095F8B2B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0AB2-9192-48D3-9FBB-94C15FF0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BB84-9A07-4921-8A56-FCD8E63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45EA-53DB-4426-850C-EB628335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AEE3-C962-491D-BD09-EDCE194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396-A7BF-4954-A86C-26F549C59BA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3F99-7D5F-4376-99A7-07321920DD1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ffffff"/>
                </a:solidFill>
                <a:latin typeface="Arial"/>
              </a:rPr>
              <a:t>紅基股份有限公司</a:t>
            </a:r>
            <a:br>
              <a:rPr sz="5000"/>
            </a:br>
            <a:r>
              <a:rPr b="0" lang="zh-TW" sz="5000" spc="-1" strike="noStrike">
                <a:solidFill>
                  <a:srgbClr val="ffffff"/>
                </a:solidFill>
                <a:latin typeface="Arial"/>
              </a:rPr>
              <a:t>業務部年終業績發表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紅基股份有限公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主持人：施震隆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先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業務部門架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1640" y="1971720"/>
            <a:ext cx="8208720" cy="3815280"/>
            <a:chOff x="431640" y="1971720"/>
            <a:chExt cx="8208720" cy="3815280"/>
          </a:xfrm>
        </p:grpSpPr>
        <p:cxnSp>
          <p:nvCxnSpPr>
            <p:cNvPr id="110" name="_s86031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761080" y="2282400"/>
              <a:ext cx="741960" cy="3192840"/>
            </a:xfrm>
            <a:prstGeom prst="bentConnector3">
              <a:avLst>
                <a:gd name="adj1" fmla="val 153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" name="_s86029"/>
            <p:cNvCxnSpPr>
              <a:stCxn id="114" idx="0"/>
              <a:endCxn id="112" idx="2"/>
            </p:cNvCxnSpPr>
            <p:nvPr/>
          </p:nvCxnSpPr>
          <p:spPr>
            <a:xfrm flipV="1" rot="16200000">
              <a:off x="4696920" y="3346560"/>
              <a:ext cx="741960" cy="1064520"/>
            </a:xfrm>
            <a:prstGeom prst="bentConnector3">
              <a:avLst>
                <a:gd name="adj1" fmla="val 153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_s86028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634200" y="3347640"/>
              <a:ext cx="741960" cy="1062360"/>
            </a:xfrm>
            <a:prstGeom prst="bentConnector3">
              <a:avLst>
                <a:gd name="adj1" fmla="val 153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_s86027"/>
            <p:cNvCxnSpPr>
              <a:stCxn id="118" idx="0"/>
              <a:endCxn id="112" idx="2"/>
            </p:cNvCxnSpPr>
            <p:nvPr/>
          </p:nvCxnSpPr>
          <p:spPr>
            <a:xfrm flipH="1" flipV="1" rot="5400000">
              <a:off x="2568960" y="2282400"/>
              <a:ext cx="741960" cy="3193200"/>
            </a:xfrm>
            <a:prstGeom prst="bentConnector3">
              <a:avLst>
                <a:gd name="adj1" fmla="val 1533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" name="_s86023"/>
            <p:cNvSpPr/>
            <p:nvPr/>
          </p:nvSpPr>
          <p:spPr>
            <a:xfrm>
              <a:off x="3624120" y="1971720"/>
              <a:ext cx="1824120" cy="1526040"/>
            </a:xfrm>
            <a:prstGeom prst="rect">
              <a:avLst/>
            </a:prstGeom>
            <a:noFill/>
            <a:ln w="190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業務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6024"/>
            <p:cNvSpPr/>
            <p:nvPr/>
          </p:nvSpPr>
          <p:spPr>
            <a:xfrm>
              <a:off x="431640" y="4260960"/>
              <a:ext cx="1824120" cy="1526040"/>
            </a:xfrm>
            <a:prstGeom prst="rect">
              <a:avLst/>
            </a:prstGeom>
            <a:noFill/>
            <a:ln w="1908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業務一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代號：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D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主管：陳曉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86025"/>
            <p:cNvSpPr/>
            <p:nvPr/>
          </p:nvSpPr>
          <p:spPr>
            <a:xfrm>
              <a:off x="2559600" y="4260960"/>
              <a:ext cx="1824120" cy="1526040"/>
            </a:xfrm>
            <a:prstGeom prst="rect">
              <a:avLst/>
            </a:prstGeom>
            <a:noFill/>
            <a:ln w="1908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業務二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代號：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D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主管：陳雅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86026"/>
            <p:cNvSpPr/>
            <p:nvPr/>
          </p:nvSpPr>
          <p:spPr>
            <a:xfrm>
              <a:off x="4687920" y="4260960"/>
              <a:ext cx="1824120" cy="1526040"/>
            </a:xfrm>
            <a:prstGeom prst="rect">
              <a:avLst/>
            </a:prstGeom>
            <a:noFill/>
            <a:ln w="1908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業務三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代號：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D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主管：朱金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6030"/>
            <p:cNvSpPr/>
            <p:nvPr/>
          </p:nvSpPr>
          <p:spPr>
            <a:xfrm>
              <a:off x="6816240" y="4260960"/>
              <a:ext cx="1824120" cy="1526040"/>
            </a:xfrm>
            <a:prstGeom prst="rect">
              <a:avLst/>
            </a:prstGeom>
            <a:noFill/>
            <a:ln w="1908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業務四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代號：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D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主管：林鵬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2:02:03Z</dcterms:created>
  <dc:creator>SuperXP</dc:creator>
  <dc:description/>
  <dc:language>en-US</dc:language>
  <cp:lastModifiedBy>SuperXP</cp:lastModifiedBy>
  <dcterms:modified xsi:type="dcterms:W3CDTF">2006-09-04T04:43:07Z</dcterms:modified>
  <cp:revision>12</cp:revision>
  <dc:subject/>
  <dc:title>紅基股份有限公司 業務績效獎金發表</dc:title>
</cp:coreProperties>
</file>