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5.wmf" ContentType="image/x-wmf"/>
  <Override PartName="/ppt/media/image10.png" ContentType="image/png"/>
  <Override PartName="/ppt/media/image22.jpeg" ContentType="image/jpeg"/>
  <Override PartName="/ppt/media/image4.wmf" ContentType="image/x-wmf"/>
  <Override PartName="/ppt/media/image21.wmf" ContentType="image/x-wmf"/>
  <Override PartName="/ppt/media/image19.wmf" ContentType="image/x-wmf"/>
  <Override PartName="/ppt/media/image1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5.png" ContentType="image/png"/>
  <Override PartName="/ppt/media/image14.jpeg" ContentType="image/jpeg"/>
  <Override PartName="/ppt/media/image16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907588" cy="6858000"/>
  <p:notesSz cx="6858000" cy="9144000"/>
  <p:custShowLst>
    <p:custShow name="員工旅遊行程說明" id="0">
      <p:sldLst>
        <p:sld r:id="rId4"/>
        <p:sld r:id="rId6"/>
        <p:sld r:id="rId7"/>
        <p:sld r:id="rId11"/>
        <p:sld r:id="rId12"/>
        <p:sld r:id="rId8"/>
        <p:sld r:id="rId9"/>
        <p:sld r:id="rId10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6B5D7D-E462-49B0-8107-663EAB278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42680" y="9140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42680" y="2437920"/>
            <a:ext cx="8420040" cy="163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742680" y="4229280"/>
            <a:ext cx="8420040" cy="163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1D0088-F612-4018-84A0-67C01C9DA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42680" y="9140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42680" y="2437920"/>
            <a:ext cx="4108680" cy="163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057280" y="2437920"/>
            <a:ext cx="4108680" cy="163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742680" y="4229280"/>
            <a:ext cx="4108680" cy="163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5057280" y="4229280"/>
            <a:ext cx="4108680" cy="163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F2D7A4-70B0-4758-BE5D-92BB946E9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42680" y="9140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42680" y="2437920"/>
            <a:ext cx="2711160" cy="163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589920" y="2437920"/>
            <a:ext cx="2711160" cy="163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436800" y="2437920"/>
            <a:ext cx="2711160" cy="163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742680" y="4229280"/>
            <a:ext cx="2711160" cy="163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589920" y="4229280"/>
            <a:ext cx="2711160" cy="163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436800" y="4229280"/>
            <a:ext cx="2711160" cy="163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6A42A7-0FE0-4D41-9AE6-EB7357509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555FFC-D1DD-4B72-9773-116EE8BCC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42680" y="9140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742680" y="2437920"/>
            <a:ext cx="8420040" cy="34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1C0EFA-517B-4BA1-A17D-80E24897D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42680" y="9140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42680" y="2437920"/>
            <a:ext cx="8420040" cy="34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94CBB0-A014-499E-9BE8-ED37BD9FB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42680" y="9140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42680" y="2437920"/>
            <a:ext cx="4108680" cy="34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057280" y="2437920"/>
            <a:ext cx="4108680" cy="34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EEB9CA-0B1F-48A2-9DA6-2FB63A501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42680" y="9140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A06234-6523-45B0-B734-2E7EBD64D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742680" y="914040"/>
            <a:ext cx="842004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C48BBC-C67D-4481-A2D5-CB74EB85C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42680" y="9140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42680" y="2437920"/>
            <a:ext cx="4108680" cy="163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057280" y="2437920"/>
            <a:ext cx="4108680" cy="34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742680" y="4229280"/>
            <a:ext cx="4108680" cy="163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B189CD-F6D4-45F8-B8BE-5B48D7CD5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42680" y="9140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742680" y="2437920"/>
            <a:ext cx="8420040" cy="34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6A5BCA-9291-4910-B3D4-3B50E4A20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42680" y="9140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42680" y="2437920"/>
            <a:ext cx="4108680" cy="34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057280" y="2437920"/>
            <a:ext cx="4108680" cy="163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057280" y="4229280"/>
            <a:ext cx="4108680" cy="163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FDE5F7-8FFD-4CFB-99C4-F1FFC2C43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42680" y="9140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42680" y="2437920"/>
            <a:ext cx="4108680" cy="163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057280" y="2437920"/>
            <a:ext cx="4108680" cy="163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742680" y="4229280"/>
            <a:ext cx="8420040" cy="163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4AD2BF-437C-4B89-86CC-469ED1462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42680" y="9140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42680" y="2437920"/>
            <a:ext cx="8420040" cy="163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742680" y="4229280"/>
            <a:ext cx="8420040" cy="163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4B3605-6C8F-40AB-BE67-3E8CE0848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42680" y="9140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42680" y="2437920"/>
            <a:ext cx="4108680" cy="163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057280" y="2437920"/>
            <a:ext cx="4108680" cy="163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742680" y="4229280"/>
            <a:ext cx="4108680" cy="163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5057280" y="4229280"/>
            <a:ext cx="4108680" cy="163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0AAD27-B55E-46BD-87FE-33EB4C2DC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42680" y="9140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42680" y="2437920"/>
            <a:ext cx="2711160" cy="163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589920" y="2437920"/>
            <a:ext cx="2711160" cy="163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436800" y="2437920"/>
            <a:ext cx="2711160" cy="163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742680" y="4229280"/>
            <a:ext cx="2711160" cy="163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589920" y="4229280"/>
            <a:ext cx="2711160" cy="163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436800" y="4229280"/>
            <a:ext cx="2711160" cy="163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686B67-D79A-4473-9791-AA990EFF1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9140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2437920"/>
            <a:ext cx="8420040" cy="34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971E5A-4F17-4032-A2B6-34652B5B1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42680" y="9140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42680" y="2437920"/>
            <a:ext cx="4108680" cy="34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57280" y="2437920"/>
            <a:ext cx="4108680" cy="34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88E488-4201-4CED-8130-0D9D99C90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42680" y="9140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62F431-17F3-437F-A09B-5BBA515DD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742680" y="914040"/>
            <a:ext cx="842004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E6AE63-8E6A-4D4B-8990-62E65C7A1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42680" y="9140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42680" y="2437920"/>
            <a:ext cx="4108680" cy="163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57280" y="2437920"/>
            <a:ext cx="4108680" cy="34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742680" y="4229280"/>
            <a:ext cx="4108680" cy="163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72D5D9-B3DE-45B3-99A5-19AEDA215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42680" y="9140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42680" y="2437920"/>
            <a:ext cx="4108680" cy="34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57280" y="2437920"/>
            <a:ext cx="4108680" cy="163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057280" y="4229280"/>
            <a:ext cx="4108680" cy="163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A1E0FB-8FE6-4579-8850-7CC7C662A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42680" y="9140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742680" y="2437920"/>
            <a:ext cx="4108680" cy="163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057280" y="2437920"/>
            <a:ext cx="4108680" cy="163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742680" y="4229280"/>
            <a:ext cx="8420040" cy="163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1FCCFE-A164-4023-8C0A-886E0AFCC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5797440"/>
            <a:ext cx="9895680" cy="1076400"/>
            <a:chOff x="0" y="5797440"/>
            <a:chExt cx="9895680" cy="1076400"/>
          </a:xfrm>
        </p:grpSpPr>
        <p:sp>
          <p:nvSpPr>
            <p:cNvPr id="1" name=""/>
            <p:cNvSpPr/>
            <p:nvPr/>
          </p:nvSpPr>
          <p:spPr>
            <a:xfrm>
              <a:off x="0" y="5835600"/>
              <a:ext cx="9894600" cy="102096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ffcc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5797440"/>
              <a:ext cx="9895680" cy="1076400"/>
              <a:chOff x="0" y="5797440"/>
              <a:chExt cx="9895680" cy="1076400"/>
            </a:xfrm>
          </p:grpSpPr>
          <p:sp>
            <p:nvSpPr>
              <p:cNvPr id="3" name=""/>
              <p:cNvSpPr/>
              <p:nvPr/>
            </p:nvSpPr>
            <p:spPr>
              <a:xfrm>
                <a:off x="0" y="5797440"/>
                <a:ext cx="992160" cy="1076400"/>
              </a:xfrm>
              <a:custGeom>
                <a:avLst/>
                <a:gdLst/>
                <a:ahLst/>
                <a:rect l="l" t="t" r="r" b="b"/>
                <a:pathLst>
                  <a:path w="577" h="678">
                    <a:moveTo>
                      <a:pt x="0" y="677"/>
                    </a:moveTo>
                    <a:lnTo>
                      <a:pt x="480" y="0"/>
                    </a:lnTo>
                    <a:lnTo>
                      <a:pt x="576" y="0"/>
                    </a:lnTo>
                    <a:lnTo>
                      <a:pt x="96" y="677"/>
                    </a:lnTo>
                    <a:lnTo>
                      <a:pt x="0" y="677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743040" y="5797440"/>
                <a:ext cx="992160" cy="1076400"/>
              </a:xfrm>
              <a:custGeom>
                <a:avLst/>
                <a:gdLst/>
                <a:ahLst/>
                <a:rect l="l" t="t" r="r" b="b"/>
                <a:pathLst>
                  <a:path w="577" h="678">
                    <a:moveTo>
                      <a:pt x="0" y="677"/>
                    </a:moveTo>
                    <a:lnTo>
                      <a:pt x="480" y="0"/>
                    </a:lnTo>
                    <a:lnTo>
                      <a:pt x="576" y="0"/>
                    </a:lnTo>
                    <a:lnTo>
                      <a:pt x="96" y="677"/>
                    </a:lnTo>
                    <a:lnTo>
                      <a:pt x="0" y="677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1506600" y="5797440"/>
                <a:ext cx="992160" cy="1076400"/>
              </a:xfrm>
              <a:custGeom>
                <a:avLst/>
                <a:gdLst/>
                <a:ahLst/>
                <a:rect l="l" t="t" r="r" b="b"/>
                <a:pathLst>
                  <a:path w="577" h="678">
                    <a:moveTo>
                      <a:pt x="0" y="677"/>
                    </a:moveTo>
                    <a:lnTo>
                      <a:pt x="480" y="0"/>
                    </a:lnTo>
                    <a:lnTo>
                      <a:pt x="576" y="0"/>
                    </a:lnTo>
                    <a:lnTo>
                      <a:pt x="96" y="677"/>
                    </a:lnTo>
                    <a:lnTo>
                      <a:pt x="0" y="677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270520" y="5797440"/>
                <a:ext cx="992160" cy="1076400"/>
              </a:xfrm>
              <a:custGeom>
                <a:avLst/>
                <a:gdLst/>
                <a:ahLst/>
                <a:rect l="l" t="t" r="r" b="b"/>
                <a:pathLst>
                  <a:path w="577" h="678">
                    <a:moveTo>
                      <a:pt x="0" y="677"/>
                    </a:moveTo>
                    <a:lnTo>
                      <a:pt x="480" y="0"/>
                    </a:lnTo>
                    <a:lnTo>
                      <a:pt x="576" y="0"/>
                    </a:lnTo>
                    <a:lnTo>
                      <a:pt x="96" y="677"/>
                    </a:lnTo>
                    <a:lnTo>
                      <a:pt x="0" y="677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3034440" y="5797440"/>
                <a:ext cx="992160" cy="1076400"/>
              </a:xfrm>
              <a:custGeom>
                <a:avLst/>
                <a:gdLst/>
                <a:ahLst/>
                <a:rect l="l" t="t" r="r" b="b"/>
                <a:pathLst>
                  <a:path w="577" h="678">
                    <a:moveTo>
                      <a:pt x="0" y="677"/>
                    </a:moveTo>
                    <a:lnTo>
                      <a:pt x="480" y="0"/>
                    </a:lnTo>
                    <a:lnTo>
                      <a:pt x="576" y="0"/>
                    </a:lnTo>
                    <a:lnTo>
                      <a:pt x="96" y="677"/>
                    </a:lnTo>
                    <a:lnTo>
                      <a:pt x="0" y="677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798000" y="5797440"/>
                <a:ext cx="992160" cy="1076400"/>
              </a:xfrm>
              <a:custGeom>
                <a:avLst/>
                <a:gdLst/>
                <a:ahLst/>
                <a:rect l="l" t="t" r="r" b="b"/>
                <a:pathLst>
                  <a:path w="577" h="678">
                    <a:moveTo>
                      <a:pt x="0" y="677"/>
                    </a:moveTo>
                    <a:lnTo>
                      <a:pt x="480" y="0"/>
                    </a:lnTo>
                    <a:lnTo>
                      <a:pt x="576" y="0"/>
                    </a:lnTo>
                    <a:lnTo>
                      <a:pt x="96" y="677"/>
                    </a:lnTo>
                    <a:lnTo>
                      <a:pt x="0" y="677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541040" y="5797440"/>
                <a:ext cx="992160" cy="1076400"/>
              </a:xfrm>
              <a:custGeom>
                <a:avLst/>
                <a:gdLst/>
                <a:ahLst/>
                <a:rect l="l" t="t" r="r" b="b"/>
                <a:pathLst>
                  <a:path w="577" h="678">
                    <a:moveTo>
                      <a:pt x="0" y="677"/>
                    </a:moveTo>
                    <a:lnTo>
                      <a:pt x="480" y="0"/>
                    </a:lnTo>
                    <a:lnTo>
                      <a:pt x="576" y="0"/>
                    </a:lnTo>
                    <a:lnTo>
                      <a:pt x="96" y="677"/>
                    </a:lnTo>
                    <a:lnTo>
                      <a:pt x="0" y="677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304960" y="5797440"/>
                <a:ext cx="992160" cy="1076400"/>
              </a:xfrm>
              <a:custGeom>
                <a:avLst/>
                <a:gdLst/>
                <a:ahLst/>
                <a:rect l="l" t="t" r="r" b="b"/>
                <a:pathLst>
                  <a:path w="577" h="678">
                    <a:moveTo>
                      <a:pt x="0" y="677"/>
                    </a:moveTo>
                    <a:lnTo>
                      <a:pt x="480" y="0"/>
                    </a:lnTo>
                    <a:lnTo>
                      <a:pt x="576" y="0"/>
                    </a:lnTo>
                    <a:lnTo>
                      <a:pt x="96" y="677"/>
                    </a:lnTo>
                    <a:lnTo>
                      <a:pt x="0" y="677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6089040" y="5797440"/>
                <a:ext cx="992520" cy="1076400"/>
              </a:xfrm>
              <a:custGeom>
                <a:avLst/>
                <a:gdLst/>
                <a:ahLst/>
                <a:rect l="l" t="t" r="r" b="b"/>
                <a:pathLst>
                  <a:path w="577" h="678">
                    <a:moveTo>
                      <a:pt x="0" y="677"/>
                    </a:moveTo>
                    <a:lnTo>
                      <a:pt x="480" y="0"/>
                    </a:lnTo>
                    <a:lnTo>
                      <a:pt x="576" y="0"/>
                    </a:lnTo>
                    <a:lnTo>
                      <a:pt x="96" y="677"/>
                    </a:lnTo>
                    <a:lnTo>
                      <a:pt x="0" y="677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6873480" y="5797440"/>
                <a:ext cx="992520" cy="1076400"/>
              </a:xfrm>
              <a:custGeom>
                <a:avLst/>
                <a:gdLst/>
                <a:ahLst/>
                <a:rect l="l" t="t" r="r" b="b"/>
                <a:pathLst>
                  <a:path w="577" h="678">
                    <a:moveTo>
                      <a:pt x="0" y="677"/>
                    </a:moveTo>
                    <a:lnTo>
                      <a:pt x="480" y="0"/>
                    </a:lnTo>
                    <a:lnTo>
                      <a:pt x="576" y="0"/>
                    </a:lnTo>
                    <a:lnTo>
                      <a:pt x="96" y="677"/>
                    </a:lnTo>
                    <a:lnTo>
                      <a:pt x="0" y="677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78440" y="5797440"/>
                <a:ext cx="992160" cy="1076400"/>
              </a:xfrm>
              <a:custGeom>
                <a:avLst/>
                <a:gdLst/>
                <a:ahLst/>
                <a:rect l="l" t="t" r="r" b="b"/>
                <a:pathLst>
                  <a:path w="577" h="678">
                    <a:moveTo>
                      <a:pt x="0" y="677"/>
                    </a:moveTo>
                    <a:lnTo>
                      <a:pt x="480" y="0"/>
                    </a:lnTo>
                    <a:lnTo>
                      <a:pt x="576" y="0"/>
                    </a:lnTo>
                    <a:lnTo>
                      <a:pt x="96" y="677"/>
                    </a:lnTo>
                    <a:lnTo>
                      <a:pt x="0" y="677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8462880" y="5797440"/>
                <a:ext cx="992160" cy="1076400"/>
              </a:xfrm>
              <a:custGeom>
                <a:avLst/>
                <a:gdLst/>
                <a:ahLst/>
                <a:rect l="l" t="t" r="r" b="b"/>
                <a:pathLst>
                  <a:path w="577" h="678">
                    <a:moveTo>
                      <a:pt x="0" y="677"/>
                    </a:moveTo>
                    <a:lnTo>
                      <a:pt x="480" y="0"/>
                    </a:lnTo>
                    <a:lnTo>
                      <a:pt x="576" y="0"/>
                    </a:lnTo>
                    <a:lnTo>
                      <a:pt x="96" y="677"/>
                    </a:lnTo>
                    <a:lnTo>
                      <a:pt x="0" y="677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9274680" y="6072120"/>
                <a:ext cx="621000" cy="801720"/>
              </a:xfrm>
              <a:custGeom>
                <a:avLst/>
                <a:gdLst/>
                <a:ahLst/>
                <a:rect l="l" t="t" r="r" b="b"/>
                <a:pathLst>
                  <a:path w="361" h="505">
                    <a:moveTo>
                      <a:pt x="0" y="504"/>
                    </a:moveTo>
                    <a:lnTo>
                      <a:pt x="360" y="0"/>
                    </a:lnTo>
                    <a:lnTo>
                      <a:pt x="360" y="122"/>
                    </a:lnTo>
                    <a:lnTo>
                      <a:pt x="96" y="504"/>
                    </a:lnTo>
                    <a:lnTo>
                      <a:pt x="0" y="504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42680" y="9140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60066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body"/>
          </p:nvPr>
        </p:nvSpPr>
        <p:spPr>
          <a:xfrm>
            <a:off x="742680" y="2437920"/>
            <a:ext cx="8420040" cy="34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68000"/>
          </a:bodyPr>
          <a:p>
            <a:pPr marL="233280" indent="-233280">
              <a:lnSpc>
                <a:spcPct val="110000"/>
              </a:lnSpc>
              <a:spcBef>
                <a:spcPts val="901"/>
              </a:spcBef>
              <a:buClr>
                <a:srgbClr val="66006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505080" indent="-194040">
              <a:lnSpc>
                <a:spcPct val="11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777240" indent="-155160">
              <a:lnSpc>
                <a:spcPct val="110000"/>
              </a:lnSpc>
              <a:spcBef>
                <a:spcPts val="901"/>
              </a:spcBef>
              <a:buClr>
                <a:srgbClr val="660066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087920" indent="-155160">
              <a:lnSpc>
                <a:spcPct val="110000"/>
              </a:lnSpc>
              <a:spcBef>
                <a:spcPts val="901"/>
              </a:spcBef>
              <a:buClr>
                <a:srgbClr val="66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1398960" indent="-155160">
              <a:lnSpc>
                <a:spcPct val="11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1398960" indent="-155160">
              <a:lnSpc>
                <a:spcPct val="11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1398960" indent="-155160">
              <a:lnSpc>
                <a:spcPct val="11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E6BA7-6118-4B96-8FFF-9DA337043D5B}" type="datetime"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2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459CF-9CBA-430D-90CB-536E6BB8224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ftr" idx="3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" name=""/>
          <p:cNvGrpSpPr/>
          <p:nvPr/>
        </p:nvGrpSpPr>
        <p:grpSpPr>
          <a:xfrm>
            <a:off x="272880" y="0"/>
            <a:ext cx="9685440" cy="865080"/>
            <a:chOff x="272880" y="0"/>
            <a:chExt cx="9685440" cy="865080"/>
          </a:xfrm>
        </p:grpSpPr>
        <p:sp>
          <p:nvSpPr>
            <p:cNvPr id="22" name=""/>
            <p:cNvSpPr/>
            <p:nvPr/>
          </p:nvSpPr>
          <p:spPr>
            <a:xfrm>
              <a:off x="1870200" y="630360"/>
              <a:ext cx="8088120" cy="5400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"/>
            <p:cNvSpPr txBox="1"/>
            <p:nvPr/>
          </p:nvSpPr>
          <p:spPr>
            <a:xfrm>
              <a:off x="272880" y="0"/>
              <a:ext cx="1727280" cy="865080"/>
            </a:xfrm>
            <a:prstGeom prst="rect">
              <a:avLst/>
            </a:prstGeom>
          </p:spPr>
          <p:txBody>
            <a:bodyPr wrap="none" lIns="91800" rIns="91800" anchor="ctr" anchorCtr="1">
              <a:prstTxWarp prst="textTriangle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華康新特圓體"/>
                </a:rPr>
                <a:t>三年二班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華康新特圓體"/>
                <a:ea typeface="華康新特圓體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5797440"/>
            <a:ext cx="9895680" cy="1076400"/>
            <a:chOff x="0" y="5797440"/>
            <a:chExt cx="9895680" cy="1076400"/>
          </a:xfrm>
        </p:grpSpPr>
        <p:sp>
          <p:nvSpPr>
            <p:cNvPr id="61" name=""/>
            <p:cNvSpPr/>
            <p:nvPr/>
          </p:nvSpPr>
          <p:spPr>
            <a:xfrm>
              <a:off x="0" y="5835600"/>
              <a:ext cx="9894600" cy="102096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ffcc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" name=""/>
            <p:cNvGrpSpPr/>
            <p:nvPr/>
          </p:nvGrpSpPr>
          <p:grpSpPr>
            <a:xfrm>
              <a:off x="0" y="5797440"/>
              <a:ext cx="9895680" cy="1076400"/>
              <a:chOff x="0" y="5797440"/>
              <a:chExt cx="9895680" cy="1076400"/>
            </a:xfrm>
          </p:grpSpPr>
          <p:sp>
            <p:nvSpPr>
              <p:cNvPr id="63" name=""/>
              <p:cNvSpPr/>
              <p:nvPr/>
            </p:nvSpPr>
            <p:spPr>
              <a:xfrm>
                <a:off x="0" y="5797440"/>
                <a:ext cx="992160" cy="1076400"/>
              </a:xfrm>
              <a:custGeom>
                <a:avLst/>
                <a:gdLst/>
                <a:ahLst/>
                <a:rect l="l" t="t" r="r" b="b"/>
                <a:pathLst>
                  <a:path w="577" h="678">
                    <a:moveTo>
                      <a:pt x="0" y="677"/>
                    </a:moveTo>
                    <a:lnTo>
                      <a:pt x="480" y="0"/>
                    </a:lnTo>
                    <a:lnTo>
                      <a:pt x="576" y="0"/>
                    </a:lnTo>
                    <a:lnTo>
                      <a:pt x="96" y="677"/>
                    </a:lnTo>
                    <a:lnTo>
                      <a:pt x="0" y="677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43040" y="5797440"/>
                <a:ext cx="992160" cy="1076400"/>
              </a:xfrm>
              <a:custGeom>
                <a:avLst/>
                <a:gdLst/>
                <a:ahLst/>
                <a:rect l="l" t="t" r="r" b="b"/>
                <a:pathLst>
                  <a:path w="577" h="678">
                    <a:moveTo>
                      <a:pt x="0" y="677"/>
                    </a:moveTo>
                    <a:lnTo>
                      <a:pt x="480" y="0"/>
                    </a:lnTo>
                    <a:lnTo>
                      <a:pt x="576" y="0"/>
                    </a:lnTo>
                    <a:lnTo>
                      <a:pt x="96" y="677"/>
                    </a:lnTo>
                    <a:lnTo>
                      <a:pt x="0" y="677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1506600" y="5797440"/>
                <a:ext cx="992160" cy="1076400"/>
              </a:xfrm>
              <a:custGeom>
                <a:avLst/>
                <a:gdLst/>
                <a:ahLst/>
                <a:rect l="l" t="t" r="r" b="b"/>
                <a:pathLst>
                  <a:path w="577" h="678">
                    <a:moveTo>
                      <a:pt x="0" y="677"/>
                    </a:moveTo>
                    <a:lnTo>
                      <a:pt x="480" y="0"/>
                    </a:lnTo>
                    <a:lnTo>
                      <a:pt x="576" y="0"/>
                    </a:lnTo>
                    <a:lnTo>
                      <a:pt x="96" y="677"/>
                    </a:lnTo>
                    <a:lnTo>
                      <a:pt x="0" y="677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2270520" y="5797440"/>
                <a:ext cx="992160" cy="1076400"/>
              </a:xfrm>
              <a:custGeom>
                <a:avLst/>
                <a:gdLst/>
                <a:ahLst/>
                <a:rect l="l" t="t" r="r" b="b"/>
                <a:pathLst>
                  <a:path w="577" h="678">
                    <a:moveTo>
                      <a:pt x="0" y="677"/>
                    </a:moveTo>
                    <a:lnTo>
                      <a:pt x="480" y="0"/>
                    </a:lnTo>
                    <a:lnTo>
                      <a:pt x="576" y="0"/>
                    </a:lnTo>
                    <a:lnTo>
                      <a:pt x="96" y="677"/>
                    </a:lnTo>
                    <a:lnTo>
                      <a:pt x="0" y="677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3034440" y="5797440"/>
                <a:ext cx="992160" cy="1076400"/>
              </a:xfrm>
              <a:custGeom>
                <a:avLst/>
                <a:gdLst/>
                <a:ahLst/>
                <a:rect l="l" t="t" r="r" b="b"/>
                <a:pathLst>
                  <a:path w="577" h="678">
                    <a:moveTo>
                      <a:pt x="0" y="677"/>
                    </a:moveTo>
                    <a:lnTo>
                      <a:pt x="480" y="0"/>
                    </a:lnTo>
                    <a:lnTo>
                      <a:pt x="576" y="0"/>
                    </a:lnTo>
                    <a:lnTo>
                      <a:pt x="96" y="677"/>
                    </a:lnTo>
                    <a:lnTo>
                      <a:pt x="0" y="677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3798000" y="5797440"/>
                <a:ext cx="992160" cy="1076400"/>
              </a:xfrm>
              <a:custGeom>
                <a:avLst/>
                <a:gdLst/>
                <a:ahLst/>
                <a:rect l="l" t="t" r="r" b="b"/>
                <a:pathLst>
                  <a:path w="577" h="678">
                    <a:moveTo>
                      <a:pt x="0" y="677"/>
                    </a:moveTo>
                    <a:lnTo>
                      <a:pt x="480" y="0"/>
                    </a:lnTo>
                    <a:lnTo>
                      <a:pt x="576" y="0"/>
                    </a:lnTo>
                    <a:lnTo>
                      <a:pt x="96" y="677"/>
                    </a:lnTo>
                    <a:lnTo>
                      <a:pt x="0" y="677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541040" y="5797440"/>
                <a:ext cx="992160" cy="1076400"/>
              </a:xfrm>
              <a:custGeom>
                <a:avLst/>
                <a:gdLst/>
                <a:ahLst/>
                <a:rect l="l" t="t" r="r" b="b"/>
                <a:pathLst>
                  <a:path w="577" h="678">
                    <a:moveTo>
                      <a:pt x="0" y="677"/>
                    </a:moveTo>
                    <a:lnTo>
                      <a:pt x="480" y="0"/>
                    </a:lnTo>
                    <a:lnTo>
                      <a:pt x="576" y="0"/>
                    </a:lnTo>
                    <a:lnTo>
                      <a:pt x="96" y="677"/>
                    </a:lnTo>
                    <a:lnTo>
                      <a:pt x="0" y="677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304960" y="5797440"/>
                <a:ext cx="992160" cy="1076400"/>
              </a:xfrm>
              <a:custGeom>
                <a:avLst/>
                <a:gdLst/>
                <a:ahLst/>
                <a:rect l="l" t="t" r="r" b="b"/>
                <a:pathLst>
                  <a:path w="577" h="678">
                    <a:moveTo>
                      <a:pt x="0" y="677"/>
                    </a:moveTo>
                    <a:lnTo>
                      <a:pt x="480" y="0"/>
                    </a:lnTo>
                    <a:lnTo>
                      <a:pt x="576" y="0"/>
                    </a:lnTo>
                    <a:lnTo>
                      <a:pt x="96" y="677"/>
                    </a:lnTo>
                    <a:lnTo>
                      <a:pt x="0" y="677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6089040" y="5797440"/>
                <a:ext cx="992520" cy="1076400"/>
              </a:xfrm>
              <a:custGeom>
                <a:avLst/>
                <a:gdLst/>
                <a:ahLst/>
                <a:rect l="l" t="t" r="r" b="b"/>
                <a:pathLst>
                  <a:path w="577" h="678">
                    <a:moveTo>
                      <a:pt x="0" y="677"/>
                    </a:moveTo>
                    <a:lnTo>
                      <a:pt x="480" y="0"/>
                    </a:lnTo>
                    <a:lnTo>
                      <a:pt x="576" y="0"/>
                    </a:lnTo>
                    <a:lnTo>
                      <a:pt x="96" y="677"/>
                    </a:lnTo>
                    <a:lnTo>
                      <a:pt x="0" y="677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873480" y="5797440"/>
                <a:ext cx="992520" cy="1076400"/>
              </a:xfrm>
              <a:custGeom>
                <a:avLst/>
                <a:gdLst/>
                <a:ahLst/>
                <a:rect l="l" t="t" r="r" b="b"/>
                <a:pathLst>
                  <a:path w="577" h="678">
                    <a:moveTo>
                      <a:pt x="0" y="677"/>
                    </a:moveTo>
                    <a:lnTo>
                      <a:pt x="480" y="0"/>
                    </a:lnTo>
                    <a:lnTo>
                      <a:pt x="576" y="0"/>
                    </a:lnTo>
                    <a:lnTo>
                      <a:pt x="96" y="677"/>
                    </a:lnTo>
                    <a:lnTo>
                      <a:pt x="0" y="677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7678440" y="5797440"/>
                <a:ext cx="992160" cy="1076400"/>
              </a:xfrm>
              <a:custGeom>
                <a:avLst/>
                <a:gdLst/>
                <a:ahLst/>
                <a:rect l="l" t="t" r="r" b="b"/>
                <a:pathLst>
                  <a:path w="577" h="678">
                    <a:moveTo>
                      <a:pt x="0" y="677"/>
                    </a:moveTo>
                    <a:lnTo>
                      <a:pt x="480" y="0"/>
                    </a:lnTo>
                    <a:lnTo>
                      <a:pt x="576" y="0"/>
                    </a:lnTo>
                    <a:lnTo>
                      <a:pt x="96" y="677"/>
                    </a:lnTo>
                    <a:lnTo>
                      <a:pt x="0" y="677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8462880" y="5797440"/>
                <a:ext cx="992160" cy="1076400"/>
              </a:xfrm>
              <a:custGeom>
                <a:avLst/>
                <a:gdLst/>
                <a:ahLst/>
                <a:rect l="l" t="t" r="r" b="b"/>
                <a:pathLst>
                  <a:path w="577" h="678">
                    <a:moveTo>
                      <a:pt x="0" y="677"/>
                    </a:moveTo>
                    <a:lnTo>
                      <a:pt x="480" y="0"/>
                    </a:lnTo>
                    <a:lnTo>
                      <a:pt x="576" y="0"/>
                    </a:lnTo>
                    <a:lnTo>
                      <a:pt x="96" y="677"/>
                    </a:lnTo>
                    <a:lnTo>
                      <a:pt x="0" y="677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9274680" y="6072120"/>
                <a:ext cx="621000" cy="801720"/>
              </a:xfrm>
              <a:custGeom>
                <a:avLst/>
                <a:gdLst/>
                <a:ahLst/>
                <a:rect l="l" t="t" r="r" b="b"/>
                <a:pathLst>
                  <a:path w="361" h="505">
                    <a:moveTo>
                      <a:pt x="0" y="504"/>
                    </a:moveTo>
                    <a:lnTo>
                      <a:pt x="360" y="0"/>
                    </a:lnTo>
                    <a:lnTo>
                      <a:pt x="360" y="122"/>
                    </a:lnTo>
                    <a:lnTo>
                      <a:pt x="96" y="504"/>
                    </a:lnTo>
                    <a:lnTo>
                      <a:pt x="0" y="504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42680" y="22856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60066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dt" idx="4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57433-FC11-4CF1-BF8C-6B73CA63EB2F}" type="datetime"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sldNum" idx="5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FB3D4-D48E-4EC1-9864-D20E6E86528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 type="ftr" idx="6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272880" y="0"/>
            <a:ext cx="9685440" cy="865080"/>
            <a:chOff x="272880" y="0"/>
            <a:chExt cx="9685440" cy="865080"/>
          </a:xfrm>
        </p:grpSpPr>
        <p:sp>
          <p:nvSpPr>
            <p:cNvPr id="81" name=""/>
            <p:cNvSpPr/>
            <p:nvPr/>
          </p:nvSpPr>
          <p:spPr>
            <a:xfrm>
              <a:off x="1870200" y="630360"/>
              <a:ext cx="8088120" cy="5400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 txBox="1"/>
            <p:nvPr/>
          </p:nvSpPr>
          <p:spPr>
            <a:xfrm>
              <a:off x="272880" y="0"/>
              <a:ext cx="1727280" cy="865080"/>
            </a:xfrm>
            <a:prstGeom prst="rect">
              <a:avLst/>
            </a:prstGeom>
          </p:spPr>
          <p:txBody>
            <a:bodyPr wrap="none" lIns="91800" rIns="91800" anchor="ctr" anchorCtr="1">
              <a:prstTxWarp prst="textTriangle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華康新特圓體"/>
                </a:rPr>
                <a:t>三年二班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華康新特圓體"/>
                <a:ea typeface="華康新特圓體"/>
              </a:endParaRPr>
            </a:p>
          </p:txBody>
        </p:sp>
      </p:grp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660066"/>
              </a:buClr>
              <a:buSzPct val="75000"/>
              <a:buFont typeface="Monotype Sort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660066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image" Target="../media/image22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9.wmf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image" Target="../media/image14.jpeg"/><Relationship Id="rId4" Type="http://schemas.openxmlformats.org/officeDocument/2006/relationships/image" Target="../media/image15.png"/><Relationship Id="rId5" Type="http://schemas.openxmlformats.org/officeDocument/2006/relationships/image" Target="../media/image16.wmf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9.wmf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5459400" y="5013000"/>
            <a:ext cx="4116240" cy="138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r"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華康POP1體W7"/>
                <a:ea typeface="華康POP1體W7"/>
              </a:rPr>
              <a:t>康樂股長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華康POP1體W7"/>
                <a:ea typeface="華康POP1體W7"/>
              </a:rPr>
              <a:t>陳美麗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520560" y="2214720"/>
          <a:ext cx="2590920" cy="386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0560" y="2214720"/>
                    <a:ext cx="2590920" cy="386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 txBox="1"/>
          <p:nvPr/>
        </p:nvSpPr>
        <p:spPr>
          <a:xfrm>
            <a:off x="2289240" y="2637000"/>
            <a:ext cx="6624720" cy="35272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7599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339966"/>
                </a:solidFill>
                <a:latin typeface="華康魏碑體(P)"/>
              </a:rPr>
              <a:t>旅遊說明書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solidFill>
                <a:srgbClr val="339966"/>
              </a:solidFill>
              <a:latin typeface="華康魏碑體(P)"/>
              <a:ea typeface="華康魏碑體(P)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339966"/>
                </a:solidFill>
                <a:latin typeface="華康魏碑體(P)"/>
              </a:rPr>
              <a:t>花東之旅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solidFill>
                <a:srgbClr val="339966"/>
              </a:solidFill>
              <a:latin typeface="華康魏碑體(P)"/>
              <a:ea typeface="華康魏碑體(P)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77440" y="1219320"/>
            <a:ext cx="842004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cc99"/>
                </a:solidFill>
                <a:latin typeface="Times New Roman"/>
              </a:rPr>
              <a:t>預</a:t>
            </a:r>
            <a:r>
              <a:rPr b="0" lang="en-US" sz="5400" spc="-1" strike="noStrike">
                <a:solidFill>
                  <a:srgbClr val="99ccff"/>
                </a:solidFill>
                <a:latin typeface="Times New Roman"/>
              </a:rPr>
              <a:t>祝</a:t>
            </a:r>
            <a:r>
              <a:rPr b="0" lang="en-US" sz="5400" spc="-1" strike="noStrike">
                <a:solidFill>
                  <a:srgbClr val="ccccff"/>
                </a:solidFill>
                <a:latin typeface="Times New Roman"/>
              </a:rPr>
              <a:t>各</a:t>
            </a:r>
            <a:r>
              <a:rPr b="0" lang="en-US" sz="5400" spc="-1" strike="noStrike">
                <a:solidFill>
                  <a:srgbClr val="ffcccc"/>
                </a:solidFill>
                <a:latin typeface="Times New Roman"/>
              </a:rPr>
              <a:t>位</a:t>
            </a:r>
            <a:r>
              <a:rPr b="0" lang="en-US" sz="5400" spc="-1" strike="noStrike">
                <a:solidFill>
                  <a:srgbClr val="660066"/>
                </a:solidFill>
                <a:latin typeface="Times New Roman"/>
              </a:rPr>
              <a:t>：</a:t>
            </a:r>
            <a:endParaRPr b="0" lang="en-US" sz="5400" spc="-1" strike="noStrike">
              <a:solidFill>
                <a:srgbClr val="660066"/>
              </a:solidFill>
              <a:latin typeface="Times New Roman"/>
            </a:endParaRPr>
          </a:p>
        </p:txBody>
      </p:sp>
      <p:graphicFrame>
        <p:nvGraphicFramePr>
          <p:cNvPr id="259" name=""/>
          <p:cNvGraphicFramePr/>
          <p:nvPr/>
        </p:nvGraphicFramePr>
        <p:xfrm>
          <a:off x="6118200" y="4973760"/>
          <a:ext cx="3630600" cy="188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8200" y="4973760"/>
                    <a:ext cx="3630600" cy="188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1" name=""/>
          <p:cNvSpPr txBox="1"/>
          <p:nvPr/>
        </p:nvSpPr>
        <p:spPr>
          <a:xfrm>
            <a:off x="1136520" y="2852640"/>
            <a:ext cx="6891480" cy="1722600"/>
          </a:xfrm>
          <a:prstGeom prst="rect">
            <a:avLst/>
          </a:prstGeom>
        </p:spPr>
        <p:txBody>
          <a:bodyPr wrap="none" lIns="91800" rIns="91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標楷體"/>
              </a:rPr>
              <a:t>旅途愉快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標楷體"/>
              <a:ea typeface="標楷體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42680" y="9140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60066"/>
                </a:solidFill>
                <a:latin typeface="Times New Roman"/>
              </a:rPr>
              <a:t>投影片摘要</a:t>
            </a:r>
            <a:endParaRPr b="0" lang="en-US" sz="5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42680" y="2437920"/>
            <a:ext cx="4133880" cy="34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66006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華康POP1體W7"/>
              </a:rPr>
              <a:t>舉辦事由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66006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華康POP1體W7"/>
              </a:rPr>
              <a:t>行程安排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66006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華康POP1體W7"/>
              </a:rPr>
              <a:t>初鹿牧場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66006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華康POP1體W7"/>
              </a:rPr>
              <a:t>知本溫泉浴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66006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華康POP1體W7"/>
              </a:rPr>
              <a:t>秀姑巒溪泛舟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028840" y="2437920"/>
            <a:ext cx="4133880" cy="34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66006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華康POP1體W7"/>
              </a:rPr>
              <a:t>攜帶物品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66006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華康POP1體W7"/>
              </a:rPr>
              <a:t>須知事項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42680" y="9140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60066"/>
                </a:solidFill>
                <a:latin typeface="Times New Roman"/>
              </a:rPr>
              <a:t>舉辦事由</a:t>
            </a:r>
            <a:endParaRPr b="0" lang="en-US" sz="5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742680" y="2437920"/>
            <a:ext cx="8420040" cy="34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66006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聯絡同學間的情感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66006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留下美好的回憶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66006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提倡正當的休閒娛樂活動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6622920" y="4005360"/>
          <a:ext cx="3191040" cy="2817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22920" y="4005360"/>
                    <a:ext cx="3191040" cy="281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42680" y="9140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60066"/>
                </a:solidFill>
                <a:latin typeface="Times New Roman"/>
              </a:rPr>
              <a:t>行程安排</a:t>
            </a:r>
            <a:endParaRPr b="0" lang="en-US" sz="5400" spc="-1" strike="noStrike">
              <a:solidFill>
                <a:srgbClr val="660066"/>
              </a:solidFill>
              <a:latin typeface="Times New Roman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0" y="1255680"/>
            <a:ext cx="4375080" cy="5014800"/>
            <a:chOff x="0" y="1255680"/>
            <a:chExt cx="4375080" cy="5014800"/>
          </a:xfrm>
        </p:grpSpPr>
        <p:graphicFrame>
          <p:nvGraphicFramePr>
            <p:cNvPr id="133" name=""/>
            <p:cNvGraphicFramePr/>
            <p:nvPr/>
          </p:nvGraphicFramePr>
          <p:xfrm>
            <a:off x="0" y="1255680"/>
            <a:ext cx="4375080" cy="50148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1255680"/>
                      <a:ext cx="4375080" cy="5014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35" name=""/>
            <p:cNvGrpSpPr/>
            <p:nvPr/>
          </p:nvGrpSpPr>
          <p:grpSpPr>
            <a:xfrm>
              <a:off x="2813040" y="1765440"/>
              <a:ext cx="996480" cy="397440"/>
              <a:chOff x="2813040" y="1765440"/>
              <a:chExt cx="996480" cy="397440"/>
            </a:xfrm>
          </p:grpSpPr>
          <p:sp>
            <p:nvSpPr>
              <p:cNvPr id="136" name=""/>
              <p:cNvSpPr/>
              <p:nvPr/>
            </p:nvSpPr>
            <p:spPr>
              <a:xfrm>
                <a:off x="2813040" y="1835280"/>
                <a:ext cx="234360" cy="215640"/>
              </a:xfrm>
              <a:prstGeom prst="ellipse">
                <a:avLst/>
              </a:prstGeom>
              <a:solidFill>
                <a:srgbClr val="ffcc99"/>
              </a:solidFill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319560" y="1765440"/>
                <a:ext cx="48996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 u="sng">
                    <a:solidFill>
                      <a:srgbClr val="ffcc99"/>
                    </a:solidFill>
                    <a:uFillTx/>
                    <a:latin typeface="Times New Roman"/>
                    <a:ea typeface="新細明體"/>
                  </a:rPr>
                  <a:t>台北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8" name=""/>
            <p:cNvGrpSpPr/>
            <p:nvPr/>
          </p:nvGrpSpPr>
          <p:grpSpPr>
            <a:xfrm>
              <a:off x="2770200" y="3090960"/>
              <a:ext cx="723600" cy="397440"/>
              <a:chOff x="2770200" y="3090960"/>
              <a:chExt cx="723600" cy="397440"/>
            </a:xfrm>
          </p:grpSpPr>
          <p:sp>
            <p:nvSpPr>
              <p:cNvPr id="139" name=""/>
              <p:cNvSpPr/>
              <p:nvPr/>
            </p:nvSpPr>
            <p:spPr>
              <a:xfrm>
                <a:off x="3260160" y="3179880"/>
                <a:ext cx="233640" cy="215640"/>
              </a:xfrm>
              <a:prstGeom prst="ellipse">
                <a:avLst/>
              </a:prstGeom>
              <a:solidFill>
                <a:srgbClr val="ffcc99"/>
              </a:solidFill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2770200" y="3090960"/>
                <a:ext cx="48996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 u="sng">
                    <a:solidFill>
                      <a:srgbClr val="ffcc99"/>
                    </a:solidFill>
                    <a:uFillTx/>
                    <a:latin typeface="Times New Roman"/>
                    <a:ea typeface="新細明體"/>
                  </a:rPr>
                  <a:t>花蓮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1" name=""/>
            <p:cNvGrpSpPr/>
            <p:nvPr/>
          </p:nvGrpSpPr>
          <p:grpSpPr>
            <a:xfrm>
              <a:off x="2352600" y="4381560"/>
              <a:ext cx="728640" cy="397440"/>
              <a:chOff x="2352600" y="4381560"/>
              <a:chExt cx="728640" cy="397440"/>
            </a:xfrm>
          </p:grpSpPr>
          <p:sp>
            <p:nvSpPr>
              <p:cNvPr id="142" name=""/>
              <p:cNvSpPr/>
              <p:nvPr/>
            </p:nvSpPr>
            <p:spPr>
              <a:xfrm>
                <a:off x="2847960" y="4475160"/>
                <a:ext cx="233280" cy="216000"/>
              </a:xfrm>
              <a:prstGeom prst="ellipse">
                <a:avLst/>
              </a:prstGeom>
              <a:solidFill>
                <a:srgbClr val="ffcc99"/>
              </a:solidFill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2352600" y="4381560"/>
                <a:ext cx="48996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 u="sng">
                    <a:solidFill>
                      <a:srgbClr val="ffcc99"/>
                    </a:solidFill>
                    <a:uFillTx/>
                    <a:latin typeface="Times New Roman"/>
                    <a:ea typeface="新細明體"/>
                  </a:rPr>
                  <a:t>台東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144" name=""/>
          <p:cNvGraphicFramePr/>
          <p:nvPr/>
        </p:nvGraphicFramePr>
        <p:xfrm>
          <a:off x="3962520" y="5637240"/>
          <a:ext cx="5941800" cy="1219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62520" y="5637240"/>
                    <a:ext cx="5941800" cy="12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200560" y="1989000"/>
            <a:ext cx="4127760" cy="381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vert="eaVer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66006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台北│天祥│太魯閣│花蓮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66006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八仙洞、石雨傘、三仙台│初鹿牧場│台東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66006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台東│台北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7" name=""/>
          <p:cNvGraphicFramePr/>
          <p:nvPr/>
        </p:nvGraphicFramePr>
        <p:xfrm>
          <a:off x="344520" y="1052640"/>
          <a:ext cx="3627360" cy="1917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4520" y="1052640"/>
                    <a:ext cx="3627360" cy="191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42680" y="9140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60066"/>
                </a:solidFill>
                <a:latin typeface="Times New Roman"/>
              </a:rPr>
              <a:t>初鹿牧場</a:t>
            </a:r>
            <a:endParaRPr b="0" lang="en-US" sz="5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35320" y="2277720"/>
            <a:ext cx="4454280" cy="331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66006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體驗牧童的生活方式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66006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寬廣的綠野，享受大自然的樂趣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66006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飲用新鮮的牛乳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98280" y="2865600"/>
          <a:ext cx="4348440" cy="3732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8280" y="2865600"/>
                    <a:ext cx="4348440" cy="373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3" name=""/>
          <p:cNvGraphicFramePr/>
          <p:nvPr/>
        </p:nvGraphicFramePr>
        <p:xfrm>
          <a:off x="7759800" y="4664160"/>
          <a:ext cx="2144520" cy="2192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759800" y="4664160"/>
                    <a:ext cx="2144520" cy="219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5" name=""/>
          <p:cNvGraphicFramePr/>
          <p:nvPr/>
        </p:nvGraphicFramePr>
        <p:xfrm>
          <a:off x="3336840" y="4470480"/>
          <a:ext cx="2787840" cy="2386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336840" y="4470480"/>
                    <a:ext cx="2787840" cy="238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"/>
          <p:cNvGrpSpPr/>
          <p:nvPr/>
        </p:nvGrpSpPr>
        <p:grpSpPr>
          <a:xfrm>
            <a:off x="-1440" y="3581280"/>
            <a:ext cx="5625720" cy="3276720"/>
            <a:chOff x="-1440" y="3581280"/>
            <a:chExt cx="5625720" cy="3276720"/>
          </a:xfrm>
        </p:grpSpPr>
        <p:sp>
          <p:nvSpPr>
            <p:cNvPr id="158" name=""/>
            <p:cNvSpPr/>
            <p:nvPr/>
          </p:nvSpPr>
          <p:spPr>
            <a:xfrm>
              <a:off x="529560" y="3618000"/>
              <a:ext cx="5094720" cy="3211560"/>
            </a:xfrm>
            <a:custGeom>
              <a:avLst/>
              <a:gdLst/>
              <a:ahLst/>
              <a:rect l="l" t="t" r="r" b="b"/>
              <a:pathLst>
                <a:path w="2963" h="2023">
                  <a:moveTo>
                    <a:pt x="0" y="755"/>
                  </a:moveTo>
                  <a:lnTo>
                    <a:pt x="443" y="459"/>
                  </a:lnTo>
                  <a:lnTo>
                    <a:pt x="589" y="392"/>
                  </a:lnTo>
                  <a:lnTo>
                    <a:pt x="715" y="344"/>
                  </a:lnTo>
                  <a:lnTo>
                    <a:pt x="982" y="239"/>
                  </a:lnTo>
                  <a:lnTo>
                    <a:pt x="1040" y="220"/>
                  </a:lnTo>
                  <a:lnTo>
                    <a:pt x="1134" y="209"/>
                  </a:lnTo>
                  <a:lnTo>
                    <a:pt x="1155" y="209"/>
                  </a:lnTo>
                  <a:lnTo>
                    <a:pt x="1187" y="220"/>
                  </a:lnTo>
                  <a:lnTo>
                    <a:pt x="1197" y="228"/>
                  </a:lnTo>
                  <a:lnTo>
                    <a:pt x="1224" y="306"/>
                  </a:lnTo>
                  <a:lnTo>
                    <a:pt x="1260" y="381"/>
                  </a:lnTo>
                  <a:lnTo>
                    <a:pt x="1275" y="392"/>
                  </a:lnTo>
                  <a:lnTo>
                    <a:pt x="1286" y="401"/>
                  </a:lnTo>
                  <a:lnTo>
                    <a:pt x="1302" y="401"/>
                  </a:lnTo>
                  <a:lnTo>
                    <a:pt x="1323" y="401"/>
                  </a:lnTo>
                  <a:lnTo>
                    <a:pt x="1506" y="373"/>
                  </a:lnTo>
                  <a:lnTo>
                    <a:pt x="1595" y="325"/>
                  </a:lnTo>
                  <a:lnTo>
                    <a:pt x="1689" y="277"/>
                  </a:lnTo>
                  <a:lnTo>
                    <a:pt x="1831" y="162"/>
                  </a:lnTo>
                  <a:lnTo>
                    <a:pt x="1883" y="133"/>
                  </a:lnTo>
                  <a:lnTo>
                    <a:pt x="2108" y="8"/>
                  </a:lnTo>
                  <a:lnTo>
                    <a:pt x="2181" y="0"/>
                  </a:lnTo>
                  <a:lnTo>
                    <a:pt x="2266" y="8"/>
                  </a:lnTo>
                  <a:lnTo>
                    <a:pt x="2307" y="37"/>
                  </a:lnTo>
                  <a:lnTo>
                    <a:pt x="2323" y="48"/>
                  </a:lnTo>
                  <a:lnTo>
                    <a:pt x="2334" y="48"/>
                  </a:lnTo>
                  <a:lnTo>
                    <a:pt x="2349" y="66"/>
                  </a:lnTo>
                  <a:lnTo>
                    <a:pt x="2370" y="85"/>
                  </a:lnTo>
                  <a:lnTo>
                    <a:pt x="2386" y="133"/>
                  </a:lnTo>
                  <a:lnTo>
                    <a:pt x="2386" y="306"/>
                  </a:lnTo>
                  <a:lnTo>
                    <a:pt x="2386" y="334"/>
                  </a:lnTo>
                  <a:lnTo>
                    <a:pt x="2423" y="412"/>
                  </a:lnTo>
                  <a:lnTo>
                    <a:pt x="2517" y="412"/>
                  </a:lnTo>
                  <a:lnTo>
                    <a:pt x="2611" y="392"/>
                  </a:lnTo>
                  <a:lnTo>
                    <a:pt x="2690" y="362"/>
                  </a:lnTo>
                  <a:lnTo>
                    <a:pt x="2763" y="362"/>
                  </a:lnTo>
                  <a:lnTo>
                    <a:pt x="2848" y="401"/>
                  </a:lnTo>
                  <a:lnTo>
                    <a:pt x="2921" y="516"/>
                  </a:lnTo>
                  <a:lnTo>
                    <a:pt x="2931" y="651"/>
                  </a:lnTo>
                  <a:lnTo>
                    <a:pt x="2910" y="745"/>
                  </a:lnTo>
                  <a:lnTo>
                    <a:pt x="2848" y="833"/>
                  </a:lnTo>
                  <a:lnTo>
                    <a:pt x="2763" y="872"/>
                  </a:lnTo>
                  <a:lnTo>
                    <a:pt x="2685" y="939"/>
                  </a:lnTo>
                  <a:lnTo>
                    <a:pt x="2679" y="1014"/>
                  </a:lnTo>
                  <a:lnTo>
                    <a:pt x="2706" y="1101"/>
                  </a:lnTo>
                  <a:lnTo>
                    <a:pt x="2831" y="1160"/>
                  </a:lnTo>
                  <a:lnTo>
                    <a:pt x="2888" y="1197"/>
                  </a:lnTo>
                  <a:lnTo>
                    <a:pt x="2915" y="1226"/>
                  </a:lnTo>
                  <a:lnTo>
                    <a:pt x="2936" y="1265"/>
                  </a:lnTo>
                  <a:lnTo>
                    <a:pt x="2957" y="1341"/>
                  </a:lnTo>
                  <a:lnTo>
                    <a:pt x="2962" y="1370"/>
                  </a:lnTo>
                  <a:lnTo>
                    <a:pt x="2962" y="1427"/>
                  </a:lnTo>
                  <a:lnTo>
                    <a:pt x="2936" y="1476"/>
                  </a:lnTo>
                  <a:lnTo>
                    <a:pt x="2884" y="1543"/>
                  </a:lnTo>
                  <a:lnTo>
                    <a:pt x="2721" y="1629"/>
                  </a:lnTo>
                  <a:lnTo>
                    <a:pt x="2103" y="1906"/>
                  </a:lnTo>
                  <a:lnTo>
                    <a:pt x="1899" y="1973"/>
                  </a:lnTo>
                  <a:lnTo>
                    <a:pt x="1809" y="1984"/>
                  </a:lnTo>
                  <a:lnTo>
                    <a:pt x="1794" y="1993"/>
                  </a:lnTo>
                  <a:lnTo>
                    <a:pt x="1779" y="1993"/>
                  </a:lnTo>
                  <a:lnTo>
                    <a:pt x="1768" y="1993"/>
                  </a:lnTo>
                  <a:lnTo>
                    <a:pt x="1762" y="2022"/>
                  </a:lnTo>
                  <a:lnTo>
                    <a:pt x="1689" y="1993"/>
                  </a:lnTo>
                  <a:lnTo>
                    <a:pt x="1679" y="1993"/>
                  </a:lnTo>
                  <a:lnTo>
                    <a:pt x="1669" y="1993"/>
                  </a:lnTo>
                  <a:lnTo>
                    <a:pt x="1658" y="1993"/>
                  </a:lnTo>
                  <a:lnTo>
                    <a:pt x="0" y="755"/>
                  </a:lnTo>
                </a:path>
              </a:pathLst>
            </a:custGeom>
            <a:solidFill>
              <a:srgbClr val="618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9" name=""/>
            <p:cNvGrpSpPr/>
            <p:nvPr/>
          </p:nvGrpSpPr>
          <p:grpSpPr>
            <a:xfrm>
              <a:off x="3583440" y="5249880"/>
              <a:ext cx="477360" cy="281880"/>
              <a:chOff x="3583440" y="5249880"/>
              <a:chExt cx="477360" cy="281880"/>
            </a:xfrm>
          </p:grpSpPr>
          <p:sp>
            <p:nvSpPr>
              <p:cNvPr id="160" name=""/>
              <p:cNvSpPr/>
              <p:nvPr/>
            </p:nvSpPr>
            <p:spPr>
              <a:xfrm>
                <a:off x="3583440" y="5249880"/>
                <a:ext cx="477360" cy="281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403" y="5477"/>
                    </a:moveTo>
                    <a:arcTo wR="10800" hR="10800" stAng="-9028228" swAng="898938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403" y="5477"/>
                    </a:moveTo>
                    <a:arcTo wR="10800" hR="10800" stAng="-9028228" swAng="8989384"/>
                  </a:path>
                </a:pathLst>
              </a:custGeom>
              <a:noFill/>
              <a:ln cap="rnd" w="12600">
                <a:solidFill>
                  <a:srgbClr val="c0c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3628440" y="5284800"/>
                <a:ext cx="361800" cy="218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213" y="5827"/>
                    </a:moveTo>
                    <a:arcTo wR="10800" hR="10800" stAng="-9154821" swAng="910439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213" y="5827"/>
                    </a:moveTo>
                    <a:arcTo wR="10800" hR="10800" stAng="-9154821" swAng="9104399"/>
                  </a:path>
                </a:pathLst>
              </a:custGeom>
              <a:noFill/>
              <a:ln cap="rnd" w="12600">
                <a:solidFill>
                  <a:srgbClr val="c0c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2" name=""/>
            <p:cNvGrpSpPr/>
            <p:nvPr/>
          </p:nvGrpSpPr>
          <p:grpSpPr>
            <a:xfrm>
              <a:off x="3511440" y="5238720"/>
              <a:ext cx="534240" cy="282240"/>
              <a:chOff x="3511440" y="5238720"/>
              <a:chExt cx="534240" cy="282240"/>
            </a:xfrm>
          </p:grpSpPr>
          <p:sp>
            <p:nvSpPr>
              <p:cNvPr id="163" name=""/>
              <p:cNvSpPr/>
              <p:nvPr/>
            </p:nvSpPr>
            <p:spPr>
              <a:xfrm>
                <a:off x="3511440" y="5238720"/>
                <a:ext cx="534240" cy="2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181" y="16152"/>
                    </a:moveTo>
                    <a:arcTo wR="10800" hR="10800" stAng="1782284" swAng="905600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181" y="16152"/>
                    </a:moveTo>
                    <a:arcTo wR="10800" hR="10800" stAng="1782284" swAng="9056002"/>
                  </a:path>
                </a:pathLst>
              </a:custGeom>
              <a:noFill/>
              <a:ln cap="rnd" w="12600">
                <a:solidFill>
                  <a:srgbClr val="c0c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3588480" y="5266080"/>
                <a:ext cx="406080" cy="218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7" y="16017"/>
                    </a:moveTo>
                    <a:arcTo wR="10800" hR="10800" stAng="1732945" swAng="91655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7" y="16017"/>
                    </a:moveTo>
                    <a:arcTo wR="10800" hR="10800" stAng="1732945" swAng="9165540"/>
                  </a:path>
                </a:pathLst>
              </a:custGeom>
              <a:noFill/>
              <a:ln cap="rnd" w="12600">
                <a:solidFill>
                  <a:srgbClr val="c0c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5" name=""/>
            <p:cNvGrpSpPr/>
            <p:nvPr/>
          </p:nvGrpSpPr>
          <p:grpSpPr>
            <a:xfrm>
              <a:off x="2574000" y="5473800"/>
              <a:ext cx="470520" cy="279000"/>
              <a:chOff x="2574000" y="5473800"/>
              <a:chExt cx="470520" cy="279000"/>
            </a:xfrm>
          </p:grpSpPr>
          <p:sp>
            <p:nvSpPr>
              <p:cNvPr id="166" name=""/>
              <p:cNvSpPr/>
              <p:nvPr/>
            </p:nvSpPr>
            <p:spPr>
              <a:xfrm>
                <a:off x="2574000" y="5473800"/>
                <a:ext cx="470520" cy="279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507" y="5298"/>
                    </a:moveTo>
                    <a:arcTo wR="10800" hR="10800" stAng="-8962272" swAng="8922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507" y="5298"/>
                    </a:moveTo>
                    <a:arcTo wR="10800" hR="10800" stAng="-8962272" swAng="8922985"/>
                  </a:path>
                </a:pathLst>
              </a:custGeom>
              <a:noFill/>
              <a:ln cap="rnd" w="12600">
                <a:solidFill>
                  <a:srgbClr val="c0c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2619720" y="5508720"/>
                <a:ext cx="357840" cy="212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979" y="6307"/>
                    </a:moveTo>
                    <a:arcTo wR="10800" hR="10800" stAng="-9324949" swAng="937675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979" y="6307"/>
                    </a:moveTo>
                    <a:arcTo wR="10800" hR="10800" stAng="-9324949" swAng="9376753"/>
                  </a:path>
                </a:pathLst>
              </a:custGeom>
              <a:noFill/>
              <a:ln cap="rnd" w="12600">
                <a:solidFill>
                  <a:srgbClr val="c0c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2488320" y="5488200"/>
              <a:ext cx="523800" cy="281880"/>
              <a:chOff x="2488320" y="5488200"/>
              <a:chExt cx="523800" cy="281880"/>
            </a:xfrm>
          </p:grpSpPr>
          <p:sp>
            <p:nvSpPr>
              <p:cNvPr id="169" name=""/>
              <p:cNvSpPr/>
              <p:nvPr/>
            </p:nvSpPr>
            <p:spPr>
              <a:xfrm>
                <a:off x="2488320" y="5488200"/>
                <a:ext cx="523800" cy="281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23" y="16077"/>
                    </a:moveTo>
                    <a:arcTo wR="10800" hR="10800" stAng="1754956" swAng="904504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23" y="16077"/>
                    </a:moveTo>
                    <a:arcTo wR="10800" hR="10800" stAng="1754956" swAng="9045044"/>
                  </a:path>
                </a:pathLst>
              </a:custGeom>
              <a:noFill/>
              <a:ln cap="rnd" w="12600">
                <a:solidFill>
                  <a:srgbClr val="c0c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2561760" y="5523120"/>
                <a:ext cx="399600" cy="212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500" y="15549"/>
                    </a:moveTo>
                    <a:arcTo wR="10800" hR="10800" stAng="1565090" swAng="933706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500" y="15549"/>
                    </a:moveTo>
                    <a:arcTo wR="10800" hR="10800" stAng="1565090" swAng="9337061"/>
                  </a:path>
                </a:pathLst>
              </a:custGeom>
              <a:noFill/>
              <a:ln cap="rnd" w="12600">
                <a:solidFill>
                  <a:srgbClr val="c0c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1" name=""/>
            <p:cNvGrpSpPr/>
            <p:nvPr/>
          </p:nvGrpSpPr>
          <p:grpSpPr>
            <a:xfrm>
              <a:off x="1394280" y="4338720"/>
              <a:ext cx="3166920" cy="1212840"/>
              <a:chOff x="1394280" y="4338720"/>
              <a:chExt cx="3166920" cy="1212840"/>
            </a:xfrm>
          </p:grpSpPr>
          <p:sp>
            <p:nvSpPr>
              <p:cNvPr id="172" name=""/>
              <p:cNvSpPr/>
              <p:nvPr/>
            </p:nvSpPr>
            <p:spPr>
              <a:xfrm>
                <a:off x="1968480" y="4702320"/>
                <a:ext cx="2592720" cy="849240"/>
              </a:xfrm>
              <a:custGeom>
                <a:avLst/>
                <a:gdLst/>
                <a:ahLst/>
                <a:rect l="l" t="t" r="r" b="b"/>
                <a:pathLst>
                  <a:path w="1508" h="535">
                    <a:moveTo>
                      <a:pt x="1507" y="0"/>
                    </a:moveTo>
                    <a:lnTo>
                      <a:pt x="1507" y="39"/>
                    </a:lnTo>
                    <a:lnTo>
                      <a:pt x="1" y="534"/>
                    </a:lnTo>
                    <a:lnTo>
                      <a:pt x="0" y="497"/>
                    </a:lnTo>
                    <a:lnTo>
                      <a:pt x="1507" y="0"/>
                    </a:lnTo>
                  </a:path>
                </a:pathLst>
              </a:custGeom>
              <a:solidFill>
                <a:srgbClr val="60606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3" name=""/>
              <p:cNvGrpSpPr/>
              <p:nvPr/>
            </p:nvGrpSpPr>
            <p:grpSpPr>
              <a:xfrm>
                <a:off x="1394280" y="4338720"/>
                <a:ext cx="3156480" cy="1155600"/>
                <a:chOff x="1394280" y="4338720"/>
                <a:chExt cx="3156480" cy="1155600"/>
              </a:xfrm>
            </p:grpSpPr>
            <p:sp>
              <p:nvSpPr>
                <p:cNvPr id="174" name=""/>
                <p:cNvSpPr/>
                <p:nvPr/>
              </p:nvSpPr>
              <p:spPr>
                <a:xfrm>
                  <a:off x="1394280" y="4338720"/>
                  <a:ext cx="3156480" cy="1155600"/>
                </a:xfrm>
                <a:custGeom>
                  <a:avLst/>
                  <a:gdLst/>
                  <a:ahLst/>
                  <a:rect l="l" t="t" r="r" b="b"/>
                  <a:pathLst>
                    <a:path w="1836" h="728">
                      <a:moveTo>
                        <a:pt x="1385" y="0"/>
                      </a:moveTo>
                      <a:lnTo>
                        <a:pt x="1835" y="229"/>
                      </a:lnTo>
                      <a:lnTo>
                        <a:pt x="339" y="727"/>
                      </a:lnTo>
                      <a:lnTo>
                        <a:pt x="0" y="450"/>
                      </a:lnTo>
                      <a:lnTo>
                        <a:pt x="1385" y="0"/>
                      </a:lnTo>
                    </a:path>
                  </a:pathLst>
                </a:custGeom>
                <a:solidFill>
                  <a:srgbClr val="a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3636360" y="4383000"/>
                  <a:ext cx="792000" cy="3668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 flipV="1">
                  <a:off x="4421880" y="4755960"/>
                  <a:ext cx="0" cy="759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485160" y="4417920"/>
                  <a:ext cx="790560" cy="3668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 flipV="1">
                  <a:off x="4270680" y="4790880"/>
                  <a:ext cx="0" cy="759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3345480" y="4475160"/>
                  <a:ext cx="792360" cy="368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 flipV="1">
                  <a:off x="4131360" y="4843080"/>
                  <a:ext cx="0" cy="82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3185640" y="4522680"/>
                  <a:ext cx="788760" cy="363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flipV="1">
                  <a:off x="3971160" y="4890600"/>
                  <a:ext cx="0" cy="79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3032640" y="4559400"/>
                  <a:ext cx="790560" cy="368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V="1">
                  <a:off x="3819960" y="4927320"/>
                  <a:ext cx="0" cy="82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2860920" y="4605480"/>
                  <a:ext cx="790560" cy="3664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 flipV="1">
                  <a:off x="3646440" y="4978440"/>
                  <a:ext cx="0" cy="763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2688840" y="4660920"/>
                  <a:ext cx="790560" cy="368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 flipV="1">
                  <a:off x="3474360" y="5033520"/>
                  <a:ext cx="0" cy="79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2496240" y="4722840"/>
                  <a:ext cx="790560" cy="3697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 flipV="1">
                  <a:off x="3281760" y="5094000"/>
                  <a:ext cx="0" cy="730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2315880" y="4782960"/>
                  <a:ext cx="790560" cy="3668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 flipV="1">
                  <a:off x="3099960" y="5151600"/>
                  <a:ext cx="0" cy="77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960" bIns="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2123280" y="4838760"/>
                  <a:ext cx="788760" cy="3650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 flipV="1">
                  <a:off x="2908800" y="5211360"/>
                  <a:ext cx="0" cy="716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1808640" y="4952880"/>
                  <a:ext cx="716760" cy="3654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 flipV="1">
                  <a:off x="2520360" y="5322960"/>
                  <a:ext cx="0" cy="77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960" bIns="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1624680" y="5000760"/>
                  <a:ext cx="692640" cy="3823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 flipV="1">
                  <a:off x="2310840" y="5384880"/>
                  <a:ext cx="0" cy="792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1970280" y="4889520"/>
                  <a:ext cx="747720" cy="3715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 flipV="1">
                  <a:off x="2711160" y="5252760"/>
                  <a:ext cx="0" cy="810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1" name=""/>
            <p:cNvGrpSpPr/>
            <p:nvPr/>
          </p:nvGrpSpPr>
          <p:grpSpPr>
            <a:xfrm>
              <a:off x="3186000" y="3887640"/>
              <a:ext cx="702360" cy="2350800"/>
              <a:chOff x="3186000" y="3887640"/>
              <a:chExt cx="702360" cy="2350800"/>
            </a:xfrm>
          </p:grpSpPr>
          <p:grpSp>
            <p:nvGrpSpPr>
              <p:cNvPr id="202" name=""/>
              <p:cNvGrpSpPr/>
              <p:nvPr/>
            </p:nvGrpSpPr>
            <p:grpSpPr>
              <a:xfrm>
                <a:off x="3296880" y="5889600"/>
                <a:ext cx="591480" cy="348840"/>
                <a:chOff x="3296880" y="5889600"/>
                <a:chExt cx="591480" cy="348840"/>
              </a:xfrm>
            </p:grpSpPr>
            <p:sp>
              <p:nvSpPr>
                <p:cNvPr id="203" name=""/>
                <p:cNvSpPr/>
                <p:nvPr/>
              </p:nvSpPr>
              <p:spPr>
                <a:xfrm>
                  <a:off x="3296880" y="5889600"/>
                  <a:ext cx="591480" cy="348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539" y="5244"/>
                      </a:moveTo>
                      <a:arcTo wR="10800" hR="10800" stAng="-8942406" swAng="887936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539" y="5244"/>
                      </a:moveTo>
                      <a:arcTo wR="10800" hR="10800" stAng="-8942406" swAng="8879360"/>
                    </a:path>
                  </a:pathLst>
                </a:custGeom>
                <a:noFill/>
                <a:ln cap="rnd" w="12600">
                  <a:solidFill>
                    <a:srgbClr val="c0c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351600" y="5934240"/>
                  <a:ext cx="445680" cy="2689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466" y="5368"/>
                      </a:moveTo>
                      <a:arcTo wR="10800" hR="10800" stAng="-8988065" swAng="9069565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466" y="5368"/>
                      </a:moveTo>
                      <a:arcTo wR="10800" hR="10800" stAng="-8988065" swAng="9069565"/>
                    </a:path>
                  </a:pathLst>
                </a:custGeom>
                <a:noFill/>
                <a:ln cap="rnd" w="12600">
                  <a:solidFill>
                    <a:srgbClr val="c0c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5" name=""/>
              <p:cNvGrpSpPr/>
              <p:nvPr/>
            </p:nvGrpSpPr>
            <p:grpSpPr>
              <a:xfrm>
                <a:off x="3186000" y="5876640"/>
                <a:ext cx="661680" cy="352440"/>
                <a:chOff x="3186000" y="5876640"/>
                <a:chExt cx="661680" cy="35244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3186000" y="5876640"/>
                  <a:ext cx="661680" cy="352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0118" y="16260"/>
                      </a:moveTo>
                      <a:arcTo wR="10800" hR="10800" stAng="1822088" swAng="903940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0118" y="16260"/>
                      </a:moveTo>
                      <a:arcTo wR="10800" hR="10800" stAng="1822088" swAng="9039409"/>
                    </a:path>
                  </a:pathLst>
                </a:custGeom>
                <a:noFill/>
                <a:ln cap="rnd" w="12600">
                  <a:solidFill>
                    <a:srgbClr val="c0c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3280680" y="5910480"/>
                  <a:ext cx="504720" cy="2660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0276" y="15982"/>
                      </a:moveTo>
                      <a:arcTo wR="10800" hR="10800" stAng="1720388" swAng="907961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0276" y="15982"/>
                      </a:moveTo>
                      <a:arcTo wR="10800" hR="10800" stAng="1720388" swAng="9079612"/>
                    </a:path>
                  </a:pathLst>
                </a:custGeom>
                <a:noFill/>
                <a:ln cap="rnd" w="12600">
                  <a:solidFill>
                    <a:srgbClr val="c0c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8" name=""/>
              <p:cNvGrpSpPr/>
              <p:nvPr/>
            </p:nvGrpSpPr>
            <p:grpSpPr>
              <a:xfrm>
                <a:off x="3469680" y="3887640"/>
                <a:ext cx="100800" cy="2230560"/>
                <a:chOff x="3469680" y="3887640"/>
                <a:chExt cx="100800" cy="2230560"/>
              </a:xfrm>
            </p:grpSpPr>
            <p:sp>
              <p:nvSpPr>
                <p:cNvPr id="209" name=""/>
                <p:cNvSpPr/>
                <p:nvPr/>
              </p:nvSpPr>
              <p:spPr>
                <a:xfrm>
                  <a:off x="3469680" y="3908520"/>
                  <a:ext cx="100800" cy="2184480"/>
                </a:xfrm>
                <a:prstGeom prst="rect">
                  <a:avLst/>
                </a:prstGeom>
                <a:solidFill>
                  <a:srgbClr val="c06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3469680" y="3887640"/>
                  <a:ext cx="100800" cy="46080"/>
                </a:xfrm>
                <a:prstGeom prst="ellipse">
                  <a:avLst/>
                </a:prstGeom>
                <a:solidFill>
                  <a:srgbClr val="ffa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680" bIns="-13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3469680" y="6073920"/>
                  <a:ext cx="100800" cy="44280"/>
                </a:xfrm>
                <a:prstGeom prst="ellipse">
                  <a:avLst/>
                </a:prstGeom>
                <a:solidFill>
                  <a:srgbClr val="c06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2" name=""/>
            <p:cNvGrpSpPr/>
            <p:nvPr/>
          </p:nvGrpSpPr>
          <p:grpSpPr>
            <a:xfrm>
              <a:off x="4247280" y="3581280"/>
              <a:ext cx="700200" cy="2346120"/>
              <a:chOff x="4247280" y="3581280"/>
              <a:chExt cx="700200" cy="2346120"/>
            </a:xfrm>
          </p:grpSpPr>
          <p:grpSp>
            <p:nvGrpSpPr>
              <p:cNvPr id="213" name=""/>
              <p:cNvGrpSpPr/>
              <p:nvPr/>
            </p:nvGrpSpPr>
            <p:grpSpPr>
              <a:xfrm>
                <a:off x="4357800" y="5572080"/>
                <a:ext cx="589680" cy="355320"/>
                <a:chOff x="4357800" y="5572080"/>
                <a:chExt cx="589680" cy="355320"/>
              </a:xfrm>
            </p:grpSpPr>
            <p:sp>
              <p:nvSpPr>
                <p:cNvPr id="214" name=""/>
                <p:cNvSpPr/>
                <p:nvPr/>
              </p:nvSpPr>
              <p:spPr>
                <a:xfrm>
                  <a:off x="4357800" y="5572080"/>
                  <a:ext cx="589680" cy="3553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499" y="5311"/>
                      </a:moveTo>
                      <a:arcTo wR="10800" hR="10800" stAng="-8967252" swAng="902926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499" y="5311"/>
                      </a:moveTo>
                      <a:arcTo wR="10800" hR="10800" stAng="-8967252" swAng="9029269"/>
                    </a:path>
                  </a:pathLst>
                </a:custGeom>
                <a:noFill/>
                <a:ln cap="rnd" w="12600">
                  <a:solidFill>
                    <a:srgbClr val="c0c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4415760" y="5622840"/>
                  <a:ext cx="446040" cy="2664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508" y="5295"/>
                      </a:moveTo>
                      <a:arcTo wR="10800" hR="10800" stAng="-8961339" swAng="896133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508" y="5295"/>
                      </a:moveTo>
                      <a:arcTo wR="10800" hR="10800" stAng="-8961339" swAng="8961339"/>
                    </a:path>
                  </a:pathLst>
                </a:custGeom>
                <a:noFill/>
                <a:ln cap="rnd" w="12600">
                  <a:solidFill>
                    <a:srgbClr val="c0c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6" name=""/>
              <p:cNvGrpSpPr/>
              <p:nvPr/>
            </p:nvGrpSpPr>
            <p:grpSpPr>
              <a:xfrm>
                <a:off x="4247280" y="5559120"/>
                <a:ext cx="661680" cy="352440"/>
                <a:chOff x="4247280" y="5559120"/>
                <a:chExt cx="661680" cy="352440"/>
              </a:xfrm>
            </p:grpSpPr>
            <p:sp>
              <p:nvSpPr>
                <p:cNvPr id="217" name=""/>
                <p:cNvSpPr/>
                <p:nvPr/>
              </p:nvSpPr>
              <p:spPr>
                <a:xfrm>
                  <a:off x="4247280" y="5559120"/>
                  <a:ext cx="661680" cy="352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0058" y="16361"/>
                      </a:moveTo>
                      <a:arcTo wR="10800" hR="10800" stAng="1859481" swAng="894051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0058" y="16361"/>
                      </a:moveTo>
                      <a:arcTo wR="10800" hR="10800" stAng="1859481" swAng="8940519"/>
                    </a:path>
                  </a:pathLst>
                </a:custGeom>
                <a:noFill/>
                <a:ln cap="rnd" w="12600">
                  <a:solidFill>
                    <a:srgbClr val="c0c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4344840" y="5595840"/>
                  <a:ext cx="504000" cy="2696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0165" y="16180"/>
                      </a:moveTo>
                      <a:arcTo wR="10800" hR="10800" stAng="1792668" swAng="900733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0165" y="16180"/>
                      </a:moveTo>
                      <a:arcTo wR="10800" hR="10800" stAng="1792668" swAng="9007332"/>
                    </a:path>
                  </a:pathLst>
                </a:custGeom>
                <a:noFill/>
                <a:ln cap="rnd" w="12600">
                  <a:solidFill>
                    <a:srgbClr val="c0c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552920" y="3581280"/>
                <a:ext cx="102600" cy="2230560"/>
                <a:chOff x="4552920" y="3581280"/>
                <a:chExt cx="102600" cy="2230560"/>
              </a:xfrm>
            </p:grpSpPr>
            <p:sp>
              <p:nvSpPr>
                <p:cNvPr id="220" name=""/>
                <p:cNvSpPr/>
                <p:nvPr/>
              </p:nvSpPr>
              <p:spPr>
                <a:xfrm>
                  <a:off x="4552920" y="3603600"/>
                  <a:ext cx="102600" cy="2185920"/>
                </a:xfrm>
                <a:prstGeom prst="rect">
                  <a:avLst/>
                </a:prstGeom>
                <a:solidFill>
                  <a:srgbClr val="c06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4552920" y="3581280"/>
                  <a:ext cx="102600" cy="47880"/>
                </a:xfrm>
                <a:prstGeom prst="ellipse">
                  <a:avLst/>
                </a:prstGeom>
                <a:solidFill>
                  <a:srgbClr val="ffa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4552920" y="5767560"/>
                  <a:ext cx="102600" cy="44280"/>
                </a:xfrm>
                <a:prstGeom prst="ellipse">
                  <a:avLst/>
                </a:prstGeom>
                <a:solidFill>
                  <a:srgbClr val="c06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23" name=""/>
            <p:cNvSpPr/>
            <p:nvPr/>
          </p:nvSpPr>
          <p:spPr>
            <a:xfrm>
              <a:off x="-1440" y="4627440"/>
              <a:ext cx="3569400" cy="2230560"/>
            </a:xfrm>
            <a:custGeom>
              <a:avLst/>
              <a:gdLst/>
              <a:ahLst/>
              <a:rect l="l" t="t" r="r" b="b"/>
              <a:pathLst>
                <a:path w="2076" h="1405">
                  <a:moveTo>
                    <a:pt x="121" y="220"/>
                  </a:moveTo>
                  <a:lnTo>
                    <a:pt x="198" y="89"/>
                  </a:lnTo>
                  <a:lnTo>
                    <a:pt x="266" y="34"/>
                  </a:lnTo>
                  <a:lnTo>
                    <a:pt x="339" y="0"/>
                  </a:lnTo>
                  <a:lnTo>
                    <a:pt x="352" y="0"/>
                  </a:lnTo>
                  <a:lnTo>
                    <a:pt x="425" y="0"/>
                  </a:lnTo>
                  <a:lnTo>
                    <a:pt x="479" y="15"/>
                  </a:lnTo>
                  <a:lnTo>
                    <a:pt x="653" y="34"/>
                  </a:lnTo>
                  <a:lnTo>
                    <a:pt x="663" y="34"/>
                  </a:lnTo>
                  <a:lnTo>
                    <a:pt x="677" y="34"/>
                  </a:lnTo>
                  <a:lnTo>
                    <a:pt x="774" y="100"/>
                  </a:lnTo>
                  <a:lnTo>
                    <a:pt x="827" y="147"/>
                  </a:lnTo>
                  <a:lnTo>
                    <a:pt x="875" y="181"/>
                  </a:lnTo>
                  <a:lnTo>
                    <a:pt x="890" y="191"/>
                  </a:lnTo>
                  <a:lnTo>
                    <a:pt x="918" y="210"/>
                  </a:lnTo>
                  <a:lnTo>
                    <a:pt x="929" y="220"/>
                  </a:lnTo>
                  <a:lnTo>
                    <a:pt x="952" y="239"/>
                  </a:lnTo>
                  <a:lnTo>
                    <a:pt x="962" y="239"/>
                  </a:lnTo>
                  <a:lnTo>
                    <a:pt x="996" y="274"/>
                  </a:lnTo>
                  <a:lnTo>
                    <a:pt x="1002" y="294"/>
                  </a:lnTo>
                  <a:lnTo>
                    <a:pt x="1044" y="366"/>
                  </a:lnTo>
                  <a:lnTo>
                    <a:pt x="1078" y="406"/>
                  </a:lnTo>
                  <a:lnTo>
                    <a:pt x="1088" y="406"/>
                  </a:lnTo>
                  <a:lnTo>
                    <a:pt x="1098" y="413"/>
                  </a:lnTo>
                  <a:lnTo>
                    <a:pt x="1112" y="424"/>
                  </a:lnTo>
                  <a:lnTo>
                    <a:pt x="1122" y="424"/>
                  </a:lnTo>
                  <a:lnTo>
                    <a:pt x="1145" y="441"/>
                  </a:lnTo>
                  <a:lnTo>
                    <a:pt x="1156" y="451"/>
                  </a:lnTo>
                  <a:lnTo>
                    <a:pt x="1223" y="497"/>
                  </a:lnTo>
                  <a:lnTo>
                    <a:pt x="1247" y="543"/>
                  </a:lnTo>
                  <a:lnTo>
                    <a:pt x="1257" y="560"/>
                  </a:lnTo>
                  <a:lnTo>
                    <a:pt x="1267" y="571"/>
                  </a:lnTo>
                  <a:lnTo>
                    <a:pt x="1320" y="664"/>
                  </a:lnTo>
                  <a:lnTo>
                    <a:pt x="1329" y="672"/>
                  </a:lnTo>
                  <a:lnTo>
                    <a:pt x="1369" y="691"/>
                  </a:lnTo>
                  <a:lnTo>
                    <a:pt x="1416" y="711"/>
                  </a:lnTo>
                  <a:lnTo>
                    <a:pt x="1426" y="711"/>
                  </a:lnTo>
                  <a:lnTo>
                    <a:pt x="1436" y="711"/>
                  </a:lnTo>
                  <a:lnTo>
                    <a:pt x="1451" y="711"/>
                  </a:lnTo>
                  <a:lnTo>
                    <a:pt x="1460" y="711"/>
                  </a:lnTo>
                  <a:lnTo>
                    <a:pt x="1470" y="719"/>
                  </a:lnTo>
                  <a:lnTo>
                    <a:pt x="1484" y="729"/>
                  </a:lnTo>
                  <a:lnTo>
                    <a:pt x="1499" y="737"/>
                  </a:lnTo>
                  <a:lnTo>
                    <a:pt x="1556" y="802"/>
                  </a:lnTo>
                  <a:lnTo>
                    <a:pt x="1605" y="876"/>
                  </a:lnTo>
                  <a:lnTo>
                    <a:pt x="1688" y="959"/>
                  </a:lnTo>
                  <a:lnTo>
                    <a:pt x="1736" y="1014"/>
                  </a:lnTo>
                  <a:lnTo>
                    <a:pt x="1750" y="1023"/>
                  </a:lnTo>
                  <a:lnTo>
                    <a:pt x="1822" y="1034"/>
                  </a:lnTo>
                  <a:lnTo>
                    <a:pt x="1842" y="1042"/>
                  </a:lnTo>
                  <a:lnTo>
                    <a:pt x="1851" y="1042"/>
                  </a:lnTo>
                  <a:lnTo>
                    <a:pt x="1910" y="1081"/>
                  </a:lnTo>
                  <a:lnTo>
                    <a:pt x="1919" y="1088"/>
                  </a:lnTo>
                  <a:lnTo>
                    <a:pt x="1929" y="1088"/>
                  </a:lnTo>
                  <a:lnTo>
                    <a:pt x="1953" y="1125"/>
                  </a:lnTo>
                  <a:lnTo>
                    <a:pt x="1982" y="1189"/>
                  </a:lnTo>
                  <a:lnTo>
                    <a:pt x="2035" y="1254"/>
                  </a:lnTo>
                  <a:lnTo>
                    <a:pt x="2065" y="1301"/>
                  </a:lnTo>
                  <a:lnTo>
                    <a:pt x="2069" y="1319"/>
                  </a:lnTo>
                  <a:lnTo>
                    <a:pt x="2069" y="1338"/>
                  </a:lnTo>
                  <a:lnTo>
                    <a:pt x="2073" y="1356"/>
                  </a:lnTo>
                  <a:lnTo>
                    <a:pt x="2075" y="1404"/>
                  </a:lnTo>
                  <a:lnTo>
                    <a:pt x="4" y="1404"/>
                  </a:lnTo>
                  <a:lnTo>
                    <a:pt x="0" y="856"/>
                  </a:lnTo>
                  <a:lnTo>
                    <a:pt x="0" y="838"/>
                  </a:lnTo>
                  <a:lnTo>
                    <a:pt x="10" y="672"/>
                  </a:lnTo>
                  <a:lnTo>
                    <a:pt x="10" y="654"/>
                  </a:lnTo>
                  <a:lnTo>
                    <a:pt x="10" y="635"/>
                  </a:lnTo>
                  <a:lnTo>
                    <a:pt x="14" y="618"/>
                  </a:lnTo>
                  <a:lnTo>
                    <a:pt x="28" y="560"/>
                  </a:lnTo>
                  <a:lnTo>
                    <a:pt x="58" y="470"/>
                  </a:lnTo>
                  <a:lnTo>
                    <a:pt x="72" y="413"/>
                  </a:lnTo>
                  <a:lnTo>
                    <a:pt x="121" y="220"/>
                  </a:lnTo>
                </a:path>
              </a:pathLst>
            </a:custGeom>
            <a:solidFill>
              <a:srgbClr val="00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742680" y="9140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60066"/>
                </a:solidFill>
                <a:latin typeface="Times New Roman"/>
              </a:rPr>
              <a:t>知本溫泉浴</a:t>
            </a:r>
            <a:endParaRPr b="0" lang="en-US" sz="5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155240" y="2437920"/>
            <a:ext cx="8420040" cy="34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vert="eaVert">
            <a:normAutofit/>
          </a:bodyPr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66006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振奮神經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66006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消除疲勞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66006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美容養顏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66006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促進新陳代謝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66006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增進人體健康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0" y="1274760"/>
          <a:ext cx="2806560" cy="297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74760"/>
                    <a:ext cx="2806560" cy="297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8" name=""/>
          <p:cNvGraphicFramePr/>
          <p:nvPr/>
        </p:nvGraphicFramePr>
        <p:xfrm>
          <a:off x="1217520" y="3083040"/>
          <a:ext cx="846360" cy="1733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17520" y="3083040"/>
                    <a:ext cx="846360" cy="173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0" name=""/>
          <p:cNvGraphicFramePr/>
          <p:nvPr/>
        </p:nvGraphicFramePr>
        <p:xfrm>
          <a:off x="2157480" y="4627440"/>
          <a:ext cx="466560" cy="533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3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157480" y="4627440"/>
                    <a:ext cx="46656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2" name=""/>
          <p:cNvGraphicFramePr/>
          <p:nvPr/>
        </p:nvGraphicFramePr>
        <p:xfrm>
          <a:off x="2492280" y="4498920"/>
          <a:ext cx="898560" cy="639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3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492280" y="4498920"/>
                    <a:ext cx="898560" cy="63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4" name=""/>
          <p:cNvGraphicFramePr/>
          <p:nvPr/>
        </p:nvGraphicFramePr>
        <p:xfrm>
          <a:off x="1568520" y="1198440"/>
          <a:ext cx="2806560" cy="29703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568520" y="1198440"/>
                    <a:ext cx="2806560" cy="297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742680" y="9140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60066"/>
                </a:solidFill>
                <a:latin typeface="Times New Roman"/>
              </a:rPr>
              <a:t>秀姑巒溪泛舟</a:t>
            </a:r>
            <a:endParaRPr b="0" lang="en-US" sz="5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 rot="20700000">
            <a:off x="991800" y="2204640"/>
            <a:ext cx="4127400" cy="34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r">
              <a:lnSpc>
                <a:spcPct val="110000"/>
              </a:lnSpc>
              <a:spcBef>
                <a:spcPts val="799"/>
              </a:spcBef>
              <a:buClr>
                <a:srgbClr val="66006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驚險刺激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10000"/>
              </a:lnSpc>
              <a:spcBef>
                <a:spcPts val="799"/>
              </a:spcBef>
              <a:buClr>
                <a:srgbClr val="66006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冒險犯難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66006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發揮同舟共濟精神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2505240" y="3924720"/>
            <a:ext cx="2432160" cy="1547280"/>
            <a:chOff x="2505240" y="3924720"/>
            <a:chExt cx="2432160" cy="1547280"/>
          </a:xfrm>
        </p:grpSpPr>
        <p:sp>
          <p:nvSpPr>
            <p:cNvPr id="239" name=""/>
            <p:cNvSpPr/>
            <p:nvPr/>
          </p:nvSpPr>
          <p:spPr>
            <a:xfrm>
              <a:off x="2505240" y="4035600"/>
              <a:ext cx="2065320" cy="1436400"/>
            </a:xfrm>
            <a:custGeom>
              <a:avLst/>
              <a:gdLst/>
              <a:ahLst/>
              <a:rect l="l" t="t" r="r" b="b"/>
              <a:pathLst>
                <a:path w="1201" h="905">
                  <a:moveTo>
                    <a:pt x="0" y="677"/>
                  </a:moveTo>
                  <a:lnTo>
                    <a:pt x="958" y="0"/>
                  </a:lnTo>
                  <a:lnTo>
                    <a:pt x="1200" y="829"/>
                  </a:lnTo>
                  <a:lnTo>
                    <a:pt x="71" y="904"/>
                  </a:lnTo>
                  <a:lnTo>
                    <a:pt x="0" y="677"/>
                  </a:lnTo>
                </a:path>
              </a:pathLst>
            </a:custGeom>
            <a:solidFill>
              <a:srgbClr val="ffff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rot="20580000">
              <a:off x="3998520" y="4005000"/>
              <a:ext cx="754200" cy="1373040"/>
            </a:xfrm>
            <a:prstGeom prst="ellipse">
              <a:avLst/>
            </a:prstGeom>
            <a:solidFill>
              <a:srgbClr val="ffff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241" name=""/>
          <p:cNvGraphicFramePr/>
          <p:nvPr/>
        </p:nvGraphicFramePr>
        <p:xfrm>
          <a:off x="109440" y="5105520"/>
          <a:ext cx="2535480" cy="1751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9440" y="5105520"/>
                    <a:ext cx="2535480" cy="175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3" name=""/>
          <p:cNvSpPr/>
          <p:nvPr/>
        </p:nvSpPr>
        <p:spPr>
          <a:xfrm>
            <a:off x="5207040" y="2216160"/>
            <a:ext cx="4610160" cy="3645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4"/>
          <a:stretch/>
        </p:blipFill>
        <p:spPr>
          <a:xfrm>
            <a:off x="5028840" y="2437920"/>
            <a:ext cx="4133880" cy="3429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5"/>
          <a:stretch/>
        </p:blipFill>
        <p:spPr>
          <a:xfrm>
            <a:off x="4846680" y="2276640"/>
            <a:ext cx="5059440" cy="356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742680" y="9140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60066"/>
                </a:solidFill>
                <a:latin typeface="Times New Roman"/>
              </a:rPr>
              <a:t>攜帶物品</a:t>
            </a:r>
            <a:endParaRPr b="0" lang="en-US" sz="5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742680" y="2437920"/>
            <a:ext cx="8420040" cy="34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r">
              <a:lnSpc>
                <a:spcPct val="100000"/>
              </a:lnSpc>
              <a:spcBef>
                <a:spcPts val="901"/>
              </a:spcBef>
              <a:buClr>
                <a:srgbClr val="66006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個人換洗衣物、盥洗用具、保養品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>
              <a:lnSpc>
                <a:spcPct val="100000"/>
              </a:lnSpc>
              <a:spcBef>
                <a:spcPts val="901"/>
              </a:spcBef>
              <a:buClr>
                <a:srgbClr val="66006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禦寒的厚毛衣、或外套一件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>
              <a:lnSpc>
                <a:spcPct val="100000"/>
              </a:lnSpc>
              <a:spcBef>
                <a:spcPts val="901"/>
              </a:spcBef>
              <a:buClr>
                <a:srgbClr val="66006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個人隨身必備的醫藥用品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>
              <a:lnSpc>
                <a:spcPct val="100000"/>
              </a:lnSpc>
              <a:spcBef>
                <a:spcPts val="901"/>
              </a:spcBef>
              <a:buClr>
                <a:srgbClr val="66006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泳衣、泳褲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飯店設有游泳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>
              <a:lnSpc>
                <a:spcPct val="100000"/>
              </a:lnSpc>
              <a:spcBef>
                <a:spcPts val="901"/>
              </a:spcBef>
              <a:buClr>
                <a:srgbClr val="66006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相機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98280" y="4743360"/>
          <a:ext cx="2281320" cy="170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8280" y="4743360"/>
                    <a:ext cx="2281320" cy="170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0" name=""/>
          <p:cNvGraphicFramePr/>
          <p:nvPr/>
        </p:nvGraphicFramePr>
        <p:xfrm>
          <a:off x="2144880" y="5084640"/>
          <a:ext cx="2070000" cy="1749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44880" y="5084640"/>
                    <a:ext cx="2070000" cy="17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2" name=""/>
          <p:cNvGraphicFramePr/>
          <p:nvPr/>
        </p:nvGraphicFramePr>
        <p:xfrm>
          <a:off x="330120" y="3435480"/>
          <a:ext cx="2322720" cy="871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5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30120" y="3435480"/>
                    <a:ext cx="232272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742680" y="9140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60066"/>
                </a:solidFill>
                <a:latin typeface="Times New Roman"/>
              </a:rPr>
              <a:t>須知事項</a:t>
            </a:r>
            <a:endParaRPr b="0" lang="en-US" sz="5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742680" y="2437920"/>
            <a:ext cx="8420040" cy="34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66006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集合時間：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6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月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0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日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8:30 AM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66006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集合地點：學校正門口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66006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到達目的地，請依照班長指示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6" name=""/>
          <p:cNvGraphicFramePr/>
          <p:nvPr/>
        </p:nvGraphicFramePr>
        <p:xfrm>
          <a:off x="7907400" y="3166920"/>
          <a:ext cx="1922400" cy="368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07400" y="3166920"/>
                    <a:ext cx="1922400" cy="368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Yolanda Chiang</dc:creator>
  <dc:description/>
  <dc:language>en-US</dc:language>
  <cp:lastModifiedBy>SuperXP</cp:lastModifiedBy>
  <dcterms:modified xsi:type="dcterms:W3CDTF">2006-07-27T08:52:11Z</dcterms:modified>
  <cp:revision>30</cp:revision>
  <dc:subject/>
  <dc:title>沒有投影片標題</dc:title>
</cp:coreProperties>
</file>