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EF9-1777-4BBB-ACCE-0091471B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932-DBF2-4593-9317-493DBD3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5AA-9BFE-4538-8806-9A793C12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0B8-1205-44F2-ABB6-9A03E266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654-AE13-4509-A190-62815F33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E81-E9BD-460C-B42A-CD4D1689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C448-7615-4A4D-B7B3-4D4A47F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C76-B880-47D8-BC61-999B886B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BDE5-F448-4B73-AE0A-1F0EAEA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1BFC-2F4A-46ED-BC33-C1C31685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0930-B4A9-4CD6-8E8D-57AC910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36B-F591-4CE9-B158-2FFADB9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23AF-2F7C-4B44-A4B1-D5D374D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85A4-35F7-472C-9639-B2BA7921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E5F5-B399-413C-8B22-3CF21F4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CEA8-D225-4106-BDBC-7120A517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45A-6FCC-4913-AB90-CA37D5BC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DC2-6046-4B7A-BEDE-A9A5B52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347-ABC8-4FBC-920C-5980F90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8D5-1A71-45D4-A681-3EE4888F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BF7-BDEF-4D75-9A3F-C5DEEF8F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FE0-2D06-4FBF-9B4A-9C7E137E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456-DFDC-43E0-9C98-66D8A5A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F6D-7538-467E-A08D-0C94ABB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2C2-8A3E-4EAE-BD40-52C5EB14F940}" type="slidenum">
              <a:rPr b="0" lang="zh-TW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D0FF-F3C6-4B93-A172-021F45027923}" type="slidenum">
              <a:rPr b="0" lang="zh-TW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8:49:45Z</dcterms:created>
  <dc:creator>黛琳</dc:creator>
  <dc:description/>
  <dc:language>en-US</dc:language>
  <cp:lastModifiedBy>SuperXP</cp:lastModifiedBy>
  <dcterms:modified xsi:type="dcterms:W3CDTF">2006-08-04T04:00:40Z</dcterms:modified>
  <cp:revision>27</cp:revision>
  <dc:subject/>
  <dc:title>地球上的生物</dc:title>
</cp:coreProperties>
</file>