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0860-97A9-441F-826B-A59916AA1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FDBD-7D4A-471F-9A2E-0049BC5C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E148-017E-428C-AA39-1916D3F25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3C61-C7BD-426C-9B85-DD9B09099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FD5F-B9EF-45BE-BDA2-689B4FE7D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88BE-3E85-43D9-8A65-1F09C5C2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C044-EABB-4866-BAC2-A98B9323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4ED7-C717-4A5F-9C2D-2A96C7F0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2B6F4-DD99-4482-A49A-34B1851D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DF1A-2BB9-4890-AF15-DB0D625B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31DC-5D9D-4FC6-B338-C296DB15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17AE-5C75-4262-97AB-81C93968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0A73-279D-42F3-97EE-F3C57A47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77C6-9071-4840-8B1E-8B76BF41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2FA7-35D0-476B-A458-72B2913A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8C473-4B1B-4815-8BDF-F34CBF27E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8EEF-0C24-4E1A-A6FD-9A884D2A4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DCBA-0CD2-4926-B147-F94E5489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D906-5AE4-4FA6-99FB-9F17081F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23E2-B9FF-4343-9CBB-B82AD623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A402-E305-46B3-9491-3019C493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0A1D-6015-4645-9DA8-647E4627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F824-F32F-45A5-BD2A-36249222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35EB-31B0-4975-9BAE-2A85E800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8364-2679-466B-8651-2969E84B45AF}" type="slidenum">
              <a:rPr b="0" lang="zh-TW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4A29-81F5-4D85-BDA0-B416669D5125}" type="slidenum">
              <a:rPr b="0" lang="zh-TW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556040" y="259920"/>
            <a:ext cx="10796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vert="eaVer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Verdana"/>
                <a:ea typeface="華康粗黑體"/>
              </a:rPr>
              <a:t>三年二班成績統計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1T09:49:44Z</dcterms:created>
  <dc:creator>SuperXP</dc:creator>
  <dc:description/>
  <dc:language>en-US</dc:language>
  <cp:lastModifiedBy>SuperXP</cp:lastModifiedBy>
  <dcterms:modified xsi:type="dcterms:W3CDTF">2006-09-11T07:20:17Z</dcterms:modified>
  <cp:revision>10</cp:revision>
  <dc:subject/>
  <dc:title>三年二班各科平均成績統計</dc:title>
</cp:coreProperties>
</file>