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EB1-5B4B-4C28-B088-32629802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76C-6A46-427C-BCA7-2C0A0B9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2FC-B1EF-4158-A1AB-85AECE07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3B7-853B-4CBC-B841-21871524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912-F2B5-4881-9014-839BFAB9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083-113D-4E35-BEEA-F7B227D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216-230D-42F7-AB59-989D58F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3AE-A2A3-42AF-B675-B559449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111-A6BF-43AD-B093-FD8F1534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C703-69C6-434A-ABD2-58D094DB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437C-096A-49E0-B2DD-2C25F67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9A8-9A65-44AC-8586-FADAB3D5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C95B-1C26-498A-901C-58EF6C3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D72A-4368-49F4-80FA-8DF723B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41C8-A7C6-4158-B4A5-4618A28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B414-7ED3-44EB-812E-00097DC7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16AA-5DB4-4EA7-B919-F4FA085C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BD4-97E1-43F7-B394-8B1FBE3F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282-9DAC-4422-ABCE-86305F5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A74-9632-43B8-B29C-EBD12F8F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FA6-B38F-4FB8-B9FF-8BCEE709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93E-18FF-4800-AD94-64757FE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9F2-8020-42AF-A46E-8C2C42F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57A-8CC3-4519-99F8-E0903DF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793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ea45e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08bb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46F-84F5-458F-A305-6E21AD5F3D80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de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d79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a08b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4c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a08b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dea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2EC-3C6B-4CC8-8E28-8B1288B5BF15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c5"/>
            </a:gs>
            <a:gs pos="50000">
              <a:srgbClr val="ffffff"/>
            </a:gs>
            <a:gs pos="100000">
              <a:srgbClr val="e9ffc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自我介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79280" y="2133720"/>
          <a:ext cx="8785440" cy="3989160"/>
        </p:xfrm>
        <a:graphic>
          <a:graphicData uri="http://schemas.openxmlformats.org/drawingml/2006/table">
            <a:tbl>
              <a:tblPr/>
              <a:tblGrid>
                <a:gridCol w="1279800"/>
                <a:gridCol w="2244600"/>
                <a:gridCol w="1004760"/>
                <a:gridCol w="943200"/>
                <a:gridCol w="331308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性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年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籍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學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電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華康儷粗圓"/>
                        </a:rPr>
                        <a:t>職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20:56:04Z</dcterms:created>
  <dc:creator>Duncan Tu</dc:creator>
  <dc:description/>
  <dc:language>en-US</dc:language>
  <cp:lastModifiedBy>sea</cp:lastModifiedBy>
  <dcterms:modified xsi:type="dcterms:W3CDTF">2006-07-26T04:12:04Z</dcterms:modified>
  <cp:revision>9</cp:revision>
  <dc:subject/>
  <dc:title>我是超人</dc:title>
</cp:coreProperties>
</file>