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1239-2304-497D-A2BE-8E5AC841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A44-D5FA-42EE-A22C-CD65F20E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822-7233-4151-AAA3-456B130C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1145-9823-4B3E-B0B0-70B3509E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67E0-DEFF-430C-BAA7-8EF2A591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937D-2240-4E18-BC2C-A299719F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7BE-DE41-4EE8-801C-B82B11FB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8C4-EC2A-44CF-9101-AA7E5DCA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A0F-C72A-4276-8A47-53AD62D4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F376-4225-47B9-B89E-06B9E52F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E771-EFC6-4524-9DC7-3370C8B6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D9D3-3D23-4A46-AD1B-0CBE169E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CB9A-2263-47E8-B59A-4F79A1F6C9F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1640" y="2224080"/>
            <a:ext cx="1944720" cy="170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97480" y="1341360"/>
            <a:ext cx="1373040" cy="117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40200" y="1728720"/>
            <a:ext cx="115920" cy="109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56080" y="1728720"/>
            <a:ext cx="114480" cy="109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4505600">
            <a:off x="4933800" y="1850400"/>
            <a:ext cx="165240" cy="285840"/>
          </a:xfrm>
          <a:prstGeom prst="triangle">
            <a:avLst>
              <a:gd name="adj" fmla="val 5588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61080" y="620640"/>
            <a:ext cx="576000" cy="792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724280" y="1652760"/>
            <a:ext cx="790920" cy="67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7" y="5800"/>
                </a:moveTo>
                <a:arcTo wR="10800" hR="10800" stAng="-9145320" swAng="7351952"/>
                <a:lnTo>
                  <a:pt x="10800" y="10800"/>
                </a:lnTo>
                <a:close/>
              </a:path>
              <a:path fill="none" w="21600" h="21600">
                <a:moveTo>
                  <a:pt x="1227" y="5800"/>
                </a:moveTo>
                <a:arcTo wR="10800" hR="10800" stAng="-9145320" swAng="735195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800" spc="-1" strike="noStrike">
              <a:solidFill>
                <a:srgbClr val="000000"/>
              </a:solidFill>
              <a:latin typeface="Arial"/>
              <a:ea typeface="華康海報體W9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06:41:03Z</dcterms:created>
  <dc:creator>黛琳</dc:creator>
  <dc:description/>
  <dc:language>en-US</dc:language>
  <cp:lastModifiedBy>SuperXP</cp:lastModifiedBy>
  <dcterms:modified xsi:type="dcterms:W3CDTF">2006-09-11T07:25:32Z</dcterms:modified>
  <cp:revision>7</cp:revision>
  <dc:subject/>
  <dc:title>認識企鵝</dc:title>
</cp:coreProperties>
</file>