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58C02-D53B-474A-A6BD-9BEE1E988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CBE91-598B-46E4-B9D6-CBFB5E651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1A985-BBB8-4120-A73E-EB9246C68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A3B5F-42DC-42AF-BCEF-F0EA8326D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C0AF0226-89AE-4113-835E-C170E082161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4F17FD4C-99B6-4899-89BC-B980FAB512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4933BE0A-2F74-4A51-B36A-4E76D2BCD2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B0C684B-6FEC-4F3F-A7FA-B41F1843A8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FA4BED5A-8238-450B-B96E-CD758224148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82CFDE4-BE60-4A14-A060-B3D6C66434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91E74F3-984C-409C-91A1-0B024C99956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AAAC9-8C51-412E-9AF4-A9BAE655C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1834F98E-EECC-42EF-B17D-44D88D87C2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6994BF9-5E28-4810-9503-8F1AF5E2FDF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C703B6F2-C72E-4304-930D-6CFF6DB6E9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6F5E4FA8-2479-45DC-A831-92909C22CB1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4D479377-07E6-4B47-8442-A15E2F940D9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4470C-F686-437B-986F-98BA7A594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8A282-3517-4295-A2BF-0E5F24AA2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6E2DA-4F95-42C5-B3A8-3AFF84E0E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0D466-8710-459E-9692-35FD15F5B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0B17-33D3-4C57-BE9B-34E4DBD01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E72F2-70BD-4E16-A3A8-78C2D8C7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2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80289-A2C2-4248-9468-A9641026F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title text format</a:t>
            </a:r>
            <a:endParaRPr b="0" lang="en-US" sz="50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68000"/>
          </a:bodyPr>
          <a:p>
            <a:pPr marL="233280" indent="-233280">
              <a:spcBef>
                <a:spcPts val="237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Click to edit the outline text format</a:t>
            </a:r>
            <a:endParaRPr b="0" lang="en-US" sz="3800" spc="-1" strike="noStrike">
              <a:solidFill>
                <a:srgbClr val="ffffff"/>
              </a:solidFill>
              <a:latin typeface="Tahoma"/>
            </a:endParaRPr>
          </a:p>
          <a:p>
            <a:pPr lvl="1" marL="505080" indent="-194040">
              <a:spcBef>
                <a:spcPts val="2375"/>
              </a:spcBef>
              <a:buClr>
                <a:srgbClr val="c9ff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Second Outline Level</a:t>
            </a:r>
            <a:endParaRPr b="0" lang="en-US" sz="3800" spc="-1" strike="noStrike">
              <a:solidFill>
                <a:srgbClr val="ffffff"/>
              </a:solidFill>
              <a:latin typeface="Tahoma"/>
            </a:endParaRPr>
          </a:p>
          <a:p>
            <a:pPr lvl="2" marL="777240" indent="-155160">
              <a:spcBef>
                <a:spcPts val="23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Third Outline Level</a:t>
            </a:r>
            <a:endParaRPr b="0" lang="en-US" sz="3800" spc="-1" strike="noStrike">
              <a:solidFill>
                <a:srgbClr val="ffffff"/>
              </a:solidFill>
              <a:latin typeface="Tahoma"/>
            </a:endParaRPr>
          </a:p>
          <a:p>
            <a:pPr lvl="3" marL="1087920" indent="-155160">
              <a:spcBef>
                <a:spcPts val="2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Fourth Outline Level</a:t>
            </a:r>
            <a:endParaRPr b="0" lang="en-US" sz="3800" spc="-1" strike="noStrike">
              <a:solidFill>
                <a:srgbClr val="ffffff"/>
              </a:solidFill>
              <a:latin typeface="Tahoma"/>
            </a:endParaRPr>
          </a:p>
          <a:p>
            <a:pPr lvl="4" marL="1398960" indent="-155160">
              <a:spcBef>
                <a:spcPts val="237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Fifth Outline Level</a:t>
            </a:r>
            <a:endParaRPr b="0" lang="en-US" sz="3800" spc="-1" strike="noStrike">
              <a:solidFill>
                <a:srgbClr val="ffffff"/>
              </a:solidFill>
              <a:latin typeface="Tahoma"/>
            </a:endParaRPr>
          </a:p>
          <a:p>
            <a:pPr lvl="5" marL="1398960" indent="-155160">
              <a:spcBef>
                <a:spcPts val="23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Sixth Outline Level</a:t>
            </a:r>
            <a:endParaRPr b="0" lang="en-US" sz="3800" spc="-1" strike="noStrike">
              <a:solidFill>
                <a:srgbClr val="ffffff"/>
              </a:solidFill>
              <a:latin typeface="Tahoma"/>
            </a:endParaRPr>
          </a:p>
          <a:p>
            <a:pPr lvl="6" marL="1398960" indent="-155160">
              <a:spcBef>
                <a:spcPts val="23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Seventh Outline Level</a:t>
            </a:r>
            <a:endParaRPr b="0" lang="en-US" sz="38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068B-7875-4C46-A0B6-AA28375D8ACD}" type="slidenum">
              <a:rPr b="0" lang="zh-TW"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title text format</a:t>
            </a:r>
            <a:endParaRPr b="0" lang="en-US" sz="50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C25E-60D4-4710-B121-71FD16460AEC}" type="slidenum">
              <a:rPr b="0"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Click to edit the outline text format</a:t>
            </a:r>
            <a:endParaRPr b="0" lang="en-US" sz="3800" spc="-1" strike="noStrike">
              <a:solidFill>
                <a:srgbClr val="ffffff"/>
              </a:solidFill>
              <a:latin typeface="Tahoma"/>
            </a:endParaRPr>
          </a:p>
          <a:p>
            <a:pPr lvl="1" marL="457200" indent="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Second Outline Level</a:t>
            </a:r>
            <a:endParaRPr b="0" lang="en-US" sz="3500" spc="-1" strike="noStrike">
              <a:solidFill>
                <a:srgbClr val="ffffff"/>
              </a:solidFill>
              <a:latin typeface="Tahoma"/>
            </a:endParaRPr>
          </a:p>
          <a:p>
            <a:pPr lvl="2" marL="914400" algn="ctr">
              <a:spcBef>
                <a:spcPts val="700"/>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371600" algn="ctr">
              <a:spcBef>
                <a:spcPts val="624"/>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ourth Outline Level</a:t>
            </a:r>
            <a:endParaRPr b="0" lang="en-US" sz="25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ff"/>
                </a:solidFill>
                <a:latin typeface="Tahoma"/>
              </a:rPr>
              <a:t>鯨與豚</a:t>
            </a:r>
            <a:endParaRPr b="0" lang="en-US" sz="6300" spc="-1" strike="noStrike">
              <a:solidFill>
                <a:srgbClr val="ffffff"/>
              </a:solidFill>
              <a:latin typeface="Tahoma"/>
            </a:endParaRPr>
          </a:p>
        </p:txBody>
      </p:sp>
      <p:sp>
        <p:nvSpPr>
          <p:cNvPr id="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鯨主要可分兩大類：</a:t>
            </a:r>
            <a:endParaRPr b="0" lang="en-US" sz="4200" spc="-1" strike="noStrike">
              <a:solidFill>
                <a:srgbClr val="ffffff"/>
              </a:solidFill>
              <a:latin typeface="Tahoma"/>
            </a:endParaRPr>
          </a:p>
          <a:p>
            <a:pPr lvl="1" marL="743040" indent="-285840">
              <a:spcBef>
                <a:spcPts val="975"/>
              </a:spcBef>
              <a:buClr>
                <a:srgbClr val="c9ff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900" spc="-1" strike="noStrike">
                <a:solidFill>
                  <a:srgbClr val="ffffff"/>
                </a:solidFill>
                <a:latin typeface="Tahoma"/>
              </a:rPr>
              <a:t>須鯨－口中沒有牙齒，只有須</a:t>
            </a:r>
            <a:endParaRPr b="0" lang="en-US" sz="3900" spc="-1" strike="noStrike">
              <a:solidFill>
                <a:srgbClr val="ffffff"/>
              </a:solidFill>
              <a:latin typeface="Tahoma"/>
            </a:endParaRPr>
          </a:p>
          <a:p>
            <a:pPr lvl="1" marL="743040" indent="-285840">
              <a:spcBef>
                <a:spcPts val="975"/>
              </a:spcBef>
              <a:buClr>
                <a:srgbClr val="c9ff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900" spc="-1" strike="noStrike">
                <a:solidFill>
                  <a:srgbClr val="ffffff"/>
                </a:solidFill>
                <a:latin typeface="Tahoma"/>
              </a:rPr>
              <a:t>齒鯨－口中保留牙齒，無須</a:t>
            </a:r>
            <a:endParaRPr b="0" lang="en-US" sz="3900" spc="-1" strike="noStrike">
              <a:solidFill>
                <a:srgbClr val="ffffff"/>
              </a:solidFill>
              <a:latin typeface="Tahoma"/>
            </a:endParaRPr>
          </a:p>
          <a:p>
            <a:pPr marL="343080" indent="-343080">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海豚：一般統稱體長</a:t>
            </a:r>
            <a:r>
              <a:rPr b="0" lang="zh-TW" sz="4200" spc="-1" strike="noStrike">
                <a:solidFill>
                  <a:srgbClr val="ffffff"/>
                </a:solidFill>
                <a:latin typeface="Tahoma"/>
              </a:rPr>
              <a:t>3</a:t>
            </a:r>
            <a:r>
              <a:rPr b="0" lang="zh-TW" sz="4200" spc="-1" strike="noStrike">
                <a:solidFill>
                  <a:srgbClr val="ffffff"/>
                </a:solidFill>
                <a:latin typeface="Tahoma"/>
              </a:rPr>
              <a:t>公尺左右的小型齒鯨</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996920"/>
            <a:ext cx="84960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0" spc="-1" strike="noStrike">
                <a:solidFill>
                  <a:srgbClr val="ffff00"/>
                </a:solidFill>
                <a:latin typeface="Tahoma"/>
              </a:rPr>
              <a:t>海洋中的天才</a:t>
            </a:r>
            <a:endParaRPr b="0" lang="en-US" sz="9000" spc="-1" strike="noStrike">
              <a:solidFill>
                <a:srgbClr val="ff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500" spc="-1" strike="noStrike">
                <a:solidFill>
                  <a:srgbClr val="ffffff"/>
                </a:solidFill>
                <a:latin typeface="Tahoma"/>
              </a:rPr>
              <a:t>鯨魚與海豚</a:t>
            </a:r>
            <a:endParaRPr b="0" lang="en-US" sz="6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ff"/>
                </a:solidFill>
                <a:latin typeface="Tahoma"/>
              </a:rPr>
              <a:t>基本常識</a:t>
            </a:r>
            <a:endParaRPr b="0" lang="en-US" sz="63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鯨是海洋中的哺乳動物，用肺呼吸，目前形體最大的藍鯨是地球上最大的動物</a:t>
            </a:r>
            <a:endParaRPr b="0" lang="en-US" sz="4200" spc="-1" strike="noStrike">
              <a:solidFill>
                <a:srgbClr val="ffffff"/>
              </a:solidFill>
              <a:latin typeface="Tahoma"/>
            </a:endParaRPr>
          </a:p>
          <a:p>
            <a:pPr marL="343080" indent="-343080">
              <a:lnSpc>
                <a:spcPct val="90000"/>
              </a:lnSpc>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若以腦占體重的百分比來判斷動物的聰明程度，則海豚僅次于人，猴子名列第三 </a:t>
            </a:r>
            <a:endParaRPr b="0" lang="en-US" sz="4200" spc="-1" strike="noStrike">
              <a:solidFill>
                <a:srgbClr val="ffffff"/>
              </a:solidFill>
              <a:latin typeface="Tahoma"/>
            </a:endParaRPr>
          </a:p>
          <a:p>
            <a:pPr marL="3430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ff"/>
                </a:solidFill>
                <a:latin typeface="Tahoma"/>
              </a:rPr>
              <a:t>海豚與人類</a:t>
            </a:r>
            <a:endParaRPr b="0" lang="en-US" sz="63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海豚個性溫和好玩，常推動海面的漂浮物體游戲，因此常有海豚救人的故事發生</a:t>
            </a:r>
            <a:endParaRPr b="0" lang="en-US" sz="4200" spc="-1" strike="noStrike">
              <a:solidFill>
                <a:srgbClr val="ffffff"/>
              </a:solidFill>
              <a:latin typeface="Tahoma"/>
            </a:endParaRPr>
          </a:p>
          <a:p>
            <a:pPr marL="343080" indent="-343080">
              <a:lnSpc>
                <a:spcPct val="90000"/>
              </a:lnSpc>
              <a:spcBef>
                <a:spcPts val="26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ff"/>
                </a:solidFill>
                <a:latin typeface="Tahoma"/>
              </a:rPr>
              <a:t>海豚能接受人類的訓練，從事表演或成為人類的助手如潛水打撈沉入海底中的物品或傳遞訊息</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9T06:42:48Z</dcterms:created>
  <dc:creator>黛琳</dc:creator>
  <dc:description/>
  <dc:language>en-US</dc:language>
  <cp:lastModifiedBy>SuperXP</cp:lastModifiedBy>
  <dcterms:modified xsi:type="dcterms:W3CDTF">2006-07-27T01:53:45Z</dcterms:modified>
  <cp:revision>18</cp:revision>
  <dc:subject/>
  <dc:title>海洋中的</dc:title>
</cp:coreProperties>
</file>