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62D-FFDE-407D-BEB8-0132167D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A86-3527-4D93-B001-F6C47F66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3C7-F96A-4A64-8F47-68E0CFDE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82D-787D-42DA-BFC1-F49265CD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8A84-ABC9-4D0A-A7D5-5AB63A3A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B80B-6EB4-46FF-A852-75AD4F9E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1427-CEA3-4A7B-9118-E9656ACD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7A2E-8F26-47E2-B8F5-0BC58FF6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EE26-71F9-4AA2-B3F0-3D7B074A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2B8D-BDB0-4F1A-84CB-EE7A6EFE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0427-D403-43B0-8C15-00D5447C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635-AA36-4354-9EB4-147EEC0B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B3E5-F240-44CF-8C0C-02706110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D17A-2758-4228-8000-D3A6AD5F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AC67-8C3E-45D8-B840-B9443FE5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5589-E98D-4FB4-AD39-2EB3D1E4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19DE-1258-4484-9EE9-BE6970C7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52B-C0C7-44BD-BF6C-8894AFDB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858-F36F-4A75-B1B2-B2FD4E81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EFA-F544-4109-A000-D3A4DA24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2A9-1F70-499E-83C4-17D6D40B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56C-3CE6-4919-ADB3-1E2A34B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B5D-C7D5-49B9-B26A-695A318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81C-31F0-47A1-9F23-5C1DDD9D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<Relationship Id="rId34" Type="http://schemas.openxmlformats.org/officeDocument/2006/relationships/slideLayout" Target="../slideLayouts/slideLayout2.xml"/><Relationship Id="rId35" Type="http://schemas.openxmlformats.org/officeDocument/2006/relationships/slideLayout" Target="../slideLayouts/slideLayout3.xml"/><Relationship Id="rId36" Type="http://schemas.openxmlformats.org/officeDocument/2006/relationships/slideLayout" Target="../slideLayouts/slideLayout4.xml"/><Relationship Id="rId37" Type="http://schemas.openxmlformats.org/officeDocument/2006/relationships/slideLayout" Target="../slideLayouts/slideLayout5.xml"/><Relationship Id="rId38" Type="http://schemas.openxmlformats.org/officeDocument/2006/relationships/slideLayout" Target="../slideLayouts/slideLayout6.xml"/><Relationship Id="rId39" Type="http://schemas.openxmlformats.org/officeDocument/2006/relationships/slideLayout" Target="../slideLayouts/slideLayout7.xml"/><Relationship Id="rId40" Type="http://schemas.openxmlformats.org/officeDocument/2006/relationships/slideLayout" Target="../slideLayouts/slideLayout8.xml"/><Relationship Id="rId41" Type="http://schemas.openxmlformats.org/officeDocument/2006/relationships/slideLayout" Target="../slideLayouts/slideLayout9.xml"/><Relationship Id="rId42" Type="http://schemas.openxmlformats.org/officeDocument/2006/relationships/slideLayout" Target="../slideLayouts/slideLayout10.xml"/><Relationship Id="rId43" Type="http://schemas.openxmlformats.org/officeDocument/2006/relationships/slideLayout" Target="../slideLayouts/slideLayout11.xml"/><Relationship Id="rId4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131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140E-1547-4EB3-8387-45BD33E66D69}" type="slidenum">
              <a:rPr b="0" lang="zh-TW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3"/>
    <p:sldLayoutId id="2147483650" r:id="rId34"/>
    <p:sldLayoutId id="2147483651" r:id="rId35"/>
    <p:sldLayoutId id="2147483652" r:id="rId36"/>
    <p:sldLayoutId id="2147483653" r:id="rId37"/>
    <p:sldLayoutId id="2147483654" r:id="rId38"/>
    <p:sldLayoutId id="2147483655" r:id="rId39"/>
    <p:sldLayoutId id="2147483656" r:id="rId40"/>
    <p:sldLayoutId id="2147483657" r:id="rId41"/>
    <p:sldLayoutId id="2147483658" r:id="rId42"/>
    <p:sldLayoutId id="2147483659" r:id="rId43"/>
    <p:sldLayoutId id="2147483660" r:id="rId4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FDAF-517D-4D3F-9AD1-402745E3C3E2}" type="slidenum">
              <a:rPr b="0" lang="zh-TW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7d47d"/>
                </a:solidFill>
                <a:latin typeface="Arial"/>
                <a:ea typeface="華康儷粗圓"/>
              </a:rPr>
              <a:t>我最喜歡的新詩作家及作品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1268280"/>
            <a:ext cx="62784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f1311"/>
                </a:solidFill>
                <a:latin typeface="Arial"/>
                <a:ea typeface="華康粗圓體"/>
              </a:rPr>
              <a:t>余光中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f1311"/>
                </a:solidFill>
                <a:latin typeface="Arial"/>
                <a:ea typeface="華康粗圓體"/>
              </a:rPr>
              <a:t>鄉愁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f1311"/>
                </a:solidFill>
                <a:latin typeface="Arial"/>
                <a:ea typeface="華康粗圓體"/>
              </a:rPr>
              <a:t>五陵少年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f1311"/>
                </a:solidFill>
                <a:latin typeface="Arial"/>
                <a:ea typeface="華康粗圓體"/>
              </a:rPr>
              <a:t>楊喚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f1311"/>
                </a:solidFill>
                <a:latin typeface="Arial"/>
                <a:ea typeface="華康粗圓體"/>
              </a:rPr>
              <a:t>夏夜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f1311"/>
                </a:solidFill>
                <a:latin typeface="Arial"/>
                <a:ea typeface="華康粗圓體"/>
              </a:rPr>
              <a:t>徐志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f1311"/>
                </a:solidFill>
                <a:latin typeface="Arial"/>
                <a:ea typeface="華康粗圓體"/>
              </a:rPr>
              <a:t>再別康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34:50Z</dcterms:created>
  <dc:creator>SuperXP</dc:creator>
  <dc:description/>
  <dc:language>en-US</dc:language>
  <cp:lastModifiedBy>SuperXP</cp:lastModifiedBy>
  <dcterms:modified xsi:type="dcterms:W3CDTF">2006-07-27T01:45:20Z</dcterms:modified>
  <cp:revision>4</cp:revision>
  <dc:subject/>
  <dc:title>我最喜歡的新詩作家及作品</dc:title>
</cp:coreProperties>
</file>