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259-47F5-496D-BAE0-ED190F08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005-2FB5-4C02-A319-6022AEC3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027-D571-48A5-85EC-E77C707A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7E5-88A0-4D66-88A0-4A520EAF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FBE-F61B-4A57-93EC-16238961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F7A-7A34-4382-B0E0-415E6172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E53-B423-4DFB-A552-55ED4629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68-7B74-4F6D-B66C-BFD0D3F5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BB2-9EE4-4F44-B821-B7AC0D4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7EA-AA58-4F6E-AD0B-1149766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936-F24C-46DC-B1DD-696EF64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BC4-48D7-45FC-91DC-D821892B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F246-6A1E-4B4A-8D56-B756920A9F1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700" spc="-1" strike="noStrike">
                <a:solidFill>
                  <a:srgbClr val="005000"/>
                </a:solidFill>
                <a:latin typeface="Arial"/>
                <a:ea typeface="華康隸書體W5"/>
              </a:rPr>
              <a:t>二年三班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700" spc="-1" strike="noStrike">
                <a:solidFill>
                  <a:srgbClr val="005000"/>
                </a:solidFill>
                <a:latin typeface="Arial"/>
                <a:ea typeface="華康隸書體W5"/>
              </a:rPr>
              <a:t>林良仁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0560" y="1341360"/>
            <a:ext cx="5761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華康瘦金體"/>
              </a:rPr>
              <a:t>古詩欣賞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華康瘦金體"/>
              <a:ea typeface="華康瘦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出塞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秦時明月漢時關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萬里長征人未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但使龍城飛將在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教胡馬度陰山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王昌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古詩欣賞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出塞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明月高掛天空，照映古老的城塞，出征的勇士們不知何時才能回來。要是漢朝的飛將軍李廣仍鎮守龍城，必可扺擋胡虜於陰山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烏衣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朱雀橋邊野草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烏衣巷口夕陽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舊時王謝堂前燕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飛入尋常百姓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劉禹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古詩欣賞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烏衣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朱雀橋與烏衣巷為舊時王導、謝安家族居住地，繁華富貴盛名於當時。而唐朝詩人王禹錫寫這首詩時，兩大家族早已衰亡，只餘淒涼景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37:38Z</dcterms:created>
  <dc:creator>SuperXP</dc:creator>
  <dc:description/>
  <dc:language>en-US</dc:language>
  <cp:lastModifiedBy>sea</cp:lastModifiedBy>
  <dcterms:modified xsi:type="dcterms:W3CDTF">2006-10-16T08:33:48Z</dcterms:modified>
  <cp:revision>11</cp:revision>
  <dc:subject/>
  <dc:title>古詩欣賞</dc:title>
</cp:coreProperties>
</file>