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92D-F288-4319-B17F-780D3804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601-6D46-41EB-993D-11CA5CE4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892-9DEE-46A1-92C2-BC32B83C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283-1710-4D02-9032-13B975F5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4525-F76C-4905-AF90-C2D4CBF0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F586-8843-4E9C-B6FB-0CC4D0B4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208E-E310-4819-9BE0-FA60E91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D76-79A7-466F-9AC6-83A51784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10F5-E098-4C4B-9C16-0B0799B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B7C0-CC01-429D-8826-C0E46C8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156-172D-4D66-AE21-D956881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D86-344D-4140-B022-77124E6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7662-567F-49CA-9E03-6145B27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8FEF-5BDB-4ACB-934D-F60A111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6FD2-AC32-46E4-8AD4-C75EF01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BD86-6711-4B23-888D-9FE493F3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E086-28F4-4028-839A-BD560DDA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D54-65A9-400E-A20B-791C0064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566-9797-4DC0-9D6A-9B4743A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060-0479-49C5-8FA9-9B7931D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549-48B8-4D66-AE3F-E08D4F88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355-0FE6-4B5D-AD90-572B7013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D29-48C7-439F-A56C-6D9B457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1C2-928C-41F5-A731-F17E119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BD5-09CC-4AF6-B09E-C11E5F7ABB3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5CC5-B869-440B-91DF-E818BF92582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3640" y="5157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圖書館書籍借閱統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借閱書籍英雄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26920" y="1916280"/>
            <a:ext cx="554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國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游純慧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5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國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林昌盛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4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徐玉真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4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廣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沈芳儀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2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倪品山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0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賴書敏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0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李千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9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資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潘絮瑩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8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室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張德煌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56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廣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駱玉琴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5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借閱書籍排行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26920" y="1916280"/>
            <a:ext cx="554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達文西密碼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120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佐賀的超級阿嬤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046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追風箏的孩子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89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世界是平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88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作最好的自己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5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公開我的英文單字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50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想吃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美食報告書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17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有一天啊寶寶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85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記憶力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1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時間管理高手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0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各科借閱總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各班借閱統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6:41:53Z</dcterms:created>
  <dc:creator>user</dc:creator>
  <dc:description/>
  <dc:language>en-US</dc:language>
  <cp:lastModifiedBy>sea</cp:lastModifiedBy>
  <dcterms:modified xsi:type="dcterms:W3CDTF">2006-08-09T08:28:51Z</dcterms:modified>
  <cp:revision>10</cp:revision>
  <dc:subject/>
  <dc:title>圖書館書籍借閱統計</dc:title>
</cp:coreProperties>
</file>