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616A-7E9F-479A-B26C-88F68DAD9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87280" y="2743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87280" y="1600200"/>
            <a:ext cx="569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87280" y="3964320"/>
            <a:ext cx="569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55EE-37D8-45D9-9D44-4B6A9DA1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87280" y="2743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87280" y="1600200"/>
            <a:ext cx="278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07600" y="1600200"/>
            <a:ext cx="278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87280" y="3964320"/>
            <a:ext cx="278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07600" y="3964320"/>
            <a:ext cx="278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1154-4A2B-4511-972C-836D648F2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87280" y="2743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87280" y="1600200"/>
            <a:ext cx="183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14360" y="1600200"/>
            <a:ext cx="183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41440" y="1600200"/>
            <a:ext cx="183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87280" y="3964320"/>
            <a:ext cx="183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914360" y="3964320"/>
            <a:ext cx="183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41440" y="3964320"/>
            <a:ext cx="183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342E-D997-4521-8130-F1F16845B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4663-E608-4DD1-992D-A8D5B08F0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87280" y="2743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987280" y="160020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147C-67D0-475D-B3DA-653459DD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87280" y="2743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987280" y="160020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D309-9229-42B8-8D9C-3FB2125C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87280" y="2743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7280" y="1600200"/>
            <a:ext cx="278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07600" y="1600200"/>
            <a:ext cx="278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72B2-415C-49B2-BFEC-1F73AE2F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87280" y="2743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61FB-6D7E-46A3-9923-512F3FB5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987280" y="274320"/>
            <a:ext cx="569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BCF3-7B6A-4BAF-A8B9-57DD6AA3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87280" y="2743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987280" y="1600200"/>
            <a:ext cx="278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07600" y="1600200"/>
            <a:ext cx="278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987280" y="3964320"/>
            <a:ext cx="278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DEA2-ADFA-4ABA-8ECE-7312A9D9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87280" y="2743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87280" y="160020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E8A4-7ABD-48EB-B7B1-27AF1AAA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87280" y="2743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987280" y="1600200"/>
            <a:ext cx="278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07600" y="1600200"/>
            <a:ext cx="278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07600" y="3964320"/>
            <a:ext cx="278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BB31-D6E8-4E1C-8F05-5E9F7777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987280" y="2743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987280" y="1600200"/>
            <a:ext cx="278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07600" y="1600200"/>
            <a:ext cx="278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987280" y="3964320"/>
            <a:ext cx="569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2476-EE3C-4E83-A278-1CB5EB0E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87280" y="2743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87280" y="1600200"/>
            <a:ext cx="569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87280" y="3964320"/>
            <a:ext cx="569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77F7-6C27-4E1F-9E55-C1D5E257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87280" y="2743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87280" y="1600200"/>
            <a:ext cx="278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07600" y="1600200"/>
            <a:ext cx="278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987280" y="3964320"/>
            <a:ext cx="278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07600" y="3964320"/>
            <a:ext cx="278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350F-9FBE-479C-921D-BE0B7F6E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87280" y="2743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987280" y="1600200"/>
            <a:ext cx="183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4360" y="1600200"/>
            <a:ext cx="183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41440" y="1600200"/>
            <a:ext cx="183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987280" y="3964320"/>
            <a:ext cx="183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914360" y="3964320"/>
            <a:ext cx="183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41440" y="3964320"/>
            <a:ext cx="183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AA68-5E47-493B-85D9-8541DA7D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87280" y="2743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87280" y="160020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45E3-A29E-405C-8196-5399633C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87280" y="2743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87280" y="1600200"/>
            <a:ext cx="278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07600" y="1600200"/>
            <a:ext cx="278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9EBC-A113-486B-B76E-D252076F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87280" y="2743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4309-EBA0-40FA-B409-B59BF086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87280" y="274320"/>
            <a:ext cx="569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509A-C54B-43D5-A352-E1D03BA7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87280" y="2743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87280" y="1600200"/>
            <a:ext cx="278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07600" y="1600200"/>
            <a:ext cx="278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87280" y="3964320"/>
            <a:ext cx="278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EA4E-83AF-488A-A6BA-9E4375B6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87280" y="2743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87280" y="1600200"/>
            <a:ext cx="278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07600" y="1600200"/>
            <a:ext cx="278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07600" y="3964320"/>
            <a:ext cx="278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611A-4DC4-4B15-B84F-D9B60C09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87280" y="2743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87280" y="1600200"/>
            <a:ext cx="278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07600" y="1600200"/>
            <a:ext cx="278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87280" y="3964320"/>
            <a:ext cx="569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610C-4AE7-4AD8-A8A5-B4BC25A6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87280" y="2743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987280" y="160020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E510-BAB4-42BE-871F-55DF34C059A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7417080" cy="1467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eaeaea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708B-D6E6-4208-8F98-9F12FC0F9CA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tmonth.org.tw/" TargetMode="External"/><Relationship Id="rId2" Type="http://schemas.openxmlformats.org/officeDocument/2006/relationships/hyperlink" Target="http://www.school.edu.tw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626920" y="3715920"/>
            <a:ext cx="392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校外教學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826560" y="2349000"/>
            <a:ext cx="7417080" cy="1467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eaeaea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333399"/>
                </a:solidFill>
                <a:latin typeface="Arial"/>
              </a:rPr>
              <a:t>明星高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87280" y="2743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活動說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87280" y="160020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時間：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6/6(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五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) 14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00-17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地點：資訊展會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參加人員： 資處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全體教師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全體學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87280" y="2743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活動行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987280" y="160020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操場集合出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負責人：學務處 李組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00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展場參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負責人：各班導師、班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集合上車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負責人：各班導師、班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返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負責人：學務處 李組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87280" y="2743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注意事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87280" y="160020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本活動視為正式課程，因故無法參加的同學，請依規定辦理請假事宜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請上網查詢資訊展的展出主題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參觀展覽後一週內繳交指定作業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87280" y="2743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相關訊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987280" y="160020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資訊月網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tmonth.org.t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校外教學網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chool.edu.tw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活動負責人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學務處 李組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電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:275489221#2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Email:t211@mail.school.edu.t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3T02:48:54Z</dcterms:created>
  <dc:creator>user</dc:creator>
  <dc:description/>
  <dc:language>en-US</dc:language>
  <cp:lastModifiedBy>user</cp:lastModifiedBy>
  <dcterms:modified xsi:type="dcterms:W3CDTF">2006-06-27T09:41:31Z</dcterms:modified>
  <cp:revision>9</cp:revision>
  <dc:subject/>
  <dc:title>明星高職</dc:title>
</cp:coreProperties>
</file>