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7CF-00ED-4381-BF88-E9C0546E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630-690C-4C8B-919F-0936CADE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3D1-BD7B-4CC1-B85C-DF502615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82E-1532-4397-8702-EDA1604C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720-0449-476F-82E3-24CC1C8D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30D-1EF6-41F6-905E-975636FB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FB0-53BF-4104-BA22-C7E8DCEA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91B-2157-45F5-85E6-4E515E27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F55-27C5-4BCA-883E-1AC73882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928-DD3F-41AA-9634-3BBD6D78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871-38DF-418C-8753-A371DF9D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D43-5A7C-430A-84E3-1C5CE0D3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E69E-A931-48F6-AFF1-B85F7DCF7D5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646000"/>
            <a:ext cx="705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333399"/>
                </a:solidFill>
                <a:latin typeface="Arial"/>
              </a:rPr>
              <a:t>參觀賴雯玲女士畫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39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班級：資二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姓名：曾世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賴雯玲女士簡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年參加大道書畫學會國際交流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年應邀參加澳門國際書畫藝術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日本東京都美術館際展秀作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年中國北京文化部「第一屆 “愛我中華” 中國畫、油畫大展」入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獲中國文聯牡丹書畫藝術委員會「中國城市市花書畫藝術大展」入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參加大道書畫學會國際書畫交流大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賴雯玲女士作品之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29720" y="2276640"/>
            <a:ext cx="60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行書體(P)"/>
                <a:ea typeface="華康行書體(P)"/>
              </a:rPr>
              <a:t>楓林飛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5327640" cy="267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賴雯玲女士作品之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740720" y="3068640"/>
            <a:ext cx="67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行書體(P)"/>
                <a:ea typeface="華康行書體(P)"/>
              </a:rPr>
              <a:t>我家後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63720" y="765000"/>
            <a:ext cx="483264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賴雯玲女士作品之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40720" y="3068640"/>
            <a:ext cx="67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行書體(P)"/>
                <a:ea typeface="華康行書體(P)"/>
              </a:rPr>
              <a:t>秋意正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4896000" cy="4670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賴雯玲女士作品之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0080" y="4076640"/>
            <a:ext cx="6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行書體(P)"/>
                <a:ea typeface="華康行書體(P)"/>
              </a:rPr>
              <a:t>水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2514600" cy="5164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畫廊網站連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市立美術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長流畫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南畫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海棠藝術網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畫廊導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新竹師院美勞教師進修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臺灣網路畫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0:16:54Z</dcterms:created>
  <dc:creator>黛琳</dc:creator>
  <dc:description/>
  <dc:language>en-US</dc:language>
  <cp:lastModifiedBy>sea</cp:lastModifiedBy>
  <dcterms:modified xsi:type="dcterms:W3CDTF">2006-07-29T07:33:59Z</dcterms:modified>
  <cp:revision>35</cp:revision>
  <dc:subject/>
  <dc:title>參觀賴雯玲女士畫展</dc:title>
</cp:coreProperties>
</file>