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8E0-CC69-4F9D-BC64-7CD1097E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6337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34920" y="3858480"/>
            <a:ext cx="6337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E169-1A8C-4A99-861A-8AB37485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34920" y="385848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2480" y="385848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83E-4DD5-443D-9BB3-A554822D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7280" y="182844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82844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34920" y="385848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7280" y="385848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85848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CF5-2E82-4D61-A602-06624611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B45F-2F00-45AE-9FED-02B5B095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34920" y="1828440"/>
            <a:ext cx="633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46DA-436A-47A2-BE0B-A45731D5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633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F310-69C2-42E3-9A90-1CACC6E0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8723-CCF1-4906-A2CA-258BE965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F3B4-3DB4-4AB5-92B3-FB9FDA93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00000" y="642960"/>
            <a:ext cx="7632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6B55-5735-4B3E-A2AE-26CAFDFE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34920" y="385848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3FC6-011D-473B-A11E-F3C37F74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34920" y="1828440"/>
            <a:ext cx="633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7CD-887F-46FD-B631-4238F243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2480" y="385848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26E8-6959-49AF-9F1A-D26A159F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34920" y="3858480"/>
            <a:ext cx="6337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A505-E76A-43B7-AD13-B9D64EB5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6337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34920" y="3858480"/>
            <a:ext cx="6337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8ADA-D96F-4FB2-819B-42004071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34920" y="385848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2480" y="385848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31DA-F458-49A4-BAD7-31E626D0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7280" y="182844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0000" y="182844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34920" y="385848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7280" y="385848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0000" y="385848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EF6F-E16E-433D-9CCF-EF6F4AE8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633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887B-7F27-48D6-AAD6-7B9671F7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AC1-5332-45CB-A2EE-ED57B94B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A54-F15A-4D0B-A2C2-1A1E3E0F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642960"/>
            <a:ext cx="7632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0E5-FC7C-47D3-93E7-BEFFEF05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34920" y="385848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712-BCB7-44CD-AE4C-BF4DE264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2480" y="385848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B12-E1CC-43B5-85B0-D8219F22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34920" y="3858480"/>
            <a:ext cx="6337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C41-6394-4B76-B75F-D30C0231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cc"/>
                </a:solidFill>
                <a:latin typeface="華康中圓體"/>
              </a:rPr>
              <a:t>Click to edit the title text format</a:t>
            </a: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34920" y="1828440"/>
            <a:ext cx="633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27920" indent="-28008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119960" indent="-22392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568160" indent="-22392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2016000" indent="-22392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8176-03BB-4C6A-B525-47BB04AE4B9F}" type="slidenum">
              <a:rPr b="0" lang="zh-TW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673360"/>
            <a:ext cx="588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9900cc"/>
                </a:solidFill>
                <a:latin typeface="華康新特明體"/>
              </a:rPr>
              <a:t>Click to edit the title text format</a:t>
            </a:r>
            <a:endParaRPr b="1" lang="en-US" sz="7800" spc="-1" strike="noStrike">
              <a:solidFill>
                <a:srgbClr val="9900cc"/>
              </a:solidFill>
              <a:latin typeface="華康新特明體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75BA-B44F-41D2-905A-4A2F80F1FA12}" type="slidenum">
              <a:rPr b="0" lang="zh-TW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lvl="2" marL="914400" algn="ctr">
              <a:spcBef>
                <a:spcPts val="499"/>
              </a:spcBef>
              <a:buClr>
                <a:srgbClr val="79551b"/>
              </a:buClr>
              <a:buFont typeface="Palatino Linotyp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371600" algn="ctr">
              <a:spcBef>
                <a:spcPts val="451"/>
              </a:spcBef>
              <a:buClr>
                <a:srgbClr val="79551b"/>
              </a:buClr>
              <a:buFont typeface="Palatino Linotyp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28800" algn="ctr">
              <a:spcBef>
                <a:spcPts val="400"/>
              </a:spcBef>
              <a:buClr>
                <a:srgbClr val="79551b"/>
              </a:buClr>
              <a:buFont typeface="Palatino Linotyp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9.jpeg"/><Relationship Id="rId4" Type="http://schemas.openxmlformats.org/officeDocument/2006/relationships/image" Target="../media/image1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692360" y="477216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6600"/>
                </a:solidFill>
                <a:latin typeface="華康儷細黑"/>
                <a:ea typeface="華康儷細黑"/>
              </a:rPr>
              <a:t>林憶如率團 製作</a:t>
            </a:r>
            <a:endParaRPr b="0" lang="en-US" sz="3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1270080"/>
            <a:ext cx="72169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華康徽宗宮體W5"/>
              </a:rPr>
              <a:t>三年愛班畢旅記趣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華康徽宗宮體W5"/>
              <a:ea typeface="華康徽宗宮體W5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9900cc"/>
                </a:solidFill>
                <a:latin typeface="華康中圓體"/>
              </a:rPr>
              <a:t>精彩片段回憶錄</a:t>
            </a: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9900cc"/>
                </a:solidFill>
                <a:latin typeface="華康中圓體"/>
              </a:rPr>
              <a:t>美麗景點全收錄</a:t>
            </a: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18000" y="2743200"/>
            <a:ext cx="1896840" cy="3058920"/>
            <a:chOff x="4518000" y="2743200"/>
            <a:chExt cx="1896840" cy="3058920"/>
          </a:xfrm>
        </p:grpSpPr>
        <p:sp>
          <p:nvSpPr>
            <p:cNvPr id="87" name=""/>
            <p:cNvSpPr/>
            <p:nvPr/>
          </p:nvSpPr>
          <p:spPr>
            <a:xfrm>
              <a:off x="4518000" y="2743200"/>
              <a:ext cx="1896840" cy="2801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18000" y="5558760"/>
              <a:ext cx="1896840" cy="2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cc"/>
                  </a:solidFill>
                  <a:latin typeface="Arial"/>
                </a:rPr>
                <a:t>長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665760" y="2743200"/>
            <a:ext cx="1882440" cy="3061800"/>
            <a:chOff x="6665760" y="2743200"/>
            <a:chExt cx="1882440" cy="3061800"/>
          </a:xfrm>
        </p:grpSpPr>
        <p:sp>
          <p:nvSpPr>
            <p:cNvPr id="90" name=""/>
            <p:cNvSpPr/>
            <p:nvPr/>
          </p:nvSpPr>
          <p:spPr>
            <a:xfrm>
              <a:off x="6665760" y="2743200"/>
              <a:ext cx="1882440" cy="2804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65760" y="5561280"/>
              <a:ext cx="188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cc"/>
                  </a:solidFill>
                  <a:latin typeface="Arial"/>
                </a:rPr>
                <a:t>人間仙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39640" y="2743200"/>
            <a:ext cx="3728880" cy="3058920"/>
            <a:chOff x="539640" y="2743200"/>
            <a:chExt cx="3728880" cy="3058920"/>
          </a:xfrm>
        </p:grpSpPr>
        <p:sp>
          <p:nvSpPr>
            <p:cNvPr id="93" name=""/>
            <p:cNvSpPr/>
            <p:nvPr/>
          </p:nvSpPr>
          <p:spPr>
            <a:xfrm>
              <a:off x="539640" y="2743200"/>
              <a:ext cx="3728880" cy="2801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9640" y="5558760"/>
              <a:ext cx="3728880" cy="2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cc"/>
                  </a:solidFill>
                  <a:latin typeface="Arial"/>
                </a:rPr>
                <a:t>活動中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9900cc"/>
                </a:solidFill>
                <a:latin typeface="華康中圓體"/>
              </a:rPr>
              <a:t>記憶中的墾丁</a:t>
            </a: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973920" y="1773360"/>
            <a:ext cx="1485720" cy="2157120"/>
            <a:chOff x="6973920" y="1773360"/>
            <a:chExt cx="1485720" cy="2157120"/>
          </a:xfrm>
        </p:grpSpPr>
        <p:sp>
          <p:nvSpPr>
            <p:cNvPr id="97" name=""/>
            <p:cNvSpPr/>
            <p:nvPr/>
          </p:nvSpPr>
          <p:spPr>
            <a:xfrm>
              <a:off x="6973920" y="1773360"/>
              <a:ext cx="1485720" cy="19756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73920" y="3758760"/>
              <a:ext cx="14857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cc"/>
                  </a:solidFill>
                  <a:latin typeface="Arial"/>
                </a:rPr>
                <a:t>藍天白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889440" y="4292640"/>
            <a:ext cx="2630520" cy="2157120"/>
            <a:chOff x="3889440" y="4292640"/>
            <a:chExt cx="2630520" cy="2157120"/>
          </a:xfrm>
        </p:grpSpPr>
        <p:sp>
          <p:nvSpPr>
            <p:cNvPr id="100" name=""/>
            <p:cNvSpPr/>
            <p:nvPr/>
          </p:nvSpPr>
          <p:spPr>
            <a:xfrm>
              <a:off x="3889440" y="4292640"/>
              <a:ext cx="2630520" cy="1976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89440" y="6278040"/>
              <a:ext cx="26305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cc"/>
                  </a:solidFill>
                  <a:latin typeface="Arial"/>
                </a:rPr>
                <a:t>永遠的好朋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804960" y="1773360"/>
            <a:ext cx="2630520" cy="2156760"/>
            <a:chOff x="804960" y="1773360"/>
            <a:chExt cx="2630520" cy="2156760"/>
          </a:xfrm>
        </p:grpSpPr>
        <p:sp>
          <p:nvSpPr>
            <p:cNvPr id="103" name=""/>
            <p:cNvSpPr/>
            <p:nvPr/>
          </p:nvSpPr>
          <p:spPr>
            <a:xfrm>
              <a:off x="804960" y="1773360"/>
              <a:ext cx="2630520" cy="19756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4960" y="3758400"/>
              <a:ext cx="26305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cc"/>
                  </a:solidFill>
                  <a:latin typeface="Arial"/>
                </a:rPr>
                <a:t>藍天白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973920" y="4290840"/>
            <a:ext cx="1485720" cy="2158920"/>
            <a:chOff x="6973920" y="4290840"/>
            <a:chExt cx="1485720" cy="2158920"/>
          </a:xfrm>
        </p:grpSpPr>
        <p:sp>
          <p:nvSpPr>
            <p:cNvPr id="106" name=""/>
            <p:cNvSpPr/>
            <p:nvPr/>
          </p:nvSpPr>
          <p:spPr>
            <a:xfrm>
              <a:off x="6973920" y="4290840"/>
              <a:ext cx="1485720" cy="19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73920" y="6278040"/>
              <a:ext cx="14857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cc"/>
                  </a:solidFill>
                  <a:latin typeface="Arial"/>
                </a:rPr>
                <a:t>大戶人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889440" y="1773360"/>
            <a:ext cx="2630520" cy="2156760"/>
            <a:chOff x="3889440" y="1773360"/>
            <a:chExt cx="2630520" cy="2156760"/>
          </a:xfrm>
        </p:grpSpPr>
        <p:sp>
          <p:nvSpPr>
            <p:cNvPr id="109" name=""/>
            <p:cNvSpPr/>
            <p:nvPr/>
          </p:nvSpPr>
          <p:spPr>
            <a:xfrm>
              <a:off x="3889440" y="1773360"/>
              <a:ext cx="2630520" cy="19756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9440" y="3758400"/>
              <a:ext cx="26305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cc"/>
                  </a:solidFill>
                  <a:latin typeface="Arial"/>
                </a:rPr>
                <a:t>西廂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04960" y="4292640"/>
            <a:ext cx="2630520" cy="2157120"/>
            <a:chOff x="804960" y="4292640"/>
            <a:chExt cx="2630520" cy="2157120"/>
          </a:xfrm>
        </p:grpSpPr>
        <p:sp>
          <p:nvSpPr>
            <p:cNvPr id="112" name=""/>
            <p:cNvSpPr/>
            <p:nvPr/>
          </p:nvSpPr>
          <p:spPr>
            <a:xfrm>
              <a:off x="804960" y="4292640"/>
              <a:ext cx="2630520" cy="19760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4960" y="6278040"/>
              <a:ext cx="26305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cc"/>
                  </a:solidFill>
                  <a:latin typeface="Arial"/>
                </a:rPr>
                <a:t>地平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5000" spc="-1" strike="noStrike">
              <a:solidFill>
                <a:srgbClr val="9900cc"/>
              </a:solidFill>
              <a:latin typeface="華康中圓體"/>
              <a:ea typeface="新細明體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50880" y="457200"/>
            <a:ext cx="3498840" cy="2870280"/>
            <a:chOff x="650880" y="457200"/>
            <a:chExt cx="3498840" cy="2870280"/>
          </a:xfrm>
        </p:grpSpPr>
        <p:sp>
          <p:nvSpPr>
            <p:cNvPr id="116" name=""/>
            <p:cNvSpPr/>
            <p:nvPr/>
          </p:nvSpPr>
          <p:spPr>
            <a:xfrm>
              <a:off x="650880" y="457200"/>
              <a:ext cx="3498840" cy="2629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0880" y="3098880"/>
              <a:ext cx="3498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2002_0422_185047A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94280" y="457200"/>
            <a:ext cx="3498840" cy="2870280"/>
            <a:chOff x="4994280" y="457200"/>
            <a:chExt cx="3498840" cy="2870280"/>
          </a:xfrm>
        </p:grpSpPr>
        <p:sp>
          <p:nvSpPr>
            <p:cNvPr id="119" name=""/>
            <p:cNvSpPr/>
            <p:nvPr/>
          </p:nvSpPr>
          <p:spPr>
            <a:xfrm>
              <a:off x="4994280" y="457200"/>
              <a:ext cx="3498840" cy="2629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94280" y="3098880"/>
              <a:ext cx="3498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2002_0423_103647A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04640" y="3543480"/>
            <a:ext cx="3991320" cy="2869920"/>
            <a:chOff x="404640" y="3543480"/>
            <a:chExt cx="3991320" cy="2869920"/>
          </a:xfrm>
        </p:grpSpPr>
        <p:sp>
          <p:nvSpPr>
            <p:cNvPr id="122" name=""/>
            <p:cNvSpPr/>
            <p:nvPr/>
          </p:nvSpPr>
          <p:spPr>
            <a:xfrm>
              <a:off x="404640" y="3543480"/>
              <a:ext cx="3991320" cy="2628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4640" y="6184800"/>
              <a:ext cx="3991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A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781520" y="3543480"/>
            <a:ext cx="3924360" cy="2869920"/>
            <a:chOff x="4781520" y="3543480"/>
            <a:chExt cx="3924360" cy="2869920"/>
          </a:xfrm>
        </p:grpSpPr>
        <p:sp>
          <p:nvSpPr>
            <p:cNvPr id="125" name=""/>
            <p:cNvSpPr/>
            <p:nvPr/>
          </p:nvSpPr>
          <p:spPr>
            <a:xfrm>
              <a:off x="4781520" y="3543480"/>
              <a:ext cx="3924360" cy="2628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1520" y="6184800"/>
              <a:ext cx="3924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A1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5000" spc="-1" strike="noStrike">
              <a:solidFill>
                <a:srgbClr val="9900cc"/>
              </a:solidFill>
              <a:latin typeface="華康中圓體"/>
              <a:ea typeface="新細明體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41360" y="457200"/>
            <a:ext cx="3916440" cy="2870280"/>
            <a:chOff x="441360" y="457200"/>
            <a:chExt cx="3916440" cy="2870280"/>
          </a:xfrm>
        </p:grpSpPr>
        <p:sp>
          <p:nvSpPr>
            <p:cNvPr id="129" name=""/>
            <p:cNvSpPr/>
            <p:nvPr/>
          </p:nvSpPr>
          <p:spPr>
            <a:xfrm>
              <a:off x="441360" y="457200"/>
              <a:ext cx="3916440" cy="2629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1360" y="3098880"/>
              <a:ext cx="3916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A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770360" y="457200"/>
            <a:ext cx="3946680" cy="2870280"/>
            <a:chOff x="4770360" y="457200"/>
            <a:chExt cx="3946680" cy="2870280"/>
          </a:xfrm>
        </p:grpSpPr>
        <p:sp>
          <p:nvSpPr>
            <p:cNvPr id="132" name=""/>
            <p:cNvSpPr/>
            <p:nvPr/>
          </p:nvSpPr>
          <p:spPr>
            <a:xfrm>
              <a:off x="4770360" y="457200"/>
              <a:ext cx="3946680" cy="2629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0360" y="3098880"/>
              <a:ext cx="394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B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411200" y="3543480"/>
            <a:ext cx="1976400" cy="2869920"/>
            <a:chOff x="1411200" y="3543480"/>
            <a:chExt cx="1976400" cy="2869920"/>
          </a:xfrm>
        </p:grpSpPr>
        <p:sp>
          <p:nvSpPr>
            <p:cNvPr id="135" name=""/>
            <p:cNvSpPr/>
            <p:nvPr/>
          </p:nvSpPr>
          <p:spPr>
            <a:xfrm>
              <a:off x="1411200" y="3543480"/>
              <a:ext cx="1976400" cy="2628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11200" y="6184800"/>
              <a:ext cx="197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cc"/>
                  </a:solidFill>
                  <a:latin typeface="Arial"/>
                </a:rPr>
                <a:t>風吹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784760" y="3543480"/>
            <a:ext cx="3916440" cy="2869920"/>
            <a:chOff x="4784760" y="3543480"/>
            <a:chExt cx="3916440" cy="2869920"/>
          </a:xfrm>
        </p:grpSpPr>
        <p:sp>
          <p:nvSpPr>
            <p:cNvPr id="138" name=""/>
            <p:cNvSpPr/>
            <p:nvPr/>
          </p:nvSpPr>
          <p:spPr>
            <a:xfrm>
              <a:off x="4784760" y="3543480"/>
              <a:ext cx="3916440" cy="2628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4760" y="6184800"/>
              <a:ext cx="3916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cc"/>
                  </a:solidFill>
                  <a:latin typeface="Arial"/>
                </a:rPr>
                <a:t>海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5000" spc="-1" strike="noStrike">
              <a:solidFill>
                <a:srgbClr val="9900cc"/>
              </a:solidFill>
              <a:latin typeface="華康中圓體"/>
              <a:ea typeface="新細明體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13000" y="457200"/>
            <a:ext cx="1974600" cy="2870280"/>
            <a:chOff x="1413000" y="457200"/>
            <a:chExt cx="1974600" cy="2870280"/>
          </a:xfrm>
        </p:grpSpPr>
        <p:sp>
          <p:nvSpPr>
            <p:cNvPr id="142" name=""/>
            <p:cNvSpPr/>
            <p:nvPr/>
          </p:nvSpPr>
          <p:spPr>
            <a:xfrm>
              <a:off x="1413000" y="457200"/>
              <a:ext cx="1974600" cy="2629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13000" y="3098880"/>
              <a:ext cx="1974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cc"/>
                  </a:solidFill>
                  <a:latin typeface="Arial"/>
                </a:rPr>
                <a:t>大戶人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994280" y="457200"/>
            <a:ext cx="3498840" cy="2870280"/>
            <a:chOff x="4994280" y="457200"/>
            <a:chExt cx="3498840" cy="2870280"/>
          </a:xfrm>
        </p:grpSpPr>
        <p:sp>
          <p:nvSpPr>
            <p:cNvPr id="145" name=""/>
            <p:cNvSpPr/>
            <p:nvPr/>
          </p:nvSpPr>
          <p:spPr>
            <a:xfrm>
              <a:off x="4994280" y="457200"/>
              <a:ext cx="3498840" cy="2629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94280" y="3098880"/>
              <a:ext cx="3498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cc"/>
                  </a:solidFill>
                  <a:latin typeface="Arial"/>
                </a:rPr>
                <a:t>活動中心大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994280" y="3543480"/>
            <a:ext cx="3498840" cy="2869920"/>
            <a:chOff x="4994280" y="3543480"/>
            <a:chExt cx="3498840" cy="2869920"/>
          </a:xfrm>
        </p:grpSpPr>
        <p:sp>
          <p:nvSpPr>
            <p:cNvPr id="148" name=""/>
            <p:cNvSpPr/>
            <p:nvPr/>
          </p:nvSpPr>
          <p:spPr>
            <a:xfrm>
              <a:off x="4994280" y="3543480"/>
              <a:ext cx="3498840" cy="2628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94280" y="6184800"/>
              <a:ext cx="3498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cc"/>
                  </a:solidFill>
                  <a:latin typeface="Arial"/>
                </a:rPr>
                <a:t>西廂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82640" y="3540240"/>
            <a:ext cx="3501720" cy="2872800"/>
            <a:chOff x="782640" y="3540240"/>
            <a:chExt cx="3501720" cy="2872800"/>
          </a:xfrm>
        </p:grpSpPr>
        <p:sp>
          <p:nvSpPr>
            <p:cNvPr id="151" name=""/>
            <p:cNvSpPr/>
            <p:nvPr/>
          </p:nvSpPr>
          <p:spPr>
            <a:xfrm>
              <a:off x="782640" y="3540240"/>
              <a:ext cx="3501720" cy="2631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2640" y="6184440"/>
              <a:ext cx="3501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cc"/>
                  </a:solidFill>
                  <a:latin typeface="Arial"/>
                </a:rPr>
                <a:t>記憶中的小火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2:28:33Z</dcterms:created>
  <dc:creator>黛琳</dc:creator>
  <dc:description/>
  <dc:language>en-US</dc:language>
  <cp:lastModifiedBy>sea</cp:lastModifiedBy>
  <dcterms:modified xsi:type="dcterms:W3CDTF">2006-07-28T07:05:39Z</dcterms:modified>
  <cp:revision>12</cp:revision>
  <dc:subject/>
  <dc:title>三年八班畢業旅行相簿</dc:title>
</cp:coreProperties>
</file>