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58D-0C20-4B3C-A2AD-1EDE0D5C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9688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732-41D8-40C8-B367-576D58E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968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968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774-43A7-42C4-A7E7-D17610F1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902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902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968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968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968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F65-E3DD-47FA-9B65-B324B371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1B6A-4C51-433D-AB46-065A31A2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DCD6-72E6-4C2A-8C55-54B36804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567D-FD7E-4000-932C-32790B48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0C88-5178-4219-9D02-99177FD2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B23C-5A6E-4F95-9003-1CDA959E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68000" y="115560"/>
            <a:ext cx="816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6F69-B864-471B-96D4-9B132B5A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68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51FA-B40C-4278-91B9-8755A0CD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AFF-4682-4F49-9A29-06218CCF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1968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62E2-72F0-4FD7-90F0-CEACD691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688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D75B-FE80-4DE5-B951-444ABC51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688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922E-4865-4563-8CFA-4146BA6E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68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1968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96CE-D279-4140-9791-6DE4F6EE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902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902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68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1968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19688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F375-1411-406D-9143-758500C8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569-141B-4C82-B4F4-CEF452B7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2F6-C988-4387-ACE7-A3A65470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A33-C964-4FE6-BE07-DCDACE17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68000" y="115560"/>
            <a:ext cx="816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063-B766-4C83-B817-34823275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968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D2D-DC06-4D9B-9FF2-882BF7D8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968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B43-E130-456C-9393-66083B12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9028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688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536-EA2C-4E5F-AE7B-7C8BFD9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0520" y="-27000"/>
            <a:ext cx="9164520" cy="141120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39080" y="228600"/>
            <a:ext cx="304920" cy="647712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e3f96"/>
                </a:solidFill>
                <a:latin typeface="新細明體"/>
              </a:rPr>
              <a:t>Click to edit the outline text format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lvl="1" marL="743040" indent="-285840">
              <a:spcBef>
                <a:spcPts val="876"/>
              </a:spcBef>
              <a:buClr>
                <a:srgbClr val="cc3300"/>
              </a:buClr>
              <a:buSzPct val="8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e3f96"/>
                </a:solidFill>
                <a:latin typeface="新細明體"/>
              </a:rPr>
              <a:t>Second Outline Level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lvl="2" marL="1143000" indent="-228600">
              <a:spcBef>
                <a:spcPts val="876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e3f96"/>
                </a:solidFill>
                <a:latin typeface="新細明體"/>
              </a:rPr>
              <a:t>Third Outline Level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lvl="3" marL="1600200" indent="-228600">
              <a:spcBef>
                <a:spcPts val="876"/>
              </a:spcBef>
              <a:buClr>
                <a:srgbClr val="0e3f96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e3f96"/>
                </a:solidFill>
                <a:latin typeface="新細明體"/>
              </a:rPr>
              <a:t>Fourth Outline Level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lvl="4" marL="2057400" indent="-228600">
              <a:spcBef>
                <a:spcPts val="876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e3f96"/>
                </a:solidFill>
                <a:latin typeface="新細明體"/>
              </a:rPr>
              <a:t>Fifth Outline Level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lvl="5" marL="2057400" indent="-228600">
              <a:spcBef>
                <a:spcPts val="876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e3f96"/>
                </a:solidFill>
                <a:latin typeface="新細明體"/>
              </a:rPr>
              <a:t>Sixth Outline Level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lvl="6" marL="2057400" indent="-228600">
              <a:spcBef>
                <a:spcPts val="876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e3f96"/>
                </a:solidFill>
                <a:latin typeface="新細明體"/>
              </a:rPr>
              <a:t>Seventh Outline Level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06fcc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06fcc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06fcc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06fcc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06fcc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4FB2-6F67-4957-8E75-3B916B318D50}" type="slidenum">
              <a:rPr b="0" lang="zh-TW" sz="1400" spc="-1" strike="noStrike">
                <a:solidFill>
                  <a:srgbClr val="306fcc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1133640"/>
            <a:ext cx="9108720" cy="134640"/>
            <a:chOff x="0" y="1133640"/>
            <a:chExt cx="9108720" cy="134640"/>
          </a:xfrm>
        </p:grpSpPr>
        <p:sp>
          <p:nvSpPr>
            <p:cNvPr id="8" name=""/>
            <p:cNvSpPr/>
            <p:nvPr/>
          </p:nvSpPr>
          <p:spPr>
            <a:xfrm>
              <a:off x="0" y="1133640"/>
              <a:ext cx="91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199880"/>
              <a:ext cx="91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8280"/>
              <a:ext cx="91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25a2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341360"/>
            <a:ext cx="1979640" cy="171360"/>
          </a:xfrm>
          <a:prstGeom prst="rect">
            <a:avLst/>
          </a:prstGeom>
          <a:solidFill>
            <a:srgbClr val="25a2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華康儷中宋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36600"/>
            <a:ext cx="9147240" cy="6521400"/>
          </a:xfrm>
          <a:prstGeom prst="rect">
            <a:avLst/>
          </a:prstGeom>
          <a:gradFill rotWithShape="0">
            <a:gsLst>
              <a:gs pos="0">
                <a:srgbClr val="427bcf"/>
              </a:gs>
              <a:gs pos="100000">
                <a:srgbClr val="306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69800"/>
          </a:xfrm>
          <a:prstGeom prst="rect">
            <a:avLst/>
          </a:prstGeom>
          <a:gradFill rotWithShape="0">
            <a:gsLst>
              <a:gs pos="0">
                <a:srgbClr val="306fcc"/>
              </a:gs>
              <a:gs pos="100000">
                <a:srgbClr val="142e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25360" y="591840"/>
            <a:ext cx="8667720" cy="611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19320" y="2133720"/>
            <a:ext cx="7924320" cy="4724280"/>
            <a:chOff x="1219320" y="2133720"/>
            <a:chExt cx="7924320" cy="4724280"/>
          </a:xfrm>
        </p:grpSpPr>
        <p:sp>
          <p:nvSpPr>
            <p:cNvPr id="55" name=""/>
            <p:cNvSpPr/>
            <p:nvPr/>
          </p:nvSpPr>
          <p:spPr>
            <a:xfrm>
              <a:off x="1709640" y="2133720"/>
              <a:ext cx="743400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219320" y="2133720"/>
              <a:ext cx="981000" cy="4723920"/>
              <a:chOff x="1219320" y="2133720"/>
              <a:chExt cx="981000" cy="4723920"/>
            </a:xfrm>
          </p:grpSpPr>
          <p:sp>
            <p:nvSpPr>
              <p:cNvPr id="57" name=""/>
              <p:cNvSpPr/>
              <p:nvPr/>
            </p:nvSpPr>
            <p:spPr>
              <a:xfrm>
                <a:off x="1219320" y="2133720"/>
                <a:ext cx="981000" cy="916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19320" y="2627280"/>
                <a:ext cx="905760" cy="423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533520" y="6553080"/>
            <a:ext cx="861048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2852280"/>
            <a:ext cx="723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cc3300"/>
                </a:solidFill>
                <a:latin typeface="華康新特明體"/>
              </a:rPr>
              <a:t>Click to edit the title text format</a:t>
            </a:r>
            <a:endParaRPr b="0" lang="en-US" sz="11700" spc="-1" strike="noStrike">
              <a:solidFill>
                <a:srgbClr val="cc3300"/>
              </a:solidFill>
              <a:latin typeface="華康新特明體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BDE5-8ACC-4414-8958-378364C0C1CB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87640" y="836640"/>
            <a:ext cx="1514520" cy="100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1514520" cy="100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781440" y="836640"/>
            <a:ext cx="1514520" cy="100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73800" y="836640"/>
            <a:ext cx="1511280" cy="1006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6"/>
          <a:srcRect l="0" t="0" r="0" b="7717"/>
          <a:stretch/>
        </p:blipFill>
        <p:spPr>
          <a:xfrm>
            <a:off x="7164360" y="836640"/>
            <a:ext cx="1525680" cy="100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新細明體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新細明體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3f96"/>
                </a:solidFill>
                <a:latin typeface="新細明體"/>
              </a:rPr>
              <a:t>Second Outline Level</a:t>
            </a:r>
            <a:endParaRPr b="0" lang="en-US" sz="2800" spc="-1" strike="noStrike">
              <a:solidFill>
                <a:srgbClr val="0e3f96"/>
              </a:solidFill>
              <a:latin typeface="新細明體"/>
            </a:endParaRPr>
          </a:p>
          <a:p>
            <a:pPr lvl="2" marL="914400" algn="ctr">
              <a:spcBef>
                <a:spcPts val="601"/>
              </a:spcBef>
              <a:buClr>
                <a:srgbClr val="0e3f9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f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e3f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e3f96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f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e3f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f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e3f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f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e3f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f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4473360"/>
            <a:ext cx="7448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cb6101"/>
                </a:solidFill>
                <a:latin typeface="華康中黑體"/>
                <a:ea typeface="華康中黑體"/>
              </a:rPr>
              <a:t>班 級：二年 </a:t>
            </a:r>
            <a:r>
              <a:rPr b="0" lang="en-US" sz="3900" spc="-1" strike="noStrike">
                <a:solidFill>
                  <a:srgbClr val="cb6101"/>
                </a:solidFill>
                <a:latin typeface="華康中黑體"/>
                <a:ea typeface="華康中黑體"/>
              </a:rPr>
              <a:t>5</a:t>
            </a:r>
            <a:r>
              <a:rPr b="0" lang="zh-TW" sz="3900" spc="-1" strike="noStrike">
                <a:solidFill>
                  <a:srgbClr val="cb6101"/>
                </a:solidFill>
                <a:latin typeface="華康中黑體"/>
                <a:ea typeface="華康中黑體"/>
              </a:rPr>
              <a:t>班</a:t>
            </a:r>
            <a:endParaRPr b="0" lang="en-US" sz="3900" spc="-1" strike="noStrike">
              <a:solidFill>
                <a:srgbClr val="ffffff"/>
              </a:solidFill>
              <a:latin typeface="新細明體"/>
            </a:endParaRPr>
          </a:p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cb6101"/>
                </a:solidFill>
                <a:latin typeface="華康中黑體"/>
                <a:ea typeface="華康中黑體"/>
              </a:rPr>
              <a:t>姓 名：莫 雜 特</a:t>
            </a:r>
            <a:endParaRPr b="0" lang="en-US" sz="39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ffff"/>
                </a:solidFill>
                <a:latin typeface="華康儷中宋"/>
              </a:rPr>
              <a:t>音樂的魔力</a:t>
            </a: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音樂可陶冶性情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音樂可使人放鬆心情    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增加生活中的樂趣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ffff"/>
                </a:solidFill>
                <a:latin typeface="華康儷中宋"/>
              </a:rPr>
              <a:t>樂器的分類</a:t>
            </a: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弦樂器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木管樂器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銅管樂器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鍵盤樂器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節奏樂器（又稱敲擊樂器）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8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e3f96"/>
                </a:solidFill>
                <a:latin typeface="新細明體"/>
              </a:rPr>
              <a:t>有調性樂器</a:t>
            </a:r>
            <a:endParaRPr b="0" lang="en-US" sz="2800" spc="-1" strike="noStrike">
              <a:solidFill>
                <a:srgbClr val="0e3f96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8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e3f96"/>
                </a:solidFill>
                <a:latin typeface="新細明體"/>
              </a:rPr>
              <a:t>無調性樂器</a:t>
            </a:r>
            <a:endParaRPr b="0" lang="en-US" sz="2800" spc="-1" strike="noStrike">
              <a:solidFill>
                <a:srgbClr val="0e3f96"/>
              </a:solidFill>
              <a:latin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ffff"/>
                </a:solidFill>
                <a:latin typeface="華康儷中宋"/>
              </a:rPr>
              <a:t>從大自然中取材</a:t>
            </a: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水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石頭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貝殼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樹葉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81800" y="1600200"/>
            <a:ext cx="2665440" cy="197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08360" y="2894040"/>
            <a:ext cx="2556000" cy="1830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946840" y="4311720"/>
            <a:ext cx="2657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ffff"/>
                </a:solidFill>
                <a:latin typeface="華康儷中宋"/>
              </a:rPr>
              <a:t>從生活環境中取材</a:t>
            </a: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吸管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鍋碗瓢盆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酒瓶蓋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玻璃杯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83120" y="4581360"/>
            <a:ext cx="27212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37080" y="3933720"/>
            <a:ext cx="2558880" cy="18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73840" y="2492280"/>
            <a:ext cx="2630520" cy="180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637080" y="1557360"/>
            <a:ext cx="26128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ffff"/>
                </a:solidFill>
                <a:latin typeface="華康儷中宋"/>
              </a:rPr>
              <a:t>基本樂理</a:t>
            </a:r>
            <a:endParaRPr b="0" lang="en-US" sz="5500" spc="-1" strike="noStrike">
              <a:solidFill>
                <a:srgbClr val="ffffff"/>
              </a:solidFill>
              <a:latin typeface="華康儷中宋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譜表與譜號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音符與休止符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節拍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音程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e3f96"/>
                </a:solidFill>
                <a:latin typeface="新細明體"/>
              </a:rPr>
              <a:t>音階</a:t>
            </a: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e3f96"/>
              </a:solidFill>
              <a:latin typeface="新細明體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33840" y="3273480"/>
            <a:ext cx="4430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3:53:50Z</dcterms:created>
  <dc:creator>sea</dc:creator>
  <dc:description/>
  <cp:keywords/>
  <dc:language>en-US</dc:language>
  <cp:lastModifiedBy>sea</cp:lastModifiedBy>
  <dcterms:modified xsi:type="dcterms:W3CDTF">2006-07-27T06:29:15Z</dcterms:modified>
  <cp:revision>10</cp:revision>
  <dc:subject/>
  <dc:title>按一下以新增標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81028</vt:lpwstr>
  </property>
</Properties>
</file>