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2D2-7544-40F4-A0A0-CAD7E08D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068-BDEF-42E9-B00E-36EDE4C1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483-4A62-4781-8C5D-E0557CE1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B2A-9E50-426F-AB8B-B7D59FA6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C4F-98A4-4DF4-A629-35FC9583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D24-738C-45C2-86FE-D1C25CAA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678-359A-4543-9727-F5D89AEE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ED5-D8B8-44C6-80D6-0C06CBFC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EF3-0C16-4E18-8182-5CFE87FA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C3B2-42A0-47C0-912A-18E8110F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1AC-2361-4B54-B60D-43A455B1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F43-122C-4F0C-8B64-C348A29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ECCC-3340-40A8-BA6B-603DD12E835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25240" y="4005360"/>
            <a:ext cx="4816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年愛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3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曾艾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05080" y="2382840"/>
            <a:ext cx="648000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71785" dir="18900000" blurRad="0" rotWithShape="0">
                    <a:srgbClr val="000099"/>
                  </a:outerShdw>
                </a:effectLst>
                <a:latin typeface="華康談楷體W5"/>
              </a:rPr>
              <a:t>參觀市立美術館</a:t>
            </a:r>
            <a:endParaRPr b="1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71785" dir="18900000" blurRad="0" rotWithShape="0">
                  <a:srgbClr val="000099"/>
                </a:outerShdw>
              </a:effectLst>
              <a:latin typeface="華康談楷體W5"/>
              <a:ea typeface="華康談楷體W5"/>
            </a:endParaRPr>
          </a:p>
        </p:txBody>
      </p:sp>
    </p:spTree>
  </p:cSld>
  <p:transition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2360" y="286920"/>
            <a:ext cx="6840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細圓體"/>
                <a:ea typeface="華康仿宋體W6"/>
              </a:rPr>
              <a:t>美術館簡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地址：北市中山北路三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開放時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週二～週日上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:3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～下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週一休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電話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2)2595-765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2360" y="286920"/>
            <a:ext cx="6840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細圓體"/>
                <a:ea typeface="華康仿宋體W6"/>
              </a:rPr>
              <a:t>畫廊網站連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長流畫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南畫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海棠藝術網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畫廊導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新竹師院美勞教師進修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臺灣網路畫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</cp:lastModifiedBy>
  <dcterms:modified xsi:type="dcterms:W3CDTF">2006-07-27T02:41:06Z</dcterms:modified>
  <cp:revision>43</cp:revision>
  <dc:subject/>
  <dc:title>PowerPoint Presentation</dc:title>
</cp:coreProperties>
</file>