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5451480" y="-3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09204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E172-7993-43EF-AA35-D6CB5EB14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09240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青年活動中心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建築以三合院、四合院為主，還有仿照台灣傳統書院的建築，可說是雕樑畫棟，古色古香，很有特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船帆石是一座隆起的珊瑚礁岩，位於墾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與鵝鑾鼻之間，高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公尺，因形狀像一艘船隻，故而得名。是墾丁地標之一。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09240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恆春舊名琅喬，位在恆春半島最南端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東城外「出火」的景觀，終年不滅，殊為奇觀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F3B-DE27-4058-9704-2A13D868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C93-3420-4AD6-9C0B-6869C39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666-0ADC-406D-BE1E-2083E2A1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647-9053-41FF-8C54-1D9B4038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FB7-5079-48E6-81F4-13BAC42B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781-3F35-483B-9BA1-83E5A9D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DDB-A4C5-42E9-AD57-E626760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A97-9C17-4060-A192-D8AD91A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622D-7801-4D18-A768-D5FF78D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F3F-E7A7-40A4-ACF4-116F5D5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43BB-C654-44B8-AD0E-8992089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394-F2D9-4673-BA4A-E4606F2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C857-024C-4A08-BCC5-774368C3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C49-9706-4925-8CD4-24EA915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A465-55B8-43ED-8788-7BDC35D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2BE-A11D-4849-87A9-8DFC507A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BEF5-13B4-4BD0-8DA1-73B3F7A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47E-DF06-4B8C-A5C8-F84F4AF4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E44-54A3-4F17-BDAA-ECC97D1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F26-ADD3-4E32-A840-B87BDEE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127-52BF-430E-B3FD-5977110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416-E909-469D-AEDA-A746CEE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89E-D0E3-4FCE-A09E-4DB63D8B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381-54C5-4642-8AD6-3DE7993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1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8EA-8511-4C1C-9CE3-A7AC9ABD8A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B380-CEE5-44E6-A5D0-AC6D5B9579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32000" y="1846440"/>
            <a:ext cx="6840360" cy="251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516640"/>
            <a:ext cx="3421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2720" y="1911240"/>
            <a:ext cx="648036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華康儷楷書"/>
              </a:rPr>
              <a:t>墾丁之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華康儷楷書"/>
              <a:ea typeface="華康儷楷書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200640" y="6073560"/>
            <a:ext cx="29815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華康儷楷書"/>
                <a:ea typeface="華康儷楷書"/>
              </a:rPr>
              <a:t>曾艾婉 嘔心企畫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華康儷楷書"/>
                <a:ea typeface="華康儷楷書"/>
              </a:rPr>
              <a:t>林</a:t>
            </a:r>
            <a:r>
              <a:rPr b="0" lang="en-US" sz="2000" spc="-1" strike="noStrike">
                <a:solidFill>
                  <a:srgbClr val="0000cc"/>
                </a:solidFill>
                <a:latin typeface="華康儷楷書"/>
                <a:ea typeface="華康儷楷書"/>
              </a:rPr>
              <a:t>欣詩</a:t>
            </a:r>
            <a:r>
              <a:rPr b="0" lang="en-US" sz="2000" spc="-1" strike="noStrike">
                <a:solidFill>
                  <a:srgbClr val="0000cc"/>
                </a:solidFill>
                <a:latin typeface="華康儷楷書"/>
                <a:ea typeface="華康儷楷書"/>
              </a:rPr>
              <a:t>率團 泣血製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青年活動中心-太原門" descr=""/>
          <p:cNvPicPr/>
          <p:nvPr/>
        </p:nvPicPr>
        <p:blipFill>
          <a:blip r:embed="rId1"/>
          <a:stretch/>
        </p:blipFill>
        <p:spPr>
          <a:xfrm>
            <a:off x="468360" y="1319040"/>
            <a:ext cx="3436920" cy="427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6515280" y="3573360"/>
            <a:ext cx="230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船帆石</a:t>
            </a:r>
            <a:br>
              <a:rPr sz="3000"/>
            </a:b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位於墾丁與鵝鑾鼻之間，高約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50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公尺，因形狀像一艘船隻而得名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船帆石-邊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681440" cy="3165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24360" y="4510080"/>
            <a:ext cx="287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3000"/>
            </a:b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建築以三合院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標楷體"/>
              </a:rPr>
              <a:t>四合院為主，為仿照台灣傳統書院的建築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16000" y="2421000"/>
            <a:ext cx="622764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標楷體"/>
              </a:rPr>
              <a:t>第一天   火車快飛到墾丁＋營火晚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標楷體"/>
              </a:rPr>
              <a:t>第二天   魚兒水中游＋曬月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標楷體"/>
              </a:rPr>
              <a:t>第三天   望海的日子＋壓馬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標楷體"/>
              </a:rPr>
              <a:t>第四天   依依不捨說再見＋溫暖的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Arial"/>
                <a:ea typeface="華康魏碑體"/>
              </a:rPr>
              <a:t>凡走過，必留下足跡…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東門上堡牆" descr=""/>
          <p:cNvPicPr/>
          <p:nvPr/>
        </p:nvPicPr>
        <p:blipFill>
          <a:blip r:embed="rId1"/>
          <a:stretch/>
        </p:blipFill>
        <p:spPr>
          <a:xfrm>
            <a:off x="543708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東門外出火" descr=""/>
          <p:cNvPicPr/>
          <p:nvPr/>
        </p:nvPicPr>
        <p:blipFill>
          <a:blip r:embed="rId2"/>
          <a:stretch/>
        </p:blipFill>
        <p:spPr>
          <a:xfrm>
            <a:off x="5435640" y="3811680"/>
            <a:ext cx="316872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東門2-邊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105080" cy="30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336560"/>
            <a:ext cx="44020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恆春古城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標楷體"/>
              </a:rPr>
              <a:t>恆春于清光緒元年開始建城，如今留下東、西、南、北四座城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7:00:32Z</dcterms:created>
  <dc:creator>黛琳</dc:creator>
  <dc:description/>
  <dc:language>en-US</dc:language>
  <cp:lastModifiedBy>sea</cp:lastModifiedBy>
  <dcterms:modified xsi:type="dcterms:W3CDTF">2006-07-27T03:15:26Z</dcterms:modified>
  <cp:revision>55</cp:revision>
  <dc:subject/>
  <dc:title>墾丁之旅</dc:title>
</cp:coreProperties>
</file>