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1.jpeg" ContentType="image/jpe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740-1367-415F-BBB1-385386BD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4FA-C53E-4DCE-A7F0-AC36E93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135-4A82-42CB-9F66-8EBE3846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F0F-388D-42CC-B7F2-502BC9D8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201-8ECB-4DB9-9608-B3B90FB7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CEC4-5241-43FA-8DB1-402DB83E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F610-99B3-46F3-8ADF-C859F32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617D-4B9B-42B5-A1B1-7A7C423B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17A8-FA5D-4FB3-AC7F-80549E02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A2DE-950D-49A9-A0A4-4C6980C1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25D1-60B7-467C-93F8-36D0FBA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747-81E0-4B47-8894-861DAD33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924F-76F7-4285-AFED-C6EF0C4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77D6-7326-45FA-9B63-A296C5F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FCE9-3131-4E67-A1D3-3D496BE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817E-5E1F-4562-AFDD-3FB7B3BA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5929-8421-48AC-9149-4C0038A3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28D-32DE-41CD-BB86-F490C77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622-3041-4BA4-875E-88ADFC5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270-B9C1-48B0-BB9B-4168AF3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0FC-70B9-4416-A414-1A2226A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4E2-9376-4269-90F7-B73BBF4E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CBE-9257-461F-911E-EE960B7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61F-171B-49A5-A0B0-36A6C31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23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23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231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231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231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F6A7-78DB-4135-BD5E-88DCA4D8D74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216720" cy="6915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78FE-F384-49BC-9E66-2228AB30F01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6375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800" spc="-1" strike="noStrike">
                <a:solidFill>
                  <a:srgbClr val="ffffff"/>
                </a:solidFill>
                <a:latin typeface="華康細圓體"/>
                <a:ea typeface="華康細圓體"/>
              </a:rPr>
              <a:t>海洋公園之旅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26920" y="3644640"/>
            <a:ext cx="7182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月</a:t>
            </a:r>
            <a:r>
              <a:rPr b="0" lang="zh-TW" sz="40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日，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我們來到東海岸的花蓮，準備開始一整天的海洋公園之旅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</a:rPr>
              <a:t>旅遊紀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時間：</a:t>
            </a: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7/7(</a:t>
            </a: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大晴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地點：海洋公園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我們這次以一天的時間玩遍八大主題區，雖然很累，但也很盡興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接著就來看看這次的旅遊紀錄吧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海洋公園吉祥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9280" y="1413000"/>
            <a:ext cx="8748720" cy="3511440"/>
            <a:chOff x="179280" y="1413000"/>
            <a:chExt cx="8748720" cy="35114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79280" y="1413000"/>
              <a:ext cx="4681800" cy="35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88000" y="2035080"/>
              <a:ext cx="4140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在車上遠遠就可以看到的海洋公園招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7840" y="3213000"/>
            <a:ext cx="8518320" cy="3511800"/>
            <a:chOff x="447840" y="3213000"/>
            <a:chExt cx="8518320" cy="35118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4284720" y="3213000"/>
              <a:ext cx="4681440" cy="35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47840" y="5445000"/>
              <a:ext cx="383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一進大門就可以看到公園的</a:t>
              </a: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個吉祥物→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上午先看海洋劇場的表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7840" y="1413000"/>
            <a:ext cx="7923240" cy="3511440"/>
            <a:chOff x="177840" y="1413000"/>
            <a:chExt cx="7923240" cy="351144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7840" y="1413000"/>
              <a:ext cx="4681440" cy="35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2035080"/>
              <a:ext cx="3313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海豚秀是園區最吸引人的表演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68360" y="3213000"/>
            <a:ext cx="6705720" cy="3517920"/>
            <a:chOff x="2268360" y="3213000"/>
            <a:chExt cx="6705720" cy="35179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284720" y="3213000"/>
              <a:ext cx="468936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268360" y="5445000"/>
              <a:ext cx="2089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Arial"/>
                </a:rPr>
                <a:t>海獅表演→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</a:rPr>
              <a:t>中場休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上午的行程就在觀賞海洋劇場後結束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我的午餐，看起來很好吃吧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3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Arial"/>
              </a:rPr>
              <a:t>下午的行程更精采，接著看下去…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2800" y="3676680"/>
            <a:ext cx="2521080" cy="189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美麗的天花板裝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313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主題館中設置許多海底生物吊飾，抬起頭就可以看到海底世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681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626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00000" y="4626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19640" y="2681280"/>
            <a:ext cx="2339640" cy="175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940360" y="2681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419640" y="4626000"/>
            <a:ext cx="2339640" cy="17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別具特色的招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313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在逛園區時，發現每一間商店的招牌設計都具有中世紀海港的風味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4626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681280"/>
            <a:ext cx="2339640" cy="175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19640" y="4626000"/>
            <a:ext cx="2339640" cy="1755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940360" y="4626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940360" y="2681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900000" y="268128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熱鬧的遊行活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313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這是公園內定時舉辦的海洋生物大遊行，我個人最喜歡海馬拉的”馬車”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2654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0360" y="4626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456000" y="2654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940360" y="2654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00000" y="4626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456000" y="462600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5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720" y="256500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cc00"/>
                </a:solidFill>
                <a:latin typeface="華康細圓體"/>
                <a:ea typeface="華康細圓體"/>
              </a:rPr>
              <a:t>感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3789000"/>
            <a:ext cx="8939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這次的海洋公園之旅實在是太好玩了，不論是風景、遊樂器材或是表演，每一項都讓我回味無窮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雖然我很努力得玩，但是只有一天實在不夠用，下次找機會大家再去一次吧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0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92" dur="10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93" dur="10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400"/>
                            </p:stCondLst>
                            <p:childTnLst>
                              <p:par>
                                <p:cTn id="9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0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97" dur="10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98" dur="10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6:21:49Z</dcterms:created>
  <dc:creator>user</dc:creator>
  <dc:description/>
  <dc:language>en-US</dc:language>
  <cp:lastModifiedBy>sea</cp:lastModifiedBy>
  <dcterms:modified xsi:type="dcterms:W3CDTF">2006-08-11T11:35:41Z</dcterms:modified>
  <cp:revision>17</cp:revision>
  <dc:subject/>
  <dc:title>花蓮海洋公園之旅</dc:title>
</cp:coreProperties>
</file>