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290-6DA9-4743-96A0-68ADA395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9AD-9EAF-4FFC-8EEC-BA2A8D0E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4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14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F88-19FB-4D0A-B068-B0CE9CAE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68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68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F7E-60B8-451D-9BA9-C216081A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29AE-A39C-43B6-B630-30054ADF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112F-952D-4A37-8DE2-65B630C8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FE8F-1B9F-4CB6-95AE-EFD005DB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14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C192-6DF9-4734-990E-01AFCBE5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BE05-161D-4F72-B1E1-85D276B2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7055-D656-4C32-8AF9-67E2DDB1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14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B359-5C2C-4B0E-AF98-74707D9A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A7C-314D-4B76-A604-9DD3CE83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14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14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E0A6-AE28-446D-843B-94A2EDB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14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9F40-1135-4B37-8338-2D98662C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FD5A-9DB7-4B67-9C1B-BB8CD0AD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14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14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ABF9-7830-4B7F-836D-AAB0FA9A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68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9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68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9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0989-FA47-4E32-9269-EBEBB346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FAA-1B83-422B-95AE-25AC9D22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14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374-D2F3-4A5E-854C-5CAC8E0F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DB2-361C-4370-BF7F-7F134510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B18-949F-4239-9590-E637B7A7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14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AA8-963D-4008-A7F9-C77C56FE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4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14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99C-A6FE-4989-86AD-A85514F7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4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949-F8DF-47B1-B244-7FBA0B1E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86FC-874D-4726-80D9-41FD5E72C8B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045A-F660-4954-A37E-F54818A4DE9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960" y="2698560"/>
            <a:ext cx="73724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6600"/>
                </a:solidFill>
                <a:latin typeface="華康特粗楷體"/>
                <a:ea typeface="華康特粗楷體"/>
              </a:rPr>
              <a:t>曾詠欣的個人世界</a:t>
            </a:r>
            <a:endParaRPr b="1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634920" y="3789360"/>
            <a:ext cx="305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</a:rPr>
              <a:t>推薦甄試簡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94560" y="290520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4560" y="290520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79056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新細明體"/>
              </a:rPr>
              <a:t>求學過程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從小喜歡玩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電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並且對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資訊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很有興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在高職選填志願時，選擇了我最想就讀的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資料處理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並考取多項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證照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幹部經歷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：班長、學藝股長、輔導股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競賽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：網頁設計、書法、音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新細明體"/>
              </a:rPr>
              <a:t>資訊能力 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6897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程式設計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– 熟悉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Visual Basic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語言，曾設計多款益智遊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網頁設計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– 教育部網頁設計比賽高職組第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數位資料處理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– 熟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等辦公室應用軟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新細明體"/>
              </a:rPr>
              <a:t>證照列表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16000" y="1628640"/>
          <a:ext cx="7630920" cy="4422600"/>
        </p:xfrm>
        <a:graphic>
          <a:graphicData uri="http://schemas.openxmlformats.org/drawingml/2006/table">
            <a:tbl>
              <a:tblPr/>
              <a:tblGrid>
                <a:gridCol w="4683600"/>
                <a:gridCol w="2947320"/>
              </a:tblGrid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項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電腦應用軟體丙級技能檢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9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  <a:ea typeface="өũ"/>
                        </a:rPr>
                        <a:t>年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電腦應用軟體乙級技能檢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94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  <a:ea typeface="өũ"/>
                        </a:rPr>
                        <a:t>年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電腦硬體裝修丙級技能檢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9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  <a:ea typeface="өũ"/>
                        </a:rPr>
                        <a:t>年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網頁設計丙級技能檢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9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  <a:ea typeface="өũ"/>
                        </a:rPr>
                        <a:t>年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MOCC Word 200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  <a:ea typeface="өũ"/>
                        </a:rPr>
                        <a:t>電腦技能檢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9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  <a:ea typeface="өũ"/>
                        </a:rPr>
                        <a:t>年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MOCC Excel 200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  <a:ea typeface="өũ"/>
                        </a:rPr>
                        <a:t>電腦技能檢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9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  <a:ea typeface="өũ"/>
                        </a:rPr>
                        <a:t>年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7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新細明體"/>
              </a:rPr>
              <a:t>幹部服務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16000" y="1628640"/>
          <a:ext cx="7632720" cy="4392720"/>
        </p:xfrm>
        <a:graphic>
          <a:graphicData uri="http://schemas.openxmlformats.org/drawingml/2006/table">
            <a:tbl>
              <a:tblPr/>
              <a:tblGrid>
                <a:gridCol w="1440000"/>
                <a:gridCol w="1728720"/>
                <a:gridCol w="4464000"/>
              </a:tblGrid>
              <a:tr h="45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職務期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職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班級紀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4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高三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班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班上同學有些要準備升學，有些 要準備就業，我會盡力的服務大家，提供升學的資訊及就業的情報，希望大家都能順利地完成自己的目標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高二全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學藝股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這個職務很棒，常常有機會和同學們一起討論功課；另外，也可以趁職務之便向老師請教學業上的問題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高一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服務股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藉由關心教室四周環境的機會，培養細微的觀察力、負責任的態度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及如何公平分配工作的要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新細明體"/>
              </a:rPr>
              <a:t>競賽活動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6000" y="1628640"/>
          <a:ext cx="7632720" cy="4727880"/>
        </p:xfrm>
        <a:graphic>
          <a:graphicData uri="http://schemas.openxmlformats.org/drawingml/2006/table">
            <a:tbl>
              <a:tblPr/>
              <a:tblGrid>
                <a:gridCol w="2303640"/>
                <a:gridCol w="1112760"/>
                <a:gridCol w="421632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比賽名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名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өũ"/>
                        </a:rPr>
                        <a:t>比賽紀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全國學生音樂比賽鋼琴獨奏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第二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只能利用晚上的幾個小時來練琴，但是很開心，辛苦有了代價，在咬緊牙關撐過難關後，獲得了不錯的成績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網頁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show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設計比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第二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由教育部所舉辦的網頁設計比賽 ，在眾多優秀的參賽者中，很高興能脫穎而出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,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獲得第二名的成績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全校英文競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第二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參加全校英文競試比賽獲得亞軍的成績。讓我對自己 的英文能力更有信心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全校國文競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第一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參加全校教孝月國文競試比賽獲得了第一名的殊榮；能為班上同學爭光，感覺真好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79056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新細明體"/>
              </a:rPr>
              <a:t>學習計畫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課業目標：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專心修習各項專業科目，努力獲得優等的成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語言學習目標：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養成閱讀英語期刊的習慣，準備考取全民英檢等證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其他目標：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利用暑假期間，前往資訊公司工讀，預先為進入職場而作準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16000" y="2923920"/>
            <a:ext cx="576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敬請各位老師指導！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604360" y="66135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32000" y="2924280"/>
            <a:ext cx="1441440" cy="8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1:54:35Z</dcterms:created>
  <dc:creator>user</dc:creator>
  <dc:description/>
  <dc:language>en-US</dc:language>
  <cp:lastModifiedBy>sea</cp:lastModifiedBy>
  <dcterms:modified xsi:type="dcterms:W3CDTF">2006-08-16T08:04:24Z</dcterms:modified>
  <cp:revision>19</cp:revision>
  <dc:subject/>
  <dc:title>曾詠欣的個人世界</dc:title>
</cp:coreProperties>
</file>