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B5C6-02E5-4FF4-85F0-7EF35C10D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CED4-7C0B-4C72-A96D-82653981F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2E91-2B61-4069-8470-4E77FBF1F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B66E-1C42-46DC-A876-342FB4EDE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49562-9E12-472A-9326-1F143AC4F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5681C-AC51-47AF-A77A-80C43052D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56BB5-74DB-4F93-B823-93E2370B7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8AFC3-6F5B-4DDF-992F-BEE12126C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ED549-7CA3-479A-A7A1-CF6E6E648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C5D05-7AD6-48FE-9427-B1DC0C765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0C0F0-011D-41B8-BEB4-7999ED789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346D-E44B-4148-ADC2-EB9946328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A1B85-16D2-4190-B889-595D4357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59E39-0E24-42B2-8039-368E06FD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59936-8D7F-466A-BD72-5CE407ED2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1818F-A974-4FD7-9D25-84CF7EC16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FDB93-E66F-448A-98FE-E2A258238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4CCD-45B0-4FB8-B405-99E3E91CF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B3BC-D8ED-45ED-9C75-A5D98D7D6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C710-526D-4547-8DC8-1ABDDAD5F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8635-D28F-43C9-93E8-92FBB1299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F26A-AC8E-48FE-99B4-70F0CCAA5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FE89-A0AB-4310-B695-21D59232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0A06-F306-46E0-A5C6-7B4694556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505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A3693-7832-4A9A-AA23-744C5318D0B3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505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74029-8D1A-4F4D-99CA-B2C35969C33E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cc66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987280" y="836640"/>
            <a:ext cx="35290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Arial"/>
                <a:ea typeface="華康新特圓體"/>
              </a:rPr>
              <a:t>明星高職</a:t>
            </a:r>
            <a:endParaRPr b="1" lang="en-US" sz="60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651640" y="1196640"/>
            <a:ext cx="29160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資</a:t>
            </a: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甲</a:t>
            </a:r>
            <a:endParaRPr b="1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 rot="21383400">
            <a:off x="1476000" y="2349360"/>
            <a:ext cx="6697800" cy="251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6699ff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華康POP1體W7"/>
              </a:rPr>
              <a:t>我們這一班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6699ff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華康POP1體W7"/>
              <a:ea typeface="華康POP1體W7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156360" y="4581360"/>
            <a:ext cx="2492280" cy="18702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260208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本班生力軍</a:t>
            </a: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(1/4)</a:t>
            </a:r>
            <a:endParaRPr b="1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本班生力軍</a:t>
            </a: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(2/4)</a:t>
            </a:r>
            <a:endParaRPr b="1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本班生力軍</a:t>
            </a: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(3/4)</a:t>
            </a:r>
            <a:endParaRPr b="1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本班生力軍</a:t>
            </a: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(4/4)</a:t>
            </a:r>
            <a:endParaRPr b="1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我們的幹部…</a:t>
            </a:r>
            <a:endParaRPr b="1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457200" y="1751040"/>
          <a:ext cx="822960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1040"/>
                    <a:ext cx="82296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本班同學血型比例</a:t>
            </a:r>
            <a:endParaRPr b="1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4360" y="191628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善於待人接物，很注意合情合理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56360" y="177948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感情豐富，誠實謙虛，多愁善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00720" y="581184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有自信心，好出風頭、做事有決斷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9640" y="523548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個性隨和，富有創意，做事認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本班同學興趣調查</a:t>
            </a:r>
            <a:endParaRPr b="1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57200" y="1600200"/>
          <a:ext cx="8218440" cy="4636800"/>
        </p:xfrm>
        <a:graphic>
          <a:graphicData uri="http://schemas.openxmlformats.org/drawingml/2006/table">
            <a:tbl>
              <a:tblPr/>
              <a:tblGrid>
                <a:gridCol w="4109040"/>
                <a:gridCol w="4109400"/>
              </a:tblGrid>
              <a:tr h="66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興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人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電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打球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籃桌羽排…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TV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唱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←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全班唯一共同點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逛街血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小說、漫畫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吃、吃、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1, 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林昇揚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, B, 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牡羊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, 3.21</a:t>
            </a:r>
            <a:endParaRPr b="0" lang="en-US" sz="1400" spc="-1" strike="noStrike">
              <a:solidFill>
                <a:srgbClr val="cc66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2, 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李菲琴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, O, 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處女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, 8.30</a:t>
            </a:r>
            <a:endParaRPr b="0" lang="en-US" sz="1400" spc="-1" strike="noStrike">
              <a:solidFill>
                <a:srgbClr val="cc66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3, 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徐美黛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, O, 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獅子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, 7.25</a:t>
            </a:r>
            <a:endParaRPr b="0" lang="en-US" sz="1400" spc="-1" strike="noStrike">
              <a:solidFill>
                <a:srgbClr val="cc66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4, 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蕭常嚮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, O, 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天秤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, 10.6</a:t>
            </a:r>
            <a:endParaRPr b="0" lang="en-US" sz="1400" spc="-1" strike="noStrike">
              <a:solidFill>
                <a:srgbClr val="cc66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5, 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陳晏侯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, AB, 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巨蟹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, 7.13</a:t>
            </a:r>
            <a:endParaRPr b="0" lang="en-US" sz="1400" spc="-1" strike="noStrike">
              <a:solidFill>
                <a:srgbClr val="cc66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6, 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劉麗露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, A, 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金牛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, 5.13</a:t>
            </a:r>
            <a:endParaRPr b="0" lang="en-US" sz="1400" spc="-1" strike="noStrike">
              <a:solidFill>
                <a:srgbClr val="cc66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7, 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王良賀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, O, 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雙魚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, 2.29</a:t>
            </a:r>
            <a:endParaRPr b="0" lang="en-US" sz="1400" spc="-1" strike="noStrike">
              <a:solidFill>
                <a:srgbClr val="cc66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8, 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張雯英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, B, 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水瓶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, 1.22</a:t>
            </a:r>
            <a:endParaRPr b="0" lang="en-US" sz="1400" spc="-1" strike="noStrike">
              <a:solidFill>
                <a:srgbClr val="cc66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9, 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王安虎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, A, 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天秤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, 10.18</a:t>
            </a:r>
            <a:endParaRPr b="0" lang="en-US" sz="1400" spc="-1" strike="noStrike">
              <a:solidFill>
                <a:srgbClr val="cc66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10, 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陳華隆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, O, 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金牛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, 4.29</a:t>
            </a:r>
            <a:endParaRPr b="0" lang="en-US" sz="1400" spc="-1" strike="noStrike">
              <a:solidFill>
                <a:srgbClr val="cc66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11, 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趙瑪利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, B, 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獅子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, 7.28</a:t>
            </a:r>
            <a:endParaRPr b="0" lang="en-US" sz="1400" spc="-1" strike="noStrike">
              <a:solidFill>
                <a:srgbClr val="cc66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12, 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韓彩姬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, O, 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雙魚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, 3.7</a:t>
            </a:r>
            <a:endParaRPr b="0" lang="en-US" sz="1400" spc="-1" strike="noStrike">
              <a:solidFill>
                <a:srgbClr val="cc66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13, 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朱自強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, B, 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水瓶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, 2.11</a:t>
            </a:r>
            <a:endParaRPr b="0" lang="en-US" sz="1400" spc="-1" strike="noStrike">
              <a:solidFill>
                <a:srgbClr val="cc66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14, 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楊興旺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, A, 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處女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, 9.13</a:t>
            </a:r>
            <a:endParaRPr b="0" lang="en-US" sz="1400" spc="-1" strike="noStrike">
              <a:solidFill>
                <a:srgbClr val="cc66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15, 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苗凱特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, O, 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射手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, 9.20</a:t>
            </a:r>
            <a:endParaRPr b="0" lang="en-US" sz="1400" spc="-1" strike="noStrike">
              <a:solidFill>
                <a:srgbClr val="cc66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16, 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賴佩瑜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, O, 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金牛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, 5.2</a:t>
            </a:r>
            <a:endParaRPr b="0" lang="en-US" sz="1400" spc="-1" strike="noStrike">
              <a:solidFill>
                <a:srgbClr val="cc66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17, 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李美娥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, O, 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魔羯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, 1.5</a:t>
            </a:r>
            <a:endParaRPr b="0" lang="en-US" sz="1400" spc="-1" strike="noStrike">
              <a:solidFill>
                <a:srgbClr val="cc66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18, 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吳偉雄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, B, 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獅子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, 8.16</a:t>
            </a:r>
            <a:endParaRPr b="0" lang="en-US" sz="1400" spc="-1" strike="noStrike">
              <a:solidFill>
                <a:srgbClr val="cc66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19, 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楊麗雀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, A, 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天蠍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, 10.29</a:t>
            </a:r>
            <a:endParaRPr b="0" lang="en-US" sz="1400" spc="-1" strike="noStrike">
              <a:solidFill>
                <a:srgbClr val="cc66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20, 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賴士雄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, O, 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牡羊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, 4.11</a:t>
            </a:r>
            <a:endParaRPr b="0" lang="en-US" sz="1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21, 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趙昇揚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, B, 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金牛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, 5.11</a:t>
            </a:r>
            <a:endParaRPr b="0" lang="en-US" sz="1400" spc="-1" strike="noStrike">
              <a:solidFill>
                <a:srgbClr val="cc66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22, 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韓菲琴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, O, 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魔羯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, 1.11</a:t>
            </a:r>
            <a:endParaRPr b="0" lang="en-US" sz="1400" spc="-1" strike="noStrike">
              <a:solidFill>
                <a:srgbClr val="cc66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23, 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朱美黛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, AB, 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獅子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, 7.23</a:t>
            </a:r>
            <a:endParaRPr b="0" lang="en-US" sz="1400" spc="-1" strike="noStrike">
              <a:solidFill>
                <a:srgbClr val="cc66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24, 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楊常嚮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, A, 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天蠍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, 11.19</a:t>
            </a:r>
            <a:endParaRPr b="0" lang="en-US" sz="1400" spc="-1" strike="noStrike">
              <a:solidFill>
                <a:srgbClr val="cc66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25, 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苗晏侯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, O, 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牡羊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, 3.22</a:t>
            </a:r>
            <a:endParaRPr b="0" lang="en-US" sz="1400" spc="-1" strike="noStrike">
              <a:solidFill>
                <a:srgbClr val="cc66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26, 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賴麗露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, O, 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獅子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, 8.17</a:t>
            </a:r>
            <a:endParaRPr b="0" lang="en-US" sz="1400" spc="-1" strike="noStrike">
              <a:solidFill>
                <a:srgbClr val="cc66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27, 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李良賀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, A, 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雙魚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, 2.23</a:t>
            </a:r>
            <a:endParaRPr b="0" lang="en-US" sz="1400" spc="-1" strike="noStrike">
              <a:solidFill>
                <a:srgbClr val="cc66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28, 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吳雯英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, B, 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水瓶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, 1.25</a:t>
            </a:r>
            <a:endParaRPr b="0" lang="en-US" sz="1400" spc="-1" strike="noStrike">
              <a:solidFill>
                <a:srgbClr val="cc66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29, 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楊安虎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, A, 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處女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, 8.26</a:t>
            </a:r>
            <a:endParaRPr b="0" lang="en-US" sz="1400" spc="-1" strike="noStrike">
              <a:solidFill>
                <a:srgbClr val="cc66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30, 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賴華隆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, O, 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射手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, 9.1</a:t>
            </a:r>
            <a:endParaRPr b="0" lang="en-US" sz="1400" spc="-1" strike="noStrike">
              <a:solidFill>
                <a:srgbClr val="cc66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31, 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林瑪利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, B, 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金牛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, 4.29</a:t>
            </a:r>
            <a:endParaRPr b="0" lang="en-US" sz="1400" spc="-1" strike="noStrike">
              <a:solidFill>
                <a:srgbClr val="cc66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32, 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李彩姬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, A, 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雙魚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, 3.11</a:t>
            </a:r>
            <a:endParaRPr b="0" lang="en-US" sz="1400" spc="-1" strike="noStrike">
              <a:solidFill>
                <a:srgbClr val="cc66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33, 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徐自強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, B, 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獅子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, 8.1</a:t>
            </a:r>
            <a:endParaRPr b="0" lang="en-US" sz="1400" spc="-1" strike="noStrike">
              <a:solidFill>
                <a:srgbClr val="cc66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34, 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蕭興旺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, A, 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天秤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, 9.24</a:t>
            </a:r>
            <a:endParaRPr b="0" lang="en-US" sz="1400" spc="-1" strike="noStrike">
              <a:solidFill>
                <a:srgbClr val="cc66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35, 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陳凱特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, A, 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巨蟹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, 6.27</a:t>
            </a:r>
            <a:endParaRPr b="0" lang="en-US" sz="1400" spc="-1" strike="noStrike">
              <a:solidFill>
                <a:srgbClr val="cc66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36, 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劉佩瑜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, A, 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牡羊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, 3.30</a:t>
            </a:r>
            <a:endParaRPr b="0" lang="en-US" sz="1400" spc="-1" strike="noStrike">
              <a:solidFill>
                <a:srgbClr val="cc66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37, 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王美娥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, B, 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處女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, 9.2</a:t>
            </a:r>
            <a:endParaRPr b="0" lang="en-US" sz="1400" spc="-1" strike="noStrike">
              <a:solidFill>
                <a:srgbClr val="cc66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38, 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張偉雄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, B, 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水瓶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, 2.9</a:t>
            </a:r>
            <a:endParaRPr b="0" lang="en-US" sz="1400" spc="-1" strike="noStrike">
              <a:solidFill>
                <a:srgbClr val="cc66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39, 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王麗雀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, O, 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天秤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, 9.30</a:t>
            </a:r>
            <a:endParaRPr b="0" lang="en-US" sz="1400" spc="-1" strike="noStrike">
              <a:solidFill>
                <a:srgbClr val="cc66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40, 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陳士雄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, O, 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金牛</a:t>
            </a:r>
            <a:r>
              <a:rPr b="0" lang="zh-TW" sz="1400" spc="-1" strike="noStrike">
                <a:solidFill>
                  <a:srgbClr val="cc6600"/>
                </a:solidFill>
                <a:latin typeface="Arial"/>
              </a:rPr>
              <a:t>, 5.4 </a:t>
            </a:r>
            <a:endParaRPr b="0" lang="en-US" sz="14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6T01:19:42Z</dcterms:created>
  <dc:creator>user</dc:creator>
  <dc:description/>
  <dc:language>en-US</dc:language>
  <cp:lastModifiedBy>sea</cp:lastModifiedBy>
  <dcterms:modified xsi:type="dcterms:W3CDTF">2006-08-12T01:38:00Z</dcterms:modified>
  <cp:revision>9</cp:revision>
  <dc:subject/>
  <dc:title>投影片 1</dc:title>
</cp:coreProperties>
</file>