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E2A-92D4-4B75-8A0F-6D832638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277-516C-4E6F-AD3F-4DD37EB7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E23-7A7F-42BA-B72D-2217D42C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AE8-3E7A-4B6F-AE2A-D23E9C35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E7D3-5E47-4FCF-B204-6886725A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4FBD-A953-4F75-876D-DDEA4E3D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8487-237A-4BEB-B235-55399B5E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3EC7-9319-4DC9-A6B4-855F013F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BC40-5155-4B5E-803D-5CBC744F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F66C-1A70-4D03-AA32-40B5286B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BDED-653E-46E9-AA38-91A36801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DFA2-CD9E-4593-8F32-C87C354C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29D7-CC3F-435F-B85C-3145F857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D1D6-F811-4303-B8CB-2A319CAD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29BD-364C-4A75-907B-DC85A3B3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B63B-AD35-434D-BA8C-AE0EE98D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BA72-2BDA-4E1B-9538-778A1DDB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3C4-80DC-4FAA-A509-F4B17F12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4334-AE21-4785-BEE7-726E6AAE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B675-A500-40D7-B835-B15E272E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BE5D-2844-4FFF-8A1F-42488D0E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F03-539E-463C-9E4C-116636C4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833C-5759-49BC-8EF1-A82BB772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B83-FE4E-48A9-A8E0-FE74BE35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E75A-49E2-46AC-9A78-BF9DF65ABF2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764640"/>
            <a:ext cx="2305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D0B0-89D4-4802-8297-AD8EE981B9B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35280" y="4220640"/>
            <a:ext cx="2660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76360" y="5084640"/>
            <a:ext cx="304308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讓我們烤肉去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~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班遊全記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時間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/3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六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地點：青年公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活動：團康、烤肉、大合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精彩照片往下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出發的車上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6502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美女合照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63640" y="1484280"/>
            <a:ext cx="6502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團康活動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502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本班猛男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6502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下一次到哪兒玩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08:23:24Z</dcterms:created>
  <dc:creator>user</dc:creator>
  <dc:description/>
  <dc:language>en-US</dc:language>
  <cp:lastModifiedBy>user</cp:lastModifiedBy>
  <dcterms:modified xsi:type="dcterms:W3CDTF">2006-06-15T07:23:14Z</dcterms:modified>
  <cp:revision>9</cp:revision>
  <dc:subject/>
  <dc:title>投影片 1</dc:title>
</cp:coreProperties>
</file>