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E9E-DD72-4112-B218-6C170D01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A1A-BD03-4296-B3D9-AC611D5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C3B-36C9-47B1-9DFC-3ECDCE39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8C8-1026-4473-9203-35B628AD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1F87-B4CB-44BF-A357-39705BA2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077-6A99-43A5-A636-0224D004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3C96-4D26-40D8-BA59-3BE83FC9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C23E-406D-462C-BA6A-3D7FEC5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80EC-030E-4DDB-9962-2336FC1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0370-BCB1-4F47-B836-C87261C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0ED-2F5D-4D32-996C-FEEA478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119-A8E8-487D-A6D6-F019AEF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9449-CEB1-4A95-BF73-54D4139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8294-0D4A-45E1-AC40-F08BEE0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25DD-7F1C-4F50-91A9-F258D19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F23-6F1D-423B-B730-D3A1FA53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07CE-B3BE-4F01-9EE7-B79E1039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376-5A22-4CF0-B426-3C7FF541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2C8-5F71-4EDB-9256-A0499F68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3BB-7693-4AEE-B91C-903C4D3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E75-66F3-4E8D-87C5-E12FB607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7EA-1A19-40FE-8BF8-0C6E5C9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398-75B4-4593-A060-C8B6D4D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81C-305C-4EC2-8CAF-08B4302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DE65-750D-4379-B3FC-C79FAA21302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EDF-A58A-4EB2-9AF1-0F98FAA4BC7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060280"/>
            <a:ext cx="57740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61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292640"/>
            <a:ext cx="449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康樂碎碎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照過來照過來，期待已久的班遊來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「導仔」將帶領全班同學一起去烤肉，有興趣參加的同學請趕快報名，大夥兒一塊去玩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細節接著看下去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班遊說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集合時間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月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日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下週六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早上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點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集合地點：校門旁的公車站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目的地：親水公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活動：烤肉、團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行前準備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搭公車用的零錢，來回共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請穿不怕髒的衣服和運動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飲用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雨具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個人藥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(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防蚊、防曬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新細明體"/>
              </a:rPr>
              <a:t>相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另徵求搬烤肉用品的壯漢很多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班遊行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集合搭車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09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團康活動—支援前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分組烤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團康活動—歌唱擂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瘋狂大合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回家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約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6: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注意事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請同學確實將以下兩支電話告知家長，以便連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導師電話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09123456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康樂電話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09198765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請在本週五前交回家長同意回條，以利統計參加人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9:13:41Z</dcterms:created>
  <dc:creator>user</dc:creator>
  <dc:description/>
  <dc:language>en-US</dc:language>
  <cp:lastModifiedBy>user</cp:lastModifiedBy>
  <dcterms:modified xsi:type="dcterms:W3CDTF">2006-06-15T07:46:07Z</dcterms:modified>
  <cp:revision>7</cp:revision>
  <dc:subject/>
  <dc:title>班遊行程規劃</dc:title>
</cp:coreProperties>
</file>