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EF3-FA92-4BDC-98D9-00B26C0A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70F-3E39-423F-AECF-3F702CDB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A40-C20F-4C1B-A2B2-33E92BE9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240-EBCB-41A5-9573-CDA09A36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46F1-A42A-41A3-9372-79E1703B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A8F2-EB1D-4642-A72E-D054C31E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56B0-0E44-4D57-A791-DCFC06A3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E1EB-1F16-431D-8C90-08615207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9904-8140-4C66-AC1A-1036385B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B0C7-B7AD-4A4D-9770-31762BBF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DABE-B7A7-46EE-A78E-AAE45A8D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171-8EAF-4BC3-9DF2-2291DA9F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D163-D4C4-4106-A835-32726C05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01BB-EF4C-4321-A3D7-FE954291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8184-5CE2-4AFF-9A41-0EBC8E02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6B6E-D486-4BCA-A377-A5BEC0D7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A89F-561D-4870-9909-7B1B3252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587-816D-4C14-AECA-853F5374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065-7611-49D8-8503-8E80B78A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151-46E2-46B7-A8F3-7FAB3973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6BE-D115-4E54-BFBF-1A787827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8DA-5297-48E3-B5DA-7565277F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CA2C-B0A4-4D34-8C8B-B8707115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39A-28D3-4045-B633-90FA455B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F46D-0C7F-405A-94B1-BFB47F71342B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316080" y="1716480"/>
            <a:ext cx="8692920" cy="55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916280"/>
            <a:ext cx="9009000" cy="1052280"/>
            <a:chOff x="0" y="191628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023920"/>
              <a:ext cx="711360" cy="474480"/>
              <a:chOff x="290520" y="202392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02392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0239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446200"/>
              <a:ext cx="737640" cy="474480"/>
              <a:chOff x="414360" y="244620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44620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44620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37312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91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73744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8578-7478-4EB8-B317-8F98E033690A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34920" y="3141720"/>
            <a:ext cx="4105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學校簡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校園巡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行政單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教學單位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商業與管理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教學單位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設計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763640" y="620640"/>
            <a:ext cx="6000480" cy="1952640"/>
            <a:chOff x="1763640" y="620640"/>
            <a:chExt cx="6000480" cy="195264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1763640" y="693720"/>
              <a:ext cx="1390680" cy="18716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02" name="" descr=""/>
            <p:cNvPicPr/>
            <p:nvPr/>
          </p:nvPicPr>
          <p:blipFill>
            <a:blip r:embed="rId2"/>
            <a:srcRect l="0" t="8703" r="0" b="7106"/>
            <a:stretch/>
          </p:blipFill>
          <p:spPr>
            <a:xfrm>
              <a:off x="3276360" y="620640"/>
              <a:ext cx="1655640" cy="18590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5057640" y="1125720"/>
              <a:ext cx="1020600" cy="14475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445080" y="1125720"/>
              <a:ext cx="1319040" cy="14396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300720" y="3213000"/>
            <a:ext cx="18874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校園巡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11280" y="2349360"/>
            <a:ext cx="7777080" cy="3872160"/>
            <a:chOff x="611280" y="2349360"/>
            <a:chExt cx="7777080" cy="3872160"/>
          </a:xfrm>
        </p:grpSpPr>
        <p:sp>
          <p:nvSpPr>
            <p:cNvPr id="108" name=""/>
            <p:cNvSpPr/>
            <p:nvPr/>
          </p:nvSpPr>
          <p:spPr>
            <a:xfrm>
              <a:off x="847800" y="2414520"/>
              <a:ext cx="7446960" cy="3476520"/>
            </a:xfrm>
            <a:prstGeom prst="rect">
              <a:avLst/>
            </a:prstGeom>
            <a:noFill/>
            <a:ln w="190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33560" y="2746440"/>
              <a:ext cx="3310200" cy="9921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08160" y="2911320"/>
              <a:ext cx="2961000" cy="662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操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24280" y="3736800"/>
              <a:ext cx="1324080" cy="330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00"/>
                  </a:solidFill>
                  <a:latin typeface="Times New Roman"/>
                </a:rPr>
                <a:t>司令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33560" y="4567320"/>
              <a:ext cx="3310200" cy="49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3333cc"/>
                  </a:solidFill>
                  <a:latin typeface="Times New Roman"/>
                </a:rPr>
                <a:t>行政大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3880" y="2581200"/>
              <a:ext cx="662040" cy="2481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設計大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41400" y="2581200"/>
              <a:ext cx="662040" cy="2481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商管大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00800" y="2581200"/>
              <a:ext cx="662040" cy="2481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活動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12680" y="2581200"/>
              <a:ext cx="662040" cy="2481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圖書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12680" y="5891040"/>
              <a:ext cx="1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44600" y="5891040"/>
              <a:ext cx="165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74720" y="5891040"/>
              <a:ext cx="1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06640" y="5891040"/>
              <a:ext cx="165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36760" y="5891040"/>
              <a:ext cx="1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68680" y="5891040"/>
              <a:ext cx="164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98800" y="5891040"/>
              <a:ext cx="1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30720" y="5891040"/>
              <a:ext cx="164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46600" y="5891040"/>
              <a:ext cx="165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77080" y="5891040"/>
              <a:ext cx="1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08640" y="5891040"/>
              <a:ext cx="165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38760" y="5891040"/>
              <a:ext cx="1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70680" y="5891040"/>
              <a:ext cx="165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00800" y="5891040"/>
              <a:ext cx="1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32720" y="5891040"/>
              <a:ext cx="165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62840" y="5891040"/>
              <a:ext cx="1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294760" y="5559480"/>
              <a:ext cx="0" cy="16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8294760" y="5229360"/>
              <a:ext cx="0" cy="16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294760" y="4897080"/>
              <a:ext cx="0" cy="165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8294760" y="2910960"/>
              <a:ext cx="0" cy="165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8294760" y="2580840"/>
              <a:ext cx="0" cy="165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12680" y="2414520"/>
              <a:ext cx="1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44600" y="2414520"/>
              <a:ext cx="165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4720" y="2414520"/>
              <a:ext cx="1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06640" y="2414520"/>
              <a:ext cx="165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36760" y="2414520"/>
              <a:ext cx="1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68680" y="2414520"/>
              <a:ext cx="164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98800" y="2414520"/>
              <a:ext cx="1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30720" y="2414520"/>
              <a:ext cx="164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46600" y="2414520"/>
              <a:ext cx="165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77080" y="2414520"/>
              <a:ext cx="1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08640" y="2414520"/>
              <a:ext cx="165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38760" y="2414520"/>
              <a:ext cx="1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70680" y="2414520"/>
              <a:ext cx="165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00800" y="2414520"/>
              <a:ext cx="1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32720" y="2414520"/>
              <a:ext cx="165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62840" y="2414520"/>
              <a:ext cx="1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847800" y="5559480"/>
              <a:ext cx="0" cy="16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847800" y="5229360"/>
              <a:ext cx="0" cy="16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847800" y="4897080"/>
              <a:ext cx="0" cy="165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847800" y="3242880"/>
              <a:ext cx="0" cy="165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847800" y="2910960"/>
              <a:ext cx="0" cy="165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847800" y="2580840"/>
              <a:ext cx="0" cy="165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60840" y="5394240"/>
              <a:ext cx="1655640" cy="8272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3333cc"/>
                  </a:solidFill>
                  <a:latin typeface="Times New Roman"/>
                </a:rPr>
                <a:t>校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57640" y="5805360"/>
              <a:ext cx="827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ffffff"/>
                  </a:solidFill>
                  <a:latin typeface="Times New Roman"/>
                </a:rPr>
                <a:t>忠孝路</a:t>
              </a:r>
              <a:r>
                <a:rPr b="0" lang="zh-TW" sz="1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zh-TW" sz="1000" spc="-1" strike="noStrike">
                  <a:solidFill>
                    <a:srgbClr val="ffffff"/>
                  </a:solidFill>
                  <a:latin typeface="Times New Roman"/>
                </a:rPr>
                <a:t>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32360" y="2349360"/>
              <a:ext cx="8269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ffffff"/>
                  </a:solidFill>
                  <a:latin typeface="Times New Roman"/>
                </a:rPr>
                <a:t>仁愛路</a:t>
              </a:r>
              <a:r>
                <a:rPr b="0" lang="zh-TW" sz="1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zh-TW" sz="1000" spc="-1" strike="noStrike">
                  <a:solidFill>
                    <a:srgbClr val="ffffff"/>
                  </a:solidFill>
                  <a:latin typeface="Times New Roman"/>
                </a:rPr>
                <a:t>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58240" y="3570120"/>
              <a:ext cx="330120" cy="9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ffffff"/>
                  </a:solidFill>
                  <a:latin typeface="Times New Roman"/>
                </a:rPr>
                <a:t>信義路</a:t>
              </a:r>
              <a:r>
                <a:rPr b="0" lang="zh-TW" sz="1000" spc="-1" strike="noStrike">
                  <a:solidFill>
                    <a:srgbClr val="ffffff"/>
                  </a:solidFill>
                  <a:latin typeface="新細明體"/>
                </a:rPr>
                <a:t>１</a:t>
              </a:r>
              <a:r>
                <a:rPr b="0" lang="zh-TW" sz="1000" spc="-1" strike="noStrike">
                  <a:solidFill>
                    <a:srgbClr val="ffffff"/>
                  </a:solidFill>
                  <a:latin typeface="Times New Roman"/>
                </a:rPr>
                <a:t>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1280" y="3573360"/>
              <a:ext cx="3301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ffffff"/>
                  </a:solidFill>
                  <a:latin typeface="Times New Roman"/>
                </a:rPr>
                <a:t>和平路</a:t>
              </a:r>
              <a:r>
                <a:rPr b="0" lang="zh-TW" sz="1000" spc="-1" strike="noStrike">
                  <a:solidFill>
                    <a:srgbClr val="ffffff"/>
                  </a:solidFill>
                  <a:latin typeface="新細明體"/>
                </a:rPr>
                <a:t>１</a:t>
              </a:r>
              <a:r>
                <a:rPr b="0" lang="zh-TW" sz="1000" spc="-1" strike="noStrike">
                  <a:solidFill>
                    <a:srgbClr val="ffffff"/>
                  </a:solidFill>
                  <a:latin typeface="Times New Roman"/>
                </a:rPr>
                <a:t>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294760" y="3242880"/>
              <a:ext cx="0" cy="165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344600" y="5559480"/>
              <a:ext cx="330120" cy="331560"/>
              <a:chOff x="1344600" y="5559480"/>
              <a:chExt cx="330120" cy="331560"/>
            </a:xfrm>
          </p:grpSpPr>
          <p:sp>
            <p:nvSpPr>
              <p:cNvPr id="167" name=""/>
              <p:cNvSpPr/>
              <p:nvPr/>
            </p:nvSpPr>
            <p:spPr>
              <a:xfrm>
                <a:off x="1344600" y="5559480"/>
                <a:ext cx="330120" cy="110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0000"/>
                    </a:solidFill>
                    <a:latin typeface="Arial"/>
                  </a:rPr>
                  <a:t>BU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344600" y="567036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7626240" y="5572080"/>
              <a:ext cx="330120" cy="331560"/>
              <a:chOff x="7626240" y="5572080"/>
              <a:chExt cx="330120" cy="331560"/>
            </a:xfrm>
          </p:grpSpPr>
          <p:sp>
            <p:nvSpPr>
              <p:cNvPr id="170" name=""/>
              <p:cNvSpPr/>
              <p:nvPr/>
            </p:nvSpPr>
            <p:spPr>
              <a:xfrm>
                <a:off x="7626240" y="5572080"/>
                <a:ext cx="330120" cy="110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0000"/>
                    </a:solidFill>
                    <a:latin typeface="Arial"/>
                  </a:rPr>
                  <a:t>BU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626240" y="568296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行政單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教務處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教學組，註冊組，設備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學生事務處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訓育組，生輔組，體育組，衛生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總務處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庶務組，文書組，出納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資訊中心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網路管理組，遠距教學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教學單位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商業與管理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187280" y="1989000"/>
          <a:ext cx="7705800" cy="4319640"/>
        </p:xfrm>
        <a:graphic>
          <a:graphicData uri="http://schemas.openxmlformats.org/drawingml/2006/table">
            <a:tbl>
              <a:tblPr/>
              <a:tblGrid>
                <a:gridCol w="2003760"/>
                <a:gridCol w="2712960"/>
                <a:gridCol w="2989080"/>
              </a:tblGrid>
              <a:tr h="1079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科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班級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教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資料處理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個年級共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專任教師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商業經營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個年級共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專任教師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國際貿易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個年級共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專任教師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教學單位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設計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87280" y="1989000"/>
          <a:ext cx="7705800" cy="4319640"/>
        </p:xfrm>
        <a:graphic>
          <a:graphicData uri="http://schemas.openxmlformats.org/drawingml/2006/table">
            <a:tbl>
              <a:tblPr/>
              <a:tblGrid>
                <a:gridCol w="2003760"/>
                <a:gridCol w="2712960"/>
                <a:gridCol w="2989080"/>
              </a:tblGrid>
              <a:tr h="1079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科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班級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教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廣告設計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個年級共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專任教師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室內設計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個年級共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專任教師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圖文傳播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個年級共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專任教師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學校簡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創校時間：民國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創始人： 李大為先生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現有科別：資料處理科、商業經營科、國際貿易科、室內設計科、廣告設計科、圖文傳播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現有學生：約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724360" y="1268280"/>
            <a:ext cx="2735280" cy="2305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2:12:52Z</dcterms:created>
  <dc:creator>user</dc:creator>
  <dc:description/>
  <dc:language>en-US</dc:language>
  <cp:lastModifiedBy>user</cp:lastModifiedBy>
  <dcterms:modified xsi:type="dcterms:W3CDTF">2006-06-15T02:42:43Z</dcterms:modified>
  <cp:revision>14</cp:revision>
  <dc:subject/>
  <dc:title>育才高職新生訓練</dc:title>
</cp:coreProperties>
</file>