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1C3-A250-480C-875B-2E3806EB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871-6F42-47EE-982D-C84EF990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E3A-FF82-489A-888B-54C05A08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7FE-3E03-42C2-81C5-BE8E7724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B4AB-D758-4F22-A65D-4A66CB44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A955-EE2A-424A-AF04-15AA934A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932B-D328-40D7-815D-D61DA935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1DDF-E967-4209-8F31-53F718A3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9D36-A993-4F98-A209-DC26FFF7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733920" y="609120"/>
            <a:ext cx="457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E496-74BA-49AD-81D4-EE9364EB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2012-4D4F-4A21-9F5C-17A88BF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2B5-DCA3-4F02-93BA-A77F268E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5AEB-212A-4209-8555-EBFFC085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D38F-A978-4235-92F1-1830F8C7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D063-6ED0-43A3-B1FE-A99FE6EA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75BD-25F6-434C-955B-75DB9FC3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363B-8249-4F15-BBBE-DC85AC02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365-0D8A-4711-8B2B-D7DC2A95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31A-0050-454A-9009-B1991356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EAB-7F4D-4DDE-977D-BB922E9F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33920" y="609120"/>
            <a:ext cx="457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CF7-3140-4A98-AA22-BCAF4177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E4C-CB52-4884-8474-56CCB460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C7A-B8B4-4AC5-A7BE-E9650748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A15-7EDB-456F-ADD0-39077803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05320" y="304920"/>
            <a:ext cx="4952880" cy="1828800"/>
          </a:xfrm>
          <a:prstGeom prst="cloudCallout">
            <a:avLst>
              <a:gd name="adj1" fmla="val -91953"/>
              <a:gd name="adj2" fmla="val 42537"/>
            </a:avLst>
          </a:prstGeom>
          <a:gradFill rotWithShape="0">
            <a:gsLst>
              <a:gs pos="0">
                <a:srgbClr val="feebd8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d28b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62120" y="228600"/>
            <a:ext cx="2895480" cy="167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3392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1" marL="653760" indent="-184320">
              <a:spcBef>
                <a:spcPts val="9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2" marL="1022400" indent="-200880">
              <a:spcBef>
                <a:spcPts val="901"/>
              </a:spcBef>
              <a:buClr>
                <a:srgbClr val="a76b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a76b1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a76b1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C50B-2B5F-455F-AC7B-26C1D99993C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685800"/>
            <a:ext cx="6248520" cy="2971800"/>
          </a:xfrm>
          <a:prstGeom prst="cloudCallout">
            <a:avLst>
              <a:gd name="adj1" fmla="val -43370"/>
              <a:gd name="adj2" fmla="val 66935"/>
            </a:avLst>
          </a:prstGeom>
          <a:gradFill rotWithShape="0">
            <a:gsLst>
              <a:gs pos="0">
                <a:srgbClr val="f3e2d1"/>
              </a:gs>
              <a:gs pos="100000">
                <a:srgbClr val="d28b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17181" dir="2438368" blurRad="0" rotWithShape="0">
              <a:srgbClr val="a7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6880" y="114300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FD03-5305-4F59-ADC3-E1263D47E89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09640" y="3733920"/>
            <a:ext cx="206388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2" marL="914400" indent="19080" algn="ctr">
              <a:spcBef>
                <a:spcPts val="499"/>
              </a:spcBef>
              <a:buClr>
                <a:srgbClr val="a76b1b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6b1b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a76b1b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76b1b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6b1b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a76b1b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76b1b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6b1b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a76b1b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6b1b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a76b1b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6b1b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a76b1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6880" y="114300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3399"/>
                </a:solidFill>
                <a:latin typeface="Times New Roman"/>
                <a:ea typeface="標楷體"/>
              </a:rPr>
              <a:t>美食地圖</a:t>
            </a:r>
            <a:endParaRPr b="1" lang="en-US" sz="8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3392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Times New Roman"/>
              </a:rPr>
              <a:t>台南小吃</a:t>
            </a: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再發號肉粽</a:t>
            </a:r>
            <a:br>
              <a:rPr sz="3600"/>
            </a:b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     台南市民權路二段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71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號  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度小月擔仔麵</a:t>
            </a:r>
            <a:br>
              <a:rPr sz="3600"/>
            </a:b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     台南市中正路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16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號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赤崁食堂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棺材板</a:t>
            </a:r>
            <a:br>
              <a:rPr sz="3600"/>
            </a:b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     台南市康樂街市場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號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3:15:55Z</dcterms:created>
  <dc:creator>user</dc:creator>
  <dc:description/>
  <dc:language>en-US</dc:language>
  <cp:lastModifiedBy>user</cp:lastModifiedBy>
  <dcterms:modified xsi:type="dcterms:W3CDTF">2006-03-10T03:20:18Z</dcterms:modified>
  <cp:revision>1</cp:revision>
  <dc:subject/>
  <dc:title>美食地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8</vt:r8>
  </property>
  <property fmtid="{D5CDD505-2E9C-101B-9397-08002B2CF9AE}" pid="3" name="Version">
    <vt:r8>3</vt:r8>
  </property>
</Properties>
</file>