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8C9A4-EC53-4E02-9706-3DD000197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2"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3"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E40F-619D-4E4C-99F6-6A7CF14E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8"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72EE3-046F-4C9D-8D63-4B2253791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60"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4"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5"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8B4E3-D0B1-41C1-BBBD-57ECACB3B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A1E26-D571-446E-9D7F-281856FA2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F49FA-8B90-478A-9F9F-D0C66CB84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831EC-F4E0-41C5-936B-37BAF1882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94AA3-8F49-44BE-9ABD-B0EAAD83A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0E215-457B-4F8F-AEEA-C8C44F8F3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655E-9F32-4904-8A82-77A99FF07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503C-571B-4060-9565-657C867D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0D23-53A6-49E8-9B76-2288B3AF8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FC08D-1B47-4FB7-A19C-7BA5C5A61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4BED5-A77D-4300-8DB7-4B359AB8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ED92C-39A0-4ABC-99A7-021D28219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537D9-5163-4B53-8FAE-68D6A5AAA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09BAC-8ABC-4733-A3C4-450A5D0A6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387C3-0F6C-4CD2-8694-541032A4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8586A-03EC-4DD4-824D-17BF0239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4C0E-96E3-4DA3-828D-246A7C44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7098-5976-4A01-9250-BF8D7D38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8306-E06D-491C-8E00-90E42AB7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6"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AFD4-9D01-469A-9B5E-B6B638204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0"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F6F3-FD96-4E26-A222-0DF7D74C2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B042-75F2-42B0-9BDC-4EB7A933BB5B}"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 name=""/>
          <p:cNvSpPr/>
          <p:nvPr/>
        </p:nvSpPr>
        <p:spPr>
          <a:xfrm>
            <a:off x="4648320" y="7632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29" name=""/>
          <p:cNvSpPr/>
          <p:nvPr/>
        </p:nvSpPr>
        <p:spPr>
          <a:xfrm>
            <a:off x="1065240" y="6135840"/>
            <a:ext cx="333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指導老師：曾用欣</a:t>
            </a: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 name=""/>
          <p:cNvGrpSpPr/>
          <p:nvPr/>
        </p:nvGrpSpPr>
        <p:grpSpPr>
          <a:xfrm>
            <a:off x="151920" y="313920"/>
            <a:ext cx="848160" cy="6543720"/>
            <a:chOff x="151920" y="313920"/>
            <a:chExt cx="848160" cy="6543720"/>
          </a:xfrm>
        </p:grpSpPr>
        <p:sp>
          <p:nvSpPr>
            <p:cNvPr id="70"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150840" y="0"/>
            <a:ext cx="849240" cy="6858000"/>
            <a:chOff x="150840" y="0"/>
            <a:chExt cx="849240" cy="6858000"/>
          </a:xfrm>
        </p:grpSpPr>
        <p:sp>
          <p:nvSpPr>
            <p:cNvPr id="84"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1"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2"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3"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21CF-B5FB-4D73-8D50-C478BFE0BA0E}"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6" name=""/>
          <p:cNvSpPr/>
          <p:nvPr/>
        </p:nvSpPr>
        <p:spPr>
          <a:xfrm>
            <a:off x="4724280" y="763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9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4160" y="1332000"/>
            <a:ext cx="7772400" cy="1311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華康中圓體"/>
                <a:ea typeface="華康中圓體"/>
              </a:rPr>
              <a:t>一個可以轉移蔬菜害蟲吸引力的有機蔬菜培育法</a:t>
            </a:r>
            <a:r>
              <a:rPr b="0" lang="zh-TW" sz="4000" spc="-1" strike="noStrike">
                <a:solidFill>
                  <a:srgbClr val="ccffff"/>
                </a:solidFill>
                <a:latin typeface="華康中圓體"/>
                <a:ea typeface="華康中圓體"/>
              </a:rPr>
              <a:t> </a:t>
            </a:r>
            <a:endParaRPr b="0" lang="en-US" sz="4000" spc="-1" strike="noStrike">
              <a:solidFill>
                <a:srgbClr val="ccffff"/>
              </a:solidFill>
              <a:latin typeface="Arial Black"/>
            </a:endParaRPr>
          </a:p>
        </p:txBody>
      </p:sp>
      <p:sp>
        <p:nvSpPr>
          <p:cNvPr id="135" name="PlaceHolder 2"/>
          <p:cNvSpPr>
            <a:spLocks noGrp="1"/>
          </p:cNvSpPr>
          <p:nvPr>
            <p:ph type="subTitle"/>
          </p:nvPr>
        </p:nvSpPr>
        <p:spPr>
          <a:xfrm>
            <a:off x="2666880" y="3886200"/>
            <a:ext cx="3733920" cy="1333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作者：許家瑜</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就讀學校：明星小學</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指導教師：曾用欣</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268668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ccffff"/>
                </a:solidFill>
                <a:latin typeface="Arial Black"/>
              </a:rPr>
              <a:t>六、提問與回應</a:t>
            </a:r>
            <a:endParaRPr b="0" lang="en-US" sz="5400" spc="-1" strike="noStrike">
              <a:solidFill>
                <a:srgbClr val="ccffff"/>
              </a:solidFill>
              <a:latin typeface="Arial Black"/>
            </a:endParaRPr>
          </a:p>
        </p:txBody>
      </p:sp>
      <p:sp>
        <p:nvSpPr>
          <p:cNvPr id="3" name="PlaceHolder 2"/>
          <p:cNvSpPr>
            <a:spLocks noGrp="1"/>
          </p:cNvSpPr>
          <p:nvPr>
            <p:ph type="sldNum" idx="3"/>
          </p:nvPr>
        </p:nvSpPr>
        <p:spPr/>
        <p:txBody>
          <a:bodyPr/>
          <a:p>
            <a:fld id="{680D3C7B-C9FB-4C8D-AF04-8E890A673F1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簡報大綱</a:t>
            </a:r>
            <a:endParaRPr b="0" lang="en-US" sz="4400" spc="-1" strike="noStrike">
              <a:solidFill>
                <a:srgbClr val="ccffff"/>
              </a:solidFill>
              <a:latin typeface="Arial Black"/>
            </a:endParaRPr>
          </a:p>
        </p:txBody>
      </p:sp>
      <p:sp>
        <p:nvSpPr>
          <p:cNvPr id="137" name="PlaceHolder 2"/>
          <p:cNvSpPr>
            <a:spLocks noGrp="1"/>
          </p:cNvSpPr>
          <p:nvPr>
            <p:ph/>
          </p:nvPr>
        </p:nvSpPr>
        <p:spPr>
          <a:xfrm>
            <a:off x="2066400" y="1980720"/>
            <a:ext cx="6156360" cy="388620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一、研究動機</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二、研究目的</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三、研究方法</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四、實驗結果</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五、結論</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六、提問與回應</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A308C77E-1A74-4BCD-85F0-B12A984072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一、研究動機</a:t>
            </a:r>
            <a:endParaRPr b="0" lang="en-US" sz="4400" spc="-1" strike="noStrike">
              <a:solidFill>
                <a:srgbClr val="ccffff"/>
              </a:solidFill>
              <a:latin typeface="Arial Black"/>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使用化學農藥栽植蔬菜，除了會因人類吃到這些殘餘的農藥，而危害人體的缺失之外，對於土壤也有很大的傷害。</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為了避免上述缺失，目前已掀起以有機栽植法來培育蔬菜的風潮。</a:t>
            </a:r>
            <a:r>
              <a:rPr b="0" lang="zh-TW" sz="3200" spc="-1" strike="noStrike">
                <a:solidFill>
                  <a:srgbClr val="ffffff"/>
                </a:solidFill>
                <a:latin typeface="Arial Black"/>
              </a:rPr>
              <a:t> </a:t>
            </a:r>
            <a:endParaRPr b="0" lang="en-US" sz="32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目前有機栽植法中，部份方法太過耗費人力，導致成本過高，而有些方法則對生態環境帶來一負面影響。</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9353D3FA-0AB6-4F3E-A8D3-5B1E838A80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二、研究目的</a:t>
            </a:r>
            <a:endParaRPr b="0" lang="en-US" sz="4400" spc="-1" strike="noStrike">
              <a:solidFill>
                <a:srgbClr val="ccffff"/>
              </a:solidFill>
              <a:latin typeface="Arial Black"/>
            </a:endParaRPr>
          </a:p>
        </p:txBody>
      </p:sp>
      <p:sp>
        <p:nvSpPr>
          <p:cNvPr id="141" name="PlaceHolder 2"/>
          <p:cNvSpPr>
            <a:spLocks noGrp="1"/>
          </p:cNvSpPr>
          <p:nvPr>
            <p:ph/>
          </p:nvPr>
        </p:nvSpPr>
        <p:spPr>
          <a:xfrm>
            <a:off x="1374840" y="1981080"/>
            <a:ext cx="7540560" cy="36576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提出一個可以轉移蔬菜害蟲吸引力的有機蔬菜培育法。</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以實驗方式驗證所提出的方法是可以達到預期的目的。</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藉由實驗結果，檢討本研究所提的有機蔬菜培育法之優缺點。</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66FC64AF-0B5B-4A8F-898D-3C71B946D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標楷體"/>
              </a:rPr>
              <a:t>基本概念</a:t>
            </a:r>
            <a:endParaRPr b="0" lang="en-US" sz="3200" spc="-1" strike="noStrike">
              <a:solidFill>
                <a:srgbClr val="ccffff"/>
              </a:solidFill>
              <a:latin typeface="Arial Black"/>
            </a:endParaRPr>
          </a:p>
        </p:txBody>
      </p:sp>
      <p:sp>
        <p:nvSpPr>
          <p:cNvPr id="143" name="PlaceHolder 2"/>
          <p:cNvSpPr>
            <a:spLocks noGrp="1"/>
          </p:cNvSpPr>
          <p:nvPr>
            <p:ph/>
          </p:nvPr>
        </p:nvSpPr>
        <p:spPr>
          <a:xfrm>
            <a:off x="685440" y="1981080"/>
            <a:ext cx="792468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每種特定蔬菜都有特定的害蟲，如果能找出這些害蟲最喜愛的植物，並將之栽種於特定蔬菜的附近，轉移害蟲的注意力，應該可以在不破壞生態的情形下，成功降低蔬菜害蟲的危害。</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上述方法不需耗用太多人力，如果害蟲喜愛的植物經濟價值低於該特定蔬菜，將使得我們的構想更具實用性。 </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305BD670-EAB3-478C-B4EE-44BD807FE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過程</a:t>
            </a:r>
            <a:endParaRPr b="0" lang="en-US" sz="3200" spc="-1" strike="noStrike">
              <a:solidFill>
                <a:srgbClr val="ccffff"/>
              </a:solidFill>
              <a:latin typeface="Arial Black"/>
            </a:endParaRPr>
          </a:p>
        </p:txBody>
      </p:sp>
      <p:sp>
        <p:nvSpPr>
          <p:cNvPr id="145"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找出小白菜、茼蒿菜的害蟲。</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茼蒿菜害蟲最喜愛的植物。</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設計</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依序將小白菜、茼蒿菜及ｘ菜的種子植入大型土耕蔬菜培養皿中。</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ｘ菜環繞植於小白菜及茼蒿菜外圍。</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小白菜及茼蒿菜外圍不栽植ｘ菜。</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DE2C05DC-FE29-4EF3-AE6E-5AD3847BA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設備及器材</a:t>
            </a:r>
            <a:r>
              <a:rPr b="0" lang="zh-TW" sz="4400" spc="-1" strike="noStrike">
                <a:solidFill>
                  <a:srgbClr val="ccffff"/>
                </a:solidFill>
                <a:latin typeface="Arial Black"/>
              </a:rPr>
              <a:t> </a:t>
            </a:r>
            <a:endParaRPr b="0" lang="en-US" sz="4400" spc="-1" strike="noStrike">
              <a:solidFill>
                <a:srgbClr val="ccffff"/>
              </a:solidFill>
              <a:latin typeface="Arial Black"/>
            </a:endParaRPr>
          </a:p>
        </p:txBody>
      </p:sp>
      <p:sp>
        <p:nvSpPr>
          <p:cNvPr id="147" name=""/>
          <p:cNvSpPr/>
          <p:nvPr/>
        </p:nvSpPr>
        <p:spPr>
          <a:xfrm>
            <a:off x="1066680" y="2209680"/>
            <a:ext cx="7162920" cy="3195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大型土耕蔬菜培養皿</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照相機</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溫度計</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小白菜、茼蒿菜、ｘ菜的種子</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有機肥</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EB3C873-9367-41A4-8F3E-892AA96E2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四、實驗結果</a:t>
            </a:r>
            <a:endParaRPr b="0" lang="en-US" sz="4400" spc="-1" strike="noStrike">
              <a:solidFill>
                <a:srgbClr val="ccffff"/>
              </a:solidFill>
              <a:latin typeface="Arial Black"/>
            </a:endParaRPr>
          </a:p>
        </p:txBody>
      </p:sp>
      <p:graphicFrame>
        <p:nvGraphicFramePr>
          <p:cNvPr id="149" name=""/>
          <p:cNvGraphicFramePr/>
          <p:nvPr/>
        </p:nvGraphicFramePr>
        <p:xfrm>
          <a:off x="1523880" y="2209680"/>
          <a:ext cx="6553080" cy="3353040"/>
        </p:xfrm>
        <a:graphic>
          <a:graphicData uri="http://schemas.openxmlformats.org/drawingml/2006/table">
            <a:tbl>
              <a:tblPr/>
              <a:tblGrid>
                <a:gridCol w="2184480"/>
                <a:gridCol w="2184120"/>
                <a:gridCol w="2184480"/>
              </a:tblGrid>
              <a:tr h="608400">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99"/>
                          </a:solidFill>
                          <a:latin typeface="Arial Black"/>
                        </a:rPr>
                        <a:t>不同組別中蔬菜表面積被啃食之平均百分比</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組別</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蔬菜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茼蒿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Ｘ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D20A02A4-1113-4FFA-AAC3-69DF4BA67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五、結論</a:t>
            </a:r>
            <a:endParaRPr b="0" lang="en-US" sz="4400" spc="-1" strike="noStrike">
              <a:solidFill>
                <a:srgbClr val="ccffff"/>
              </a:solidFill>
              <a:latin typeface="Arial Black"/>
            </a:endParaRPr>
          </a:p>
        </p:txBody>
      </p:sp>
      <p:sp>
        <p:nvSpPr>
          <p:cNvPr id="151" name="PlaceHolder 2"/>
          <p:cNvSpPr>
            <a:spLocks noGrp="1"/>
          </p:cNvSpPr>
          <p:nvPr>
            <p:ph/>
          </p:nvPr>
        </p:nvSpPr>
        <p:spPr>
          <a:xfrm>
            <a:off x="1066680" y="1981080"/>
            <a:ext cx="784872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研究成果：</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中的小白菜及茼蒿菜表面積被啃食的百分比明顯的低於對照組，初步證實本研究所提出的方法有效。</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229967BE-B2FF-42E9-A010-826BA638F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2T14:41:42Z</dcterms:created>
  <dc:creator>許芳誠</dc:creator>
  <dc:description/>
  <dc:language>en-US</dc:language>
  <cp:lastModifiedBy>思蓉</cp:lastModifiedBy>
  <dcterms:modified xsi:type="dcterms:W3CDTF">2005-03-02T02:29:34Z</dcterms:modified>
  <cp:revision>32</cp:revision>
  <dc:subject/>
  <dc:title>一個可以轉移蔬菜害蟲注意力的有機蔬菜培育法 </dc:title>
</cp:coreProperties>
</file>