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622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2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451480" y="-360"/>
            <a:ext cx="41702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4782-38FF-4A3B-9CAD-2CAADC52F17F}" type="datetime">
              <a:rPr b="0" lang="zh-TW" sz="1200" spc="-1" strike="noStrike">
                <a:solidFill>
                  <a:srgbClr val="000000"/>
                </a:solidFill>
                <a:latin typeface="Arial"/>
              </a:rPr>
              <a:t>115/0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095280" y="517680"/>
            <a:ext cx="3443400" cy="25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6541560"/>
            <a:ext cx="41720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5451480" y="6541560"/>
            <a:ext cx="41702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DAB4-38B0-4480-BBDB-0A8DE43C120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3095640" y="517680"/>
            <a:ext cx="3443400" cy="2582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00"/>
                </a:solidFill>
                <a:uFillTx/>
                <a:latin typeface="Arial"/>
              </a:rPr>
              <a:t>臺灣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本島總面積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5,759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平方公里，面積雖不大但地形種類複雜。主要地形類型有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一、山地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－以中央山脈為脊梁，玉山海拔高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,952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公尺，為東亞第一高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二、丘陵、台地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－分佈在山地、盆地和平原之間，平均約在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公尺以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三、平原、盆地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－只占全島的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1%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，分布零散，是臺灣的精華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3095640" y="517680"/>
            <a:ext cx="3443400" cy="2582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一、山高水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二、四周環海，海岸線綿長多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三、山地多而平原少，地形的比例約為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3095640" y="517680"/>
            <a:ext cx="3443400" cy="2582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臺灣氣候特徵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氣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１、總體來說氣溫高，溫差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２、冬季時山地低於平地；北部低於南部；平地最低月均溫在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14℃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以上。夏季時除了高山以外都在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20℃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以上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雨量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雨量豐沛，降雨分布山地多於平地，東岸多於西岸，北部多於南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0FB8-A71F-40AA-A9D9-74274B96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4960" y="2050560"/>
            <a:ext cx="7985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4960" y="4362480"/>
            <a:ext cx="7985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54E-37DD-4D13-BEBF-5AC07A38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4960" y="2050560"/>
            <a:ext cx="3896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6720" y="2050560"/>
            <a:ext cx="3896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4960" y="4362480"/>
            <a:ext cx="3896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6720" y="4362480"/>
            <a:ext cx="3896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464-F365-4064-AE3A-DF48C800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4960" y="2050560"/>
            <a:ext cx="2571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4960" y="2050560"/>
            <a:ext cx="2571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960" y="2050560"/>
            <a:ext cx="2571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4960" y="4362480"/>
            <a:ext cx="2571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4960" y="4362480"/>
            <a:ext cx="2571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960" y="4362480"/>
            <a:ext cx="2571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543-53DF-42B8-AA63-4AA9FEAF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4960" y="2050560"/>
            <a:ext cx="79851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F36-217F-4ADC-856C-BE3F83F5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4960" y="2050560"/>
            <a:ext cx="79851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C380-CB1D-4DA7-B4B6-94C63881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4960" y="2050560"/>
            <a:ext cx="389664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6720" y="2050560"/>
            <a:ext cx="389664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182-6BFD-4AAB-AC5A-4E0AB596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2E4-2DB3-492E-A6AC-342B636E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7991640" cy="62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596-9D3B-42F4-8BAA-2652FF7A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4960" y="2050560"/>
            <a:ext cx="3896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6720" y="2050560"/>
            <a:ext cx="389664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4960" y="4362480"/>
            <a:ext cx="3896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A0B-05F5-4F38-A6AB-32247DB9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4960" y="2050560"/>
            <a:ext cx="389664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6720" y="2050560"/>
            <a:ext cx="3896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6720" y="4362480"/>
            <a:ext cx="3896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3DB-4ABE-4B51-AE06-B147228B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4960" y="2050560"/>
            <a:ext cx="3896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6720" y="2050560"/>
            <a:ext cx="3896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4960" y="4362480"/>
            <a:ext cx="7985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0622-09BA-41D0-AD36-CA6D32B3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30800"/>
            <a:ext cx="9144000" cy="2554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4960" y="2050560"/>
            <a:ext cx="79851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08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BA54-5686-4040-947F-DA15AF39898E}" type="datetime">
              <a:rPr b="0" lang="zh-TW" sz="2500" spc="-1" strike="noStrike">
                <a:solidFill>
                  <a:srgbClr val="ffffff"/>
                </a:solidFill>
                <a:latin typeface="Arial"/>
              </a:rPr>
              <a:t>115/07/29</a:t>
            </a:fld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31800" y="6408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08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43EF-D4A1-4B83-A9AC-7A1A8B991094}" type="slidenum">
              <a:rPr b="0" lang="zh-TW" sz="2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wb.gov.tw/V3.0/index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ontest.ks.edu.tw/~river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wb.gov.tw/V3.0/index.htm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480" y="-11160"/>
            <a:ext cx="9144000" cy="6889680"/>
          </a:xfrm>
          <a:custGeom>
            <a:avLst/>
            <a:gdLst/>
            <a:ahLst/>
            <a:rect l="l" t="t" r="r" b="b"/>
            <a:pathLst>
              <a:path w="6027" h="2296">
                <a:moveTo>
                  <a:pt x="6027" y="2296"/>
                </a:moveTo>
                <a:lnTo>
                  <a:pt x="0" y="2296"/>
                </a:lnTo>
                <a:lnTo>
                  <a:pt x="0" y="0"/>
                </a:lnTo>
                <a:lnTo>
                  <a:pt x="6027" y="0"/>
                </a:lnTo>
                <a:lnTo>
                  <a:pt x="6027" y="2296"/>
                </a:lnTo>
                <a:lnTo>
                  <a:pt x="6027" y="2296"/>
                </a:lnTo>
                <a:close/>
              </a:path>
            </a:pathLst>
          </a:custGeom>
          <a:gradFill rotWithShape="0">
            <a:gsLst>
              <a:gs pos="0">
                <a:srgbClr val="0000e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447048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500" spc="-1" strike="noStrike">
                <a:solidFill>
                  <a:srgbClr val="ffff99"/>
                </a:solidFill>
                <a:latin typeface="Times New Roman"/>
                <a:ea typeface="華康新特圓體"/>
              </a:rPr>
              <a:t>福爾摩沙</a:t>
            </a:r>
            <a:endParaRPr b="0" lang="en-US" sz="75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920" y="4436640"/>
            <a:ext cx="4983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ee"/>
                </a:solidFill>
                <a:latin typeface="華康細圓體"/>
                <a:ea typeface="華康細圓體"/>
              </a:rPr>
              <a:t>學生姓名：曾詠欣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ee"/>
                </a:solidFill>
                <a:latin typeface="華康細圓體"/>
                <a:ea typeface="華康細圓體"/>
              </a:rPr>
              <a:t>班　　級：五年三班</a:t>
            </a:r>
            <a:r>
              <a:rPr b="1" lang="zh-TW" sz="3500" spc="-1" strike="noStrike">
                <a:solidFill>
                  <a:srgbClr val="0000ee"/>
                </a:solidFill>
                <a:latin typeface="華康細圓體"/>
                <a:ea typeface="華康細圓體"/>
              </a:rPr>
              <a:t>3</a:t>
            </a:r>
            <a:r>
              <a:rPr b="1" lang="zh-TW" sz="3500" spc="-1" strike="noStrike">
                <a:solidFill>
                  <a:srgbClr val="0000ee"/>
                </a:solidFill>
                <a:latin typeface="華康細圓體"/>
                <a:ea typeface="華康細圓體"/>
              </a:rPr>
              <a:t>號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995640" y="1125360"/>
            <a:ext cx="4883040" cy="4572000"/>
            <a:chOff x="3995640" y="1125360"/>
            <a:chExt cx="4883040" cy="4572000"/>
          </a:xfrm>
        </p:grpSpPr>
        <p:sp>
          <p:nvSpPr>
            <p:cNvPr id="53" name=""/>
            <p:cNvSpPr/>
            <p:nvPr/>
          </p:nvSpPr>
          <p:spPr>
            <a:xfrm>
              <a:off x="4260960" y="1125360"/>
              <a:ext cx="4614840" cy="3013200"/>
            </a:xfrm>
            <a:custGeom>
              <a:avLst/>
              <a:gdLst/>
              <a:ahLst/>
              <a:rect l="l" t="t" r="r" b="b"/>
              <a:pathLst>
                <a:path w="2907" h="1898">
                  <a:moveTo>
                    <a:pt x="2860" y="1811"/>
                  </a:moveTo>
                  <a:lnTo>
                    <a:pt x="2826" y="1806"/>
                  </a:lnTo>
                  <a:lnTo>
                    <a:pt x="2791" y="1800"/>
                  </a:lnTo>
                  <a:lnTo>
                    <a:pt x="2754" y="1796"/>
                  </a:lnTo>
                  <a:lnTo>
                    <a:pt x="2719" y="1792"/>
                  </a:lnTo>
                  <a:lnTo>
                    <a:pt x="2678" y="1790"/>
                  </a:lnTo>
                  <a:lnTo>
                    <a:pt x="2641" y="1786"/>
                  </a:lnTo>
                  <a:lnTo>
                    <a:pt x="2600" y="1782"/>
                  </a:lnTo>
                  <a:lnTo>
                    <a:pt x="2559" y="1779"/>
                  </a:lnTo>
                  <a:lnTo>
                    <a:pt x="2519" y="1775"/>
                  </a:lnTo>
                  <a:lnTo>
                    <a:pt x="2478" y="1773"/>
                  </a:lnTo>
                  <a:lnTo>
                    <a:pt x="2434" y="1771"/>
                  </a:lnTo>
                  <a:lnTo>
                    <a:pt x="2390" y="1769"/>
                  </a:lnTo>
                  <a:lnTo>
                    <a:pt x="2346" y="1767"/>
                  </a:lnTo>
                  <a:lnTo>
                    <a:pt x="2302" y="1765"/>
                  </a:lnTo>
                  <a:lnTo>
                    <a:pt x="2259" y="1765"/>
                  </a:lnTo>
                  <a:lnTo>
                    <a:pt x="2212" y="1763"/>
                  </a:lnTo>
                  <a:lnTo>
                    <a:pt x="2152" y="1763"/>
                  </a:lnTo>
                  <a:lnTo>
                    <a:pt x="2089" y="1761"/>
                  </a:lnTo>
                  <a:lnTo>
                    <a:pt x="2027" y="1761"/>
                  </a:lnTo>
                  <a:lnTo>
                    <a:pt x="1964" y="1761"/>
                  </a:lnTo>
                  <a:lnTo>
                    <a:pt x="1901" y="1761"/>
                  </a:lnTo>
                  <a:lnTo>
                    <a:pt x="1839" y="1761"/>
                  </a:lnTo>
                  <a:lnTo>
                    <a:pt x="1773" y="1763"/>
                  </a:lnTo>
                  <a:lnTo>
                    <a:pt x="1710" y="1763"/>
                  </a:lnTo>
                  <a:lnTo>
                    <a:pt x="1645" y="1765"/>
                  </a:lnTo>
                  <a:lnTo>
                    <a:pt x="1582" y="1767"/>
                  </a:lnTo>
                  <a:lnTo>
                    <a:pt x="1516" y="1769"/>
                  </a:lnTo>
                  <a:lnTo>
                    <a:pt x="1450" y="1771"/>
                  </a:lnTo>
                  <a:lnTo>
                    <a:pt x="1388" y="1773"/>
                  </a:lnTo>
                  <a:lnTo>
                    <a:pt x="1322" y="1777"/>
                  </a:lnTo>
                  <a:lnTo>
                    <a:pt x="1256" y="1779"/>
                  </a:lnTo>
                  <a:lnTo>
                    <a:pt x="1193" y="1784"/>
                  </a:lnTo>
                  <a:lnTo>
                    <a:pt x="1134" y="1788"/>
                  </a:lnTo>
                  <a:lnTo>
                    <a:pt x="1074" y="1792"/>
                  </a:lnTo>
                  <a:lnTo>
                    <a:pt x="1015" y="1794"/>
                  </a:lnTo>
                  <a:lnTo>
                    <a:pt x="959" y="1798"/>
                  </a:lnTo>
                  <a:lnTo>
                    <a:pt x="899" y="1804"/>
                  </a:lnTo>
                  <a:lnTo>
                    <a:pt x="843" y="1809"/>
                  </a:lnTo>
                  <a:lnTo>
                    <a:pt x="786" y="1813"/>
                  </a:lnTo>
                  <a:lnTo>
                    <a:pt x="733" y="1817"/>
                  </a:lnTo>
                  <a:lnTo>
                    <a:pt x="677" y="1823"/>
                  </a:lnTo>
                  <a:lnTo>
                    <a:pt x="623" y="1827"/>
                  </a:lnTo>
                  <a:lnTo>
                    <a:pt x="570" y="1833"/>
                  </a:lnTo>
                  <a:lnTo>
                    <a:pt x="520" y="1838"/>
                  </a:lnTo>
                  <a:lnTo>
                    <a:pt x="470" y="1844"/>
                  </a:lnTo>
                  <a:lnTo>
                    <a:pt x="420" y="1848"/>
                  </a:lnTo>
                  <a:lnTo>
                    <a:pt x="373" y="1854"/>
                  </a:lnTo>
                  <a:lnTo>
                    <a:pt x="326" y="1860"/>
                  </a:lnTo>
                  <a:lnTo>
                    <a:pt x="291" y="1865"/>
                  </a:lnTo>
                  <a:lnTo>
                    <a:pt x="257" y="1869"/>
                  </a:lnTo>
                  <a:lnTo>
                    <a:pt x="226" y="1873"/>
                  </a:lnTo>
                  <a:lnTo>
                    <a:pt x="191" y="1877"/>
                  </a:lnTo>
                  <a:lnTo>
                    <a:pt x="163" y="1883"/>
                  </a:lnTo>
                  <a:lnTo>
                    <a:pt x="132" y="1887"/>
                  </a:lnTo>
                  <a:lnTo>
                    <a:pt x="103" y="1892"/>
                  </a:lnTo>
                  <a:lnTo>
                    <a:pt x="75" y="1898"/>
                  </a:lnTo>
                  <a:lnTo>
                    <a:pt x="60" y="1844"/>
                  </a:lnTo>
                  <a:lnTo>
                    <a:pt x="44" y="1790"/>
                  </a:lnTo>
                  <a:lnTo>
                    <a:pt x="31" y="1736"/>
                  </a:lnTo>
                  <a:lnTo>
                    <a:pt x="22" y="1680"/>
                  </a:lnTo>
                  <a:lnTo>
                    <a:pt x="13" y="1622"/>
                  </a:lnTo>
                  <a:lnTo>
                    <a:pt x="6" y="1564"/>
                  </a:lnTo>
                  <a:lnTo>
                    <a:pt x="0" y="1503"/>
                  </a:lnTo>
                  <a:lnTo>
                    <a:pt x="0" y="1441"/>
                  </a:lnTo>
                  <a:lnTo>
                    <a:pt x="0" y="1410"/>
                  </a:lnTo>
                  <a:lnTo>
                    <a:pt x="3" y="1379"/>
                  </a:lnTo>
                  <a:lnTo>
                    <a:pt x="3" y="1350"/>
                  </a:lnTo>
                  <a:lnTo>
                    <a:pt x="6" y="1319"/>
                  </a:lnTo>
                  <a:lnTo>
                    <a:pt x="16" y="1225"/>
                  </a:lnTo>
                  <a:lnTo>
                    <a:pt x="34" y="1132"/>
                  </a:lnTo>
                  <a:lnTo>
                    <a:pt x="56" y="1042"/>
                  </a:lnTo>
                  <a:lnTo>
                    <a:pt x="85" y="953"/>
                  </a:lnTo>
                  <a:lnTo>
                    <a:pt x="113" y="885"/>
                  </a:lnTo>
                  <a:lnTo>
                    <a:pt x="144" y="818"/>
                  </a:lnTo>
                  <a:lnTo>
                    <a:pt x="175" y="754"/>
                  </a:lnTo>
                  <a:lnTo>
                    <a:pt x="213" y="689"/>
                  </a:lnTo>
                  <a:lnTo>
                    <a:pt x="254" y="629"/>
                  </a:lnTo>
                  <a:lnTo>
                    <a:pt x="298" y="569"/>
                  </a:lnTo>
                  <a:lnTo>
                    <a:pt x="341" y="513"/>
                  </a:lnTo>
                  <a:lnTo>
                    <a:pt x="392" y="459"/>
                  </a:lnTo>
                  <a:lnTo>
                    <a:pt x="442" y="407"/>
                  </a:lnTo>
                  <a:lnTo>
                    <a:pt x="498" y="357"/>
                  </a:lnTo>
                  <a:lnTo>
                    <a:pt x="551" y="311"/>
                  </a:lnTo>
                  <a:lnTo>
                    <a:pt x="611" y="268"/>
                  </a:lnTo>
                  <a:lnTo>
                    <a:pt x="673" y="226"/>
                  </a:lnTo>
                  <a:lnTo>
                    <a:pt x="736" y="189"/>
                  </a:lnTo>
                  <a:lnTo>
                    <a:pt x="799" y="156"/>
                  </a:lnTo>
                  <a:lnTo>
                    <a:pt x="868" y="123"/>
                  </a:lnTo>
                  <a:lnTo>
                    <a:pt x="937" y="96"/>
                  </a:lnTo>
                  <a:lnTo>
                    <a:pt x="1006" y="71"/>
                  </a:lnTo>
                  <a:lnTo>
                    <a:pt x="1078" y="50"/>
                  </a:lnTo>
                  <a:lnTo>
                    <a:pt x="1150" y="31"/>
                  </a:lnTo>
                  <a:lnTo>
                    <a:pt x="1225" y="19"/>
                  </a:lnTo>
                  <a:lnTo>
                    <a:pt x="1300" y="8"/>
                  </a:lnTo>
                  <a:lnTo>
                    <a:pt x="1378" y="2"/>
                  </a:lnTo>
                  <a:lnTo>
                    <a:pt x="1457" y="0"/>
                  </a:lnTo>
                  <a:lnTo>
                    <a:pt x="1510" y="0"/>
                  </a:lnTo>
                  <a:lnTo>
                    <a:pt x="1563" y="4"/>
                  </a:lnTo>
                  <a:lnTo>
                    <a:pt x="1613" y="8"/>
                  </a:lnTo>
                  <a:lnTo>
                    <a:pt x="1667" y="15"/>
                  </a:lnTo>
                  <a:lnTo>
                    <a:pt x="1717" y="23"/>
                  </a:lnTo>
                  <a:lnTo>
                    <a:pt x="1767" y="33"/>
                  </a:lnTo>
                  <a:lnTo>
                    <a:pt x="1817" y="46"/>
                  </a:lnTo>
                  <a:lnTo>
                    <a:pt x="1867" y="58"/>
                  </a:lnTo>
                  <a:lnTo>
                    <a:pt x="1914" y="73"/>
                  </a:lnTo>
                  <a:lnTo>
                    <a:pt x="1964" y="91"/>
                  </a:lnTo>
                  <a:lnTo>
                    <a:pt x="2011" y="108"/>
                  </a:lnTo>
                  <a:lnTo>
                    <a:pt x="2058" y="129"/>
                  </a:lnTo>
                  <a:lnTo>
                    <a:pt x="2102" y="150"/>
                  </a:lnTo>
                  <a:lnTo>
                    <a:pt x="2146" y="174"/>
                  </a:lnTo>
                  <a:lnTo>
                    <a:pt x="2190" y="197"/>
                  </a:lnTo>
                  <a:lnTo>
                    <a:pt x="2234" y="224"/>
                  </a:lnTo>
                  <a:lnTo>
                    <a:pt x="2252" y="235"/>
                  </a:lnTo>
                  <a:lnTo>
                    <a:pt x="2268" y="247"/>
                  </a:lnTo>
                  <a:lnTo>
                    <a:pt x="2287" y="260"/>
                  </a:lnTo>
                  <a:lnTo>
                    <a:pt x="2302" y="270"/>
                  </a:lnTo>
                  <a:lnTo>
                    <a:pt x="2321" y="282"/>
                  </a:lnTo>
                  <a:lnTo>
                    <a:pt x="2337" y="295"/>
                  </a:lnTo>
                  <a:lnTo>
                    <a:pt x="2356" y="309"/>
                  </a:lnTo>
                  <a:lnTo>
                    <a:pt x="2371" y="322"/>
                  </a:lnTo>
                  <a:lnTo>
                    <a:pt x="2431" y="372"/>
                  </a:lnTo>
                  <a:lnTo>
                    <a:pt x="2487" y="426"/>
                  </a:lnTo>
                  <a:lnTo>
                    <a:pt x="2540" y="482"/>
                  </a:lnTo>
                  <a:lnTo>
                    <a:pt x="2591" y="542"/>
                  </a:lnTo>
                  <a:lnTo>
                    <a:pt x="2638" y="604"/>
                  </a:lnTo>
                  <a:lnTo>
                    <a:pt x="2681" y="669"/>
                  </a:lnTo>
                  <a:lnTo>
                    <a:pt x="2722" y="735"/>
                  </a:lnTo>
                  <a:lnTo>
                    <a:pt x="2760" y="806"/>
                  </a:lnTo>
                  <a:lnTo>
                    <a:pt x="2782" y="851"/>
                  </a:lnTo>
                  <a:lnTo>
                    <a:pt x="2800" y="897"/>
                  </a:lnTo>
                  <a:lnTo>
                    <a:pt x="2819" y="943"/>
                  </a:lnTo>
                  <a:lnTo>
                    <a:pt x="2838" y="990"/>
                  </a:lnTo>
                  <a:lnTo>
                    <a:pt x="2851" y="1038"/>
                  </a:lnTo>
                  <a:lnTo>
                    <a:pt x="2863" y="1088"/>
                  </a:lnTo>
                  <a:lnTo>
                    <a:pt x="2876" y="1138"/>
                  </a:lnTo>
                  <a:lnTo>
                    <a:pt x="2885" y="1188"/>
                  </a:lnTo>
                  <a:lnTo>
                    <a:pt x="2894" y="1238"/>
                  </a:lnTo>
                  <a:lnTo>
                    <a:pt x="2901" y="1287"/>
                  </a:lnTo>
                  <a:lnTo>
                    <a:pt x="2904" y="1337"/>
                  </a:lnTo>
                  <a:lnTo>
                    <a:pt x="2907" y="1387"/>
                  </a:lnTo>
                  <a:lnTo>
                    <a:pt x="2907" y="1402"/>
                  </a:lnTo>
                  <a:lnTo>
                    <a:pt x="2907" y="1414"/>
                  </a:lnTo>
                  <a:lnTo>
                    <a:pt x="2907" y="1427"/>
                  </a:lnTo>
                  <a:lnTo>
                    <a:pt x="2907" y="1441"/>
                  </a:lnTo>
                  <a:lnTo>
                    <a:pt x="2907" y="1451"/>
                  </a:lnTo>
                  <a:lnTo>
                    <a:pt x="2907" y="1462"/>
                  </a:lnTo>
                  <a:lnTo>
                    <a:pt x="2907" y="1474"/>
                  </a:lnTo>
                  <a:lnTo>
                    <a:pt x="2907" y="1485"/>
                  </a:lnTo>
                  <a:lnTo>
                    <a:pt x="2907" y="1503"/>
                  </a:lnTo>
                  <a:lnTo>
                    <a:pt x="2907" y="1522"/>
                  </a:lnTo>
                  <a:lnTo>
                    <a:pt x="2904" y="1541"/>
                  </a:lnTo>
                  <a:lnTo>
                    <a:pt x="2904" y="1561"/>
                  </a:lnTo>
                  <a:lnTo>
                    <a:pt x="2901" y="1570"/>
                  </a:lnTo>
                  <a:lnTo>
                    <a:pt x="2901" y="1578"/>
                  </a:lnTo>
                  <a:lnTo>
                    <a:pt x="2901" y="1586"/>
                  </a:lnTo>
                  <a:lnTo>
                    <a:pt x="2901" y="1595"/>
                  </a:lnTo>
                  <a:lnTo>
                    <a:pt x="2898" y="1628"/>
                  </a:lnTo>
                  <a:lnTo>
                    <a:pt x="2891" y="1659"/>
                  </a:lnTo>
                  <a:lnTo>
                    <a:pt x="2888" y="1690"/>
                  </a:lnTo>
                  <a:lnTo>
                    <a:pt x="2882" y="1721"/>
                  </a:lnTo>
                  <a:lnTo>
                    <a:pt x="2876" y="1744"/>
                  </a:lnTo>
                  <a:lnTo>
                    <a:pt x="2873" y="1765"/>
                  </a:lnTo>
                  <a:lnTo>
                    <a:pt x="2866" y="1788"/>
                  </a:lnTo>
                  <a:lnTo>
                    <a:pt x="2860" y="1811"/>
                  </a:lnTo>
                  <a:close/>
                </a:path>
              </a:pathLst>
            </a:custGeom>
            <a:gradFill rotWithShape="0">
              <a:gsLst>
                <a:gs pos="0">
                  <a:srgbClr val="75e7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60960" y="1563480"/>
              <a:ext cx="4539960" cy="2575080"/>
            </a:xfrm>
            <a:custGeom>
              <a:avLst/>
              <a:gdLst/>
              <a:ahLst/>
              <a:rect l="l" t="t" r="r" b="b"/>
              <a:pathLst>
                <a:path w="2860" h="1622">
                  <a:moveTo>
                    <a:pt x="2860" y="1535"/>
                  </a:moveTo>
                  <a:lnTo>
                    <a:pt x="2826" y="1530"/>
                  </a:lnTo>
                  <a:lnTo>
                    <a:pt x="2791" y="1524"/>
                  </a:lnTo>
                  <a:lnTo>
                    <a:pt x="2754" y="1520"/>
                  </a:lnTo>
                  <a:lnTo>
                    <a:pt x="2719" y="1516"/>
                  </a:lnTo>
                  <a:lnTo>
                    <a:pt x="2678" y="1514"/>
                  </a:lnTo>
                  <a:lnTo>
                    <a:pt x="2641" y="1510"/>
                  </a:lnTo>
                  <a:lnTo>
                    <a:pt x="2600" y="1506"/>
                  </a:lnTo>
                  <a:lnTo>
                    <a:pt x="2559" y="1503"/>
                  </a:lnTo>
                  <a:lnTo>
                    <a:pt x="2519" y="1499"/>
                  </a:lnTo>
                  <a:lnTo>
                    <a:pt x="2478" y="1497"/>
                  </a:lnTo>
                  <a:lnTo>
                    <a:pt x="2434" y="1495"/>
                  </a:lnTo>
                  <a:lnTo>
                    <a:pt x="2390" y="1493"/>
                  </a:lnTo>
                  <a:lnTo>
                    <a:pt x="2346" y="1491"/>
                  </a:lnTo>
                  <a:lnTo>
                    <a:pt x="2302" y="1489"/>
                  </a:lnTo>
                  <a:lnTo>
                    <a:pt x="2259" y="1489"/>
                  </a:lnTo>
                  <a:lnTo>
                    <a:pt x="2212" y="1487"/>
                  </a:lnTo>
                  <a:lnTo>
                    <a:pt x="2152" y="1487"/>
                  </a:lnTo>
                  <a:lnTo>
                    <a:pt x="2089" y="1485"/>
                  </a:lnTo>
                  <a:lnTo>
                    <a:pt x="2027" y="1485"/>
                  </a:lnTo>
                  <a:lnTo>
                    <a:pt x="1964" y="1485"/>
                  </a:lnTo>
                  <a:lnTo>
                    <a:pt x="1901" y="1485"/>
                  </a:lnTo>
                  <a:lnTo>
                    <a:pt x="1839" y="1485"/>
                  </a:lnTo>
                  <a:lnTo>
                    <a:pt x="1773" y="1487"/>
                  </a:lnTo>
                  <a:lnTo>
                    <a:pt x="1710" y="1487"/>
                  </a:lnTo>
                  <a:lnTo>
                    <a:pt x="1645" y="1489"/>
                  </a:lnTo>
                  <a:lnTo>
                    <a:pt x="1582" y="1491"/>
                  </a:lnTo>
                  <a:lnTo>
                    <a:pt x="1516" y="1493"/>
                  </a:lnTo>
                  <a:lnTo>
                    <a:pt x="1450" y="1495"/>
                  </a:lnTo>
                  <a:lnTo>
                    <a:pt x="1388" y="1497"/>
                  </a:lnTo>
                  <a:lnTo>
                    <a:pt x="1322" y="1501"/>
                  </a:lnTo>
                  <a:lnTo>
                    <a:pt x="1256" y="1503"/>
                  </a:lnTo>
                  <a:lnTo>
                    <a:pt x="1193" y="1508"/>
                  </a:lnTo>
                  <a:lnTo>
                    <a:pt x="1134" y="1512"/>
                  </a:lnTo>
                  <a:lnTo>
                    <a:pt x="1074" y="1516"/>
                  </a:lnTo>
                  <a:lnTo>
                    <a:pt x="1015" y="1518"/>
                  </a:lnTo>
                  <a:lnTo>
                    <a:pt x="959" y="1522"/>
                  </a:lnTo>
                  <a:lnTo>
                    <a:pt x="899" y="1528"/>
                  </a:lnTo>
                  <a:lnTo>
                    <a:pt x="843" y="1533"/>
                  </a:lnTo>
                  <a:lnTo>
                    <a:pt x="786" y="1537"/>
                  </a:lnTo>
                  <a:lnTo>
                    <a:pt x="733" y="1541"/>
                  </a:lnTo>
                  <a:lnTo>
                    <a:pt x="677" y="1547"/>
                  </a:lnTo>
                  <a:lnTo>
                    <a:pt x="623" y="1551"/>
                  </a:lnTo>
                  <a:lnTo>
                    <a:pt x="570" y="1557"/>
                  </a:lnTo>
                  <a:lnTo>
                    <a:pt x="520" y="1562"/>
                  </a:lnTo>
                  <a:lnTo>
                    <a:pt x="470" y="1568"/>
                  </a:lnTo>
                  <a:lnTo>
                    <a:pt x="420" y="1572"/>
                  </a:lnTo>
                  <a:lnTo>
                    <a:pt x="373" y="1578"/>
                  </a:lnTo>
                  <a:lnTo>
                    <a:pt x="326" y="1584"/>
                  </a:lnTo>
                  <a:lnTo>
                    <a:pt x="291" y="1589"/>
                  </a:lnTo>
                  <a:lnTo>
                    <a:pt x="257" y="1593"/>
                  </a:lnTo>
                  <a:lnTo>
                    <a:pt x="226" y="1597"/>
                  </a:lnTo>
                  <a:lnTo>
                    <a:pt x="191" y="1601"/>
                  </a:lnTo>
                  <a:lnTo>
                    <a:pt x="163" y="1607"/>
                  </a:lnTo>
                  <a:lnTo>
                    <a:pt x="132" y="1611"/>
                  </a:lnTo>
                  <a:lnTo>
                    <a:pt x="103" y="1616"/>
                  </a:lnTo>
                  <a:lnTo>
                    <a:pt x="75" y="1622"/>
                  </a:lnTo>
                  <a:lnTo>
                    <a:pt x="60" y="1568"/>
                  </a:lnTo>
                  <a:lnTo>
                    <a:pt x="44" y="1514"/>
                  </a:lnTo>
                  <a:lnTo>
                    <a:pt x="31" y="1460"/>
                  </a:lnTo>
                  <a:lnTo>
                    <a:pt x="22" y="1404"/>
                  </a:lnTo>
                  <a:lnTo>
                    <a:pt x="13" y="1346"/>
                  </a:lnTo>
                  <a:lnTo>
                    <a:pt x="6" y="1288"/>
                  </a:lnTo>
                  <a:lnTo>
                    <a:pt x="0" y="1227"/>
                  </a:lnTo>
                  <a:lnTo>
                    <a:pt x="0" y="1165"/>
                  </a:lnTo>
                  <a:lnTo>
                    <a:pt x="0" y="1134"/>
                  </a:lnTo>
                  <a:lnTo>
                    <a:pt x="3" y="1103"/>
                  </a:lnTo>
                  <a:lnTo>
                    <a:pt x="3" y="1074"/>
                  </a:lnTo>
                  <a:lnTo>
                    <a:pt x="6" y="1043"/>
                  </a:lnTo>
                  <a:lnTo>
                    <a:pt x="16" y="949"/>
                  </a:lnTo>
                  <a:lnTo>
                    <a:pt x="34" y="856"/>
                  </a:lnTo>
                  <a:lnTo>
                    <a:pt x="56" y="766"/>
                  </a:lnTo>
                  <a:lnTo>
                    <a:pt x="85" y="677"/>
                  </a:lnTo>
                  <a:lnTo>
                    <a:pt x="113" y="609"/>
                  </a:lnTo>
                  <a:lnTo>
                    <a:pt x="144" y="542"/>
                  </a:lnTo>
                  <a:lnTo>
                    <a:pt x="175" y="478"/>
                  </a:lnTo>
                  <a:lnTo>
                    <a:pt x="213" y="413"/>
                  </a:lnTo>
                  <a:lnTo>
                    <a:pt x="254" y="353"/>
                  </a:lnTo>
                  <a:lnTo>
                    <a:pt x="298" y="293"/>
                  </a:lnTo>
                  <a:lnTo>
                    <a:pt x="341" y="237"/>
                  </a:lnTo>
                  <a:lnTo>
                    <a:pt x="392" y="183"/>
                  </a:lnTo>
                  <a:lnTo>
                    <a:pt x="460" y="210"/>
                  </a:lnTo>
                  <a:lnTo>
                    <a:pt x="489" y="189"/>
                  </a:lnTo>
                  <a:lnTo>
                    <a:pt x="520" y="166"/>
                  </a:lnTo>
                  <a:lnTo>
                    <a:pt x="551" y="146"/>
                  </a:lnTo>
                  <a:lnTo>
                    <a:pt x="583" y="125"/>
                  </a:lnTo>
                  <a:lnTo>
                    <a:pt x="611" y="106"/>
                  </a:lnTo>
                  <a:lnTo>
                    <a:pt x="636" y="92"/>
                  </a:lnTo>
                  <a:lnTo>
                    <a:pt x="655" y="77"/>
                  </a:lnTo>
                  <a:lnTo>
                    <a:pt x="667" y="69"/>
                  </a:lnTo>
                  <a:lnTo>
                    <a:pt x="677" y="60"/>
                  </a:lnTo>
                  <a:lnTo>
                    <a:pt x="692" y="50"/>
                  </a:lnTo>
                  <a:lnTo>
                    <a:pt x="708" y="38"/>
                  </a:lnTo>
                  <a:lnTo>
                    <a:pt x="727" y="27"/>
                  </a:lnTo>
                  <a:lnTo>
                    <a:pt x="746" y="17"/>
                  </a:lnTo>
                  <a:lnTo>
                    <a:pt x="761" y="8"/>
                  </a:lnTo>
                  <a:lnTo>
                    <a:pt x="774" y="2"/>
                  </a:lnTo>
                  <a:lnTo>
                    <a:pt x="783" y="0"/>
                  </a:lnTo>
                  <a:lnTo>
                    <a:pt x="796" y="38"/>
                  </a:lnTo>
                  <a:lnTo>
                    <a:pt x="808" y="77"/>
                  </a:lnTo>
                  <a:lnTo>
                    <a:pt x="818" y="112"/>
                  </a:lnTo>
                  <a:lnTo>
                    <a:pt x="821" y="137"/>
                  </a:lnTo>
                  <a:lnTo>
                    <a:pt x="858" y="108"/>
                  </a:lnTo>
                  <a:lnTo>
                    <a:pt x="858" y="173"/>
                  </a:lnTo>
                  <a:lnTo>
                    <a:pt x="861" y="256"/>
                  </a:lnTo>
                  <a:lnTo>
                    <a:pt x="874" y="343"/>
                  </a:lnTo>
                  <a:lnTo>
                    <a:pt x="899" y="424"/>
                  </a:lnTo>
                  <a:lnTo>
                    <a:pt x="905" y="440"/>
                  </a:lnTo>
                  <a:lnTo>
                    <a:pt x="915" y="457"/>
                  </a:lnTo>
                  <a:lnTo>
                    <a:pt x="924" y="472"/>
                  </a:lnTo>
                  <a:lnTo>
                    <a:pt x="937" y="484"/>
                  </a:lnTo>
                  <a:lnTo>
                    <a:pt x="946" y="469"/>
                  </a:lnTo>
                  <a:lnTo>
                    <a:pt x="955" y="455"/>
                  </a:lnTo>
                  <a:lnTo>
                    <a:pt x="965" y="438"/>
                  </a:lnTo>
                  <a:lnTo>
                    <a:pt x="974" y="420"/>
                  </a:lnTo>
                  <a:lnTo>
                    <a:pt x="996" y="388"/>
                  </a:lnTo>
                  <a:lnTo>
                    <a:pt x="1018" y="357"/>
                  </a:lnTo>
                  <a:lnTo>
                    <a:pt x="1040" y="326"/>
                  </a:lnTo>
                  <a:lnTo>
                    <a:pt x="1062" y="299"/>
                  </a:lnTo>
                  <a:lnTo>
                    <a:pt x="1084" y="274"/>
                  </a:lnTo>
                  <a:lnTo>
                    <a:pt x="1103" y="253"/>
                  </a:lnTo>
                  <a:lnTo>
                    <a:pt x="1121" y="241"/>
                  </a:lnTo>
                  <a:lnTo>
                    <a:pt x="1134" y="235"/>
                  </a:lnTo>
                  <a:lnTo>
                    <a:pt x="1150" y="249"/>
                  </a:lnTo>
                  <a:lnTo>
                    <a:pt x="1156" y="287"/>
                  </a:lnTo>
                  <a:lnTo>
                    <a:pt x="1165" y="341"/>
                  </a:lnTo>
                  <a:lnTo>
                    <a:pt x="1184" y="399"/>
                  </a:lnTo>
                  <a:lnTo>
                    <a:pt x="1200" y="426"/>
                  </a:lnTo>
                  <a:lnTo>
                    <a:pt x="1219" y="449"/>
                  </a:lnTo>
                  <a:lnTo>
                    <a:pt x="1244" y="472"/>
                  </a:lnTo>
                  <a:lnTo>
                    <a:pt x="1275" y="488"/>
                  </a:lnTo>
                  <a:lnTo>
                    <a:pt x="1287" y="478"/>
                  </a:lnTo>
                  <a:lnTo>
                    <a:pt x="1303" y="465"/>
                  </a:lnTo>
                  <a:lnTo>
                    <a:pt x="1322" y="453"/>
                  </a:lnTo>
                  <a:lnTo>
                    <a:pt x="1338" y="442"/>
                  </a:lnTo>
                  <a:lnTo>
                    <a:pt x="1353" y="430"/>
                  </a:lnTo>
                  <a:lnTo>
                    <a:pt x="1372" y="420"/>
                  </a:lnTo>
                  <a:lnTo>
                    <a:pt x="1388" y="411"/>
                  </a:lnTo>
                  <a:lnTo>
                    <a:pt x="1400" y="403"/>
                  </a:lnTo>
                  <a:lnTo>
                    <a:pt x="1422" y="424"/>
                  </a:lnTo>
                  <a:lnTo>
                    <a:pt x="1438" y="445"/>
                  </a:lnTo>
                  <a:lnTo>
                    <a:pt x="1444" y="463"/>
                  </a:lnTo>
                  <a:lnTo>
                    <a:pt x="1447" y="469"/>
                  </a:lnTo>
                  <a:lnTo>
                    <a:pt x="1432" y="484"/>
                  </a:lnTo>
                  <a:lnTo>
                    <a:pt x="1428" y="503"/>
                  </a:lnTo>
                  <a:lnTo>
                    <a:pt x="1438" y="521"/>
                  </a:lnTo>
                  <a:lnTo>
                    <a:pt x="1460" y="538"/>
                  </a:lnTo>
                  <a:lnTo>
                    <a:pt x="1469" y="544"/>
                  </a:lnTo>
                  <a:lnTo>
                    <a:pt x="1479" y="550"/>
                  </a:lnTo>
                  <a:lnTo>
                    <a:pt x="1491" y="561"/>
                  </a:lnTo>
                  <a:lnTo>
                    <a:pt x="1504" y="573"/>
                  </a:lnTo>
                  <a:lnTo>
                    <a:pt x="1519" y="586"/>
                  </a:lnTo>
                  <a:lnTo>
                    <a:pt x="1535" y="600"/>
                  </a:lnTo>
                  <a:lnTo>
                    <a:pt x="1551" y="615"/>
                  </a:lnTo>
                  <a:lnTo>
                    <a:pt x="1566" y="629"/>
                  </a:lnTo>
                  <a:lnTo>
                    <a:pt x="1591" y="650"/>
                  </a:lnTo>
                  <a:lnTo>
                    <a:pt x="1616" y="669"/>
                  </a:lnTo>
                  <a:lnTo>
                    <a:pt x="1635" y="683"/>
                  </a:lnTo>
                  <a:lnTo>
                    <a:pt x="1654" y="696"/>
                  </a:lnTo>
                  <a:lnTo>
                    <a:pt x="1673" y="706"/>
                  </a:lnTo>
                  <a:lnTo>
                    <a:pt x="1692" y="719"/>
                  </a:lnTo>
                  <a:lnTo>
                    <a:pt x="1704" y="731"/>
                  </a:lnTo>
                  <a:lnTo>
                    <a:pt x="1720" y="744"/>
                  </a:lnTo>
                  <a:lnTo>
                    <a:pt x="1732" y="756"/>
                  </a:lnTo>
                  <a:lnTo>
                    <a:pt x="1742" y="768"/>
                  </a:lnTo>
                  <a:lnTo>
                    <a:pt x="1751" y="779"/>
                  </a:lnTo>
                  <a:lnTo>
                    <a:pt x="1760" y="787"/>
                  </a:lnTo>
                  <a:lnTo>
                    <a:pt x="1770" y="798"/>
                  </a:lnTo>
                  <a:lnTo>
                    <a:pt x="1786" y="812"/>
                  </a:lnTo>
                  <a:lnTo>
                    <a:pt x="1807" y="829"/>
                  </a:lnTo>
                  <a:lnTo>
                    <a:pt x="1829" y="847"/>
                  </a:lnTo>
                  <a:lnTo>
                    <a:pt x="1854" y="866"/>
                  </a:lnTo>
                  <a:lnTo>
                    <a:pt x="1880" y="885"/>
                  </a:lnTo>
                  <a:lnTo>
                    <a:pt x="1908" y="903"/>
                  </a:lnTo>
                  <a:lnTo>
                    <a:pt x="1933" y="920"/>
                  </a:lnTo>
                  <a:lnTo>
                    <a:pt x="1958" y="939"/>
                  </a:lnTo>
                  <a:lnTo>
                    <a:pt x="1980" y="962"/>
                  </a:lnTo>
                  <a:lnTo>
                    <a:pt x="2002" y="986"/>
                  </a:lnTo>
                  <a:lnTo>
                    <a:pt x="2024" y="1013"/>
                  </a:lnTo>
                  <a:lnTo>
                    <a:pt x="2042" y="1040"/>
                  </a:lnTo>
                  <a:lnTo>
                    <a:pt x="2061" y="1065"/>
                  </a:lnTo>
                  <a:lnTo>
                    <a:pt x="2080" y="1084"/>
                  </a:lnTo>
                  <a:lnTo>
                    <a:pt x="2099" y="1097"/>
                  </a:lnTo>
                  <a:lnTo>
                    <a:pt x="2121" y="1105"/>
                  </a:lnTo>
                  <a:lnTo>
                    <a:pt x="2146" y="1113"/>
                  </a:lnTo>
                  <a:lnTo>
                    <a:pt x="2174" y="1121"/>
                  </a:lnTo>
                  <a:lnTo>
                    <a:pt x="2205" y="1128"/>
                  </a:lnTo>
                  <a:lnTo>
                    <a:pt x="2234" y="1138"/>
                  </a:lnTo>
                  <a:lnTo>
                    <a:pt x="2262" y="1148"/>
                  </a:lnTo>
                  <a:lnTo>
                    <a:pt x="2287" y="1159"/>
                  </a:lnTo>
                  <a:lnTo>
                    <a:pt x="2306" y="1173"/>
                  </a:lnTo>
                  <a:lnTo>
                    <a:pt x="2324" y="1190"/>
                  </a:lnTo>
                  <a:lnTo>
                    <a:pt x="2346" y="1209"/>
                  </a:lnTo>
                  <a:lnTo>
                    <a:pt x="2371" y="1229"/>
                  </a:lnTo>
                  <a:lnTo>
                    <a:pt x="2396" y="1248"/>
                  </a:lnTo>
                  <a:lnTo>
                    <a:pt x="2418" y="1269"/>
                  </a:lnTo>
                  <a:lnTo>
                    <a:pt x="2440" y="1285"/>
                  </a:lnTo>
                  <a:lnTo>
                    <a:pt x="2459" y="1300"/>
                  </a:lnTo>
                  <a:lnTo>
                    <a:pt x="2475" y="1310"/>
                  </a:lnTo>
                  <a:lnTo>
                    <a:pt x="2490" y="1323"/>
                  </a:lnTo>
                  <a:lnTo>
                    <a:pt x="2509" y="1337"/>
                  </a:lnTo>
                  <a:lnTo>
                    <a:pt x="2531" y="1358"/>
                  </a:lnTo>
                  <a:lnTo>
                    <a:pt x="2553" y="1377"/>
                  </a:lnTo>
                  <a:lnTo>
                    <a:pt x="2578" y="1398"/>
                  </a:lnTo>
                  <a:lnTo>
                    <a:pt x="2600" y="1416"/>
                  </a:lnTo>
                  <a:lnTo>
                    <a:pt x="2625" y="1431"/>
                  </a:lnTo>
                  <a:lnTo>
                    <a:pt x="2644" y="1439"/>
                  </a:lnTo>
                  <a:lnTo>
                    <a:pt x="2669" y="1445"/>
                  </a:lnTo>
                  <a:lnTo>
                    <a:pt x="2700" y="1456"/>
                  </a:lnTo>
                  <a:lnTo>
                    <a:pt x="2738" y="1468"/>
                  </a:lnTo>
                  <a:lnTo>
                    <a:pt x="2772" y="1481"/>
                  </a:lnTo>
                  <a:lnTo>
                    <a:pt x="2807" y="1495"/>
                  </a:lnTo>
                  <a:lnTo>
                    <a:pt x="2835" y="1508"/>
                  </a:lnTo>
                  <a:lnTo>
                    <a:pt x="2854" y="1522"/>
                  </a:lnTo>
                  <a:lnTo>
                    <a:pt x="2860" y="1535"/>
                  </a:lnTo>
                  <a:close/>
                </a:path>
              </a:pathLst>
            </a:custGeom>
            <a:gradFill rotWithShape="0">
              <a:gsLst>
                <a:gs pos="0">
                  <a:srgbClr val="004a00"/>
                </a:gs>
                <a:gs pos="100000">
                  <a:srgbClr val="82a6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97320" y="3765240"/>
              <a:ext cx="3476520" cy="932040"/>
            </a:xfrm>
            <a:custGeom>
              <a:avLst/>
              <a:gdLst/>
              <a:ahLst/>
              <a:rect l="l" t="t" r="r" b="b"/>
              <a:pathLst>
                <a:path w="2190" h="587">
                  <a:moveTo>
                    <a:pt x="36" y="225"/>
                  </a:moveTo>
                  <a:cubicBezTo>
                    <a:pt x="51" y="255"/>
                    <a:pt x="57" y="293"/>
                    <a:pt x="82" y="316"/>
                  </a:cubicBezTo>
                  <a:cubicBezTo>
                    <a:pt x="100" y="333"/>
                    <a:pt x="203" y="343"/>
                    <a:pt x="240" y="359"/>
                  </a:cubicBezTo>
                  <a:cubicBezTo>
                    <a:pt x="355" y="410"/>
                    <a:pt x="467" y="460"/>
                    <a:pt x="594" y="473"/>
                  </a:cubicBezTo>
                  <a:cubicBezTo>
                    <a:pt x="657" y="489"/>
                    <a:pt x="721" y="495"/>
                    <a:pt x="786" y="503"/>
                  </a:cubicBezTo>
                  <a:cubicBezTo>
                    <a:pt x="847" y="511"/>
                    <a:pt x="905" y="527"/>
                    <a:pt x="966" y="533"/>
                  </a:cubicBezTo>
                  <a:cubicBezTo>
                    <a:pt x="1069" y="559"/>
                    <a:pt x="1173" y="564"/>
                    <a:pt x="1278" y="569"/>
                  </a:cubicBezTo>
                  <a:cubicBezTo>
                    <a:pt x="1353" y="582"/>
                    <a:pt x="1506" y="587"/>
                    <a:pt x="1506" y="587"/>
                  </a:cubicBezTo>
                  <a:cubicBezTo>
                    <a:pt x="1681" y="584"/>
                    <a:pt x="1804" y="583"/>
                    <a:pt x="1962" y="563"/>
                  </a:cubicBezTo>
                  <a:cubicBezTo>
                    <a:pt x="2003" y="549"/>
                    <a:pt x="2041" y="529"/>
                    <a:pt x="2082" y="515"/>
                  </a:cubicBezTo>
                  <a:cubicBezTo>
                    <a:pt x="2162" y="435"/>
                    <a:pt x="2160" y="453"/>
                    <a:pt x="2178" y="347"/>
                  </a:cubicBezTo>
                  <a:cubicBezTo>
                    <a:pt x="2173" y="275"/>
                    <a:pt x="2190" y="197"/>
                    <a:pt x="2160" y="131"/>
                  </a:cubicBezTo>
                  <a:cubicBezTo>
                    <a:pt x="2144" y="96"/>
                    <a:pt x="2077" y="108"/>
                    <a:pt x="2046" y="101"/>
                  </a:cubicBezTo>
                  <a:cubicBezTo>
                    <a:pt x="1896" y="67"/>
                    <a:pt x="1765" y="58"/>
                    <a:pt x="1608" y="53"/>
                  </a:cubicBezTo>
                  <a:cubicBezTo>
                    <a:pt x="1187" y="0"/>
                    <a:pt x="716" y="49"/>
                    <a:pt x="288" y="59"/>
                  </a:cubicBezTo>
                  <a:cubicBezTo>
                    <a:pt x="162" y="70"/>
                    <a:pt x="244" y="65"/>
                    <a:pt x="42" y="65"/>
                  </a:cubicBezTo>
                  <a:lnTo>
                    <a:pt x="0" y="77"/>
                  </a:lnTo>
                  <a:lnTo>
                    <a:pt x="36" y="22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51320" y="1930320"/>
              <a:ext cx="4524480" cy="2070000"/>
            </a:xfrm>
            <a:custGeom>
              <a:avLst/>
              <a:gdLst/>
              <a:ahLst/>
              <a:rect l="l" t="t" r="r" b="b"/>
              <a:pathLst>
                <a:path w="2850" h="1304">
                  <a:moveTo>
                    <a:pt x="2703" y="299"/>
                  </a:moveTo>
                  <a:lnTo>
                    <a:pt x="2725" y="344"/>
                  </a:lnTo>
                  <a:lnTo>
                    <a:pt x="2743" y="390"/>
                  </a:lnTo>
                  <a:lnTo>
                    <a:pt x="2762" y="436"/>
                  </a:lnTo>
                  <a:lnTo>
                    <a:pt x="2781" y="483"/>
                  </a:lnTo>
                  <a:lnTo>
                    <a:pt x="2794" y="531"/>
                  </a:lnTo>
                  <a:lnTo>
                    <a:pt x="2806" y="581"/>
                  </a:lnTo>
                  <a:lnTo>
                    <a:pt x="2819" y="631"/>
                  </a:lnTo>
                  <a:lnTo>
                    <a:pt x="2828" y="681"/>
                  </a:lnTo>
                  <a:lnTo>
                    <a:pt x="2837" y="731"/>
                  </a:lnTo>
                  <a:lnTo>
                    <a:pt x="2844" y="780"/>
                  </a:lnTo>
                  <a:lnTo>
                    <a:pt x="2847" y="830"/>
                  </a:lnTo>
                  <a:lnTo>
                    <a:pt x="2850" y="880"/>
                  </a:lnTo>
                  <a:lnTo>
                    <a:pt x="2850" y="895"/>
                  </a:lnTo>
                  <a:lnTo>
                    <a:pt x="2850" y="907"/>
                  </a:lnTo>
                  <a:lnTo>
                    <a:pt x="2850" y="920"/>
                  </a:lnTo>
                  <a:lnTo>
                    <a:pt x="2850" y="934"/>
                  </a:lnTo>
                  <a:lnTo>
                    <a:pt x="2850" y="944"/>
                  </a:lnTo>
                  <a:lnTo>
                    <a:pt x="2850" y="955"/>
                  </a:lnTo>
                  <a:lnTo>
                    <a:pt x="2850" y="967"/>
                  </a:lnTo>
                  <a:lnTo>
                    <a:pt x="2850" y="978"/>
                  </a:lnTo>
                  <a:lnTo>
                    <a:pt x="2850" y="996"/>
                  </a:lnTo>
                  <a:lnTo>
                    <a:pt x="2850" y="1015"/>
                  </a:lnTo>
                  <a:lnTo>
                    <a:pt x="2847" y="1034"/>
                  </a:lnTo>
                  <a:lnTo>
                    <a:pt x="2847" y="1054"/>
                  </a:lnTo>
                  <a:lnTo>
                    <a:pt x="2844" y="1063"/>
                  </a:lnTo>
                  <a:lnTo>
                    <a:pt x="2844" y="1071"/>
                  </a:lnTo>
                  <a:lnTo>
                    <a:pt x="2844" y="1079"/>
                  </a:lnTo>
                  <a:lnTo>
                    <a:pt x="2844" y="1088"/>
                  </a:lnTo>
                  <a:lnTo>
                    <a:pt x="2841" y="1121"/>
                  </a:lnTo>
                  <a:lnTo>
                    <a:pt x="2834" y="1152"/>
                  </a:lnTo>
                  <a:lnTo>
                    <a:pt x="2831" y="1183"/>
                  </a:lnTo>
                  <a:lnTo>
                    <a:pt x="2825" y="1214"/>
                  </a:lnTo>
                  <a:lnTo>
                    <a:pt x="2819" y="1237"/>
                  </a:lnTo>
                  <a:lnTo>
                    <a:pt x="2816" y="1258"/>
                  </a:lnTo>
                  <a:lnTo>
                    <a:pt x="2809" y="1281"/>
                  </a:lnTo>
                  <a:lnTo>
                    <a:pt x="2803" y="1304"/>
                  </a:lnTo>
                  <a:lnTo>
                    <a:pt x="2769" y="1299"/>
                  </a:lnTo>
                  <a:lnTo>
                    <a:pt x="2734" y="1293"/>
                  </a:lnTo>
                  <a:lnTo>
                    <a:pt x="2697" y="1289"/>
                  </a:lnTo>
                  <a:lnTo>
                    <a:pt x="2662" y="1285"/>
                  </a:lnTo>
                  <a:lnTo>
                    <a:pt x="2621" y="1283"/>
                  </a:lnTo>
                  <a:lnTo>
                    <a:pt x="2584" y="1279"/>
                  </a:lnTo>
                  <a:lnTo>
                    <a:pt x="2543" y="1275"/>
                  </a:lnTo>
                  <a:lnTo>
                    <a:pt x="2502" y="1272"/>
                  </a:lnTo>
                  <a:lnTo>
                    <a:pt x="2462" y="1268"/>
                  </a:lnTo>
                  <a:lnTo>
                    <a:pt x="2421" y="1266"/>
                  </a:lnTo>
                  <a:lnTo>
                    <a:pt x="2377" y="1264"/>
                  </a:lnTo>
                  <a:lnTo>
                    <a:pt x="2333" y="1262"/>
                  </a:lnTo>
                  <a:lnTo>
                    <a:pt x="2289" y="1260"/>
                  </a:lnTo>
                  <a:lnTo>
                    <a:pt x="2245" y="1258"/>
                  </a:lnTo>
                  <a:lnTo>
                    <a:pt x="2202" y="1258"/>
                  </a:lnTo>
                  <a:lnTo>
                    <a:pt x="2155" y="1256"/>
                  </a:lnTo>
                  <a:lnTo>
                    <a:pt x="2095" y="1256"/>
                  </a:lnTo>
                  <a:lnTo>
                    <a:pt x="2032" y="1254"/>
                  </a:lnTo>
                  <a:lnTo>
                    <a:pt x="1970" y="1254"/>
                  </a:lnTo>
                  <a:lnTo>
                    <a:pt x="1907" y="1254"/>
                  </a:lnTo>
                  <a:lnTo>
                    <a:pt x="1844" y="1254"/>
                  </a:lnTo>
                  <a:lnTo>
                    <a:pt x="1782" y="1254"/>
                  </a:lnTo>
                  <a:lnTo>
                    <a:pt x="1716" y="1256"/>
                  </a:lnTo>
                  <a:lnTo>
                    <a:pt x="1653" y="1256"/>
                  </a:lnTo>
                  <a:lnTo>
                    <a:pt x="956" y="1269"/>
                  </a:lnTo>
                  <a:cubicBezTo>
                    <a:pt x="810" y="1273"/>
                    <a:pt x="833" y="1206"/>
                    <a:pt x="740" y="1209"/>
                  </a:cubicBezTo>
                  <a:lnTo>
                    <a:pt x="404" y="1245"/>
                  </a:lnTo>
                  <a:cubicBezTo>
                    <a:pt x="225" y="1236"/>
                    <a:pt x="0" y="1290"/>
                    <a:pt x="2" y="1227"/>
                  </a:cubicBezTo>
                  <a:lnTo>
                    <a:pt x="275" y="893"/>
                  </a:lnTo>
                  <a:lnTo>
                    <a:pt x="294" y="861"/>
                  </a:lnTo>
                  <a:lnTo>
                    <a:pt x="322" y="822"/>
                  </a:lnTo>
                  <a:lnTo>
                    <a:pt x="363" y="774"/>
                  </a:lnTo>
                  <a:lnTo>
                    <a:pt x="410" y="722"/>
                  </a:lnTo>
                  <a:lnTo>
                    <a:pt x="466" y="668"/>
                  </a:lnTo>
                  <a:lnTo>
                    <a:pt x="529" y="614"/>
                  </a:lnTo>
                  <a:lnTo>
                    <a:pt x="598" y="560"/>
                  </a:lnTo>
                  <a:lnTo>
                    <a:pt x="670" y="513"/>
                  </a:lnTo>
                  <a:lnTo>
                    <a:pt x="692" y="521"/>
                  </a:lnTo>
                  <a:lnTo>
                    <a:pt x="710" y="537"/>
                  </a:lnTo>
                  <a:lnTo>
                    <a:pt x="729" y="556"/>
                  </a:lnTo>
                  <a:lnTo>
                    <a:pt x="745" y="577"/>
                  </a:lnTo>
                  <a:lnTo>
                    <a:pt x="764" y="600"/>
                  </a:lnTo>
                  <a:lnTo>
                    <a:pt x="783" y="618"/>
                  </a:lnTo>
                  <a:lnTo>
                    <a:pt x="801" y="635"/>
                  </a:lnTo>
                  <a:lnTo>
                    <a:pt x="820" y="643"/>
                  </a:lnTo>
                  <a:lnTo>
                    <a:pt x="830" y="639"/>
                  </a:lnTo>
                  <a:lnTo>
                    <a:pt x="842" y="633"/>
                  </a:lnTo>
                  <a:lnTo>
                    <a:pt x="855" y="627"/>
                  </a:lnTo>
                  <a:lnTo>
                    <a:pt x="867" y="618"/>
                  </a:lnTo>
                  <a:lnTo>
                    <a:pt x="883" y="610"/>
                  </a:lnTo>
                  <a:lnTo>
                    <a:pt x="895" y="600"/>
                  </a:lnTo>
                  <a:lnTo>
                    <a:pt x="911" y="589"/>
                  </a:lnTo>
                  <a:lnTo>
                    <a:pt x="927" y="579"/>
                  </a:lnTo>
                  <a:lnTo>
                    <a:pt x="955" y="560"/>
                  </a:lnTo>
                  <a:lnTo>
                    <a:pt x="983" y="540"/>
                  </a:lnTo>
                  <a:lnTo>
                    <a:pt x="1011" y="517"/>
                  </a:lnTo>
                  <a:lnTo>
                    <a:pt x="1039" y="494"/>
                  </a:lnTo>
                  <a:lnTo>
                    <a:pt x="1071" y="471"/>
                  </a:lnTo>
                  <a:lnTo>
                    <a:pt x="1099" y="448"/>
                  </a:lnTo>
                  <a:lnTo>
                    <a:pt x="1130" y="425"/>
                  </a:lnTo>
                  <a:lnTo>
                    <a:pt x="1158" y="405"/>
                  </a:lnTo>
                  <a:lnTo>
                    <a:pt x="1183" y="384"/>
                  </a:lnTo>
                  <a:lnTo>
                    <a:pt x="1209" y="365"/>
                  </a:lnTo>
                  <a:lnTo>
                    <a:pt x="1227" y="346"/>
                  </a:lnTo>
                  <a:lnTo>
                    <a:pt x="1243" y="330"/>
                  </a:lnTo>
                  <a:lnTo>
                    <a:pt x="1256" y="315"/>
                  </a:lnTo>
                  <a:lnTo>
                    <a:pt x="1268" y="303"/>
                  </a:lnTo>
                  <a:lnTo>
                    <a:pt x="1277" y="294"/>
                  </a:lnTo>
                  <a:lnTo>
                    <a:pt x="1287" y="288"/>
                  </a:lnTo>
                  <a:lnTo>
                    <a:pt x="1303" y="315"/>
                  </a:lnTo>
                  <a:lnTo>
                    <a:pt x="1324" y="344"/>
                  </a:lnTo>
                  <a:lnTo>
                    <a:pt x="1346" y="371"/>
                  </a:lnTo>
                  <a:lnTo>
                    <a:pt x="1362" y="398"/>
                  </a:lnTo>
                  <a:lnTo>
                    <a:pt x="1371" y="417"/>
                  </a:lnTo>
                  <a:lnTo>
                    <a:pt x="1381" y="432"/>
                  </a:lnTo>
                  <a:lnTo>
                    <a:pt x="1387" y="444"/>
                  </a:lnTo>
                  <a:lnTo>
                    <a:pt x="1393" y="454"/>
                  </a:lnTo>
                  <a:lnTo>
                    <a:pt x="1406" y="442"/>
                  </a:lnTo>
                  <a:lnTo>
                    <a:pt x="1418" y="427"/>
                  </a:lnTo>
                  <a:lnTo>
                    <a:pt x="1434" y="411"/>
                  </a:lnTo>
                  <a:lnTo>
                    <a:pt x="1447" y="394"/>
                  </a:lnTo>
                  <a:lnTo>
                    <a:pt x="1459" y="375"/>
                  </a:lnTo>
                  <a:lnTo>
                    <a:pt x="1475" y="359"/>
                  </a:lnTo>
                  <a:lnTo>
                    <a:pt x="1484" y="346"/>
                  </a:lnTo>
                  <a:lnTo>
                    <a:pt x="1494" y="338"/>
                  </a:lnTo>
                  <a:lnTo>
                    <a:pt x="1509" y="342"/>
                  </a:lnTo>
                  <a:lnTo>
                    <a:pt x="1528" y="351"/>
                  </a:lnTo>
                  <a:lnTo>
                    <a:pt x="1547" y="359"/>
                  </a:lnTo>
                  <a:lnTo>
                    <a:pt x="1563" y="367"/>
                  </a:lnTo>
                  <a:lnTo>
                    <a:pt x="1581" y="375"/>
                  </a:lnTo>
                  <a:lnTo>
                    <a:pt x="1597" y="382"/>
                  </a:lnTo>
                  <a:lnTo>
                    <a:pt x="1610" y="388"/>
                  </a:lnTo>
                  <a:lnTo>
                    <a:pt x="1619" y="392"/>
                  </a:lnTo>
                  <a:lnTo>
                    <a:pt x="1660" y="361"/>
                  </a:lnTo>
                  <a:lnTo>
                    <a:pt x="1697" y="340"/>
                  </a:lnTo>
                  <a:lnTo>
                    <a:pt x="1735" y="328"/>
                  </a:lnTo>
                  <a:lnTo>
                    <a:pt x="1772" y="321"/>
                  </a:lnTo>
                  <a:lnTo>
                    <a:pt x="1804" y="317"/>
                  </a:lnTo>
                  <a:lnTo>
                    <a:pt x="1832" y="315"/>
                  </a:lnTo>
                  <a:lnTo>
                    <a:pt x="1857" y="313"/>
                  </a:lnTo>
                  <a:lnTo>
                    <a:pt x="1876" y="309"/>
                  </a:lnTo>
                  <a:lnTo>
                    <a:pt x="1885" y="303"/>
                  </a:lnTo>
                  <a:lnTo>
                    <a:pt x="1898" y="294"/>
                  </a:lnTo>
                  <a:lnTo>
                    <a:pt x="1913" y="282"/>
                  </a:lnTo>
                  <a:lnTo>
                    <a:pt x="1932" y="265"/>
                  </a:lnTo>
                  <a:lnTo>
                    <a:pt x="1954" y="247"/>
                  </a:lnTo>
                  <a:lnTo>
                    <a:pt x="1976" y="226"/>
                  </a:lnTo>
                  <a:lnTo>
                    <a:pt x="2001" y="203"/>
                  </a:lnTo>
                  <a:lnTo>
                    <a:pt x="2026" y="180"/>
                  </a:lnTo>
                  <a:lnTo>
                    <a:pt x="2039" y="170"/>
                  </a:lnTo>
                  <a:lnTo>
                    <a:pt x="2051" y="157"/>
                  </a:lnTo>
                  <a:lnTo>
                    <a:pt x="2061" y="147"/>
                  </a:lnTo>
                  <a:lnTo>
                    <a:pt x="2073" y="137"/>
                  </a:lnTo>
                  <a:lnTo>
                    <a:pt x="2095" y="118"/>
                  </a:lnTo>
                  <a:lnTo>
                    <a:pt x="2114" y="99"/>
                  </a:lnTo>
                  <a:lnTo>
                    <a:pt x="2133" y="83"/>
                  </a:lnTo>
                  <a:lnTo>
                    <a:pt x="2151" y="66"/>
                  </a:lnTo>
                  <a:lnTo>
                    <a:pt x="2183" y="39"/>
                  </a:lnTo>
                  <a:lnTo>
                    <a:pt x="2208" y="18"/>
                  </a:lnTo>
                  <a:lnTo>
                    <a:pt x="2227" y="4"/>
                  </a:lnTo>
                  <a:lnTo>
                    <a:pt x="2236" y="0"/>
                  </a:lnTo>
                  <a:lnTo>
                    <a:pt x="2245" y="2"/>
                  </a:lnTo>
                  <a:lnTo>
                    <a:pt x="2258" y="10"/>
                  </a:lnTo>
                  <a:lnTo>
                    <a:pt x="2274" y="20"/>
                  </a:lnTo>
                  <a:lnTo>
                    <a:pt x="2292" y="31"/>
                  </a:lnTo>
                  <a:lnTo>
                    <a:pt x="2314" y="37"/>
                  </a:lnTo>
                  <a:lnTo>
                    <a:pt x="2336" y="41"/>
                  </a:lnTo>
                  <a:lnTo>
                    <a:pt x="2364" y="37"/>
                  </a:lnTo>
                  <a:lnTo>
                    <a:pt x="2396" y="25"/>
                  </a:lnTo>
                  <a:lnTo>
                    <a:pt x="2402" y="33"/>
                  </a:lnTo>
                  <a:lnTo>
                    <a:pt x="2411" y="41"/>
                  </a:lnTo>
                  <a:lnTo>
                    <a:pt x="2421" y="52"/>
                  </a:lnTo>
                  <a:lnTo>
                    <a:pt x="2430" y="64"/>
                  </a:lnTo>
                  <a:lnTo>
                    <a:pt x="2452" y="89"/>
                  </a:lnTo>
                  <a:lnTo>
                    <a:pt x="2474" y="114"/>
                  </a:lnTo>
                  <a:lnTo>
                    <a:pt x="2499" y="143"/>
                  </a:lnTo>
                  <a:lnTo>
                    <a:pt x="2521" y="172"/>
                  </a:lnTo>
                  <a:lnTo>
                    <a:pt x="2546" y="205"/>
                  </a:lnTo>
                  <a:lnTo>
                    <a:pt x="2568" y="234"/>
                  </a:lnTo>
                  <a:lnTo>
                    <a:pt x="2587" y="261"/>
                  </a:lnTo>
                  <a:lnTo>
                    <a:pt x="2599" y="284"/>
                  </a:lnTo>
                  <a:lnTo>
                    <a:pt x="2612" y="284"/>
                  </a:lnTo>
                  <a:lnTo>
                    <a:pt x="2624" y="284"/>
                  </a:lnTo>
                  <a:lnTo>
                    <a:pt x="2637" y="286"/>
                  </a:lnTo>
                  <a:lnTo>
                    <a:pt x="2646" y="288"/>
                  </a:lnTo>
                  <a:lnTo>
                    <a:pt x="2659" y="290"/>
                  </a:lnTo>
                  <a:lnTo>
                    <a:pt x="2671" y="292"/>
                  </a:lnTo>
                  <a:lnTo>
                    <a:pt x="2687" y="294"/>
                  </a:lnTo>
                  <a:lnTo>
                    <a:pt x="270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174617"/>
                </a:gs>
                <a:gs pos="100000">
                  <a:srgbClr val="33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05320" y="4190760"/>
              <a:ext cx="2192400" cy="530280"/>
            </a:xfrm>
            <a:custGeom>
              <a:avLst/>
              <a:gdLst/>
              <a:ahLst/>
              <a:rect l="l" t="t" r="r" b="b"/>
              <a:pathLst>
                <a:path w="1381" h="334">
                  <a:moveTo>
                    <a:pt x="1265" y="301"/>
                  </a:moveTo>
                  <a:lnTo>
                    <a:pt x="1262" y="295"/>
                  </a:lnTo>
                  <a:lnTo>
                    <a:pt x="1259" y="289"/>
                  </a:lnTo>
                  <a:lnTo>
                    <a:pt x="1253" y="282"/>
                  </a:lnTo>
                  <a:lnTo>
                    <a:pt x="1247" y="276"/>
                  </a:lnTo>
                  <a:lnTo>
                    <a:pt x="1240" y="274"/>
                  </a:lnTo>
                  <a:lnTo>
                    <a:pt x="1231" y="270"/>
                  </a:lnTo>
                  <a:lnTo>
                    <a:pt x="1218" y="268"/>
                  </a:lnTo>
                  <a:lnTo>
                    <a:pt x="1200" y="268"/>
                  </a:lnTo>
                  <a:lnTo>
                    <a:pt x="1181" y="266"/>
                  </a:lnTo>
                  <a:lnTo>
                    <a:pt x="1162" y="266"/>
                  </a:lnTo>
                  <a:lnTo>
                    <a:pt x="1143" y="266"/>
                  </a:lnTo>
                  <a:lnTo>
                    <a:pt x="1128" y="268"/>
                  </a:lnTo>
                  <a:lnTo>
                    <a:pt x="1115" y="253"/>
                  </a:lnTo>
                  <a:lnTo>
                    <a:pt x="1096" y="239"/>
                  </a:lnTo>
                  <a:lnTo>
                    <a:pt x="1077" y="228"/>
                  </a:lnTo>
                  <a:lnTo>
                    <a:pt x="1056" y="222"/>
                  </a:lnTo>
                  <a:lnTo>
                    <a:pt x="1043" y="220"/>
                  </a:lnTo>
                  <a:lnTo>
                    <a:pt x="1030" y="220"/>
                  </a:lnTo>
                  <a:lnTo>
                    <a:pt x="1015" y="220"/>
                  </a:lnTo>
                  <a:lnTo>
                    <a:pt x="996" y="222"/>
                  </a:lnTo>
                  <a:lnTo>
                    <a:pt x="977" y="224"/>
                  </a:lnTo>
                  <a:lnTo>
                    <a:pt x="955" y="228"/>
                  </a:lnTo>
                  <a:lnTo>
                    <a:pt x="933" y="233"/>
                  </a:lnTo>
                  <a:lnTo>
                    <a:pt x="911" y="241"/>
                  </a:lnTo>
                  <a:lnTo>
                    <a:pt x="899" y="233"/>
                  </a:lnTo>
                  <a:lnTo>
                    <a:pt x="883" y="228"/>
                  </a:lnTo>
                  <a:lnTo>
                    <a:pt x="871" y="224"/>
                  </a:lnTo>
                  <a:lnTo>
                    <a:pt x="858" y="222"/>
                  </a:lnTo>
                  <a:lnTo>
                    <a:pt x="846" y="222"/>
                  </a:lnTo>
                  <a:lnTo>
                    <a:pt x="833" y="222"/>
                  </a:lnTo>
                  <a:lnTo>
                    <a:pt x="824" y="224"/>
                  </a:lnTo>
                  <a:lnTo>
                    <a:pt x="817" y="224"/>
                  </a:lnTo>
                  <a:lnTo>
                    <a:pt x="802" y="233"/>
                  </a:lnTo>
                  <a:lnTo>
                    <a:pt x="786" y="251"/>
                  </a:lnTo>
                  <a:lnTo>
                    <a:pt x="777" y="276"/>
                  </a:lnTo>
                  <a:lnTo>
                    <a:pt x="770" y="299"/>
                  </a:lnTo>
                  <a:lnTo>
                    <a:pt x="736" y="295"/>
                  </a:lnTo>
                  <a:lnTo>
                    <a:pt x="714" y="297"/>
                  </a:lnTo>
                  <a:lnTo>
                    <a:pt x="702" y="305"/>
                  </a:lnTo>
                  <a:lnTo>
                    <a:pt x="695" y="318"/>
                  </a:lnTo>
                  <a:lnTo>
                    <a:pt x="686" y="318"/>
                  </a:lnTo>
                  <a:lnTo>
                    <a:pt x="673" y="318"/>
                  </a:lnTo>
                  <a:lnTo>
                    <a:pt x="661" y="318"/>
                  </a:lnTo>
                  <a:lnTo>
                    <a:pt x="645" y="314"/>
                  </a:lnTo>
                  <a:lnTo>
                    <a:pt x="626" y="312"/>
                  </a:lnTo>
                  <a:lnTo>
                    <a:pt x="611" y="307"/>
                  </a:lnTo>
                  <a:lnTo>
                    <a:pt x="592" y="303"/>
                  </a:lnTo>
                  <a:lnTo>
                    <a:pt x="576" y="299"/>
                  </a:lnTo>
                  <a:lnTo>
                    <a:pt x="557" y="295"/>
                  </a:lnTo>
                  <a:lnTo>
                    <a:pt x="529" y="295"/>
                  </a:lnTo>
                  <a:lnTo>
                    <a:pt x="501" y="297"/>
                  </a:lnTo>
                  <a:lnTo>
                    <a:pt x="470" y="303"/>
                  </a:lnTo>
                  <a:lnTo>
                    <a:pt x="435" y="309"/>
                  </a:lnTo>
                  <a:lnTo>
                    <a:pt x="404" y="318"/>
                  </a:lnTo>
                  <a:lnTo>
                    <a:pt x="376" y="326"/>
                  </a:lnTo>
                  <a:lnTo>
                    <a:pt x="354" y="334"/>
                  </a:lnTo>
                  <a:lnTo>
                    <a:pt x="354" y="324"/>
                  </a:lnTo>
                  <a:lnTo>
                    <a:pt x="344" y="316"/>
                  </a:lnTo>
                  <a:lnTo>
                    <a:pt x="332" y="309"/>
                  </a:lnTo>
                  <a:lnTo>
                    <a:pt x="316" y="305"/>
                  </a:lnTo>
                  <a:lnTo>
                    <a:pt x="301" y="303"/>
                  </a:lnTo>
                  <a:lnTo>
                    <a:pt x="285" y="303"/>
                  </a:lnTo>
                  <a:lnTo>
                    <a:pt x="269" y="305"/>
                  </a:lnTo>
                  <a:lnTo>
                    <a:pt x="260" y="307"/>
                  </a:lnTo>
                  <a:lnTo>
                    <a:pt x="247" y="312"/>
                  </a:lnTo>
                  <a:lnTo>
                    <a:pt x="232" y="316"/>
                  </a:lnTo>
                  <a:lnTo>
                    <a:pt x="207" y="322"/>
                  </a:lnTo>
                  <a:lnTo>
                    <a:pt x="169" y="330"/>
                  </a:lnTo>
                  <a:lnTo>
                    <a:pt x="144" y="293"/>
                  </a:lnTo>
                  <a:lnTo>
                    <a:pt x="119" y="253"/>
                  </a:lnTo>
                  <a:lnTo>
                    <a:pt x="97" y="214"/>
                  </a:lnTo>
                  <a:lnTo>
                    <a:pt x="75" y="172"/>
                  </a:lnTo>
                  <a:lnTo>
                    <a:pt x="53" y="133"/>
                  </a:lnTo>
                  <a:lnTo>
                    <a:pt x="34" y="89"/>
                  </a:lnTo>
                  <a:lnTo>
                    <a:pt x="16" y="48"/>
                  </a:lnTo>
                  <a:lnTo>
                    <a:pt x="0" y="4"/>
                  </a:lnTo>
                  <a:lnTo>
                    <a:pt x="25" y="8"/>
                  </a:lnTo>
                  <a:lnTo>
                    <a:pt x="53" y="10"/>
                  </a:lnTo>
                  <a:lnTo>
                    <a:pt x="81" y="10"/>
                  </a:lnTo>
                  <a:lnTo>
                    <a:pt x="106" y="10"/>
                  </a:lnTo>
                  <a:lnTo>
                    <a:pt x="131" y="8"/>
                  </a:lnTo>
                  <a:lnTo>
                    <a:pt x="156" y="6"/>
                  </a:lnTo>
                  <a:lnTo>
                    <a:pt x="175" y="4"/>
                  </a:lnTo>
                  <a:lnTo>
                    <a:pt x="194" y="2"/>
                  </a:lnTo>
                  <a:lnTo>
                    <a:pt x="213" y="0"/>
                  </a:lnTo>
                  <a:lnTo>
                    <a:pt x="238" y="0"/>
                  </a:lnTo>
                  <a:lnTo>
                    <a:pt x="269" y="2"/>
                  </a:lnTo>
                  <a:lnTo>
                    <a:pt x="301" y="4"/>
                  </a:lnTo>
                  <a:lnTo>
                    <a:pt x="332" y="8"/>
                  </a:lnTo>
                  <a:lnTo>
                    <a:pt x="360" y="13"/>
                  </a:lnTo>
                  <a:lnTo>
                    <a:pt x="388" y="21"/>
                  </a:lnTo>
                  <a:lnTo>
                    <a:pt x="410" y="29"/>
                  </a:lnTo>
                  <a:lnTo>
                    <a:pt x="442" y="56"/>
                  </a:lnTo>
                  <a:lnTo>
                    <a:pt x="435" y="77"/>
                  </a:lnTo>
                  <a:lnTo>
                    <a:pt x="426" y="98"/>
                  </a:lnTo>
                  <a:lnTo>
                    <a:pt x="442" y="118"/>
                  </a:lnTo>
                  <a:lnTo>
                    <a:pt x="463" y="129"/>
                  </a:lnTo>
                  <a:lnTo>
                    <a:pt x="489" y="137"/>
                  </a:lnTo>
                  <a:lnTo>
                    <a:pt x="520" y="141"/>
                  </a:lnTo>
                  <a:lnTo>
                    <a:pt x="551" y="145"/>
                  </a:lnTo>
                  <a:lnTo>
                    <a:pt x="582" y="148"/>
                  </a:lnTo>
                  <a:lnTo>
                    <a:pt x="617" y="148"/>
                  </a:lnTo>
                  <a:lnTo>
                    <a:pt x="651" y="148"/>
                  </a:lnTo>
                  <a:lnTo>
                    <a:pt x="683" y="145"/>
                  </a:lnTo>
                  <a:lnTo>
                    <a:pt x="714" y="143"/>
                  </a:lnTo>
                  <a:lnTo>
                    <a:pt x="745" y="141"/>
                  </a:lnTo>
                  <a:lnTo>
                    <a:pt x="780" y="139"/>
                  </a:lnTo>
                  <a:lnTo>
                    <a:pt x="811" y="137"/>
                  </a:lnTo>
                  <a:lnTo>
                    <a:pt x="849" y="139"/>
                  </a:lnTo>
                  <a:lnTo>
                    <a:pt x="883" y="143"/>
                  </a:lnTo>
                  <a:lnTo>
                    <a:pt x="921" y="150"/>
                  </a:lnTo>
                  <a:lnTo>
                    <a:pt x="958" y="160"/>
                  </a:lnTo>
                  <a:lnTo>
                    <a:pt x="968" y="162"/>
                  </a:lnTo>
                  <a:lnTo>
                    <a:pt x="977" y="164"/>
                  </a:lnTo>
                  <a:lnTo>
                    <a:pt x="983" y="166"/>
                  </a:lnTo>
                  <a:lnTo>
                    <a:pt x="993" y="168"/>
                  </a:lnTo>
                  <a:lnTo>
                    <a:pt x="1021" y="172"/>
                  </a:lnTo>
                  <a:lnTo>
                    <a:pt x="1046" y="174"/>
                  </a:lnTo>
                  <a:lnTo>
                    <a:pt x="1068" y="177"/>
                  </a:lnTo>
                  <a:lnTo>
                    <a:pt x="1087" y="174"/>
                  </a:lnTo>
                  <a:lnTo>
                    <a:pt x="1106" y="172"/>
                  </a:lnTo>
                  <a:lnTo>
                    <a:pt x="1121" y="172"/>
                  </a:lnTo>
                  <a:lnTo>
                    <a:pt x="1140" y="170"/>
                  </a:lnTo>
                  <a:lnTo>
                    <a:pt x="1159" y="170"/>
                  </a:lnTo>
                  <a:lnTo>
                    <a:pt x="1184" y="170"/>
                  </a:lnTo>
                  <a:lnTo>
                    <a:pt x="1212" y="172"/>
                  </a:lnTo>
                  <a:lnTo>
                    <a:pt x="1243" y="177"/>
                  </a:lnTo>
                  <a:lnTo>
                    <a:pt x="1275" y="183"/>
                  </a:lnTo>
                  <a:lnTo>
                    <a:pt x="1309" y="193"/>
                  </a:lnTo>
                  <a:lnTo>
                    <a:pt x="1337" y="208"/>
                  </a:lnTo>
                  <a:lnTo>
                    <a:pt x="1363" y="228"/>
                  </a:lnTo>
                  <a:lnTo>
                    <a:pt x="1381" y="253"/>
                  </a:lnTo>
                  <a:lnTo>
                    <a:pt x="1356" y="258"/>
                  </a:lnTo>
                  <a:lnTo>
                    <a:pt x="1337" y="268"/>
                  </a:lnTo>
                  <a:lnTo>
                    <a:pt x="1328" y="280"/>
                  </a:lnTo>
                  <a:lnTo>
                    <a:pt x="1322" y="291"/>
                  </a:lnTo>
                  <a:lnTo>
                    <a:pt x="1316" y="297"/>
                  </a:lnTo>
                  <a:lnTo>
                    <a:pt x="1303" y="299"/>
                  </a:lnTo>
                  <a:lnTo>
                    <a:pt x="1287" y="301"/>
                  </a:lnTo>
                  <a:lnTo>
                    <a:pt x="1265" y="301"/>
                  </a:lnTo>
                  <a:close/>
                </a:path>
              </a:pathLst>
            </a:custGeom>
            <a:solidFill>
              <a:srgbClr val="2db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26120" y="3611520"/>
              <a:ext cx="2476440" cy="564840"/>
            </a:xfrm>
            <a:custGeom>
              <a:avLst/>
              <a:gdLst/>
              <a:ahLst/>
              <a:rect l="l" t="t" r="r" b="b"/>
              <a:pathLst>
                <a:path w="1560" h="356">
                  <a:moveTo>
                    <a:pt x="588" y="54"/>
                  </a:moveTo>
                  <a:lnTo>
                    <a:pt x="312" y="114"/>
                  </a:lnTo>
                  <a:lnTo>
                    <a:pt x="222" y="156"/>
                  </a:lnTo>
                  <a:lnTo>
                    <a:pt x="132" y="210"/>
                  </a:lnTo>
                  <a:cubicBezTo>
                    <a:pt x="118" y="220"/>
                    <a:pt x="0" y="276"/>
                    <a:pt x="78" y="312"/>
                  </a:cubicBezTo>
                  <a:cubicBezTo>
                    <a:pt x="156" y="348"/>
                    <a:pt x="173" y="330"/>
                    <a:pt x="228" y="342"/>
                  </a:cubicBezTo>
                  <a:cubicBezTo>
                    <a:pt x="300" y="356"/>
                    <a:pt x="389" y="289"/>
                    <a:pt x="462" y="294"/>
                  </a:cubicBezTo>
                  <a:cubicBezTo>
                    <a:pt x="560" y="308"/>
                    <a:pt x="616" y="339"/>
                    <a:pt x="714" y="348"/>
                  </a:cubicBezTo>
                  <a:cubicBezTo>
                    <a:pt x="963" y="343"/>
                    <a:pt x="1215" y="324"/>
                    <a:pt x="1464" y="324"/>
                  </a:cubicBezTo>
                  <a:lnTo>
                    <a:pt x="1560" y="18"/>
                  </a:lnTo>
                  <a:cubicBezTo>
                    <a:pt x="1421" y="23"/>
                    <a:pt x="1326" y="11"/>
                    <a:pt x="1194" y="0"/>
                  </a:cubicBezTo>
                  <a:cubicBezTo>
                    <a:pt x="1172" y="2"/>
                    <a:pt x="1150" y="3"/>
                    <a:pt x="1128" y="6"/>
                  </a:cubicBezTo>
                  <a:cubicBezTo>
                    <a:pt x="1103" y="10"/>
                    <a:pt x="1116" y="14"/>
                    <a:pt x="1092" y="24"/>
                  </a:cubicBezTo>
                  <a:cubicBezTo>
                    <a:pt x="1081" y="29"/>
                    <a:pt x="1040" y="35"/>
                    <a:pt x="1032" y="36"/>
                  </a:cubicBezTo>
                  <a:cubicBezTo>
                    <a:pt x="963" y="32"/>
                    <a:pt x="929" y="30"/>
                    <a:pt x="870" y="18"/>
                  </a:cubicBezTo>
                  <a:cubicBezTo>
                    <a:pt x="785" y="23"/>
                    <a:pt x="702" y="33"/>
                    <a:pt x="618" y="42"/>
                  </a:cubicBezTo>
                  <a:cubicBezTo>
                    <a:pt x="596" y="49"/>
                    <a:pt x="606" y="45"/>
                    <a:pt x="588" y="54"/>
                  </a:cubicBezTo>
                  <a:close/>
                </a:path>
              </a:pathLst>
            </a:custGeom>
            <a:solidFill>
              <a:srgbClr val="2db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73520" y="4539960"/>
              <a:ext cx="1739880" cy="465120"/>
            </a:xfrm>
            <a:custGeom>
              <a:avLst/>
              <a:gdLst/>
              <a:ahLst/>
              <a:rect l="l" t="t" r="r" b="b"/>
              <a:pathLst>
                <a:path w="1096" h="293">
                  <a:moveTo>
                    <a:pt x="1096" y="81"/>
                  </a:moveTo>
                  <a:lnTo>
                    <a:pt x="1059" y="81"/>
                  </a:lnTo>
                  <a:lnTo>
                    <a:pt x="1018" y="81"/>
                  </a:lnTo>
                  <a:lnTo>
                    <a:pt x="971" y="81"/>
                  </a:lnTo>
                  <a:lnTo>
                    <a:pt x="924" y="83"/>
                  </a:lnTo>
                  <a:lnTo>
                    <a:pt x="871" y="87"/>
                  </a:lnTo>
                  <a:lnTo>
                    <a:pt x="814" y="92"/>
                  </a:lnTo>
                  <a:lnTo>
                    <a:pt x="755" y="98"/>
                  </a:lnTo>
                  <a:lnTo>
                    <a:pt x="695" y="106"/>
                  </a:lnTo>
                  <a:lnTo>
                    <a:pt x="630" y="116"/>
                  </a:lnTo>
                  <a:lnTo>
                    <a:pt x="564" y="131"/>
                  </a:lnTo>
                  <a:lnTo>
                    <a:pt x="498" y="148"/>
                  </a:lnTo>
                  <a:lnTo>
                    <a:pt x="429" y="168"/>
                  </a:lnTo>
                  <a:lnTo>
                    <a:pt x="360" y="193"/>
                  </a:lnTo>
                  <a:lnTo>
                    <a:pt x="291" y="220"/>
                  </a:lnTo>
                  <a:lnTo>
                    <a:pt x="219" y="256"/>
                  </a:lnTo>
                  <a:lnTo>
                    <a:pt x="150" y="293"/>
                  </a:lnTo>
                  <a:lnTo>
                    <a:pt x="132" y="270"/>
                  </a:lnTo>
                  <a:lnTo>
                    <a:pt x="110" y="249"/>
                  </a:lnTo>
                  <a:lnTo>
                    <a:pt x="91" y="227"/>
                  </a:lnTo>
                  <a:lnTo>
                    <a:pt x="72" y="204"/>
                  </a:lnTo>
                  <a:lnTo>
                    <a:pt x="53" y="181"/>
                  </a:lnTo>
                  <a:lnTo>
                    <a:pt x="34" y="158"/>
                  </a:lnTo>
                  <a:lnTo>
                    <a:pt x="16" y="135"/>
                  </a:lnTo>
                  <a:lnTo>
                    <a:pt x="0" y="110"/>
                  </a:lnTo>
                  <a:lnTo>
                    <a:pt x="38" y="102"/>
                  </a:lnTo>
                  <a:lnTo>
                    <a:pt x="63" y="96"/>
                  </a:lnTo>
                  <a:lnTo>
                    <a:pt x="78" y="92"/>
                  </a:lnTo>
                  <a:lnTo>
                    <a:pt x="91" y="87"/>
                  </a:lnTo>
                  <a:lnTo>
                    <a:pt x="100" y="85"/>
                  </a:lnTo>
                  <a:lnTo>
                    <a:pt x="116" y="83"/>
                  </a:lnTo>
                  <a:lnTo>
                    <a:pt x="132" y="83"/>
                  </a:lnTo>
                  <a:lnTo>
                    <a:pt x="147" y="85"/>
                  </a:lnTo>
                  <a:lnTo>
                    <a:pt x="163" y="89"/>
                  </a:lnTo>
                  <a:lnTo>
                    <a:pt x="175" y="96"/>
                  </a:lnTo>
                  <a:lnTo>
                    <a:pt x="185" y="104"/>
                  </a:lnTo>
                  <a:lnTo>
                    <a:pt x="185" y="114"/>
                  </a:lnTo>
                  <a:lnTo>
                    <a:pt x="207" y="106"/>
                  </a:lnTo>
                  <a:lnTo>
                    <a:pt x="235" y="98"/>
                  </a:lnTo>
                  <a:lnTo>
                    <a:pt x="266" y="89"/>
                  </a:lnTo>
                  <a:lnTo>
                    <a:pt x="301" y="83"/>
                  </a:lnTo>
                  <a:lnTo>
                    <a:pt x="332" y="77"/>
                  </a:lnTo>
                  <a:lnTo>
                    <a:pt x="360" y="75"/>
                  </a:lnTo>
                  <a:lnTo>
                    <a:pt x="388" y="75"/>
                  </a:lnTo>
                  <a:lnTo>
                    <a:pt x="407" y="79"/>
                  </a:lnTo>
                  <a:lnTo>
                    <a:pt x="423" y="83"/>
                  </a:lnTo>
                  <a:lnTo>
                    <a:pt x="442" y="87"/>
                  </a:lnTo>
                  <a:lnTo>
                    <a:pt x="457" y="92"/>
                  </a:lnTo>
                  <a:lnTo>
                    <a:pt x="476" y="94"/>
                  </a:lnTo>
                  <a:lnTo>
                    <a:pt x="492" y="98"/>
                  </a:lnTo>
                  <a:lnTo>
                    <a:pt x="504" y="98"/>
                  </a:lnTo>
                  <a:lnTo>
                    <a:pt x="517" y="98"/>
                  </a:lnTo>
                  <a:lnTo>
                    <a:pt x="526" y="98"/>
                  </a:lnTo>
                  <a:lnTo>
                    <a:pt x="533" y="85"/>
                  </a:lnTo>
                  <a:lnTo>
                    <a:pt x="545" y="77"/>
                  </a:lnTo>
                  <a:lnTo>
                    <a:pt x="567" y="75"/>
                  </a:lnTo>
                  <a:lnTo>
                    <a:pt x="601" y="79"/>
                  </a:lnTo>
                  <a:lnTo>
                    <a:pt x="608" y="56"/>
                  </a:lnTo>
                  <a:lnTo>
                    <a:pt x="617" y="31"/>
                  </a:lnTo>
                  <a:lnTo>
                    <a:pt x="633" y="13"/>
                  </a:lnTo>
                  <a:lnTo>
                    <a:pt x="648" y="4"/>
                  </a:lnTo>
                  <a:lnTo>
                    <a:pt x="655" y="4"/>
                  </a:lnTo>
                  <a:lnTo>
                    <a:pt x="664" y="2"/>
                  </a:lnTo>
                  <a:lnTo>
                    <a:pt x="677" y="2"/>
                  </a:lnTo>
                  <a:lnTo>
                    <a:pt x="689" y="2"/>
                  </a:lnTo>
                  <a:lnTo>
                    <a:pt x="702" y="4"/>
                  </a:lnTo>
                  <a:lnTo>
                    <a:pt x="714" y="8"/>
                  </a:lnTo>
                  <a:lnTo>
                    <a:pt x="730" y="13"/>
                  </a:lnTo>
                  <a:lnTo>
                    <a:pt x="742" y="21"/>
                  </a:lnTo>
                  <a:lnTo>
                    <a:pt x="764" y="13"/>
                  </a:lnTo>
                  <a:lnTo>
                    <a:pt x="786" y="8"/>
                  </a:lnTo>
                  <a:lnTo>
                    <a:pt x="808" y="4"/>
                  </a:lnTo>
                  <a:lnTo>
                    <a:pt x="827" y="2"/>
                  </a:lnTo>
                  <a:lnTo>
                    <a:pt x="846" y="0"/>
                  </a:lnTo>
                  <a:lnTo>
                    <a:pt x="861" y="0"/>
                  </a:lnTo>
                  <a:lnTo>
                    <a:pt x="874" y="0"/>
                  </a:lnTo>
                  <a:lnTo>
                    <a:pt x="887" y="2"/>
                  </a:lnTo>
                  <a:lnTo>
                    <a:pt x="908" y="8"/>
                  </a:lnTo>
                  <a:lnTo>
                    <a:pt x="927" y="19"/>
                  </a:lnTo>
                  <a:lnTo>
                    <a:pt x="946" y="33"/>
                  </a:lnTo>
                  <a:lnTo>
                    <a:pt x="959" y="48"/>
                  </a:lnTo>
                  <a:lnTo>
                    <a:pt x="974" y="46"/>
                  </a:lnTo>
                  <a:lnTo>
                    <a:pt x="993" y="46"/>
                  </a:lnTo>
                  <a:lnTo>
                    <a:pt x="1012" y="46"/>
                  </a:lnTo>
                  <a:lnTo>
                    <a:pt x="1031" y="48"/>
                  </a:lnTo>
                  <a:lnTo>
                    <a:pt x="1049" y="48"/>
                  </a:lnTo>
                  <a:lnTo>
                    <a:pt x="1062" y="50"/>
                  </a:lnTo>
                  <a:lnTo>
                    <a:pt x="1071" y="54"/>
                  </a:lnTo>
                  <a:lnTo>
                    <a:pt x="1078" y="56"/>
                  </a:lnTo>
                  <a:lnTo>
                    <a:pt x="1084" y="62"/>
                  </a:lnTo>
                  <a:lnTo>
                    <a:pt x="1090" y="69"/>
                  </a:lnTo>
                  <a:lnTo>
                    <a:pt x="1093" y="75"/>
                  </a:lnTo>
                  <a:lnTo>
                    <a:pt x="1096" y="81"/>
                  </a:lnTo>
                  <a:close/>
                </a:path>
              </a:pathLst>
            </a:custGeom>
            <a:solidFill>
              <a:srgbClr val="00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5640" y="2250720"/>
              <a:ext cx="3156120" cy="676440"/>
            </a:xfrm>
            <a:custGeom>
              <a:avLst/>
              <a:gdLst/>
              <a:ahLst/>
              <a:rect l="l" t="t" r="r" b="b"/>
              <a:pathLst>
                <a:path w="1988" h="426">
                  <a:moveTo>
                    <a:pt x="786" y="125"/>
                  </a:moveTo>
                  <a:cubicBezTo>
                    <a:pt x="694" y="148"/>
                    <a:pt x="598" y="149"/>
                    <a:pt x="504" y="155"/>
                  </a:cubicBezTo>
                  <a:cubicBezTo>
                    <a:pt x="496" y="158"/>
                    <a:pt x="458" y="187"/>
                    <a:pt x="486" y="197"/>
                  </a:cubicBezTo>
                  <a:cubicBezTo>
                    <a:pt x="536" y="215"/>
                    <a:pt x="596" y="204"/>
                    <a:pt x="648" y="221"/>
                  </a:cubicBezTo>
                  <a:cubicBezTo>
                    <a:pt x="672" y="257"/>
                    <a:pt x="651" y="265"/>
                    <a:pt x="618" y="287"/>
                  </a:cubicBezTo>
                  <a:cubicBezTo>
                    <a:pt x="490" y="372"/>
                    <a:pt x="310" y="291"/>
                    <a:pt x="156" y="293"/>
                  </a:cubicBezTo>
                  <a:cubicBezTo>
                    <a:pt x="118" y="302"/>
                    <a:pt x="80" y="302"/>
                    <a:pt x="42" y="311"/>
                  </a:cubicBezTo>
                  <a:cubicBezTo>
                    <a:pt x="1" y="339"/>
                    <a:pt x="11" y="321"/>
                    <a:pt x="0" y="353"/>
                  </a:cubicBezTo>
                  <a:cubicBezTo>
                    <a:pt x="2" y="363"/>
                    <a:pt x="0" y="375"/>
                    <a:pt x="6" y="383"/>
                  </a:cubicBezTo>
                  <a:cubicBezTo>
                    <a:pt x="10" y="388"/>
                    <a:pt x="18" y="386"/>
                    <a:pt x="24" y="389"/>
                  </a:cubicBezTo>
                  <a:cubicBezTo>
                    <a:pt x="58" y="406"/>
                    <a:pt x="89" y="418"/>
                    <a:pt x="126" y="425"/>
                  </a:cubicBezTo>
                  <a:cubicBezTo>
                    <a:pt x="192" y="423"/>
                    <a:pt x="258" y="426"/>
                    <a:pt x="324" y="419"/>
                  </a:cubicBezTo>
                  <a:cubicBezTo>
                    <a:pt x="331" y="418"/>
                    <a:pt x="336" y="408"/>
                    <a:pt x="336" y="401"/>
                  </a:cubicBezTo>
                  <a:cubicBezTo>
                    <a:pt x="336" y="376"/>
                    <a:pt x="225" y="357"/>
                    <a:pt x="210" y="353"/>
                  </a:cubicBezTo>
                  <a:cubicBezTo>
                    <a:pt x="194" y="349"/>
                    <a:pt x="162" y="341"/>
                    <a:pt x="162" y="341"/>
                  </a:cubicBezTo>
                  <a:cubicBezTo>
                    <a:pt x="123" y="282"/>
                    <a:pt x="256" y="268"/>
                    <a:pt x="294" y="263"/>
                  </a:cubicBezTo>
                  <a:cubicBezTo>
                    <a:pt x="392" y="249"/>
                    <a:pt x="489" y="253"/>
                    <a:pt x="588" y="251"/>
                  </a:cubicBezTo>
                  <a:cubicBezTo>
                    <a:pt x="595" y="252"/>
                    <a:pt x="652" y="258"/>
                    <a:pt x="666" y="263"/>
                  </a:cubicBezTo>
                  <a:cubicBezTo>
                    <a:pt x="743" y="292"/>
                    <a:pt x="618" y="256"/>
                    <a:pt x="702" y="293"/>
                  </a:cubicBezTo>
                  <a:cubicBezTo>
                    <a:pt x="713" y="298"/>
                    <a:pt x="726" y="297"/>
                    <a:pt x="738" y="299"/>
                  </a:cubicBezTo>
                  <a:cubicBezTo>
                    <a:pt x="905" y="295"/>
                    <a:pt x="1070" y="287"/>
                    <a:pt x="1236" y="281"/>
                  </a:cubicBezTo>
                  <a:cubicBezTo>
                    <a:pt x="1273" y="277"/>
                    <a:pt x="1309" y="274"/>
                    <a:pt x="1344" y="263"/>
                  </a:cubicBezTo>
                  <a:cubicBezTo>
                    <a:pt x="1344" y="263"/>
                    <a:pt x="1389" y="248"/>
                    <a:pt x="1398" y="245"/>
                  </a:cubicBezTo>
                  <a:cubicBezTo>
                    <a:pt x="1404" y="243"/>
                    <a:pt x="1416" y="239"/>
                    <a:pt x="1416" y="239"/>
                  </a:cubicBezTo>
                  <a:cubicBezTo>
                    <a:pt x="1519" y="162"/>
                    <a:pt x="1307" y="194"/>
                    <a:pt x="1242" y="185"/>
                  </a:cubicBezTo>
                  <a:cubicBezTo>
                    <a:pt x="1208" y="174"/>
                    <a:pt x="1219" y="137"/>
                    <a:pt x="1248" y="125"/>
                  </a:cubicBezTo>
                  <a:cubicBezTo>
                    <a:pt x="1285" y="109"/>
                    <a:pt x="1339" y="108"/>
                    <a:pt x="1374" y="107"/>
                  </a:cubicBezTo>
                  <a:cubicBezTo>
                    <a:pt x="1544" y="101"/>
                    <a:pt x="1714" y="100"/>
                    <a:pt x="1884" y="89"/>
                  </a:cubicBezTo>
                  <a:cubicBezTo>
                    <a:pt x="1917" y="81"/>
                    <a:pt x="1951" y="66"/>
                    <a:pt x="1980" y="47"/>
                  </a:cubicBezTo>
                  <a:cubicBezTo>
                    <a:pt x="1982" y="41"/>
                    <a:pt x="1988" y="35"/>
                    <a:pt x="1986" y="29"/>
                  </a:cubicBezTo>
                  <a:cubicBezTo>
                    <a:pt x="1979" y="13"/>
                    <a:pt x="1930" y="11"/>
                    <a:pt x="1926" y="11"/>
                  </a:cubicBezTo>
                  <a:cubicBezTo>
                    <a:pt x="1894" y="8"/>
                    <a:pt x="1862" y="7"/>
                    <a:pt x="1830" y="5"/>
                  </a:cubicBezTo>
                  <a:cubicBezTo>
                    <a:pt x="1447" y="9"/>
                    <a:pt x="1089" y="16"/>
                    <a:pt x="708" y="11"/>
                  </a:cubicBezTo>
                  <a:cubicBezTo>
                    <a:pt x="582" y="6"/>
                    <a:pt x="468" y="0"/>
                    <a:pt x="342" y="5"/>
                  </a:cubicBezTo>
                  <a:cubicBezTo>
                    <a:pt x="418" y="56"/>
                    <a:pt x="555" y="37"/>
                    <a:pt x="636" y="41"/>
                  </a:cubicBezTo>
                  <a:cubicBezTo>
                    <a:pt x="669" y="45"/>
                    <a:pt x="719" y="49"/>
                    <a:pt x="750" y="59"/>
                  </a:cubicBezTo>
                  <a:cubicBezTo>
                    <a:pt x="762" y="63"/>
                    <a:pt x="774" y="67"/>
                    <a:pt x="786" y="71"/>
                  </a:cubicBezTo>
                  <a:cubicBezTo>
                    <a:pt x="792" y="73"/>
                    <a:pt x="804" y="77"/>
                    <a:pt x="804" y="77"/>
                  </a:cubicBezTo>
                  <a:cubicBezTo>
                    <a:pt x="833" y="120"/>
                    <a:pt x="807" y="104"/>
                    <a:pt x="786" y="125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730920" y="1530000"/>
              <a:ext cx="1222560" cy="314640"/>
            </a:xfrm>
            <a:custGeom>
              <a:avLst/>
              <a:gdLst/>
              <a:ahLst/>
              <a:rect l="l" t="t" r="r" b="b"/>
              <a:pathLst>
                <a:path w="770" h="198">
                  <a:moveTo>
                    <a:pt x="9" y="118"/>
                  </a:moveTo>
                  <a:cubicBezTo>
                    <a:pt x="81" y="108"/>
                    <a:pt x="153" y="101"/>
                    <a:pt x="225" y="94"/>
                  </a:cubicBezTo>
                  <a:cubicBezTo>
                    <a:pt x="250" y="82"/>
                    <a:pt x="271" y="62"/>
                    <a:pt x="297" y="52"/>
                  </a:cubicBezTo>
                  <a:cubicBezTo>
                    <a:pt x="320" y="43"/>
                    <a:pt x="346" y="43"/>
                    <a:pt x="369" y="34"/>
                  </a:cubicBezTo>
                  <a:cubicBezTo>
                    <a:pt x="391" y="25"/>
                    <a:pt x="407" y="11"/>
                    <a:pt x="429" y="4"/>
                  </a:cubicBezTo>
                  <a:cubicBezTo>
                    <a:pt x="531" y="6"/>
                    <a:pt x="633" y="0"/>
                    <a:pt x="735" y="10"/>
                  </a:cubicBezTo>
                  <a:cubicBezTo>
                    <a:pt x="770" y="13"/>
                    <a:pt x="731" y="70"/>
                    <a:pt x="723" y="76"/>
                  </a:cubicBezTo>
                  <a:cubicBezTo>
                    <a:pt x="691" y="97"/>
                    <a:pt x="585" y="93"/>
                    <a:pt x="561" y="94"/>
                  </a:cubicBezTo>
                  <a:cubicBezTo>
                    <a:pt x="544" y="111"/>
                    <a:pt x="533" y="128"/>
                    <a:pt x="513" y="142"/>
                  </a:cubicBezTo>
                  <a:cubicBezTo>
                    <a:pt x="476" y="198"/>
                    <a:pt x="339" y="177"/>
                    <a:pt x="303" y="178"/>
                  </a:cubicBezTo>
                  <a:cubicBezTo>
                    <a:pt x="256" y="176"/>
                    <a:pt x="136" y="173"/>
                    <a:pt x="75" y="166"/>
                  </a:cubicBezTo>
                  <a:cubicBezTo>
                    <a:pt x="54" y="164"/>
                    <a:pt x="15" y="148"/>
                    <a:pt x="15" y="148"/>
                  </a:cubicBezTo>
                  <a:cubicBezTo>
                    <a:pt x="1" y="126"/>
                    <a:pt x="0" y="136"/>
                    <a:pt x="9" y="118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49800" y="2868480"/>
              <a:ext cx="1425600" cy="1192320"/>
            </a:xfrm>
            <a:custGeom>
              <a:avLst/>
              <a:gdLst/>
              <a:ahLst/>
              <a:rect l="l" t="t" r="r" b="b"/>
              <a:pathLst>
                <a:path w="898" h="751">
                  <a:moveTo>
                    <a:pt x="54" y="0"/>
                  </a:moveTo>
                  <a:cubicBezTo>
                    <a:pt x="83" y="7"/>
                    <a:pt x="108" y="14"/>
                    <a:pt x="132" y="30"/>
                  </a:cubicBezTo>
                  <a:cubicBezTo>
                    <a:pt x="154" y="63"/>
                    <a:pt x="188" y="88"/>
                    <a:pt x="210" y="120"/>
                  </a:cubicBezTo>
                  <a:cubicBezTo>
                    <a:pt x="229" y="148"/>
                    <a:pt x="259" y="185"/>
                    <a:pt x="288" y="204"/>
                  </a:cubicBezTo>
                  <a:cubicBezTo>
                    <a:pt x="324" y="258"/>
                    <a:pt x="361" y="301"/>
                    <a:pt x="420" y="330"/>
                  </a:cubicBezTo>
                  <a:cubicBezTo>
                    <a:pt x="463" y="319"/>
                    <a:pt x="459" y="299"/>
                    <a:pt x="492" y="288"/>
                  </a:cubicBezTo>
                  <a:cubicBezTo>
                    <a:pt x="508" y="290"/>
                    <a:pt x="524" y="290"/>
                    <a:pt x="540" y="294"/>
                  </a:cubicBezTo>
                  <a:cubicBezTo>
                    <a:pt x="573" y="302"/>
                    <a:pt x="592" y="330"/>
                    <a:pt x="612" y="354"/>
                  </a:cubicBezTo>
                  <a:cubicBezTo>
                    <a:pt x="646" y="395"/>
                    <a:pt x="683" y="442"/>
                    <a:pt x="714" y="486"/>
                  </a:cubicBezTo>
                  <a:cubicBezTo>
                    <a:pt x="753" y="541"/>
                    <a:pt x="697" y="481"/>
                    <a:pt x="744" y="528"/>
                  </a:cubicBezTo>
                  <a:cubicBezTo>
                    <a:pt x="759" y="572"/>
                    <a:pt x="802" y="600"/>
                    <a:pt x="816" y="642"/>
                  </a:cubicBezTo>
                  <a:cubicBezTo>
                    <a:pt x="830" y="685"/>
                    <a:pt x="859" y="701"/>
                    <a:pt x="888" y="720"/>
                  </a:cubicBezTo>
                  <a:cubicBezTo>
                    <a:pt x="898" y="751"/>
                    <a:pt x="844" y="723"/>
                    <a:pt x="816" y="732"/>
                  </a:cubicBezTo>
                  <a:cubicBezTo>
                    <a:pt x="764" y="729"/>
                    <a:pt x="699" y="731"/>
                    <a:pt x="648" y="714"/>
                  </a:cubicBezTo>
                  <a:cubicBezTo>
                    <a:pt x="615" y="718"/>
                    <a:pt x="589" y="722"/>
                    <a:pt x="558" y="732"/>
                  </a:cubicBezTo>
                  <a:cubicBezTo>
                    <a:pt x="511" y="725"/>
                    <a:pt x="452" y="741"/>
                    <a:pt x="408" y="726"/>
                  </a:cubicBezTo>
                  <a:cubicBezTo>
                    <a:pt x="326" y="699"/>
                    <a:pt x="266" y="692"/>
                    <a:pt x="180" y="690"/>
                  </a:cubicBezTo>
                  <a:cubicBezTo>
                    <a:pt x="148" y="684"/>
                    <a:pt x="115" y="676"/>
                    <a:pt x="84" y="666"/>
                  </a:cubicBezTo>
                  <a:cubicBezTo>
                    <a:pt x="57" y="675"/>
                    <a:pt x="72" y="672"/>
                    <a:pt x="36" y="672"/>
                  </a:cubicBezTo>
                  <a:lnTo>
                    <a:pt x="0" y="456"/>
                  </a:lnTo>
                  <a:lnTo>
                    <a:pt x="0" y="240"/>
                  </a:lnTo>
                  <a:lnTo>
                    <a:pt x="18" y="10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7280280" y="3159000"/>
              <a:ext cx="216000" cy="660240"/>
              <a:chOff x="7280280" y="3159000"/>
              <a:chExt cx="216000" cy="660240"/>
            </a:xfrm>
          </p:grpSpPr>
          <p:sp>
            <p:nvSpPr>
              <p:cNvPr id="64" name=""/>
              <p:cNvSpPr/>
              <p:nvPr/>
            </p:nvSpPr>
            <p:spPr>
              <a:xfrm>
                <a:off x="7280280" y="315900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389720" y="3747960"/>
                <a:ext cx="0" cy="71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7686720" y="3022560"/>
              <a:ext cx="215640" cy="710280"/>
              <a:chOff x="7686720" y="3022560"/>
              <a:chExt cx="215640" cy="710280"/>
            </a:xfrm>
          </p:grpSpPr>
          <p:sp>
            <p:nvSpPr>
              <p:cNvPr id="67" name=""/>
              <p:cNvSpPr/>
              <p:nvPr/>
            </p:nvSpPr>
            <p:spPr>
              <a:xfrm>
                <a:off x="7686720" y="3022560"/>
                <a:ext cx="215640" cy="6595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7795800" y="3656160"/>
                <a:ext cx="0" cy="766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7578720" y="3165120"/>
              <a:ext cx="216000" cy="660240"/>
              <a:chOff x="7578720" y="3165120"/>
              <a:chExt cx="216000" cy="660240"/>
            </a:xfrm>
          </p:grpSpPr>
          <p:sp>
            <p:nvSpPr>
              <p:cNvPr id="70" name=""/>
              <p:cNvSpPr/>
              <p:nvPr/>
            </p:nvSpPr>
            <p:spPr>
              <a:xfrm>
                <a:off x="7578720" y="316512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7688160" y="3754080"/>
                <a:ext cx="0" cy="71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7807320" y="3101760"/>
              <a:ext cx="216000" cy="660240"/>
              <a:chOff x="7807320" y="3101760"/>
              <a:chExt cx="216000" cy="660240"/>
            </a:xfrm>
          </p:grpSpPr>
          <p:sp>
            <p:nvSpPr>
              <p:cNvPr id="73" name=""/>
              <p:cNvSpPr/>
              <p:nvPr/>
            </p:nvSpPr>
            <p:spPr>
              <a:xfrm>
                <a:off x="7807320" y="310176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7916760" y="3690720"/>
                <a:ext cx="0" cy="71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8042040" y="3019320"/>
              <a:ext cx="216000" cy="660240"/>
              <a:chOff x="8042040" y="3019320"/>
              <a:chExt cx="216000" cy="660240"/>
            </a:xfrm>
          </p:grpSpPr>
          <p:sp>
            <p:nvSpPr>
              <p:cNvPr id="76" name=""/>
              <p:cNvSpPr/>
              <p:nvPr/>
            </p:nvSpPr>
            <p:spPr>
              <a:xfrm>
                <a:off x="8042040" y="301932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8151480" y="3608280"/>
                <a:ext cx="0" cy="71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8244000" y="3041640"/>
              <a:ext cx="215640" cy="660240"/>
              <a:chOff x="8244000" y="3041640"/>
              <a:chExt cx="215640" cy="660240"/>
            </a:xfrm>
          </p:grpSpPr>
          <p:sp>
            <p:nvSpPr>
              <p:cNvPr id="79" name=""/>
              <p:cNvSpPr/>
              <p:nvPr/>
            </p:nvSpPr>
            <p:spPr>
              <a:xfrm>
                <a:off x="8244000" y="3041640"/>
                <a:ext cx="21564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353080" y="3630600"/>
                <a:ext cx="0" cy="71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8582040" y="3038400"/>
              <a:ext cx="216000" cy="660240"/>
              <a:chOff x="8582040" y="3038400"/>
              <a:chExt cx="216000" cy="660240"/>
            </a:xfrm>
          </p:grpSpPr>
          <p:sp>
            <p:nvSpPr>
              <p:cNvPr id="82" name=""/>
              <p:cNvSpPr/>
              <p:nvPr/>
            </p:nvSpPr>
            <p:spPr>
              <a:xfrm>
                <a:off x="8582040" y="303840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8691480" y="3627360"/>
                <a:ext cx="0" cy="71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435880" y="3101760"/>
              <a:ext cx="216000" cy="660240"/>
              <a:chOff x="8435880" y="3101760"/>
              <a:chExt cx="216000" cy="660240"/>
            </a:xfrm>
          </p:grpSpPr>
          <p:sp>
            <p:nvSpPr>
              <p:cNvPr id="85" name=""/>
              <p:cNvSpPr/>
              <p:nvPr/>
            </p:nvSpPr>
            <p:spPr>
              <a:xfrm>
                <a:off x="8435880" y="310176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8545320" y="3690720"/>
                <a:ext cx="0" cy="71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413480" y="3279600"/>
              <a:ext cx="216000" cy="660240"/>
              <a:chOff x="7413480" y="3279600"/>
              <a:chExt cx="216000" cy="660240"/>
            </a:xfrm>
          </p:grpSpPr>
          <p:sp>
            <p:nvSpPr>
              <p:cNvPr id="88" name=""/>
              <p:cNvSpPr/>
              <p:nvPr/>
            </p:nvSpPr>
            <p:spPr>
              <a:xfrm>
                <a:off x="7413480" y="327960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7522920" y="3868560"/>
                <a:ext cx="0" cy="71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7172280" y="3425760"/>
              <a:ext cx="142920" cy="361440"/>
              <a:chOff x="7172280" y="3425760"/>
              <a:chExt cx="142920" cy="361440"/>
            </a:xfrm>
          </p:grpSpPr>
          <p:sp>
            <p:nvSpPr>
              <p:cNvPr id="91" name=""/>
              <p:cNvSpPr/>
              <p:nvPr/>
            </p:nvSpPr>
            <p:spPr>
              <a:xfrm>
                <a:off x="7172280" y="3425760"/>
                <a:ext cx="142920" cy="33588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7244640" y="3748320"/>
                <a:ext cx="0" cy="388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365880" y="3622320"/>
              <a:ext cx="114120" cy="405720"/>
              <a:chOff x="6365880" y="3622320"/>
              <a:chExt cx="114120" cy="405720"/>
            </a:xfrm>
          </p:grpSpPr>
          <p:sp>
            <p:nvSpPr>
              <p:cNvPr id="94" name=""/>
              <p:cNvSpPr/>
              <p:nvPr/>
            </p:nvSpPr>
            <p:spPr>
              <a:xfrm>
                <a:off x="6365880" y="3622320"/>
                <a:ext cx="114120" cy="37728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423480" y="3984480"/>
                <a:ext cx="0" cy="435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7083360" y="3412800"/>
              <a:ext cx="152280" cy="577440"/>
              <a:chOff x="7083360" y="3412800"/>
              <a:chExt cx="152280" cy="577440"/>
            </a:xfrm>
          </p:grpSpPr>
          <p:sp>
            <p:nvSpPr>
              <p:cNvPr id="97" name=""/>
              <p:cNvSpPr/>
              <p:nvPr/>
            </p:nvSpPr>
            <p:spPr>
              <a:xfrm>
                <a:off x="7083360" y="3412800"/>
                <a:ext cx="152280" cy="53640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7160400" y="3927960"/>
                <a:ext cx="0" cy="62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4911840" y="3327120"/>
              <a:ext cx="3966840" cy="2370240"/>
              <a:chOff x="4911840" y="3327120"/>
              <a:chExt cx="3966840" cy="2370240"/>
            </a:xfrm>
          </p:grpSpPr>
          <p:sp>
            <p:nvSpPr>
              <p:cNvPr id="100" name=""/>
              <p:cNvSpPr/>
              <p:nvPr/>
            </p:nvSpPr>
            <p:spPr>
              <a:xfrm>
                <a:off x="4911840" y="3327120"/>
                <a:ext cx="3963960" cy="2370240"/>
              </a:xfrm>
              <a:custGeom>
                <a:avLst/>
                <a:gdLst/>
                <a:ahLst/>
                <a:rect l="l" t="t" r="r" b="b"/>
                <a:pathLst>
                  <a:path w="2497" h="1493">
                    <a:moveTo>
                      <a:pt x="2497" y="0"/>
                    </a:moveTo>
                    <a:lnTo>
                      <a:pt x="2497" y="15"/>
                    </a:lnTo>
                    <a:lnTo>
                      <a:pt x="2497" y="27"/>
                    </a:lnTo>
                    <a:lnTo>
                      <a:pt x="2497" y="40"/>
                    </a:lnTo>
                    <a:lnTo>
                      <a:pt x="2497" y="54"/>
                    </a:lnTo>
                    <a:lnTo>
                      <a:pt x="2497" y="64"/>
                    </a:lnTo>
                    <a:lnTo>
                      <a:pt x="2497" y="75"/>
                    </a:lnTo>
                    <a:lnTo>
                      <a:pt x="2497" y="87"/>
                    </a:lnTo>
                    <a:lnTo>
                      <a:pt x="2497" y="98"/>
                    </a:lnTo>
                    <a:lnTo>
                      <a:pt x="2497" y="116"/>
                    </a:lnTo>
                    <a:lnTo>
                      <a:pt x="2497" y="135"/>
                    </a:lnTo>
                    <a:lnTo>
                      <a:pt x="2494" y="154"/>
                    </a:lnTo>
                    <a:lnTo>
                      <a:pt x="2494" y="174"/>
                    </a:lnTo>
                    <a:lnTo>
                      <a:pt x="2491" y="183"/>
                    </a:lnTo>
                    <a:lnTo>
                      <a:pt x="2491" y="191"/>
                    </a:lnTo>
                    <a:lnTo>
                      <a:pt x="2491" y="199"/>
                    </a:lnTo>
                    <a:lnTo>
                      <a:pt x="2491" y="208"/>
                    </a:lnTo>
                    <a:lnTo>
                      <a:pt x="2488" y="241"/>
                    </a:lnTo>
                    <a:lnTo>
                      <a:pt x="2481" y="272"/>
                    </a:lnTo>
                    <a:lnTo>
                      <a:pt x="2478" y="303"/>
                    </a:lnTo>
                    <a:lnTo>
                      <a:pt x="2472" y="334"/>
                    </a:lnTo>
                    <a:lnTo>
                      <a:pt x="2466" y="357"/>
                    </a:lnTo>
                    <a:lnTo>
                      <a:pt x="2463" y="378"/>
                    </a:lnTo>
                    <a:lnTo>
                      <a:pt x="2456" y="401"/>
                    </a:lnTo>
                    <a:lnTo>
                      <a:pt x="2450" y="424"/>
                    </a:lnTo>
                    <a:lnTo>
                      <a:pt x="2447" y="432"/>
                    </a:lnTo>
                    <a:lnTo>
                      <a:pt x="2447" y="438"/>
                    </a:lnTo>
                    <a:lnTo>
                      <a:pt x="2444" y="446"/>
                    </a:lnTo>
                    <a:lnTo>
                      <a:pt x="2441" y="453"/>
                    </a:lnTo>
                    <a:lnTo>
                      <a:pt x="2434" y="473"/>
                    </a:lnTo>
                    <a:lnTo>
                      <a:pt x="2428" y="496"/>
                    </a:lnTo>
                    <a:lnTo>
                      <a:pt x="2419" y="517"/>
                    </a:lnTo>
                    <a:lnTo>
                      <a:pt x="2412" y="538"/>
                    </a:lnTo>
                    <a:lnTo>
                      <a:pt x="2403" y="565"/>
                    </a:lnTo>
                    <a:lnTo>
                      <a:pt x="2390" y="594"/>
                    </a:lnTo>
                    <a:lnTo>
                      <a:pt x="2381" y="621"/>
                    </a:lnTo>
                    <a:lnTo>
                      <a:pt x="2369" y="648"/>
                    </a:lnTo>
                    <a:lnTo>
                      <a:pt x="2356" y="675"/>
                    </a:lnTo>
                    <a:lnTo>
                      <a:pt x="2344" y="702"/>
                    </a:lnTo>
                    <a:lnTo>
                      <a:pt x="2328" y="729"/>
                    </a:lnTo>
                    <a:lnTo>
                      <a:pt x="2315" y="754"/>
                    </a:lnTo>
                    <a:lnTo>
                      <a:pt x="2303" y="775"/>
                    </a:lnTo>
                    <a:lnTo>
                      <a:pt x="2290" y="793"/>
                    </a:lnTo>
                    <a:lnTo>
                      <a:pt x="2278" y="814"/>
                    </a:lnTo>
                    <a:lnTo>
                      <a:pt x="2265" y="835"/>
                    </a:lnTo>
                    <a:lnTo>
                      <a:pt x="2243" y="868"/>
                    </a:lnTo>
                    <a:lnTo>
                      <a:pt x="2218" y="901"/>
                    </a:lnTo>
                    <a:lnTo>
                      <a:pt x="2193" y="934"/>
                    </a:lnTo>
                    <a:lnTo>
                      <a:pt x="2168" y="968"/>
                    </a:lnTo>
                    <a:lnTo>
                      <a:pt x="2140" y="999"/>
                    </a:lnTo>
                    <a:lnTo>
                      <a:pt x="2112" y="1030"/>
                    </a:lnTo>
                    <a:lnTo>
                      <a:pt x="2084" y="1059"/>
                    </a:lnTo>
                    <a:lnTo>
                      <a:pt x="2055" y="1088"/>
                    </a:lnTo>
                    <a:lnTo>
                      <a:pt x="2049" y="1096"/>
                    </a:lnTo>
                    <a:lnTo>
                      <a:pt x="2043" y="1103"/>
                    </a:lnTo>
                    <a:lnTo>
                      <a:pt x="2033" y="1109"/>
                    </a:lnTo>
                    <a:lnTo>
                      <a:pt x="2027" y="1115"/>
                    </a:lnTo>
                    <a:lnTo>
                      <a:pt x="2015" y="1128"/>
                    </a:lnTo>
                    <a:lnTo>
                      <a:pt x="1999" y="1138"/>
                    </a:lnTo>
                    <a:lnTo>
                      <a:pt x="1986" y="1150"/>
                    </a:lnTo>
                    <a:lnTo>
                      <a:pt x="1971" y="1163"/>
                    </a:lnTo>
                    <a:lnTo>
                      <a:pt x="1964" y="1167"/>
                    </a:lnTo>
                    <a:lnTo>
                      <a:pt x="1958" y="1171"/>
                    </a:lnTo>
                    <a:lnTo>
                      <a:pt x="1952" y="1177"/>
                    </a:lnTo>
                    <a:lnTo>
                      <a:pt x="1946" y="1182"/>
                    </a:lnTo>
                    <a:lnTo>
                      <a:pt x="1939" y="1188"/>
                    </a:lnTo>
                    <a:lnTo>
                      <a:pt x="1933" y="1194"/>
                    </a:lnTo>
                    <a:lnTo>
                      <a:pt x="1924" y="1200"/>
                    </a:lnTo>
                    <a:lnTo>
                      <a:pt x="1917" y="1204"/>
                    </a:lnTo>
                    <a:lnTo>
                      <a:pt x="1902" y="1217"/>
                    </a:lnTo>
                    <a:lnTo>
                      <a:pt x="1886" y="1227"/>
                    </a:lnTo>
                    <a:lnTo>
                      <a:pt x="1870" y="1238"/>
                    </a:lnTo>
                    <a:lnTo>
                      <a:pt x="1855" y="1248"/>
                    </a:lnTo>
                    <a:lnTo>
                      <a:pt x="1839" y="1258"/>
                    </a:lnTo>
                    <a:lnTo>
                      <a:pt x="1824" y="1269"/>
                    </a:lnTo>
                    <a:lnTo>
                      <a:pt x="1808" y="1279"/>
                    </a:lnTo>
                    <a:lnTo>
                      <a:pt x="1792" y="1290"/>
                    </a:lnTo>
                    <a:lnTo>
                      <a:pt x="1777" y="1298"/>
                    </a:lnTo>
                    <a:lnTo>
                      <a:pt x="1758" y="1308"/>
                    </a:lnTo>
                    <a:lnTo>
                      <a:pt x="1742" y="1317"/>
                    </a:lnTo>
                    <a:lnTo>
                      <a:pt x="1726" y="1327"/>
                    </a:lnTo>
                    <a:lnTo>
                      <a:pt x="1717" y="1331"/>
                    </a:lnTo>
                    <a:lnTo>
                      <a:pt x="1708" y="1335"/>
                    </a:lnTo>
                    <a:lnTo>
                      <a:pt x="1698" y="1339"/>
                    </a:lnTo>
                    <a:lnTo>
                      <a:pt x="1692" y="1343"/>
                    </a:lnTo>
                    <a:lnTo>
                      <a:pt x="1667" y="1356"/>
                    </a:lnTo>
                    <a:lnTo>
                      <a:pt x="1642" y="1366"/>
                    </a:lnTo>
                    <a:lnTo>
                      <a:pt x="1617" y="1379"/>
                    </a:lnTo>
                    <a:lnTo>
                      <a:pt x="1589" y="1389"/>
                    </a:lnTo>
                    <a:lnTo>
                      <a:pt x="1564" y="1400"/>
                    </a:lnTo>
                    <a:lnTo>
                      <a:pt x="1535" y="1408"/>
                    </a:lnTo>
                    <a:lnTo>
                      <a:pt x="1510" y="1418"/>
                    </a:lnTo>
                    <a:lnTo>
                      <a:pt x="1482" y="1427"/>
                    </a:lnTo>
                    <a:lnTo>
                      <a:pt x="1463" y="1433"/>
                    </a:lnTo>
                    <a:lnTo>
                      <a:pt x="1444" y="1439"/>
                    </a:lnTo>
                    <a:lnTo>
                      <a:pt x="1423" y="1445"/>
                    </a:lnTo>
                    <a:lnTo>
                      <a:pt x="1404" y="1449"/>
                    </a:lnTo>
                    <a:lnTo>
                      <a:pt x="1394" y="1451"/>
                    </a:lnTo>
                    <a:lnTo>
                      <a:pt x="1385" y="1454"/>
                    </a:lnTo>
                    <a:lnTo>
                      <a:pt x="1376" y="1456"/>
                    </a:lnTo>
                    <a:lnTo>
                      <a:pt x="1369" y="1458"/>
                    </a:lnTo>
                    <a:lnTo>
                      <a:pt x="1347" y="1462"/>
                    </a:lnTo>
                    <a:lnTo>
                      <a:pt x="1329" y="1466"/>
                    </a:lnTo>
                    <a:lnTo>
                      <a:pt x="1307" y="1470"/>
                    </a:lnTo>
                    <a:lnTo>
                      <a:pt x="1285" y="1474"/>
                    </a:lnTo>
                    <a:lnTo>
                      <a:pt x="1272" y="1476"/>
                    </a:lnTo>
                    <a:lnTo>
                      <a:pt x="1257" y="1478"/>
                    </a:lnTo>
                    <a:lnTo>
                      <a:pt x="1244" y="1481"/>
                    </a:lnTo>
                    <a:lnTo>
                      <a:pt x="1231" y="1483"/>
                    </a:lnTo>
                    <a:lnTo>
                      <a:pt x="1216" y="1485"/>
                    </a:lnTo>
                    <a:lnTo>
                      <a:pt x="1203" y="1485"/>
                    </a:lnTo>
                    <a:lnTo>
                      <a:pt x="1188" y="1487"/>
                    </a:lnTo>
                    <a:lnTo>
                      <a:pt x="1175" y="1489"/>
                    </a:lnTo>
                    <a:lnTo>
                      <a:pt x="1159" y="1491"/>
                    </a:lnTo>
                    <a:lnTo>
                      <a:pt x="1141" y="1491"/>
                    </a:lnTo>
                    <a:lnTo>
                      <a:pt x="1122" y="1491"/>
                    </a:lnTo>
                    <a:lnTo>
                      <a:pt x="1100" y="1493"/>
                    </a:lnTo>
                    <a:lnTo>
                      <a:pt x="1087" y="1493"/>
                    </a:lnTo>
                    <a:lnTo>
                      <a:pt x="1075" y="1493"/>
                    </a:lnTo>
                    <a:lnTo>
                      <a:pt x="1059" y="1493"/>
                    </a:lnTo>
                    <a:lnTo>
                      <a:pt x="1047" y="1493"/>
                    </a:lnTo>
                    <a:lnTo>
                      <a:pt x="1025" y="1493"/>
                    </a:lnTo>
                    <a:lnTo>
                      <a:pt x="1003" y="1493"/>
                    </a:lnTo>
                    <a:lnTo>
                      <a:pt x="981" y="1493"/>
                    </a:lnTo>
                    <a:lnTo>
                      <a:pt x="959" y="1491"/>
                    </a:lnTo>
                    <a:lnTo>
                      <a:pt x="950" y="1491"/>
                    </a:lnTo>
                    <a:lnTo>
                      <a:pt x="940" y="1489"/>
                    </a:lnTo>
                    <a:lnTo>
                      <a:pt x="931" y="1489"/>
                    </a:lnTo>
                    <a:lnTo>
                      <a:pt x="921" y="1489"/>
                    </a:lnTo>
                    <a:lnTo>
                      <a:pt x="903" y="1487"/>
                    </a:lnTo>
                    <a:lnTo>
                      <a:pt x="887" y="1485"/>
                    </a:lnTo>
                    <a:lnTo>
                      <a:pt x="868" y="1483"/>
                    </a:lnTo>
                    <a:lnTo>
                      <a:pt x="852" y="1481"/>
                    </a:lnTo>
                    <a:lnTo>
                      <a:pt x="837" y="1478"/>
                    </a:lnTo>
                    <a:lnTo>
                      <a:pt x="818" y="1476"/>
                    </a:lnTo>
                    <a:lnTo>
                      <a:pt x="802" y="1472"/>
                    </a:lnTo>
                    <a:lnTo>
                      <a:pt x="783" y="1470"/>
                    </a:lnTo>
                    <a:lnTo>
                      <a:pt x="768" y="1466"/>
                    </a:lnTo>
                    <a:lnTo>
                      <a:pt x="752" y="1464"/>
                    </a:lnTo>
                    <a:lnTo>
                      <a:pt x="737" y="1460"/>
                    </a:lnTo>
                    <a:lnTo>
                      <a:pt x="721" y="1458"/>
                    </a:lnTo>
                    <a:lnTo>
                      <a:pt x="715" y="1456"/>
                    </a:lnTo>
                    <a:lnTo>
                      <a:pt x="708" y="1454"/>
                    </a:lnTo>
                    <a:lnTo>
                      <a:pt x="705" y="1454"/>
                    </a:lnTo>
                    <a:lnTo>
                      <a:pt x="699" y="1451"/>
                    </a:lnTo>
                    <a:lnTo>
                      <a:pt x="683" y="1447"/>
                    </a:lnTo>
                    <a:lnTo>
                      <a:pt x="668" y="1445"/>
                    </a:lnTo>
                    <a:lnTo>
                      <a:pt x="655" y="1441"/>
                    </a:lnTo>
                    <a:lnTo>
                      <a:pt x="639" y="1437"/>
                    </a:lnTo>
                    <a:lnTo>
                      <a:pt x="589" y="1422"/>
                    </a:lnTo>
                    <a:lnTo>
                      <a:pt x="542" y="1406"/>
                    </a:lnTo>
                    <a:lnTo>
                      <a:pt x="495" y="1387"/>
                    </a:lnTo>
                    <a:lnTo>
                      <a:pt x="448" y="1366"/>
                    </a:lnTo>
                    <a:lnTo>
                      <a:pt x="401" y="1346"/>
                    </a:lnTo>
                    <a:lnTo>
                      <a:pt x="357" y="1323"/>
                    </a:lnTo>
                    <a:lnTo>
                      <a:pt x="314" y="1298"/>
                    </a:lnTo>
                    <a:lnTo>
                      <a:pt x="270" y="1271"/>
                    </a:lnTo>
                    <a:lnTo>
                      <a:pt x="242" y="1252"/>
                    </a:lnTo>
                    <a:lnTo>
                      <a:pt x="213" y="1233"/>
                    </a:lnTo>
                    <a:lnTo>
                      <a:pt x="185" y="1215"/>
                    </a:lnTo>
                    <a:lnTo>
                      <a:pt x="160" y="1196"/>
                    </a:lnTo>
                    <a:lnTo>
                      <a:pt x="132" y="1175"/>
                    </a:lnTo>
                    <a:lnTo>
                      <a:pt x="107" y="1155"/>
                    </a:lnTo>
                    <a:lnTo>
                      <a:pt x="82" y="1134"/>
                    </a:lnTo>
                    <a:lnTo>
                      <a:pt x="57" y="1111"/>
                    </a:lnTo>
                    <a:lnTo>
                      <a:pt x="44" y="1096"/>
                    </a:lnTo>
                    <a:lnTo>
                      <a:pt x="29" y="1084"/>
                    </a:lnTo>
                    <a:lnTo>
                      <a:pt x="16" y="1071"/>
                    </a:lnTo>
                    <a:lnTo>
                      <a:pt x="0" y="1057"/>
                    </a:lnTo>
                    <a:lnTo>
                      <a:pt x="69" y="1020"/>
                    </a:lnTo>
                    <a:lnTo>
                      <a:pt x="141" y="984"/>
                    </a:lnTo>
                    <a:lnTo>
                      <a:pt x="210" y="957"/>
                    </a:lnTo>
                    <a:lnTo>
                      <a:pt x="279" y="932"/>
                    </a:lnTo>
                    <a:lnTo>
                      <a:pt x="348" y="912"/>
                    </a:lnTo>
                    <a:lnTo>
                      <a:pt x="414" y="895"/>
                    </a:lnTo>
                    <a:lnTo>
                      <a:pt x="480" y="880"/>
                    </a:lnTo>
                    <a:lnTo>
                      <a:pt x="545" y="870"/>
                    </a:lnTo>
                    <a:lnTo>
                      <a:pt x="605" y="862"/>
                    </a:lnTo>
                    <a:lnTo>
                      <a:pt x="664" y="856"/>
                    </a:lnTo>
                    <a:lnTo>
                      <a:pt x="721" y="851"/>
                    </a:lnTo>
                    <a:lnTo>
                      <a:pt x="774" y="847"/>
                    </a:lnTo>
                    <a:lnTo>
                      <a:pt x="821" y="845"/>
                    </a:lnTo>
                    <a:lnTo>
                      <a:pt x="868" y="845"/>
                    </a:lnTo>
                    <a:lnTo>
                      <a:pt x="909" y="845"/>
                    </a:lnTo>
                    <a:lnTo>
                      <a:pt x="946" y="845"/>
                    </a:lnTo>
                    <a:lnTo>
                      <a:pt x="968" y="845"/>
                    </a:lnTo>
                    <a:lnTo>
                      <a:pt x="984" y="843"/>
                    </a:lnTo>
                    <a:lnTo>
                      <a:pt x="997" y="841"/>
                    </a:lnTo>
                    <a:lnTo>
                      <a:pt x="1003" y="835"/>
                    </a:lnTo>
                    <a:lnTo>
                      <a:pt x="1009" y="824"/>
                    </a:lnTo>
                    <a:lnTo>
                      <a:pt x="1018" y="812"/>
                    </a:lnTo>
                    <a:lnTo>
                      <a:pt x="1037" y="802"/>
                    </a:lnTo>
                    <a:lnTo>
                      <a:pt x="1062" y="797"/>
                    </a:lnTo>
                    <a:lnTo>
                      <a:pt x="1078" y="795"/>
                    </a:lnTo>
                    <a:lnTo>
                      <a:pt x="1097" y="793"/>
                    </a:lnTo>
                    <a:lnTo>
                      <a:pt x="1119" y="789"/>
                    </a:lnTo>
                    <a:lnTo>
                      <a:pt x="1144" y="785"/>
                    </a:lnTo>
                    <a:lnTo>
                      <a:pt x="1166" y="781"/>
                    </a:lnTo>
                    <a:lnTo>
                      <a:pt x="1191" y="777"/>
                    </a:lnTo>
                    <a:lnTo>
                      <a:pt x="1210" y="775"/>
                    </a:lnTo>
                    <a:lnTo>
                      <a:pt x="1228" y="772"/>
                    </a:lnTo>
                    <a:lnTo>
                      <a:pt x="1241" y="770"/>
                    </a:lnTo>
                    <a:lnTo>
                      <a:pt x="1260" y="766"/>
                    </a:lnTo>
                    <a:lnTo>
                      <a:pt x="1282" y="760"/>
                    </a:lnTo>
                    <a:lnTo>
                      <a:pt x="1304" y="754"/>
                    </a:lnTo>
                    <a:lnTo>
                      <a:pt x="1322" y="750"/>
                    </a:lnTo>
                    <a:lnTo>
                      <a:pt x="1338" y="743"/>
                    </a:lnTo>
                    <a:lnTo>
                      <a:pt x="1354" y="739"/>
                    </a:lnTo>
                    <a:lnTo>
                      <a:pt x="1366" y="735"/>
                    </a:lnTo>
                    <a:lnTo>
                      <a:pt x="1379" y="731"/>
                    </a:lnTo>
                    <a:lnTo>
                      <a:pt x="1388" y="727"/>
                    </a:lnTo>
                    <a:lnTo>
                      <a:pt x="1394" y="723"/>
                    </a:lnTo>
                    <a:lnTo>
                      <a:pt x="1397" y="721"/>
                    </a:lnTo>
                    <a:lnTo>
                      <a:pt x="1397" y="710"/>
                    </a:lnTo>
                    <a:lnTo>
                      <a:pt x="1397" y="689"/>
                    </a:lnTo>
                    <a:lnTo>
                      <a:pt x="1397" y="662"/>
                    </a:lnTo>
                    <a:lnTo>
                      <a:pt x="1397" y="631"/>
                    </a:lnTo>
                    <a:lnTo>
                      <a:pt x="1401" y="600"/>
                    </a:lnTo>
                    <a:lnTo>
                      <a:pt x="1407" y="571"/>
                    </a:lnTo>
                    <a:lnTo>
                      <a:pt x="1413" y="548"/>
                    </a:lnTo>
                    <a:lnTo>
                      <a:pt x="1426" y="536"/>
                    </a:lnTo>
                    <a:lnTo>
                      <a:pt x="1432" y="532"/>
                    </a:lnTo>
                    <a:lnTo>
                      <a:pt x="1444" y="527"/>
                    </a:lnTo>
                    <a:lnTo>
                      <a:pt x="1457" y="521"/>
                    </a:lnTo>
                    <a:lnTo>
                      <a:pt x="1476" y="517"/>
                    </a:lnTo>
                    <a:lnTo>
                      <a:pt x="1495" y="511"/>
                    </a:lnTo>
                    <a:lnTo>
                      <a:pt x="1513" y="505"/>
                    </a:lnTo>
                    <a:lnTo>
                      <a:pt x="1535" y="498"/>
                    </a:lnTo>
                    <a:lnTo>
                      <a:pt x="1557" y="492"/>
                    </a:lnTo>
                    <a:lnTo>
                      <a:pt x="1582" y="486"/>
                    </a:lnTo>
                    <a:lnTo>
                      <a:pt x="1604" y="480"/>
                    </a:lnTo>
                    <a:lnTo>
                      <a:pt x="1626" y="473"/>
                    </a:lnTo>
                    <a:lnTo>
                      <a:pt x="1651" y="469"/>
                    </a:lnTo>
                    <a:lnTo>
                      <a:pt x="1670" y="463"/>
                    </a:lnTo>
                    <a:lnTo>
                      <a:pt x="1692" y="459"/>
                    </a:lnTo>
                    <a:lnTo>
                      <a:pt x="1711" y="455"/>
                    </a:lnTo>
                    <a:lnTo>
                      <a:pt x="1726" y="453"/>
                    </a:lnTo>
                    <a:lnTo>
                      <a:pt x="1751" y="426"/>
                    </a:lnTo>
                    <a:lnTo>
                      <a:pt x="1777" y="403"/>
                    </a:lnTo>
                    <a:lnTo>
                      <a:pt x="1795" y="386"/>
                    </a:lnTo>
                    <a:lnTo>
                      <a:pt x="1814" y="374"/>
                    </a:lnTo>
                    <a:lnTo>
                      <a:pt x="1827" y="368"/>
                    </a:lnTo>
                    <a:lnTo>
                      <a:pt x="1852" y="361"/>
                    </a:lnTo>
                    <a:lnTo>
                      <a:pt x="1880" y="353"/>
                    </a:lnTo>
                    <a:lnTo>
                      <a:pt x="1908" y="343"/>
                    </a:lnTo>
                    <a:lnTo>
                      <a:pt x="1939" y="332"/>
                    </a:lnTo>
                    <a:lnTo>
                      <a:pt x="1964" y="324"/>
                    </a:lnTo>
                    <a:lnTo>
                      <a:pt x="1983" y="314"/>
                    </a:lnTo>
                    <a:lnTo>
                      <a:pt x="1993" y="303"/>
                    </a:lnTo>
                    <a:lnTo>
                      <a:pt x="1999" y="280"/>
                    </a:lnTo>
                    <a:lnTo>
                      <a:pt x="2005" y="258"/>
                    </a:lnTo>
                    <a:lnTo>
                      <a:pt x="2011" y="239"/>
                    </a:lnTo>
                    <a:lnTo>
                      <a:pt x="2021" y="226"/>
                    </a:lnTo>
                    <a:lnTo>
                      <a:pt x="2027" y="224"/>
                    </a:lnTo>
                    <a:lnTo>
                      <a:pt x="2037" y="218"/>
                    </a:lnTo>
                    <a:lnTo>
                      <a:pt x="2049" y="210"/>
                    </a:lnTo>
                    <a:lnTo>
                      <a:pt x="2065" y="201"/>
                    </a:lnTo>
                    <a:lnTo>
                      <a:pt x="2087" y="189"/>
                    </a:lnTo>
                    <a:lnTo>
                      <a:pt x="2109" y="179"/>
                    </a:lnTo>
                    <a:lnTo>
                      <a:pt x="2130" y="166"/>
                    </a:lnTo>
                    <a:lnTo>
                      <a:pt x="2149" y="154"/>
                    </a:lnTo>
                    <a:lnTo>
                      <a:pt x="2168" y="143"/>
                    </a:lnTo>
                    <a:lnTo>
                      <a:pt x="2184" y="133"/>
                    </a:lnTo>
                    <a:lnTo>
                      <a:pt x="2193" y="127"/>
                    </a:lnTo>
                    <a:lnTo>
                      <a:pt x="2196" y="123"/>
                    </a:lnTo>
                    <a:lnTo>
                      <a:pt x="2199" y="110"/>
                    </a:lnTo>
                    <a:lnTo>
                      <a:pt x="2206" y="93"/>
                    </a:lnTo>
                    <a:lnTo>
                      <a:pt x="2215" y="75"/>
                    </a:lnTo>
                    <a:lnTo>
                      <a:pt x="2234" y="62"/>
                    </a:lnTo>
                    <a:lnTo>
                      <a:pt x="2253" y="56"/>
                    </a:lnTo>
                    <a:lnTo>
                      <a:pt x="2287" y="48"/>
                    </a:lnTo>
                    <a:lnTo>
                      <a:pt x="2328" y="37"/>
                    </a:lnTo>
                    <a:lnTo>
                      <a:pt x="2372" y="27"/>
                    </a:lnTo>
                    <a:lnTo>
                      <a:pt x="2416" y="17"/>
                    </a:lnTo>
                    <a:lnTo>
                      <a:pt x="2456" y="8"/>
                    </a:lnTo>
                    <a:lnTo>
                      <a:pt x="2484" y="2"/>
                    </a:lnTo>
                    <a:lnTo>
                      <a:pt x="24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2800"/>
                  </a:gs>
                  <a:gs pos="100000">
                    <a:srgbClr val="5a58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325840" y="3392280"/>
                <a:ext cx="3552840" cy="2295720"/>
              </a:xfrm>
              <a:custGeom>
                <a:avLst/>
                <a:gdLst/>
                <a:ahLst/>
                <a:rect l="l" t="t" r="r" b="b"/>
                <a:pathLst>
                  <a:path w="2238" h="1446">
                    <a:moveTo>
                      <a:pt x="2238" y="0"/>
                    </a:moveTo>
                    <a:lnTo>
                      <a:pt x="1998" y="78"/>
                    </a:lnTo>
                    <a:cubicBezTo>
                      <a:pt x="1956" y="135"/>
                      <a:pt x="2097" y="269"/>
                      <a:pt x="1986" y="342"/>
                    </a:cubicBezTo>
                    <a:cubicBezTo>
                      <a:pt x="1879" y="401"/>
                      <a:pt x="1392" y="438"/>
                      <a:pt x="1332" y="516"/>
                    </a:cubicBezTo>
                    <a:cubicBezTo>
                      <a:pt x="1272" y="594"/>
                      <a:pt x="1582" y="617"/>
                      <a:pt x="1356" y="744"/>
                    </a:cubicBezTo>
                    <a:cubicBezTo>
                      <a:pt x="1130" y="871"/>
                      <a:pt x="122" y="1113"/>
                      <a:pt x="0" y="1230"/>
                    </a:cubicBezTo>
                    <a:cubicBezTo>
                      <a:pt x="174" y="1332"/>
                      <a:pt x="360" y="1416"/>
                      <a:pt x="624" y="1446"/>
                    </a:cubicBezTo>
                    <a:cubicBezTo>
                      <a:pt x="913" y="1373"/>
                      <a:pt x="1592" y="944"/>
                      <a:pt x="1734" y="792"/>
                    </a:cubicBezTo>
                    <a:cubicBezTo>
                      <a:pt x="1812" y="606"/>
                      <a:pt x="1458" y="630"/>
                      <a:pt x="1476" y="534"/>
                    </a:cubicBezTo>
                    <a:cubicBezTo>
                      <a:pt x="1494" y="438"/>
                      <a:pt x="2013" y="421"/>
                      <a:pt x="2112" y="354"/>
                    </a:cubicBezTo>
                    <a:cubicBezTo>
                      <a:pt x="2211" y="287"/>
                      <a:pt x="2027" y="167"/>
                      <a:pt x="2076" y="90"/>
                    </a:cubicBezTo>
                    <a:lnTo>
                      <a:pt x="2238" y="48"/>
                    </a:lnTo>
                    <a:lnTo>
                      <a:pt x="22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6242040" y="627552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福爾摩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E1A-34FB-4BFD-AA05-BC8CA3E627E5}" type="slidenum">
              <a:t>1</a:t>
            </a:fld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900000" y="4789440"/>
            <a:ext cx="5600160" cy="1583640"/>
            <a:chOff x="900000" y="4789440"/>
            <a:chExt cx="5600160" cy="1583640"/>
          </a:xfrm>
        </p:grpSpPr>
        <p:sp>
          <p:nvSpPr>
            <p:cNvPr id="205" name=""/>
            <p:cNvSpPr/>
            <p:nvPr/>
          </p:nvSpPr>
          <p:spPr>
            <a:xfrm>
              <a:off x="900000" y="4801320"/>
              <a:ext cx="5126400" cy="1571760"/>
            </a:xfrm>
            <a:custGeom>
              <a:avLst/>
              <a:gdLst/>
              <a:ahLst/>
              <a:rect l="l" t="t" r="r" b="b"/>
              <a:pathLst>
                <a:path w="2312" h="529">
                  <a:moveTo>
                    <a:pt x="2204" y="462"/>
                  </a:moveTo>
                  <a:lnTo>
                    <a:pt x="2067" y="388"/>
                  </a:lnTo>
                  <a:lnTo>
                    <a:pt x="1983" y="368"/>
                  </a:lnTo>
                  <a:lnTo>
                    <a:pt x="1750" y="221"/>
                  </a:lnTo>
                  <a:lnTo>
                    <a:pt x="1625" y="67"/>
                  </a:lnTo>
                  <a:lnTo>
                    <a:pt x="1529" y="0"/>
                  </a:lnTo>
                  <a:lnTo>
                    <a:pt x="1475" y="40"/>
                  </a:lnTo>
                  <a:lnTo>
                    <a:pt x="1361" y="67"/>
                  </a:lnTo>
                  <a:lnTo>
                    <a:pt x="1206" y="67"/>
                  </a:lnTo>
                  <a:lnTo>
                    <a:pt x="1116" y="121"/>
                  </a:lnTo>
                  <a:lnTo>
                    <a:pt x="847" y="215"/>
                  </a:lnTo>
                  <a:lnTo>
                    <a:pt x="674" y="174"/>
                  </a:lnTo>
                  <a:lnTo>
                    <a:pt x="632" y="94"/>
                  </a:lnTo>
                  <a:lnTo>
                    <a:pt x="614" y="80"/>
                  </a:lnTo>
                  <a:lnTo>
                    <a:pt x="518" y="53"/>
                  </a:lnTo>
                  <a:lnTo>
                    <a:pt x="447" y="67"/>
                  </a:lnTo>
                  <a:lnTo>
                    <a:pt x="0" y="502"/>
                  </a:lnTo>
                  <a:lnTo>
                    <a:pt x="2312" y="529"/>
                  </a:lnTo>
                  <a:lnTo>
                    <a:pt x="2204" y="462"/>
                  </a:lnTo>
                  <a:lnTo>
                    <a:pt x="2204" y="462"/>
                  </a:lnTo>
                  <a:close/>
                </a:path>
              </a:pathLst>
            </a:custGeom>
            <a:gradFill rotWithShape="0">
              <a:gsLst>
                <a:gs pos="0">
                  <a:srgbClr val="9b7331"/>
                </a:gs>
                <a:gs pos="100000">
                  <a:srgbClr val="6f52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96600" y="4789440"/>
              <a:ext cx="2203560" cy="1571760"/>
            </a:xfrm>
            <a:custGeom>
              <a:avLst/>
              <a:gdLst/>
              <a:ahLst/>
              <a:rect l="l" t="t" r="r" b="b"/>
              <a:pathLst>
                <a:path w="994" h="529">
                  <a:moveTo>
                    <a:pt x="636" y="373"/>
                  </a:moveTo>
                  <a:lnTo>
                    <a:pt x="495" y="370"/>
                  </a:lnTo>
                  <a:lnTo>
                    <a:pt x="280" y="249"/>
                  </a:lnTo>
                  <a:lnTo>
                    <a:pt x="127" y="66"/>
                  </a:lnTo>
                  <a:lnTo>
                    <a:pt x="0" y="0"/>
                  </a:lnTo>
                  <a:lnTo>
                    <a:pt x="22" y="26"/>
                  </a:lnTo>
                  <a:lnTo>
                    <a:pt x="0" y="65"/>
                  </a:lnTo>
                  <a:lnTo>
                    <a:pt x="30" y="119"/>
                  </a:lnTo>
                  <a:lnTo>
                    <a:pt x="75" y="243"/>
                  </a:lnTo>
                  <a:lnTo>
                    <a:pt x="45" y="422"/>
                  </a:lnTo>
                  <a:lnTo>
                    <a:pt x="200" y="329"/>
                  </a:lnTo>
                  <a:lnTo>
                    <a:pt x="592" y="527"/>
                  </a:lnTo>
                  <a:lnTo>
                    <a:pt x="994" y="529"/>
                  </a:lnTo>
                  <a:lnTo>
                    <a:pt x="828" y="473"/>
                  </a:lnTo>
                  <a:lnTo>
                    <a:pt x="636" y="373"/>
                  </a:lnTo>
                  <a:close/>
                </a:path>
              </a:pathLst>
            </a:custGeom>
            <a:solidFill>
              <a:srgbClr val="6b4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rot="3685800">
              <a:off x="1406160" y="5064480"/>
              <a:ext cx="552960" cy="875880"/>
            </a:xfrm>
            <a:custGeom>
              <a:avLst/>
              <a:gdLst/>
              <a:ahLst/>
              <a:rect l="l" t="t" r="r" b="b"/>
              <a:pathLst>
                <a:path w="186" h="353">
                  <a:moveTo>
                    <a:pt x="36" y="0"/>
                  </a:moveTo>
                  <a:lnTo>
                    <a:pt x="54" y="18"/>
                  </a:lnTo>
                  <a:lnTo>
                    <a:pt x="24" y="30"/>
                  </a:lnTo>
                  <a:lnTo>
                    <a:pt x="18" y="66"/>
                  </a:lnTo>
                  <a:lnTo>
                    <a:pt x="42" y="114"/>
                  </a:lnTo>
                  <a:lnTo>
                    <a:pt x="48" y="162"/>
                  </a:lnTo>
                  <a:lnTo>
                    <a:pt x="0" y="353"/>
                  </a:lnTo>
                  <a:lnTo>
                    <a:pt x="54" y="233"/>
                  </a:lnTo>
                  <a:lnTo>
                    <a:pt x="84" y="216"/>
                  </a:lnTo>
                  <a:lnTo>
                    <a:pt x="126" y="126"/>
                  </a:lnTo>
                  <a:lnTo>
                    <a:pt x="144" y="120"/>
                  </a:lnTo>
                  <a:lnTo>
                    <a:pt x="144" y="90"/>
                  </a:lnTo>
                  <a:lnTo>
                    <a:pt x="186" y="66"/>
                  </a:lnTo>
                  <a:lnTo>
                    <a:pt x="162" y="6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b4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61520" y="5214240"/>
              <a:ext cx="838080" cy="804960"/>
            </a:xfrm>
            <a:custGeom>
              <a:avLst/>
              <a:gdLst/>
              <a:ahLst/>
              <a:rect l="l" t="t" r="r" b="b"/>
              <a:pathLst>
                <a:path w="378" h="271">
                  <a:moveTo>
                    <a:pt x="18" y="0"/>
                  </a:moveTo>
                  <a:lnTo>
                    <a:pt x="12" y="13"/>
                  </a:lnTo>
                  <a:lnTo>
                    <a:pt x="0" y="40"/>
                  </a:lnTo>
                  <a:lnTo>
                    <a:pt x="60" y="121"/>
                  </a:lnTo>
                  <a:lnTo>
                    <a:pt x="310" y="271"/>
                  </a:lnTo>
                  <a:lnTo>
                    <a:pt x="290" y="139"/>
                  </a:lnTo>
                  <a:lnTo>
                    <a:pt x="378" y="76"/>
                  </a:lnTo>
                  <a:lnTo>
                    <a:pt x="251" y="94"/>
                  </a:lnTo>
                  <a:lnTo>
                    <a:pt x="90" y="5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b4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87400" y="5134320"/>
              <a:ext cx="343800" cy="219600"/>
            </a:xfrm>
            <a:custGeom>
              <a:avLst/>
              <a:gdLst/>
              <a:ahLst/>
              <a:rect l="l" t="t" r="r" b="b"/>
              <a:pathLst>
                <a:path w="155" h="66">
                  <a:moveTo>
                    <a:pt x="114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78" y="60"/>
                  </a:lnTo>
                  <a:lnTo>
                    <a:pt x="96" y="42"/>
                  </a:lnTo>
                  <a:lnTo>
                    <a:pt x="155" y="66"/>
                  </a:lnTo>
                  <a:lnTo>
                    <a:pt x="126" y="24"/>
                  </a:lnTo>
                  <a:lnTo>
                    <a:pt x="149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6b4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29440" y="5832360"/>
              <a:ext cx="92880" cy="24048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6" y="36"/>
                  </a:moveTo>
                  <a:lnTo>
                    <a:pt x="0" y="18"/>
                  </a:lnTo>
                  <a:lnTo>
                    <a:pt x="12" y="6"/>
                  </a:lnTo>
                  <a:lnTo>
                    <a:pt x="0" y="6"/>
                  </a:lnTo>
                  <a:lnTo>
                    <a:pt x="12" y="6"/>
                  </a:lnTo>
                  <a:lnTo>
                    <a:pt x="24" y="6"/>
                  </a:lnTo>
                  <a:lnTo>
                    <a:pt x="36" y="6"/>
                  </a:lnTo>
                  <a:lnTo>
                    <a:pt x="42" y="0"/>
                  </a:lnTo>
                  <a:lnTo>
                    <a:pt x="30" y="18"/>
                  </a:lnTo>
                  <a:lnTo>
                    <a:pt x="42" y="48"/>
                  </a:lnTo>
                  <a:lnTo>
                    <a:pt x="12" y="72"/>
                  </a:lnTo>
                  <a:lnTo>
                    <a:pt x="6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633920" y="4341960"/>
            <a:ext cx="2936880" cy="496800"/>
          </a:xfrm>
          <a:custGeom>
            <a:avLst/>
            <a:gdLst/>
            <a:ahLst/>
            <a:rect l="l" t="t" r="r" b="b"/>
            <a:pathLst>
              <a:path w="745" h="223">
                <a:moveTo>
                  <a:pt x="14" y="99"/>
                </a:moveTo>
                <a:cubicBezTo>
                  <a:pt x="115" y="32"/>
                  <a:pt x="112" y="43"/>
                  <a:pt x="258" y="32"/>
                </a:cubicBezTo>
                <a:cubicBezTo>
                  <a:pt x="355" y="0"/>
                  <a:pt x="316" y="21"/>
                  <a:pt x="413" y="32"/>
                </a:cubicBezTo>
                <a:cubicBezTo>
                  <a:pt x="468" y="38"/>
                  <a:pt x="524" y="39"/>
                  <a:pt x="579" y="43"/>
                </a:cubicBezTo>
                <a:cubicBezTo>
                  <a:pt x="601" y="51"/>
                  <a:pt x="623" y="58"/>
                  <a:pt x="645" y="66"/>
                </a:cubicBezTo>
                <a:cubicBezTo>
                  <a:pt x="670" y="75"/>
                  <a:pt x="687" y="102"/>
                  <a:pt x="712" y="110"/>
                </a:cubicBezTo>
                <a:cubicBezTo>
                  <a:pt x="723" y="114"/>
                  <a:pt x="734" y="117"/>
                  <a:pt x="745" y="121"/>
                </a:cubicBezTo>
                <a:cubicBezTo>
                  <a:pt x="728" y="171"/>
                  <a:pt x="706" y="175"/>
                  <a:pt x="656" y="187"/>
                </a:cubicBezTo>
                <a:cubicBezTo>
                  <a:pt x="576" y="167"/>
                  <a:pt x="505" y="164"/>
                  <a:pt x="424" y="176"/>
                </a:cubicBezTo>
                <a:cubicBezTo>
                  <a:pt x="379" y="223"/>
                  <a:pt x="404" y="209"/>
                  <a:pt x="291" y="187"/>
                </a:cubicBezTo>
                <a:cubicBezTo>
                  <a:pt x="268" y="183"/>
                  <a:pt x="224" y="165"/>
                  <a:pt x="224" y="165"/>
                </a:cubicBezTo>
                <a:cubicBezTo>
                  <a:pt x="187" y="177"/>
                  <a:pt x="150" y="186"/>
                  <a:pt x="114" y="199"/>
                </a:cubicBezTo>
                <a:cubicBezTo>
                  <a:pt x="82" y="195"/>
                  <a:pt x="11" y="208"/>
                  <a:pt x="3" y="154"/>
                </a:cubicBezTo>
                <a:cubicBezTo>
                  <a:pt x="0" y="135"/>
                  <a:pt x="14" y="118"/>
                  <a:pt x="14" y="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22880" y="4214880"/>
            <a:ext cx="2237040" cy="496800"/>
          </a:xfrm>
          <a:custGeom>
            <a:avLst/>
            <a:gdLst/>
            <a:ahLst/>
            <a:rect l="l" t="t" r="r" b="b"/>
            <a:pathLst>
              <a:path w="745" h="223">
                <a:moveTo>
                  <a:pt x="14" y="99"/>
                </a:moveTo>
                <a:cubicBezTo>
                  <a:pt x="115" y="32"/>
                  <a:pt x="112" y="43"/>
                  <a:pt x="258" y="32"/>
                </a:cubicBezTo>
                <a:cubicBezTo>
                  <a:pt x="355" y="0"/>
                  <a:pt x="316" y="21"/>
                  <a:pt x="413" y="32"/>
                </a:cubicBezTo>
                <a:cubicBezTo>
                  <a:pt x="468" y="38"/>
                  <a:pt x="524" y="39"/>
                  <a:pt x="579" y="43"/>
                </a:cubicBezTo>
                <a:cubicBezTo>
                  <a:pt x="601" y="51"/>
                  <a:pt x="623" y="58"/>
                  <a:pt x="645" y="66"/>
                </a:cubicBezTo>
                <a:cubicBezTo>
                  <a:pt x="670" y="75"/>
                  <a:pt x="687" y="102"/>
                  <a:pt x="712" y="110"/>
                </a:cubicBezTo>
                <a:cubicBezTo>
                  <a:pt x="723" y="114"/>
                  <a:pt x="734" y="117"/>
                  <a:pt x="745" y="121"/>
                </a:cubicBezTo>
                <a:cubicBezTo>
                  <a:pt x="728" y="171"/>
                  <a:pt x="706" y="175"/>
                  <a:pt x="656" y="187"/>
                </a:cubicBezTo>
                <a:cubicBezTo>
                  <a:pt x="576" y="167"/>
                  <a:pt x="505" y="164"/>
                  <a:pt x="424" y="176"/>
                </a:cubicBezTo>
                <a:cubicBezTo>
                  <a:pt x="379" y="223"/>
                  <a:pt x="404" y="209"/>
                  <a:pt x="291" y="187"/>
                </a:cubicBezTo>
                <a:cubicBezTo>
                  <a:pt x="268" y="183"/>
                  <a:pt x="224" y="165"/>
                  <a:pt x="224" y="165"/>
                </a:cubicBezTo>
                <a:cubicBezTo>
                  <a:pt x="187" y="177"/>
                  <a:pt x="150" y="186"/>
                  <a:pt x="114" y="199"/>
                </a:cubicBezTo>
                <a:cubicBezTo>
                  <a:pt x="82" y="195"/>
                  <a:pt x="11" y="208"/>
                  <a:pt x="3" y="154"/>
                </a:cubicBezTo>
                <a:cubicBezTo>
                  <a:pt x="0" y="135"/>
                  <a:pt x="14" y="118"/>
                  <a:pt x="14" y="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87c8c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38560" y="4543560"/>
            <a:ext cx="1524240" cy="369720"/>
          </a:xfrm>
          <a:custGeom>
            <a:avLst/>
            <a:gdLst/>
            <a:ahLst/>
            <a:rect l="l" t="t" r="r" b="b"/>
            <a:pathLst>
              <a:path w="745" h="223">
                <a:moveTo>
                  <a:pt x="14" y="99"/>
                </a:moveTo>
                <a:cubicBezTo>
                  <a:pt x="115" y="32"/>
                  <a:pt x="112" y="43"/>
                  <a:pt x="258" y="32"/>
                </a:cubicBezTo>
                <a:cubicBezTo>
                  <a:pt x="355" y="0"/>
                  <a:pt x="316" y="21"/>
                  <a:pt x="413" y="32"/>
                </a:cubicBezTo>
                <a:cubicBezTo>
                  <a:pt x="468" y="38"/>
                  <a:pt x="524" y="39"/>
                  <a:pt x="579" y="43"/>
                </a:cubicBezTo>
                <a:cubicBezTo>
                  <a:pt x="601" y="51"/>
                  <a:pt x="623" y="58"/>
                  <a:pt x="645" y="66"/>
                </a:cubicBezTo>
                <a:cubicBezTo>
                  <a:pt x="670" y="75"/>
                  <a:pt x="687" y="102"/>
                  <a:pt x="712" y="110"/>
                </a:cubicBezTo>
                <a:cubicBezTo>
                  <a:pt x="723" y="114"/>
                  <a:pt x="734" y="117"/>
                  <a:pt x="745" y="121"/>
                </a:cubicBezTo>
                <a:cubicBezTo>
                  <a:pt x="728" y="171"/>
                  <a:pt x="706" y="175"/>
                  <a:pt x="656" y="187"/>
                </a:cubicBezTo>
                <a:cubicBezTo>
                  <a:pt x="576" y="167"/>
                  <a:pt x="505" y="164"/>
                  <a:pt x="424" y="176"/>
                </a:cubicBezTo>
                <a:cubicBezTo>
                  <a:pt x="379" y="223"/>
                  <a:pt x="404" y="209"/>
                  <a:pt x="291" y="187"/>
                </a:cubicBezTo>
                <a:cubicBezTo>
                  <a:pt x="268" y="183"/>
                  <a:pt x="224" y="165"/>
                  <a:pt x="224" y="165"/>
                </a:cubicBezTo>
                <a:cubicBezTo>
                  <a:pt x="187" y="177"/>
                  <a:pt x="150" y="186"/>
                  <a:pt x="114" y="199"/>
                </a:cubicBezTo>
                <a:cubicBezTo>
                  <a:pt x="82" y="195"/>
                  <a:pt x="11" y="208"/>
                  <a:pt x="3" y="154"/>
                </a:cubicBezTo>
                <a:cubicBezTo>
                  <a:pt x="0" y="135"/>
                  <a:pt x="14" y="118"/>
                  <a:pt x="14" y="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80120" y="4316400"/>
            <a:ext cx="1524240" cy="370080"/>
          </a:xfrm>
          <a:custGeom>
            <a:avLst/>
            <a:gdLst/>
            <a:ahLst/>
            <a:rect l="l" t="t" r="r" b="b"/>
            <a:pathLst>
              <a:path w="745" h="223">
                <a:moveTo>
                  <a:pt x="14" y="99"/>
                </a:moveTo>
                <a:cubicBezTo>
                  <a:pt x="115" y="32"/>
                  <a:pt x="112" y="43"/>
                  <a:pt x="258" y="32"/>
                </a:cubicBezTo>
                <a:cubicBezTo>
                  <a:pt x="355" y="0"/>
                  <a:pt x="316" y="21"/>
                  <a:pt x="413" y="32"/>
                </a:cubicBezTo>
                <a:cubicBezTo>
                  <a:pt x="468" y="38"/>
                  <a:pt x="524" y="39"/>
                  <a:pt x="579" y="43"/>
                </a:cubicBezTo>
                <a:cubicBezTo>
                  <a:pt x="601" y="51"/>
                  <a:pt x="623" y="58"/>
                  <a:pt x="645" y="66"/>
                </a:cubicBezTo>
                <a:cubicBezTo>
                  <a:pt x="670" y="75"/>
                  <a:pt x="687" y="102"/>
                  <a:pt x="712" y="110"/>
                </a:cubicBezTo>
                <a:cubicBezTo>
                  <a:pt x="723" y="114"/>
                  <a:pt x="734" y="117"/>
                  <a:pt x="745" y="121"/>
                </a:cubicBezTo>
                <a:cubicBezTo>
                  <a:pt x="728" y="171"/>
                  <a:pt x="706" y="175"/>
                  <a:pt x="656" y="187"/>
                </a:cubicBezTo>
                <a:cubicBezTo>
                  <a:pt x="576" y="167"/>
                  <a:pt x="505" y="164"/>
                  <a:pt x="424" y="176"/>
                </a:cubicBezTo>
                <a:cubicBezTo>
                  <a:pt x="379" y="223"/>
                  <a:pt x="404" y="209"/>
                  <a:pt x="291" y="187"/>
                </a:cubicBezTo>
                <a:cubicBezTo>
                  <a:pt x="268" y="183"/>
                  <a:pt x="224" y="165"/>
                  <a:pt x="224" y="165"/>
                </a:cubicBezTo>
                <a:cubicBezTo>
                  <a:pt x="187" y="177"/>
                  <a:pt x="150" y="186"/>
                  <a:pt x="114" y="199"/>
                </a:cubicBezTo>
                <a:cubicBezTo>
                  <a:pt x="82" y="195"/>
                  <a:pt x="11" y="208"/>
                  <a:pt x="3" y="154"/>
                </a:cubicBezTo>
                <a:cubicBezTo>
                  <a:pt x="0" y="135"/>
                  <a:pt x="14" y="118"/>
                  <a:pt x="14" y="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22760" y="4416480"/>
            <a:ext cx="1881360" cy="536400"/>
          </a:xfrm>
          <a:custGeom>
            <a:avLst/>
            <a:gdLst/>
            <a:ahLst/>
            <a:rect l="l" t="t" r="r" b="b"/>
            <a:pathLst>
              <a:path w="745" h="223">
                <a:moveTo>
                  <a:pt x="14" y="99"/>
                </a:moveTo>
                <a:cubicBezTo>
                  <a:pt x="115" y="32"/>
                  <a:pt x="112" y="43"/>
                  <a:pt x="258" y="32"/>
                </a:cubicBezTo>
                <a:cubicBezTo>
                  <a:pt x="355" y="0"/>
                  <a:pt x="316" y="21"/>
                  <a:pt x="413" y="32"/>
                </a:cubicBezTo>
                <a:cubicBezTo>
                  <a:pt x="468" y="38"/>
                  <a:pt x="524" y="39"/>
                  <a:pt x="579" y="43"/>
                </a:cubicBezTo>
                <a:cubicBezTo>
                  <a:pt x="601" y="51"/>
                  <a:pt x="623" y="58"/>
                  <a:pt x="645" y="66"/>
                </a:cubicBezTo>
                <a:cubicBezTo>
                  <a:pt x="670" y="75"/>
                  <a:pt x="687" y="102"/>
                  <a:pt x="712" y="110"/>
                </a:cubicBezTo>
                <a:cubicBezTo>
                  <a:pt x="723" y="114"/>
                  <a:pt x="734" y="117"/>
                  <a:pt x="745" y="121"/>
                </a:cubicBezTo>
                <a:cubicBezTo>
                  <a:pt x="728" y="171"/>
                  <a:pt x="706" y="175"/>
                  <a:pt x="656" y="187"/>
                </a:cubicBezTo>
                <a:cubicBezTo>
                  <a:pt x="576" y="167"/>
                  <a:pt x="505" y="164"/>
                  <a:pt x="424" y="176"/>
                </a:cubicBezTo>
                <a:cubicBezTo>
                  <a:pt x="379" y="223"/>
                  <a:pt x="404" y="209"/>
                  <a:pt x="291" y="187"/>
                </a:cubicBezTo>
                <a:cubicBezTo>
                  <a:pt x="268" y="183"/>
                  <a:pt x="224" y="165"/>
                  <a:pt x="224" y="165"/>
                </a:cubicBezTo>
                <a:cubicBezTo>
                  <a:pt x="187" y="177"/>
                  <a:pt x="150" y="186"/>
                  <a:pt x="114" y="199"/>
                </a:cubicBezTo>
                <a:cubicBezTo>
                  <a:pt x="82" y="195"/>
                  <a:pt x="11" y="208"/>
                  <a:pt x="3" y="154"/>
                </a:cubicBezTo>
                <a:cubicBezTo>
                  <a:pt x="0" y="135"/>
                  <a:pt x="14" y="118"/>
                  <a:pt x="14" y="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624200" y="4789440"/>
            <a:ext cx="1462320" cy="1233360"/>
            <a:chOff x="4624200" y="4789440"/>
            <a:chExt cx="1462320" cy="1233360"/>
          </a:xfrm>
        </p:grpSpPr>
        <p:sp>
          <p:nvSpPr>
            <p:cNvPr id="217" name=""/>
            <p:cNvSpPr/>
            <p:nvPr/>
          </p:nvSpPr>
          <p:spPr>
            <a:xfrm flipH="1">
              <a:off x="4882680" y="5146560"/>
              <a:ext cx="171720" cy="43812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95800" y="5099040"/>
              <a:ext cx="168480" cy="43812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196960" y="5081400"/>
              <a:ext cx="166680" cy="43488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175360" y="5340240"/>
              <a:ext cx="171360" cy="43812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890680" y="5146560"/>
              <a:ext cx="171720" cy="4381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890680" y="5584680"/>
              <a:ext cx="171720" cy="4381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916600" y="4921200"/>
              <a:ext cx="169920" cy="43956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624200" y="5211720"/>
              <a:ext cx="169560" cy="4381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4834080" y="5162400"/>
              <a:ext cx="171360" cy="43956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935600" y="5146560"/>
              <a:ext cx="169920" cy="4348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962240" y="5067000"/>
              <a:ext cx="168120" cy="4399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168520" y="5020920"/>
              <a:ext cx="174600" cy="4384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644720" y="4952880"/>
              <a:ext cx="168120" cy="43488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4743000" y="4932000"/>
              <a:ext cx="173160" cy="4384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770360" y="4856040"/>
              <a:ext cx="171360" cy="4363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979520" y="4806720"/>
              <a:ext cx="171720" cy="4381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078520" y="4789440"/>
              <a:ext cx="169920" cy="4363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145120" y="5533920"/>
              <a:ext cx="171360" cy="4381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245200" y="5516280"/>
              <a:ext cx="171360" cy="43524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935600" y="5437080"/>
              <a:ext cx="169920" cy="43956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5130360" y="5067000"/>
              <a:ext cx="173160" cy="4399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135040" y="5356080"/>
              <a:ext cx="171720" cy="43956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273280" y="4807080"/>
            <a:ext cx="2631960" cy="1231920"/>
            <a:chOff x="5273280" y="4807080"/>
            <a:chExt cx="2631960" cy="1231920"/>
          </a:xfrm>
        </p:grpSpPr>
        <p:sp>
          <p:nvSpPr>
            <p:cNvPr id="240" name=""/>
            <p:cNvSpPr/>
            <p:nvPr/>
          </p:nvSpPr>
          <p:spPr>
            <a:xfrm flipH="1">
              <a:off x="5389200" y="5292720"/>
              <a:ext cx="166680" cy="43848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486400" y="5272200"/>
              <a:ext cx="171360" cy="43812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5681520" y="5194440"/>
              <a:ext cx="168480" cy="4399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389200" y="5000760"/>
              <a:ext cx="166680" cy="43488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599080" y="4953240"/>
              <a:ext cx="171360" cy="43488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5697360" y="4932360"/>
              <a:ext cx="169920" cy="4384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273280" y="5000760"/>
              <a:ext cx="166680" cy="4366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721480" y="5435640"/>
              <a:ext cx="172800" cy="4399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273280" y="5581800"/>
              <a:ext cx="166680" cy="4381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738560" y="4856400"/>
              <a:ext cx="166680" cy="4363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574040" y="4856400"/>
              <a:ext cx="171360" cy="4363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343480" y="5021280"/>
              <a:ext cx="168480" cy="4384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346720" y="5308920"/>
              <a:ext cx="169920" cy="43956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721200" y="5185080"/>
              <a:ext cx="166680" cy="4363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818400" y="5166000"/>
              <a:ext cx="171360" cy="4363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845040" y="5088240"/>
              <a:ext cx="168120" cy="4363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056360" y="5040360"/>
              <a:ext cx="169920" cy="4366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625800" y="4953240"/>
              <a:ext cx="174600" cy="4363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653160" y="4876920"/>
              <a:ext cx="171360" cy="4366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864120" y="4829400"/>
              <a:ext cx="169560" cy="4366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963840" y="4807080"/>
              <a:ext cx="171720" cy="4399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818400" y="5602320"/>
              <a:ext cx="171360" cy="4366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7031160" y="5554800"/>
              <a:ext cx="171360" cy="4366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6818400" y="5459760"/>
              <a:ext cx="171360" cy="4363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7013160" y="5088240"/>
              <a:ext cx="173160" cy="4363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020000" y="5376960"/>
              <a:ext cx="169920" cy="4381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083280" y="4711680"/>
            <a:ext cx="2160360" cy="1346040"/>
            <a:chOff x="6083280" y="4711680"/>
            <a:chExt cx="2160360" cy="1346040"/>
          </a:xfrm>
        </p:grpSpPr>
        <p:sp>
          <p:nvSpPr>
            <p:cNvPr id="267" name=""/>
            <p:cNvSpPr/>
            <p:nvPr/>
          </p:nvSpPr>
          <p:spPr>
            <a:xfrm flipH="1">
              <a:off x="6126120" y="4876560"/>
              <a:ext cx="171360" cy="4366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227640" y="4856040"/>
              <a:ext cx="169920" cy="4363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083280" y="5360760"/>
              <a:ext cx="171360" cy="4366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6294240" y="5313240"/>
              <a:ext cx="166680" cy="4363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391080" y="5292360"/>
              <a:ext cx="174600" cy="4384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7446600" y="5241600"/>
              <a:ext cx="166680" cy="4399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546680" y="5225760"/>
              <a:ext cx="166680" cy="43524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297480" y="5601960"/>
              <a:ext cx="169920" cy="4366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397560" y="5581440"/>
              <a:ext cx="168480" cy="4381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420960" y="5503680"/>
              <a:ext cx="174600" cy="4366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948080" y="4806720"/>
              <a:ext cx="171720" cy="4348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8047080" y="4786200"/>
              <a:ext cx="169920" cy="43956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8070480" y="4711680"/>
              <a:ext cx="173160" cy="43488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473960" y="4876560"/>
              <a:ext cx="169920" cy="4366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404120" y="4856040"/>
              <a:ext cx="169920" cy="4363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7408800" y="5146560"/>
              <a:ext cx="168480" cy="4348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7434000" y="5065560"/>
              <a:ext cx="166680" cy="4381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510240" y="5232240"/>
              <a:ext cx="168480" cy="4366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156080" y="5020920"/>
              <a:ext cx="168120" cy="4384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528960" y="4971960"/>
              <a:ext cx="166680" cy="43632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129440" y="5535360"/>
              <a:ext cx="169920" cy="4366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156080" y="5601960"/>
              <a:ext cx="168120" cy="4366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59560" y="5621040"/>
              <a:ext cx="169920" cy="4366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226280" y="5040000"/>
              <a:ext cx="171360" cy="4366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229520" y="5329080"/>
              <a:ext cx="171360" cy="4366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-36360" y="6381720"/>
            <a:ext cx="354312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華康細圓體"/>
              </a:rPr>
              <a:t>相關網站：</a:t>
            </a:r>
            <a:r>
              <a:rPr b="0" lang="zh-TW" sz="2500" spc="-1" strike="noStrike" u="sng">
                <a:solidFill>
                  <a:srgbClr val="9900cc"/>
                </a:solidFill>
                <a:uFillTx/>
                <a:latin typeface="Arial"/>
                <a:ea typeface="華康細圓體"/>
                <a:hlinkClick r:id="rId1"/>
              </a:rPr>
              <a:t>中央氣象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4480" y="188640"/>
            <a:ext cx="875988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cc"/>
                </a:solidFill>
                <a:latin typeface="Times New Roman"/>
                <a:ea typeface="華康POP1體W5"/>
              </a:rPr>
              <a:t>影響氣候的因素：地形</a:t>
            </a:r>
            <a:endParaRPr b="0" lang="en-US" sz="6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05200" y="6364440"/>
            <a:ext cx="112680" cy="96840"/>
          </a:xfrm>
          <a:custGeom>
            <a:avLst/>
            <a:gdLst/>
            <a:ahLst/>
            <a:rect l="l" t="t" r="r" b="b"/>
            <a:pathLst>
              <a:path w="71" h="60">
                <a:moveTo>
                  <a:pt x="0" y="18"/>
                </a:moveTo>
                <a:lnTo>
                  <a:pt x="6" y="18"/>
                </a:lnTo>
                <a:lnTo>
                  <a:pt x="12" y="12"/>
                </a:lnTo>
                <a:lnTo>
                  <a:pt x="6" y="6"/>
                </a:lnTo>
                <a:lnTo>
                  <a:pt x="0" y="0"/>
                </a:lnTo>
                <a:lnTo>
                  <a:pt x="29" y="18"/>
                </a:lnTo>
                <a:lnTo>
                  <a:pt x="53" y="18"/>
                </a:lnTo>
                <a:lnTo>
                  <a:pt x="59" y="30"/>
                </a:lnTo>
                <a:lnTo>
                  <a:pt x="65" y="42"/>
                </a:lnTo>
                <a:lnTo>
                  <a:pt x="71" y="54"/>
                </a:lnTo>
                <a:lnTo>
                  <a:pt x="71" y="60"/>
                </a:lnTo>
                <a:lnTo>
                  <a:pt x="59" y="54"/>
                </a:lnTo>
                <a:lnTo>
                  <a:pt x="47" y="42"/>
                </a:lnTo>
                <a:lnTo>
                  <a:pt x="23" y="30"/>
                </a:lnTo>
                <a:lnTo>
                  <a:pt x="23" y="36"/>
                </a:lnTo>
                <a:lnTo>
                  <a:pt x="18" y="42"/>
                </a:lnTo>
                <a:lnTo>
                  <a:pt x="12" y="48"/>
                </a:lnTo>
                <a:lnTo>
                  <a:pt x="6" y="48"/>
                </a:lnTo>
                <a:lnTo>
                  <a:pt x="6" y="48"/>
                </a:lnTo>
                <a:lnTo>
                  <a:pt x="6" y="36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20680" y="6413400"/>
            <a:ext cx="93600" cy="96840"/>
          </a:xfrm>
          <a:custGeom>
            <a:avLst/>
            <a:gdLst/>
            <a:ahLst/>
            <a:rect l="l" t="t" r="r" b="b"/>
            <a:pathLst>
              <a:path w="59" h="60">
                <a:moveTo>
                  <a:pt x="59" y="6"/>
                </a:moveTo>
                <a:lnTo>
                  <a:pt x="41" y="30"/>
                </a:lnTo>
                <a:lnTo>
                  <a:pt x="41" y="36"/>
                </a:lnTo>
                <a:lnTo>
                  <a:pt x="47" y="42"/>
                </a:lnTo>
                <a:lnTo>
                  <a:pt x="53" y="54"/>
                </a:lnTo>
                <a:lnTo>
                  <a:pt x="53" y="60"/>
                </a:lnTo>
                <a:lnTo>
                  <a:pt x="47" y="54"/>
                </a:lnTo>
                <a:lnTo>
                  <a:pt x="35" y="48"/>
                </a:lnTo>
                <a:lnTo>
                  <a:pt x="23" y="36"/>
                </a:lnTo>
                <a:lnTo>
                  <a:pt x="17" y="30"/>
                </a:lnTo>
                <a:lnTo>
                  <a:pt x="0" y="0"/>
                </a:lnTo>
                <a:lnTo>
                  <a:pt x="59" y="6"/>
                </a:lnTo>
                <a:lnTo>
                  <a:pt x="59" y="6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4960" y="1700280"/>
            <a:ext cx="7985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對氣溫的影響：地勢越高，氣溫越低</a:t>
            </a:r>
            <a:br>
              <a:rPr sz="3500"/>
            </a:b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；地勢越低，氣溫越高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對雨量的影響：迎風坡雨量較多，背風坡雨量較少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4430880"/>
            <a:ext cx="2936880" cy="496800"/>
          </a:xfrm>
          <a:custGeom>
            <a:avLst/>
            <a:gdLst/>
            <a:ahLst/>
            <a:rect l="l" t="t" r="r" b="b"/>
            <a:pathLst>
              <a:path w="745" h="223">
                <a:moveTo>
                  <a:pt x="14" y="99"/>
                </a:moveTo>
                <a:cubicBezTo>
                  <a:pt x="115" y="32"/>
                  <a:pt x="112" y="43"/>
                  <a:pt x="258" y="32"/>
                </a:cubicBezTo>
                <a:cubicBezTo>
                  <a:pt x="355" y="0"/>
                  <a:pt x="316" y="21"/>
                  <a:pt x="413" y="32"/>
                </a:cubicBezTo>
                <a:cubicBezTo>
                  <a:pt x="468" y="38"/>
                  <a:pt x="524" y="39"/>
                  <a:pt x="579" y="43"/>
                </a:cubicBezTo>
                <a:cubicBezTo>
                  <a:pt x="601" y="51"/>
                  <a:pt x="623" y="58"/>
                  <a:pt x="645" y="66"/>
                </a:cubicBezTo>
                <a:cubicBezTo>
                  <a:pt x="670" y="75"/>
                  <a:pt x="687" y="102"/>
                  <a:pt x="712" y="110"/>
                </a:cubicBezTo>
                <a:cubicBezTo>
                  <a:pt x="723" y="114"/>
                  <a:pt x="734" y="117"/>
                  <a:pt x="745" y="121"/>
                </a:cubicBezTo>
                <a:cubicBezTo>
                  <a:pt x="728" y="171"/>
                  <a:pt x="706" y="175"/>
                  <a:pt x="656" y="187"/>
                </a:cubicBezTo>
                <a:cubicBezTo>
                  <a:pt x="576" y="167"/>
                  <a:pt x="505" y="164"/>
                  <a:pt x="424" y="176"/>
                </a:cubicBezTo>
                <a:cubicBezTo>
                  <a:pt x="379" y="223"/>
                  <a:pt x="404" y="209"/>
                  <a:pt x="291" y="187"/>
                </a:cubicBezTo>
                <a:cubicBezTo>
                  <a:pt x="268" y="183"/>
                  <a:pt x="224" y="165"/>
                  <a:pt x="224" y="165"/>
                </a:cubicBezTo>
                <a:cubicBezTo>
                  <a:pt x="187" y="177"/>
                  <a:pt x="150" y="186"/>
                  <a:pt x="114" y="199"/>
                </a:cubicBezTo>
                <a:cubicBezTo>
                  <a:pt x="82" y="195"/>
                  <a:pt x="11" y="208"/>
                  <a:pt x="3" y="154"/>
                </a:cubicBezTo>
                <a:cubicBezTo>
                  <a:pt x="0" y="135"/>
                  <a:pt x="14" y="118"/>
                  <a:pt x="14" y="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福爾摩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9085-21CF-46BA-8713-CF93D7ED1E59}" type="slidenum">
              <a:t>10</a:t>
            </a:fld>
          </a:p>
        </p:txBody>
      </p:sp>
    </p:spTree>
  </p:cSld>
  <p:transition spd="slow">
    <p:randomBar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8368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3333cc"/>
                </a:solidFill>
                <a:latin typeface="Times New Roman"/>
                <a:ea typeface="華康POP1體W5"/>
              </a:rPr>
              <a:t>臺灣的地形</a:t>
            </a:r>
            <a:endParaRPr b="0" lang="en-US" sz="8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8240" y="2076120"/>
            <a:ext cx="39182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一、山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二、丘陵、台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三、平原、盆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73640" y="1781280"/>
            <a:ext cx="304344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福爾摩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5CD-1950-4C17-AAAC-31A2863F8C87}" type="slidenum">
              <a:t>2</a:t>
            </a:fld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125880" y="1938240"/>
          <a:ext cx="6637320" cy="472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5880" y="1938240"/>
                    <a:ext cx="663732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0000cc"/>
                </a:solidFill>
                <a:latin typeface="Times New Roman"/>
                <a:ea typeface="華康POP1體W5"/>
              </a:rPr>
              <a:t>臺灣的地形特徵</a:t>
            </a:r>
            <a:endParaRPr b="0" lang="en-US" sz="8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5320" y="2050560"/>
            <a:ext cx="391824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山高水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四週環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山多平原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福爾摩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16C-5FA7-4C0B-97A7-74EE612BD232}" type="slidenum">
              <a:t>3</a:t>
            </a:fld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cc"/>
                </a:solidFill>
                <a:latin typeface="Times New Roman"/>
                <a:ea typeface="華康POP1體W5"/>
              </a:rPr>
              <a:t>臺灣的山脈</a:t>
            </a:r>
            <a:endParaRPr b="0" lang="en-US" sz="6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5400" y="1988640"/>
            <a:ext cx="391788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90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中央山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90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玉山山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90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阿里山山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90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雪山山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90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海岸山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5153040" y="1238400"/>
            <a:ext cx="3090960" cy="54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福爾摩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7DE-8BF6-415F-A696-0905DE720F94}" type="slidenum">
              <a:t>4</a:t>
            </a:fld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18864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0000cc"/>
                </a:solidFill>
                <a:latin typeface="Times New Roman"/>
                <a:ea typeface="華康POP1體W5"/>
              </a:rPr>
              <a:t>臺灣的海岸</a:t>
            </a:r>
            <a:endParaRPr b="0" lang="en-US" sz="8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5432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北岸：曲折、岩石岬角與海灣相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西岸：平直、多沙灘、沙洲、潟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東岸：多高山深海、平原狹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南岸：多珊瑚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84160" y="1447200"/>
            <a:ext cx="3309120" cy="4983840"/>
            <a:chOff x="5384160" y="1447200"/>
            <a:chExt cx="3309120" cy="4983840"/>
          </a:xfrm>
        </p:grpSpPr>
        <p:sp>
          <p:nvSpPr>
            <p:cNvPr id="125" name=""/>
            <p:cNvSpPr/>
            <p:nvPr/>
          </p:nvSpPr>
          <p:spPr>
            <a:xfrm rot="21309600">
              <a:off x="5579640" y="1561680"/>
              <a:ext cx="2917440" cy="4754160"/>
            </a:xfrm>
            <a:custGeom>
              <a:avLst/>
              <a:gdLst/>
              <a:ahLst/>
              <a:rect l="l" t="t" r="r" b="b"/>
              <a:pathLst>
                <a:path w="1809" h="3112">
                  <a:moveTo>
                    <a:pt x="1402" y="0"/>
                  </a:moveTo>
                  <a:cubicBezTo>
                    <a:pt x="1336" y="22"/>
                    <a:pt x="1364" y="60"/>
                    <a:pt x="1323" y="100"/>
                  </a:cubicBezTo>
                  <a:cubicBezTo>
                    <a:pt x="1301" y="122"/>
                    <a:pt x="1259" y="130"/>
                    <a:pt x="1233" y="139"/>
                  </a:cubicBezTo>
                  <a:cubicBezTo>
                    <a:pt x="1160" y="164"/>
                    <a:pt x="1127" y="187"/>
                    <a:pt x="1045" y="199"/>
                  </a:cubicBezTo>
                  <a:cubicBezTo>
                    <a:pt x="1025" y="206"/>
                    <a:pt x="997" y="202"/>
                    <a:pt x="985" y="219"/>
                  </a:cubicBezTo>
                  <a:cubicBezTo>
                    <a:pt x="938" y="288"/>
                    <a:pt x="965" y="265"/>
                    <a:pt x="916" y="298"/>
                  </a:cubicBezTo>
                  <a:cubicBezTo>
                    <a:pt x="877" y="357"/>
                    <a:pt x="874" y="459"/>
                    <a:pt x="826" y="507"/>
                  </a:cubicBezTo>
                  <a:cubicBezTo>
                    <a:pt x="793" y="540"/>
                    <a:pt x="740" y="546"/>
                    <a:pt x="697" y="556"/>
                  </a:cubicBezTo>
                  <a:cubicBezTo>
                    <a:pt x="648" y="629"/>
                    <a:pt x="624" y="704"/>
                    <a:pt x="548" y="755"/>
                  </a:cubicBezTo>
                  <a:cubicBezTo>
                    <a:pt x="533" y="800"/>
                    <a:pt x="504" y="835"/>
                    <a:pt x="479" y="874"/>
                  </a:cubicBezTo>
                  <a:cubicBezTo>
                    <a:pt x="454" y="913"/>
                    <a:pt x="459" y="963"/>
                    <a:pt x="439" y="1003"/>
                  </a:cubicBezTo>
                  <a:cubicBezTo>
                    <a:pt x="415" y="1051"/>
                    <a:pt x="402" y="1060"/>
                    <a:pt x="369" y="1093"/>
                  </a:cubicBezTo>
                  <a:cubicBezTo>
                    <a:pt x="354" y="1139"/>
                    <a:pt x="331" y="1130"/>
                    <a:pt x="310" y="1172"/>
                  </a:cubicBezTo>
                  <a:cubicBezTo>
                    <a:pt x="280" y="1233"/>
                    <a:pt x="249" y="1301"/>
                    <a:pt x="191" y="1341"/>
                  </a:cubicBezTo>
                  <a:cubicBezTo>
                    <a:pt x="182" y="1367"/>
                    <a:pt x="183" y="1396"/>
                    <a:pt x="171" y="1420"/>
                  </a:cubicBezTo>
                  <a:cubicBezTo>
                    <a:pt x="165" y="1433"/>
                    <a:pt x="150" y="1439"/>
                    <a:pt x="141" y="1450"/>
                  </a:cubicBezTo>
                  <a:cubicBezTo>
                    <a:pt x="119" y="1476"/>
                    <a:pt x="121" y="1480"/>
                    <a:pt x="111" y="1510"/>
                  </a:cubicBezTo>
                  <a:cubicBezTo>
                    <a:pt x="117" y="1556"/>
                    <a:pt x="131" y="1602"/>
                    <a:pt x="131" y="1649"/>
                  </a:cubicBezTo>
                  <a:cubicBezTo>
                    <a:pt x="131" y="1753"/>
                    <a:pt x="115" y="1665"/>
                    <a:pt x="81" y="1768"/>
                  </a:cubicBezTo>
                  <a:cubicBezTo>
                    <a:pt x="69" y="1805"/>
                    <a:pt x="64" y="1835"/>
                    <a:pt x="42" y="1867"/>
                  </a:cubicBezTo>
                  <a:cubicBezTo>
                    <a:pt x="34" y="1907"/>
                    <a:pt x="0" y="1999"/>
                    <a:pt x="32" y="2036"/>
                  </a:cubicBezTo>
                  <a:cubicBezTo>
                    <a:pt x="46" y="2052"/>
                    <a:pt x="91" y="2056"/>
                    <a:pt x="91" y="2056"/>
                  </a:cubicBezTo>
                  <a:cubicBezTo>
                    <a:pt x="120" y="2144"/>
                    <a:pt x="109" y="2095"/>
                    <a:pt x="121" y="2205"/>
                  </a:cubicBezTo>
                  <a:cubicBezTo>
                    <a:pt x="90" y="2298"/>
                    <a:pt x="131" y="2379"/>
                    <a:pt x="181" y="2453"/>
                  </a:cubicBezTo>
                  <a:cubicBezTo>
                    <a:pt x="217" y="2507"/>
                    <a:pt x="155" y="2462"/>
                    <a:pt x="220" y="2513"/>
                  </a:cubicBezTo>
                  <a:cubicBezTo>
                    <a:pt x="241" y="2530"/>
                    <a:pt x="284" y="2555"/>
                    <a:pt x="310" y="2572"/>
                  </a:cubicBezTo>
                  <a:cubicBezTo>
                    <a:pt x="320" y="2579"/>
                    <a:pt x="340" y="2592"/>
                    <a:pt x="340" y="2592"/>
                  </a:cubicBezTo>
                  <a:cubicBezTo>
                    <a:pt x="378" y="2653"/>
                    <a:pt x="396" y="2646"/>
                    <a:pt x="449" y="2682"/>
                  </a:cubicBezTo>
                  <a:cubicBezTo>
                    <a:pt x="462" y="2702"/>
                    <a:pt x="476" y="2721"/>
                    <a:pt x="489" y="2741"/>
                  </a:cubicBezTo>
                  <a:cubicBezTo>
                    <a:pt x="514" y="2777"/>
                    <a:pt x="505" y="2821"/>
                    <a:pt x="518" y="2860"/>
                  </a:cubicBezTo>
                  <a:cubicBezTo>
                    <a:pt x="522" y="2871"/>
                    <a:pt x="533" y="2879"/>
                    <a:pt x="538" y="2890"/>
                  </a:cubicBezTo>
                  <a:cubicBezTo>
                    <a:pt x="543" y="2899"/>
                    <a:pt x="545" y="2910"/>
                    <a:pt x="548" y="2920"/>
                  </a:cubicBezTo>
                  <a:cubicBezTo>
                    <a:pt x="545" y="2940"/>
                    <a:pt x="543" y="2960"/>
                    <a:pt x="538" y="2980"/>
                  </a:cubicBezTo>
                  <a:cubicBezTo>
                    <a:pt x="533" y="3000"/>
                    <a:pt x="518" y="3039"/>
                    <a:pt x="518" y="3039"/>
                  </a:cubicBezTo>
                  <a:cubicBezTo>
                    <a:pt x="542" y="3112"/>
                    <a:pt x="508" y="3039"/>
                    <a:pt x="638" y="3079"/>
                  </a:cubicBezTo>
                  <a:cubicBezTo>
                    <a:pt x="649" y="3083"/>
                    <a:pt x="651" y="3099"/>
                    <a:pt x="657" y="3109"/>
                  </a:cubicBezTo>
                  <a:cubicBezTo>
                    <a:pt x="671" y="3066"/>
                    <a:pt x="671" y="3028"/>
                    <a:pt x="697" y="2990"/>
                  </a:cubicBezTo>
                  <a:cubicBezTo>
                    <a:pt x="716" y="2932"/>
                    <a:pt x="702" y="2873"/>
                    <a:pt x="737" y="2821"/>
                  </a:cubicBezTo>
                  <a:cubicBezTo>
                    <a:pt x="741" y="2748"/>
                    <a:pt x="731" y="2671"/>
                    <a:pt x="757" y="2602"/>
                  </a:cubicBezTo>
                  <a:cubicBezTo>
                    <a:pt x="766" y="2577"/>
                    <a:pt x="786" y="2557"/>
                    <a:pt x="796" y="2533"/>
                  </a:cubicBezTo>
                  <a:cubicBezTo>
                    <a:pt x="814" y="2490"/>
                    <a:pt x="829" y="2444"/>
                    <a:pt x="866" y="2414"/>
                  </a:cubicBezTo>
                  <a:cubicBezTo>
                    <a:pt x="902" y="2385"/>
                    <a:pt x="947" y="2379"/>
                    <a:pt x="985" y="2354"/>
                  </a:cubicBezTo>
                  <a:cubicBezTo>
                    <a:pt x="1008" y="2320"/>
                    <a:pt x="1007" y="2290"/>
                    <a:pt x="1025" y="2255"/>
                  </a:cubicBezTo>
                  <a:cubicBezTo>
                    <a:pt x="1053" y="2199"/>
                    <a:pt x="1122" y="2120"/>
                    <a:pt x="1174" y="2086"/>
                  </a:cubicBezTo>
                  <a:cubicBezTo>
                    <a:pt x="1189" y="2040"/>
                    <a:pt x="1214" y="2006"/>
                    <a:pt x="1223" y="1957"/>
                  </a:cubicBezTo>
                  <a:cubicBezTo>
                    <a:pt x="1229" y="1922"/>
                    <a:pt x="1231" y="1860"/>
                    <a:pt x="1253" y="1828"/>
                  </a:cubicBezTo>
                  <a:cubicBezTo>
                    <a:pt x="1281" y="1787"/>
                    <a:pt x="1308" y="1754"/>
                    <a:pt x="1323" y="1708"/>
                  </a:cubicBezTo>
                  <a:cubicBezTo>
                    <a:pt x="1334" y="1630"/>
                    <a:pt x="1357" y="1555"/>
                    <a:pt x="1382" y="1480"/>
                  </a:cubicBezTo>
                  <a:cubicBezTo>
                    <a:pt x="1386" y="1467"/>
                    <a:pt x="1388" y="1453"/>
                    <a:pt x="1392" y="1440"/>
                  </a:cubicBezTo>
                  <a:cubicBezTo>
                    <a:pt x="1398" y="1420"/>
                    <a:pt x="1412" y="1381"/>
                    <a:pt x="1412" y="1381"/>
                  </a:cubicBezTo>
                  <a:cubicBezTo>
                    <a:pt x="1415" y="1344"/>
                    <a:pt x="1416" y="1307"/>
                    <a:pt x="1422" y="1271"/>
                  </a:cubicBezTo>
                  <a:cubicBezTo>
                    <a:pt x="1426" y="1251"/>
                    <a:pt x="1435" y="1232"/>
                    <a:pt x="1442" y="1212"/>
                  </a:cubicBezTo>
                  <a:cubicBezTo>
                    <a:pt x="1445" y="1202"/>
                    <a:pt x="1452" y="1182"/>
                    <a:pt x="1452" y="1182"/>
                  </a:cubicBezTo>
                  <a:cubicBezTo>
                    <a:pt x="1467" y="1080"/>
                    <a:pt x="1507" y="978"/>
                    <a:pt x="1581" y="904"/>
                  </a:cubicBezTo>
                  <a:cubicBezTo>
                    <a:pt x="1584" y="894"/>
                    <a:pt x="1586" y="883"/>
                    <a:pt x="1591" y="874"/>
                  </a:cubicBezTo>
                  <a:cubicBezTo>
                    <a:pt x="1603" y="853"/>
                    <a:pt x="1631" y="815"/>
                    <a:pt x="1631" y="815"/>
                  </a:cubicBezTo>
                  <a:cubicBezTo>
                    <a:pt x="1649" y="762"/>
                    <a:pt x="1668" y="712"/>
                    <a:pt x="1700" y="666"/>
                  </a:cubicBezTo>
                  <a:cubicBezTo>
                    <a:pt x="1715" y="622"/>
                    <a:pt x="1708" y="611"/>
                    <a:pt x="1670" y="586"/>
                  </a:cubicBezTo>
                  <a:cubicBezTo>
                    <a:pt x="1667" y="576"/>
                    <a:pt x="1660" y="567"/>
                    <a:pt x="1660" y="556"/>
                  </a:cubicBezTo>
                  <a:cubicBezTo>
                    <a:pt x="1660" y="536"/>
                    <a:pt x="1659" y="358"/>
                    <a:pt x="1720" y="338"/>
                  </a:cubicBezTo>
                  <a:cubicBezTo>
                    <a:pt x="1760" y="325"/>
                    <a:pt x="1780" y="308"/>
                    <a:pt x="1809" y="278"/>
                  </a:cubicBezTo>
                  <a:cubicBezTo>
                    <a:pt x="1758" y="260"/>
                    <a:pt x="1786" y="276"/>
                    <a:pt x="1740" y="209"/>
                  </a:cubicBezTo>
                  <a:cubicBezTo>
                    <a:pt x="1734" y="200"/>
                    <a:pt x="1739" y="185"/>
                    <a:pt x="1730" y="179"/>
                  </a:cubicBezTo>
                  <a:cubicBezTo>
                    <a:pt x="1703" y="160"/>
                    <a:pt x="1637" y="148"/>
                    <a:pt x="1601" y="139"/>
                  </a:cubicBezTo>
                  <a:cubicBezTo>
                    <a:pt x="1569" y="117"/>
                    <a:pt x="1553" y="92"/>
                    <a:pt x="1521" y="70"/>
                  </a:cubicBezTo>
                  <a:cubicBezTo>
                    <a:pt x="1515" y="60"/>
                    <a:pt x="1511" y="48"/>
                    <a:pt x="1502" y="40"/>
                  </a:cubicBezTo>
                  <a:cubicBezTo>
                    <a:pt x="1484" y="24"/>
                    <a:pt x="1442" y="0"/>
                    <a:pt x="1442" y="0"/>
                  </a:cubicBezTo>
                  <a:cubicBezTo>
                    <a:pt x="1399" y="11"/>
                    <a:pt x="1402" y="24"/>
                    <a:pt x="1402" y="0"/>
                  </a:cubicBez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1309600">
              <a:off x="5579640" y="1561680"/>
              <a:ext cx="2917440" cy="4754160"/>
            </a:xfrm>
            <a:custGeom>
              <a:avLst/>
              <a:gdLst/>
              <a:ahLst/>
              <a:rect l="l" t="t" r="r" b="b"/>
              <a:pathLst>
                <a:path w="1809" h="3112">
                  <a:moveTo>
                    <a:pt x="1402" y="0"/>
                  </a:moveTo>
                  <a:cubicBezTo>
                    <a:pt x="1336" y="22"/>
                    <a:pt x="1364" y="60"/>
                    <a:pt x="1323" y="100"/>
                  </a:cubicBezTo>
                  <a:cubicBezTo>
                    <a:pt x="1301" y="122"/>
                    <a:pt x="1259" y="130"/>
                    <a:pt x="1233" y="139"/>
                  </a:cubicBezTo>
                  <a:cubicBezTo>
                    <a:pt x="1160" y="164"/>
                    <a:pt x="1127" y="187"/>
                    <a:pt x="1045" y="199"/>
                  </a:cubicBezTo>
                  <a:cubicBezTo>
                    <a:pt x="1025" y="206"/>
                    <a:pt x="997" y="202"/>
                    <a:pt x="985" y="219"/>
                  </a:cubicBezTo>
                  <a:cubicBezTo>
                    <a:pt x="938" y="288"/>
                    <a:pt x="965" y="265"/>
                    <a:pt x="916" y="298"/>
                  </a:cubicBezTo>
                  <a:cubicBezTo>
                    <a:pt x="877" y="357"/>
                    <a:pt x="874" y="459"/>
                    <a:pt x="826" y="507"/>
                  </a:cubicBezTo>
                  <a:cubicBezTo>
                    <a:pt x="793" y="540"/>
                    <a:pt x="740" y="546"/>
                    <a:pt x="697" y="556"/>
                  </a:cubicBezTo>
                  <a:cubicBezTo>
                    <a:pt x="648" y="629"/>
                    <a:pt x="624" y="704"/>
                    <a:pt x="548" y="755"/>
                  </a:cubicBezTo>
                  <a:cubicBezTo>
                    <a:pt x="533" y="800"/>
                    <a:pt x="504" y="835"/>
                    <a:pt x="479" y="874"/>
                  </a:cubicBezTo>
                  <a:cubicBezTo>
                    <a:pt x="454" y="913"/>
                    <a:pt x="459" y="963"/>
                    <a:pt x="439" y="1003"/>
                  </a:cubicBezTo>
                  <a:cubicBezTo>
                    <a:pt x="415" y="1051"/>
                    <a:pt x="402" y="1060"/>
                    <a:pt x="369" y="1093"/>
                  </a:cubicBezTo>
                  <a:cubicBezTo>
                    <a:pt x="354" y="1139"/>
                    <a:pt x="331" y="1130"/>
                    <a:pt x="310" y="1172"/>
                  </a:cubicBezTo>
                  <a:cubicBezTo>
                    <a:pt x="280" y="1233"/>
                    <a:pt x="249" y="1301"/>
                    <a:pt x="191" y="1341"/>
                  </a:cubicBezTo>
                  <a:cubicBezTo>
                    <a:pt x="182" y="1367"/>
                    <a:pt x="183" y="1396"/>
                    <a:pt x="171" y="1420"/>
                  </a:cubicBezTo>
                  <a:cubicBezTo>
                    <a:pt x="165" y="1433"/>
                    <a:pt x="150" y="1439"/>
                    <a:pt x="141" y="1450"/>
                  </a:cubicBezTo>
                  <a:cubicBezTo>
                    <a:pt x="119" y="1476"/>
                    <a:pt x="121" y="1480"/>
                    <a:pt x="111" y="1510"/>
                  </a:cubicBezTo>
                  <a:cubicBezTo>
                    <a:pt x="117" y="1556"/>
                    <a:pt x="131" y="1602"/>
                    <a:pt x="131" y="1649"/>
                  </a:cubicBezTo>
                  <a:cubicBezTo>
                    <a:pt x="131" y="1753"/>
                    <a:pt x="115" y="1665"/>
                    <a:pt x="81" y="1768"/>
                  </a:cubicBezTo>
                  <a:cubicBezTo>
                    <a:pt x="69" y="1805"/>
                    <a:pt x="64" y="1835"/>
                    <a:pt x="42" y="1867"/>
                  </a:cubicBezTo>
                  <a:cubicBezTo>
                    <a:pt x="34" y="1907"/>
                    <a:pt x="0" y="1999"/>
                    <a:pt x="32" y="2036"/>
                  </a:cubicBezTo>
                  <a:cubicBezTo>
                    <a:pt x="46" y="2052"/>
                    <a:pt x="91" y="2056"/>
                    <a:pt x="91" y="2056"/>
                  </a:cubicBezTo>
                  <a:cubicBezTo>
                    <a:pt x="120" y="2144"/>
                    <a:pt x="109" y="2095"/>
                    <a:pt x="121" y="2205"/>
                  </a:cubicBezTo>
                  <a:cubicBezTo>
                    <a:pt x="90" y="2298"/>
                    <a:pt x="131" y="2379"/>
                    <a:pt x="181" y="2453"/>
                  </a:cubicBezTo>
                  <a:cubicBezTo>
                    <a:pt x="217" y="2507"/>
                    <a:pt x="155" y="2462"/>
                    <a:pt x="220" y="2513"/>
                  </a:cubicBezTo>
                  <a:cubicBezTo>
                    <a:pt x="241" y="2530"/>
                    <a:pt x="284" y="2555"/>
                    <a:pt x="310" y="2572"/>
                  </a:cubicBezTo>
                  <a:cubicBezTo>
                    <a:pt x="320" y="2579"/>
                    <a:pt x="340" y="2592"/>
                    <a:pt x="340" y="2592"/>
                  </a:cubicBezTo>
                  <a:cubicBezTo>
                    <a:pt x="378" y="2653"/>
                    <a:pt x="396" y="2646"/>
                    <a:pt x="449" y="2682"/>
                  </a:cubicBezTo>
                  <a:cubicBezTo>
                    <a:pt x="462" y="2702"/>
                    <a:pt x="476" y="2721"/>
                    <a:pt x="489" y="2741"/>
                  </a:cubicBezTo>
                  <a:cubicBezTo>
                    <a:pt x="514" y="2777"/>
                    <a:pt x="505" y="2821"/>
                    <a:pt x="518" y="2860"/>
                  </a:cubicBezTo>
                  <a:cubicBezTo>
                    <a:pt x="522" y="2871"/>
                    <a:pt x="533" y="2879"/>
                    <a:pt x="538" y="2890"/>
                  </a:cubicBezTo>
                  <a:cubicBezTo>
                    <a:pt x="543" y="2899"/>
                    <a:pt x="545" y="2910"/>
                    <a:pt x="548" y="2920"/>
                  </a:cubicBezTo>
                  <a:cubicBezTo>
                    <a:pt x="545" y="2940"/>
                    <a:pt x="543" y="2960"/>
                    <a:pt x="538" y="2980"/>
                  </a:cubicBezTo>
                  <a:cubicBezTo>
                    <a:pt x="533" y="3000"/>
                    <a:pt x="518" y="3039"/>
                    <a:pt x="518" y="3039"/>
                  </a:cubicBezTo>
                  <a:cubicBezTo>
                    <a:pt x="542" y="3112"/>
                    <a:pt x="508" y="3039"/>
                    <a:pt x="638" y="3079"/>
                  </a:cubicBezTo>
                  <a:cubicBezTo>
                    <a:pt x="649" y="3083"/>
                    <a:pt x="651" y="3099"/>
                    <a:pt x="657" y="3109"/>
                  </a:cubicBezTo>
                  <a:cubicBezTo>
                    <a:pt x="671" y="3066"/>
                    <a:pt x="671" y="3028"/>
                    <a:pt x="697" y="2990"/>
                  </a:cubicBezTo>
                  <a:cubicBezTo>
                    <a:pt x="716" y="2932"/>
                    <a:pt x="702" y="2873"/>
                    <a:pt x="737" y="2821"/>
                  </a:cubicBezTo>
                  <a:cubicBezTo>
                    <a:pt x="741" y="2748"/>
                    <a:pt x="731" y="2671"/>
                    <a:pt x="757" y="2602"/>
                  </a:cubicBezTo>
                  <a:cubicBezTo>
                    <a:pt x="766" y="2577"/>
                    <a:pt x="786" y="2557"/>
                    <a:pt x="796" y="2533"/>
                  </a:cubicBezTo>
                  <a:cubicBezTo>
                    <a:pt x="814" y="2490"/>
                    <a:pt x="829" y="2444"/>
                    <a:pt x="866" y="2414"/>
                  </a:cubicBezTo>
                  <a:cubicBezTo>
                    <a:pt x="902" y="2385"/>
                    <a:pt x="947" y="2379"/>
                    <a:pt x="985" y="2354"/>
                  </a:cubicBezTo>
                  <a:cubicBezTo>
                    <a:pt x="1008" y="2320"/>
                    <a:pt x="1007" y="2290"/>
                    <a:pt x="1025" y="2255"/>
                  </a:cubicBezTo>
                  <a:cubicBezTo>
                    <a:pt x="1053" y="2199"/>
                    <a:pt x="1122" y="2120"/>
                    <a:pt x="1174" y="2086"/>
                  </a:cubicBezTo>
                  <a:cubicBezTo>
                    <a:pt x="1189" y="2040"/>
                    <a:pt x="1214" y="2006"/>
                    <a:pt x="1223" y="1957"/>
                  </a:cubicBezTo>
                  <a:cubicBezTo>
                    <a:pt x="1229" y="1922"/>
                    <a:pt x="1231" y="1860"/>
                    <a:pt x="1253" y="1828"/>
                  </a:cubicBezTo>
                  <a:cubicBezTo>
                    <a:pt x="1281" y="1787"/>
                    <a:pt x="1308" y="1754"/>
                    <a:pt x="1323" y="1708"/>
                  </a:cubicBezTo>
                  <a:cubicBezTo>
                    <a:pt x="1334" y="1630"/>
                    <a:pt x="1357" y="1555"/>
                    <a:pt x="1382" y="1480"/>
                  </a:cubicBezTo>
                  <a:cubicBezTo>
                    <a:pt x="1386" y="1467"/>
                    <a:pt x="1388" y="1453"/>
                    <a:pt x="1392" y="1440"/>
                  </a:cubicBezTo>
                  <a:cubicBezTo>
                    <a:pt x="1398" y="1420"/>
                    <a:pt x="1412" y="1381"/>
                    <a:pt x="1412" y="1381"/>
                  </a:cubicBezTo>
                  <a:cubicBezTo>
                    <a:pt x="1415" y="1344"/>
                    <a:pt x="1416" y="1307"/>
                    <a:pt x="1422" y="1271"/>
                  </a:cubicBezTo>
                  <a:cubicBezTo>
                    <a:pt x="1426" y="1251"/>
                    <a:pt x="1435" y="1232"/>
                    <a:pt x="1442" y="1212"/>
                  </a:cubicBezTo>
                  <a:cubicBezTo>
                    <a:pt x="1445" y="1202"/>
                    <a:pt x="1452" y="1182"/>
                    <a:pt x="1452" y="1182"/>
                  </a:cubicBezTo>
                  <a:cubicBezTo>
                    <a:pt x="1467" y="1080"/>
                    <a:pt x="1507" y="978"/>
                    <a:pt x="1581" y="904"/>
                  </a:cubicBezTo>
                  <a:cubicBezTo>
                    <a:pt x="1584" y="894"/>
                    <a:pt x="1586" y="883"/>
                    <a:pt x="1591" y="874"/>
                  </a:cubicBezTo>
                  <a:cubicBezTo>
                    <a:pt x="1603" y="853"/>
                    <a:pt x="1631" y="815"/>
                    <a:pt x="1631" y="815"/>
                  </a:cubicBezTo>
                  <a:cubicBezTo>
                    <a:pt x="1649" y="762"/>
                    <a:pt x="1668" y="712"/>
                    <a:pt x="1700" y="666"/>
                  </a:cubicBezTo>
                  <a:cubicBezTo>
                    <a:pt x="1715" y="622"/>
                    <a:pt x="1708" y="611"/>
                    <a:pt x="1670" y="586"/>
                  </a:cubicBezTo>
                  <a:cubicBezTo>
                    <a:pt x="1667" y="576"/>
                    <a:pt x="1660" y="567"/>
                    <a:pt x="1660" y="556"/>
                  </a:cubicBezTo>
                  <a:cubicBezTo>
                    <a:pt x="1660" y="536"/>
                    <a:pt x="1659" y="358"/>
                    <a:pt x="1720" y="338"/>
                  </a:cubicBezTo>
                  <a:cubicBezTo>
                    <a:pt x="1760" y="325"/>
                    <a:pt x="1780" y="308"/>
                    <a:pt x="1809" y="278"/>
                  </a:cubicBezTo>
                  <a:cubicBezTo>
                    <a:pt x="1758" y="260"/>
                    <a:pt x="1786" y="276"/>
                    <a:pt x="1740" y="209"/>
                  </a:cubicBezTo>
                  <a:cubicBezTo>
                    <a:pt x="1734" y="200"/>
                    <a:pt x="1739" y="185"/>
                    <a:pt x="1730" y="179"/>
                  </a:cubicBezTo>
                  <a:cubicBezTo>
                    <a:pt x="1703" y="160"/>
                    <a:pt x="1637" y="148"/>
                    <a:pt x="1601" y="139"/>
                  </a:cubicBezTo>
                  <a:cubicBezTo>
                    <a:pt x="1569" y="117"/>
                    <a:pt x="1553" y="92"/>
                    <a:pt x="1521" y="70"/>
                  </a:cubicBezTo>
                  <a:cubicBezTo>
                    <a:pt x="1515" y="60"/>
                    <a:pt x="1511" y="48"/>
                    <a:pt x="1502" y="40"/>
                  </a:cubicBezTo>
                  <a:cubicBezTo>
                    <a:pt x="1484" y="24"/>
                    <a:pt x="1442" y="0"/>
                    <a:pt x="1442" y="0"/>
                  </a:cubicBezTo>
                  <a:cubicBezTo>
                    <a:pt x="1399" y="11"/>
                    <a:pt x="1402" y="24"/>
                    <a:pt x="1402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V="1">
            <a:off x="4484520" y="1868400"/>
            <a:ext cx="3189600" cy="1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464000" y="3266640"/>
            <a:ext cx="1905120" cy="150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049640" y="3341160"/>
            <a:ext cx="3629160" cy="134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019400" y="5899320"/>
            <a:ext cx="2805120" cy="196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福爾摩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696-F138-4AB6-A479-2F0C4F9DED09}" type="slidenum">
              <a:t>5</a:t>
            </a:fld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-36360" y="6411960"/>
            <a:ext cx="309564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華康細圓體"/>
              </a:rPr>
              <a:t>相關網站：</a:t>
            </a:r>
            <a:r>
              <a:rPr b="0" lang="zh-TW" sz="2500" spc="-1" strike="noStrike" u="sng">
                <a:solidFill>
                  <a:srgbClr val="9900cc"/>
                </a:solidFill>
                <a:uFillTx/>
                <a:latin typeface="Arial"/>
                <a:ea typeface="華康細圓體"/>
                <a:hlinkClick r:id="rId1"/>
              </a:rPr>
              <a:t>大河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0000cc"/>
                </a:solidFill>
                <a:latin typeface="Times New Roman"/>
                <a:ea typeface="華康POP1體W5"/>
              </a:rPr>
              <a:t>臺灣的河川</a:t>
            </a:r>
            <a:endParaRPr b="0" lang="en-US" sz="8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4960" y="2050920"/>
            <a:ext cx="459756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臺灣六大主要河川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淡水河－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159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公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大甲溪－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124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公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大肚溪－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116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公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濁水溪－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186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公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曾文溪－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138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公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高屏溪－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171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公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127840" y="1589400"/>
            <a:ext cx="3573360" cy="5190480"/>
            <a:chOff x="5127840" y="1589400"/>
            <a:chExt cx="3573360" cy="5190480"/>
          </a:xfrm>
        </p:grpSpPr>
        <p:sp>
          <p:nvSpPr>
            <p:cNvPr id="135" name=""/>
            <p:cNvSpPr/>
            <p:nvPr/>
          </p:nvSpPr>
          <p:spPr>
            <a:xfrm rot="21309600">
              <a:off x="5330880" y="1714320"/>
              <a:ext cx="3166920" cy="4940280"/>
            </a:xfrm>
            <a:custGeom>
              <a:avLst/>
              <a:gdLst/>
              <a:ahLst/>
              <a:rect l="l" t="t" r="r" b="b"/>
              <a:pathLst>
                <a:path w="1809" h="3112">
                  <a:moveTo>
                    <a:pt x="1402" y="0"/>
                  </a:moveTo>
                  <a:cubicBezTo>
                    <a:pt x="1336" y="22"/>
                    <a:pt x="1364" y="60"/>
                    <a:pt x="1323" y="100"/>
                  </a:cubicBezTo>
                  <a:cubicBezTo>
                    <a:pt x="1301" y="122"/>
                    <a:pt x="1259" y="130"/>
                    <a:pt x="1233" y="139"/>
                  </a:cubicBezTo>
                  <a:cubicBezTo>
                    <a:pt x="1160" y="164"/>
                    <a:pt x="1127" y="187"/>
                    <a:pt x="1045" y="199"/>
                  </a:cubicBezTo>
                  <a:cubicBezTo>
                    <a:pt x="1025" y="206"/>
                    <a:pt x="997" y="202"/>
                    <a:pt x="985" y="219"/>
                  </a:cubicBezTo>
                  <a:cubicBezTo>
                    <a:pt x="938" y="288"/>
                    <a:pt x="965" y="265"/>
                    <a:pt x="916" y="298"/>
                  </a:cubicBezTo>
                  <a:cubicBezTo>
                    <a:pt x="877" y="357"/>
                    <a:pt x="874" y="459"/>
                    <a:pt x="826" y="507"/>
                  </a:cubicBezTo>
                  <a:cubicBezTo>
                    <a:pt x="793" y="540"/>
                    <a:pt x="740" y="546"/>
                    <a:pt x="697" y="556"/>
                  </a:cubicBezTo>
                  <a:cubicBezTo>
                    <a:pt x="648" y="629"/>
                    <a:pt x="624" y="704"/>
                    <a:pt x="548" y="755"/>
                  </a:cubicBezTo>
                  <a:cubicBezTo>
                    <a:pt x="533" y="800"/>
                    <a:pt x="504" y="835"/>
                    <a:pt x="479" y="874"/>
                  </a:cubicBezTo>
                  <a:cubicBezTo>
                    <a:pt x="454" y="913"/>
                    <a:pt x="459" y="963"/>
                    <a:pt x="439" y="1003"/>
                  </a:cubicBezTo>
                  <a:cubicBezTo>
                    <a:pt x="415" y="1051"/>
                    <a:pt x="402" y="1060"/>
                    <a:pt x="369" y="1093"/>
                  </a:cubicBezTo>
                  <a:cubicBezTo>
                    <a:pt x="354" y="1139"/>
                    <a:pt x="331" y="1130"/>
                    <a:pt x="310" y="1172"/>
                  </a:cubicBezTo>
                  <a:cubicBezTo>
                    <a:pt x="280" y="1233"/>
                    <a:pt x="249" y="1301"/>
                    <a:pt x="191" y="1341"/>
                  </a:cubicBezTo>
                  <a:cubicBezTo>
                    <a:pt x="182" y="1367"/>
                    <a:pt x="183" y="1396"/>
                    <a:pt x="171" y="1420"/>
                  </a:cubicBezTo>
                  <a:cubicBezTo>
                    <a:pt x="165" y="1433"/>
                    <a:pt x="150" y="1439"/>
                    <a:pt x="141" y="1450"/>
                  </a:cubicBezTo>
                  <a:cubicBezTo>
                    <a:pt x="119" y="1476"/>
                    <a:pt x="121" y="1480"/>
                    <a:pt x="111" y="1510"/>
                  </a:cubicBezTo>
                  <a:cubicBezTo>
                    <a:pt x="117" y="1556"/>
                    <a:pt x="131" y="1602"/>
                    <a:pt x="131" y="1649"/>
                  </a:cubicBezTo>
                  <a:cubicBezTo>
                    <a:pt x="131" y="1753"/>
                    <a:pt x="115" y="1665"/>
                    <a:pt x="81" y="1768"/>
                  </a:cubicBezTo>
                  <a:cubicBezTo>
                    <a:pt x="69" y="1805"/>
                    <a:pt x="64" y="1835"/>
                    <a:pt x="42" y="1867"/>
                  </a:cubicBezTo>
                  <a:cubicBezTo>
                    <a:pt x="34" y="1907"/>
                    <a:pt x="0" y="1999"/>
                    <a:pt x="32" y="2036"/>
                  </a:cubicBezTo>
                  <a:cubicBezTo>
                    <a:pt x="46" y="2052"/>
                    <a:pt x="91" y="2056"/>
                    <a:pt x="91" y="2056"/>
                  </a:cubicBezTo>
                  <a:cubicBezTo>
                    <a:pt x="120" y="2144"/>
                    <a:pt x="109" y="2095"/>
                    <a:pt x="121" y="2205"/>
                  </a:cubicBezTo>
                  <a:cubicBezTo>
                    <a:pt x="90" y="2298"/>
                    <a:pt x="131" y="2379"/>
                    <a:pt x="181" y="2453"/>
                  </a:cubicBezTo>
                  <a:cubicBezTo>
                    <a:pt x="217" y="2507"/>
                    <a:pt x="155" y="2462"/>
                    <a:pt x="220" y="2513"/>
                  </a:cubicBezTo>
                  <a:cubicBezTo>
                    <a:pt x="241" y="2530"/>
                    <a:pt x="284" y="2555"/>
                    <a:pt x="310" y="2572"/>
                  </a:cubicBezTo>
                  <a:cubicBezTo>
                    <a:pt x="320" y="2579"/>
                    <a:pt x="340" y="2592"/>
                    <a:pt x="340" y="2592"/>
                  </a:cubicBezTo>
                  <a:cubicBezTo>
                    <a:pt x="378" y="2653"/>
                    <a:pt x="396" y="2646"/>
                    <a:pt x="449" y="2682"/>
                  </a:cubicBezTo>
                  <a:cubicBezTo>
                    <a:pt x="462" y="2702"/>
                    <a:pt x="476" y="2721"/>
                    <a:pt x="489" y="2741"/>
                  </a:cubicBezTo>
                  <a:cubicBezTo>
                    <a:pt x="514" y="2777"/>
                    <a:pt x="505" y="2821"/>
                    <a:pt x="518" y="2860"/>
                  </a:cubicBezTo>
                  <a:cubicBezTo>
                    <a:pt x="522" y="2871"/>
                    <a:pt x="533" y="2879"/>
                    <a:pt x="538" y="2890"/>
                  </a:cubicBezTo>
                  <a:cubicBezTo>
                    <a:pt x="543" y="2899"/>
                    <a:pt x="545" y="2910"/>
                    <a:pt x="548" y="2920"/>
                  </a:cubicBezTo>
                  <a:cubicBezTo>
                    <a:pt x="545" y="2940"/>
                    <a:pt x="543" y="2960"/>
                    <a:pt x="538" y="2980"/>
                  </a:cubicBezTo>
                  <a:cubicBezTo>
                    <a:pt x="533" y="3000"/>
                    <a:pt x="518" y="3039"/>
                    <a:pt x="518" y="3039"/>
                  </a:cubicBezTo>
                  <a:cubicBezTo>
                    <a:pt x="542" y="3112"/>
                    <a:pt x="508" y="3039"/>
                    <a:pt x="638" y="3079"/>
                  </a:cubicBezTo>
                  <a:cubicBezTo>
                    <a:pt x="649" y="3083"/>
                    <a:pt x="651" y="3099"/>
                    <a:pt x="657" y="3109"/>
                  </a:cubicBezTo>
                  <a:cubicBezTo>
                    <a:pt x="671" y="3066"/>
                    <a:pt x="671" y="3028"/>
                    <a:pt x="697" y="2990"/>
                  </a:cubicBezTo>
                  <a:cubicBezTo>
                    <a:pt x="716" y="2932"/>
                    <a:pt x="702" y="2873"/>
                    <a:pt x="737" y="2821"/>
                  </a:cubicBezTo>
                  <a:cubicBezTo>
                    <a:pt x="741" y="2748"/>
                    <a:pt x="731" y="2671"/>
                    <a:pt x="757" y="2602"/>
                  </a:cubicBezTo>
                  <a:cubicBezTo>
                    <a:pt x="766" y="2577"/>
                    <a:pt x="786" y="2557"/>
                    <a:pt x="796" y="2533"/>
                  </a:cubicBezTo>
                  <a:cubicBezTo>
                    <a:pt x="814" y="2490"/>
                    <a:pt x="829" y="2444"/>
                    <a:pt x="866" y="2414"/>
                  </a:cubicBezTo>
                  <a:cubicBezTo>
                    <a:pt x="902" y="2385"/>
                    <a:pt x="947" y="2379"/>
                    <a:pt x="985" y="2354"/>
                  </a:cubicBezTo>
                  <a:cubicBezTo>
                    <a:pt x="1008" y="2320"/>
                    <a:pt x="1007" y="2290"/>
                    <a:pt x="1025" y="2255"/>
                  </a:cubicBezTo>
                  <a:cubicBezTo>
                    <a:pt x="1053" y="2199"/>
                    <a:pt x="1122" y="2120"/>
                    <a:pt x="1174" y="2086"/>
                  </a:cubicBezTo>
                  <a:cubicBezTo>
                    <a:pt x="1189" y="2040"/>
                    <a:pt x="1214" y="2006"/>
                    <a:pt x="1223" y="1957"/>
                  </a:cubicBezTo>
                  <a:cubicBezTo>
                    <a:pt x="1229" y="1922"/>
                    <a:pt x="1231" y="1860"/>
                    <a:pt x="1253" y="1828"/>
                  </a:cubicBezTo>
                  <a:cubicBezTo>
                    <a:pt x="1281" y="1787"/>
                    <a:pt x="1308" y="1754"/>
                    <a:pt x="1323" y="1708"/>
                  </a:cubicBezTo>
                  <a:cubicBezTo>
                    <a:pt x="1334" y="1630"/>
                    <a:pt x="1357" y="1555"/>
                    <a:pt x="1382" y="1480"/>
                  </a:cubicBezTo>
                  <a:cubicBezTo>
                    <a:pt x="1386" y="1467"/>
                    <a:pt x="1388" y="1453"/>
                    <a:pt x="1392" y="1440"/>
                  </a:cubicBezTo>
                  <a:cubicBezTo>
                    <a:pt x="1398" y="1420"/>
                    <a:pt x="1412" y="1381"/>
                    <a:pt x="1412" y="1381"/>
                  </a:cubicBezTo>
                  <a:cubicBezTo>
                    <a:pt x="1415" y="1344"/>
                    <a:pt x="1416" y="1307"/>
                    <a:pt x="1422" y="1271"/>
                  </a:cubicBezTo>
                  <a:cubicBezTo>
                    <a:pt x="1426" y="1251"/>
                    <a:pt x="1435" y="1232"/>
                    <a:pt x="1442" y="1212"/>
                  </a:cubicBezTo>
                  <a:cubicBezTo>
                    <a:pt x="1445" y="1202"/>
                    <a:pt x="1452" y="1182"/>
                    <a:pt x="1452" y="1182"/>
                  </a:cubicBezTo>
                  <a:cubicBezTo>
                    <a:pt x="1467" y="1080"/>
                    <a:pt x="1507" y="978"/>
                    <a:pt x="1581" y="904"/>
                  </a:cubicBezTo>
                  <a:cubicBezTo>
                    <a:pt x="1584" y="894"/>
                    <a:pt x="1586" y="883"/>
                    <a:pt x="1591" y="874"/>
                  </a:cubicBezTo>
                  <a:cubicBezTo>
                    <a:pt x="1603" y="853"/>
                    <a:pt x="1631" y="815"/>
                    <a:pt x="1631" y="815"/>
                  </a:cubicBezTo>
                  <a:cubicBezTo>
                    <a:pt x="1649" y="762"/>
                    <a:pt x="1668" y="712"/>
                    <a:pt x="1700" y="666"/>
                  </a:cubicBezTo>
                  <a:cubicBezTo>
                    <a:pt x="1715" y="622"/>
                    <a:pt x="1708" y="611"/>
                    <a:pt x="1670" y="586"/>
                  </a:cubicBezTo>
                  <a:cubicBezTo>
                    <a:pt x="1667" y="576"/>
                    <a:pt x="1660" y="567"/>
                    <a:pt x="1660" y="556"/>
                  </a:cubicBezTo>
                  <a:cubicBezTo>
                    <a:pt x="1660" y="536"/>
                    <a:pt x="1659" y="358"/>
                    <a:pt x="1720" y="338"/>
                  </a:cubicBezTo>
                  <a:cubicBezTo>
                    <a:pt x="1760" y="325"/>
                    <a:pt x="1780" y="308"/>
                    <a:pt x="1809" y="278"/>
                  </a:cubicBezTo>
                  <a:cubicBezTo>
                    <a:pt x="1758" y="260"/>
                    <a:pt x="1786" y="276"/>
                    <a:pt x="1740" y="209"/>
                  </a:cubicBezTo>
                  <a:cubicBezTo>
                    <a:pt x="1734" y="200"/>
                    <a:pt x="1739" y="185"/>
                    <a:pt x="1730" y="179"/>
                  </a:cubicBezTo>
                  <a:cubicBezTo>
                    <a:pt x="1703" y="160"/>
                    <a:pt x="1637" y="148"/>
                    <a:pt x="1601" y="139"/>
                  </a:cubicBezTo>
                  <a:cubicBezTo>
                    <a:pt x="1569" y="117"/>
                    <a:pt x="1553" y="92"/>
                    <a:pt x="1521" y="70"/>
                  </a:cubicBezTo>
                  <a:cubicBezTo>
                    <a:pt x="1515" y="60"/>
                    <a:pt x="1511" y="48"/>
                    <a:pt x="1502" y="40"/>
                  </a:cubicBezTo>
                  <a:cubicBezTo>
                    <a:pt x="1484" y="24"/>
                    <a:pt x="1442" y="0"/>
                    <a:pt x="1442" y="0"/>
                  </a:cubicBezTo>
                  <a:cubicBezTo>
                    <a:pt x="1399" y="11"/>
                    <a:pt x="1402" y="24"/>
                    <a:pt x="1402" y="0"/>
                  </a:cubicBezTo>
                  <a:close/>
                </a:path>
              </a:pathLst>
            </a:custGeom>
            <a:solidFill>
              <a:srgbClr val="ffff99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07360" y="1684440"/>
              <a:ext cx="266760" cy="1113120"/>
            </a:xfrm>
            <a:custGeom>
              <a:avLst/>
              <a:gdLst/>
              <a:ahLst/>
              <a:rect l="l" t="t" r="r" b="b"/>
              <a:pathLst>
                <a:path w="155" h="675">
                  <a:moveTo>
                    <a:pt x="36" y="45"/>
                  </a:moveTo>
                  <a:cubicBezTo>
                    <a:pt x="41" y="57"/>
                    <a:pt x="73" y="64"/>
                    <a:pt x="86" y="73"/>
                  </a:cubicBezTo>
                  <a:cubicBezTo>
                    <a:pt x="97" y="89"/>
                    <a:pt x="113" y="85"/>
                    <a:pt x="116" y="101"/>
                  </a:cubicBezTo>
                  <a:cubicBezTo>
                    <a:pt x="123" y="113"/>
                    <a:pt x="124" y="115"/>
                    <a:pt x="128" y="143"/>
                  </a:cubicBezTo>
                  <a:cubicBezTo>
                    <a:pt x="132" y="171"/>
                    <a:pt x="102" y="225"/>
                    <a:pt x="86" y="257"/>
                  </a:cubicBezTo>
                  <a:cubicBezTo>
                    <a:pt x="72" y="287"/>
                    <a:pt x="35" y="327"/>
                    <a:pt x="22" y="351"/>
                  </a:cubicBezTo>
                  <a:cubicBezTo>
                    <a:pt x="10" y="371"/>
                    <a:pt x="0" y="376"/>
                    <a:pt x="10" y="401"/>
                  </a:cubicBezTo>
                  <a:cubicBezTo>
                    <a:pt x="16" y="435"/>
                    <a:pt x="69" y="473"/>
                    <a:pt x="78" y="501"/>
                  </a:cubicBezTo>
                  <a:cubicBezTo>
                    <a:pt x="87" y="529"/>
                    <a:pt x="63" y="541"/>
                    <a:pt x="52" y="559"/>
                  </a:cubicBezTo>
                  <a:cubicBezTo>
                    <a:pt x="41" y="577"/>
                    <a:pt x="14" y="585"/>
                    <a:pt x="9" y="612"/>
                  </a:cubicBezTo>
                  <a:cubicBezTo>
                    <a:pt x="4" y="639"/>
                    <a:pt x="18" y="670"/>
                    <a:pt x="21" y="675"/>
                  </a:cubicBezTo>
                  <a:cubicBezTo>
                    <a:pt x="23" y="674"/>
                    <a:pt x="11" y="632"/>
                    <a:pt x="22" y="607"/>
                  </a:cubicBezTo>
                  <a:cubicBezTo>
                    <a:pt x="36" y="573"/>
                    <a:pt x="78" y="563"/>
                    <a:pt x="86" y="523"/>
                  </a:cubicBezTo>
                  <a:cubicBezTo>
                    <a:pt x="93" y="499"/>
                    <a:pt x="80" y="477"/>
                    <a:pt x="62" y="461"/>
                  </a:cubicBezTo>
                  <a:cubicBezTo>
                    <a:pt x="51" y="439"/>
                    <a:pt x="21" y="422"/>
                    <a:pt x="18" y="391"/>
                  </a:cubicBezTo>
                  <a:cubicBezTo>
                    <a:pt x="24" y="359"/>
                    <a:pt x="80" y="304"/>
                    <a:pt x="99" y="267"/>
                  </a:cubicBezTo>
                  <a:cubicBezTo>
                    <a:pt x="118" y="230"/>
                    <a:pt x="133" y="202"/>
                    <a:pt x="140" y="173"/>
                  </a:cubicBezTo>
                  <a:cubicBezTo>
                    <a:pt x="147" y="144"/>
                    <a:pt x="155" y="119"/>
                    <a:pt x="141" y="90"/>
                  </a:cubicBezTo>
                  <a:cubicBezTo>
                    <a:pt x="128" y="62"/>
                    <a:pt x="72" y="8"/>
                    <a:pt x="54" y="0"/>
                  </a:cubicBezTo>
                  <a:lnTo>
                    <a:pt x="36" y="45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21480" y="3534120"/>
              <a:ext cx="1481040" cy="415800"/>
            </a:xfrm>
            <a:custGeom>
              <a:avLst/>
              <a:gdLst/>
              <a:ahLst/>
              <a:rect l="l" t="t" r="r" b="b"/>
              <a:pathLst>
                <a:path w="859" h="252">
                  <a:moveTo>
                    <a:pt x="0" y="213"/>
                  </a:moveTo>
                  <a:lnTo>
                    <a:pt x="87" y="226"/>
                  </a:lnTo>
                  <a:lnTo>
                    <a:pt x="186" y="214"/>
                  </a:lnTo>
                  <a:lnTo>
                    <a:pt x="288" y="226"/>
                  </a:lnTo>
                  <a:lnTo>
                    <a:pt x="435" y="232"/>
                  </a:lnTo>
                  <a:lnTo>
                    <a:pt x="492" y="214"/>
                  </a:lnTo>
                  <a:lnTo>
                    <a:pt x="552" y="232"/>
                  </a:lnTo>
                  <a:cubicBezTo>
                    <a:pt x="575" y="233"/>
                    <a:pt x="600" y="220"/>
                    <a:pt x="630" y="220"/>
                  </a:cubicBezTo>
                  <a:cubicBezTo>
                    <a:pt x="659" y="221"/>
                    <a:pt x="701" y="252"/>
                    <a:pt x="732" y="235"/>
                  </a:cubicBezTo>
                  <a:cubicBezTo>
                    <a:pt x="764" y="218"/>
                    <a:pt x="808" y="150"/>
                    <a:pt x="825" y="118"/>
                  </a:cubicBezTo>
                  <a:cubicBezTo>
                    <a:pt x="845" y="86"/>
                    <a:pt x="829" y="59"/>
                    <a:pt x="834" y="40"/>
                  </a:cubicBezTo>
                  <a:cubicBezTo>
                    <a:pt x="839" y="21"/>
                    <a:pt x="859" y="2"/>
                    <a:pt x="858" y="1"/>
                  </a:cubicBezTo>
                  <a:cubicBezTo>
                    <a:pt x="857" y="0"/>
                    <a:pt x="836" y="12"/>
                    <a:pt x="828" y="31"/>
                  </a:cubicBezTo>
                  <a:cubicBezTo>
                    <a:pt x="820" y="50"/>
                    <a:pt x="827" y="84"/>
                    <a:pt x="810" y="115"/>
                  </a:cubicBezTo>
                  <a:cubicBezTo>
                    <a:pt x="788" y="151"/>
                    <a:pt x="751" y="202"/>
                    <a:pt x="723" y="217"/>
                  </a:cubicBezTo>
                  <a:cubicBezTo>
                    <a:pt x="669" y="244"/>
                    <a:pt x="661" y="198"/>
                    <a:pt x="630" y="199"/>
                  </a:cubicBezTo>
                  <a:cubicBezTo>
                    <a:pt x="599" y="200"/>
                    <a:pt x="570" y="210"/>
                    <a:pt x="546" y="208"/>
                  </a:cubicBezTo>
                  <a:lnTo>
                    <a:pt x="495" y="190"/>
                  </a:lnTo>
                  <a:lnTo>
                    <a:pt x="435" y="208"/>
                  </a:lnTo>
                  <a:lnTo>
                    <a:pt x="288" y="205"/>
                  </a:lnTo>
                  <a:lnTo>
                    <a:pt x="183" y="187"/>
                  </a:lnTo>
                  <a:lnTo>
                    <a:pt x="87" y="199"/>
                  </a:lnTo>
                  <a:lnTo>
                    <a:pt x="12" y="178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69240" y="3144960"/>
              <a:ext cx="819000" cy="165240"/>
            </a:xfrm>
            <a:custGeom>
              <a:avLst/>
              <a:gdLst/>
              <a:ahLst/>
              <a:rect l="l" t="t" r="r" b="b"/>
              <a:pathLst>
                <a:path w="670" h="144">
                  <a:moveTo>
                    <a:pt x="0" y="71"/>
                  </a:moveTo>
                  <a:cubicBezTo>
                    <a:pt x="0" y="71"/>
                    <a:pt x="34" y="67"/>
                    <a:pt x="54" y="71"/>
                  </a:cubicBezTo>
                  <a:cubicBezTo>
                    <a:pt x="74" y="75"/>
                    <a:pt x="100" y="96"/>
                    <a:pt x="123" y="98"/>
                  </a:cubicBezTo>
                  <a:cubicBezTo>
                    <a:pt x="146" y="100"/>
                    <a:pt x="164" y="77"/>
                    <a:pt x="192" y="83"/>
                  </a:cubicBezTo>
                  <a:cubicBezTo>
                    <a:pt x="220" y="89"/>
                    <a:pt x="267" y="129"/>
                    <a:pt x="294" y="137"/>
                  </a:cubicBezTo>
                  <a:cubicBezTo>
                    <a:pt x="324" y="144"/>
                    <a:pt x="340" y="141"/>
                    <a:pt x="355" y="132"/>
                  </a:cubicBezTo>
                  <a:cubicBezTo>
                    <a:pt x="370" y="123"/>
                    <a:pt x="373" y="91"/>
                    <a:pt x="387" y="80"/>
                  </a:cubicBezTo>
                  <a:cubicBezTo>
                    <a:pt x="401" y="69"/>
                    <a:pt x="428" y="67"/>
                    <a:pt x="456" y="62"/>
                  </a:cubicBezTo>
                  <a:cubicBezTo>
                    <a:pt x="484" y="57"/>
                    <a:pt x="534" y="49"/>
                    <a:pt x="555" y="42"/>
                  </a:cubicBezTo>
                  <a:cubicBezTo>
                    <a:pt x="576" y="35"/>
                    <a:pt x="563" y="19"/>
                    <a:pt x="581" y="14"/>
                  </a:cubicBezTo>
                  <a:cubicBezTo>
                    <a:pt x="599" y="9"/>
                    <a:pt x="670" y="21"/>
                    <a:pt x="669" y="20"/>
                  </a:cubicBezTo>
                  <a:cubicBezTo>
                    <a:pt x="668" y="19"/>
                    <a:pt x="593" y="0"/>
                    <a:pt x="575" y="8"/>
                  </a:cubicBezTo>
                  <a:cubicBezTo>
                    <a:pt x="557" y="16"/>
                    <a:pt x="573" y="29"/>
                    <a:pt x="543" y="38"/>
                  </a:cubicBezTo>
                  <a:cubicBezTo>
                    <a:pt x="513" y="47"/>
                    <a:pt x="430" y="57"/>
                    <a:pt x="402" y="62"/>
                  </a:cubicBezTo>
                  <a:cubicBezTo>
                    <a:pt x="374" y="67"/>
                    <a:pt x="381" y="62"/>
                    <a:pt x="371" y="72"/>
                  </a:cubicBezTo>
                  <a:cubicBezTo>
                    <a:pt x="361" y="82"/>
                    <a:pt x="359" y="115"/>
                    <a:pt x="342" y="122"/>
                  </a:cubicBezTo>
                  <a:cubicBezTo>
                    <a:pt x="325" y="129"/>
                    <a:pt x="307" y="126"/>
                    <a:pt x="283" y="118"/>
                  </a:cubicBezTo>
                  <a:cubicBezTo>
                    <a:pt x="259" y="110"/>
                    <a:pt x="224" y="77"/>
                    <a:pt x="198" y="71"/>
                  </a:cubicBezTo>
                  <a:cubicBezTo>
                    <a:pt x="172" y="65"/>
                    <a:pt x="144" y="84"/>
                    <a:pt x="121" y="82"/>
                  </a:cubicBezTo>
                  <a:cubicBezTo>
                    <a:pt x="98" y="80"/>
                    <a:pt x="75" y="63"/>
                    <a:pt x="57" y="59"/>
                  </a:cubicBezTo>
                  <a:cubicBezTo>
                    <a:pt x="39" y="55"/>
                    <a:pt x="14" y="54"/>
                    <a:pt x="3" y="53"/>
                  </a:cubicBezTo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04000" y="4459680"/>
              <a:ext cx="882720" cy="1373040"/>
            </a:xfrm>
            <a:custGeom>
              <a:avLst/>
              <a:gdLst/>
              <a:ahLst/>
              <a:rect l="l" t="t" r="r" b="b"/>
              <a:pathLst>
                <a:path w="367" h="725">
                  <a:moveTo>
                    <a:pt x="0" y="719"/>
                  </a:moveTo>
                  <a:cubicBezTo>
                    <a:pt x="1" y="709"/>
                    <a:pt x="27" y="716"/>
                    <a:pt x="30" y="665"/>
                  </a:cubicBezTo>
                  <a:cubicBezTo>
                    <a:pt x="33" y="614"/>
                    <a:pt x="1" y="474"/>
                    <a:pt x="20" y="413"/>
                  </a:cubicBezTo>
                  <a:cubicBezTo>
                    <a:pt x="38" y="354"/>
                    <a:pt x="94" y="343"/>
                    <a:pt x="144" y="291"/>
                  </a:cubicBezTo>
                  <a:cubicBezTo>
                    <a:pt x="193" y="241"/>
                    <a:pt x="277" y="159"/>
                    <a:pt x="314" y="111"/>
                  </a:cubicBezTo>
                  <a:cubicBezTo>
                    <a:pt x="351" y="63"/>
                    <a:pt x="365" y="0"/>
                    <a:pt x="366" y="1"/>
                  </a:cubicBezTo>
                  <a:cubicBezTo>
                    <a:pt x="367" y="2"/>
                    <a:pt x="359" y="68"/>
                    <a:pt x="322" y="119"/>
                  </a:cubicBezTo>
                  <a:cubicBezTo>
                    <a:pt x="285" y="170"/>
                    <a:pt x="190" y="258"/>
                    <a:pt x="142" y="307"/>
                  </a:cubicBezTo>
                  <a:cubicBezTo>
                    <a:pt x="94" y="356"/>
                    <a:pt x="48" y="355"/>
                    <a:pt x="32" y="415"/>
                  </a:cubicBezTo>
                  <a:cubicBezTo>
                    <a:pt x="17" y="475"/>
                    <a:pt x="56" y="619"/>
                    <a:pt x="50" y="669"/>
                  </a:cubicBezTo>
                  <a:cubicBezTo>
                    <a:pt x="44" y="719"/>
                    <a:pt x="32" y="717"/>
                    <a:pt x="24" y="725"/>
                  </a:cubicBezTo>
                  <a:lnTo>
                    <a:pt x="0" y="719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485400">
              <a:off x="5513400" y="4454640"/>
              <a:ext cx="1068480" cy="701640"/>
            </a:xfrm>
            <a:custGeom>
              <a:avLst/>
              <a:gdLst/>
              <a:ahLst/>
              <a:rect l="l" t="t" r="r" b="b"/>
              <a:pathLst>
                <a:path w="530" h="386">
                  <a:moveTo>
                    <a:pt x="18" y="386"/>
                  </a:moveTo>
                  <a:cubicBezTo>
                    <a:pt x="27" y="372"/>
                    <a:pt x="36" y="311"/>
                    <a:pt x="56" y="284"/>
                  </a:cubicBezTo>
                  <a:cubicBezTo>
                    <a:pt x="76" y="257"/>
                    <a:pt x="113" y="230"/>
                    <a:pt x="140" y="222"/>
                  </a:cubicBezTo>
                  <a:cubicBezTo>
                    <a:pt x="167" y="214"/>
                    <a:pt x="182" y="244"/>
                    <a:pt x="218" y="236"/>
                  </a:cubicBezTo>
                  <a:cubicBezTo>
                    <a:pt x="254" y="228"/>
                    <a:pt x="321" y="198"/>
                    <a:pt x="354" y="172"/>
                  </a:cubicBezTo>
                  <a:cubicBezTo>
                    <a:pt x="387" y="146"/>
                    <a:pt x="385" y="107"/>
                    <a:pt x="414" y="78"/>
                  </a:cubicBezTo>
                  <a:cubicBezTo>
                    <a:pt x="443" y="49"/>
                    <a:pt x="530" y="2"/>
                    <a:pt x="528" y="0"/>
                  </a:cubicBezTo>
                  <a:cubicBezTo>
                    <a:pt x="528" y="0"/>
                    <a:pt x="404" y="68"/>
                    <a:pt x="404" y="68"/>
                  </a:cubicBezTo>
                  <a:cubicBezTo>
                    <a:pt x="404" y="68"/>
                    <a:pt x="352" y="162"/>
                    <a:pt x="352" y="162"/>
                  </a:cubicBezTo>
                  <a:cubicBezTo>
                    <a:pt x="352" y="162"/>
                    <a:pt x="236" y="224"/>
                    <a:pt x="216" y="222"/>
                  </a:cubicBezTo>
                  <a:cubicBezTo>
                    <a:pt x="196" y="220"/>
                    <a:pt x="163" y="199"/>
                    <a:pt x="134" y="208"/>
                  </a:cubicBezTo>
                  <a:cubicBezTo>
                    <a:pt x="105" y="217"/>
                    <a:pt x="62" y="253"/>
                    <a:pt x="40" y="280"/>
                  </a:cubicBezTo>
                  <a:cubicBezTo>
                    <a:pt x="18" y="307"/>
                    <a:pt x="4" y="350"/>
                    <a:pt x="0" y="368"/>
                  </a:cubicBezTo>
                  <a:lnTo>
                    <a:pt x="18" y="386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00840" y="3421440"/>
              <a:ext cx="604800" cy="269640"/>
            </a:xfrm>
            <a:custGeom>
              <a:avLst/>
              <a:gdLst/>
              <a:ahLst/>
              <a:rect l="l" t="t" r="r" b="b"/>
              <a:pathLst>
                <a:path w="351" h="163">
                  <a:moveTo>
                    <a:pt x="0" y="6"/>
                  </a:moveTo>
                  <a:cubicBezTo>
                    <a:pt x="5" y="12"/>
                    <a:pt x="25" y="21"/>
                    <a:pt x="39" y="24"/>
                  </a:cubicBezTo>
                  <a:cubicBezTo>
                    <a:pt x="53" y="27"/>
                    <a:pt x="70" y="25"/>
                    <a:pt x="84" y="24"/>
                  </a:cubicBezTo>
                  <a:cubicBezTo>
                    <a:pt x="98" y="23"/>
                    <a:pt x="105" y="10"/>
                    <a:pt x="126" y="15"/>
                  </a:cubicBezTo>
                  <a:cubicBezTo>
                    <a:pt x="147" y="20"/>
                    <a:pt x="192" y="40"/>
                    <a:pt x="213" y="54"/>
                  </a:cubicBezTo>
                  <a:cubicBezTo>
                    <a:pt x="234" y="68"/>
                    <a:pt x="238" y="87"/>
                    <a:pt x="252" y="99"/>
                  </a:cubicBezTo>
                  <a:cubicBezTo>
                    <a:pt x="266" y="111"/>
                    <a:pt x="283" y="121"/>
                    <a:pt x="297" y="129"/>
                  </a:cubicBezTo>
                  <a:cubicBezTo>
                    <a:pt x="311" y="137"/>
                    <a:pt x="351" y="163"/>
                    <a:pt x="339" y="150"/>
                  </a:cubicBezTo>
                  <a:cubicBezTo>
                    <a:pt x="339" y="151"/>
                    <a:pt x="311" y="132"/>
                    <a:pt x="297" y="123"/>
                  </a:cubicBezTo>
                  <a:cubicBezTo>
                    <a:pt x="283" y="114"/>
                    <a:pt x="267" y="106"/>
                    <a:pt x="255" y="93"/>
                  </a:cubicBezTo>
                  <a:cubicBezTo>
                    <a:pt x="236" y="76"/>
                    <a:pt x="240" y="64"/>
                    <a:pt x="216" y="51"/>
                  </a:cubicBezTo>
                  <a:cubicBezTo>
                    <a:pt x="179" y="26"/>
                    <a:pt x="158" y="16"/>
                    <a:pt x="128" y="11"/>
                  </a:cubicBezTo>
                  <a:cubicBezTo>
                    <a:pt x="106" y="5"/>
                    <a:pt x="96" y="19"/>
                    <a:pt x="81" y="20"/>
                  </a:cubicBezTo>
                  <a:cubicBezTo>
                    <a:pt x="66" y="21"/>
                    <a:pt x="52" y="19"/>
                    <a:pt x="39" y="17"/>
                  </a:cubicBezTo>
                  <a:cubicBezTo>
                    <a:pt x="20" y="15"/>
                    <a:pt x="13" y="2"/>
                    <a:pt x="3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福爾摩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7AA7-99C1-4DD5-AC9B-C5CE526FB859}" type="slidenum">
              <a:t>6</a:t>
            </a:fld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-36360" y="6375240"/>
            <a:ext cx="3798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華康細圓體"/>
              </a:rPr>
              <a:t>相關網站：中央氣象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0000cc"/>
                </a:solidFill>
                <a:latin typeface="Times New Roman"/>
                <a:ea typeface="華康POP1體W5"/>
              </a:rPr>
              <a:t>臺灣的氣候</a:t>
            </a:r>
            <a:endParaRPr b="0" lang="en-US" sz="7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677960"/>
            <a:ext cx="425124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臺灣的氣候特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876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氣溫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876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雨量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影響氣候的因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876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緯度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876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季風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876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地形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876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洋流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495680" y="1844640"/>
            <a:ext cx="4392000" cy="4452480"/>
            <a:chOff x="4495680" y="1844640"/>
            <a:chExt cx="4392000" cy="4452480"/>
          </a:xfrm>
        </p:grpSpPr>
        <p:grpSp>
          <p:nvGrpSpPr>
            <p:cNvPr id="146" name=""/>
            <p:cNvGrpSpPr/>
            <p:nvPr/>
          </p:nvGrpSpPr>
          <p:grpSpPr>
            <a:xfrm>
              <a:off x="4914720" y="3334680"/>
              <a:ext cx="3160800" cy="2840040"/>
              <a:chOff x="4914720" y="3334680"/>
              <a:chExt cx="3160800" cy="2840040"/>
            </a:xfrm>
          </p:grpSpPr>
          <p:sp>
            <p:nvSpPr>
              <p:cNvPr id="147" name=""/>
              <p:cNvSpPr/>
              <p:nvPr/>
            </p:nvSpPr>
            <p:spPr>
              <a:xfrm rot="1968600">
                <a:off x="6143760" y="4615920"/>
                <a:ext cx="60480" cy="10396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968600">
                <a:off x="6705720" y="3436920"/>
                <a:ext cx="61560" cy="135324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914720" y="3334680"/>
                <a:ext cx="3160800" cy="2023920"/>
              </a:xfrm>
              <a:custGeom>
                <a:avLst/>
                <a:gdLst/>
                <a:ahLst/>
                <a:rect l="l" t="t" r="r" b="b"/>
                <a:pathLst>
                  <a:path w="2299" h="1425">
                    <a:moveTo>
                      <a:pt x="1529" y="208"/>
                    </a:moveTo>
                    <a:cubicBezTo>
                      <a:pt x="1015" y="0"/>
                      <a:pt x="381" y="0"/>
                      <a:pt x="0" y="156"/>
                    </a:cubicBezTo>
                    <a:cubicBezTo>
                      <a:pt x="425" y="298"/>
                      <a:pt x="469" y="625"/>
                      <a:pt x="537" y="781"/>
                    </a:cubicBezTo>
                    <a:cubicBezTo>
                      <a:pt x="879" y="839"/>
                      <a:pt x="1248" y="1008"/>
                      <a:pt x="1523" y="1318"/>
                    </a:cubicBezTo>
                    <a:cubicBezTo>
                      <a:pt x="1853" y="1320"/>
                      <a:pt x="1952" y="1327"/>
                      <a:pt x="2294" y="1425"/>
                    </a:cubicBezTo>
                    <a:cubicBezTo>
                      <a:pt x="2299" y="1174"/>
                      <a:pt x="1952" y="498"/>
                      <a:pt x="1529" y="2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be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652720" y="3629880"/>
                <a:ext cx="1364040" cy="826560"/>
              </a:xfrm>
              <a:custGeom>
                <a:avLst/>
                <a:gdLst/>
                <a:ahLst/>
                <a:rect l="l" t="t" r="r" b="b"/>
                <a:pathLst>
                  <a:path w="992" h="582">
                    <a:moveTo>
                      <a:pt x="0" y="582"/>
                    </a:moveTo>
                    <a:cubicBezTo>
                      <a:pt x="258" y="271"/>
                      <a:pt x="410" y="36"/>
                      <a:pt x="9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16760" y="3631680"/>
                <a:ext cx="205920" cy="1587960"/>
              </a:xfrm>
              <a:custGeom>
                <a:avLst/>
                <a:gdLst/>
                <a:ahLst/>
                <a:rect l="l" t="t" r="r" b="b"/>
                <a:pathLst>
                  <a:path w="150" h="1118">
                    <a:moveTo>
                      <a:pt x="4" y="1118"/>
                    </a:moveTo>
                    <a:cubicBezTo>
                      <a:pt x="140" y="562"/>
                      <a:pt x="150" y="435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995200">
                <a:off x="5176800" y="5460840"/>
                <a:ext cx="815040" cy="647280"/>
              </a:xfrm>
              <a:custGeom>
                <a:avLst/>
                <a:gdLst/>
                <a:ahLst/>
                <a:rect l="l" t="t" r="r" b="b"/>
                <a:pathLst>
                  <a:path w="593" h="456">
                    <a:moveTo>
                      <a:pt x="174" y="0"/>
                    </a:moveTo>
                    <a:cubicBezTo>
                      <a:pt x="0" y="192"/>
                      <a:pt x="95" y="338"/>
                      <a:pt x="163" y="355"/>
                    </a:cubicBezTo>
                    <a:cubicBezTo>
                      <a:pt x="330" y="456"/>
                      <a:pt x="521" y="178"/>
                      <a:pt x="582" y="132"/>
                    </a:cubicBezTo>
                    <a:cubicBezTo>
                      <a:pt x="528" y="78"/>
                      <a:pt x="593" y="51"/>
                      <a:pt x="528" y="78"/>
                    </a:cubicBezTo>
                    <a:cubicBezTo>
                      <a:pt x="378" y="276"/>
                      <a:pt x="246" y="336"/>
                      <a:pt x="192" y="294"/>
                    </a:cubicBezTo>
                    <a:cubicBezTo>
                      <a:pt x="138" y="252"/>
                      <a:pt x="138" y="132"/>
                      <a:pt x="222" y="36"/>
                    </a:cubicBezTo>
                    <a:cubicBezTo>
                      <a:pt x="174" y="0"/>
                      <a:pt x="174" y="0"/>
                      <a:pt x="174" y="0"/>
                    </a:cubicBezTo>
                    <a:close/>
                  </a:path>
                </a:pathLst>
              </a:custGeom>
              <a:solidFill>
                <a:srgbClr val="9966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7084440" y="2130120"/>
              <a:ext cx="1803240" cy="1583640"/>
              <a:chOff x="7084440" y="2130120"/>
              <a:chExt cx="1803240" cy="1583640"/>
            </a:xfrm>
          </p:grpSpPr>
          <p:sp>
            <p:nvSpPr>
              <p:cNvPr id="154" name=""/>
              <p:cNvSpPr/>
              <p:nvPr/>
            </p:nvSpPr>
            <p:spPr>
              <a:xfrm flipH="1">
                <a:off x="7121520" y="2890080"/>
                <a:ext cx="14832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7209360" y="2871720"/>
                <a:ext cx="14688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7084440" y="3323160"/>
                <a:ext cx="14832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7330320" y="3184200"/>
                <a:ext cx="14400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7413840" y="3165840"/>
                <a:ext cx="150840" cy="39204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8163360" y="2995200"/>
                <a:ext cx="144000" cy="39312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8250120" y="2980800"/>
                <a:ext cx="144000" cy="38916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7480080" y="3222360"/>
                <a:ext cx="14688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7566840" y="3204000"/>
                <a:ext cx="145440" cy="39204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7587000" y="3134520"/>
                <a:ext cx="150840" cy="39024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8450280" y="2826000"/>
                <a:ext cx="148680" cy="38916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8535960" y="2807640"/>
                <a:ext cx="146880" cy="393120"/>
              </a:xfrm>
              <a:prstGeom prst="line">
                <a:avLst/>
              </a:prstGeom>
              <a:ln w="9360">
                <a:solidFill>
                  <a:srgbClr val="9900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8556480" y="2740680"/>
                <a:ext cx="149760" cy="389160"/>
              </a:xfrm>
              <a:prstGeom prst="line">
                <a:avLst/>
              </a:prstGeom>
              <a:ln w="9360">
                <a:solidFill>
                  <a:srgbClr val="9900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7470360" y="2975400"/>
                <a:ext cx="144000" cy="390600"/>
              </a:xfrm>
              <a:prstGeom prst="line">
                <a:avLst/>
              </a:prstGeom>
              <a:ln w="9360">
                <a:solidFill>
                  <a:srgbClr val="9900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7888680" y="3257640"/>
                <a:ext cx="146880" cy="39060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7911720" y="3317760"/>
                <a:ext cx="145440" cy="39024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707240" y="3239280"/>
                <a:ext cx="14688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7975080" y="3073320"/>
                <a:ext cx="14832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44360" y="2130120"/>
                <a:ext cx="1543320" cy="998640"/>
              </a:xfrm>
              <a:custGeom>
                <a:avLst/>
                <a:gdLst/>
                <a:ahLst/>
                <a:rect l="l" t="t" r="r" b="b"/>
                <a:pathLst>
                  <a:path w="1123" h="703">
                    <a:moveTo>
                      <a:pt x="321" y="19"/>
                    </a:moveTo>
                    <a:cubicBezTo>
                      <a:pt x="165" y="38"/>
                      <a:pt x="155" y="137"/>
                      <a:pt x="155" y="166"/>
                    </a:cubicBezTo>
                    <a:cubicBezTo>
                      <a:pt x="107" y="167"/>
                      <a:pt x="18" y="179"/>
                      <a:pt x="9" y="312"/>
                    </a:cubicBezTo>
                    <a:cubicBezTo>
                      <a:pt x="0" y="445"/>
                      <a:pt x="106" y="449"/>
                      <a:pt x="129" y="476"/>
                    </a:cubicBezTo>
                    <a:cubicBezTo>
                      <a:pt x="135" y="478"/>
                      <a:pt x="117" y="643"/>
                      <a:pt x="292" y="673"/>
                    </a:cubicBezTo>
                    <a:cubicBezTo>
                      <a:pt x="467" y="703"/>
                      <a:pt x="536" y="508"/>
                      <a:pt x="565" y="517"/>
                    </a:cubicBezTo>
                    <a:cubicBezTo>
                      <a:pt x="545" y="508"/>
                      <a:pt x="546" y="563"/>
                      <a:pt x="663" y="566"/>
                    </a:cubicBezTo>
                    <a:cubicBezTo>
                      <a:pt x="780" y="569"/>
                      <a:pt x="751" y="517"/>
                      <a:pt x="764" y="522"/>
                    </a:cubicBezTo>
                    <a:cubicBezTo>
                      <a:pt x="760" y="508"/>
                      <a:pt x="847" y="563"/>
                      <a:pt x="916" y="527"/>
                    </a:cubicBezTo>
                    <a:cubicBezTo>
                      <a:pt x="985" y="491"/>
                      <a:pt x="995" y="439"/>
                      <a:pt x="991" y="431"/>
                    </a:cubicBezTo>
                    <a:cubicBezTo>
                      <a:pt x="985" y="429"/>
                      <a:pt x="1123" y="436"/>
                      <a:pt x="1082" y="283"/>
                    </a:cubicBezTo>
                    <a:cubicBezTo>
                      <a:pt x="1041" y="130"/>
                      <a:pt x="845" y="176"/>
                      <a:pt x="858" y="185"/>
                    </a:cubicBezTo>
                    <a:cubicBezTo>
                      <a:pt x="845" y="166"/>
                      <a:pt x="848" y="78"/>
                      <a:pt x="702" y="58"/>
                    </a:cubicBezTo>
                    <a:cubicBezTo>
                      <a:pt x="556" y="38"/>
                      <a:pt x="526" y="127"/>
                      <a:pt x="516" y="137"/>
                    </a:cubicBezTo>
                    <a:cubicBezTo>
                      <a:pt x="516" y="117"/>
                      <a:pt x="477" y="0"/>
                      <a:pt x="321" y="1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ff"/>
                  </a:gs>
                  <a:gs pos="100000">
                    <a:srgbClr val="81a1a1"/>
                  </a:gs>
                </a:gsLst>
                <a:lin ang="5400000"/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8039880" y="2713680"/>
                <a:ext cx="146880" cy="39060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7979400" y="2695320"/>
                <a:ext cx="14688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7983360" y="2696760"/>
                <a:ext cx="145440" cy="38916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8005320" y="2882880"/>
                <a:ext cx="144000" cy="39204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7516800" y="2678400"/>
                <a:ext cx="14580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7764840" y="2843280"/>
                <a:ext cx="145440" cy="39204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7825320" y="2860200"/>
                <a:ext cx="148320" cy="39024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4495680" y="1844640"/>
              <a:ext cx="1648080" cy="1547280"/>
              <a:chOff x="4495680" y="1844640"/>
              <a:chExt cx="1648080" cy="1547280"/>
            </a:xfrm>
          </p:grpSpPr>
          <p:sp>
            <p:nvSpPr>
              <p:cNvPr id="181" name=""/>
              <p:cNvSpPr/>
              <p:nvPr/>
            </p:nvSpPr>
            <p:spPr>
              <a:xfrm>
                <a:off x="4495680" y="1844640"/>
                <a:ext cx="1648080" cy="1547280"/>
              </a:xfrm>
              <a:custGeom>
                <a:avLst/>
                <a:gdLst/>
                <a:ahLst/>
                <a:rect l="l" t="t" r="r" b="b"/>
                <a:pathLst>
                  <a:path w="1505" h="1328">
                    <a:moveTo>
                      <a:pt x="11" y="293"/>
                    </a:moveTo>
                    <a:cubicBezTo>
                      <a:pt x="9" y="308"/>
                      <a:pt x="407" y="423"/>
                      <a:pt x="411" y="605"/>
                    </a:cubicBezTo>
                    <a:cubicBezTo>
                      <a:pt x="415" y="787"/>
                      <a:pt x="67" y="799"/>
                      <a:pt x="99" y="801"/>
                    </a:cubicBezTo>
                    <a:cubicBezTo>
                      <a:pt x="87" y="789"/>
                      <a:pt x="461" y="811"/>
                      <a:pt x="529" y="918"/>
                    </a:cubicBezTo>
                    <a:cubicBezTo>
                      <a:pt x="597" y="1025"/>
                      <a:pt x="607" y="1328"/>
                      <a:pt x="610" y="1327"/>
                    </a:cubicBezTo>
                    <a:cubicBezTo>
                      <a:pt x="597" y="1308"/>
                      <a:pt x="625" y="1034"/>
                      <a:pt x="860" y="976"/>
                    </a:cubicBezTo>
                    <a:cubicBezTo>
                      <a:pt x="1095" y="918"/>
                      <a:pt x="1333" y="1146"/>
                      <a:pt x="1329" y="1162"/>
                    </a:cubicBezTo>
                    <a:cubicBezTo>
                      <a:pt x="1333" y="1155"/>
                      <a:pt x="1173" y="938"/>
                      <a:pt x="1202" y="801"/>
                    </a:cubicBezTo>
                    <a:cubicBezTo>
                      <a:pt x="1231" y="664"/>
                      <a:pt x="1380" y="635"/>
                      <a:pt x="1388" y="644"/>
                    </a:cubicBezTo>
                    <a:cubicBezTo>
                      <a:pt x="1389" y="626"/>
                      <a:pt x="1237" y="641"/>
                      <a:pt x="1212" y="478"/>
                    </a:cubicBezTo>
                    <a:cubicBezTo>
                      <a:pt x="1187" y="315"/>
                      <a:pt x="1500" y="115"/>
                      <a:pt x="1505" y="117"/>
                    </a:cubicBezTo>
                    <a:cubicBezTo>
                      <a:pt x="1500" y="115"/>
                      <a:pt x="1182" y="296"/>
                      <a:pt x="1056" y="283"/>
                    </a:cubicBezTo>
                    <a:cubicBezTo>
                      <a:pt x="930" y="270"/>
                      <a:pt x="968" y="19"/>
                      <a:pt x="972" y="12"/>
                    </a:cubicBezTo>
                    <a:cubicBezTo>
                      <a:pt x="968" y="0"/>
                      <a:pt x="870" y="235"/>
                      <a:pt x="753" y="254"/>
                    </a:cubicBezTo>
                    <a:cubicBezTo>
                      <a:pt x="636" y="273"/>
                      <a:pt x="441" y="59"/>
                      <a:pt x="428" y="57"/>
                    </a:cubicBezTo>
                    <a:cubicBezTo>
                      <a:pt x="441" y="68"/>
                      <a:pt x="558" y="264"/>
                      <a:pt x="441" y="303"/>
                    </a:cubicBezTo>
                    <a:cubicBezTo>
                      <a:pt x="324" y="342"/>
                      <a:pt x="0" y="299"/>
                      <a:pt x="11" y="29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994640" y="2166840"/>
                <a:ext cx="747720" cy="7725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6240240" y="5429520"/>
              <a:ext cx="860400" cy="867600"/>
              <a:chOff x="6240240" y="5429520"/>
              <a:chExt cx="860400" cy="867600"/>
            </a:xfrm>
          </p:grpSpPr>
          <p:sp>
            <p:nvSpPr>
              <p:cNvPr id="184" name=""/>
              <p:cNvSpPr/>
              <p:nvPr/>
            </p:nvSpPr>
            <p:spPr>
              <a:xfrm rot="1372200">
                <a:off x="6305760" y="5551560"/>
                <a:ext cx="712440" cy="411840"/>
              </a:xfrm>
              <a:custGeom>
                <a:avLst/>
                <a:gdLst/>
                <a:ahLst/>
                <a:rect l="l" t="t" r="r" b="b"/>
                <a:pathLst>
                  <a:path w="615" h="440">
                    <a:moveTo>
                      <a:pt x="77" y="205"/>
                    </a:moveTo>
                    <a:lnTo>
                      <a:pt x="429" y="440"/>
                    </a:lnTo>
                    <a:lnTo>
                      <a:pt x="615" y="304"/>
                    </a:lnTo>
                    <a:cubicBezTo>
                      <a:pt x="335" y="104"/>
                      <a:pt x="254" y="0"/>
                      <a:pt x="127" y="30"/>
                    </a:cubicBezTo>
                    <a:cubicBezTo>
                      <a:pt x="0" y="60"/>
                      <a:pt x="31" y="142"/>
                      <a:pt x="77" y="205"/>
                    </a:cubicBezTo>
                    <a:close/>
                  </a:path>
                </a:pathLst>
              </a:custGeom>
              <a:solidFill>
                <a:srgbClr val="e7ffa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372200">
                <a:off x="6694560" y="5914440"/>
                <a:ext cx="235080" cy="197640"/>
              </a:xfrm>
              <a:custGeom>
                <a:avLst/>
                <a:gdLst/>
                <a:ahLst/>
                <a:rect l="l" t="t" r="r" b="b"/>
                <a:pathLst>
                  <a:path w="203" h="211">
                    <a:moveTo>
                      <a:pt x="12" y="133"/>
                    </a:moveTo>
                    <a:lnTo>
                      <a:pt x="0" y="211"/>
                    </a:lnTo>
                    <a:lnTo>
                      <a:pt x="192" y="72"/>
                    </a:lnTo>
                    <a:lnTo>
                      <a:pt x="203" y="0"/>
                    </a:lnTo>
                    <a:lnTo>
                      <a:pt x="12" y="133"/>
                    </a:lnTo>
                    <a:close/>
                  </a:path>
                </a:pathLst>
              </a:custGeom>
              <a:solidFill>
                <a:srgbClr val="b1f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372200">
                <a:off x="6302160" y="5572080"/>
                <a:ext cx="473760" cy="415800"/>
              </a:xfrm>
              <a:custGeom>
                <a:avLst/>
                <a:gdLst/>
                <a:ahLst/>
                <a:rect l="l" t="t" r="r" b="b"/>
                <a:pathLst>
                  <a:path w="409" h="444">
                    <a:moveTo>
                      <a:pt x="409" y="365"/>
                    </a:moveTo>
                    <a:lnTo>
                      <a:pt x="398" y="444"/>
                    </a:lnTo>
                    <a:lnTo>
                      <a:pt x="50" y="216"/>
                    </a:lnTo>
                    <a:cubicBezTo>
                      <a:pt x="50" y="216"/>
                      <a:pt x="22" y="180"/>
                      <a:pt x="14" y="156"/>
                    </a:cubicBezTo>
                    <a:cubicBezTo>
                      <a:pt x="6" y="132"/>
                      <a:pt x="0" y="97"/>
                      <a:pt x="2" y="72"/>
                    </a:cubicBezTo>
                    <a:cubicBezTo>
                      <a:pt x="4" y="47"/>
                      <a:pt x="29" y="4"/>
                      <a:pt x="34" y="2"/>
                    </a:cubicBezTo>
                    <a:cubicBezTo>
                      <a:pt x="39" y="0"/>
                      <a:pt x="23" y="37"/>
                      <a:pt x="31" y="60"/>
                    </a:cubicBezTo>
                    <a:cubicBezTo>
                      <a:pt x="35" y="87"/>
                      <a:pt x="47" y="114"/>
                      <a:pt x="80" y="141"/>
                    </a:cubicBezTo>
                    <a:cubicBezTo>
                      <a:pt x="113" y="168"/>
                      <a:pt x="409" y="365"/>
                      <a:pt x="409" y="365"/>
                    </a:cubicBezTo>
                    <a:close/>
                  </a:path>
                </a:pathLst>
              </a:custGeom>
              <a:solidFill>
                <a:srgbClr val="d5ff5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372200">
                <a:off x="6734880" y="6040080"/>
                <a:ext cx="340200" cy="198360"/>
              </a:xfrm>
              <a:custGeom>
                <a:avLst/>
                <a:gdLst/>
                <a:ahLst/>
                <a:rect l="l" t="t" r="r" b="b"/>
                <a:pathLst>
                  <a:path w="294" h="212">
                    <a:moveTo>
                      <a:pt x="0" y="33"/>
                    </a:moveTo>
                    <a:lnTo>
                      <a:pt x="55" y="0"/>
                    </a:lnTo>
                    <a:lnTo>
                      <a:pt x="259" y="150"/>
                    </a:lnTo>
                    <a:cubicBezTo>
                      <a:pt x="294" y="182"/>
                      <a:pt x="276" y="185"/>
                      <a:pt x="267" y="195"/>
                    </a:cubicBezTo>
                    <a:cubicBezTo>
                      <a:pt x="258" y="205"/>
                      <a:pt x="247" y="212"/>
                      <a:pt x="204" y="186"/>
                    </a:cubicBez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e28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372200">
                <a:off x="6530400" y="5622120"/>
                <a:ext cx="412200" cy="260280"/>
              </a:xfrm>
              <a:custGeom>
                <a:avLst/>
                <a:gdLst/>
                <a:ahLst/>
                <a:rect l="l" t="t" r="r" b="b"/>
                <a:pathLst>
                  <a:path w="356" h="278">
                    <a:moveTo>
                      <a:pt x="326" y="278"/>
                    </a:moveTo>
                    <a:lnTo>
                      <a:pt x="356" y="254"/>
                    </a:lnTo>
                    <a:lnTo>
                      <a:pt x="68" y="38"/>
                    </a:lnTo>
                    <a:cubicBezTo>
                      <a:pt x="11" y="0"/>
                      <a:pt x="10" y="20"/>
                      <a:pt x="11" y="26"/>
                    </a:cubicBezTo>
                    <a:cubicBezTo>
                      <a:pt x="11" y="21"/>
                      <a:pt x="0" y="33"/>
                      <a:pt x="50" y="74"/>
                    </a:cubicBezTo>
                    <a:lnTo>
                      <a:pt x="326" y="2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dcff7b"/>
                  </a:gs>
                </a:gsLst>
                <a:lin ang="81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372200">
                <a:off x="6422040" y="5640480"/>
                <a:ext cx="412200" cy="260280"/>
              </a:xfrm>
              <a:custGeom>
                <a:avLst/>
                <a:gdLst/>
                <a:ahLst/>
                <a:rect l="l" t="t" r="r" b="b"/>
                <a:pathLst>
                  <a:path w="356" h="278">
                    <a:moveTo>
                      <a:pt x="326" y="278"/>
                    </a:moveTo>
                    <a:lnTo>
                      <a:pt x="356" y="254"/>
                    </a:lnTo>
                    <a:lnTo>
                      <a:pt x="68" y="38"/>
                    </a:lnTo>
                    <a:cubicBezTo>
                      <a:pt x="11" y="0"/>
                      <a:pt x="10" y="20"/>
                      <a:pt x="11" y="26"/>
                    </a:cubicBezTo>
                    <a:cubicBezTo>
                      <a:pt x="11" y="21"/>
                      <a:pt x="0" y="33"/>
                      <a:pt x="50" y="74"/>
                    </a:cubicBezTo>
                    <a:lnTo>
                      <a:pt x="326" y="2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b1f000"/>
                  </a:gs>
                </a:gsLst>
                <a:lin ang="81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福爾摩沙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D2F-95FF-48AF-A398-C7B02FF966B5}" type="slidenum">
              <a:t>7</a:t>
            </a:fld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-36360" y="6381720"/>
            <a:ext cx="369072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華康細圓體"/>
              </a:rPr>
              <a:t>相關網站：</a:t>
            </a:r>
            <a:r>
              <a:rPr b="0" lang="zh-TW" sz="2500" spc="-1" strike="noStrike" u="sng">
                <a:solidFill>
                  <a:srgbClr val="9900cc"/>
                </a:solidFill>
                <a:uFillTx/>
                <a:latin typeface="Arial"/>
                <a:ea typeface="華康細圓體"/>
                <a:hlinkClick r:id="rId1"/>
              </a:rPr>
              <a:t>中央氣象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1911240"/>
            <a:ext cx="3913200" cy="38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        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北迴歸線以北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屬於副熱帶季風氣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候；以南屬於熱帶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季風氣候，南北氣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候差異頗大，緯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越高，溫度越低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06800" y="4317840"/>
            <a:ext cx="122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北迴歸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87880" y="2421000"/>
            <a:ext cx="7318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  <a:ea typeface="華康粗圓體"/>
              </a:rPr>
              <a:t>副熱帶季風氣候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87880" y="4869000"/>
            <a:ext cx="73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  <a:ea typeface="華康粗圓體"/>
              </a:rPr>
              <a:t>熱帶季風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254560" y="1728000"/>
            <a:ext cx="3760920" cy="4984200"/>
            <a:chOff x="5254560" y="1728000"/>
            <a:chExt cx="3760920" cy="4984200"/>
          </a:xfrm>
        </p:grpSpPr>
        <p:sp>
          <p:nvSpPr>
            <p:cNvPr id="196" name=""/>
            <p:cNvSpPr/>
            <p:nvPr/>
          </p:nvSpPr>
          <p:spPr>
            <a:xfrm rot="21309600">
              <a:off x="5901480" y="1842480"/>
              <a:ext cx="2917800" cy="4754520"/>
            </a:xfrm>
            <a:custGeom>
              <a:avLst/>
              <a:gdLst/>
              <a:ahLst/>
              <a:rect l="l" t="t" r="r" b="b"/>
              <a:pathLst>
                <a:path w="1809" h="3112">
                  <a:moveTo>
                    <a:pt x="1402" y="0"/>
                  </a:moveTo>
                  <a:cubicBezTo>
                    <a:pt x="1336" y="22"/>
                    <a:pt x="1364" y="60"/>
                    <a:pt x="1323" y="100"/>
                  </a:cubicBezTo>
                  <a:cubicBezTo>
                    <a:pt x="1301" y="122"/>
                    <a:pt x="1259" y="130"/>
                    <a:pt x="1233" y="139"/>
                  </a:cubicBezTo>
                  <a:cubicBezTo>
                    <a:pt x="1160" y="164"/>
                    <a:pt x="1127" y="187"/>
                    <a:pt x="1045" y="199"/>
                  </a:cubicBezTo>
                  <a:cubicBezTo>
                    <a:pt x="1025" y="206"/>
                    <a:pt x="997" y="202"/>
                    <a:pt x="985" y="219"/>
                  </a:cubicBezTo>
                  <a:cubicBezTo>
                    <a:pt x="938" y="288"/>
                    <a:pt x="965" y="265"/>
                    <a:pt x="916" y="298"/>
                  </a:cubicBezTo>
                  <a:cubicBezTo>
                    <a:pt x="877" y="357"/>
                    <a:pt x="874" y="459"/>
                    <a:pt x="826" y="507"/>
                  </a:cubicBezTo>
                  <a:cubicBezTo>
                    <a:pt x="793" y="540"/>
                    <a:pt x="740" y="546"/>
                    <a:pt x="697" y="556"/>
                  </a:cubicBezTo>
                  <a:cubicBezTo>
                    <a:pt x="648" y="629"/>
                    <a:pt x="624" y="704"/>
                    <a:pt x="548" y="755"/>
                  </a:cubicBezTo>
                  <a:cubicBezTo>
                    <a:pt x="533" y="800"/>
                    <a:pt x="504" y="835"/>
                    <a:pt x="479" y="874"/>
                  </a:cubicBezTo>
                  <a:cubicBezTo>
                    <a:pt x="454" y="913"/>
                    <a:pt x="459" y="963"/>
                    <a:pt x="439" y="1003"/>
                  </a:cubicBezTo>
                  <a:cubicBezTo>
                    <a:pt x="415" y="1051"/>
                    <a:pt x="402" y="1060"/>
                    <a:pt x="369" y="1093"/>
                  </a:cubicBezTo>
                  <a:cubicBezTo>
                    <a:pt x="354" y="1139"/>
                    <a:pt x="331" y="1130"/>
                    <a:pt x="310" y="1172"/>
                  </a:cubicBezTo>
                  <a:cubicBezTo>
                    <a:pt x="280" y="1233"/>
                    <a:pt x="249" y="1301"/>
                    <a:pt x="191" y="1341"/>
                  </a:cubicBezTo>
                  <a:cubicBezTo>
                    <a:pt x="182" y="1367"/>
                    <a:pt x="183" y="1396"/>
                    <a:pt x="171" y="1420"/>
                  </a:cubicBezTo>
                  <a:cubicBezTo>
                    <a:pt x="165" y="1433"/>
                    <a:pt x="150" y="1439"/>
                    <a:pt x="141" y="1450"/>
                  </a:cubicBezTo>
                  <a:cubicBezTo>
                    <a:pt x="119" y="1476"/>
                    <a:pt x="121" y="1480"/>
                    <a:pt x="111" y="1510"/>
                  </a:cubicBezTo>
                  <a:cubicBezTo>
                    <a:pt x="117" y="1556"/>
                    <a:pt x="131" y="1602"/>
                    <a:pt x="131" y="1649"/>
                  </a:cubicBezTo>
                  <a:cubicBezTo>
                    <a:pt x="131" y="1753"/>
                    <a:pt x="115" y="1665"/>
                    <a:pt x="81" y="1768"/>
                  </a:cubicBezTo>
                  <a:cubicBezTo>
                    <a:pt x="69" y="1805"/>
                    <a:pt x="64" y="1835"/>
                    <a:pt x="42" y="1867"/>
                  </a:cubicBezTo>
                  <a:cubicBezTo>
                    <a:pt x="34" y="1907"/>
                    <a:pt x="0" y="1999"/>
                    <a:pt x="32" y="2036"/>
                  </a:cubicBezTo>
                  <a:cubicBezTo>
                    <a:pt x="46" y="2052"/>
                    <a:pt x="91" y="2056"/>
                    <a:pt x="91" y="2056"/>
                  </a:cubicBezTo>
                  <a:cubicBezTo>
                    <a:pt x="120" y="2144"/>
                    <a:pt x="109" y="2095"/>
                    <a:pt x="121" y="2205"/>
                  </a:cubicBezTo>
                  <a:cubicBezTo>
                    <a:pt x="90" y="2298"/>
                    <a:pt x="131" y="2379"/>
                    <a:pt x="181" y="2453"/>
                  </a:cubicBezTo>
                  <a:cubicBezTo>
                    <a:pt x="217" y="2507"/>
                    <a:pt x="155" y="2462"/>
                    <a:pt x="220" y="2513"/>
                  </a:cubicBezTo>
                  <a:cubicBezTo>
                    <a:pt x="241" y="2530"/>
                    <a:pt x="284" y="2555"/>
                    <a:pt x="310" y="2572"/>
                  </a:cubicBezTo>
                  <a:cubicBezTo>
                    <a:pt x="320" y="2579"/>
                    <a:pt x="340" y="2592"/>
                    <a:pt x="340" y="2592"/>
                  </a:cubicBezTo>
                  <a:cubicBezTo>
                    <a:pt x="378" y="2653"/>
                    <a:pt x="396" y="2646"/>
                    <a:pt x="449" y="2682"/>
                  </a:cubicBezTo>
                  <a:cubicBezTo>
                    <a:pt x="462" y="2702"/>
                    <a:pt x="476" y="2721"/>
                    <a:pt x="489" y="2741"/>
                  </a:cubicBezTo>
                  <a:cubicBezTo>
                    <a:pt x="514" y="2777"/>
                    <a:pt x="505" y="2821"/>
                    <a:pt x="518" y="2860"/>
                  </a:cubicBezTo>
                  <a:cubicBezTo>
                    <a:pt x="522" y="2871"/>
                    <a:pt x="533" y="2879"/>
                    <a:pt x="538" y="2890"/>
                  </a:cubicBezTo>
                  <a:cubicBezTo>
                    <a:pt x="543" y="2899"/>
                    <a:pt x="545" y="2910"/>
                    <a:pt x="548" y="2920"/>
                  </a:cubicBezTo>
                  <a:cubicBezTo>
                    <a:pt x="545" y="2940"/>
                    <a:pt x="543" y="2960"/>
                    <a:pt x="538" y="2980"/>
                  </a:cubicBezTo>
                  <a:cubicBezTo>
                    <a:pt x="533" y="3000"/>
                    <a:pt x="518" y="3039"/>
                    <a:pt x="518" y="3039"/>
                  </a:cubicBezTo>
                  <a:cubicBezTo>
                    <a:pt x="542" y="3112"/>
                    <a:pt x="508" y="3039"/>
                    <a:pt x="638" y="3079"/>
                  </a:cubicBezTo>
                  <a:cubicBezTo>
                    <a:pt x="649" y="3083"/>
                    <a:pt x="651" y="3099"/>
                    <a:pt x="657" y="3109"/>
                  </a:cubicBezTo>
                  <a:cubicBezTo>
                    <a:pt x="671" y="3066"/>
                    <a:pt x="671" y="3028"/>
                    <a:pt x="697" y="2990"/>
                  </a:cubicBezTo>
                  <a:cubicBezTo>
                    <a:pt x="716" y="2932"/>
                    <a:pt x="702" y="2873"/>
                    <a:pt x="737" y="2821"/>
                  </a:cubicBezTo>
                  <a:cubicBezTo>
                    <a:pt x="741" y="2748"/>
                    <a:pt x="731" y="2671"/>
                    <a:pt x="757" y="2602"/>
                  </a:cubicBezTo>
                  <a:cubicBezTo>
                    <a:pt x="766" y="2577"/>
                    <a:pt x="786" y="2557"/>
                    <a:pt x="796" y="2533"/>
                  </a:cubicBezTo>
                  <a:cubicBezTo>
                    <a:pt x="814" y="2490"/>
                    <a:pt x="829" y="2444"/>
                    <a:pt x="866" y="2414"/>
                  </a:cubicBezTo>
                  <a:cubicBezTo>
                    <a:pt x="902" y="2385"/>
                    <a:pt x="947" y="2379"/>
                    <a:pt x="985" y="2354"/>
                  </a:cubicBezTo>
                  <a:cubicBezTo>
                    <a:pt x="1008" y="2320"/>
                    <a:pt x="1007" y="2290"/>
                    <a:pt x="1025" y="2255"/>
                  </a:cubicBezTo>
                  <a:cubicBezTo>
                    <a:pt x="1053" y="2199"/>
                    <a:pt x="1122" y="2120"/>
                    <a:pt x="1174" y="2086"/>
                  </a:cubicBezTo>
                  <a:cubicBezTo>
                    <a:pt x="1189" y="2040"/>
                    <a:pt x="1214" y="2006"/>
                    <a:pt x="1223" y="1957"/>
                  </a:cubicBezTo>
                  <a:cubicBezTo>
                    <a:pt x="1229" y="1922"/>
                    <a:pt x="1231" y="1860"/>
                    <a:pt x="1253" y="1828"/>
                  </a:cubicBezTo>
                  <a:cubicBezTo>
                    <a:pt x="1281" y="1787"/>
                    <a:pt x="1308" y="1754"/>
                    <a:pt x="1323" y="1708"/>
                  </a:cubicBezTo>
                  <a:cubicBezTo>
                    <a:pt x="1334" y="1630"/>
                    <a:pt x="1357" y="1555"/>
                    <a:pt x="1382" y="1480"/>
                  </a:cubicBezTo>
                  <a:cubicBezTo>
                    <a:pt x="1386" y="1467"/>
                    <a:pt x="1388" y="1453"/>
                    <a:pt x="1392" y="1440"/>
                  </a:cubicBezTo>
                  <a:cubicBezTo>
                    <a:pt x="1398" y="1420"/>
                    <a:pt x="1412" y="1381"/>
                    <a:pt x="1412" y="1381"/>
                  </a:cubicBezTo>
                  <a:cubicBezTo>
                    <a:pt x="1415" y="1344"/>
                    <a:pt x="1416" y="1307"/>
                    <a:pt x="1422" y="1271"/>
                  </a:cubicBezTo>
                  <a:cubicBezTo>
                    <a:pt x="1426" y="1251"/>
                    <a:pt x="1435" y="1232"/>
                    <a:pt x="1442" y="1212"/>
                  </a:cubicBezTo>
                  <a:cubicBezTo>
                    <a:pt x="1445" y="1202"/>
                    <a:pt x="1452" y="1182"/>
                    <a:pt x="1452" y="1182"/>
                  </a:cubicBezTo>
                  <a:cubicBezTo>
                    <a:pt x="1467" y="1080"/>
                    <a:pt x="1507" y="978"/>
                    <a:pt x="1581" y="904"/>
                  </a:cubicBezTo>
                  <a:cubicBezTo>
                    <a:pt x="1584" y="894"/>
                    <a:pt x="1586" y="883"/>
                    <a:pt x="1591" y="874"/>
                  </a:cubicBezTo>
                  <a:cubicBezTo>
                    <a:pt x="1603" y="853"/>
                    <a:pt x="1631" y="815"/>
                    <a:pt x="1631" y="815"/>
                  </a:cubicBezTo>
                  <a:cubicBezTo>
                    <a:pt x="1649" y="762"/>
                    <a:pt x="1668" y="712"/>
                    <a:pt x="1700" y="666"/>
                  </a:cubicBezTo>
                  <a:cubicBezTo>
                    <a:pt x="1715" y="622"/>
                    <a:pt x="1708" y="611"/>
                    <a:pt x="1670" y="586"/>
                  </a:cubicBezTo>
                  <a:cubicBezTo>
                    <a:pt x="1667" y="576"/>
                    <a:pt x="1660" y="567"/>
                    <a:pt x="1660" y="556"/>
                  </a:cubicBezTo>
                  <a:cubicBezTo>
                    <a:pt x="1660" y="536"/>
                    <a:pt x="1659" y="358"/>
                    <a:pt x="1720" y="338"/>
                  </a:cubicBezTo>
                  <a:cubicBezTo>
                    <a:pt x="1760" y="325"/>
                    <a:pt x="1780" y="308"/>
                    <a:pt x="1809" y="278"/>
                  </a:cubicBezTo>
                  <a:cubicBezTo>
                    <a:pt x="1758" y="260"/>
                    <a:pt x="1786" y="276"/>
                    <a:pt x="1740" y="209"/>
                  </a:cubicBezTo>
                  <a:cubicBezTo>
                    <a:pt x="1734" y="200"/>
                    <a:pt x="1739" y="185"/>
                    <a:pt x="1730" y="179"/>
                  </a:cubicBezTo>
                  <a:cubicBezTo>
                    <a:pt x="1703" y="160"/>
                    <a:pt x="1637" y="148"/>
                    <a:pt x="1601" y="139"/>
                  </a:cubicBezTo>
                  <a:cubicBezTo>
                    <a:pt x="1569" y="117"/>
                    <a:pt x="1553" y="92"/>
                    <a:pt x="1521" y="70"/>
                  </a:cubicBezTo>
                  <a:cubicBezTo>
                    <a:pt x="1515" y="60"/>
                    <a:pt x="1511" y="48"/>
                    <a:pt x="1502" y="40"/>
                  </a:cubicBezTo>
                  <a:cubicBezTo>
                    <a:pt x="1484" y="24"/>
                    <a:pt x="1442" y="0"/>
                    <a:pt x="1442" y="0"/>
                  </a:cubicBezTo>
                  <a:cubicBezTo>
                    <a:pt x="1399" y="11"/>
                    <a:pt x="1402" y="24"/>
                    <a:pt x="1402" y="0"/>
                  </a:cubicBez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79680" y="1779480"/>
              <a:ext cx="2568240" cy="2730600"/>
            </a:xfrm>
            <a:custGeom>
              <a:avLst/>
              <a:gdLst/>
              <a:ahLst/>
              <a:rect l="l" t="t" r="r" b="b"/>
              <a:pathLst>
                <a:path w="1618" h="1720">
                  <a:moveTo>
                    <a:pt x="1211" y="1718"/>
                  </a:moveTo>
                  <a:cubicBezTo>
                    <a:pt x="1216" y="1706"/>
                    <a:pt x="1230" y="1697"/>
                    <a:pt x="1242" y="1648"/>
                  </a:cubicBezTo>
                  <a:cubicBezTo>
                    <a:pt x="1247" y="1572"/>
                    <a:pt x="1265" y="1499"/>
                    <a:pt x="1284" y="1424"/>
                  </a:cubicBezTo>
                  <a:cubicBezTo>
                    <a:pt x="1286" y="1411"/>
                    <a:pt x="1287" y="1397"/>
                    <a:pt x="1290" y="1385"/>
                  </a:cubicBezTo>
                  <a:cubicBezTo>
                    <a:pt x="1295" y="1366"/>
                    <a:pt x="1306" y="1326"/>
                    <a:pt x="1306" y="1326"/>
                  </a:cubicBezTo>
                  <a:cubicBezTo>
                    <a:pt x="1306" y="1290"/>
                    <a:pt x="1304" y="1255"/>
                    <a:pt x="1307" y="1220"/>
                  </a:cubicBezTo>
                  <a:cubicBezTo>
                    <a:pt x="1310" y="1201"/>
                    <a:pt x="1317" y="1182"/>
                    <a:pt x="1322" y="1162"/>
                  </a:cubicBezTo>
                  <a:cubicBezTo>
                    <a:pt x="1325" y="1152"/>
                    <a:pt x="1330" y="1133"/>
                    <a:pt x="1330" y="1133"/>
                  </a:cubicBezTo>
                  <a:cubicBezTo>
                    <a:pt x="1338" y="1033"/>
                    <a:pt x="1369" y="932"/>
                    <a:pt x="1438" y="855"/>
                  </a:cubicBezTo>
                  <a:cubicBezTo>
                    <a:pt x="1440" y="844"/>
                    <a:pt x="1441" y="834"/>
                    <a:pt x="1446" y="825"/>
                  </a:cubicBezTo>
                  <a:cubicBezTo>
                    <a:pt x="1457" y="804"/>
                    <a:pt x="1482" y="765"/>
                    <a:pt x="1482" y="765"/>
                  </a:cubicBezTo>
                  <a:cubicBezTo>
                    <a:pt x="1495" y="712"/>
                    <a:pt x="1511" y="663"/>
                    <a:pt x="1539" y="616"/>
                  </a:cubicBezTo>
                  <a:cubicBezTo>
                    <a:pt x="1551" y="573"/>
                    <a:pt x="1543" y="563"/>
                    <a:pt x="1503" y="542"/>
                  </a:cubicBezTo>
                  <a:cubicBezTo>
                    <a:pt x="1499" y="532"/>
                    <a:pt x="1491" y="525"/>
                    <a:pt x="1490" y="514"/>
                  </a:cubicBezTo>
                  <a:cubicBezTo>
                    <a:pt x="1489" y="495"/>
                    <a:pt x="1473" y="325"/>
                    <a:pt x="1533" y="300"/>
                  </a:cubicBezTo>
                  <a:cubicBezTo>
                    <a:pt x="1572" y="284"/>
                    <a:pt x="1592" y="266"/>
                    <a:pt x="1618" y="235"/>
                  </a:cubicBezTo>
                  <a:cubicBezTo>
                    <a:pt x="1565" y="222"/>
                    <a:pt x="1595" y="235"/>
                    <a:pt x="1543" y="174"/>
                  </a:cubicBezTo>
                  <a:cubicBezTo>
                    <a:pt x="1536" y="166"/>
                    <a:pt x="1540" y="152"/>
                    <a:pt x="1530" y="146"/>
                  </a:cubicBezTo>
                  <a:cubicBezTo>
                    <a:pt x="1501" y="131"/>
                    <a:pt x="1433" y="124"/>
                    <a:pt x="1397" y="120"/>
                  </a:cubicBezTo>
                  <a:cubicBezTo>
                    <a:pt x="1362" y="101"/>
                    <a:pt x="1344" y="79"/>
                    <a:pt x="1309" y="60"/>
                  </a:cubicBezTo>
                  <a:cubicBezTo>
                    <a:pt x="1303" y="51"/>
                    <a:pt x="1298" y="40"/>
                    <a:pt x="1288" y="32"/>
                  </a:cubicBezTo>
                  <a:cubicBezTo>
                    <a:pt x="1269" y="19"/>
                    <a:pt x="1224" y="0"/>
                    <a:pt x="1224" y="0"/>
                  </a:cubicBezTo>
                  <a:cubicBezTo>
                    <a:pt x="1181" y="14"/>
                    <a:pt x="1185" y="26"/>
                    <a:pt x="1183" y="3"/>
                  </a:cubicBezTo>
                  <a:cubicBezTo>
                    <a:pt x="1118" y="30"/>
                    <a:pt x="1150" y="64"/>
                    <a:pt x="1111" y="106"/>
                  </a:cubicBezTo>
                  <a:cubicBezTo>
                    <a:pt x="1091" y="128"/>
                    <a:pt x="1049" y="140"/>
                    <a:pt x="1024" y="151"/>
                  </a:cubicBezTo>
                  <a:cubicBezTo>
                    <a:pt x="952" y="181"/>
                    <a:pt x="920" y="206"/>
                    <a:pt x="839" y="225"/>
                  </a:cubicBezTo>
                  <a:cubicBezTo>
                    <a:pt x="818" y="233"/>
                    <a:pt x="790" y="231"/>
                    <a:pt x="779" y="249"/>
                  </a:cubicBezTo>
                  <a:cubicBezTo>
                    <a:pt x="737" y="319"/>
                    <a:pt x="762" y="295"/>
                    <a:pt x="716" y="331"/>
                  </a:cubicBezTo>
                  <a:cubicBezTo>
                    <a:pt x="681" y="391"/>
                    <a:pt x="686" y="489"/>
                    <a:pt x="641" y="539"/>
                  </a:cubicBezTo>
                  <a:cubicBezTo>
                    <a:pt x="611" y="574"/>
                    <a:pt x="558" y="583"/>
                    <a:pt x="515" y="597"/>
                  </a:cubicBezTo>
                  <a:cubicBezTo>
                    <a:pt x="471" y="671"/>
                    <a:pt x="453" y="746"/>
                    <a:pt x="381" y="801"/>
                  </a:cubicBezTo>
                  <a:cubicBezTo>
                    <a:pt x="369" y="845"/>
                    <a:pt x="342" y="881"/>
                    <a:pt x="321" y="920"/>
                  </a:cubicBezTo>
                  <a:cubicBezTo>
                    <a:pt x="298" y="960"/>
                    <a:pt x="307" y="1008"/>
                    <a:pt x="290" y="1047"/>
                  </a:cubicBezTo>
                  <a:cubicBezTo>
                    <a:pt x="270" y="1095"/>
                    <a:pt x="257" y="1105"/>
                    <a:pt x="227" y="1140"/>
                  </a:cubicBezTo>
                  <a:cubicBezTo>
                    <a:pt x="216" y="1185"/>
                    <a:pt x="191" y="1179"/>
                    <a:pt x="173" y="1221"/>
                  </a:cubicBezTo>
                  <a:cubicBezTo>
                    <a:pt x="147" y="1282"/>
                    <a:pt x="122" y="1350"/>
                    <a:pt x="67" y="1394"/>
                  </a:cubicBezTo>
                  <a:cubicBezTo>
                    <a:pt x="60" y="1419"/>
                    <a:pt x="63" y="1447"/>
                    <a:pt x="53" y="1471"/>
                  </a:cubicBezTo>
                  <a:cubicBezTo>
                    <a:pt x="48" y="1483"/>
                    <a:pt x="33" y="1491"/>
                    <a:pt x="25" y="1501"/>
                  </a:cubicBezTo>
                  <a:cubicBezTo>
                    <a:pt x="5" y="1529"/>
                    <a:pt x="7" y="1532"/>
                    <a:pt x="0" y="1562"/>
                  </a:cubicBezTo>
                  <a:cubicBezTo>
                    <a:pt x="9" y="1606"/>
                    <a:pt x="27" y="1649"/>
                    <a:pt x="31" y="1694"/>
                  </a:cubicBezTo>
                  <a:cubicBezTo>
                    <a:pt x="36" y="1720"/>
                    <a:pt x="31" y="1714"/>
                    <a:pt x="31" y="1718"/>
                  </a:cubicBezTo>
                  <a:cubicBezTo>
                    <a:pt x="31" y="1718"/>
                    <a:pt x="1211" y="1718"/>
                    <a:pt x="1211" y="1718"/>
                  </a:cubicBezTo>
                  <a:close/>
                </a:path>
              </a:pathLst>
            </a:custGeom>
            <a:solidFill>
              <a:srgbClr val="00cc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54560" y="4510080"/>
              <a:ext cx="35272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cc"/>
                </a:solidFill>
                <a:latin typeface="Times New Roman"/>
                <a:ea typeface="華康POP1體W5"/>
              </a:rPr>
              <a:t>影響氣候的因素：緯度</a:t>
            </a:r>
            <a:endParaRPr b="0" lang="en-US" sz="6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福爾摩沙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B5BB-76AA-4013-B786-D481D488CFD8}" type="slidenum">
              <a:t>8</a:t>
            </a:fld>
          </a:p>
        </p:txBody>
      </p:sp>
    </p:spTree>
  </p:cSld>
  <p:transition spd="slow">
    <p:randomBa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36360" y="6381720"/>
            <a:ext cx="3549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華康細圓體"/>
              </a:rPr>
              <a:t>相關網站：中央氣象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1684440"/>
            <a:ext cx="4430880" cy="38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812880" indent="-812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        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夏季時西南季風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經南海吹向臺灣，帶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來充沛水氣；冬季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東北季風經東海吹來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，常使北部地區冬雨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連綿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510000" y="1484280"/>
            <a:ext cx="5383080" cy="5022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840" y="188640"/>
            <a:ext cx="89838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cc"/>
                </a:solidFill>
                <a:latin typeface="Times New Roman"/>
                <a:ea typeface="華康POP1體W5"/>
              </a:rPr>
              <a:t>影響氣候的因素：季風</a:t>
            </a:r>
            <a:endParaRPr b="0" lang="en-US" sz="6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福爾摩沙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4395-90DD-4B87-A1D6-942486EDDDE7}" type="slidenum">
              <a:t>9</a:t>
            </a:fld>
          </a:p>
        </p:txBody>
      </p:sp>
    </p:spTree>
  </p:cSld>
  <p:transition spd="slow">
    <p:randomBa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10:04:51Z</dcterms:created>
  <dc:creator>黛琳</dc:creator>
  <dc:description/>
  <dc:language>en-US</dc:language>
  <cp:lastModifiedBy>思蓉</cp:lastModifiedBy>
  <dcterms:modified xsi:type="dcterms:W3CDTF">2005-03-04T03:33:46Z</dcterms:modified>
  <cp:revision>110</cp:revision>
  <dc:subject/>
  <dc:title>福爾摩沙</dc:title>
</cp:coreProperties>
</file>