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9A23-C1F4-4B44-8352-51BE8A18E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91AF-3452-4F9E-B104-1F036723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68C4-C2A2-4273-9C79-E19B3BD12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696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4524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48868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56696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4524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1789-379E-4EBA-BCB4-F3A16A04C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E250-051A-4736-B399-5A76ABC7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25BB-E66C-4CDA-AE37-59E3BC36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2B6D-4476-4746-B201-2F0C5F26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7E57-13B0-44BD-A665-CCE1CB5C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91A5-0415-4E6A-898E-BC2BA43A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2455920" y="596880"/>
            <a:ext cx="6192720" cy="166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40A6-82C9-4B02-879B-F79B9F8B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CB15-ED34-4768-91FD-ACA785DC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F89F-8FF7-4B55-B542-29AD7312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D97B-889D-414F-AC45-F268A1A4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36DC-C283-477A-B261-C813B5BB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CF58-3C21-4255-BBD1-5A2F0081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17E1-5238-46F4-869F-2AA76E08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6696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64524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248868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56696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64524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3E7A-FAB0-4F43-8233-A32383165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32C7-5496-4AB5-AC9E-385369E3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B00B-3C07-4090-AA18-0F6548FE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C24A-81A6-417B-8DC5-4DD2C7C3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455920" y="596880"/>
            <a:ext cx="6192720" cy="166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CD92-8945-4CAD-B0D4-17984C53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0CF4-D73B-4695-B801-8B602F99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0F7A-0EEC-44A5-AB86-D0D1C37C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7E87-E901-4B17-9EB5-2146F325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414C-1AF9-4BF8-8B56-7682015D7036}" type="slidenum">
              <a:rPr b="0" lang="zh-TW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75BC-7702-4053-BC77-2165977242E8}" type="slidenum">
              <a:rPr b="0" lang="zh-TW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99"/>
                </a:solidFill>
                <a:latin typeface="Verdana"/>
                <a:ea typeface="標楷體"/>
              </a:rPr>
              <a:t>體驗者：蔡小哲</a:t>
            </a: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穿蓑衣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3130560" cy="4176720"/>
          </a:xfrm>
          <a:prstGeom prst="rect">
            <a:avLst/>
          </a:prstGeom>
          <a:ln w="57240">
            <a:solidFill>
              <a:srgbClr val="006699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5148360" y="1989000"/>
            <a:ext cx="3600360" cy="2160720"/>
          </a:xfrm>
          <a:prstGeom prst="wedgeRoundRectCallout">
            <a:avLst>
              <a:gd name="adj1" fmla="val -89064"/>
              <a:gd name="adj2" fmla="val -1874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99"/>
                </a:solidFill>
                <a:latin typeface="Verdana"/>
                <a:ea typeface="標楷體"/>
              </a:rPr>
              <a:t>這是</a:t>
            </a:r>
            <a:r>
              <a:rPr b="0" lang="zh-TW" sz="2400" spc="-1" strike="noStrike">
                <a:solidFill>
                  <a:srgbClr val="993300"/>
                </a:solidFill>
                <a:latin typeface="Verdana"/>
                <a:ea typeface="標楷體"/>
              </a:rPr>
              <a:t>古時候的雨衣</a:t>
            </a:r>
            <a:r>
              <a:rPr b="0" lang="zh-TW" sz="2400" spc="-1" strike="noStrike">
                <a:solidFill>
                  <a:srgbClr val="006699"/>
                </a:solidFill>
                <a:latin typeface="Verdana"/>
                <a:ea typeface="標楷體"/>
              </a:rPr>
              <a:t>喔！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99"/>
                </a:solidFill>
                <a:latin typeface="Verdana"/>
                <a:ea typeface="標楷體"/>
              </a:rPr>
              <a:t>它沒有雨帽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99"/>
                </a:solidFill>
                <a:latin typeface="Verdana"/>
                <a:ea typeface="標楷體"/>
              </a:rPr>
              <a:t>所以我戴上斗笠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99"/>
                </a:solidFill>
                <a:latin typeface="Verdana"/>
                <a:ea typeface="標楷體"/>
              </a:rPr>
              <a:t>這樣的我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3300"/>
                </a:solidFill>
                <a:latin typeface="Verdana"/>
                <a:ea typeface="標楷體"/>
              </a:rPr>
              <a:t>很卡哇依吧！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耍皮影偶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3814560" cy="2886120"/>
          </a:xfrm>
          <a:prstGeom prst="rect">
            <a:avLst/>
          </a:prstGeom>
          <a:ln w="28440">
            <a:solidFill>
              <a:srgbClr val="006699"/>
            </a:solidFill>
            <a:prstDash val="dash"/>
            <a:miter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788000" y="3500280"/>
            <a:ext cx="3600360" cy="2722680"/>
          </a:xfrm>
          <a:prstGeom prst="rect">
            <a:avLst/>
          </a:prstGeom>
          <a:ln w="28440">
            <a:solidFill>
              <a:srgbClr val="006666"/>
            </a:solidFill>
            <a:prstDash val="lgDash"/>
            <a:miter/>
          </a:ln>
        </p:spPr>
      </p:pic>
      <p:sp>
        <p:nvSpPr>
          <p:cNvPr id="174" name=""/>
          <p:cNvSpPr txBox="1"/>
          <p:nvPr/>
        </p:nvSpPr>
        <p:spPr>
          <a:xfrm>
            <a:off x="5364000" y="2492280"/>
            <a:ext cx="2592720" cy="8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標楷體"/>
              </a:rPr>
              <a:t>龜兔賽跑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打陀螺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5472360" cy="4006800"/>
          </a:xfrm>
          <a:prstGeom prst="rect">
            <a:avLst/>
          </a:prstGeom>
          <a:ln cap="rnd" w="57240">
            <a:solidFill>
              <a:srgbClr val="006699"/>
            </a:solidFill>
            <a:custDash>
              <a:ds d="100000" sp="1000"/>
            </a:custDash>
            <a:miter/>
          </a:ln>
        </p:spPr>
      </p:pic>
      <p:sp>
        <p:nvSpPr>
          <p:cNvPr id="177" name=""/>
          <p:cNvSpPr/>
          <p:nvPr/>
        </p:nvSpPr>
        <p:spPr>
          <a:xfrm rot="20228400">
            <a:off x="4427280" y="4436640"/>
            <a:ext cx="4392360" cy="1297080"/>
          </a:xfrm>
          <a:custGeom>
            <a:avLst/>
            <a:gdLst>
              <a:gd name="textAreaLeft" fmla="*/ 0 w 4392360"/>
              <a:gd name="textAreaRight" fmla="*/ 4392720 w 4392360"/>
              <a:gd name="textAreaTop" fmla="*/ 168120 h 1297080"/>
              <a:gd name="textAreaBottom" fmla="*/ 112896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dfad2"/>
          </a:solidFill>
          <a:ln w="0">
            <a:noFill/>
          </a:ln>
          <a:effectLst>
            <a:outerShdw dist="17819" dir="2700000" blurRad="0" rotWithShape="0">
              <a:srgbClr val="8d95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6699"/>
                </a:solidFill>
                <a:latin typeface="Verdana"/>
                <a:ea typeface="標楷體"/>
              </a:rPr>
              <a:t>轉轉轉！看我</a:t>
            </a:r>
            <a:r>
              <a:rPr b="0" lang="zh-TW" sz="2600" spc="-1" strike="noStrike">
                <a:solidFill>
                  <a:srgbClr val="993300"/>
                </a:solidFill>
                <a:latin typeface="Verdana"/>
                <a:ea typeface="標楷體"/>
              </a:rPr>
              <a:t>帥氣打陀螺～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搖鏂囉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3384360" cy="2498760"/>
          </a:xfrm>
          <a:prstGeom prst="rect">
            <a:avLst/>
          </a:prstGeom>
          <a:ln w="38160">
            <a:solidFill>
              <a:srgbClr val="cc99ff"/>
            </a:solidFill>
            <a:prstDash val="lgDashDotDot"/>
            <a:miter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356000" y="3213000"/>
            <a:ext cx="3961080" cy="2922840"/>
          </a:xfrm>
          <a:prstGeom prst="rect">
            <a:avLst/>
          </a:prstGeom>
          <a:ln w="38160">
            <a:solidFill>
              <a:srgbClr val="cc99ff"/>
            </a:solidFill>
            <a:prstDash val="lgDashDotDot"/>
            <a:miter/>
          </a:ln>
        </p:spPr>
      </p:pic>
      <p:sp>
        <p:nvSpPr>
          <p:cNvPr id="181" name=""/>
          <p:cNvSpPr txBox="1"/>
          <p:nvPr/>
        </p:nvSpPr>
        <p:spPr>
          <a:xfrm>
            <a:off x="4932360" y="1700280"/>
            <a:ext cx="3456000" cy="119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標楷體"/>
              </a:rPr>
              <a:t>鏂囉鏂囉，賣雜貨喔！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解貴妃秤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4895640" cy="3555720"/>
          </a:xfrm>
          <a:prstGeom prst="rect">
            <a:avLst/>
          </a:prstGeom>
          <a:ln w="28440">
            <a:solidFill>
              <a:srgbClr val="006699"/>
            </a:solidFill>
            <a:prstDash val="dash"/>
            <a:miter/>
          </a:ln>
        </p:spPr>
      </p:pic>
      <p:sp>
        <p:nvSpPr>
          <p:cNvPr id="184" name=""/>
          <p:cNvSpPr/>
          <p:nvPr/>
        </p:nvSpPr>
        <p:spPr>
          <a:xfrm>
            <a:off x="5219640" y="3213000"/>
            <a:ext cx="3673440" cy="3311640"/>
          </a:xfrm>
          <a:prstGeom prst="irregularSeal2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8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3300"/>
                </a:solidFill>
                <a:latin typeface="Verdana"/>
              </a:rPr>
              <a:t>看我聰明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3300"/>
                </a:solidFill>
                <a:latin typeface="Verdana"/>
              </a:rPr>
              <a:t>解貴妃秤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民俗體驗評價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600200"/>
          <a:ext cx="8229600" cy="445608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200" spc="-1" strike="noStrike">
                <a:solidFill>
                  <a:srgbClr val="006666"/>
                </a:solidFill>
                <a:latin typeface="Verdana"/>
              </a:rPr>
              <a:t>報告完畢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Verdana"/>
              </a:rPr>
              <a:t>～謝謝大家～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01:43:41Z</dcterms:created>
  <dc:creator>user</dc:creator>
  <dc:description/>
  <dc:language>en-US</dc:language>
  <cp:lastModifiedBy>user</cp:lastModifiedBy>
  <dcterms:modified xsi:type="dcterms:W3CDTF">2006-02-06T05:59:27Z</dcterms:modified>
  <cp:revision>58</cp:revision>
  <dc:subject/>
  <dc:title>古時候的雨衣－蓑衣</dc:title>
</cp:coreProperties>
</file>