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F1F-95E4-489E-9EDB-76A8F04C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946-153C-4259-AD4D-5BF9D018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263-2530-42D2-9E5F-D1343955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370-FC95-4E82-AA44-B2910E2A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7E0-D63E-47F7-B43E-77C650D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56B-319C-4308-9A38-703AD422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D6C-D0A0-4C98-87E9-405838E5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25F-3F45-4C24-93F5-FEE40ED0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F69-52D1-4731-AB44-C7C2FBF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9E8-E4A4-453F-A45F-FA51651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81C-3036-4DA9-A6F2-8071519C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F6E-CCB7-4168-87D8-F7876C2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D49B-6D80-4C0A-8D05-30CFEF024DA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67344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5:49:19Z</dcterms:created>
  <dc:creator>思蓉</dc:creator>
  <dc:description/>
  <dc:language>en-US</dc:language>
  <cp:lastModifiedBy>思蓉</cp:lastModifiedBy>
  <dcterms:modified xsi:type="dcterms:W3CDTF">2005-03-01T08:07:00Z</dcterms:modified>
  <cp:revision>3</cp:revision>
  <dc:subject/>
  <dc:title>投影片 1</dc:title>
</cp:coreProperties>
</file>