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8EED-9764-4513-9DF0-AF4DEB3EA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692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2692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8E2F-8D98-4B78-8836-41FB45624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2692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0960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2692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0960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6369-82F7-4509-9132-D61ECB3A0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269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549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8256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269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549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8256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4FA3-0B0B-4F03-BA1C-95A438F68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C3275-65E7-4C1E-BBA7-E08BD8404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2692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2B28B-E4F6-42C7-9285-9F25DB18B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692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27199-DEBC-4157-92EE-2E3DFFBD6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692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960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DCFE4-6576-4836-A3EF-04228C820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E595E-482E-4B34-95E3-35450446A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82692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719A5-358E-4A31-955B-E3814206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692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0960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2692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EADF3-4BD2-4FB0-817D-2FEF9009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2692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7390-7706-439D-B592-B560283C0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692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0960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0960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530D8-9AB8-466C-B5FC-6C71F8B4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2692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0960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2692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9A49E-484E-4DBE-A279-5AFC0F451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692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2692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13205-0729-45D5-92E5-D81197D69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692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0960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2692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0960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A996C-2945-4DEC-82EA-682C7409C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269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549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8256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269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4549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8256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7DFAD-0220-4A5E-8BCA-78C7502B6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2692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D936-0BBA-4253-A3E7-DE13C881C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2692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0960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4C04-B1C2-4BFA-BD91-FEE5355E4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C886-704E-4541-B4C2-C95219F69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2692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79EB-1425-424B-BF20-7890F9A43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692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0960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2692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9212-03B3-4778-8350-72321BB53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692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0960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0960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FF8E-0D08-46B1-97A3-A093FF50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692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0960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2692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95E6-3A76-4280-B045-78A9112A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cc"/>
                </a:solidFill>
                <a:latin typeface="Times New Roman"/>
              </a:rPr>
              <a:t>Click to edit the title text format</a:t>
            </a: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06200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6E370-2011-45A0-944E-CE72DC138C49}" type="slidenum">
              <a:rPr b="0" lang="zh-TW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82692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365760" indent="-36576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  <a:p>
            <a:pPr lvl="1" marL="821520" indent="-364320">
              <a:spcBef>
                <a:spcPts val="10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Second Outline Level</a:t>
            </a: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  <a:p>
            <a:pPr lvl="2" marL="1095840" indent="-182880">
              <a:spcBef>
                <a:spcPts val="10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Third Outline Level</a:t>
            </a: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  <a:p>
            <a:pPr lvl="3" marL="1370160" indent="-182880">
              <a:spcBef>
                <a:spcPts val="1001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Fourth Outline Level</a:t>
            </a: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  <a:p>
            <a:pPr lvl="4" marL="1645920" indent="-182880">
              <a:spcBef>
                <a:spcPts val="1001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Fifth Outline Level</a:t>
            </a: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  <a:p>
            <a:pPr lvl="5" marL="1645920" indent="-182880">
              <a:spcBef>
                <a:spcPts val="1001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Sixth Outline Level</a:t>
            </a: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  <a:p>
            <a:pPr lvl="6" marL="1645920" indent="-182880">
              <a:spcBef>
                <a:spcPts val="1001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Seventh Outline Level</a:t>
            </a: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2509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1240" y="1980720"/>
            <a:ext cx="821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cc"/>
                </a:solidFill>
                <a:latin typeface="Times New Roman"/>
              </a:rPr>
              <a:t>Click to edit the title text format</a:t>
            </a: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BCCD4-B305-4466-8A71-617C48F64AA5}" type="slidenum">
              <a:rPr b="0" lang="zh-TW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0" spc="-1" strike="noStrike">
                <a:solidFill>
                  <a:srgbClr val="0099ff"/>
                </a:solidFill>
                <a:latin typeface="華康POP1體W7"/>
                <a:ea typeface="華康POP1體W7"/>
              </a:rPr>
              <a:t>〜</a:t>
            </a:r>
            <a:r>
              <a:rPr b="0" lang="zh-TW" sz="8000" spc="-1" strike="noStrike">
                <a:solidFill>
                  <a:srgbClr val="ff0000"/>
                </a:solidFill>
                <a:latin typeface="華康POP1體W7"/>
                <a:ea typeface="華康POP1體W7"/>
              </a:rPr>
              <a:t>我</a:t>
            </a:r>
            <a:r>
              <a:rPr b="0" lang="zh-TW" sz="8000" spc="-1" strike="noStrike">
                <a:solidFill>
                  <a:srgbClr val="0099ff"/>
                </a:solidFill>
                <a:latin typeface="華康POP1體W7"/>
                <a:ea typeface="華康POP1體W7"/>
              </a:rPr>
              <a:t>們</a:t>
            </a:r>
            <a:r>
              <a:rPr b="0" lang="zh-TW" sz="8000" spc="-1" strike="noStrike">
                <a:solidFill>
                  <a:srgbClr val="339933"/>
                </a:solidFill>
                <a:latin typeface="華康POP1體W7"/>
                <a:ea typeface="華康POP1體W7"/>
              </a:rPr>
              <a:t>這</a:t>
            </a:r>
            <a:r>
              <a:rPr b="0" lang="zh-TW" sz="8000" spc="-1" strike="noStrike">
                <a:solidFill>
                  <a:srgbClr val="ff9900"/>
                </a:solidFill>
                <a:latin typeface="華康POP1體W7"/>
                <a:ea typeface="華康POP1體W7"/>
              </a:rPr>
              <a:t>一</a:t>
            </a:r>
            <a:r>
              <a:rPr b="0" lang="zh-TW" sz="8000" spc="-1" strike="noStrike">
                <a:solidFill>
                  <a:srgbClr val="9999ff"/>
                </a:solidFill>
                <a:latin typeface="華康POP1體W7"/>
                <a:ea typeface="華康POP1體W7"/>
              </a:rPr>
              <a:t>班</a:t>
            </a:r>
            <a:r>
              <a:rPr b="0" lang="zh-TW" sz="8000" spc="-1" strike="noStrike">
                <a:solidFill>
                  <a:srgbClr val="0099ff"/>
                </a:solidFill>
                <a:latin typeface="華康POP1體W7"/>
                <a:ea typeface="華康POP1體W7"/>
              </a:rPr>
              <a:t>〜</a:t>
            </a:r>
            <a:endParaRPr b="0" lang="en-US" sz="8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38080" y="4648320"/>
            <a:ext cx="7429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663300"/>
                </a:solidFill>
                <a:latin typeface="華康楷書體W7"/>
                <a:ea typeface="華康楷書體W7"/>
              </a:rPr>
              <a:t>5</a:t>
            </a:r>
            <a:r>
              <a:rPr b="0" lang="zh-TW" sz="6000" spc="-1" strike="noStrike">
                <a:solidFill>
                  <a:srgbClr val="663300"/>
                </a:solidFill>
                <a:latin typeface="華康楷書體W7"/>
                <a:ea typeface="華康楷書體W7"/>
              </a:rPr>
              <a:t>年</a:t>
            </a:r>
            <a:r>
              <a:rPr b="0" lang="zh-TW" sz="6000" spc="-1" strike="noStrike">
                <a:solidFill>
                  <a:srgbClr val="663300"/>
                </a:solidFill>
                <a:latin typeface="華康楷書體W7"/>
                <a:ea typeface="華康楷書體W7"/>
              </a:rPr>
              <a:t>5</a:t>
            </a:r>
            <a:r>
              <a:rPr b="0" lang="zh-TW" sz="6000" spc="-1" strike="noStrike">
                <a:solidFill>
                  <a:srgbClr val="663300"/>
                </a:solidFill>
                <a:latin typeface="華康楷書體W7"/>
                <a:ea typeface="華康楷書體W7"/>
              </a:rPr>
              <a:t>班 班級資料</a:t>
            </a:r>
            <a:endParaRPr b="0" lang="en-US" sz="60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33cc"/>
                </a:solidFill>
                <a:latin typeface="Times New Roman"/>
                <a:ea typeface="華康POP1體W5"/>
              </a:rPr>
              <a:t>通訊錄</a:t>
            </a: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826920" y="2101680"/>
          <a:ext cx="7772400" cy="411480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990099"/>
                          </a:solidFill>
                          <a:latin typeface="華康仿宋體W6"/>
                          <a:ea typeface="華康仿宋體W6"/>
                        </a:rPr>
                        <a:t>姓名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09900"/>
                          </a:solidFill>
                          <a:latin typeface="華康仿宋體W6"/>
                          <a:ea typeface="華康仿宋體W6"/>
                        </a:rPr>
                        <a:t>星座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099ff"/>
                          </a:solidFill>
                          <a:latin typeface="華康仿宋體W6"/>
                          <a:ea typeface="華康仿宋體W6"/>
                        </a:rPr>
                        <a:t>電話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990099"/>
                          </a:solidFill>
                          <a:latin typeface="華康仿宋體W6"/>
                          <a:ea typeface="華康仿宋體W6"/>
                        </a:rPr>
                        <a:t>顏成序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09900"/>
                          </a:solidFill>
                          <a:latin typeface="華康仿宋體W6"/>
                          <a:ea typeface="華康仿宋體W6"/>
                        </a:rPr>
                        <a:t>天秤座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99ff"/>
                          </a:solidFill>
                          <a:latin typeface="華康仿宋體W6"/>
                          <a:ea typeface="華康仿宋體W6"/>
                        </a:rPr>
                        <a:t>2322-1234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990099"/>
                          </a:solidFill>
                          <a:latin typeface="華康仿宋體W6"/>
                          <a:ea typeface="華康仿宋體W6"/>
                        </a:rPr>
                        <a:t>周妤茗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09900"/>
                          </a:solidFill>
                          <a:latin typeface="華康仿宋體W6"/>
                          <a:ea typeface="華康仿宋體W6"/>
                        </a:rPr>
                        <a:t>處女座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99ff"/>
                          </a:solidFill>
                          <a:latin typeface="華康仿宋體W6"/>
                          <a:ea typeface="華康仿宋體W6"/>
                        </a:rPr>
                        <a:t>2382-9956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990099"/>
                          </a:solidFill>
                          <a:latin typeface="華康仿宋體W6"/>
                          <a:ea typeface="華康仿宋體W6"/>
                        </a:rPr>
                        <a:t>朱笑添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09900"/>
                          </a:solidFill>
                          <a:latin typeface="華康仿宋體W6"/>
                          <a:ea typeface="華康仿宋體W6"/>
                        </a:rPr>
                        <a:t>雙子座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99ff"/>
                          </a:solidFill>
                          <a:latin typeface="華康仿宋體W6"/>
                          <a:ea typeface="華康仿宋體W6"/>
                        </a:rPr>
                        <a:t>2322-1314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990099"/>
                          </a:solidFill>
                          <a:latin typeface="華康仿宋體W6"/>
                          <a:ea typeface="華康仿宋體W6"/>
                        </a:rPr>
                        <a:t>吳劍好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09900"/>
                          </a:solidFill>
                          <a:latin typeface="華康仿宋體W6"/>
                          <a:ea typeface="華康仿宋體W6"/>
                        </a:rPr>
                        <a:t>金牛座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99ff"/>
                          </a:solidFill>
                          <a:latin typeface="華康仿宋體W6"/>
                          <a:ea typeface="華康仿宋體W6"/>
                        </a:rPr>
                        <a:t>2321-5420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33cc"/>
                </a:solidFill>
                <a:latin typeface="Times New Roman"/>
                <a:ea typeface="華康POP1體W5"/>
              </a:rPr>
              <a:t>班上男女生人數比例</a:t>
            </a: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000" y="2825280"/>
            <a:ext cx="4019400" cy="33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8000"/>
                </a:solidFill>
                <a:latin typeface="Times New Roman"/>
              </a:rPr>
              <a:t>男生人數：</a:t>
            </a:r>
            <a:r>
              <a:rPr b="0" lang="zh-TW" sz="3600" spc="-1" strike="noStrike">
                <a:solidFill>
                  <a:srgbClr val="008000"/>
                </a:solidFill>
                <a:latin typeface="Times New Roman"/>
              </a:rPr>
              <a:t>14</a:t>
            </a:r>
            <a:r>
              <a:rPr b="0" lang="zh-TW" sz="3600" spc="-1" strike="noStrike">
                <a:solidFill>
                  <a:srgbClr val="008000"/>
                </a:solidFill>
                <a:latin typeface="Times New Roman"/>
              </a:rPr>
              <a:t>人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  <a:p>
            <a:pPr marL="457200" indent="-457200">
              <a:spcBef>
                <a:spcPts val="36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a9500"/>
                </a:solidFill>
                <a:latin typeface="Times New Roman"/>
              </a:rPr>
              <a:t>女生人數：</a:t>
            </a:r>
            <a:r>
              <a:rPr b="0" lang="zh-TW" sz="3600" spc="-1" strike="noStrike">
                <a:solidFill>
                  <a:srgbClr val="fa9500"/>
                </a:solidFill>
                <a:latin typeface="Times New Roman"/>
              </a:rPr>
              <a:t>17</a:t>
            </a:r>
            <a:r>
              <a:rPr b="0" lang="zh-TW" sz="3600" spc="-1" strike="noStrike">
                <a:solidFill>
                  <a:srgbClr val="fa9500"/>
                </a:solidFill>
                <a:latin typeface="Times New Roman"/>
              </a:rPr>
              <a:t>人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789440" y="2101680"/>
          <a:ext cx="38098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9440" y="2101680"/>
                    <a:ext cx="3809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33cc"/>
                </a:solidFill>
                <a:latin typeface="Times New Roman"/>
                <a:ea typeface="華康POP1體W5"/>
              </a:rPr>
              <a:t>班級幹部組織圖</a:t>
            </a: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825480" y="2062080"/>
            <a:ext cx="7703280" cy="4102920"/>
            <a:chOff x="825480" y="2062080"/>
            <a:chExt cx="7703280" cy="4102920"/>
          </a:xfrm>
        </p:grpSpPr>
        <p:cxnSp>
          <p:nvCxnSpPr>
            <p:cNvPr id="101" name="_s20530"/>
            <p:cNvCxnSpPr>
              <a:stCxn id="102" idx="0"/>
              <a:endCxn id="103" idx="3"/>
            </p:cNvCxnSpPr>
            <p:nvPr/>
          </p:nvCxnSpPr>
          <p:spPr>
            <a:xfrm flipV="1" rot="16200000">
              <a:off x="4418640" y="4826160"/>
              <a:ext cx="513360" cy="112680"/>
            </a:xfrm>
            <a:prstGeom prst="bentConnector3">
              <a:avLst>
                <a:gd name="adj1" fmla="val 22245"/>
              </a:avLst>
            </a:prstGeom>
            <a:ln w="28440">
              <a:solidFill>
                <a:srgbClr val="cec8ba"/>
              </a:solidFill>
              <a:miter/>
            </a:ln>
          </p:spPr>
        </p:cxnSp>
        <p:cxnSp>
          <p:nvCxnSpPr>
            <p:cNvPr id="104" name="_s20528"/>
            <p:cNvCxnSpPr>
              <a:stCxn id="105" idx="0"/>
              <a:endCxn id="103" idx="3"/>
            </p:cNvCxnSpPr>
            <p:nvPr/>
          </p:nvCxnSpPr>
          <p:spPr>
            <a:xfrm flipV="1" rot="16200000">
              <a:off x="5767200" y="3477600"/>
              <a:ext cx="513360" cy="2809800"/>
            </a:xfrm>
            <a:prstGeom prst="bentConnector3">
              <a:avLst>
                <a:gd name="adj1" fmla="val 22245"/>
              </a:avLst>
            </a:prstGeom>
            <a:ln w="28440">
              <a:solidFill>
                <a:srgbClr val="cec8ba"/>
              </a:solidFill>
              <a:miter/>
            </a:ln>
          </p:spPr>
        </p:cxnSp>
        <p:cxnSp>
          <p:nvCxnSpPr>
            <p:cNvPr id="106" name="_s20521"/>
            <p:cNvCxnSpPr>
              <a:stCxn id="107" idx="0"/>
              <a:endCxn id="103" idx="3"/>
            </p:cNvCxnSpPr>
            <p:nvPr/>
          </p:nvCxnSpPr>
          <p:spPr>
            <a:xfrm flipH="1" flipV="1" rot="5400000">
              <a:off x="3071520" y="3591360"/>
              <a:ext cx="513360" cy="2582280"/>
            </a:xfrm>
            <a:prstGeom prst="bentConnector3">
              <a:avLst>
                <a:gd name="adj1" fmla="val 22245"/>
              </a:avLst>
            </a:prstGeom>
            <a:ln w="28440">
              <a:solidFill>
                <a:srgbClr val="cec8ba"/>
              </a:solidFill>
              <a:miter/>
            </a:ln>
          </p:spPr>
        </p:cxnSp>
        <p:cxnSp>
          <p:nvCxnSpPr>
            <p:cNvPr id="108" name="_s20501"/>
            <p:cNvCxnSpPr>
              <a:stCxn id="103" idx="1"/>
              <a:endCxn id="109" idx="3"/>
            </p:cNvCxnSpPr>
            <p:nvPr/>
          </p:nvCxnSpPr>
          <p:spPr>
            <a:xfrm flipV="1">
              <a:off x="4619520" y="3087360"/>
              <a:ext cx="2880" cy="624240"/>
            </a:xfrm>
            <a:prstGeom prst="bentConnector2">
              <a:avLst/>
            </a:prstGeom>
            <a:ln w="28440">
              <a:solidFill>
                <a:srgbClr val="cec8ba"/>
              </a:solidFill>
              <a:miter/>
            </a:ln>
          </p:spPr>
        </p:cxnSp>
        <p:sp>
          <p:nvSpPr>
            <p:cNvPr id="109" name="_s20497"/>
            <p:cNvSpPr/>
            <p:nvPr/>
          </p:nvSpPr>
          <p:spPr>
            <a:xfrm>
              <a:off x="3520080" y="2062080"/>
              <a:ext cx="2311560" cy="1025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9ddf1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9dd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5b5249"/>
                  </a:solidFill>
                  <a:latin typeface="Times New Roman"/>
                </a:rPr>
                <a:t>張燕燕</a:t>
              </a:r>
              <a:endParaRPr b="0" lang="en-US" sz="22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5b5249"/>
                  </a:solidFill>
                  <a:latin typeface="Times New Roman"/>
                </a:rPr>
                <a:t>班長</a:t>
              </a:r>
              <a:endParaRPr b="0" lang="en-US" sz="2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3" name="_s20498"/>
            <p:cNvSpPr/>
            <p:nvPr/>
          </p:nvSpPr>
          <p:spPr>
            <a:xfrm>
              <a:off x="3520080" y="3600720"/>
              <a:ext cx="2311560" cy="1025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ac164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ac1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5b5249"/>
                  </a:solidFill>
                  <a:latin typeface="Times New Roman"/>
                </a:rPr>
                <a:t>庾小慶</a:t>
              </a:r>
              <a:endParaRPr b="0" lang="en-US" sz="22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5b5249"/>
                  </a:solidFill>
                  <a:latin typeface="Times New Roman"/>
                </a:rPr>
                <a:t>副班長</a:t>
              </a:r>
              <a:endParaRPr b="0" lang="en-US" sz="2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7" name="_s20520"/>
            <p:cNvSpPr/>
            <p:nvPr/>
          </p:nvSpPr>
          <p:spPr>
            <a:xfrm>
              <a:off x="825480" y="5139360"/>
              <a:ext cx="2311560" cy="1025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0ae6a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b0ae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5b5249"/>
                  </a:solidFill>
                  <a:latin typeface="Times New Roman"/>
                </a:rPr>
                <a:t>王仁甫</a:t>
              </a:r>
              <a:endParaRPr b="0" lang="en-US" sz="22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5b5249"/>
                  </a:solidFill>
                  <a:latin typeface="Times New Roman"/>
                </a:rPr>
                <a:t>風紀股長</a:t>
              </a:r>
              <a:endParaRPr b="0" lang="en-US" sz="2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5" name="_s20527"/>
            <p:cNvSpPr/>
            <p:nvPr/>
          </p:nvSpPr>
          <p:spPr>
            <a:xfrm>
              <a:off x="6217200" y="5139360"/>
              <a:ext cx="2311560" cy="1025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0ae6a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b0ae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5b5249"/>
                  </a:solidFill>
                  <a:latin typeface="Times New Roman"/>
                </a:rPr>
                <a:t>陶晶晶</a:t>
              </a:r>
              <a:endParaRPr b="0" lang="en-US" sz="22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5b5249"/>
                  </a:solidFill>
                  <a:latin typeface="Times New Roman"/>
                </a:rPr>
                <a:t>學藝股長</a:t>
              </a:r>
              <a:endParaRPr b="0" lang="en-US" sz="2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2" name="_s20529"/>
            <p:cNvSpPr/>
            <p:nvPr/>
          </p:nvSpPr>
          <p:spPr>
            <a:xfrm>
              <a:off x="3522600" y="5139360"/>
              <a:ext cx="2309400" cy="1025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0ae6a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b0ae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5b5249"/>
                  </a:solidFill>
                  <a:latin typeface="Times New Roman"/>
                </a:rPr>
                <a:t>王小偉</a:t>
              </a:r>
              <a:endParaRPr b="0" lang="en-US" sz="22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5b5249"/>
                  </a:solidFill>
                  <a:latin typeface="Times New Roman"/>
                </a:rPr>
                <a:t>總務股長</a:t>
              </a:r>
              <a:endParaRPr b="0" lang="en-US" sz="2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07:52:26Z</dcterms:created>
  <dc:creator>e049</dc:creator>
  <dc:description/>
  <dc:language>en-US</dc:language>
  <cp:lastModifiedBy>思蓉</cp:lastModifiedBy>
  <dcterms:modified xsi:type="dcterms:W3CDTF">2005-03-16T03:47:26Z</dcterms:modified>
  <cp:revision>25</cp:revision>
  <dc:subject/>
  <dc:title>我們這一班</dc:title>
</cp:coreProperties>
</file>