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7DF-3C9C-478D-834C-0FE1461A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2ADA-CCF2-48F3-B60C-E748C36C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205-B408-4ECE-A3E8-489AE606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B5A-516E-4EFC-B853-F4DB919F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2BA-2232-455C-A2DA-5F62A2CD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979-B644-4D17-878A-502EA7F3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83D-B9B1-49D5-8BC4-1F91736F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012-D053-46F5-A3A0-7FDAB971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EAC-9417-4DBC-9F55-2176D139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624-866B-4F56-9695-742E9CE0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5A0-8499-4612-A87D-6EC0A954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56A-863E-4A20-9C0F-BCB33C6E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5"/>
            </a:gs>
            <a:gs pos="100000">
              <a:srgbClr val="99d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89F3-F1BB-4EE1-B1E3-F30B74483B0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5"/>
            </a:gs>
            <a:gs pos="100000">
              <a:srgbClr val="99d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 rot="333000">
            <a:off x="1815840" y="1672920"/>
            <a:ext cx="5562360" cy="3765600"/>
          </a:xfrm>
          <a:prstGeom prst="cloudCallout">
            <a:avLst>
              <a:gd name="adj1" fmla="val -33675"/>
              <a:gd name="adj2" fmla="val 34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457200"/>
            <a:ext cx="8534160" cy="1371600"/>
          </a:xfrm>
          <a:custGeom>
            <a:avLst/>
            <a:gdLst>
              <a:gd name="textAreaLeft" fmla="*/ 1066680 w 8534160"/>
              <a:gd name="textAreaRight" fmla="*/ 7467480 w 8534160"/>
              <a:gd name="textAreaTop" fmla="*/ 105120 h 1371600"/>
              <a:gd name="textAreaBottom" fmla="*/ 10270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5426"/>
                </a:moveTo>
                <a:arcTo wR="21600" hR="22721" stAng="-7125666" swAng="463564"/>
                <a:lnTo>
                  <a:pt x="2700" y="1658"/>
                </a:lnTo>
                <a:arcTo wR="21600" hR="22721" stAng="-6662103" swAng="2524206"/>
                <a:lnTo>
                  <a:pt x="18900" y="4040"/>
                </a:lnTo>
                <a:arcTo wR="21600" hR="22721" stAng="-4137897" swAng="463564"/>
                <a:lnTo>
                  <a:pt x="18900" y="12127"/>
                </a:lnTo>
                <a:lnTo>
                  <a:pt x="21600" y="21600"/>
                </a:lnTo>
                <a:lnTo>
                  <a:pt x="21600" y="21600"/>
                </a:lnTo>
                <a:arcTo wR="21600" hR="22721" stAng="-3674334" swAng="-898188"/>
                <a:lnTo>
                  <a:pt x="16200" y="16895"/>
                </a:lnTo>
                <a:arcTo wR="21600" hR="22721" stAng="-4572522" swAng="-1654956"/>
                <a:lnTo>
                  <a:pt x="5400" y="19277"/>
                </a:lnTo>
                <a:arcTo wR="21600" hR="22721" stAng="-6227478" swAng="-898188"/>
                <a:lnTo>
                  <a:pt x="2700" y="12127"/>
                </a:lnTo>
                <a:close/>
              </a:path>
              <a:path fill="none" w="21600" h="21600">
                <a:moveTo>
                  <a:pt x="5400" y="16895"/>
                </a:moveTo>
                <a:arcTo wR="21600" hR="22721" stAng="-6227478" swAng="-434625"/>
                <a:lnTo>
                  <a:pt x="5400" y="19277"/>
                </a:lnTo>
              </a:path>
              <a:path fill="none" w="21600" h="21600">
                <a:moveTo>
                  <a:pt x="16200" y="16895"/>
                </a:moveTo>
                <a:arcTo wR="21600" hR="22721" stAng="-4572522" swAng="434625"/>
                <a:lnTo>
                  <a:pt x="16200" y="19277"/>
                </a:lnTo>
              </a:path>
              <a:path fill="none" w="21600" h="21600">
                <a:moveTo>
                  <a:pt x="2700" y="4040"/>
                </a:moveTo>
                <a:lnTo>
                  <a:pt x="2700" y="17832"/>
                </a:lnTo>
              </a:path>
              <a:path fill="none" w="21600" h="21600">
                <a:moveTo>
                  <a:pt x="18900" y="4040"/>
                </a:moveTo>
                <a:lnTo>
                  <a:pt x="18900" y="17832"/>
                </a:lnTo>
              </a:path>
            </a:pathLst>
          </a:custGeom>
          <a:gradFill rotWithShape="0">
            <a:gsLst>
              <a:gs pos="0">
                <a:srgbClr val="2fabff"/>
              </a:gs>
              <a:gs pos="50000">
                <a:srgbClr val="ccecff"/>
              </a:gs>
              <a:gs pos="100000">
                <a:srgbClr val="2fab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0000"/>
                </a:solidFill>
                <a:latin typeface="華康中圓體"/>
                <a:ea typeface="華康中圓體"/>
              </a:rPr>
              <a:t>高年級棒球大賽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65880" y="3682440"/>
            <a:ext cx="4698360" cy="2817720"/>
            <a:chOff x="965880" y="3682440"/>
            <a:chExt cx="4698360" cy="2817720"/>
          </a:xfrm>
        </p:grpSpPr>
        <p:sp>
          <p:nvSpPr>
            <p:cNvPr id="44" name=""/>
            <p:cNvSpPr/>
            <p:nvPr/>
          </p:nvSpPr>
          <p:spPr>
            <a:xfrm rot="17682600">
              <a:off x="2874600" y="2715480"/>
              <a:ext cx="880560" cy="4766760"/>
            </a:xfrm>
            <a:custGeom>
              <a:avLst/>
              <a:gdLst/>
              <a:ahLst/>
              <a:rect l="l" t="t" r="r" b="b"/>
              <a:pathLst>
                <a:path w="415" h="2011">
                  <a:moveTo>
                    <a:pt x="29" y="1992"/>
                  </a:moveTo>
                  <a:lnTo>
                    <a:pt x="21" y="1990"/>
                  </a:lnTo>
                  <a:lnTo>
                    <a:pt x="16" y="1986"/>
                  </a:lnTo>
                  <a:lnTo>
                    <a:pt x="10" y="1982"/>
                  </a:lnTo>
                  <a:lnTo>
                    <a:pt x="6" y="1976"/>
                  </a:lnTo>
                  <a:lnTo>
                    <a:pt x="2" y="1970"/>
                  </a:lnTo>
                  <a:lnTo>
                    <a:pt x="0" y="1965"/>
                  </a:lnTo>
                  <a:lnTo>
                    <a:pt x="0" y="1957"/>
                  </a:lnTo>
                  <a:lnTo>
                    <a:pt x="0" y="1951"/>
                  </a:lnTo>
                  <a:lnTo>
                    <a:pt x="2" y="1944"/>
                  </a:lnTo>
                  <a:lnTo>
                    <a:pt x="6" y="1938"/>
                  </a:lnTo>
                  <a:lnTo>
                    <a:pt x="10" y="1930"/>
                  </a:lnTo>
                  <a:lnTo>
                    <a:pt x="16" y="1924"/>
                  </a:lnTo>
                  <a:lnTo>
                    <a:pt x="21" y="1919"/>
                  </a:lnTo>
                  <a:lnTo>
                    <a:pt x="31" y="1915"/>
                  </a:lnTo>
                  <a:lnTo>
                    <a:pt x="41" y="1911"/>
                  </a:lnTo>
                  <a:lnTo>
                    <a:pt x="50" y="1907"/>
                  </a:lnTo>
                  <a:lnTo>
                    <a:pt x="60" y="1863"/>
                  </a:lnTo>
                  <a:lnTo>
                    <a:pt x="69" y="1794"/>
                  </a:lnTo>
                  <a:lnTo>
                    <a:pt x="79" y="1708"/>
                  </a:lnTo>
                  <a:lnTo>
                    <a:pt x="87" y="1612"/>
                  </a:lnTo>
                  <a:lnTo>
                    <a:pt x="89" y="1564"/>
                  </a:lnTo>
                  <a:lnTo>
                    <a:pt x="90" y="1516"/>
                  </a:lnTo>
                  <a:lnTo>
                    <a:pt x="92" y="1470"/>
                  </a:lnTo>
                  <a:lnTo>
                    <a:pt x="92" y="1426"/>
                  </a:lnTo>
                  <a:lnTo>
                    <a:pt x="90" y="1387"/>
                  </a:lnTo>
                  <a:lnTo>
                    <a:pt x="89" y="1351"/>
                  </a:lnTo>
                  <a:lnTo>
                    <a:pt x="83" y="1322"/>
                  </a:lnTo>
                  <a:lnTo>
                    <a:pt x="77" y="1299"/>
                  </a:lnTo>
                  <a:lnTo>
                    <a:pt x="69" y="1251"/>
                  </a:lnTo>
                  <a:lnTo>
                    <a:pt x="66" y="1194"/>
                  </a:lnTo>
                  <a:lnTo>
                    <a:pt x="62" y="1128"/>
                  </a:lnTo>
                  <a:lnTo>
                    <a:pt x="60" y="1057"/>
                  </a:lnTo>
                  <a:lnTo>
                    <a:pt x="60" y="902"/>
                  </a:lnTo>
                  <a:lnTo>
                    <a:pt x="62" y="741"/>
                  </a:lnTo>
                  <a:lnTo>
                    <a:pt x="67" y="587"/>
                  </a:lnTo>
                  <a:lnTo>
                    <a:pt x="73" y="453"/>
                  </a:lnTo>
                  <a:lnTo>
                    <a:pt x="79" y="351"/>
                  </a:lnTo>
                  <a:lnTo>
                    <a:pt x="81" y="296"/>
                  </a:lnTo>
                  <a:lnTo>
                    <a:pt x="81" y="261"/>
                  </a:lnTo>
                  <a:lnTo>
                    <a:pt x="83" y="215"/>
                  </a:lnTo>
                  <a:lnTo>
                    <a:pt x="83" y="190"/>
                  </a:lnTo>
                  <a:lnTo>
                    <a:pt x="87" y="165"/>
                  </a:lnTo>
                  <a:lnTo>
                    <a:pt x="90" y="138"/>
                  </a:lnTo>
                  <a:lnTo>
                    <a:pt x="96" y="113"/>
                  </a:lnTo>
                  <a:lnTo>
                    <a:pt x="106" y="90"/>
                  </a:lnTo>
                  <a:lnTo>
                    <a:pt x="117" y="67"/>
                  </a:lnTo>
                  <a:lnTo>
                    <a:pt x="123" y="58"/>
                  </a:lnTo>
                  <a:lnTo>
                    <a:pt x="131" y="46"/>
                  </a:lnTo>
                  <a:lnTo>
                    <a:pt x="140" y="39"/>
                  </a:lnTo>
                  <a:lnTo>
                    <a:pt x="150" y="29"/>
                  </a:lnTo>
                  <a:lnTo>
                    <a:pt x="161" y="23"/>
                  </a:lnTo>
                  <a:lnTo>
                    <a:pt x="173" y="16"/>
                  </a:lnTo>
                  <a:lnTo>
                    <a:pt x="186" y="10"/>
                  </a:lnTo>
                  <a:lnTo>
                    <a:pt x="200" y="6"/>
                  </a:lnTo>
                  <a:lnTo>
                    <a:pt x="215" y="2"/>
                  </a:lnTo>
                  <a:lnTo>
                    <a:pt x="232" y="0"/>
                  </a:lnTo>
                  <a:lnTo>
                    <a:pt x="250" y="0"/>
                  </a:lnTo>
                  <a:lnTo>
                    <a:pt x="271" y="0"/>
                  </a:lnTo>
                  <a:lnTo>
                    <a:pt x="290" y="2"/>
                  </a:lnTo>
                  <a:lnTo>
                    <a:pt x="307" y="6"/>
                  </a:lnTo>
                  <a:lnTo>
                    <a:pt x="323" y="10"/>
                  </a:lnTo>
                  <a:lnTo>
                    <a:pt x="338" y="14"/>
                  </a:lnTo>
                  <a:lnTo>
                    <a:pt x="351" y="21"/>
                  </a:lnTo>
                  <a:lnTo>
                    <a:pt x="363" y="27"/>
                  </a:lnTo>
                  <a:lnTo>
                    <a:pt x="373" y="37"/>
                  </a:lnTo>
                  <a:lnTo>
                    <a:pt x="382" y="44"/>
                  </a:lnTo>
                  <a:lnTo>
                    <a:pt x="390" y="54"/>
                  </a:lnTo>
                  <a:lnTo>
                    <a:pt x="396" y="65"/>
                  </a:lnTo>
                  <a:lnTo>
                    <a:pt x="401" y="75"/>
                  </a:lnTo>
                  <a:lnTo>
                    <a:pt x="405" y="87"/>
                  </a:lnTo>
                  <a:lnTo>
                    <a:pt x="413" y="112"/>
                  </a:lnTo>
                  <a:lnTo>
                    <a:pt x="415" y="138"/>
                  </a:lnTo>
                  <a:lnTo>
                    <a:pt x="415" y="165"/>
                  </a:lnTo>
                  <a:lnTo>
                    <a:pt x="413" y="194"/>
                  </a:lnTo>
                  <a:lnTo>
                    <a:pt x="411" y="223"/>
                  </a:lnTo>
                  <a:lnTo>
                    <a:pt x="405" y="250"/>
                  </a:lnTo>
                  <a:lnTo>
                    <a:pt x="396" y="305"/>
                  </a:lnTo>
                  <a:lnTo>
                    <a:pt x="388" y="351"/>
                  </a:lnTo>
                  <a:lnTo>
                    <a:pt x="380" y="424"/>
                  </a:lnTo>
                  <a:lnTo>
                    <a:pt x="369" y="543"/>
                  </a:lnTo>
                  <a:lnTo>
                    <a:pt x="353" y="691"/>
                  </a:lnTo>
                  <a:lnTo>
                    <a:pt x="334" y="854"/>
                  </a:lnTo>
                  <a:lnTo>
                    <a:pt x="313" y="1015"/>
                  </a:lnTo>
                  <a:lnTo>
                    <a:pt x="292" y="1155"/>
                  </a:lnTo>
                  <a:lnTo>
                    <a:pt x="282" y="1213"/>
                  </a:lnTo>
                  <a:lnTo>
                    <a:pt x="271" y="1259"/>
                  </a:lnTo>
                  <a:lnTo>
                    <a:pt x="265" y="1278"/>
                  </a:lnTo>
                  <a:lnTo>
                    <a:pt x="261" y="1291"/>
                  </a:lnTo>
                  <a:lnTo>
                    <a:pt x="255" y="1303"/>
                  </a:lnTo>
                  <a:lnTo>
                    <a:pt x="250" y="1311"/>
                  </a:lnTo>
                  <a:lnTo>
                    <a:pt x="246" y="1316"/>
                  </a:lnTo>
                  <a:lnTo>
                    <a:pt x="240" y="1326"/>
                  </a:lnTo>
                  <a:lnTo>
                    <a:pt x="236" y="1337"/>
                  </a:lnTo>
                  <a:lnTo>
                    <a:pt x="232" y="1351"/>
                  </a:lnTo>
                  <a:lnTo>
                    <a:pt x="223" y="1383"/>
                  </a:lnTo>
                  <a:lnTo>
                    <a:pt x="215" y="1422"/>
                  </a:lnTo>
                  <a:lnTo>
                    <a:pt x="202" y="1516"/>
                  </a:lnTo>
                  <a:lnTo>
                    <a:pt x="190" y="1619"/>
                  </a:lnTo>
                  <a:lnTo>
                    <a:pt x="183" y="1723"/>
                  </a:lnTo>
                  <a:lnTo>
                    <a:pt x="175" y="1813"/>
                  </a:lnTo>
                  <a:lnTo>
                    <a:pt x="171" y="1882"/>
                  </a:lnTo>
                  <a:lnTo>
                    <a:pt x="171" y="1917"/>
                  </a:lnTo>
                  <a:lnTo>
                    <a:pt x="183" y="1924"/>
                  </a:lnTo>
                  <a:lnTo>
                    <a:pt x="192" y="1934"/>
                  </a:lnTo>
                  <a:lnTo>
                    <a:pt x="202" y="1944"/>
                  </a:lnTo>
                  <a:lnTo>
                    <a:pt x="208" y="1955"/>
                  </a:lnTo>
                  <a:lnTo>
                    <a:pt x="211" y="1967"/>
                  </a:lnTo>
                  <a:lnTo>
                    <a:pt x="211" y="1978"/>
                  </a:lnTo>
                  <a:lnTo>
                    <a:pt x="209" y="1984"/>
                  </a:lnTo>
                  <a:lnTo>
                    <a:pt x="208" y="1990"/>
                  </a:lnTo>
                  <a:lnTo>
                    <a:pt x="204" y="1993"/>
                  </a:lnTo>
                  <a:lnTo>
                    <a:pt x="198" y="1999"/>
                  </a:lnTo>
                  <a:lnTo>
                    <a:pt x="192" y="2003"/>
                  </a:lnTo>
                  <a:lnTo>
                    <a:pt x="184" y="2005"/>
                  </a:lnTo>
                  <a:lnTo>
                    <a:pt x="177" y="2009"/>
                  </a:lnTo>
                  <a:lnTo>
                    <a:pt x="167" y="2011"/>
                  </a:lnTo>
                  <a:lnTo>
                    <a:pt x="148" y="2011"/>
                  </a:lnTo>
                  <a:lnTo>
                    <a:pt x="125" y="2011"/>
                  </a:lnTo>
                  <a:lnTo>
                    <a:pt x="102" y="2007"/>
                  </a:lnTo>
                  <a:lnTo>
                    <a:pt x="77" y="2003"/>
                  </a:lnTo>
                  <a:lnTo>
                    <a:pt x="52" y="1997"/>
                  </a:lnTo>
                  <a:lnTo>
                    <a:pt x="29" y="199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7682600">
              <a:off x="5113440" y="6267600"/>
              <a:ext cx="141840" cy="236880"/>
            </a:xfrm>
            <a:custGeom>
              <a:avLst/>
              <a:gdLst/>
              <a:ahLst/>
              <a:rect l="l" t="t" r="r" b="b"/>
              <a:pathLst>
                <a:path w="67" h="100">
                  <a:moveTo>
                    <a:pt x="51" y="6"/>
                  </a:moveTo>
                  <a:lnTo>
                    <a:pt x="57" y="0"/>
                  </a:lnTo>
                  <a:lnTo>
                    <a:pt x="46" y="4"/>
                  </a:lnTo>
                  <a:lnTo>
                    <a:pt x="36" y="8"/>
                  </a:lnTo>
                  <a:lnTo>
                    <a:pt x="27" y="14"/>
                  </a:lnTo>
                  <a:lnTo>
                    <a:pt x="19" y="20"/>
                  </a:lnTo>
                  <a:lnTo>
                    <a:pt x="13" y="27"/>
                  </a:lnTo>
                  <a:lnTo>
                    <a:pt x="7" y="35"/>
                  </a:lnTo>
                  <a:lnTo>
                    <a:pt x="4" y="43"/>
                  </a:lnTo>
                  <a:lnTo>
                    <a:pt x="2" y="50"/>
                  </a:lnTo>
                  <a:lnTo>
                    <a:pt x="0" y="58"/>
                  </a:lnTo>
                  <a:lnTo>
                    <a:pt x="2" y="66"/>
                  </a:lnTo>
                  <a:lnTo>
                    <a:pt x="4" y="73"/>
                  </a:lnTo>
                  <a:lnTo>
                    <a:pt x="7" y="81"/>
                  </a:lnTo>
                  <a:lnTo>
                    <a:pt x="13" y="89"/>
                  </a:lnTo>
                  <a:lnTo>
                    <a:pt x="19" y="94"/>
                  </a:lnTo>
                  <a:lnTo>
                    <a:pt x="27" y="98"/>
                  </a:lnTo>
                  <a:lnTo>
                    <a:pt x="36" y="100"/>
                  </a:lnTo>
                  <a:lnTo>
                    <a:pt x="40" y="85"/>
                  </a:lnTo>
                  <a:lnTo>
                    <a:pt x="34" y="83"/>
                  </a:lnTo>
                  <a:lnTo>
                    <a:pt x="28" y="81"/>
                  </a:lnTo>
                  <a:lnTo>
                    <a:pt x="25" y="77"/>
                  </a:lnTo>
                  <a:lnTo>
                    <a:pt x="21" y="73"/>
                  </a:lnTo>
                  <a:lnTo>
                    <a:pt x="19" y="68"/>
                  </a:lnTo>
                  <a:lnTo>
                    <a:pt x="17" y="64"/>
                  </a:lnTo>
                  <a:lnTo>
                    <a:pt x="17" y="58"/>
                  </a:lnTo>
                  <a:lnTo>
                    <a:pt x="17" y="52"/>
                  </a:lnTo>
                  <a:lnTo>
                    <a:pt x="19" y="47"/>
                  </a:lnTo>
                  <a:lnTo>
                    <a:pt x="21" y="43"/>
                  </a:lnTo>
                  <a:lnTo>
                    <a:pt x="25" y="37"/>
                  </a:lnTo>
                  <a:lnTo>
                    <a:pt x="30" y="31"/>
                  </a:lnTo>
                  <a:lnTo>
                    <a:pt x="36" y="27"/>
                  </a:lnTo>
                  <a:lnTo>
                    <a:pt x="44" y="22"/>
                  </a:lnTo>
                  <a:lnTo>
                    <a:pt x="51" y="18"/>
                  </a:lnTo>
                  <a:lnTo>
                    <a:pt x="61" y="16"/>
                  </a:lnTo>
                  <a:lnTo>
                    <a:pt x="67" y="10"/>
                  </a:lnTo>
                  <a:lnTo>
                    <a:pt x="61" y="16"/>
                  </a:lnTo>
                  <a:lnTo>
                    <a:pt x="67" y="14"/>
                  </a:lnTo>
                  <a:lnTo>
                    <a:pt x="67" y="10"/>
                  </a:lnTo>
                  <a:lnTo>
                    <a:pt x="51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7682600">
              <a:off x="4419360" y="5229000"/>
              <a:ext cx="122400" cy="1450080"/>
            </a:xfrm>
            <a:custGeom>
              <a:avLst/>
              <a:gdLst/>
              <a:ahLst/>
              <a:rect l="l" t="t" r="r" b="b"/>
              <a:pathLst>
                <a:path w="58" h="612">
                  <a:moveTo>
                    <a:pt x="27" y="4"/>
                  </a:moveTo>
                  <a:lnTo>
                    <a:pt x="27" y="6"/>
                  </a:lnTo>
                  <a:lnTo>
                    <a:pt x="33" y="27"/>
                  </a:lnTo>
                  <a:lnTo>
                    <a:pt x="37" y="56"/>
                  </a:lnTo>
                  <a:lnTo>
                    <a:pt x="41" y="90"/>
                  </a:lnTo>
                  <a:lnTo>
                    <a:pt x="43" y="129"/>
                  </a:lnTo>
                  <a:lnTo>
                    <a:pt x="43" y="173"/>
                  </a:lnTo>
                  <a:lnTo>
                    <a:pt x="41" y="219"/>
                  </a:lnTo>
                  <a:lnTo>
                    <a:pt x="39" y="267"/>
                  </a:lnTo>
                  <a:lnTo>
                    <a:pt x="37" y="315"/>
                  </a:lnTo>
                  <a:lnTo>
                    <a:pt x="29" y="411"/>
                  </a:lnTo>
                  <a:lnTo>
                    <a:pt x="20" y="497"/>
                  </a:lnTo>
                  <a:lnTo>
                    <a:pt x="10" y="564"/>
                  </a:lnTo>
                  <a:lnTo>
                    <a:pt x="0" y="608"/>
                  </a:lnTo>
                  <a:lnTo>
                    <a:pt x="16" y="612"/>
                  </a:lnTo>
                  <a:lnTo>
                    <a:pt x="25" y="568"/>
                  </a:lnTo>
                  <a:lnTo>
                    <a:pt x="35" y="499"/>
                  </a:lnTo>
                  <a:lnTo>
                    <a:pt x="45" y="413"/>
                  </a:lnTo>
                  <a:lnTo>
                    <a:pt x="52" y="317"/>
                  </a:lnTo>
                  <a:lnTo>
                    <a:pt x="54" y="267"/>
                  </a:lnTo>
                  <a:lnTo>
                    <a:pt x="58" y="219"/>
                  </a:lnTo>
                  <a:lnTo>
                    <a:pt x="58" y="173"/>
                  </a:lnTo>
                  <a:lnTo>
                    <a:pt x="58" y="129"/>
                  </a:lnTo>
                  <a:lnTo>
                    <a:pt x="56" y="88"/>
                  </a:lnTo>
                  <a:lnTo>
                    <a:pt x="54" y="54"/>
                  </a:lnTo>
                  <a:lnTo>
                    <a:pt x="48" y="23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7682600">
              <a:off x="2705760" y="3968640"/>
              <a:ext cx="82440" cy="2381760"/>
            </a:xfrm>
            <a:custGeom>
              <a:avLst/>
              <a:gdLst/>
              <a:ahLst/>
              <a:rect l="l" t="t" r="r" b="b"/>
              <a:pathLst>
                <a:path w="39" h="1005">
                  <a:moveTo>
                    <a:pt x="23" y="0"/>
                  </a:moveTo>
                  <a:lnTo>
                    <a:pt x="23" y="0"/>
                  </a:lnTo>
                  <a:lnTo>
                    <a:pt x="21" y="55"/>
                  </a:lnTo>
                  <a:lnTo>
                    <a:pt x="16" y="157"/>
                  </a:lnTo>
                  <a:lnTo>
                    <a:pt x="10" y="291"/>
                  </a:lnTo>
                  <a:lnTo>
                    <a:pt x="4" y="445"/>
                  </a:lnTo>
                  <a:lnTo>
                    <a:pt x="0" y="606"/>
                  </a:lnTo>
                  <a:lnTo>
                    <a:pt x="2" y="761"/>
                  </a:lnTo>
                  <a:lnTo>
                    <a:pt x="4" y="832"/>
                  </a:lnTo>
                  <a:lnTo>
                    <a:pt x="6" y="899"/>
                  </a:lnTo>
                  <a:lnTo>
                    <a:pt x="12" y="957"/>
                  </a:lnTo>
                  <a:lnTo>
                    <a:pt x="19" y="1005"/>
                  </a:lnTo>
                  <a:lnTo>
                    <a:pt x="35" y="1003"/>
                  </a:lnTo>
                  <a:lnTo>
                    <a:pt x="27" y="955"/>
                  </a:lnTo>
                  <a:lnTo>
                    <a:pt x="23" y="898"/>
                  </a:lnTo>
                  <a:lnTo>
                    <a:pt x="19" y="832"/>
                  </a:lnTo>
                  <a:lnTo>
                    <a:pt x="17" y="761"/>
                  </a:lnTo>
                  <a:lnTo>
                    <a:pt x="17" y="606"/>
                  </a:lnTo>
                  <a:lnTo>
                    <a:pt x="19" y="445"/>
                  </a:lnTo>
                  <a:lnTo>
                    <a:pt x="25" y="291"/>
                  </a:lnTo>
                  <a:lnTo>
                    <a:pt x="31" y="157"/>
                  </a:lnTo>
                  <a:lnTo>
                    <a:pt x="37" y="55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7682600">
              <a:off x="1219680" y="3954960"/>
              <a:ext cx="419760" cy="718560"/>
            </a:xfrm>
            <a:custGeom>
              <a:avLst/>
              <a:gdLst/>
              <a:ahLst/>
              <a:rect l="l" t="t" r="r" b="b"/>
              <a:pathLst>
                <a:path w="198" h="303">
                  <a:moveTo>
                    <a:pt x="198" y="0"/>
                  </a:moveTo>
                  <a:lnTo>
                    <a:pt x="198" y="0"/>
                  </a:lnTo>
                  <a:lnTo>
                    <a:pt x="177" y="0"/>
                  </a:lnTo>
                  <a:lnTo>
                    <a:pt x="159" y="0"/>
                  </a:lnTo>
                  <a:lnTo>
                    <a:pt x="142" y="2"/>
                  </a:lnTo>
                  <a:lnTo>
                    <a:pt x="125" y="5"/>
                  </a:lnTo>
                  <a:lnTo>
                    <a:pt x="110" y="9"/>
                  </a:lnTo>
                  <a:lnTo>
                    <a:pt x="96" y="15"/>
                  </a:lnTo>
                  <a:lnTo>
                    <a:pt x="85" y="23"/>
                  </a:lnTo>
                  <a:lnTo>
                    <a:pt x="73" y="30"/>
                  </a:lnTo>
                  <a:lnTo>
                    <a:pt x="62" y="40"/>
                  </a:lnTo>
                  <a:lnTo>
                    <a:pt x="52" y="49"/>
                  </a:lnTo>
                  <a:lnTo>
                    <a:pt x="44" y="59"/>
                  </a:lnTo>
                  <a:lnTo>
                    <a:pt x="37" y="71"/>
                  </a:lnTo>
                  <a:lnTo>
                    <a:pt x="25" y="94"/>
                  </a:lnTo>
                  <a:lnTo>
                    <a:pt x="16" y="119"/>
                  </a:lnTo>
                  <a:lnTo>
                    <a:pt x="10" y="145"/>
                  </a:lnTo>
                  <a:lnTo>
                    <a:pt x="4" y="170"/>
                  </a:lnTo>
                  <a:lnTo>
                    <a:pt x="2" y="197"/>
                  </a:lnTo>
                  <a:lnTo>
                    <a:pt x="0" y="222"/>
                  </a:lnTo>
                  <a:lnTo>
                    <a:pt x="0" y="268"/>
                  </a:lnTo>
                  <a:lnTo>
                    <a:pt x="0" y="303"/>
                  </a:lnTo>
                  <a:lnTo>
                    <a:pt x="16" y="303"/>
                  </a:lnTo>
                  <a:lnTo>
                    <a:pt x="17" y="268"/>
                  </a:lnTo>
                  <a:lnTo>
                    <a:pt x="17" y="222"/>
                  </a:lnTo>
                  <a:lnTo>
                    <a:pt x="17" y="197"/>
                  </a:lnTo>
                  <a:lnTo>
                    <a:pt x="21" y="172"/>
                  </a:lnTo>
                  <a:lnTo>
                    <a:pt x="25" y="147"/>
                  </a:lnTo>
                  <a:lnTo>
                    <a:pt x="31" y="124"/>
                  </a:lnTo>
                  <a:lnTo>
                    <a:pt x="39" y="99"/>
                  </a:lnTo>
                  <a:lnTo>
                    <a:pt x="50" y="78"/>
                  </a:lnTo>
                  <a:lnTo>
                    <a:pt x="58" y="69"/>
                  </a:lnTo>
                  <a:lnTo>
                    <a:pt x="64" y="59"/>
                  </a:lnTo>
                  <a:lnTo>
                    <a:pt x="73" y="51"/>
                  </a:lnTo>
                  <a:lnTo>
                    <a:pt x="83" y="44"/>
                  </a:lnTo>
                  <a:lnTo>
                    <a:pt x="92" y="36"/>
                  </a:lnTo>
                  <a:lnTo>
                    <a:pt x="104" y="30"/>
                  </a:lnTo>
                  <a:lnTo>
                    <a:pt x="115" y="25"/>
                  </a:lnTo>
                  <a:lnTo>
                    <a:pt x="129" y="21"/>
                  </a:lnTo>
                  <a:lnTo>
                    <a:pt x="144" y="17"/>
                  </a:lnTo>
                  <a:lnTo>
                    <a:pt x="159" y="15"/>
                  </a:lnTo>
                  <a:lnTo>
                    <a:pt x="177" y="15"/>
                  </a:lnTo>
                  <a:lnTo>
                    <a:pt x="196" y="15"/>
                  </a:lnTo>
                  <a:lnTo>
                    <a:pt x="196" y="1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7682600">
              <a:off x="1482840" y="3581280"/>
              <a:ext cx="324000" cy="853560"/>
            </a:xfrm>
            <a:custGeom>
              <a:avLst/>
              <a:gdLst/>
              <a:ahLst/>
              <a:rect l="l" t="t" r="r" b="b"/>
              <a:pathLst>
                <a:path w="153" h="360">
                  <a:moveTo>
                    <a:pt x="127" y="360"/>
                  </a:moveTo>
                  <a:lnTo>
                    <a:pt x="127" y="360"/>
                  </a:lnTo>
                  <a:lnTo>
                    <a:pt x="134" y="312"/>
                  </a:lnTo>
                  <a:lnTo>
                    <a:pt x="144" y="259"/>
                  </a:lnTo>
                  <a:lnTo>
                    <a:pt x="150" y="230"/>
                  </a:lnTo>
                  <a:lnTo>
                    <a:pt x="151" y="201"/>
                  </a:lnTo>
                  <a:lnTo>
                    <a:pt x="153" y="172"/>
                  </a:lnTo>
                  <a:lnTo>
                    <a:pt x="153" y="145"/>
                  </a:lnTo>
                  <a:lnTo>
                    <a:pt x="151" y="117"/>
                  </a:lnTo>
                  <a:lnTo>
                    <a:pt x="144" y="92"/>
                  </a:lnTo>
                  <a:lnTo>
                    <a:pt x="140" y="80"/>
                  </a:lnTo>
                  <a:lnTo>
                    <a:pt x="134" y="69"/>
                  </a:lnTo>
                  <a:lnTo>
                    <a:pt x="127" y="57"/>
                  </a:lnTo>
                  <a:lnTo>
                    <a:pt x="119" y="46"/>
                  </a:lnTo>
                  <a:lnTo>
                    <a:pt x="109" y="36"/>
                  </a:lnTo>
                  <a:lnTo>
                    <a:pt x="98" y="28"/>
                  </a:lnTo>
                  <a:lnTo>
                    <a:pt x="86" y="21"/>
                  </a:lnTo>
                  <a:lnTo>
                    <a:pt x="71" y="15"/>
                  </a:lnTo>
                  <a:lnTo>
                    <a:pt x="56" y="9"/>
                  </a:lnTo>
                  <a:lnTo>
                    <a:pt x="40" y="3"/>
                  </a:lnTo>
                  <a:lnTo>
                    <a:pt x="21" y="2"/>
                  </a:lnTo>
                  <a:lnTo>
                    <a:pt x="2" y="0"/>
                  </a:lnTo>
                  <a:lnTo>
                    <a:pt x="0" y="15"/>
                  </a:lnTo>
                  <a:lnTo>
                    <a:pt x="19" y="17"/>
                  </a:lnTo>
                  <a:lnTo>
                    <a:pt x="36" y="21"/>
                  </a:lnTo>
                  <a:lnTo>
                    <a:pt x="52" y="25"/>
                  </a:lnTo>
                  <a:lnTo>
                    <a:pt x="65" y="28"/>
                  </a:lnTo>
                  <a:lnTo>
                    <a:pt x="79" y="34"/>
                  </a:lnTo>
                  <a:lnTo>
                    <a:pt x="88" y="42"/>
                  </a:lnTo>
                  <a:lnTo>
                    <a:pt x="98" y="49"/>
                  </a:lnTo>
                  <a:lnTo>
                    <a:pt x="105" y="57"/>
                  </a:lnTo>
                  <a:lnTo>
                    <a:pt x="113" y="67"/>
                  </a:lnTo>
                  <a:lnTo>
                    <a:pt x="119" y="76"/>
                  </a:lnTo>
                  <a:lnTo>
                    <a:pt x="125" y="86"/>
                  </a:lnTo>
                  <a:lnTo>
                    <a:pt x="128" y="97"/>
                  </a:lnTo>
                  <a:lnTo>
                    <a:pt x="134" y="120"/>
                  </a:lnTo>
                  <a:lnTo>
                    <a:pt x="138" y="145"/>
                  </a:lnTo>
                  <a:lnTo>
                    <a:pt x="138" y="172"/>
                  </a:lnTo>
                  <a:lnTo>
                    <a:pt x="136" y="201"/>
                  </a:lnTo>
                  <a:lnTo>
                    <a:pt x="132" y="228"/>
                  </a:lnTo>
                  <a:lnTo>
                    <a:pt x="128" y="257"/>
                  </a:lnTo>
                  <a:lnTo>
                    <a:pt x="119" y="310"/>
                  </a:lnTo>
                  <a:lnTo>
                    <a:pt x="111" y="358"/>
                  </a:lnTo>
                  <a:lnTo>
                    <a:pt x="111" y="358"/>
                  </a:lnTo>
                  <a:lnTo>
                    <a:pt x="127" y="3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7682600">
              <a:off x="2882880" y="3567600"/>
              <a:ext cx="322560" cy="2287080"/>
            </a:xfrm>
            <a:custGeom>
              <a:avLst/>
              <a:gdLst/>
              <a:ahLst/>
              <a:rect l="l" t="t" r="r" b="b"/>
              <a:pathLst>
                <a:path w="152" h="965">
                  <a:moveTo>
                    <a:pt x="11" y="965"/>
                  </a:moveTo>
                  <a:lnTo>
                    <a:pt x="11" y="965"/>
                  </a:lnTo>
                  <a:lnTo>
                    <a:pt x="19" y="956"/>
                  </a:lnTo>
                  <a:lnTo>
                    <a:pt x="23" y="944"/>
                  </a:lnTo>
                  <a:lnTo>
                    <a:pt x="29" y="929"/>
                  </a:lnTo>
                  <a:lnTo>
                    <a:pt x="34" y="910"/>
                  </a:lnTo>
                  <a:lnTo>
                    <a:pt x="46" y="864"/>
                  </a:lnTo>
                  <a:lnTo>
                    <a:pt x="56" y="804"/>
                  </a:lnTo>
                  <a:lnTo>
                    <a:pt x="77" y="664"/>
                  </a:lnTo>
                  <a:lnTo>
                    <a:pt x="98" y="505"/>
                  </a:lnTo>
                  <a:lnTo>
                    <a:pt x="117" y="342"/>
                  </a:lnTo>
                  <a:lnTo>
                    <a:pt x="132" y="192"/>
                  </a:lnTo>
                  <a:lnTo>
                    <a:pt x="144" y="73"/>
                  </a:lnTo>
                  <a:lnTo>
                    <a:pt x="152" y="2"/>
                  </a:lnTo>
                  <a:lnTo>
                    <a:pt x="136" y="0"/>
                  </a:lnTo>
                  <a:lnTo>
                    <a:pt x="129" y="71"/>
                  </a:lnTo>
                  <a:lnTo>
                    <a:pt x="117" y="190"/>
                  </a:lnTo>
                  <a:lnTo>
                    <a:pt x="100" y="340"/>
                  </a:lnTo>
                  <a:lnTo>
                    <a:pt x="82" y="503"/>
                  </a:lnTo>
                  <a:lnTo>
                    <a:pt x="61" y="662"/>
                  </a:lnTo>
                  <a:lnTo>
                    <a:pt x="40" y="802"/>
                  </a:lnTo>
                  <a:lnTo>
                    <a:pt x="29" y="860"/>
                  </a:lnTo>
                  <a:lnTo>
                    <a:pt x="19" y="906"/>
                  </a:lnTo>
                  <a:lnTo>
                    <a:pt x="13" y="923"/>
                  </a:lnTo>
                  <a:lnTo>
                    <a:pt x="10" y="938"/>
                  </a:lnTo>
                  <a:lnTo>
                    <a:pt x="4" y="948"/>
                  </a:lnTo>
                  <a:lnTo>
                    <a:pt x="0" y="954"/>
                  </a:lnTo>
                  <a:lnTo>
                    <a:pt x="0" y="954"/>
                  </a:lnTo>
                  <a:lnTo>
                    <a:pt x="11" y="9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7682600">
              <a:off x="4530240" y="4965480"/>
              <a:ext cx="195120" cy="1467360"/>
            </a:xfrm>
            <a:custGeom>
              <a:avLst/>
              <a:gdLst/>
              <a:ahLst/>
              <a:rect l="l" t="t" r="r" b="b"/>
              <a:pathLst>
                <a:path w="92" h="619">
                  <a:moveTo>
                    <a:pt x="12" y="604"/>
                  </a:moveTo>
                  <a:lnTo>
                    <a:pt x="16" y="612"/>
                  </a:lnTo>
                  <a:lnTo>
                    <a:pt x="18" y="577"/>
                  </a:lnTo>
                  <a:lnTo>
                    <a:pt x="21" y="508"/>
                  </a:lnTo>
                  <a:lnTo>
                    <a:pt x="27" y="418"/>
                  </a:lnTo>
                  <a:lnTo>
                    <a:pt x="35" y="314"/>
                  </a:lnTo>
                  <a:lnTo>
                    <a:pt x="46" y="211"/>
                  </a:lnTo>
                  <a:lnTo>
                    <a:pt x="60" y="119"/>
                  </a:lnTo>
                  <a:lnTo>
                    <a:pt x="68" y="78"/>
                  </a:lnTo>
                  <a:lnTo>
                    <a:pt x="77" y="48"/>
                  </a:lnTo>
                  <a:lnTo>
                    <a:pt x="81" y="34"/>
                  </a:lnTo>
                  <a:lnTo>
                    <a:pt x="85" y="23"/>
                  </a:lnTo>
                  <a:lnTo>
                    <a:pt x="89" y="15"/>
                  </a:lnTo>
                  <a:lnTo>
                    <a:pt x="92" y="11"/>
                  </a:lnTo>
                  <a:lnTo>
                    <a:pt x="81" y="0"/>
                  </a:lnTo>
                  <a:lnTo>
                    <a:pt x="75" y="7"/>
                  </a:lnTo>
                  <a:lnTo>
                    <a:pt x="69" y="17"/>
                  </a:lnTo>
                  <a:lnTo>
                    <a:pt x="66" y="29"/>
                  </a:lnTo>
                  <a:lnTo>
                    <a:pt x="62" y="42"/>
                  </a:lnTo>
                  <a:lnTo>
                    <a:pt x="52" y="77"/>
                  </a:lnTo>
                  <a:lnTo>
                    <a:pt x="45" y="115"/>
                  </a:lnTo>
                  <a:lnTo>
                    <a:pt x="31" y="209"/>
                  </a:lnTo>
                  <a:lnTo>
                    <a:pt x="20" y="312"/>
                  </a:lnTo>
                  <a:lnTo>
                    <a:pt x="12" y="416"/>
                  </a:lnTo>
                  <a:lnTo>
                    <a:pt x="4" y="508"/>
                  </a:lnTo>
                  <a:lnTo>
                    <a:pt x="0" y="577"/>
                  </a:lnTo>
                  <a:lnTo>
                    <a:pt x="0" y="612"/>
                  </a:lnTo>
                  <a:lnTo>
                    <a:pt x="4" y="619"/>
                  </a:lnTo>
                  <a:lnTo>
                    <a:pt x="0" y="612"/>
                  </a:lnTo>
                  <a:lnTo>
                    <a:pt x="0" y="616"/>
                  </a:lnTo>
                  <a:lnTo>
                    <a:pt x="4" y="619"/>
                  </a:lnTo>
                  <a:lnTo>
                    <a:pt x="12" y="6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7682600">
              <a:off x="5296320" y="5955120"/>
              <a:ext cx="110160" cy="227880"/>
            </a:xfrm>
            <a:custGeom>
              <a:avLst/>
              <a:gdLst/>
              <a:ahLst/>
              <a:rect l="l" t="t" r="r" b="b"/>
              <a:pathLst>
                <a:path w="52" h="96">
                  <a:moveTo>
                    <a:pt x="37" y="96"/>
                  </a:moveTo>
                  <a:lnTo>
                    <a:pt x="37" y="96"/>
                  </a:lnTo>
                  <a:lnTo>
                    <a:pt x="42" y="90"/>
                  </a:lnTo>
                  <a:lnTo>
                    <a:pt x="46" y="84"/>
                  </a:lnTo>
                  <a:lnTo>
                    <a:pt x="50" y="77"/>
                  </a:lnTo>
                  <a:lnTo>
                    <a:pt x="52" y="69"/>
                  </a:lnTo>
                  <a:lnTo>
                    <a:pt x="52" y="56"/>
                  </a:lnTo>
                  <a:lnTo>
                    <a:pt x="48" y="42"/>
                  </a:lnTo>
                  <a:lnTo>
                    <a:pt x="41" y="31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0" y="21"/>
                  </a:lnTo>
                  <a:lnTo>
                    <a:pt x="19" y="31"/>
                  </a:lnTo>
                  <a:lnTo>
                    <a:pt x="27" y="40"/>
                  </a:lnTo>
                  <a:lnTo>
                    <a:pt x="33" y="50"/>
                  </a:lnTo>
                  <a:lnTo>
                    <a:pt x="37" y="60"/>
                  </a:lnTo>
                  <a:lnTo>
                    <a:pt x="37" y="69"/>
                  </a:lnTo>
                  <a:lnTo>
                    <a:pt x="35" y="71"/>
                  </a:lnTo>
                  <a:lnTo>
                    <a:pt x="33" y="75"/>
                  </a:lnTo>
                  <a:lnTo>
                    <a:pt x="31" y="79"/>
                  </a:lnTo>
                  <a:lnTo>
                    <a:pt x="27" y="83"/>
                  </a:lnTo>
                  <a:lnTo>
                    <a:pt x="27" y="83"/>
                  </a:lnTo>
                  <a:lnTo>
                    <a:pt x="37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7682600">
              <a:off x="5189040" y="6222240"/>
              <a:ext cx="375480" cy="80280"/>
            </a:xfrm>
            <a:custGeom>
              <a:avLst/>
              <a:gdLst/>
              <a:ahLst/>
              <a:rect l="l" t="t" r="r" b="b"/>
              <a:pathLst>
                <a:path w="177" h="34">
                  <a:moveTo>
                    <a:pt x="0" y="15"/>
                  </a:moveTo>
                  <a:lnTo>
                    <a:pt x="0" y="15"/>
                  </a:lnTo>
                  <a:lnTo>
                    <a:pt x="23" y="23"/>
                  </a:lnTo>
                  <a:lnTo>
                    <a:pt x="48" y="27"/>
                  </a:lnTo>
                  <a:lnTo>
                    <a:pt x="73" y="32"/>
                  </a:lnTo>
                  <a:lnTo>
                    <a:pt x="98" y="34"/>
                  </a:lnTo>
                  <a:lnTo>
                    <a:pt x="121" y="34"/>
                  </a:lnTo>
                  <a:lnTo>
                    <a:pt x="140" y="34"/>
                  </a:lnTo>
                  <a:lnTo>
                    <a:pt x="152" y="32"/>
                  </a:lnTo>
                  <a:lnTo>
                    <a:pt x="159" y="29"/>
                  </a:lnTo>
                  <a:lnTo>
                    <a:pt x="169" y="25"/>
                  </a:lnTo>
                  <a:lnTo>
                    <a:pt x="177" y="21"/>
                  </a:lnTo>
                  <a:lnTo>
                    <a:pt x="167" y="8"/>
                  </a:lnTo>
                  <a:lnTo>
                    <a:pt x="161" y="11"/>
                  </a:lnTo>
                  <a:lnTo>
                    <a:pt x="156" y="15"/>
                  </a:lnTo>
                  <a:lnTo>
                    <a:pt x="148" y="17"/>
                  </a:lnTo>
                  <a:lnTo>
                    <a:pt x="140" y="17"/>
                  </a:lnTo>
                  <a:lnTo>
                    <a:pt x="121" y="19"/>
                  </a:lnTo>
                  <a:lnTo>
                    <a:pt x="98" y="19"/>
                  </a:lnTo>
                  <a:lnTo>
                    <a:pt x="75" y="15"/>
                  </a:lnTo>
                  <a:lnTo>
                    <a:pt x="52" y="11"/>
                  </a:lnTo>
                  <a:lnTo>
                    <a:pt x="27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7682600">
              <a:off x="2280600" y="3307320"/>
              <a:ext cx="197280" cy="2166120"/>
            </a:xfrm>
            <a:custGeom>
              <a:avLst/>
              <a:gdLst/>
              <a:ahLst/>
              <a:rect l="l" t="t" r="r" b="b"/>
              <a:pathLst>
                <a:path w="93" h="914">
                  <a:moveTo>
                    <a:pt x="27" y="0"/>
                  </a:moveTo>
                  <a:lnTo>
                    <a:pt x="39" y="4"/>
                  </a:lnTo>
                  <a:lnTo>
                    <a:pt x="64" y="20"/>
                  </a:lnTo>
                  <a:lnTo>
                    <a:pt x="69" y="25"/>
                  </a:lnTo>
                  <a:lnTo>
                    <a:pt x="75" y="31"/>
                  </a:lnTo>
                  <a:lnTo>
                    <a:pt x="81" y="39"/>
                  </a:lnTo>
                  <a:lnTo>
                    <a:pt x="87" y="48"/>
                  </a:lnTo>
                  <a:lnTo>
                    <a:pt x="91" y="60"/>
                  </a:lnTo>
                  <a:lnTo>
                    <a:pt x="93" y="71"/>
                  </a:lnTo>
                  <a:lnTo>
                    <a:pt x="93" y="85"/>
                  </a:lnTo>
                  <a:lnTo>
                    <a:pt x="93" y="100"/>
                  </a:lnTo>
                  <a:lnTo>
                    <a:pt x="85" y="160"/>
                  </a:lnTo>
                  <a:lnTo>
                    <a:pt x="73" y="263"/>
                  </a:lnTo>
                  <a:lnTo>
                    <a:pt x="60" y="394"/>
                  </a:lnTo>
                  <a:lnTo>
                    <a:pt x="45" y="538"/>
                  </a:lnTo>
                  <a:lnTo>
                    <a:pt x="29" y="680"/>
                  </a:lnTo>
                  <a:lnTo>
                    <a:pt x="16" y="799"/>
                  </a:lnTo>
                  <a:lnTo>
                    <a:pt x="6" y="883"/>
                  </a:lnTo>
                  <a:lnTo>
                    <a:pt x="4" y="914"/>
                  </a:lnTo>
                  <a:lnTo>
                    <a:pt x="4" y="881"/>
                  </a:lnTo>
                  <a:lnTo>
                    <a:pt x="10" y="793"/>
                  </a:lnTo>
                  <a:lnTo>
                    <a:pt x="16" y="668"/>
                  </a:lnTo>
                  <a:lnTo>
                    <a:pt x="23" y="524"/>
                  </a:lnTo>
                  <a:lnTo>
                    <a:pt x="31" y="378"/>
                  </a:lnTo>
                  <a:lnTo>
                    <a:pt x="37" y="248"/>
                  </a:lnTo>
                  <a:lnTo>
                    <a:pt x="41" y="150"/>
                  </a:lnTo>
                  <a:lnTo>
                    <a:pt x="43" y="104"/>
                  </a:lnTo>
                  <a:lnTo>
                    <a:pt x="43" y="98"/>
                  </a:lnTo>
                  <a:lnTo>
                    <a:pt x="41" y="91"/>
                  </a:lnTo>
                  <a:lnTo>
                    <a:pt x="39" y="85"/>
                  </a:lnTo>
                  <a:lnTo>
                    <a:pt x="35" y="79"/>
                  </a:lnTo>
                  <a:lnTo>
                    <a:pt x="27" y="71"/>
                  </a:lnTo>
                  <a:lnTo>
                    <a:pt x="18" y="62"/>
                  </a:lnTo>
                  <a:lnTo>
                    <a:pt x="10" y="54"/>
                  </a:lnTo>
                  <a:lnTo>
                    <a:pt x="2" y="47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4" y="31"/>
                  </a:lnTo>
                  <a:lnTo>
                    <a:pt x="22" y="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abd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552680" y="5638680"/>
            <a:ext cx="709560" cy="709560"/>
            <a:chOff x="1552680" y="5638680"/>
            <a:chExt cx="709560" cy="709560"/>
          </a:xfrm>
        </p:grpSpPr>
        <p:sp>
          <p:nvSpPr>
            <p:cNvPr id="56" name=""/>
            <p:cNvSpPr/>
            <p:nvPr/>
          </p:nvSpPr>
          <p:spPr>
            <a:xfrm>
              <a:off x="2092320" y="61783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9200" y="61448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30400" y="61164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6640" y="60926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87560" y="60735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67040" y="60530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51200" y="60368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33560" y="60195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17720" y="60037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6560" y="59925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90720" y="59767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78120" y="59641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63720" y="59497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51120" y="59371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41760" y="59274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30600" y="59162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17640" y="59036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08280" y="58942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98560" y="58845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87760" y="58734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78040" y="58640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68680" y="58543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8960" y="58449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52840" y="58384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44920" y="58305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35200" y="58212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28720" y="58147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9360" y="58053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14680" y="58003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04960" y="57909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8840" y="57844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92360" y="57783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85880" y="5771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9760" y="57654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4720" y="57607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68600" y="57546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62120" y="57481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56000" y="57416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49520" y="57355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43040" y="57290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39800" y="57258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35120" y="57211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31880" y="57178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25760" y="57114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22520" y="57085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16040" y="5702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13160" y="56988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09920" y="56955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03440" y="56894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00200" y="56862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98760" y="5684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95520" y="56815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92280" y="56782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89040" y="56750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86160" y="56718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82920" y="56685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82920" y="56685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79680" y="56656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76440" y="56624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76440" y="56624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73200" y="56592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73200" y="56592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69960" y="56559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69960" y="56559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67080" y="56527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67080" y="56527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67080" y="56527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67080" y="56527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7080" y="56527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7080" y="56527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67080" y="56527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67080" y="56527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67080" y="56527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67080" y="56527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67080" y="56527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67080" y="56527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9960" y="56559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9960" y="56559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73200" y="56592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73200" y="56592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76440" y="56624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79680" y="56656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82920" y="56685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86160" y="56718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89040" y="56750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92280" y="56782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95520" y="56815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98760" y="56844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0200" y="56862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3440" y="56894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6680" y="56926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9920" y="56955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13160" y="56988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16040" y="57020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9280" y="57052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22520" y="57085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25760" y="57114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29000" y="57146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31880" y="57178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35120" y="57211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36920" y="57225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39800" y="57258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43040" y="57290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46280" y="57322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49520" y="57355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52760" y="57384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56000" y="57416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58880" y="57448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62120" y="57481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5360" y="57513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8600" y="57546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71840" y="57574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4720" y="57607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6520" y="57625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79760" y="57654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83000" y="57686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85880" y="57718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89120" y="57751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92360" y="57783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95600" y="57812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98840" y="57844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01720" y="57877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4960" y="57909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08200" y="57942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11440" y="57974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14680" y="58003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16120" y="58021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19360" y="58053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22600" y="58082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25840" y="58114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28720" y="58147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31960" y="58179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35200" y="58212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38440" y="58244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41680" y="58273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44920" y="58305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47800" y="58338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51040" y="58370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2840" y="58384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55720" y="58417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58960" y="58449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62200" y="58482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65440" y="58514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68680" y="58543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71560" y="58575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74800" y="58608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78040" y="58640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81280" y="58672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84520" y="58701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87760" y="58734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90640" y="58766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92440" y="5878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95680" y="58813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98560" y="58845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01800" y="58878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05040" y="58910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08280" y="58942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08360" y="56386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08360" y="59940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2680" y="59940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52680" y="56386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71840" y="57322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4320" y="56815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68600" y="57686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70280" y="57225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92360" y="58384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47960" y="57974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1440" y="59101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40040" y="58672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25840" y="59893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43280" y="59338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60530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51200" y="60004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04960" y="61099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73520" y="60559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83000" y="61750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06640" y="61164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43360" y="61657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643120" y="5867280"/>
            <a:ext cx="709560" cy="709560"/>
            <a:chOff x="2643120" y="5867280"/>
            <a:chExt cx="709560" cy="709560"/>
          </a:xfrm>
        </p:grpSpPr>
        <p:sp>
          <p:nvSpPr>
            <p:cNvPr id="235" name=""/>
            <p:cNvSpPr/>
            <p:nvPr/>
          </p:nvSpPr>
          <p:spPr>
            <a:xfrm>
              <a:off x="3182760" y="64069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9640" y="63734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20840" y="63450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97080" y="63212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78000" y="63021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57480" y="62816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1640" y="62654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24000" y="62481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08160" y="62323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97000" y="62211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81160" y="62053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68560" y="61927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54160" y="61783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41560" y="61657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2200" y="61560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21040" y="61448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08080" y="61322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8720" y="61228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89000" y="61131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78200" y="61020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68480" y="60926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59120" y="60829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49400" y="60735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43280" y="60670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35360" y="60591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25640" y="60498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19160" y="60433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09800" y="60339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05120" y="60289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95400" y="60195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89280" y="60130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82800" y="60069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6320" y="60004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70200" y="59940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65160" y="59893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59040" y="59832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52560" y="59767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46440" y="59702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9960" y="59641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33480" y="59576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30240" y="59544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25560" y="59497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22320" y="59464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16200" y="59400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12960" y="59371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06480" y="59306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03600" y="59274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00360" y="5924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93880" y="59180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90640" y="59148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89200" y="59130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85960" y="59101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82720" y="59068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79480" y="59036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76600" y="5900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73360" y="58971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73360" y="5897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70120" y="58942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6880" y="5891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6880" y="58910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3640" y="58878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63640" y="58878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0400" y="58845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60400" y="58845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57520" y="58813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57520" y="58813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57520" y="58813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7520" y="58813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57520" y="58813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57520" y="58813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57520" y="58813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57520" y="58813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57520" y="58813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57520" y="58813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57520" y="58813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57520" y="58813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0400" y="58845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60400" y="58845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63640" y="58878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63640" y="58878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66880" y="58910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70120" y="58942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73360" y="58971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76600" y="59004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79480" y="59036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82720" y="59068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85960" y="59101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89200" y="59130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90640" y="59148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93880" y="59180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97120" y="59212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00360" y="59241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03600" y="59274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06480" y="59306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09720" y="59338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12960" y="59371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16200" y="59400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19440" y="59432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22320" y="59464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25560" y="59497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27360" y="59511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30240" y="59544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33480" y="59576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36720" y="59608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9960" y="59641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59670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46440" y="59702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9320" y="59734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52560" y="59767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55800" y="59799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59040" y="59832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62280" y="59860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65160" y="59893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66960" y="59911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70200" y="59940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73440" y="59972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76320" y="60004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79560" y="60037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82800" y="60069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86040" y="60098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89280" y="60130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92160" y="60163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95400" y="60195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98640" y="60228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01880" y="60260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05120" y="60289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06560" y="60307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809800" y="60339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3040" y="60368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16280" y="60400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160" y="60433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22400" y="60465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25640" y="60498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28880" y="60530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32120" y="60559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35360" y="60591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38240" y="60624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841480" y="60656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43280" y="60670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46160" y="60703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9400" y="60735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52640" y="60768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55880" y="60800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859120" y="60829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62000" y="60861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65240" y="60894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68480" y="60926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71720" y="60958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74960" y="60987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78200" y="61020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81080" y="61052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82880" y="6106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86120" y="61099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89000" y="61131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92240" y="61164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95480" y="6119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98720" y="61228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98800" y="58672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98800" y="62226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43120" y="62226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43120" y="58672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62280" y="59608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74760" y="59101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59040" y="5997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60720" y="59511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82800" y="60670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38400" y="60260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01880" y="61387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30480" y="60958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16280" y="62179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33720" y="61624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09800" y="62816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1640" y="62290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95400" y="63385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63960" y="62845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73440" y="64036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97080" y="63450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33800" y="63943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33440" y="5867280"/>
            <a:ext cx="709560" cy="709560"/>
            <a:chOff x="433440" y="5867280"/>
            <a:chExt cx="709560" cy="709560"/>
          </a:xfrm>
        </p:grpSpPr>
        <p:sp>
          <p:nvSpPr>
            <p:cNvPr id="414" name=""/>
            <p:cNvSpPr/>
            <p:nvPr/>
          </p:nvSpPr>
          <p:spPr>
            <a:xfrm>
              <a:off x="973080" y="64069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39960" y="63734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1160" y="63450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87400" y="63212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68320" y="63021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47800" y="62816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1960" y="62654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4320" y="62481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480" y="62323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7320" y="62211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1480" y="62053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8880" y="61927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4480" y="61783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1880" y="61657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2520" y="61560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1360" y="61448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8400" y="61322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9040" y="61228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9320" y="61131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68520" y="61020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8800" y="60926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9440" y="60829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9720" y="60735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3600" y="60670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5680" y="60591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5960" y="60498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9480" y="60433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0120" y="60339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5440" y="60289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5720" y="60195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9600" y="60130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3120" y="60069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6640" y="60004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0520" y="59940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5480" y="59893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9360" y="59832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2880" y="59767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6760" y="59702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0280" y="59641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3800" y="59576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0560" y="59544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5880" y="59497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2640" y="59464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6520" y="59400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3280" y="59371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6800" y="59306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920" y="59274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0680" y="5924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4200" y="59180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0960" y="59148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9520" y="59130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6280" y="59101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3040" y="59068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9800" y="59036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6920" y="5900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63680" y="58971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3680" y="5897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0440" y="58942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7200" y="5891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7200" y="58910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3960" y="58878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3960" y="58878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0720" y="58845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0720" y="58845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7840" y="58813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7840" y="58813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7840" y="58813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7840" y="58813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7840" y="58813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7840" y="58813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7840" y="58813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7840" y="58813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7840" y="58813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7840" y="58813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7840" y="58813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7840" y="58813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0720" y="58845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0720" y="58845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3960" y="58878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3960" y="58878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8910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0440" y="58942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3680" y="58971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6920" y="59004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9800" y="59036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3040" y="59068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6280" y="59101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9520" y="59130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0960" y="59148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4200" y="59180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7440" y="59212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0680" y="59241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3920" y="59274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6800" y="59306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0040" y="59338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280" y="59371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6520" y="59400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9760" y="59432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2640" y="59464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5880" y="59497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7680" y="59511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0560" y="59544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3800" y="59576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7040" y="59608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0280" y="59641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3520" y="59670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6760" y="59702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9640" y="59734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2880" y="59767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6120" y="59799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9360" y="59832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2600" y="59860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5480" y="59893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280" y="59911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0520" y="59940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3760" y="59972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6640" y="60004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9880" y="60037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3120" y="60069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6360" y="60098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9600" y="60130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2480" y="60163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5720" y="60195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8960" y="60228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2200" y="60260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5440" y="60289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6880" y="60307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0120" y="60339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3360" y="60368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6600" y="60400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9480" y="60433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2720" y="60465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5960" y="60498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9200" y="60530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440" y="60559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5680" y="60591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8560" y="60624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1800" y="60656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3600" y="60670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6480" y="60703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9720" y="60735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2960" y="60768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46200" y="60800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49440" y="60829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2320" y="60861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5560" y="60894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8800" y="60926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040" y="60958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5280" y="60987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8520" y="61020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1400" y="61052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3200" y="6106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6440" y="61099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9320" y="61131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2560" y="61164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5800" y="6119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9040" y="61228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120" y="58672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9120" y="62226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3440" y="62226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3440" y="58672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2600" y="59608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65080" y="59101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9360" y="5997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1040" y="59511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73120" y="60670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8720" y="60260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2200" y="61387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0800" y="60958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6600" y="62179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4040" y="61624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0120" y="62816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1960" y="62290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5720" y="63385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54280" y="62845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3760" y="64036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87400" y="63450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24120" y="63943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7062840" y="5638680"/>
            <a:ext cx="709560" cy="709560"/>
            <a:chOff x="7062840" y="5638680"/>
            <a:chExt cx="709560" cy="709560"/>
          </a:xfrm>
        </p:grpSpPr>
        <p:sp>
          <p:nvSpPr>
            <p:cNvPr id="593" name=""/>
            <p:cNvSpPr/>
            <p:nvPr/>
          </p:nvSpPr>
          <p:spPr>
            <a:xfrm>
              <a:off x="7602480" y="61783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69360" y="61448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40560" y="61164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16800" y="60926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97720" y="60735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77200" y="60530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61360" y="60368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43720" y="60195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27880" y="60037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16720" y="59925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0880" y="59767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88280" y="59641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73880" y="59497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61280" y="59371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51920" y="59274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40760" y="59162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27800" y="59036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18440" y="58942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08720" y="58845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97920" y="58734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88200" y="58640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78840" y="58543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69120" y="58449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63000" y="58384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55080" y="58305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45360" y="58212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38880" y="58147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9520" y="58053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24840" y="58003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15120" y="57909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09000" y="57844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02520" y="57783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96040" y="5771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189920" y="57654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184880" y="57607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78760" y="57546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172280" y="57481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166160" y="57416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59680" y="57355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53200" y="57290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49960" y="57258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45280" y="57211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42040" y="57178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135920" y="57114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32680" y="57085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26200" y="5702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23320" y="56988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20080" y="56955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13600" y="56894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10360" y="56862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108920" y="5684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05680" y="56815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02440" y="56782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99200" y="56750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96320" y="56718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93080" y="56685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93080" y="56685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089840" y="56656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086600" y="56624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86600" y="56624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83360" y="56592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083360" y="56592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080120" y="56559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080120" y="56559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77240" y="56527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77240" y="56527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77240" y="56527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77240" y="56527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077240" y="56527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077240" y="56527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077240" y="56527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77240" y="56527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077240" y="56527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77240" y="56527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77240" y="56527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77240" y="56527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80120" y="56559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80120" y="56559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083360" y="56592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83360" y="56592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86600" y="56624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89840" y="56656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093080" y="56685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96320" y="56718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099200" y="56750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02440" y="56782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05680" y="56815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8920" y="56844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10360" y="56862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13600" y="56894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16840" y="56926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20080" y="56955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23320" y="56988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26200" y="57020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29440" y="57052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32680" y="57085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35920" y="57114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39160" y="57146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42040" y="57178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45280" y="57211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47080" y="57225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49960" y="57258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53200" y="57290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56440" y="57322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59680" y="57355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62920" y="57384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166160" y="57416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69040" y="57448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72280" y="57481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75520" y="57513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78760" y="57546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82000" y="57574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84880" y="57607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86680" y="57625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89920" y="57654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3160" y="57686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96040" y="57718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99280" y="57751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202520" y="57783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05760" y="57812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09000" y="57844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11880" y="57877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15120" y="57909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18360" y="57942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21600" y="57974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24840" y="58003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26280" y="58021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29520" y="58053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2760" y="58082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36000" y="58114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38880" y="58147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242120" y="58179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45360" y="58212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48600" y="58244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251840" y="58273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55080" y="58305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257960" y="58338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61200" y="58370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63000" y="58384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65880" y="58417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69120" y="58449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72360" y="58482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75600" y="58514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78840" y="58543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281720" y="58575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284960" y="58608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288200" y="58640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91440" y="58672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94680" y="58701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297920" y="58734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300800" y="58766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02600" y="5878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05840" y="58813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08720" y="58845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11960" y="58878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15200" y="58910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8440" y="58942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418520" y="56386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418520" y="59940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062840" y="59940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62840" y="56386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2000" y="57322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94480" y="56815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78760" y="57686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80440" y="57225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02520" y="58384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458120" y="57974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21600" y="59101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450200" y="58672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6000" y="59893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53440" y="59338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29520" y="60530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461360" y="60004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15120" y="61099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83680" y="60559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93160" y="61750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16800" y="61164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553520" y="61657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8153280" y="5867280"/>
            <a:ext cx="709560" cy="709560"/>
            <a:chOff x="8153280" y="5867280"/>
            <a:chExt cx="709560" cy="709560"/>
          </a:xfrm>
        </p:grpSpPr>
        <p:sp>
          <p:nvSpPr>
            <p:cNvPr id="772" name=""/>
            <p:cNvSpPr/>
            <p:nvPr/>
          </p:nvSpPr>
          <p:spPr>
            <a:xfrm>
              <a:off x="8692920" y="64069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659800" y="63734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631000" y="63450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607240" y="63212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588160" y="63021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567640" y="62816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551800" y="62654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534160" y="62481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18320" y="62323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507160" y="62211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491320" y="62053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478720" y="61927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464320" y="61783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451720" y="61657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442360" y="61560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431200" y="61448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418240" y="61322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408880" y="61228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399160" y="61131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388360" y="61020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378640" y="60926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369280" y="60829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359560" y="60735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53440" y="60670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345520" y="60591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335800" y="60498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329320" y="60433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19960" y="60339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315280" y="60289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05560" y="60195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299440" y="60130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292960" y="60069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286480" y="60004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280360" y="59940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275320" y="59893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69200" y="59832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262720" y="59767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256600" y="59702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250120" y="59641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243640" y="59576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240400" y="59544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235720" y="59497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232480" y="59464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226360" y="59400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223120" y="59371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216640" y="59306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213760" y="59274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210520" y="5924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204040" y="59180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200800" y="59148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199360" y="59130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196120" y="59101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192880" y="59068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189640" y="59036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186760" y="5900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183520" y="58971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183520" y="5897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180280" y="58942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177040" y="5891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177040" y="58910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173800" y="58878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173800" y="58878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170560" y="58845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170560" y="58845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167680" y="58813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167680" y="58813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167680" y="58813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167680" y="58813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167680" y="58813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167680" y="58813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167680" y="58813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167680" y="58813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167680" y="58813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167680" y="58813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67680" y="58813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167680" y="58813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170560" y="58845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170560" y="58845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173800" y="58878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173800" y="58878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177040" y="58910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180280" y="58942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183520" y="58971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186760" y="59004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189640" y="59036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192880" y="59068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196120" y="59101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99360" y="59130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00800" y="59148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204040" y="59180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207280" y="59212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210520" y="59241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13760" y="59274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216640" y="59306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219880" y="59338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223120" y="59371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226360" y="59400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229600" y="59432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32480" y="59464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235720" y="59497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237520" y="59511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240400" y="59544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243640" y="59576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46880" y="59608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250120" y="59641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253360" y="59670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256600" y="59702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259480" y="59734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262720" y="59767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265960" y="59799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269200" y="59832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272440" y="59860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275320" y="59893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277120" y="59911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280360" y="59940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283600" y="59972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286480" y="60004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289720" y="60037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292960" y="60069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296200" y="60098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299440" y="60130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302320" y="60163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305560" y="60195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308800" y="60228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12040" y="60260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315280" y="60289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316720" y="60307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319960" y="60339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323200" y="60368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326440" y="60400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29320" y="60433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332560" y="60465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335800" y="60498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339040" y="60530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342280" y="60559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345520" y="60591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348400" y="60624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351640" y="60656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353440" y="60670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56320" y="60703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359560" y="60735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62800" y="60768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366040" y="60800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369280" y="60829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372160" y="60861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375400" y="60894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378640" y="60926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81880" y="60958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85120" y="60987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8360" y="61020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391240" y="61052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93040" y="6106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396280" y="61099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399160" y="61131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402400" y="61164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405640" y="6119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408880" y="61228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508960" y="58672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508960" y="62226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53280" y="62226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53280" y="58672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272440" y="59608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584920" y="59101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269200" y="5997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570880" y="59511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292960" y="60670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548560" y="60260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12040" y="61387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540640" y="60958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326440" y="62179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543880" y="61624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319960" y="62816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551800" y="62290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305560" y="63385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574120" y="62845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283600" y="64036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607240" y="63450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643960" y="63943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943600" y="5867280"/>
            <a:ext cx="709560" cy="709560"/>
            <a:chOff x="5943600" y="5867280"/>
            <a:chExt cx="709560" cy="709560"/>
          </a:xfrm>
        </p:grpSpPr>
        <p:sp>
          <p:nvSpPr>
            <p:cNvPr id="951" name=""/>
            <p:cNvSpPr/>
            <p:nvPr/>
          </p:nvSpPr>
          <p:spPr>
            <a:xfrm>
              <a:off x="6483240" y="64069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450120" y="63734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421320" y="63450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397560" y="63212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378480" y="63021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57960" y="62816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42120" y="62654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324480" y="62481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308640" y="62323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297480" y="62211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81640" y="62053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69040" y="61927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254640" y="61783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42040" y="61657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32680" y="61560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21520" y="61448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08560" y="61322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99200" y="61228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189480" y="61131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78680" y="61020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168960" y="60926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159600" y="60829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149880" y="60735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143760" y="60670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135840" y="60591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126120" y="60498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119640" y="60433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110280" y="60339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105600" y="60289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95880" y="60195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89760" y="60130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83280" y="60069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076800" y="60004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70680" y="59940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065640" y="59893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059520" y="59832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053040" y="59767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046920" y="59702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040440" y="59641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33960" y="59576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030720" y="59544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026040" y="59497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22800" y="59464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16680" y="59400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013440" y="59371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006960" y="59306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04080" y="59274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00840" y="5924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994360" y="59180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991120" y="59148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989680" y="59130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986440" y="59101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83200" y="59068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979960" y="59036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977080" y="5900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973840" y="58971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973840" y="5897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70600" y="58942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67360" y="5891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967360" y="58910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964120" y="58878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64120" y="58878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960880" y="58845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960880" y="58845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958000" y="58813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958000" y="58813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958000" y="58813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958000" y="58813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958000" y="58813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58000" y="58813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958000" y="58813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58000" y="58813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58000" y="58813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958000" y="58813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958000" y="58813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958000" y="58813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960880" y="58845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60880" y="58845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964120" y="58878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64120" y="58878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967360" y="58910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970600" y="58942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973840" y="58971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977080" y="59004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979960" y="59036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983200" y="59068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986440" y="59101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989680" y="59130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991120" y="59148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994360" y="59180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97600" y="59212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00840" y="59241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04080" y="59274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006960" y="59306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10200" y="59338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013440" y="59371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016680" y="59400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19920" y="59432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022800" y="59464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26040" y="59497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027840" y="59511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030720" y="59544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033960" y="59576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037200" y="59608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40440" y="59641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043680" y="59670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046920" y="59702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049800" y="59734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053040" y="59767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056280" y="59799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059520" y="59832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062760" y="59860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065640" y="59893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067440" y="59911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070680" y="59940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73920" y="59972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076800" y="60004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080040" y="60037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083280" y="60069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086520" y="60098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089760" y="60130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92640" y="60163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095880" y="60195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099120" y="60228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02360" y="60260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105600" y="60289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107040" y="60307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110280" y="60339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113520" y="60368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116760" y="60400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119640" y="60433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122880" y="60465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126120" y="60498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129360" y="60530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132600" y="60559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135840" y="60591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138720" y="60624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141960" y="60656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143760" y="60670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146640" y="60703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149880" y="60735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153120" y="60768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156360" y="60800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159600" y="60829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162480" y="60861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165720" y="60894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168960" y="60926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172200" y="60958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75440" y="60987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178680" y="61020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181560" y="61052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183360" y="6106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86600" y="61099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189480" y="61131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92720" y="61164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195960" y="6119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99200" y="61228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299280" y="58672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299280" y="62226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943600" y="62226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943600" y="58672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062760" y="59608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375240" y="59101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59520" y="5997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361200" y="59511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83280" y="60670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338880" y="60260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102360" y="61387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330960" y="60958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116760" y="62179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334200" y="61624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110280" y="62816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342120" y="62290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95880" y="63385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364440" y="62845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73920" y="64036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97560" y="63450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34280" y="63943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 rot="21567000">
            <a:off x="533520" y="266652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19320" y="320040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696080" y="213372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8153280" y="3276720"/>
            <a:ext cx="38124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219320" y="205740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103800">
            <a:off x="8381520" y="2590560"/>
            <a:ext cx="38124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229600" y="42670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848720" y="5181480"/>
            <a:ext cx="30456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9480" y="4495680"/>
            <a:ext cx="38124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19320" y="5105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02000" y="2041560"/>
            <a:ext cx="48067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cc"/>
                </a:solidFill>
                <a:latin typeface="華康少女文字W5"/>
                <a:ea typeface="華康少女文字W5"/>
              </a:rPr>
              <a:t> </a:t>
            </a:r>
            <a:r>
              <a:rPr b="1" lang="zh-TW" sz="5000" spc="-1" strike="noStrike">
                <a:solidFill>
                  <a:srgbClr val="0000cc"/>
                </a:solidFill>
                <a:latin typeface="華康少女文字W5"/>
                <a:ea typeface="華康少女文字W5"/>
              </a:rPr>
              <a:t>比賽公告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 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時間：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10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月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25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       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下午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2</a:t>
            </a:r>
            <a:r>
              <a:rPr b="0" lang="zh-TW" sz="4000" spc="-1" strike="noStrike">
                <a:solidFill>
                  <a:srgbClr val="0000ff"/>
                </a:solidFill>
                <a:latin typeface="BatangChe"/>
                <a:ea typeface="BatangChe"/>
              </a:rPr>
              <a:t>~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5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 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地點：學校操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3888720" y="3433680"/>
            <a:ext cx="4463280" cy="3400560"/>
            <a:chOff x="3888720" y="3433680"/>
            <a:chExt cx="4463280" cy="3400560"/>
          </a:xfrm>
        </p:grpSpPr>
        <p:sp>
          <p:nvSpPr>
            <p:cNvPr id="1141" name=""/>
            <p:cNvSpPr/>
            <p:nvPr/>
          </p:nvSpPr>
          <p:spPr>
            <a:xfrm rot="3355200">
              <a:off x="5668920" y="2750400"/>
              <a:ext cx="880560" cy="4766760"/>
            </a:xfrm>
            <a:custGeom>
              <a:avLst/>
              <a:gdLst/>
              <a:ahLst/>
              <a:rect l="l" t="t" r="r" b="b"/>
              <a:pathLst>
                <a:path w="415" h="2011">
                  <a:moveTo>
                    <a:pt x="29" y="1992"/>
                  </a:moveTo>
                  <a:lnTo>
                    <a:pt x="21" y="1990"/>
                  </a:lnTo>
                  <a:lnTo>
                    <a:pt x="16" y="1986"/>
                  </a:lnTo>
                  <a:lnTo>
                    <a:pt x="10" y="1982"/>
                  </a:lnTo>
                  <a:lnTo>
                    <a:pt x="6" y="1976"/>
                  </a:lnTo>
                  <a:lnTo>
                    <a:pt x="2" y="1970"/>
                  </a:lnTo>
                  <a:lnTo>
                    <a:pt x="0" y="1965"/>
                  </a:lnTo>
                  <a:lnTo>
                    <a:pt x="0" y="1957"/>
                  </a:lnTo>
                  <a:lnTo>
                    <a:pt x="0" y="1951"/>
                  </a:lnTo>
                  <a:lnTo>
                    <a:pt x="2" y="1944"/>
                  </a:lnTo>
                  <a:lnTo>
                    <a:pt x="6" y="1938"/>
                  </a:lnTo>
                  <a:lnTo>
                    <a:pt x="10" y="1930"/>
                  </a:lnTo>
                  <a:lnTo>
                    <a:pt x="16" y="1924"/>
                  </a:lnTo>
                  <a:lnTo>
                    <a:pt x="21" y="1919"/>
                  </a:lnTo>
                  <a:lnTo>
                    <a:pt x="31" y="1915"/>
                  </a:lnTo>
                  <a:lnTo>
                    <a:pt x="41" y="1911"/>
                  </a:lnTo>
                  <a:lnTo>
                    <a:pt x="50" y="1907"/>
                  </a:lnTo>
                  <a:lnTo>
                    <a:pt x="60" y="1863"/>
                  </a:lnTo>
                  <a:lnTo>
                    <a:pt x="69" y="1794"/>
                  </a:lnTo>
                  <a:lnTo>
                    <a:pt x="79" y="1708"/>
                  </a:lnTo>
                  <a:lnTo>
                    <a:pt x="87" y="1612"/>
                  </a:lnTo>
                  <a:lnTo>
                    <a:pt x="89" y="1564"/>
                  </a:lnTo>
                  <a:lnTo>
                    <a:pt x="90" y="1516"/>
                  </a:lnTo>
                  <a:lnTo>
                    <a:pt x="92" y="1470"/>
                  </a:lnTo>
                  <a:lnTo>
                    <a:pt x="92" y="1426"/>
                  </a:lnTo>
                  <a:lnTo>
                    <a:pt x="90" y="1387"/>
                  </a:lnTo>
                  <a:lnTo>
                    <a:pt x="89" y="1351"/>
                  </a:lnTo>
                  <a:lnTo>
                    <a:pt x="83" y="1322"/>
                  </a:lnTo>
                  <a:lnTo>
                    <a:pt x="77" y="1299"/>
                  </a:lnTo>
                  <a:lnTo>
                    <a:pt x="69" y="1251"/>
                  </a:lnTo>
                  <a:lnTo>
                    <a:pt x="66" y="1194"/>
                  </a:lnTo>
                  <a:lnTo>
                    <a:pt x="62" y="1128"/>
                  </a:lnTo>
                  <a:lnTo>
                    <a:pt x="60" y="1057"/>
                  </a:lnTo>
                  <a:lnTo>
                    <a:pt x="60" y="902"/>
                  </a:lnTo>
                  <a:lnTo>
                    <a:pt x="62" y="741"/>
                  </a:lnTo>
                  <a:lnTo>
                    <a:pt x="67" y="587"/>
                  </a:lnTo>
                  <a:lnTo>
                    <a:pt x="73" y="453"/>
                  </a:lnTo>
                  <a:lnTo>
                    <a:pt x="79" y="351"/>
                  </a:lnTo>
                  <a:lnTo>
                    <a:pt x="81" y="296"/>
                  </a:lnTo>
                  <a:lnTo>
                    <a:pt x="81" y="261"/>
                  </a:lnTo>
                  <a:lnTo>
                    <a:pt x="83" y="215"/>
                  </a:lnTo>
                  <a:lnTo>
                    <a:pt x="83" y="190"/>
                  </a:lnTo>
                  <a:lnTo>
                    <a:pt x="87" y="165"/>
                  </a:lnTo>
                  <a:lnTo>
                    <a:pt x="90" y="138"/>
                  </a:lnTo>
                  <a:lnTo>
                    <a:pt x="96" y="113"/>
                  </a:lnTo>
                  <a:lnTo>
                    <a:pt x="106" y="90"/>
                  </a:lnTo>
                  <a:lnTo>
                    <a:pt x="117" y="67"/>
                  </a:lnTo>
                  <a:lnTo>
                    <a:pt x="123" y="58"/>
                  </a:lnTo>
                  <a:lnTo>
                    <a:pt x="131" y="46"/>
                  </a:lnTo>
                  <a:lnTo>
                    <a:pt x="140" y="39"/>
                  </a:lnTo>
                  <a:lnTo>
                    <a:pt x="150" y="29"/>
                  </a:lnTo>
                  <a:lnTo>
                    <a:pt x="161" y="23"/>
                  </a:lnTo>
                  <a:lnTo>
                    <a:pt x="173" y="16"/>
                  </a:lnTo>
                  <a:lnTo>
                    <a:pt x="186" y="10"/>
                  </a:lnTo>
                  <a:lnTo>
                    <a:pt x="200" y="6"/>
                  </a:lnTo>
                  <a:lnTo>
                    <a:pt x="215" y="2"/>
                  </a:lnTo>
                  <a:lnTo>
                    <a:pt x="232" y="0"/>
                  </a:lnTo>
                  <a:lnTo>
                    <a:pt x="250" y="0"/>
                  </a:lnTo>
                  <a:lnTo>
                    <a:pt x="271" y="0"/>
                  </a:lnTo>
                  <a:lnTo>
                    <a:pt x="290" y="2"/>
                  </a:lnTo>
                  <a:lnTo>
                    <a:pt x="307" y="6"/>
                  </a:lnTo>
                  <a:lnTo>
                    <a:pt x="323" y="10"/>
                  </a:lnTo>
                  <a:lnTo>
                    <a:pt x="338" y="14"/>
                  </a:lnTo>
                  <a:lnTo>
                    <a:pt x="351" y="21"/>
                  </a:lnTo>
                  <a:lnTo>
                    <a:pt x="363" y="27"/>
                  </a:lnTo>
                  <a:lnTo>
                    <a:pt x="373" y="37"/>
                  </a:lnTo>
                  <a:lnTo>
                    <a:pt x="382" y="44"/>
                  </a:lnTo>
                  <a:lnTo>
                    <a:pt x="390" y="54"/>
                  </a:lnTo>
                  <a:lnTo>
                    <a:pt x="396" y="65"/>
                  </a:lnTo>
                  <a:lnTo>
                    <a:pt x="401" y="75"/>
                  </a:lnTo>
                  <a:lnTo>
                    <a:pt x="405" y="87"/>
                  </a:lnTo>
                  <a:lnTo>
                    <a:pt x="413" y="112"/>
                  </a:lnTo>
                  <a:lnTo>
                    <a:pt x="415" y="138"/>
                  </a:lnTo>
                  <a:lnTo>
                    <a:pt x="415" y="165"/>
                  </a:lnTo>
                  <a:lnTo>
                    <a:pt x="413" y="194"/>
                  </a:lnTo>
                  <a:lnTo>
                    <a:pt x="411" y="223"/>
                  </a:lnTo>
                  <a:lnTo>
                    <a:pt x="405" y="250"/>
                  </a:lnTo>
                  <a:lnTo>
                    <a:pt x="396" y="305"/>
                  </a:lnTo>
                  <a:lnTo>
                    <a:pt x="388" y="351"/>
                  </a:lnTo>
                  <a:lnTo>
                    <a:pt x="380" y="424"/>
                  </a:lnTo>
                  <a:lnTo>
                    <a:pt x="369" y="543"/>
                  </a:lnTo>
                  <a:lnTo>
                    <a:pt x="353" y="691"/>
                  </a:lnTo>
                  <a:lnTo>
                    <a:pt x="334" y="854"/>
                  </a:lnTo>
                  <a:lnTo>
                    <a:pt x="313" y="1015"/>
                  </a:lnTo>
                  <a:lnTo>
                    <a:pt x="292" y="1155"/>
                  </a:lnTo>
                  <a:lnTo>
                    <a:pt x="282" y="1213"/>
                  </a:lnTo>
                  <a:lnTo>
                    <a:pt x="271" y="1259"/>
                  </a:lnTo>
                  <a:lnTo>
                    <a:pt x="265" y="1278"/>
                  </a:lnTo>
                  <a:lnTo>
                    <a:pt x="261" y="1291"/>
                  </a:lnTo>
                  <a:lnTo>
                    <a:pt x="255" y="1303"/>
                  </a:lnTo>
                  <a:lnTo>
                    <a:pt x="250" y="1311"/>
                  </a:lnTo>
                  <a:lnTo>
                    <a:pt x="246" y="1316"/>
                  </a:lnTo>
                  <a:lnTo>
                    <a:pt x="240" y="1326"/>
                  </a:lnTo>
                  <a:lnTo>
                    <a:pt x="236" y="1337"/>
                  </a:lnTo>
                  <a:lnTo>
                    <a:pt x="232" y="1351"/>
                  </a:lnTo>
                  <a:lnTo>
                    <a:pt x="223" y="1383"/>
                  </a:lnTo>
                  <a:lnTo>
                    <a:pt x="215" y="1422"/>
                  </a:lnTo>
                  <a:lnTo>
                    <a:pt x="202" y="1516"/>
                  </a:lnTo>
                  <a:lnTo>
                    <a:pt x="190" y="1619"/>
                  </a:lnTo>
                  <a:lnTo>
                    <a:pt x="183" y="1723"/>
                  </a:lnTo>
                  <a:lnTo>
                    <a:pt x="175" y="1813"/>
                  </a:lnTo>
                  <a:lnTo>
                    <a:pt x="171" y="1882"/>
                  </a:lnTo>
                  <a:lnTo>
                    <a:pt x="171" y="1917"/>
                  </a:lnTo>
                  <a:lnTo>
                    <a:pt x="183" y="1924"/>
                  </a:lnTo>
                  <a:lnTo>
                    <a:pt x="192" y="1934"/>
                  </a:lnTo>
                  <a:lnTo>
                    <a:pt x="202" y="1944"/>
                  </a:lnTo>
                  <a:lnTo>
                    <a:pt x="208" y="1955"/>
                  </a:lnTo>
                  <a:lnTo>
                    <a:pt x="211" y="1967"/>
                  </a:lnTo>
                  <a:lnTo>
                    <a:pt x="211" y="1978"/>
                  </a:lnTo>
                  <a:lnTo>
                    <a:pt x="209" y="1984"/>
                  </a:lnTo>
                  <a:lnTo>
                    <a:pt x="208" y="1990"/>
                  </a:lnTo>
                  <a:lnTo>
                    <a:pt x="204" y="1993"/>
                  </a:lnTo>
                  <a:lnTo>
                    <a:pt x="198" y="1999"/>
                  </a:lnTo>
                  <a:lnTo>
                    <a:pt x="192" y="2003"/>
                  </a:lnTo>
                  <a:lnTo>
                    <a:pt x="184" y="2005"/>
                  </a:lnTo>
                  <a:lnTo>
                    <a:pt x="177" y="2009"/>
                  </a:lnTo>
                  <a:lnTo>
                    <a:pt x="167" y="2011"/>
                  </a:lnTo>
                  <a:lnTo>
                    <a:pt x="148" y="2011"/>
                  </a:lnTo>
                  <a:lnTo>
                    <a:pt x="125" y="2011"/>
                  </a:lnTo>
                  <a:lnTo>
                    <a:pt x="102" y="2007"/>
                  </a:lnTo>
                  <a:lnTo>
                    <a:pt x="77" y="2003"/>
                  </a:lnTo>
                  <a:lnTo>
                    <a:pt x="52" y="1997"/>
                  </a:lnTo>
                  <a:lnTo>
                    <a:pt x="29" y="199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3355200">
              <a:off x="3968640" y="5947200"/>
              <a:ext cx="141840" cy="236880"/>
            </a:xfrm>
            <a:custGeom>
              <a:avLst/>
              <a:gdLst/>
              <a:ahLst/>
              <a:rect l="l" t="t" r="r" b="b"/>
              <a:pathLst>
                <a:path w="67" h="100">
                  <a:moveTo>
                    <a:pt x="51" y="6"/>
                  </a:moveTo>
                  <a:lnTo>
                    <a:pt x="57" y="0"/>
                  </a:lnTo>
                  <a:lnTo>
                    <a:pt x="46" y="4"/>
                  </a:lnTo>
                  <a:lnTo>
                    <a:pt x="36" y="8"/>
                  </a:lnTo>
                  <a:lnTo>
                    <a:pt x="27" y="14"/>
                  </a:lnTo>
                  <a:lnTo>
                    <a:pt x="19" y="20"/>
                  </a:lnTo>
                  <a:lnTo>
                    <a:pt x="13" y="27"/>
                  </a:lnTo>
                  <a:lnTo>
                    <a:pt x="7" y="35"/>
                  </a:lnTo>
                  <a:lnTo>
                    <a:pt x="4" y="43"/>
                  </a:lnTo>
                  <a:lnTo>
                    <a:pt x="2" y="50"/>
                  </a:lnTo>
                  <a:lnTo>
                    <a:pt x="0" y="58"/>
                  </a:lnTo>
                  <a:lnTo>
                    <a:pt x="2" y="66"/>
                  </a:lnTo>
                  <a:lnTo>
                    <a:pt x="4" y="73"/>
                  </a:lnTo>
                  <a:lnTo>
                    <a:pt x="7" y="81"/>
                  </a:lnTo>
                  <a:lnTo>
                    <a:pt x="13" y="89"/>
                  </a:lnTo>
                  <a:lnTo>
                    <a:pt x="19" y="94"/>
                  </a:lnTo>
                  <a:lnTo>
                    <a:pt x="27" y="98"/>
                  </a:lnTo>
                  <a:lnTo>
                    <a:pt x="36" y="100"/>
                  </a:lnTo>
                  <a:lnTo>
                    <a:pt x="40" y="85"/>
                  </a:lnTo>
                  <a:lnTo>
                    <a:pt x="34" y="83"/>
                  </a:lnTo>
                  <a:lnTo>
                    <a:pt x="28" y="81"/>
                  </a:lnTo>
                  <a:lnTo>
                    <a:pt x="25" y="77"/>
                  </a:lnTo>
                  <a:lnTo>
                    <a:pt x="21" y="73"/>
                  </a:lnTo>
                  <a:lnTo>
                    <a:pt x="19" y="68"/>
                  </a:lnTo>
                  <a:lnTo>
                    <a:pt x="17" y="64"/>
                  </a:lnTo>
                  <a:lnTo>
                    <a:pt x="17" y="58"/>
                  </a:lnTo>
                  <a:lnTo>
                    <a:pt x="17" y="52"/>
                  </a:lnTo>
                  <a:lnTo>
                    <a:pt x="19" y="47"/>
                  </a:lnTo>
                  <a:lnTo>
                    <a:pt x="21" y="43"/>
                  </a:lnTo>
                  <a:lnTo>
                    <a:pt x="25" y="37"/>
                  </a:lnTo>
                  <a:lnTo>
                    <a:pt x="30" y="31"/>
                  </a:lnTo>
                  <a:lnTo>
                    <a:pt x="36" y="27"/>
                  </a:lnTo>
                  <a:lnTo>
                    <a:pt x="44" y="22"/>
                  </a:lnTo>
                  <a:lnTo>
                    <a:pt x="51" y="18"/>
                  </a:lnTo>
                  <a:lnTo>
                    <a:pt x="61" y="16"/>
                  </a:lnTo>
                  <a:lnTo>
                    <a:pt x="67" y="10"/>
                  </a:lnTo>
                  <a:lnTo>
                    <a:pt x="61" y="16"/>
                  </a:lnTo>
                  <a:lnTo>
                    <a:pt x="67" y="14"/>
                  </a:lnTo>
                  <a:lnTo>
                    <a:pt x="67" y="10"/>
                  </a:lnTo>
                  <a:lnTo>
                    <a:pt x="51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3355200">
              <a:off x="4712760" y="4962240"/>
              <a:ext cx="122400" cy="1450080"/>
            </a:xfrm>
            <a:custGeom>
              <a:avLst/>
              <a:gdLst/>
              <a:ahLst/>
              <a:rect l="l" t="t" r="r" b="b"/>
              <a:pathLst>
                <a:path w="58" h="612">
                  <a:moveTo>
                    <a:pt x="27" y="4"/>
                  </a:moveTo>
                  <a:lnTo>
                    <a:pt x="27" y="6"/>
                  </a:lnTo>
                  <a:lnTo>
                    <a:pt x="33" y="27"/>
                  </a:lnTo>
                  <a:lnTo>
                    <a:pt x="37" y="56"/>
                  </a:lnTo>
                  <a:lnTo>
                    <a:pt x="41" y="90"/>
                  </a:lnTo>
                  <a:lnTo>
                    <a:pt x="43" y="129"/>
                  </a:lnTo>
                  <a:lnTo>
                    <a:pt x="43" y="173"/>
                  </a:lnTo>
                  <a:lnTo>
                    <a:pt x="41" y="219"/>
                  </a:lnTo>
                  <a:lnTo>
                    <a:pt x="39" y="267"/>
                  </a:lnTo>
                  <a:lnTo>
                    <a:pt x="37" y="315"/>
                  </a:lnTo>
                  <a:lnTo>
                    <a:pt x="29" y="411"/>
                  </a:lnTo>
                  <a:lnTo>
                    <a:pt x="20" y="497"/>
                  </a:lnTo>
                  <a:lnTo>
                    <a:pt x="10" y="564"/>
                  </a:lnTo>
                  <a:lnTo>
                    <a:pt x="0" y="608"/>
                  </a:lnTo>
                  <a:lnTo>
                    <a:pt x="16" y="612"/>
                  </a:lnTo>
                  <a:lnTo>
                    <a:pt x="25" y="568"/>
                  </a:lnTo>
                  <a:lnTo>
                    <a:pt x="35" y="499"/>
                  </a:lnTo>
                  <a:lnTo>
                    <a:pt x="45" y="413"/>
                  </a:lnTo>
                  <a:lnTo>
                    <a:pt x="52" y="317"/>
                  </a:lnTo>
                  <a:lnTo>
                    <a:pt x="54" y="267"/>
                  </a:lnTo>
                  <a:lnTo>
                    <a:pt x="58" y="219"/>
                  </a:lnTo>
                  <a:lnTo>
                    <a:pt x="58" y="173"/>
                  </a:lnTo>
                  <a:lnTo>
                    <a:pt x="58" y="129"/>
                  </a:lnTo>
                  <a:lnTo>
                    <a:pt x="56" y="88"/>
                  </a:lnTo>
                  <a:lnTo>
                    <a:pt x="54" y="54"/>
                  </a:lnTo>
                  <a:lnTo>
                    <a:pt x="48" y="23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3355200">
              <a:off x="6310440" y="3425400"/>
              <a:ext cx="82440" cy="2381760"/>
            </a:xfrm>
            <a:custGeom>
              <a:avLst/>
              <a:gdLst/>
              <a:ahLst/>
              <a:rect l="l" t="t" r="r" b="b"/>
              <a:pathLst>
                <a:path w="39" h="1005">
                  <a:moveTo>
                    <a:pt x="23" y="0"/>
                  </a:moveTo>
                  <a:lnTo>
                    <a:pt x="23" y="0"/>
                  </a:lnTo>
                  <a:lnTo>
                    <a:pt x="21" y="55"/>
                  </a:lnTo>
                  <a:lnTo>
                    <a:pt x="16" y="157"/>
                  </a:lnTo>
                  <a:lnTo>
                    <a:pt x="10" y="291"/>
                  </a:lnTo>
                  <a:lnTo>
                    <a:pt x="4" y="445"/>
                  </a:lnTo>
                  <a:lnTo>
                    <a:pt x="0" y="606"/>
                  </a:lnTo>
                  <a:lnTo>
                    <a:pt x="2" y="761"/>
                  </a:lnTo>
                  <a:lnTo>
                    <a:pt x="4" y="832"/>
                  </a:lnTo>
                  <a:lnTo>
                    <a:pt x="6" y="899"/>
                  </a:lnTo>
                  <a:lnTo>
                    <a:pt x="12" y="957"/>
                  </a:lnTo>
                  <a:lnTo>
                    <a:pt x="19" y="1005"/>
                  </a:lnTo>
                  <a:lnTo>
                    <a:pt x="35" y="1003"/>
                  </a:lnTo>
                  <a:lnTo>
                    <a:pt x="27" y="955"/>
                  </a:lnTo>
                  <a:lnTo>
                    <a:pt x="23" y="898"/>
                  </a:lnTo>
                  <a:lnTo>
                    <a:pt x="19" y="832"/>
                  </a:lnTo>
                  <a:lnTo>
                    <a:pt x="17" y="761"/>
                  </a:lnTo>
                  <a:lnTo>
                    <a:pt x="17" y="606"/>
                  </a:lnTo>
                  <a:lnTo>
                    <a:pt x="19" y="445"/>
                  </a:lnTo>
                  <a:lnTo>
                    <a:pt x="25" y="291"/>
                  </a:lnTo>
                  <a:lnTo>
                    <a:pt x="31" y="157"/>
                  </a:lnTo>
                  <a:lnTo>
                    <a:pt x="37" y="55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3355200">
              <a:off x="7547400" y="3568320"/>
              <a:ext cx="419760" cy="718560"/>
            </a:xfrm>
            <a:custGeom>
              <a:avLst/>
              <a:gdLst/>
              <a:ahLst/>
              <a:rect l="l" t="t" r="r" b="b"/>
              <a:pathLst>
                <a:path w="198" h="303">
                  <a:moveTo>
                    <a:pt x="198" y="0"/>
                  </a:moveTo>
                  <a:lnTo>
                    <a:pt x="198" y="0"/>
                  </a:lnTo>
                  <a:lnTo>
                    <a:pt x="177" y="0"/>
                  </a:lnTo>
                  <a:lnTo>
                    <a:pt x="159" y="0"/>
                  </a:lnTo>
                  <a:lnTo>
                    <a:pt x="142" y="2"/>
                  </a:lnTo>
                  <a:lnTo>
                    <a:pt x="125" y="5"/>
                  </a:lnTo>
                  <a:lnTo>
                    <a:pt x="110" y="9"/>
                  </a:lnTo>
                  <a:lnTo>
                    <a:pt x="96" y="15"/>
                  </a:lnTo>
                  <a:lnTo>
                    <a:pt x="85" y="23"/>
                  </a:lnTo>
                  <a:lnTo>
                    <a:pt x="73" y="30"/>
                  </a:lnTo>
                  <a:lnTo>
                    <a:pt x="62" y="40"/>
                  </a:lnTo>
                  <a:lnTo>
                    <a:pt x="52" y="49"/>
                  </a:lnTo>
                  <a:lnTo>
                    <a:pt x="44" y="59"/>
                  </a:lnTo>
                  <a:lnTo>
                    <a:pt x="37" y="71"/>
                  </a:lnTo>
                  <a:lnTo>
                    <a:pt x="25" y="94"/>
                  </a:lnTo>
                  <a:lnTo>
                    <a:pt x="16" y="119"/>
                  </a:lnTo>
                  <a:lnTo>
                    <a:pt x="10" y="145"/>
                  </a:lnTo>
                  <a:lnTo>
                    <a:pt x="4" y="170"/>
                  </a:lnTo>
                  <a:lnTo>
                    <a:pt x="2" y="197"/>
                  </a:lnTo>
                  <a:lnTo>
                    <a:pt x="0" y="222"/>
                  </a:lnTo>
                  <a:lnTo>
                    <a:pt x="0" y="268"/>
                  </a:lnTo>
                  <a:lnTo>
                    <a:pt x="0" y="303"/>
                  </a:lnTo>
                  <a:lnTo>
                    <a:pt x="16" y="303"/>
                  </a:lnTo>
                  <a:lnTo>
                    <a:pt x="17" y="268"/>
                  </a:lnTo>
                  <a:lnTo>
                    <a:pt x="17" y="222"/>
                  </a:lnTo>
                  <a:lnTo>
                    <a:pt x="17" y="197"/>
                  </a:lnTo>
                  <a:lnTo>
                    <a:pt x="21" y="172"/>
                  </a:lnTo>
                  <a:lnTo>
                    <a:pt x="25" y="147"/>
                  </a:lnTo>
                  <a:lnTo>
                    <a:pt x="31" y="124"/>
                  </a:lnTo>
                  <a:lnTo>
                    <a:pt x="39" y="99"/>
                  </a:lnTo>
                  <a:lnTo>
                    <a:pt x="50" y="78"/>
                  </a:lnTo>
                  <a:lnTo>
                    <a:pt x="58" y="69"/>
                  </a:lnTo>
                  <a:lnTo>
                    <a:pt x="64" y="59"/>
                  </a:lnTo>
                  <a:lnTo>
                    <a:pt x="73" y="51"/>
                  </a:lnTo>
                  <a:lnTo>
                    <a:pt x="83" y="44"/>
                  </a:lnTo>
                  <a:lnTo>
                    <a:pt x="92" y="36"/>
                  </a:lnTo>
                  <a:lnTo>
                    <a:pt x="104" y="30"/>
                  </a:lnTo>
                  <a:lnTo>
                    <a:pt x="115" y="25"/>
                  </a:lnTo>
                  <a:lnTo>
                    <a:pt x="129" y="21"/>
                  </a:lnTo>
                  <a:lnTo>
                    <a:pt x="144" y="17"/>
                  </a:lnTo>
                  <a:lnTo>
                    <a:pt x="159" y="15"/>
                  </a:lnTo>
                  <a:lnTo>
                    <a:pt x="177" y="15"/>
                  </a:lnTo>
                  <a:lnTo>
                    <a:pt x="196" y="15"/>
                  </a:lnTo>
                  <a:lnTo>
                    <a:pt x="196" y="1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3355200">
              <a:off x="7745760" y="3843720"/>
              <a:ext cx="324000" cy="853560"/>
            </a:xfrm>
            <a:custGeom>
              <a:avLst/>
              <a:gdLst/>
              <a:ahLst/>
              <a:rect l="l" t="t" r="r" b="b"/>
              <a:pathLst>
                <a:path w="153" h="360">
                  <a:moveTo>
                    <a:pt x="127" y="360"/>
                  </a:moveTo>
                  <a:lnTo>
                    <a:pt x="127" y="360"/>
                  </a:lnTo>
                  <a:lnTo>
                    <a:pt x="134" y="312"/>
                  </a:lnTo>
                  <a:lnTo>
                    <a:pt x="144" y="259"/>
                  </a:lnTo>
                  <a:lnTo>
                    <a:pt x="150" y="230"/>
                  </a:lnTo>
                  <a:lnTo>
                    <a:pt x="151" y="201"/>
                  </a:lnTo>
                  <a:lnTo>
                    <a:pt x="153" y="172"/>
                  </a:lnTo>
                  <a:lnTo>
                    <a:pt x="153" y="145"/>
                  </a:lnTo>
                  <a:lnTo>
                    <a:pt x="151" y="117"/>
                  </a:lnTo>
                  <a:lnTo>
                    <a:pt x="144" y="92"/>
                  </a:lnTo>
                  <a:lnTo>
                    <a:pt x="140" y="80"/>
                  </a:lnTo>
                  <a:lnTo>
                    <a:pt x="134" y="69"/>
                  </a:lnTo>
                  <a:lnTo>
                    <a:pt x="127" y="57"/>
                  </a:lnTo>
                  <a:lnTo>
                    <a:pt x="119" y="46"/>
                  </a:lnTo>
                  <a:lnTo>
                    <a:pt x="109" y="36"/>
                  </a:lnTo>
                  <a:lnTo>
                    <a:pt x="98" y="28"/>
                  </a:lnTo>
                  <a:lnTo>
                    <a:pt x="86" y="21"/>
                  </a:lnTo>
                  <a:lnTo>
                    <a:pt x="71" y="15"/>
                  </a:lnTo>
                  <a:lnTo>
                    <a:pt x="56" y="9"/>
                  </a:lnTo>
                  <a:lnTo>
                    <a:pt x="40" y="3"/>
                  </a:lnTo>
                  <a:lnTo>
                    <a:pt x="21" y="2"/>
                  </a:lnTo>
                  <a:lnTo>
                    <a:pt x="2" y="0"/>
                  </a:lnTo>
                  <a:lnTo>
                    <a:pt x="0" y="15"/>
                  </a:lnTo>
                  <a:lnTo>
                    <a:pt x="19" y="17"/>
                  </a:lnTo>
                  <a:lnTo>
                    <a:pt x="36" y="21"/>
                  </a:lnTo>
                  <a:lnTo>
                    <a:pt x="52" y="25"/>
                  </a:lnTo>
                  <a:lnTo>
                    <a:pt x="65" y="28"/>
                  </a:lnTo>
                  <a:lnTo>
                    <a:pt x="79" y="34"/>
                  </a:lnTo>
                  <a:lnTo>
                    <a:pt x="88" y="42"/>
                  </a:lnTo>
                  <a:lnTo>
                    <a:pt x="98" y="49"/>
                  </a:lnTo>
                  <a:lnTo>
                    <a:pt x="105" y="57"/>
                  </a:lnTo>
                  <a:lnTo>
                    <a:pt x="113" y="67"/>
                  </a:lnTo>
                  <a:lnTo>
                    <a:pt x="119" y="76"/>
                  </a:lnTo>
                  <a:lnTo>
                    <a:pt x="125" y="86"/>
                  </a:lnTo>
                  <a:lnTo>
                    <a:pt x="128" y="97"/>
                  </a:lnTo>
                  <a:lnTo>
                    <a:pt x="134" y="120"/>
                  </a:lnTo>
                  <a:lnTo>
                    <a:pt x="138" y="145"/>
                  </a:lnTo>
                  <a:lnTo>
                    <a:pt x="138" y="172"/>
                  </a:lnTo>
                  <a:lnTo>
                    <a:pt x="136" y="201"/>
                  </a:lnTo>
                  <a:lnTo>
                    <a:pt x="132" y="228"/>
                  </a:lnTo>
                  <a:lnTo>
                    <a:pt x="128" y="257"/>
                  </a:lnTo>
                  <a:lnTo>
                    <a:pt x="119" y="310"/>
                  </a:lnTo>
                  <a:lnTo>
                    <a:pt x="111" y="358"/>
                  </a:lnTo>
                  <a:lnTo>
                    <a:pt x="111" y="358"/>
                  </a:lnTo>
                  <a:lnTo>
                    <a:pt x="127" y="3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3355200">
              <a:off x="6419880" y="3959280"/>
              <a:ext cx="322560" cy="2287080"/>
            </a:xfrm>
            <a:custGeom>
              <a:avLst/>
              <a:gdLst/>
              <a:ahLst/>
              <a:rect l="l" t="t" r="r" b="b"/>
              <a:pathLst>
                <a:path w="152" h="965">
                  <a:moveTo>
                    <a:pt x="11" y="965"/>
                  </a:moveTo>
                  <a:lnTo>
                    <a:pt x="11" y="965"/>
                  </a:lnTo>
                  <a:lnTo>
                    <a:pt x="19" y="956"/>
                  </a:lnTo>
                  <a:lnTo>
                    <a:pt x="23" y="944"/>
                  </a:lnTo>
                  <a:lnTo>
                    <a:pt x="29" y="929"/>
                  </a:lnTo>
                  <a:lnTo>
                    <a:pt x="34" y="910"/>
                  </a:lnTo>
                  <a:lnTo>
                    <a:pt x="46" y="864"/>
                  </a:lnTo>
                  <a:lnTo>
                    <a:pt x="56" y="804"/>
                  </a:lnTo>
                  <a:lnTo>
                    <a:pt x="77" y="664"/>
                  </a:lnTo>
                  <a:lnTo>
                    <a:pt x="98" y="505"/>
                  </a:lnTo>
                  <a:lnTo>
                    <a:pt x="117" y="342"/>
                  </a:lnTo>
                  <a:lnTo>
                    <a:pt x="132" y="192"/>
                  </a:lnTo>
                  <a:lnTo>
                    <a:pt x="144" y="73"/>
                  </a:lnTo>
                  <a:lnTo>
                    <a:pt x="152" y="2"/>
                  </a:lnTo>
                  <a:lnTo>
                    <a:pt x="136" y="0"/>
                  </a:lnTo>
                  <a:lnTo>
                    <a:pt x="129" y="71"/>
                  </a:lnTo>
                  <a:lnTo>
                    <a:pt x="117" y="190"/>
                  </a:lnTo>
                  <a:lnTo>
                    <a:pt x="100" y="340"/>
                  </a:lnTo>
                  <a:lnTo>
                    <a:pt x="82" y="503"/>
                  </a:lnTo>
                  <a:lnTo>
                    <a:pt x="61" y="662"/>
                  </a:lnTo>
                  <a:lnTo>
                    <a:pt x="40" y="802"/>
                  </a:lnTo>
                  <a:lnTo>
                    <a:pt x="29" y="860"/>
                  </a:lnTo>
                  <a:lnTo>
                    <a:pt x="19" y="906"/>
                  </a:lnTo>
                  <a:lnTo>
                    <a:pt x="13" y="923"/>
                  </a:lnTo>
                  <a:lnTo>
                    <a:pt x="10" y="938"/>
                  </a:lnTo>
                  <a:lnTo>
                    <a:pt x="4" y="948"/>
                  </a:lnTo>
                  <a:lnTo>
                    <a:pt x="0" y="954"/>
                  </a:lnTo>
                  <a:lnTo>
                    <a:pt x="0" y="954"/>
                  </a:lnTo>
                  <a:lnTo>
                    <a:pt x="11" y="9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rot="3355200">
              <a:off x="4817880" y="5211720"/>
              <a:ext cx="195120" cy="1467360"/>
            </a:xfrm>
            <a:custGeom>
              <a:avLst/>
              <a:gdLst/>
              <a:ahLst/>
              <a:rect l="l" t="t" r="r" b="b"/>
              <a:pathLst>
                <a:path w="92" h="619">
                  <a:moveTo>
                    <a:pt x="12" y="604"/>
                  </a:moveTo>
                  <a:lnTo>
                    <a:pt x="16" y="612"/>
                  </a:lnTo>
                  <a:lnTo>
                    <a:pt x="18" y="577"/>
                  </a:lnTo>
                  <a:lnTo>
                    <a:pt x="21" y="508"/>
                  </a:lnTo>
                  <a:lnTo>
                    <a:pt x="27" y="418"/>
                  </a:lnTo>
                  <a:lnTo>
                    <a:pt x="35" y="314"/>
                  </a:lnTo>
                  <a:lnTo>
                    <a:pt x="46" y="211"/>
                  </a:lnTo>
                  <a:lnTo>
                    <a:pt x="60" y="119"/>
                  </a:lnTo>
                  <a:lnTo>
                    <a:pt x="68" y="78"/>
                  </a:lnTo>
                  <a:lnTo>
                    <a:pt x="77" y="48"/>
                  </a:lnTo>
                  <a:lnTo>
                    <a:pt x="81" y="34"/>
                  </a:lnTo>
                  <a:lnTo>
                    <a:pt x="85" y="23"/>
                  </a:lnTo>
                  <a:lnTo>
                    <a:pt x="89" y="15"/>
                  </a:lnTo>
                  <a:lnTo>
                    <a:pt x="92" y="11"/>
                  </a:lnTo>
                  <a:lnTo>
                    <a:pt x="81" y="0"/>
                  </a:lnTo>
                  <a:lnTo>
                    <a:pt x="75" y="7"/>
                  </a:lnTo>
                  <a:lnTo>
                    <a:pt x="69" y="17"/>
                  </a:lnTo>
                  <a:lnTo>
                    <a:pt x="66" y="29"/>
                  </a:lnTo>
                  <a:lnTo>
                    <a:pt x="62" y="42"/>
                  </a:lnTo>
                  <a:lnTo>
                    <a:pt x="52" y="77"/>
                  </a:lnTo>
                  <a:lnTo>
                    <a:pt x="45" y="115"/>
                  </a:lnTo>
                  <a:lnTo>
                    <a:pt x="31" y="209"/>
                  </a:lnTo>
                  <a:lnTo>
                    <a:pt x="20" y="312"/>
                  </a:lnTo>
                  <a:lnTo>
                    <a:pt x="12" y="416"/>
                  </a:lnTo>
                  <a:lnTo>
                    <a:pt x="4" y="508"/>
                  </a:lnTo>
                  <a:lnTo>
                    <a:pt x="0" y="577"/>
                  </a:lnTo>
                  <a:lnTo>
                    <a:pt x="0" y="612"/>
                  </a:lnTo>
                  <a:lnTo>
                    <a:pt x="4" y="619"/>
                  </a:lnTo>
                  <a:lnTo>
                    <a:pt x="0" y="612"/>
                  </a:lnTo>
                  <a:lnTo>
                    <a:pt x="0" y="616"/>
                  </a:lnTo>
                  <a:lnTo>
                    <a:pt x="4" y="619"/>
                  </a:lnTo>
                  <a:lnTo>
                    <a:pt x="12" y="6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3355200">
              <a:off x="4168800" y="6258600"/>
              <a:ext cx="110160" cy="227880"/>
            </a:xfrm>
            <a:custGeom>
              <a:avLst/>
              <a:gdLst/>
              <a:ahLst/>
              <a:rect l="l" t="t" r="r" b="b"/>
              <a:pathLst>
                <a:path w="52" h="96">
                  <a:moveTo>
                    <a:pt x="37" y="96"/>
                  </a:moveTo>
                  <a:lnTo>
                    <a:pt x="37" y="96"/>
                  </a:lnTo>
                  <a:lnTo>
                    <a:pt x="42" y="90"/>
                  </a:lnTo>
                  <a:lnTo>
                    <a:pt x="46" y="84"/>
                  </a:lnTo>
                  <a:lnTo>
                    <a:pt x="50" y="77"/>
                  </a:lnTo>
                  <a:lnTo>
                    <a:pt x="52" y="69"/>
                  </a:lnTo>
                  <a:lnTo>
                    <a:pt x="52" y="56"/>
                  </a:lnTo>
                  <a:lnTo>
                    <a:pt x="48" y="42"/>
                  </a:lnTo>
                  <a:lnTo>
                    <a:pt x="41" y="31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0" y="21"/>
                  </a:lnTo>
                  <a:lnTo>
                    <a:pt x="19" y="31"/>
                  </a:lnTo>
                  <a:lnTo>
                    <a:pt x="27" y="40"/>
                  </a:lnTo>
                  <a:lnTo>
                    <a:pt x="33" y="50"/>
                  </a:lnTo>
                  <a:lnTo>
                    <a:pt x="37" y="60"/>
                  </a:lnTo>
                  <a:lnTo>
                    <a:pt x="37" y="69"/>
                  </a:lnTo>
                  <a:lnTo>
                    <a:pt x="35" y="71"/>
                  </a:lnTo>
                  <a:lnTo>
                    <a:pt x="33" y="75"/>
                  </a:lnTo>
                  <a:lnTo>
                    <a:pt x="31" y="79"/>
                  </a:lnTo>
                  <a:lnTo>
                    <a:pt x="27" y="83"/>
                  </a:lnTo>
                  <a:lnTo>
                    <a:pt x="27" y="83"/>
                  </a:lnTo>
                  <a:lnTo>
                    <a:pt x="37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3355200">
              <a:off x="3857760" y="6253920"/>
              <a:ext cx="375480" cy="80280"/>
            </a:xfrm>
            <a:custGeom>
              <a:avLst/>
              <a:gdLst/>
              <a:ahLst/>
              <a:rect l="l" t="t" r="r" b="b"/>
              <a:pathLst>
                <a:path w="177" h="34">
                  <a:moveTo>
                    <a:pt x="0" y="15"/>
                  </a:moveTo>
                  <a:lnTo>
                    <a:pt x="0" y="15"/>
                  </a:lnTo>
                  <a:lnTo>
                    <a:pt x="23" y="23"/>
                  </a:lnTo>
                  <a:lnTo>
                    <a:pt x="48" y="27"/>
                  </a:lnTo>
                  <a:lnTo>
                    <a:pt x="73" y="32"/>
                  </a:lnTo>
                  <a:lnTo>
                    <a:pt x="98" y="34"/>
                  </a:lnTo>
                  <a:lnTo>
                    <a:pt x="121" y="34"/>
                  </a:lnTo>
                  <a:lnTo>
                    <a:pt x="140" y="34"/>
                  </a:lnTo>
                  <a:lnTo>
                    <a:pt x="152" y="32"/>
                  </a:lnTo>
                  <a:lnTo>
                    <a:pt x="159" y="29"/>
                  </a:lnTo>
                  <a:lnTo>
                    <a:pt x="169" y="25"/>
                  </a:lnTo>
                  <a:lnTo>
                    <a:pt x="177" y="21"/>
                  </a:lnTo>
                  <a:lnTo>
                    <a:pt x="167" y="8"/>
                  </a:lnTo>
                  <a:lnTo>
                    <a:pt x="161" y="11"/>
                  </a:lnTo>
                  <a:lnTo>
                    <a:pt x="156" y="15"/>
                  </a:lnTo>
                  <a:lnTo>
                    <a:pt x="148" y="17"/>
                  </a:lnTo>
                  <a:lnTo>
                    <a:pt x="140" y="17"/>
                  </a:lnTo>
                  <a:lnTo>
                    <a:pt x="121" y="19"/>
                  </a:lnTo>
                  <a:lnTo>
                    <a:pt x="98" y="19"/>
                  </a:lnTo>
                  <a:lnTo>
                    <a:pt x="75" y="15"/>
                  </a:lnTo>
                  <a:lnTo>
                    <a:pt x="52" y="11"/>
                  </a:lnTo>
                  <a:lnTo>
                    <a:pt x="27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3355200">
              <a:off x="7101360" y="3617640"/>
              <a:ext cx="197280" cy="2166120"/>
            </a:xfrm>
            <a:custGeom>
              <a:avLst/>
              <a:gdLst/>
              <a:ahLst/>
              <a:rect l="l" t="t" r="r" b="b"/>
              <a:pathLst>
                <a:path w="93" h="914">
                  <a:moveTo>
                    <a:pt x="27" y="0"/>
                  </a:moveTo>
                  <a:lnTo>
                    <a:pt x="39" y="4"/>
                  </a:lnTo>
                  <a:lnTo>
                    <a:pt x="64" y="20"/>
                  </a:lnTo>
                  <a:lnTo>
                    <a:pt x="69" y="25"/>
                  </a:lnTo>
                  <a:lnTo>
                    <a:pt x="75" y="31"/>
                  </a:lnTo>
                  <a:lnTo>
                    <a:pt x="81" y="39"/>
                  </a:lnTo>
                  <a:lnTo>
                    <a:pt x="87" y="48"/>
                  </a:lnTo>
                  <a:lnTo>
                    <a:pt x="91" y="60"/>
                  </a:lnTo>
                  <a:lnTo>
                    <a:pt x="93" y="71"/>
                  </a:lnTo>
                  <a:lnTo>
                    <a:pt x="93" y="85"/>
                  </a:lnTo>
                  <a:lnTo>
                    <a:pt x="93" y="100"/>
                  </a:lnTo>
                  <a:lnTo>
                    <a:pt x="85" y="160"/>
                  </a:lnTo>
                  <a:lnTo>
                    <a:pt x="73" y="263"/>
                  </a:lnTo>
                  <a:lnTo>
                    <a:pt x="60" y="394"/>
                  </a:lnTo>
                  <a:lnTo>
                    <a:pt x="45" y="538"/>
                  </a:lnTo>
                  <a:lnTo>
                    <a:pt x="29" y="680"/>
                  </a:lnTo>
                  <a:lnTo>
                    <a:pt x="16" y="799"/>
                  </a:lnTo>
                  <a:lnTo>
                    <a:pt x="6" y="883"/>
                  </a:lnTo>
                  <a:lnTo>
                    <a:pt x="4" y="914"/>
                  </a:lnTo>
                  <a:lnTo>
                    <a:pt x="4" y="881"/>
                  </a:lnTo>
                  <a:lnTo>
                    <a:pt x="10" y="793"/>
                  </a:lnTo>
                  <a:lnTo>
                    <a:pt x="16" y="668"/>
                  </a:lnTo>
                  <a:lnTo>
                    <a:pt x="23" y="524"/>
                  </a:lnTo>
                  <a:lnTo>
                    <a:pt x="31" y="378"/>
                  </a:lnTo>
                  <a:lnTo>
                    <a:pt x="37" y="248"/>
                  </a:lnTo>
                  <a:lnTo>
                    <a:pt x="41" y="150"/>
                  </a:lnTo>
                  <a:lnTo>
                    <a:pt x="43" y="104"/>
                  </a:lnTo>
                  <a:lnTo>
                    <a:pt x="43" y="98"/>
                  </a:lnTo>
                  <a:lnTo>
                    <a:pt x="41" y="91"/>
                  </a:lnTo>
                  <a:lnTo>
                    <a:pt x="39" y="85"/>
                  </a:lnTo>
                  <a:lnTo>
                    <a:pt x="35" y="79"/>
                  </a:lnTo>
                  <a:lnTo>
                    <a:pt x="27" y="71"/>
                  </a:lnTo>
                  <a:lnTo>
                    <a:pt x="18" y="62"/>
                  </a:lnTo>
                  <a:lnTo>
                    <a:pt x="10" y="54"/>
                  </a:lnTo>
                  <a:lnTo>
                    <a:pt x="2" y="47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4" y="31"/>
                  </a:lnTo>
                  <a:lnTo>
                    <a:pt x="22" y="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abd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8:47:04Z</dcterms:created>
  <dc:creator>e049</dc:creator>
  <dc:description/>
  <dc:language>en-US</dc:language>
  <cp:lastModifiedBy>思蓉</cp:lastModifiedBy>
  <dcterms:modified xsi:type="dcterms:W3CDTF">2005-03-13T03:23:09Z</dcterms:modified>
  <cp:revision>17</cp:revision>
  <dc:subject/>
  <dc:title>PowerPoint 簡報</dc:title>
</cp:coreProperties>
</file>