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994-446B-4271-BD9A-A9655523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096-4A42-48F7-9347-C020C75C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11F-D08D-46CC-A342-062512A6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D2B-32AD-4122-A9BA-B7A02A92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2D8-AAB9-44ED-8F31-BBCD32CF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3A9-8276-48E9-A574-01FEE2DC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CF1D-33A2-41E9-B144-292441BB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835B-8CC2-450C-A297-AA27ED73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8E4-EDDE-4286-A2A8-053CEA17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F5FF-C670-48F8-918E-2D92EB3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84F5-F2A3-46C6-946E-C3C87AF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5A1-295D-4DA0-8D89-7EFAD60E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E54-C0B6-4BA6-BBC7-BDA31E6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4DF-DBE6-410D-8BF7-0AA23AF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58DF-93EE-422A-9443-FAC2140A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118-C230-4F60-A6E5-BD464551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6981-C0B4-4FC0-8278-DDE6AE2F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2A5-CEE7-4E6C-AC29-F7976E3D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B2F-D480-43BD-8087-2159EFAD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72C-E033-40B0-889D-386A5A19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E1A-AB66-4B8C-80F0-2989C69A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BA8-2B7E-49C4-9B96-133039F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E29-0596-433E-8611-CA80A57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920-3A2A-4F22-A08D-F0BC2505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207-8FE7-40EC-BA82-CD398F85EC13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F8A-8D73-40DF-97A6-2B386803B9E0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星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電話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顏成序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天秤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23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周妤茗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處女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82-9956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朱笑添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雙子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31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吳劍好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金牛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1-542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89440" y="21016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9440" y="21016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25480" y="2062080"/>
            <a:ext cx="7703280" cy="4102920"/>
            <a:chOff x="825480" y="2062080"/>
            <a:chExt cx="7703280" cy="4102920"/>
          </a:xfrm>
        </p:grpSpPr>
        <p:cxnSp>
          <p:nvCxnSpPr>
            <p:cNvPr id="101" name="_s20530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4420440" y="4880880"/>
              <a:ext cx="513360" cy="28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5b5249"/>
              </a:solidFill>
              <a:miter/>
            </a:ln>
          </p:spPr>
        </p:cxnSp>
        <p:cxnSp>
          <p:nvCxnSpPr>
            <p:cNvPr id="104" name="_s20528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5768280" y="3533760"/>
              <a:ext cx="513360" cy="269748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5b5249"/>
              </a:solidFill>
              <a:miter/>
            </a:ln>
          </p:spPr>
        </p:cxnSp>
        <p:cxnSp>
          <p:nvCxnSpPr>
            <p:cNvPr id="106" name="_s20521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071520" y="3534840"/>
              <a:ext cx="513360" cy="26953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5b5249"/>
              </a:solidFill>
              <a:miter/>
            </a:ln>
          </p:spPr>
        </p:cxnSp>
        <p:cxnSp>
          <p:nvCxnSpPr>
            <p:cNvPr id="108" name="_s20501"/>
            <p:cNvCxnSpPr>
              <a:stCxn id="103" idx="0"/>
              <a:endCxn id="109" idx="2"/>
            </p:cNvCxnSpPr>
            <p:nvPr/>
          </p:nvCxnSpPr>
          <p:spPr>
            <a:xfrm flipV="1">
              <a:off x="4676040" y="3087360"/>
              <a:ext cx="2880" cy="513360"/>
            </a:xfrm>
            <a:prstGeom prst="bentConnector2">
              <a:avLst/>
            </a:prstGeom>
            <a:ln w="28440">
              <a:solidFill>
                <a:srgbClr val="5b5249"/>
              </a:solidFill>
              <a:miter/>
            </a:ln>
          </p:spPr>
        </p:cxnSp>
        <p:sp>
          <p:nvSpPr>
            <p:cNvPr id="109" name="_s20497"/>
            <p:cNvSpPr/>
            <p:nvPr/>
          </p:nvSpPr>
          <p:spPr>
            <a:xfrm>
              <a:off x="3520080" y="2062080"/>
              <a:ext cx="2311560" cy="1025640"/>
            </a:xfrm>
            <a:prstGeom prst="roundRect">
              <a:avLst>
                <a:gd name="adj" fmla="val 16667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張燕燕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班長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3" name="_s20498"/>
            <p:cNvSpPr/>
            <p:nvPr/>
          </p:nvSpPr>
          <p:spPr>
            <a:xfrm>
              <a:off x="3520080" y="3600720"/>
              <a:ext cx="2311560" cy="1025640"/>
            </a:xfrm>
            <a:prstGeom prst="roundRect">
              <a:avLst>
                <a:gd name="adj" fmla="val 16667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庾小慶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副班長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_s20520"/>
            <p:cNvSpPr/>
            <p:nvPr/>
          </p:nvSpPr>
          <p:spPr>
            <a:xfrm>
              <a:off x="825480" y="5139360"/>
              <a:ext cx="2311560" cy="1025640"/>
            </a:xfrm>
            <a:prstGeom prst="roundRect">
              <a:avLst>
                <a:gd name="adj" fmla="val 16667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王仁甫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風紀股長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_s20527"/>
            <p:cNvSpPr/>
            <p:nvPr/>
          </p:nvSpPr>
          <p:spPr>
            <a:xfrm>
              <a:off x="6217200" y="5139360"/>
              <a:ext cx="2311560" cy="1025640"/>
            </a:xfrm>
            <a:prstGeom prst="roundRect">
              <a:avLst>
                <a:gd name="adj" fmla="val 16667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陶晶晶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學藝股長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2" name="_s20529"/>
            <p:cNvSpPr/>
            <p:nvPr/>
          </p:nvSpPr>
          <p:spPr>
            <a:xfrm>
              <a:off x="3522600" y="5139360"/>
              <a:ext cx="2309400" cy="1025640"/>
            </a:xfrm>
            <a:prstGeom prst="roundRect">
              <a:avLst>
                <a:gd name="adj" fmla="val 16667"/>
              </a:avLst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王小偉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5b5249"/>
                  </a:solidFill>
                  <a:latin typeface="Times New Roman"/>
                </a:rPr>
                <a:t>總務股長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02T08:31:48Z</dcterms:modified>
  <cp:revision>23</cp:revision>
  <dc:subject/>
  <dc:title>我們這一班</dc:title>
</cp:coreProperties>
</file>