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541-FC83-4D59-A4EC-6D7A54D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43F-1724-4B9D-B985-4B95758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4FD-8C06-4E51-8B06-4F0101E6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3B3-A83D-409F-A59D-BBAB59D0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9BE-E983-48D9-97AD-5F05507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311-A534-47E6-AFD2-DDE86FD1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C28-7871-4061-B07A-DF90F2F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AD5-5B80-4447-8EDD-1CC8D971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74B-AA84-4ABE-B204-588096E2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D79-F4A5-413E-81F1-39EC1E1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E48-FC96-46EB-9E07-E7EEE17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EEA-0E74-409E-BA91-9DBE994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43F-3BA7-4403-8E94-64764F9F7EA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66"/>
                </a:solidFill>
                <a:latin typeface="Arial"/>
                <a:ea typeface="華康POP1體W5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華康少女文字W5"/>
              </a:rPr>
              <a:t>我的個人小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ff"/>
                </a:solidFill>
                <a:latin typeface="Arial"/>
                <a:ea typeface="華康POP1體W5"/>
              </a:rPr>
              <a:t>基本資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身高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152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體重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40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公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星座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獅子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血型：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O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ff"/>
                </a:solidFill>
                <a:latin typeface="華康少女文字W5"/>
                <a:ea typeface="華康少女文字W5"/>
              </a:rPr>
              <a:t>家庭成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爹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媽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哥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a8b00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小狗～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波波</a:t>
            </a:r>
            <a:r>
              <a:rPr b="0" lang="zh-TW" sz="4000" spc="-1" strike="noStrike">
                <a:solidFill>
                  <a:srgbClr val="009900"/>
                </a:solidFill>
                <a:latin typeface="華康少女文字W5"/>
                <a:ea typeface="華康少女文字W5"/>
              </a:rPr>
              <a:t>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3:21:48Z</dcterms:created>
  <dc:creator>思蓉</dc:creator>
  <dc:description/>
  <dc:language>en-US</dc:language>
  <cp:lastModifiedBy>思蓉</cp:lastModifiedBy>
  <dcterms:modified xsi:type="dcterms:W3CDTF">2005-02-26T09:55:08Z</dcterms:modified>
  <cp:revision>4</cp:revision>
  <dc:subject/>
  <dc:title>投影片 1</dc:title>
</cp:coreProperties>
</file>