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B3E-F827-4603-A8C7-9E14966A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624-244E-4837-9E16-268696F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83D-CFBA-4BFC-BC4F-646F0460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277-AA74-43AF-8399-77E18E50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54A-5FBE-4295-921B-D14F62E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D9B-5AB6-4AE3-9EB6-B070CC77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75A-370D-48CB-B87E-250B49E9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A62-2AF4-4A51-A060-DD014D6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4A5-0E56-4B05-8C9B-FC066247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66A-D5BA-4A65-A667-FB8F712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0C1-52EF-4F88-B205-3E2F44F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449-246A-4BDF-BD0F-8942EE3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0698-074B-46C0-9D67-61A53A830269}" type="slidenum"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990800"/>
            <a:ext cx="6794280" cy="302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少女文字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少女文字W5"/>
              <a:ea typeface="華康少女文字W5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5516640"/>
            <a:ext cx="42339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小魔女 嘔心企劃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QQ</a:t>
            </a: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鼠率團 泣血製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5805360"/>
            <a:ext cx="4467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475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凡走過，必留下足跡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84360" y="2104560"/>
            <a:ext cx="6989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火車快飛到墾丁＋營火晚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魚兒水中游＋夜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依依不捨說再見＋溫暖的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85B-9641-45AF-856F-DD42B14924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8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789360"/>
            <a:ext cx="469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3440" y="1463760"/>
            <a:ext cx="3436920" cy="4270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95840" y="596880"/>
            <a:ext cx="3908520" cy="29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8B9-313B-416B-BF0A-EC3116F4C7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4040" y="34290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船帆石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位於墾丁與鵝鑾鼻之間，高約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50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公尺，因形狀像一艘船隻而得名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88000" y="852480"/>
            <a:ext cx="3763800" cy="254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8C8-60F2-49BF-B10B-D3A689153F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933720"/>
            <a:ext cx="5187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Times New Roman"/>
                <a:ea typeface="華康細圓體"/>
              </a:rPr>
              <a:t>恆春古城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恆春于清光緒元年開始建城，如今留下東、西、南、北四座城門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708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3811680"/>
            <a:ext cx="316872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66960" y="1413000"/>
            <a:ext cx="3286080" cy="248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D7A-A265-4070-8EB7-20881F875D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閃亮的一刻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160800" cy="42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墾丁之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F1A-DB3D-47AD-8035-39877945E2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0/3/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52</dc:creator>
  <dc:description/>
  <dc:language>en-US</dc:language>
  <cp:lastModifiedBy>思蓉</cp:lastModifiedBy>
  <dcterms:modified xsi:type="dcterms:W3CDTF">2005-03-04T01:24:39Z</dcterms:modified>
  <cp:revision>15</cp:revision>
  <dc:subject/>
  <dc:title>墾丁之旅</dc:title>
</cp:coreProperties>
</file>