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57B-DC6D-4246-8921-F829557F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F46-FB2F-4B4C-BEF1-8B3B056B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A98-97BE-4C17-B965-6B908B9E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A80-EC2F-434E-B556-A5B1BD0D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943-9D11-48E3-96EE-795C5530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60C-DE64-465C-8485-7C10C1F1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C13-ABDC-40D4-8EA0-9CE0353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560-7869-4962-B405-B50DC8DB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26B-DB14-4CB6-A7BE-F3F84A07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C27-70D5-437A-A1FB-610F8C7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EA7-B046-4762-977A-8BA9D01E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8DF-BC5C-4464-A68F-8BF10B84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356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BD1E-70EE-4E8B-AAF5-72CF59C058F0}" type="slidenum"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2880" y="1990800"/>
            <a:ext cx="7361280" cy="302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f2531a"/>
                    </a:gs>
                    <a:gs pos="50000">
                      <a:srgbClr val="ffff00"/>
                    </a:gs>
                    <a:gs pos="100000">
                      <a:srgbClr val="f2531a"/>
                    </a:gs>
                  </a:gsLst>
                  <a:lin ang="5400000"/>
                </a:gradFill>
                <a:latin typeface="華康少女文字W5"/>
              </a:rPr>
              <a:t>墾丁之旅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f2531a"/>
                  </a:gs>
                  <a:gs pos="50000">
                    <a:srgbClr val="ffff00"/>
                  </a:gs>
                  <a:gs pos="100000">
                    <a:srgbClr val="f2531a"/>
                  </a:gs>
                </a:gsLst>
                <a:lin ang="5400000"/>
              </a:gradFill>
              <a:latin typeface="華康少女文字W5"/>
              <a:ea typeface="華康少女文字W5"/>
            </a:endParaRPr>
          </a:p>
        </p:txBody>
      </p:sp>
      <p:sp>
        <p:nvSpPr>
          <p:cNvPr id="42" name=""/>
          <p:cNvSpPr/>
          <p:nvPr/>
        </p:nvSpPr>
        <p:spPr>
          <a:xfrm>
            <a:off x="117360" y="5516640"/>
            <a:ext cx="45864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小魔女 嘔心企劃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QQ</a:t>
            </a: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鼠率團 泣血製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94120" y="5805360"/>
            <a:ext cx="4840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ff"/>
                </a:solidFill>
                <a:latin typeface="華康POP1體W5"/>
                <a:ea typeface="華康POP1體W5"/>
              </a:rPr>
              <a:t>墾丁之旅紀事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47680" y="1380960"/>
            <a:ext cx="9464040" cy="319320"/>
            <a:chOff x="247680" y="1380960"/>
            <a:chExt cx="9464040" cy="319320"/>
          </a:xfrm>
        </p:grpSpPr>
        <p:sp>
          <p:nvSpPr>
            <p:cNvPr id="45" name=""/>
            <p:cNvSpPr/>
            <p:nvPr/>
          </p:nvSpPr>
          <p:spPr>
            <a:xfrm>
              <a:off x="735120" y="1380960"/>
              <a:ext cx="897660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47680" y="1380960"/>
              <a:ext cx="5040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9200" y="475920"/>
            <a:ext cx="9163080" cy="114300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凡走過，必留下足跡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0280" y="2104560"/>
            <a:ext cx="7572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一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火車快飛到墾丁＋營火晚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二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魚兒水中游＋夜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三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依依不捨說再見＋溫暖的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CEC-33D0-456F-87E9-C9D5247E71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198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2920" y="228600"/>
            <a:ext cx="89154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40320" y="3789360"/>
            <a:ext cx="50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標楷體"/>
                <a:ea typeface="標楷體"/>
              </a:rPr>
              <a:t>青年活動中心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建築以三合院、</a:t>
            </a:r>
            <a:r>
              <a:rPr b="0" lang="zh-TW" sz="3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合院為主，為仿照台灣傳統書院的建築</a:t>
            </a:r>
            <a:r>
              <a:rPr b="0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6172200"/>
            <a:ext cx="8915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463760"/>
            <a:ext cx="3722400" cy="4270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87880" y="596880"/>
            <a:ext cx="4233960" cy="293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7A2-DA96-4F99-99A9-B70A5BD3C3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2920" y="228600"/>
            <a:ext cx="89154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360" y="6172200"/>
            <a:ext cx="8915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02080" y="3429000"/>
            <a:ext cx="5097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船帆石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位於墾丁與鵝鑾鼻之間，高約</a:t>
            </a: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50</a:t>
            </a: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公尺，因形狀像一艘船隻而得名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86520" y="852480"/>
            <a:ext cx="4078080" cy="254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360" y="1600200"/>
            <a:ext cx="3741840" cy="419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254-4C70-4698-9C90-A0EB87AA64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2920" y="228600"/>
            <a:ext cx="89154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360" y="6172200"/>
            <a:ext cx="8915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680" y="3933720"/>
            <a:ext cx="5621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Times New Roman"/>
                <a:ea typeface="華康細圓體"/>
              </a:rPr>
              <a:t>恆春古城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恆春于清光緒元年開始建城，如今留下東、西、南、北四座城門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889600" y="1211400"/>
            <a:ext cx="335448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888160" y="3811680"/>
            <a:ext cx="343368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47600" y="1413000"/>
            <a:ext cx="3559320" cy="248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2D9-910C-464D-A676-DA96394AF3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4998240" y="765000"/>
            <a:ext cx="73044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770520" y="765000"/>
            <a:ext cx="7272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886360" y="765000"/>
            <a:ext cx="72864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114800" y="762120"/>
            <a:ext cx="728640" cy="67284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656480" y="765000"/>
            <a:ext cx="72720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541720" y="765000"/>
            <a:ext cx="72684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閃亮的一刻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7960" y="6248520"/>
            <a:ext cx="69422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51000" y="1763640"/>
            <a:ext cx="3424320" cy="42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254-4905-4F8D-8964-60421DEE61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39:40Z</dcterms:created>
  <dc:creator>e052</dc:creator>
  <dc:description/>
  <dc:language>en-US</dc:language>
  <cp:lastModifiedBy>思蓉</cp:lastModifiedBy>
  <dcterms:modified xsi:type="dcterms:W3CDTF">2005-03-04T02:25:32Z</dcterms:modified>
  <cp:revision>15</cp:revision>
  <dc:subject/>
  <dc:title>墾丁之旅</dc:title>
</cp:coreProperties>
</file>