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3FB-95FE-4AD7-963C-A002F35E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B9A-C34B-474B-8599-6F80AB0C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F48-A8F7-4EED-8C38-6898B44D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BF1-EB03-4BB3-A758-DDFA2925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3C3-997B-45CB-A3A0-68CE69FF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DAE-8D7E-4206-9C0B-26638B76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F2D-9FB9-4BC7-B111-3D52D285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C0B-4375-4513-B14D-D205DB0F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995-B050-4117-ACF7-829B224A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C04-AE8F-44DE-A0A3-1B3A4EBF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92A-30D7-4440-8E82-C5298720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C22-E980-4853-980E-87A4B4B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1B8C-9054-4D0E-BF6B-162C0FC0F8B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673440" cy="3503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3280" y="333360"/>
            <a:ext cx="4176720" cy="3743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333399"/>
                </a:solidFill>
                <a:latin typeface="Arial"/>
                <a:ea typeface="華康新特圓體"/>
              </a:rPr>
              <a:t>等你來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0066"/>
                </a:solidFill>
                <a:latin typeface="Arial"/>
                <a:ea typeface="華康新特圓體"/>
              </a:rPr>
              <a:t>挑戰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89080" y="4340160"/>
            <a:ext cx="719928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新特圓體"/>
              </a:rPr>
              <a:t>班際籃球賽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新特圓體"/>
              <a:ea typeface="華康新特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5:49:19Z</dcterms:created>
  <dc:creator>思蓉</dc:creator>
  <dc:description/>
  <dc:language>en-US</dc:language>
  <cp:lastModifiedBy>思蓉</cp:lastModifiedBy>
  <dcterms:modified xsi:type="dcterms:W3CDTF">2005-03-01T08:32:35Z</dcterms:modified>
  <cp:revision>5</cp:revision>
  <dc:subject/>
  <dc:title>投影片 1</dc:title>
</cp:coreProperties>
</file>