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D44-C0AC-4510-A15F-862BC404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FFE-667C-482B-90D0-F37276F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E75-2D16-4FB9-808E-B6CD514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152-D1A8-40CD-ADC0-62F4A1FF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37A4-FBD5-4448-8BDF-C7F050CD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6888-65B0-4951-898B-3A4B6BE3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F519-3D11-4E8E-8AD2-8A3AEC27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5B18-7EA1-4287-9E44-DAB777B5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1F24-0E7C-4C30-AE30-131E8D91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1F5-58CC-498B-BF06-77EF2B23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64D3-1789-4F58-8BC6-2F31291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17F-46D7-4D74-8AEF-00A1D79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C554-BAE8-4AA5-B396-7767D07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CBB8-B672-4CE7-953D-0AC3B2A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BFCC-E48F-4717-BD3F-E8DEB74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9C1-B457-4505-929B-1F32065C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6D65-D75C-4970-B252-682830D3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D9C-CDA9-4739-8E87-077C5FB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A6F-D773-4315-937D-74AF963B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4B4-5B3A-43EE-A867-DD03247D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0AF-BD1B-4F28-B018-1EEFC3F2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191-F1F4-46FB-A695-D9BC8E0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D5A-AF25-4A3D-9B49-24CBED1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B10-97F1-45F3-B6A0-248E04CF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06200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58E0-42DF-4229-BBC9-F554E16F7134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2509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19807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8520-63FB-4ABF-95A4-EC9A87B1984E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80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80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80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80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8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64832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通訊錄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21016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星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電話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顏成序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天秤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23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周妤茗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處女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82-9956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朱笑添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雙子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31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吳劍好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金牛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1-542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上男女生人數比例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2825280"/>
            <a:ext cx="4019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男生人數：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14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marL="457200" indent="-457200">
              <a:spcBef>
                <a:spcPts val="36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女生人數：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17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22760" y="2103480"/>
          <a:ext cx="398160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2760" y="2103480"/>
                    <a:ext cx="398160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級幹部組織圖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思蓉</cp:lastModifiedBy>
  <dcterms:modified xsi:type="dcterms:W3CDTF">2005-03-07T09:55:14Z</dcterms:modified>
  <cp:revision>18</cp:revision>
  <dc:subject/>
  <dc:title>我們這一班</dc:title>
</cp:coreProperties>
</file>