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E7E-8D39-4B95-AC22-B59732E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FDD-D08C-4A31-8248-2DDB842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47F-F24E-4107-A32D-AE2AE55D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848-BD9C-47AE-AEA8-73DDC7F9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4541-302F-4413-884D-A560EA7A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19D2-3FBB-4CF0-80B2-12442405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A32E-B9DD-40F5-9142-55BD1539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4DF-8EBC-42C4-8DD8-56513AD8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A74-CD44-4A86-A41D-A963650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2F3A-B235-4485-BC32-2E9CB26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77D-BED7-4032-BF89-2B96D99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E7F-7DA3-4DD3-8EFC-A0DDCDC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D3F-DC7F-4B10-AE3D-C2A8A25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B60E-67F0-4F27-A79E-00A7DFC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6EDF-2150-422E-B2E1-F8E0DAEB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ACF6-B010-4E8E-865D-4E68A802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AF4-1543-4EFF-9C48-79CEEE0A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C15-B99E-4AB0-B574-DC143A7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7EE-81EC-4CE2-B650-BF7D2944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FF7-F625-43FE-A0AC-3EC6DCC0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4A3-79CF-4616-93A9-A45BFF8E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8D8-E3AF-47E7-9C4F-09DA4E6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423-1DC7-40DD-B3FC-9494C49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32F-0D17-4737-A39C-6E36AD8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480" y="4267080"/>
            <a:ext cx="913752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1486-7998-4711-9CEF-AB74EEBF7477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3752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BEEA-8055-41C9-AA6E-D4F53BF0F3FB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635280" y="4844520"/>
            <a:ext cx="511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主辦：元氣國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時間：三月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47640" y="1413000"/>
            <a:ext cx="6193080" cy="15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64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華康少女文字W5"/>
              </a:rPr>
              <a:t>淡水小鎮</a:t>
            </a:r>
            <a:endParaRPr b="1" lang="en-US" sz="2400" spc="1" strike="noStrike">
              <a:ln w="64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華康少女文字W5"/>
              <a:ea typeface="華康少女文字W5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54560" y="3232080"/>
            <a:ext cx="432108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華康少女文字W3"/>
              </a:rPr>
              <a:t>～熱情逍遙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華康少女文字W3"/>
              <a:ea typeface="華康少女文字W3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404640"/>
            <a:ext cx="1455840" cy="539640"/>
            <a:chOff x="0" y="404640"/>
            <a:chExt cx="1455840" cy="539640"/>
          </a:xfrm>
        </p:grpSpPr>
        <p:sp>
          <p:nvSpPr>
            <p:cNvPr id="89" name=""/>
            <p:cNvSpPr/>
            <p:nvPr/>
          </p:nvSpPr>
          <p:spPr>
            <a:xfrm>
              <a:off x="174600" y="404640"/>
              <a:ext cx="1143000" cy="412560"/>
            </a:xfrm>
            <a:custGeom>
              <a:avLst/>
              <a:gdLst/>
              <a:ahLst/>
              <a:rect l="l" t="t" r="r" b="b"/>
              <a:pathLst>
                <a:path w="720" h="260">
                  <a:moveTo>
                    <a:pt x="0" y="37"/>
                  </a:moveTo>
                  <a:lnTo>
                    <a:pt x="1" y="36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21" y="28"/>
                  </a:lnTo>
                  <a:lnTo>
                    <a:pt x="28" y="26"/>
                  </a:lnTo>
                  <a:lnTo>
                    <a:pt x="37" y="24"/>
                  </a:lnTo>
                  <a:lnTo>
                    <a:pt x="46" y="21"/>
                  </a:lnTo>
                  <a:lnTo>
                    <a:pt x="55" y="18"/>
                  </a:lnTo>
                  <a:lnTo>
                    <a:pt x="67" y="16"/>
                  </a:lnTo>
                  <a:lnTo>
                    <a:pt x="78" y="13"/>
                  </a:lnTo>
                  <a:lnTo>
                    <a:pt x="92" y="11"/>
                  </a:lnTo>
                  <a:lnTo>
                    <a:pt x="105" y="8"/>
                  </a:lnTo>
                  <a:lnTo>
                    <a:pt x="118" y="6"/>
                  </a:lnTo>
                  <a:lnTo>
                    <a:pt x="134" y="5"/>
                  </a:lnTo>
                  <a:lnTo>
                    <a:pt x="147" y="3"/>
                  </a:lnTo>
                  <a:lnTo>
                    <a:pt x="164" y="1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7" y="0"/>
                  </a:lnTo>
                  <a:lnTo>
                    <a:pt x="252" y="1"/>
                  </a:lnTo>
                  <a:lnTo>
                    <a:pt x="263" y="1"/>
                  </a:lnTo>
                  <a:lnTo>
                    <a:pt x="276" y="1"/>
                  </a:lnTo>
                  <a:lnTo>
                    <a:pt x="286" y="3"/>
                  </a:lnTo>
                  <a:lnTo>
                    <a:pt x="296" y="3"/>
                  </a:lnTo>
                  <a:lnTo>
                    <a:pt x="304" y="3"/>
                  </a:lnTo>
                  <a:lnTo>
                    <a:pt x="309" y="5"/>
                  </a:lnTo>
                  <a:lnTo>
                    <a:pt x="312" y="5"/>
                  </a:lnTo>
                  <a:lnTo>
                    <a:pt x="314" y="5"/>
                  </a:lnTo>
                  <a:lnTo>
                    <a:pt x="330" y="46"/>
                  </a:lnTo>
                  <a:lnTo>
                    <a:pt x="368" y="126"/>
                  </a:lnTo>
                  <a:lnTo>
                    <a:pt x="420" y="173"/>
                  </a:lnTo>
                  <a:lnTo>
                    <a:pt x="456" y="170"/>
                  </a:lnTo>
                  <a:lnTo>
                    <a:pt x="488" y="183"/>
                  </a:lnTo>
                  <a:lnTo>
                    <a:pt x="677" y="172"/>
                  </a:lnTo>
                  <a:lnTo>
                    <a:pt x="720" y="237"/>
                  </a:lnTo>
                  <a:lnTo>
                    <a:pt x="705" y="260"/>
                  </a:lnTo>
                  <a:lnTo>
                    <a:pt x="604" y="199"/>
                  </a:lnTo>
                  <a:lnTo>
                    <a:pt x="602" y="199"/>
                  </a:lnTo>
                  <a:lnTo>
                    <a:pt x="599" y="201"/>
                  </a:lnTo>
                  <a:lnTo>
                    <a:pt x="594" y="203"/>
                  </a:lnTo>
                  <a:lnTo>
                    <a:pt x="587" y="206"/>
                  </a:lnTo>
                  <a:lnTo>
                    <a:pt x="579" y="208"/>
                  </a:lnTo>
                  <a:lnTo>
                    <a:pt x="571" y="211"/>
                  </a:lnTo>
                  <a:lnTo>
                    <a:pt x="561" y="214"/>
                  </a:lnTo>
                  <a:lnTo>
                    <a:pt x="551" y="219"/>
                  </a:lnTo>
                  <a:lnTo>
                    <a:pt x="538" y="222"/>
                  </a:lnTo>
                  <a:lnTo>
                    <a:pt x="527" y="226"/>
                  </a:lnTo>
                  <a:lnTo>
                    <a:pt x="514" y="229"/>
                  </a:lnTo>
                  <a:lnTo>
                    <a:pt x="502" y="232"/>
                  </a:lnTo>
                  <a:lnTo>
                    <a:pt x="489" y="235"/>
                  </a:lnTo>
                  <a:lnTo>
                    <a:pt x="478" y="239"/>
                  </a:lnTo>
                  <a:lnTo>
                    <a:pt x="465" y="240"/>
                  </a:lnTo>
                  <a:lnTo>
                    <a:pt x="455" y="242"/>
                  </a:lnTo>
                  <a:lnTo>
                    <a:pt x="442" y="242"/>
                  </a:lnTo>
                  <a:lnTo>
                    <a:pt x="432" y="244"/>
                  </a:lnTo>
                  <a:lnTo>
                    <a:pt x="422" y="244"/>
                  </a:lnTo>
                  <a:lnTo>
                    <a:pt x="414" y="244"/>
                  </a:lnTo>
                  <a:lnTo>
                    <a:pt x="404" y="244"/>
                  </a:lnTo>
                  <a:lnTo>
                    <a:pt x="396" y="242"/>
                  </a:lnTo>
                  <a:lnTo>
                    <a:pt x="388" y="242"/>
                  </a:lnTo>
                  <a:lnTo>
                    <a:pt x="383" y="242"/>
                  </a:lnTo>
                  <a:lnTo>
                    <a:pt x="376" y="240"/>
                  </a:lnTo>
                  <a:lnTo>
                    <a:pt x="371" y="239"/>
                  </a:lnTo>
                  <a:lnTo>
                    <a:pt x="366" y="237"/>
                  </a:lnTo>
                  <a:lnTo>
                    <a:pt x="363" y="237"/>
                  </a:lnTo>
                  <a:lnTo>
                    <a:pt x="358" y="235"/>
                  </a:lnTo>
                  <a:lnTo>
                    <a:pt x="357" y="235"/>
                  </a:lnTo>
                  <a:lnTo>
                    <a:pt x="283" y="209"/>
                  </a:lnTo>
                  <a:lnTo>
                    <a:pt x="329" y="198"/>
                  </a:lnTo>
                  <a:lnTo>
                    <a:pt x="293" y="88"/>
                  </a:lnTo>
                  <a:lnTo>
                    <a:pt x="154" y="67"/>
                  </a:lnTo>
                  <a:lnTo>
                    <a:pt x="29" y="65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9400" y="666360"/>
              <a:ext cx="179640" cy="7308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113" y="31"/>
                  </a:moveTo>
                  <a:lnTo>
                    <a:pt x="88" y="0"/>
                  </a:lnTo>
                  <a:lnTo>
                    <a:pt x="0" y="21"/>
                  </a:lnTo>
                  <a:lnTo>
                    <a:pt x="77" y="46"/>
                  </a:lnTo>
                  <a:lnTo>
                    <a:pt x="113" y="31"/>
                  </a:lnTo>
                  <a:lnTo>
                    <a:pt x="113" y="3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6360" y="450720"/>
              <a:ext cx="649440" cy="341280"/>
            </a:xfrm>
            <a:custGeom>
              <a:avLst/>
              <a:gdLst/>
              <a:ahLst/>
              <a:rect l="l" t="t" r="r" b="b"/>
              <a:pathLst>
                <a:path w="409" h="215">
                  <a:moveTo>
                    <a:pt x="0" y="0"/>
                  </a:moveTo>
                  <a:lnTo>
                    <a:pt x="213" y="20"/>
                  </a:lnTo>
                  <a:lnTo>
                    <a:pt x="259" y="116"/>
                  </a:lnTo>
                  <a:lnTo>
                    <a:pt x="311" y="174"/>
                  </a:lnTo>
                  <a:lnTo>
                    <a:pt x="408" y="167"/>
                  </a:lnTo>
                  <a:lnTo>
                    <a:pt x="409" y="197"/>
                  </a:lnTo>
                  <a:lnTo>
                    <a:pt x="406" y="197"/>
                  </a:lnTo>
                  <a:lnTo>
                    <a:pt x="403" y="200"/>
                  </a:lnTo>
                  <a:lnTo>
                    <a:pt x="398" y="200"/>
                  </a:lnTo>
                  <a:lnTo>
                    <a:pt x="395" y="203"/>
                  </a:lnTo>
                  <a:lnTo>
                    <a:pt x="390" y="205"/>
                  </a:lnTo>
                  <a:lnTo>
                    <a:pt x="385" y="206"/>
                  </a:lnTo>
                  <a:lnTo>
                    <a:pt x="378" y="208"/>
                  </a:lnTo>
                  <a:lnTo>
                    <a:pt x="373" y="210"/>
                  </a:lnTo>
                  <a:lnTo>
                    <a:pt x="367" y="211"/>
                  </a:lnTo>
                  <a:lnTo>
                    <a:pt x="360" y="213"/>
                  </a:lnTo>
                  <a:lnTo>
                    <a:pt x="354" y="215"/>
                  </a:lnTo>
                  <a:lnTo>
                    <a:pt x="347" y="215"/>
                  </a:lnTo>
                  <a:lnTo>
                    <a:pt x="339" y="215"/>
                  </a:lnTo>
                  <a:lnTo>
                    <a:pt x="333" y="215"/>
                  </a:lnTo>
                  <a:lnTo>
                    <a:pt x="324" y="213"/>
                  </a:lnTo>
                  <a:lnTo>
                    <a:pt x="316" y="211"/>
                  </a:lnTo>
                  <a:lnTo>
                    <a:pt x="308" y="210"/>
                  </a:lnTo>
                  <a:lnTo>
                    <a:pt x="300" y="206"/>
                  </a:lnTo>
                  <a:lnTo>
                    <a:pt x="292" y="203"/>
                  </a:lnTo>
                  <a:lnTo>
                    <a:pt x="283" y="200"/>
                  </a:lnTo>
                  <a:lnTo>
                    <a:pt x="277" y="197"/>
                  </a:lnTo>
                  <a:lnTo>
                    <a:pt x="270" y="195"/>
                  </a:lnTo>
                  <a:lnTo>
                    <a:pt x="264" y="190"/>
                  </a:lnTo>
                  <a:lnTo>
                    <a:pt x="259" y="187"/>
                  </a:lnTo>
                  <a:lnTo>
                    <a:pt x="252" y="185"/>
                  </a:lnTo>
                  <a:lnTo>
                    <a:pt x="249" y="182"/>
                  </a:lnTo>
                  <a:lnTo>
                    <a:pt x="244" y="179"/>
                  </a:lnTo>
                  <a:lnTo>
                    <a:pt x="243" y="177"/>
                  </a:lnTo>
                  <a:lnTo>
                    <a:pt x="203" y="71"/>
                  </a:lnTo>
                  <a:lnTo>
                    <a:pt x="3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5360" y="706320"/>
              <a:ext cx="217800" cy="128520"/>
            </a:xfrm>
            <a:custGeom>
              <a:avLst/>
              <a:gdLst/>
              <a:ahLst/>
              <a:rect l="l" t="t" r="r" b="b"/>
              <a:pathLst>
                <a:path w="137" h="81">
                  <a:moveTo>
                    <a:pt x="0" y="9"/>
                  </a:moveTo>
                  <a:lnTo>
                    <a:pt x="69" y="0"/>
                  </a:lnTo>
                  <a:lnTo>
                    <a:pt x="137" y="81"/>
                  </a:lnTo>
                  <a:lnTo>
                    <a:pt x="83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57120" y="788760"/>
              <a:ext cx="198720" cy="15552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0" y="7"/>
                  </a:moveTo>
                  <a:lnTo>
                    <a:pt x="48" y="0"/>
                  </a:lnTo>
                  <a:lnTo>
                    <a:pt x="82" y="43"/>
                  </a:lnTo>
                  <a:lnTo>
                    <a:pt x="125" y="98"/>
                  </a:lnTo>
                  <a:lnTo>
                    <a:pt x="85" y="8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1800" y="68724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13" y="0"/>
                  </a:moveTo>
                  <a:lnTo>
                    <a:pt x="77" y="10"/>
                  </a:lnTo>
                  <a:lnTo>
                    <a:pt x="98" y="53"/>
                  </a:lnTo>
                  <a:lnTo>
                    <a:pt x="67" y="57"/>
                  </a:lnTo>
                  <a:lnTo>
                    <a:pt x="51" y="48"/>
                  </a:lnTo>
                  <a:lnTo>
                    <a:pt x="18" y="59"/>
                  </a:lnTo>
                  <a:lnTo>
                    <a:pt x="0" y="3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0720" y="74736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9" y="0"/>
                  </a:moveTo>
                  <a:lnTo>
                    <a:pt x="60" y="28"/>
                  </a:lnTo>
                  <a:lnTo>
                    <a:pt x="31" y="23"/>
                  </a:lnTo>
                  <a:lnTo>
                    <a:pt x="32" y="49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09320"/>
              <a:ext cx="465120" cy="104760"/>
            </a:xfrm>
            <a:custGeom>
              <a:avLst/>
              <a:gdLst/>
              <a:ahLst/>
              <a:rect l="l" t="t" r="r" b="b"/>
              <a:pathLst>
                <a:path w="293" h="66">
                  <a:moveTo>
                    <a:pt x="0" y="52"/>
                  </a:moveTo>
                  <a:lnTo>
                    <a:pt x="0" y="51"/>
                  </a:lnTo>
                  <a:lnTo>
                    <a:pt x="3" y="49"/>
                  </a:lnTo>
                  <a:lnTo>
                    <a:pt x="7" y="48"/>
                  </a:lnTo>
                  <a:lnTo>
                    <a:pt x="13" y="48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5" y="41"/>
                  </a:lnTo>
                  <a:lnTo>
                    <a:pt x="44" y="39"/>
                  </a:lnTo>
                  <a:lnTo>
                    <a:pt x="53" y="36"/>
                  </a:lnTo>
                  <a:lnTo>
                    <a:pt x="62" y="33"/>
                  </a:lnTo>
                  <a:lnTo>
                    <a:pt x="74" y="29"/>
                  </a:lnTo>
                  <a:lnTo>
                    <a:pt x="84" y="26"/>
                  </a:lnTo>
                  <a:lnTo>
                    <a:pt x="95" y="23"/>
                  </a:lnTo>
                  <a:lnTo>
                    <a:pt x="105" y="20"/>
                  </a:lnTo>
                  <a:lnTo>
                    <a:pt x="116" y="18"/>
                  </a:lnTo>
                  <a:lnTo>
                    <a:pt x="126" y="15"/>
                  </a:lnTo>
                  <a:lnTo>
                    <a:pt x="136" y="13"/>
                  </a:lnTo>
                  <a:lnTo>
                    <a:pt x="146" y="10"/>
                  </a:lnTo>
                  <a:lnTo>
                    <a:pt x="156" y="8"/>
                  </a:lnTo>
                  <a:lnTo>
                    <a:pt x="165" y="7"/>
                  </a:lnTo>
                  <a:lnTo>
                    <a:pt x="174" y="5"/>
                  </a:lnTo>
                  <a:lnTo>
                    <a:pt x="182" y="3"/>
                  </a:lnTo>
                  <a:lnTo>
                    <a:pt x="190" y="3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0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75" y="29"/>
                  </a:lnTo>
                  <a:lnTo>
                    <a:pt x="293" y="66"/>
                  </a:lnTo>
                  <a:lnTo>
                    <a:pt x="129" y="64"/>
                  </a:lnTo>
                  <a:lnTo>
                    <a:pt x="30" y="66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92360" y="130320"/>
            <a:ext cx="1150560" cy="426600"/>
            <a:chOff x="1692360" y="130320"/>
            <a:chExt cx="1150560" cy="426600"/>
          </a:xfrm>
        </p:grpSpPr>
        <p:sp>
          <p:nvSpPr>
            <p:cNvPr id="98" name=""/>
            <p:cNvSpPr/>
            <p:nvPr/>
          </p:nvSpPr>
          <p:spPr>
            <a:xfrm>
              <a:off x="1830240" y="130320"/>
              <a:ext cx="903600" cy="326160"/>
            </a:xfrm>
            <a:custGeom>
              <a:avLst/>
              <a:gdLst/>
              <a:ahLst/>
              <a:rect l="l" t="t" r="r" b="b"/>
              <a:pathLst>
                <a:path w="720" h="260">
                  <a:moveTo>
                    <a:pt x="0" y="37"/>
                  </a:moveTo>
                  <a:lnTo>
                    <a:pt x="1" y="36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21" y="28"/>
                  </a:lnTo>
                  <a:lnTo>
                    <a:pt x="28" y="26"/>
                  </a:lnTo>
                  <a:lnTo>
                    <a:pt x="37" y="24"/>
                  </a:lnTo>
                  <a:lnTo>
                    <a:pt x="46" y="21"/>
                  </a:lnTo>
                  <a:lnTo>
                    <a:pt x="55" y="18"/>
                  </a:lnTo>
                  <a:lnTo>
                    <a:pt x="67" y="16"/>
                  </a:lnTo>
                  <a:lnTo>
                    <a:pt x="78" y="13"/>
                  </a:lnTo>
                  <a:lnTo>
                    <a:pt x="92" y="11"/>
                  </a:lnTo>
                  <a:lnTo>
                    <a:pt x="105" y="8"/>
                  </a:lnTo>
                  <a:lnTo>
                    <a:pt x="118" y="6"/>
                  </a:lnTo>
                  <a:lnTo>
                    <a:pt x="134" y="5"/>
                  </a:lnTo>
                  <a:lnTo>
                    <a:pt x="147" y="3"/>
                  </a:lnTo>
                  <a:lnTo>
                    <a:pt x="164" y="1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7" y="0"/>
                  </a:lnTo>
                  <a:lnTo>
                    <a:pt x="252" y="1"/>
                  </a:lnTo>
                  <a:lnTo>
                    <a:pt x="263" y="1"/>
                  </a:lnTo>
                  <a:lnTo>
                    <a:pt x="276" y="1"/>
                  </a:lnTo>
                  <a:lnTo>
                    <a:pt x="286" y="3"/>
                  </a:lnTo>
                  <a:lnTo>
                    <a:pt x="296" y="3"/>
                  </a:lnTo>
                  <a:lnTo>
                    <a:pt x="304" y="3"/>
                  </a:lnTo>
                  <a:lnTo>
                    <a:pt x="309" y="5"/>
                  </a:lnTo>
                  <a:lnTo>
                    <a:pt x="312" y="5"/>
                  </a:lnTo>
                  <a:lnTo>
                    <a:pt x="314" y="5"/>
                  </a:lnTo>
                  <a:lnTo>
                    <a:pt x="330" y="46"/>
                  </a:lnTo>
                  <a:lnTo>
                    <a:pt x="368" y="126"/>
                  </a:lnTo>
                  <a:lnTo>
                    <a:pt x="420" y="173"/>
                  </a:lnTo>
                  <a:lnTo>
                    <a:pt x="456" y="170"/>
                  </a:lnTo>
                  <a:lnTo>
                    <a:pt x="488" y="183"/>
                  </a:lnTo>
                  <a:lnTo>
                    <a:pt x="677" y="172"/>
                  </a:lnTo>
                  <a:lnTo>
                    <a:pt x="720" y="237"/>
                  </a:lnTo>
                  <a:lnTo>
                    <a:pt x="705" y="260"/>
                  </a:lnTo>
                  <a:lnTo>
                    <a:pt x="604" y="199"/>
                  </a:lnTo>
                  <a:lnTo>
                    <a:pt x="602" y="199"/>
                  </a:lnTo>
                  <a:lnTo>
                    <a:pt x="599" y="201"/>
                  </a:lnTo>
                  <a:lnTo>
                    <a:pt x="594" y="203"/>
                  </a:lnTo>
                  <a:lnTo>
                    <a:pt x="587" y="206"/>
                  </a:lnTo>
                  <a:lnTo>
                    <a:pt x="579" y="208"/>
                  </a:lnTo>
                  <a:lnTo>
                    <a:pt x="571" y="211"/>
                  </a:lnTo>
                  <a:lnTo>
                    <a:pt x="561" y="214"/>
                  </a:lnTo>
                  <a:lnTo>
                    <a:pt x="551" y="219"/>
                  </a:lnTo>
                  <a:lnTo>
                    <a:pt x="538" y="222"/>
                  </a:lnTo>
                  <a:lnTo>
                    <a:pt x="527" y="226"/>
                  </a:lnTo>
                  <a:lnTo>
                    <a:pt x="514" y="229"/>
                  </a:lnTo>
                  <a:lnTo>
                    <a:pt x="502" y="232"/>
                  </a:lnTo>
                  <a:lnTo>
                    <a:pt x="489" y="235"/>
                  </a:lnTo>
                  <a:lnTo>
                    <a:pt x="478" y="239"/>
                  </a:lnTo>
                  <a:lnTo>
                    <a:pt x="465" y="240"/>
                  </a:lnTo>
                  <a:lnTo>
                    <a:pt x="455" y="242"/>
                  </a:lnTo>
                  <a:lnTo>
                    <a:pt x="442" y="242"/>
                  </a:lnTo>
                  <a:lnTo>
                    <a:pt x="432" y="244"/>
                  </a:lnTo>
                  <a:lnTo>
                    <a:pt x="422" y="244"/>
                  </a:lnTo>
                  <a:lnTo>
                    <a:pt x="414" y="244"/>
                  </a:lnTo>
                  <a:lnTo>
                    <a:pt x="404" y="244"/>
                  </a:lnTo>
                  <a:lnTo>
                    <a:pt x="396" y="242"/>
                  </a:lnTo>
                  <a:lnTo>
                    <a:pt x="388" y="242"/>
                  </a:lnTo>
                  <a:lnTo>
                    <a:pt x="383" y="242"/>
                  </a:lnTo>
                  <a:lnTo>
                    <a:pt x="376" y="240"/>
                  </a:lnTo>
                  <a:lnTo>
                    <a:pt x="371" y="239"/>
                  </a:lnTo>
                  <a:lnTo>
                    <a:pt x="366" y="237"/>
                  </a:lnTo>
                  <a:lnTo>
                    <a:pt x="363" y="237"/>
                  </a:lnTo>
                  <a:lnTo>
                    <a:pt x="358" y="235"/>
                  </a:lnTo>
                  <a:lnTo>
                    <a:pt x="357" y="235"/>
                  </a:lnTo>
                  <a:lnTo>
                    <a:pt x="283" y="209"/>
                  </a:lnTo>
                  <a:lnTo>
                    <a:pt x="329" y="198"/>
                  </a:lnTo>
                  <a:lnTo>
                    <a:pt x="293" y="88"/>
                  </a:lnTo>
                  <a:lnTo>
                    <a:pt x="154" y="67"/>
                  </a:lnTo>
                  <a:lnTo>
                    <a:pt x="29" y="65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94840" y="337320"/>
              <a:ext cx="141840" cy="5760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113" y="31"/>
                  </a:moveTo>
                  <a:lnTo>
                    <a:pt x="88" y="0"/>
                  </a:lnTo>
                  <a:lnTo>
                    <a:pt x="0" y="21"/>
                  </a:lnTo>
                  <a:lnTo>
                    <a:pt x="77" y="46"/>
                  </a:lnTo>
                  <a:lnTo>
                    <a:pt x="113" y="31"/>
                  </a:lnTo>
                  <a:lnTo>
                    <a:pt x="113" y="3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4280" y="166680"/>
              <a:ext cx="513360" cy="270000"/>
            </a:xfrm>
            <a:custGeom>
              <a:avLst/>
              <a:gdLst/>
              <a:ahLst/>
              <a:rect l="l" t="t" r="r" b="b"/>
              <a:pathLst>
                <a:path w="409" h="215">
                  <a:moveTo>
                    <a:pt x="0" y="0"/>
                  </a:moveTo>
                  <a:lnTo>
                    <a:pt x="213" y="20"/>
                  </a:lnTo>
                  <a:lnTo>
                    <a:pt x="259" y="116"/>
                  </a:lnTo>
                  <a:lnTo>
                    <a:pt x="311" y="174"/>
                  </a:lnTo>
                  <a:lnTo>
                    <a:pt x="408" y="167"/>
                  </a:lnTo>
                  <a:lnTo>
                    <a:pt x="409" y="197"/>
                  </a:lnTo>
                  <a:lnTo>
                    <a:pt x="406" y="197"/>
                  </a:lnTo>
                  <a:lnTo>
                    <a:pt x="403" y="200"/>
                  </a:lnTo>
                  <a:lnTo>
                    <a:pt x="398" y="200"/>
                  </a:lnTo>
                  <a:lnTo>
                    <a:pt x="395" y="203"/>
                  </a:lnTo>
                  <a:lnTo>
                    <a:pt x="390" y="205"/>
                  </a:lnTo>
                  <a:lnTo>
                    <a:pt x="385" y="206"/>
                  </a:lnTo>
                  <a:lnTo>
                    <a:pt x="378" y="208"/>
                  </a:lnTo>
                  <a:lnTo>
                    <a:pt x="373" y="210"/>
                  </a:lnTo>
                  <a:lnTo>
                    <a:pt x="367" y="211"/>
                  </a:lnTo>
                  <a:lnTo>
                    <a:pt x="360" y="213"/>
                  </a:lnTo>
                  <a:lnTo>
                    <a:pt x="354" y="215"/>
                  </a:lnTo>
                  <a:lnTo>
                    <a:pt x="347" y="215"/>
                  </a:lnTo>
                  <a:lnTo>
                    <a:pt x="339" y="215"/>
                  </a:lnTo>
                  <a:lnTo>
                    <a:pt x="333" y="215"/>
                  </a:lnTo>
                  <a:lnTo>
                    <a:pt x="324" y="213"/>
                  </a:lnTo>
                  <a:lnTo>
                    <a:pt x="316" y="211"/>
                  </a:lnTo>
                  <a:lnTo>
                    <a:pt x="308" y="210"/>
                  </a:lnTo>
                  <a:lnTo>
                    <a:pt x="300" y="206"/>
                  </a:lnTo>
                  <a:lnTo>
                    <a:pt x="292" y="203"/>
                  </a:lnTo>
                  <a:lnTo>
                    <a:pt x="283" y="200"/>
                  </a:lnTo>
                  <a:lnTo>
                    <a:pt x="277" y="197"/>
                  </a:lnTo>
                  <a:lnTo>
                    <a:pt x="270" y="195"/>
                  </a:lnTo>
                  <a:lnTo>
                    <a:pt x="264" y="190"/>
                  </a:lnTo>
                  <a:lnTo>
                    <a:pt x="259" y="187"/>
                  </a:lnTo>
                  <a:lnTo>
                    <a:pt x="252" y="185"/>
                  </a:lnTo>
                  <a:lnTo>
                    <a:pt x="249" y="182"/>
                  </a:lnTo>
                  <a:lnTo>
                    <a:pt x="244" y="179"/>
                  </a:lnTo>
                  <a:lnTo>
                    <a:pt x="243" y="177"/>
                  </a:lnTo>
                  <a:lnTo>
                    <a:pt x="203" y="71"/>
                  </a:lnTo>
                  <a:lnTo>
                    <a:pt x="3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1920" y="369000"/>
              <a:ext cx="172080" cy="101520"/>
            </a:xfrm>
            <a:custGeom>
              <a:avLst/>
              <a:gdLst/>
              <a:ahLst/>
              <a:rect l="l" t="t" r="r" b="b"/>
              <a:pathLst>
                <a:path w="137" h="81">
                  <a:moveTo>
                    <a:pt x="0" y="9"/>
                  </a:moveTo>
                  <a:lnTo>
                    <a:pt x="69" y="0"/>
                  </a:lnTo>
                  <a:lnTo>
                    <a:pt x="137" y="81"/>
                  </a:lnTo>
                  <a:lnTo>
                    <a:pt x="83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5960" y="434160"/>
              <a:ext cx="156960" cy="122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0" y="7"/>
                  </a:moveTo>
                  <a:lnTo>
                    <a:pt x="48" y="0"/>
                  </a:lnTo>
                  <a:lnTo>
                    <a:pt x="82" y="43"/>
                  </a:lnTo>
                  <a:lnTo>
                    <a:pt x="125" y="98"/>
                  </a:lnTo>
                  <a:lnTo>
                    <a:pt x="85" y="8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05160" y="353880"/>
              <a:ext cx="122760" cy="738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13" y="0"/>
                  </a:moveTo>
                  <a:lnTo>
                    <a:pt x="77" y="10"/>
                  </a:lnTo>
                  <a:lnTo>
                    <a:pt x="98" y="53"/>
                  </a:lnTo>
                  <a:lnTo>
                    <a:pt x="67" y="57"/>
                  </a:lnTo>
                  <a:lnTo>
                    <a:pt x="51" y="48"/>
                  </a:lnTo>
                  <a:lnTo>
                    <a:pt x="18" y="59"/>
                  </a:lnTo>
                  <a:lnTo>
                    <a:pt x="0" y="3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5360" y="401400"/>
              <a:ext cx="74880" cy="61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9" y="0"/>
                  </a:moveTo>
                  <a:lnTo>
                    <a:pt x="60" y="28"/>
                  </a:lnTo>
                  <a:lnTo>
                    <a:pt x="31" y="23"/>
                  </a:lnTo>
                  <a:lnTo>
                    <a:pt x="32" y="49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133920"/>
              <a:ext cx="367560" cy="82800"/>
            </a:xfrm>
            <a:custGeom>
              <a:avLst/>
              <a:gdLst/>
              <a:ahLst/>
              <a:rect l="l" t="t" r="r" b="b"/>
              <a:pathLst>
                <a:path w="293" h="66">
                  <a:moveTo>
                    <a:pt x="0" y="52"/>
                  </a:moveTo>
                  <a:lnTo>
                    <a:pt x="0" y="51"/>
                  </a:lnTo>
                  <a:lnTo>
                    <a:pt x="3" y="49"/>
                  </a:lnTo>
                  <a:lnTo>
                    <a:pt x="7" y="48"/>
                  </a:lnTo>
                  <a:lnTo>
                    <a:pt x="13" y="48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5" y="41"/>
                  </a:lnTo>
                  <a:lnTo>
                    <a:pt x="44" y="39"/>
                  </a:lnTo>
                  <a:lnTo>
                    <a:pt x="53" y="36"/>
                  </a:lnTo>
                  <a:lnTo>
                    <a:pt x="62" y="33"/>
                  </a:lnTo>
                  <a:lnTo>
                    <a:pt x="74" y="29"/>
                  </a:lnTo>
                  <a:lnTo>
                    <a:pt x="84" y="26"/>
                  </a:lnTo>
                  <a:lnTo>
                    <a:pt x="95" y="23"/>
                  </a:lnTo>
                  <a:lnTo>
                    <a:pt x="105" y="20"/>
                  </a:lnTo>
                  <a:lnTo>
                    <a:pt x="116" y="18"/>
                  </a:lnTo>
                  <a:lnTo>
                    <a:pt x="126" y="15"/>
                  </a:lnTo>
                  <a:lnTo>
                    <a:pt x="136" y="13"/>
                  </a:lnTo>
                  <a:lnTo>
                    <a:pt x="146" y="10"/>
                  </a:lnTo>
                  <a:lnTo>
                    <a:pt x="156" y="8"/>
                  </a:lnTo>
                  <a:lnTo>
                    <a:pt x="165" y="7"/>
                  </a:lnTo>
                  <a:lnTo>
                    <a:pt x="174" y="5"/>
                  </a:lnTo>
                  <a:lnTo>
                    <a:pt x="182" y="3"/>
                  </a:lnTo>
                  <a:lnTo>
                    <a:pt x="190" y="3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0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75" y="29"/>
                  </a:lnTo>
                  <a:lnTo>
                    <a:pt x="293" y="66"/>
                  </a:lnTo>
                  <a:lnTo>
                    <a:pt x="129" y="64"/>
                  </a:lnTo>
                  <a:lnTo>
                    <a:pt x="30" y="66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375588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419800" y="4365720"/>
            <a:ext cx="3688920" cy="2322000"/>
            <a:chOff x="5419800" y="4365720"/>
            <a:chExt cx="3688920" cy="2322000"/>
          </a:xfrm>
        </p:grpSpPr>
        <p:sp>
          <p:nvSpPr>
            <p:cNvPr id="108" name=""/>
            <p:cNvSpPr/>
            <p:nvPr/>
          </p:nvSpPr>
          <p:spPr>
            <a:xfrm>
              <a:off x="5952600" y="5882040"/>
              <a:ext cx="2136240" cy="349920"/>
            </a:xfrm>
            <a:custGeom>
              <a:avLst/>
              <a:gdLst/>
              <a:ahLst/>
              <a:rect l="l" t="t" r="r" b="b"/>
              <a:pathLst>
                <a:path w="4163" h="683">
                  <a:moveTo>
                    <a:pt x="4" y="442"/>
                  </a:moveTo>
                  <a:lnTo>
                    <a:pt x="34" y="455"/>
                  </a:lnTo>
                  <a:lnTo>
                    <a:pt x="62" y="467"/>
                  </a:lnTo>
                  <a:lnTo>
                    <a:pt x="92" y="480"/>
                  </a:lnTo>
                  <a:lnTo>
                    <a:pt x="122" y="491"/>
                  </a:lnTo>
                  <a:lnTo>
                    <a:pt x="152" y="502"/>
                  </a:lnTo>
                  <a:lnTo>
                    <a:pt x="182" y="512"/>
                  </a:lnTo>
                  <a:lnTo>
                    <a:pt x="213" y="523"/>
                  </a:lnTo>
                  <a:lnTo>
                    <a:pt x="243" y="532"/>
                  </a:lnTo>
                  <a:lnTo>
                    <a:pt x="273" y="542"/>
                  </a:lnTo>
                  <a:lnTo>
                    <a:pt x="304" y="550"/>
                  </a:lnTo>
                  <a:lnTo>
                    <a:pt x="336" y="559"/>
                  </a:lnTo>
                  <a:lnTo>
                    <a:pt x="365" y="567"/>
                  </a:lnTo>
                  <a:lnTo>
                    <a:pt x="397" y="574"/>
                  </a:lnTo>
                  <a:lnTo>
                    <a:pt x="428" y="582"/>
                  </a:lnTo>
                  <a:lnTo>
                    <a:pt x="459" y="589"/>
                  </a:lnTo>
                  <a:lnTo>
                    <a:pt x="490" y="595"/>
                  </a:lnTo>
                  <a:lnTo>
                    <a:pt x="521" y="602"/>
                  </a:lnTo>
                  <a:lnTo>
                    <a:pt x="552" y="608"/>
                  </a:lnTo>
                  <a:lnTo>
                    <a:pt x="583" y="614"/>
                  </a:lnTo>
                  <a:lnTo>
                    <a:pt x="615" y="619"/>
                  </a:lnTo>
                  <a:lnTo>
                    <a:pt x="647" y="625"/>
                  </a:lnTo>
                  <a:lnTo>
                    <a:pt x="678" y="630"/>
                  </a:lnTo>
                  <a:lnTo>
                    <a:pt x="710" y="634"/>
                  </a:lnTo>
                  <a:lnTo>
                    <a:pt x="741" y="639"/>
                  </a:lnTo>
                  <a:lnTo>
                    <a:pt x="773" y="643"/>
                  </a:lnTo>
                  <a:lnTo>
                    <a:pt x="806" y="648"/>
                  </a:lnTo>
                  <a:lnTo>
                    <a:pt x="837" y="652"/>
                  </a:lnTo>
                  <a:lnTo>
                    <a:pt x="869" y="656"/>
                  </a:lnTo>
                  <a:lnTo>
                    <a:pt x="901" y="660"/>
                  </a:lnTo>
                  <a:lnTo>
                    <a:pt x="933" y="663"/>
                  </a:lnTo>
                  <a:lnTo>
                    <a:pt x="966" y="667"/>
                  </a:lnTo>
                  <a:lnTo>
                    <a:pt x="998" y="670"/>
                  </a:lnTo>
                  <a:lnTo>
                    <a:pt x="1038" y="673"/>
                  </a:lnTo>
                  <a:lnTo>
                    <a:pt x="1080" y="677"/>
                  </a:lnTo>
                  <a:lnTo>
                    <a:pt x="1120" y="679"/>
                  </a:lnTo>
                  <a:lnTo>
                    <a:pt x="1160" y="681"/>
                  </a:lnTo>
                  <a:lnTo>
                    <a:pt x="1201" y="683"/>
                  </a:lnTo>
                  <a:lnTo>
                    <a:pt x="1241" y="683"/>
                  </a:lnTo>
                  <a:lnTo>
                    <a:pt x="1281" y="683"/>
                  </a:lnTo>
                  <a:lnTo>
                    <a:pt x="1321" y="683"/>
                  </a:lnTo>
                  <a:lnTo>
                    <a:pt x="1361" y="681"/>
                  </a:lnTo>
                  <a:lnTo>
                    <a:pt x="1401" y="680"/>
                  </a:lnTo>
                  <a:lnTo>
                    <a:pt x="1440" y="679"/>
                  </a:lnTo>
                  <a:lnTo>
                    <a:pt x="1481" y="677"/>
                  </a:lnTo>
                  <a:lnTo>
                    <a:pt x="1521" y="675"/>
                  </a:lnTo>
                  <a:lnTo>
                    <a:pt x="1560" y="671"/>
                  </a:lnTo>
                  <a:lnTo>
                    <a:pt x="1600" y="668"/>
                  </a:lnTo>
                  <a:lnTo>
                    <a:pt x="1640" y="664"/>
                  </a:lnTo>
                  <a:lnTo>
                    <a:pt x="1680" y="661"/>
                  </a:lnTo>
                  <a:lnTo>
                    <a:pt x="1719" y="657"/>
                  </a:lnTo>
                  <a:lnTo>
                    <a:pt x="1759" y="653"/>
                  </a:lnTo>
                  <a:lnTo>
                    <a:pt x="1799" y="648"/>
                  </a:lnTo>
                  <a:lnTo>
                    <a:pt x="1839" y="643"/>
                  </a:lnTo>
                  <a:lnTo>
                    <a:pt x="1878" y="639"/>
                  </a:lnTo>
                  <a:lnTo>
                    <a:pt x="1918" y="634"/>
                  </a:lnTo>
                  <a:lnTo>
                    <a:pt x="1958" y="629"/>
                  </a:lnTo>
                  <a:lnTo>
                    <a:pt x="1998" y="624"/>
                  </a:lnTo>
                  <a:lnTo>
                    <a:pt x="2038" y="619"/>
                  </a:lnTo>
                  <a:lnTo>
                    <a:pt x="2077" y="614"/>
                  </a:lnTo>
                  <a:lnTo>
                    <a:pt x="2118" y="609"/>
                  </a:lnTo>
                  <a:lnTo>
                    <a:pt x="2158" y="604"/>
                  </a:lnTo>
                  <a:lnTo>
                    <a:pt x="2197" y="599"/>
                  </a:lnTo>
                  <a:lnTo>
                    <a:pt x="2238" y="594"/>
                  </a:lnTo>
                  <a:lnTo>
                    <a:pt x="2278" y="589"/>
                  </a:lnTo>
                  <a:lnTo>
                    <a:pt x="2339" y="582"/>
                  </a:lnTo>
                  <a:lnTo>
                    <a:pt x="2401" y="574"/>
                  </a:lnTo>
                  <a:lnTo>
                    <a:pt x="2462" y="565"/>
                  </a:lnTo>
                  <a:lnTo>
                    <a:pt x="2523" y="556"/>
                  </a:lnTo>
                  <a:lnTo>
                    <a:pt x="2584" y="547"/>
                  </a:lnTo>
                  <a:lnTo>
                    <a:pt x="2645" y="536"/>
                  </a:lnTo>
                  <a:lnTo>
                    <a:pt x="2705" y="525"/>
                  </a:lnTo>
                  <a:lnTo>
                    <a:pt x="2765" y="513"/>
                  </a:lnTo>
                  <a:lnTo>
                    <a:pt x="2826" y="501"/>
                  </a:lnTo>
                  <a:lnTo>
                    <a:pt x="2886" y="488"/>
                  </a:lnTo>
                  <a:lnTo>
                    <a:pt x="2946" y="474"/>
                  </a:lnTo>
                  <a:lnTo>
                    <a:pt x="3005" y="460"/>
                  </a:lnTo>
                  <a:lnTo>
                    <a:pt x="3065" y="445"/>
                  </a:lnTo>
                  <a:lnTo>
                    <a:pt x="3123" y="430"/>
                  </a:lnTo>
                  <a:lnTo>
                    <a:pt x="3182" y="414"/>
                  </a:lnTo>
                  <a:lnTo>
                    <a:pt x="3241" y="397"/>
                  </a:lnTo>
                  <a:lnTo>
                    <a:pt x="3300" y="380"/>
                  </a:lnTo>
                  <a:lnTo>
                    <a:pt x="3358" y="361"/>
                  </a:lnTo>
                  <a:lnTo>
                    <a:pt x="3416" y="343"/>
                  </a:lnTo>
                  <a:lnTo>
                    <a:pt x="3474" y="323"/>
                  </a:lnTo>
                  <a:lnTo>
                    <a:pt x="3531" y="303"/>
                  </a:lnTo>
                  <a:lnTo>
                    <a:pt x="3589" y="282"/>
                  </a:lnTo>
                  <a:lnTo>
                    <a:pt x="3645" y="261"/>
                  </a:lnTo>
                  <a:lnTo>
                    <a:pt x="3703" y="238"/>
                  </a:lnTo>
                  <a:lnTo>
                    <a:pt x="3759" y="216"/>
                  </a:lnTo>
                  <a:lnTo>
                    <a:pt x="3816" y="192"/>
                  </a:lnTo>
                  <a:lnTo>
                    <a:pt x="3871" y="168"/>
                  </a:lnTo>
                  <a:lnTo>
                    <a:pt x="3928" y="142"/>
                  </a:lnTo>
                  <a:lnTo>
                    <a:pt x="3983" y="117"/>
                  </a:lnTo>
                  <a:lnTo>
                    <a:pt x="4038" y="91"/>
                  </a:lnTo>
                  <a:lnTo>
                    <a:pt x="4093" y="63"/>
                  </a:lnTo>
                  <a:lnTo>
                    <a:pt x="4148" y="35"/>
                  </a:lnTo>
                  <a:lnTo>
                    <a:pt x="4155" y="32"/>
                  </a:lnTo>
                  <a:lnTo>
                    <a:pt x="4160" y="27"/>
                  </a:lnTo>
                  <a:lnTo>
                    <a:pt x="4163" y="20"/>
                  </a:lnTo>
                  <a:lnTo>
                    <a:pt x="4161" y="12"/>
                  </a:lnTo>
                  <a:lnTo>
                    <a:pt x="4158" y="7"/>
                  </a:lnTo>
                  <a:lnTo>
                    <a:pt x="4153" y="2"/>
                  </a:lnTo>
                  <a:lnTo>
                    <a:pt x="4146" y="0"/>
                  </a:lnTo>
                  <a:lnTo>
                    <a:pt x="4140" y="0"/>
                  </a:lnTo>
                  <a:lnTo>
                    <a:pt x="4104" y="12"/>
                  </a:lnTo>
                  <a:lnTo>
                    <a:pt x="4069" y="25"/>
                  </a:lnTo>
                  <a:lnTo>
                    <a:pt x="4035" y="38"/>
                  </a:lnTo>
                  <a:lnTo>
                    <a:pt x="3999" y="50"/>
                  </a:lnTo>
                  <a:lnTo>
                    <a:pt x="3964" y="63"/>
                  </a:lnTo>
                  <a:lnTo>
                    <a:pt x="3930" y="76"/>
                  </a:lnTo>
                  <a:lnTo>
                    <a:pt x="3895" y="89"/>
                  </a:lnTo>
                  <a:lnTo>
                    <a:pt x="3861" y="102"/>
                  </a:lnTo>
                  <a:lnTo>
                    <a:pt x="3826" y="116"/>
                  </a:lnTo>
                  <a:lnTo>
                    <a:pt x="3792" y="129"/>
                  </a:lnTo>
                  <a:lnTo>
                    <a:pt x="3757" y="141"/>
                  </a:lnTo>
                  <a:lnTo>
                    <a:pt x="3723" y="155"/>
                  </a:lnTo>
                  <a:lnTo>
                    <a:pt x="3688" y="168"/>
                  </a:lnTo>
                  <a:lnTo>
                    <a:pt x="3653" y="182"/>
                  </a:lnTo>
                  <a:lnTo>
                    <a:pt x="3619" y="194"/>
                  </a:lnTo>
                  <a:lnTo>
                    <a:pt x="3583" y="207"/>
                  </a:lnTo>
                  <a:lnTo>
                    <a:pt x="3549" y="220"/>
                  </a:lnTo>
                  <a:lnTo>
                    <a:pt x="3514" y="232"/>
                  </a:lnTo>
                  <a:lnTo>
                    <a:pt x="3478" y="245"/>
                  </a:lnTo>
                  <a:lnTo>
                    <a:pt x="3444" y="256"/>
                  </a:lnTo>
                  <a:lnTo>
                    <a:pt x="3408" y="269"/>
                  </a:lnTo>
                  <a:lnTo>
                    <a:pt x="3372" y="281"/>
                  </a:lnTo>
                  <a:lnTo>
                    <a:pt x="3337" y="292"/>
                  </a:lnTo>
                  <a:lnTo>
                    <a:pt x="3301" y="304"/>
                  </a:lnTo>
                  <a:lnTo>
                    <a:pt x="3265" y="315"/>
                  </a:lnTo>
                  <a:lnTo>
                    <a:pt x="3228" y="326"/>
                  </a:lnTo>
                  <a:lnTo>
                    <a:pt x="3193" y="336"/>
                  </a:lnTo>
                  <a:lnTo>
                    <a:pt x="3156" y="346"/>
                  </a:lnTo>
                  <a:lnTo>
                    <a:pt x="3119" y="356"/>
                  </a:lnTo>
                  <a:lnTo>
                    <a:pt x="3081" y="366"/>
                  </a:lnTo>
                  <a:lnTo>
                    <a:pt x="3044" y="375"/>
                  </a:lnTo>
                  <a:lnTo>
                    <a:pt x="3006" y="383"/>
                  </a:lnTo>
                  <a:lnTo>
                    <a:pt x="2959" y="394"/>
                  </a:lnTo>
                  <a:lnTo>
                    <a:pt x="2913" y="404"/>
                  </a:lnTo>
                  <a:lnTo>
                    <a:pt x="2865" y="414"/>
                  </a:lnTo>
                  <a:lnTo>
                    <a:pt x="2819" y="423"/>
                  </a:lnTo>
                  <a:lnTo>
                    <a:pt x="2774" y="434"/>
                  </a:lnTo>
                  <a:lnTo>
                    <a:pt x="2728" y="443"/>
                  </a:lnTo>
                  <a:lnTo>
                    <a:pt x="2683" y="452"/>
                  </a:lnTo>
                  <a:lnTo>
                    <a:pt x="2637" y="461"/>
                  </a:lnTo>
                  <a:lnTo>
                    <a:pt x="2592" y="470"/>
                  </a:lnTo>
                  <a:lnTo>
                    <a:pt x="2546" y="479"/>
                  </a:lnTo>
                  <a:lnTo>
                    <a:pt x="2501" y="486"/>
                  </a:lnTo>
                  <a:lnTo>
                    <a:pt x="2455" y="494"/>
                  </a:lnTo>
                  <a:lnTo>
                    <a:pt x="2410" y="501"/>
                  </a:lnTo>
                  <a:lnTo>
                    <a:pt x="2364" y="506"/>
                  </a:lnTo>
                  <a:lnTo>
                    <a:pt x="2318" y="512"/>
                  </a:lnTo>
                  <a:lnTo>
                    <a:pt x="2271" y="518"/>
                  </a:lnTo>
                  <a:lnTo>
                    <a:pt x="2231" y="523"/>
                  </a:lnTo>
                  <a:lnTo>
                    <a:pt x="2191" y="527"/>
                  </a:lnTo>
                  <a:lnTo>
                    <a:pt x="2151" y="532"/>
                  </a:lnTo>
                  <a:lnTo>
                    <a:pt x="2112" y="536"/>
                  </a:lnTo>
                  <a:lnTo>
                    <a:pt x="2073" y="541"/>
                  </a:lnTo>
                  <a:lnTo>
                    <a:pt x="2032" y="547"/>
                  </a:lnTo>
                  <a:lnTo>
                    <a:pt x="1993" y="551"/>
                  </a:lnTo>
                  <a:lnTo>
                    <a:pt x="1954" y="557"/>
                  </a:lnTo>
                  <a:lnTo>
                    <a:pt x="1915" y="562"/>
                  </a:lnTo>
                  <a:lnTo>
                    <a:pt x="1876" y="567"/>
                  </a:lnTo>
                  <a:lnTo>
                    <a:pt x="1835" y="572"/>
                  </a:lnTo>
                  <a:lnTo>
                    <a:pt x="1796" y="577"/>
                  </a:lnTo>
                  <a:lnTo>
                    <a:pt x="1757" y="582"/>
                  </a:lnTo>
                  <a:lnTo>
                    <a:pt x="1718" y="587"/>
                  </a:lnTo>
                  <a:lnTo>
                    <a:pt x="1679" y="592"/>
                  </a:lnTo>
                  <a:lnTo>
                    <a:pt x="1640" y="595"/>
                  </a:lnTo>
                  <a:lnTo>
                    <a:pt x="1599" y="600"/>
                  </a:lnTo>
                  <a:lnTo>
                    <a:pt x="1560" y="603"/>
                  </a:lnTo>
                  <a:lnTo>
                    <a:pt x="1521" y="607"/>
                  </a:lnTo>
                  <a:lnTo>
                    <a:pt x="1482" y="610"/>
                  </a:lnTo>
                  <a:lnTo>
                    <a:pt x="1443" y="614"/>
                  </a:lnTo>
                  <a:lnTo>
                    <a:pt x="1402" y="616"/>
                  </a:lnTo>
                  <a:lnTo>
                    <a:pt x="1363" y="618"/>
                  </a:lnTo>
                  <a:lnTo>
                    <a:pt x="1324" y="619"/>
                  </a:lnTo>
                  <a:lnTo>
                    <a:pt x="1284" y="620"/>
                  </a:lnTo>
                  <a:lnTo>
                    <a:pt x="1244" y="622"/>
                  </a:lnTo>
                  <a:lnTo>
                    <a:pt x="1204" y="622"/>
                  </a:lnTo>
                  <a:lnTo>
                    <a:pt x="1165" y="622"/>
                  </a:lnTo>
                  <a:lnTo>
                    <a:pt x="1125" y="620"/>
                  </a:lnTo>
                  <a:lnTo>
                    <a:pt x="1085" y="618"/>
                  </a:lnTo>
                  <a:lnTo>
                    <a:pt x="1045" y="617"/>
                  </a:lnTo>
                  <a:lnTo>
                    <a:pt x="1005" y="614"/>
                  </a:lnTo>
                  <a:lnTo>
                    <a:pt x="973" y="611"/>
                  </a:lnTo>
                  <a:lnTo>
                    <a:pt x="941" y="608"/>
                  </a:lnTo>
                  <a:lnTo>
                    <a:pt x="909" y="605"/>
                  </a:lnTo>
                  <a:lnTo>
                    <a:pt x="878" y="602"/>
                  </a:lnTo>
                  <a:lnTo>
                    <a:pt x="846" y="600"/>
                  </a:lnTo>
                  <a:lnTo>
                    <a:pt x="814" y="596"/>
                  </a:lnTo>
                  <a:lnTo>
                    <a:pt x="783" y="593"/>
                  </a:lnTo>
                  <a:lnTo>
                    <a:pt x="750" y="589"/>
                  </a:lnTo>
                  <a:lnTo>
                    <a:pt x="719" y="586"/>
                  </a:lnTo>
                  <a:lnTo>
                    <a:pt x="688" y="582"/>
                  </a:lnTo>
                  <a:lnTo>
                    <a:pt x="656" y="578"/>
                  </a:lnTo>
                  <a:lnTo>
                    <a:pt x="625" y="574"/>
                  </a:lnTo>
                  <a:lnTo>
                    <a:pt x="594" y="570"/>
                  </a:lnTo>
                  <a:lnTo>
                    <a:pt x="561" y="565"/>
                  </a:lnTo>
                  <a:lnTo>
                    <a:pt x="530" y="561"/>
                  </a:lnTo>
                  <a:lnTo>
                    <a:pt x="499" y="555"/>
                  </a:lnTo>
                  <a:lnTo>
                    <a:pt x="468" y="550"/>
                  </a:lnTo>
                  <a:lnTo>
                    <a:pt x="437" y="544"/>
                  </a:lnTo>
                  <a:lnTo>
                    <a:pt x="406" y="539"/>
                  </a:lnTo>
                  <a:lnTo>
                    <a:pt x="375" y="533"/>
                  </a:lnTo>
                  <a:lnTo>
                    <a:pt x="344" y="526"/>
                  </a:lnTo>
                  <a:lnTo>
                    <a:pt x="312" y="519"/>
                  </a:lnTo>
                  <a:lnTo>
                    <a:pt x="281" y="512"/>
                  </a:lnTo>
                  <a:lnTo>
                    <a:pt x="251" y="504"/>
                  </a:lnTo>
                  <a:lnTo>
                    <a:pt x="220" y="497"/>
                  </a:lnTo>
                  <a:lnTo>
                    <a:pt x="189" y="489"/>
                  </a:lnTo>
                  <a:lnTo>
                    <a:pt x="159" y="480"/>
                  </a:lnTo>
                  <a:lnTo>
                    <a:pt x="128" y="472"/>
                  </a:lnTo>
                  <a:lnTo>
                    <a:pt x="98" y="461"/>
                  </a:lnTo>
                  <a:lnTo>
                    <a:pt x="67" y="452"/>
                  </a:lnTo>
                  <a:lnTo>
                    <a:pt x="37" y="442"/>
                  </a:lnTo>
                  <a:lnTo>
                    <a:pt x="7" y="432"/>
                  </a:lnTo>
                  <a:lnTo>
                    <a:pt x="7" y="432"/>
                  </a:lnTo>
                  <a:lnTo>
                    <a:pt x="5" y="432"/>
                  </a:lnTo>
                  <a:lnTo>
                    <a:pt x="3" y="433"/>
                  </a:lnTo>
                  <a:lnTo>
                    <a:pt x="1" y="435"/>
                  </a:lnTo>
                  <a:lnTo>
                    <a:pt x="0" y="436"/>
                  </a:lnTo>
                  <a:lnTo>
                    <a:pt x="0" y="438"/>
                  </a:lnTo>
                  <a:lnTo>
                    <a:pt x="1" y="440"/>
                  </a:lnTo>
                  <a:lnTo>
                    <a:pt x="3" y="441"/>
                  </a:lnTo>
                  <a:lnTo>
                    <a:pt x="4" y="442"/>
                  </a:lnTo>
                  <a:lnTo>
                    <a:pt x="4" y="44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28840" y="5947920"/>
              <a:ext cx="2008440" cy="571680"/>
            </a:xfrm>
            <a:custGeom>
              <a:avLst/>
              <a:gdLst/>
              <a:ahLst/>
              <a:rect l="l" t="t" r="r" b="b"/>
              <a:pathLst>
                <a:path w="3916" h="1113">
                  <a:moveTo>
                    <a:pt x="4" y="308"/>
                  </a:moveTo>
                  <a:lnTo>
                    <a:pt x="36" y="337"/>
                  </a:lnTo>
                  <a:lnTo>
                    <a:pt x="67" y="368"/>
                  </a:lnTo>
                  <a:lnTo>
                    <a:pt x="97" y="400"/>
                  </a:lnTo>
                  <a:lnTo>
                    <a:pt x="127" y="434"/>
                  </a:lnTo>
                  <a:lnTo>
                    <a:pt x="155" y="467"/>
                  </a:lnTo>
                  <a:lnTo>
                    <a:pt x="183" y="501"/>
                  </a:lnTo>
                  <a:lnTo>
                    <a:pt x="211" y="535"/>
                  </a:lnTo>
                  <a:lnTo>
                    <a:pt x="239" y="570"/>
                  </a:lnTo>
                  <a:lnTo>
                    <a:pt x="267" y="604"/>
                  </a:lnTo>
                  <a:lnTo>
                    <a:pt x="296" y="638"/>
                  </a:lnTo>
                  <a:lnTo>
                    <a:pt x="326" y="671"/>
                  </a:lnTo>
                  <a:lnTo>
                    <a:pt x="356" y="703"/>
                  </a:lnTo>
                  <a:lnTo>
                    <a:pt x="388" y="733"/>
                  </a:lnTo>
                  <a:lnTo>
                    <a:pt x="423" y="763"/>
                  </a:lnTo>
                  <a:lnTo>
                    <a:pt x="458" y="791"/>
                  </a:lnTo>
                  <a:lnTo>
                    <a:pt x="496" y="816"/>
                  </a:lnTo>
                  <a:lnTo>
                    <a:pt x="530" y="838"/>
                  </a:lnTo>
                  <a:lnTo>
                    <a:pt x="564" y="860"/>
                  </a:lnTo>
                  <a:lnTo>
                    <a:pt x="597" y="883"/>
                  </a:lnTo>
                  <a:lnTo>
                    <a:pt x="630" y="905"/>
                  </a:lnTo>
                  <a:lnTo>
                    <a:pt x="664" y="927"/>
                  </a:lnTo>
                  <a:lnTo>
                    <a:pt x="696" y="949"/>
                  </a:lnTo>
                  <a:lnTo>
                    <a:pt x="729" y="969"/>
                  </a:lnTo>
                  <a:lnTo>
                    <a:pt x="763" y="989"/>
                  </a:lnTo>
                  <a:lnTo>
                    <a:pt x="796" y="1009"/>
                  </a:lnTo>
                  <a:lnTo>
                    <a:pt x="831" y="1026"/>
                  </a:lnTo>
                  <a:lnTo>
                    <a:pt x="865" y="1042"/>
                  </a:lnTo>
                  <a:lnTo>
                    <a:pt x="901" y="1058"/>
                  </a:lnTo>
                  <a:lnTo>
                    <a:pt x="937" y="1071"/>
                  </a:lnTo>
                  <a:lnTo>
                    <a:pt x="975" y="1082"/>
                  </a:lnTo>
                  <a:lnTo>
                    <a:pt x="1013" y="1093"/>
                  </a:lnTo>
                  <a:lnTo>
                    <a:pt x="1052" y="1100"/>
                  </a:lnTo>
                  <a:lnTo>
                    <a:pt x="1076" y="1103"/>
                  </a:lnTo>
                  <a:lnTo>
                    <a:pt x="1102" y="1107"/>
                  </a:lnTo>
                  <a:lnTo>
                    <a:pt x="1126" y="1109"/>
                  </a:lnTo>
                  <a:lnTo>
                    <a:pt x="1150" y="1111"/>
                  </a:lnTo>
                  <a:lnTo>
                    <a:pt x="1174" y="1112"/>
                  </a:lnTo>
                  <a:lnTo>
                    <a:pt x="1198" y="1112"/>
                  </a:lnTo>
                  <a:lnTo>
                    <a:pt x="1222" y="1113"/>
                  </a:lnTo>
                  <a:lnTo>
                    <a:pt x="1247" y="1113"/>
                  </a:lnTo>
                  <a:lnTo>
                    <a:pt x="1271" y="1112"/>
                  </a:lnTo>
                  <a:lnTo>
                    <a:pt x="1295" y="1111"/>
                  </a:lnTo>
                  <a:lnTo>
                    <a:pt x="1318" y="1110"/>
                  </a:lnTo>
                  <a:lnTo>
                    <a:pt x="1342" y="1108"/>
                  </a:lnTo>
                  <a:lnTo>
                    <a:pt x="1367" y="1105"/>
                  </a:lnTo>
                  <a:lnTo>
                    <a:pt x="1390" y="1102"/>
                  </a:lnTo>
                  <a:lnTo>
                    <a:pt x="1414" y="1100"/>
                  </a:lnTo>
                  <a:lnTo>
                    <a:pt x="1437" y="1095"/>
                  </a:lnTo>
                  <a:lnTo>
                    <a:pt x="1461" y="1092"/>
                  </a:lnTo>
                  <a:lnTo>
                    <a:pt x="1484" y="1087"/>
                  </a:lnTo>
                  <a:lnTo>
                    <a:pt x="1507" y="1082"/>
                  </a:lnTo>
                  <a:lnTo>
                    <a:pt x="1531" y="1078"/>
                  </a:lnTo>
                  <a:lnTo>
                    <a:pt x="1554" y="1072"/>
                  </a:lnTo>
                  <a:lnTo>
                    <a:pt x="1577" y="1066"/>
                  </a:lnTo>
                  <a:lnTo>
                    <a:pt x="1600" y="1060"/>
                  </a:lnTo>
                  <a:lnTo>
                    <a:pt x="1625" y="1054"/>
                  </a:lnTo>
                  <a:lnTo>
                    <a:pt x="1648" y="1048"/>
                  </a:lnTo>
                  <a:lnTo>
                    <a:pt x="1671" y="1041"/>
                  </a:lnTo>
                  <a:lnTo>
                    <a:pt x="1694" y="1034"/>
                  </a:lnTo>
                  <a:lnTo>
                    <a:pt x="1717" y="1026"/>
                  </a:lnTo>
                  <a:lnTo>
                    <a:pt x="1740" y="1019"/>
                  </a:lnTo>
                  <a:lnTo>
                    <a:pt x="1763" y="1011"/>
                  </a:lnTo>
                  <a:lnTo>
                    <a:pt x="1786" y="1003"/>
                  </a:lnTo>
                  <a:lnTo>
                    <a:pt x="1809" y="995"/>
                  </a:lnTo>
                  <a:lnTo>
                    <a:pt x="1839" y="984"/>
                  </a:lnTo>
                  <a:lnTo>
                    <a:pt x="1868" y="974"/>
                  </a:lnTo>
                  <a:lnTo>
                    <a:pt x="1898" y="965"/>
                  </a:lnTo>
                  <a:lnTo>
                    <a:pt x="1928" y="956"/>
                  </a:lnTo>
                  <a:lnTo>
                    <a:pt x="1957" y="945"/>
                  </a:lnTo>
                  <a:lnTo>
                    <a:pt x="1987" y="937"/>
                  </a:lnTo>
                  <a:lnTo>
                    <a:pt x="2017" y="928"/>
                  </a:lnTo>
                  <a:lnTo>
                    <a:pt x="2047" y="920"/>
                  </a:lnTo>
                  <a:lnTo>
                    <a:pt x="2077" y="912"/>
                  </a:lnTo>
                  <a:lnTo>
                    <a:pt x="2107" y="904"/>
                  </a:lnTo>
                  <a:lnTo>
                    <a:pt x="2137" y="897"/>
                  </a:lnTo>
                  <a:lnTo>
                    <a:pt x="2168" y="890"/>
                  </a:lnTo>
                  <a:lnTo>
                    <a:pt x="2198" y="883"/>
                  </a:lnTo>
                  <a:lnTo>
                    <a:pt x="2228" y="876"/>
                  </a:lnTo>
                  <a:lnTo>
                    <a:pt x="2259" y="870"/>
                  </a:lnTo>
                  <a:lnTo>
                    <a:pt x="2289" y="865"/>
                  </a:lnTo>
                  <a:lnTo>
                    <a:pt x="2320" y="860"/>
                  </a:lnTo>
                  <a:lnTo>
                    <a:pt x="2350" y="854"/>
                  </a:lnTo>
                  <a:lnTo>
                    <a:pt x="2381" y="850"/>
                  </a:lnTo>
                  <a:lnTo>
                    <a:pt x="2413" y="846"/>
                  </a:lnTo>
                  <a:lnTo>
                    <a:pt x="2444" y="842"/>
                  </a:lnTo>
                  <a:lnTo>
                    <a:pt x="2474" y="838"/>
                  </a:lnTo>
                  <a:lnTo>
                    <a:pt x="2505" y="836"/>
                  </a:lnTo>
                  <a:lnTo>
                    <a:pt x="2536" y="832"/>
                  </a:lnTo>
                  <a:lnTo>
                    <a:pt x="2567" y="830"/>
                  </a:lnTo>
                  <a:lnTo>
                    <a:pt x="2598" y="829"/>
                  </a:lnTo>
                  <a:lnTo>
                    <a:pt x="2629" y="828"/>
                  </a:lnTo>
                  <a:lnTo>
                    <a:pt x="2660" y="827"/>
                  </a:lnTo>
                  <a:lnTo>
                    <a:pt x="2691" y="825"/>
                  </a:lnTo>
                  <a:lnTo>
                    <a:pt x="2724" y="825"/>
                  </a:lnTo>
                  <a:lnTo>
                    <a:pt x="2755" y="825"/>
                  </a:lnTo>
                  <a:lnTo>
                    <a:pt x="2786" y="827"/>
                  </a:lnTo>
                  <a:lnTo>
                    <a:pt x="2802" y="827"/>
                  </a:lnTo>
                  <a:lnTo>
                    <a:pt x="2818" y="825"/>
                  </a:lnTo>
                  <a:lnTo>
                    <a:pt x="2833" y="823"/>
                  </a:lnTo>
                  <a:lnTo>
                    <a:pt x="2849" y="820"/>
                  </a:lnTo>
                  <a:lnTo>
                    <a:pt x="2864" y="815"/>
                  </a:lnTo>
                  <a:lnTo>
                    <a:pt x="2880" y="809"/>
                  </a:lnTo>
                  <a:lnTo>
                    <a:pt x="2894" y="802"/>
                  </a:lnTo>
                  <a:lnTo>
                    <a:pt x="2909" y="794"/>
                  </a:lnTo>
                  <a:lnTo>
                    <a:pt x="2959" y="764"/>
                  </a:lnTo>
                  <a:lnTo>
                    <a:pt x="3005" y="732"/>
                  </a:lnTo>
                  <a:lnTo>
                    <a:pt x="3050" y="698"/>
                  </a:lnTo>
                  <a:lnTo>
                    <a:pt x="3093" y="663"/>
                  </a:lnTo>
                  <a:lnTo>
                    <a:pt x="3136" y="627"/>
                  </a:lnTo>
                  <a:lnTo>
                    <a:pt x="3176" y="589"/>
                  </a:lnTo>
                  <a:lnTo>
                    <a:pt x="3217" y="552"/>
                  </a:lnTo>
                  <a:lnTo>
                    <a:pt x="3257" y="513"/>
                  </a:lnTo>
                  <a:lnTo>
                    <a:pt x="3297" y="475"/>
                  </a:lnTo>
                  <a:lnTo>
                    <a:pt x="3338" y="437"/>
                  </a:lnTo>
                  <a:lnTo>
                    <a:pt x="3378" y="398"/>
                  </a:lnTo>
                  <a:lnTo>
                    <a:pt x="3419" y="361"/>
                  </a:lnTo>
                  <a:lnTo>
                    <a:pt x="3462" y="323"/>
                  </a:lnTo>
                  <a:lnTo>
                    <a:pt x="3507" y="288"/>
                  </a:lnTo>
                  <a:lnTo>
                    <a:pt x="3553" y="252"/>
                  </a:lnTo>
                  <a:lnTo>
                    <a:pt x="3601" y="218"/>
                  </a:lnTo>
                  <a:lnTo>
                    <a:pt x="3620" y="207"/>
                  </a:lnTo>
                  <a:lnTo>
                    <a:pt x="3638" y="194"/>
                  </a:lnTo>
                  <a:lnTo>
                    <a:pt x="3657" y="183"/>
                  </a:lnTo>
                  <a:lnTo>
                    <a:pt x="3675" y="171"/>
                  </a:lnTo>
                  <a:lnTo>
                    <a:pt x="3694" y="160"/>
                  </a:lnTo>
                  <a:lnTo>
                    <a:pt x="3712" y="149"/>
                  </a:lnTo>
                  <a:lnTo>
                    <a:pt x="3730" y="138"/>
                  </a:lnTo>
                  <a:lnTo>
                    <a:pt x="3750" y="127"/>
                  </a:lnTo>
                  <a:lnTo>
                    <a:pt x="3769" y="116"/>
                  </a:lnTo>
                  <a:lnTo>
                    <a:pt x="3787" y="106"/>
                  </a:lnTo>
                  <a:lnTo>
                    <a:pt x="3805" y="95"/>
                  </a:lnTo>
                  <a:lnTo>
                    <a:pt x="3824" y="85"/>
                  </a:lnTo>
                  <a:lnTo>
                    <a:pt x="3842" y="74"/>
                  </a:lnTo>
                  <a:lnTo>
                    <a:pt x="3861" y="64"/>
                  </a:lnTo>
                  <a:lnTo>
                    <a:pt x="3879" y="54"/>
                  </a:lnTo>
                  <a:lnTo>
                    <a:pt x="3898" y="43"/>
                  </a:lnTo>
                  <a:lnTo>
                    <a:pt x="3908" y="39"/>
                  </a:lnTo>
                  <a:lnTo>
                    <a:pt x="3915" y="34"/>
                  </a:lnTo>
                  <a:lnTo>
                    <a:pt x="3916" y="27"/>
                  </a:lnTo>
                  <a:lnTo>
                    <a:pt x="3914" y="18"/>
                  </a:lnTo>
                  <a:lnTo>
                    <a:pt x="3910" y="12"/>
                  </a:lnTo>
                  <a:lnTo>
                    <a:pt x="3906" y="8"/>
                  </a:lnTo>
                  <a:lnTo>
                    <a:pt x="3901" y="4"/>
                  </a:lnTo>
                  <a:lnTo>
                    <a:pt x="3896" y="2"/>
                  </a:lnTo>
                  <a:lnTo>
                    <a:pt x="3891" y="0"/>
                  </a:lnTo>
                  <a:lnTo>
                    <a:pt x="3885" y="0"/>
                  </a:lnTo>
                  <a:lnTo>
                    <a:pt x="3878" y="1"/>
                  </a:lnTo>
                  <a:lnTo>
                    <a:pt x="3872" y="3"/>
                  </a:lnTo>
                  <a:lnTo>
                    <a:pt x="3817" y="20"/>
                  </a:lnTo>
                  <a:lnTo>
                    <a:pt x="3763" y="41"/>
                  </a:lnTo>
                  <a:lnTo>
                    <a:pt x="3712" y="64"/>
                  </a:lnTo>
                  <a:lnTo>
                    <a:pt x="3661" y="89"/>
                  </a:lnTo>
                  <a:lnTo>
                    <a:pt x="3613" y="118"/>
                  </a:lnTo>
                  <a:lnTo>
                    <a:pt x="3566" y="149"/>
                  </a:lnTo>
                  <a:lnTo>
                    <a:pt x="3520" y="182"/>
                  </a:lnTo>
                  <a:lnTo>
                    <a:pt x="3475" y="215"/>
                  </a:lnTo>
                  <a:lnTo>
                    <a:pt x="3431" y="251"/>
                  </a:lnTo>
                  <a:lnTo>
                    <a:pt x="3387" y="288"/>
                  </a:lnTo>
                  <a:lnTo>
                    <a:pt x="3345" y="326"/>
                  </a:lnTo>
                  <a:lnTo>
                    <a:pt x="3302" y="365"/>
                  </a:lnTo>
                  <a:lnTo>
                    <a:pt x="3259" y="404"/>
                  </a:lnTo>
                  <a:lnTo>
                    <a:pt x="3217" y="443"/>
                  </a:lnTo>
                  <a:lnTo>
                    <a:pt x="3173" y="482"/>
                  </a:lnTo>
                  <a:lnTo>
                    <a:pt x="3130" y="521"/>
                  </a:lnTo>
                  <a:lnTo>
                    <a:pt x="3111" y="539"/>
                  </a:lnTo>
                  <a:lnTo>
                    <a:pt x="3091" y="556"/>
                  </a:lnTo>
                  <a:lnTo>
                    <a:pt x="3072" y="574"/>
                  </a:lnTo>
                  <a:lnTo>
                    <a:pt x="3052" y="592"/>
                  </a:lnTo>
                  <a:lnTo>
                    <a:pt x="3032" y="609"/>
                  </a:lnTo>
                  <a:lnTo>
                    <a:pt x="3013" y="626"/>
                  </a:lnTo>
                  <a:lnTo>
                    <a:pt x="2992" y="642"/>
                  </a:lnTo>
                  <a:lnTo>
                    <a:pt x="2972" y="658"/>
                  </a:lnTo>
                  <a:lnTo>
                    <a:pt x="2951" y="673"/>
                  </a:lnTo>
                  <a:lnTo>
                    <a:pt x="2930" y="687"/>
                  </a:lnTo>
                  <a:lnTo>
                    <a:pt x="2908" y="700"/>
                  </a:lnTo>
                  <a:lnTo>
                    <a:pt x="2885" y="713"/>
                  </a:lnTo>
                  <a:lnTo>
                    <a:pt x="2862" y="723"/>
                  </a:lnTo>
                  <a:lnTo>
                    <a:pt x="2838" y="731"/>
                  </a:lnTo>
                  <a:lnTo>
                    <a:pt x="2812" y="738"/>
                  </a:lnTo>
                  <a:lnTo>
                    <a:pt x="2787" y="744"/>
                  </a:lnTo>
                  <a:lnTo>
                    <a:pt x="2747" y="741"/>
                  </a:lnTo>
                  <a:lnTo>
                    <a:pt x="2706" y="740"/>
                  </a:lnTo>
                  <a:lnTo>
                    <a:pt x="2666" y="740"/>
                  </a:lnTo>
                  <a:lnTo>
                    <a:pt x="2626" y="741"/>
                  </a:lnTo>
                  <a:lnTo>
                    <a:pt x="2585" y="743"/>
                  </a:lnTo>
                  <a:lnTo>
                    <a:pt x="2545" y="746"/>
                  </a:lnTo>
                  <a:lnTo>
                    <a:pt x="2506" y="748"/>
                  </a:lnTo>
                  <a:lnTo>
                    <a:pt x="2466" y="753"/>
                  </a:lnTo>
                  <a:lnTo>
                    <a:pt x="2426" y="758"/>
                  </a:lnTo>
                  <a:lnTo>
                    <a:pt x="2386" y="763"/>
                  </a:lnTo>
                  <a:lnTo>
                    <a:pt x="2347" y="769"/>
                  </a:lnTo>
                  <a:lnTo>
                    <a:pt x="2308" y="776"/>
                  </a:lnTo>
                  <a:lnTo>
                    <a:pt x="2269" y="783"/>
                  </a:lnTo>
                  <a:lnTo>
                    <a:pt x="2229" y="791"/>
                  </a:lnTo>
                  <a:lnTo>
                    <a:pt x="2190" y="799"/>
                  </a:lnTo>
                  <a:lnTo>
                    <a:pt x="2151" y="808"/>
                  </a:lnTo>
                  <a:lnTo>
                    <a:pt x="2112" y="817"/>
                  </a:lnTo>
                  <a:lnTo>
                    <a:pt x="2073" y="828"/>
                  </a:lnTo>
                  <a:lnTo>
                    <a:pt x="2034" y="837"/>
                  </a:lnTo>
                  <a:lnTo>
                    <a:pt x="1994" y="849"/>
                  </a:lnTo>
                  <a:lnTo>
                    <a:pt x="1955" y="859"/>
                  </a:lnTo>
                  <a:lnTo>
                    <a:pt x="1917" y="870"/>
                  </a:lnTo>
                  <a:lnTo>
                    <a:pt x="1878" y="882"/>
                  </a:lnTo>
                  <a:lnTo>
                    <a:pt x="1839" y="893"/>
                  </a:lnTo>
                  <a:lnTo>
                    <a:pt x="1801" y="905"/>
                  </a:lnTo>
                  <a:lnTo>
                    <a:pt x="1762" y="916"/>
                  </a:lnTo>
                  <a:lnTo>
                    <a:pt x="1722" y="929"/>
                  </a:lnTo>
                  <a:lnTo>
                    <a:pt x="1684" y="941"/>
                  </a:lnTo>
                  <a:lnTo>
                    <a:pt x="1645" y="953"/>
                  </a:lnTo>
                  <a:lnTo>
                    <a:pt x="1606" y="966"/>
                  </a:lnTo>
                  <a:lnTo>
                    <a:pt x="1568" y="978"/>
                  </a:lnTo>
                  <a:lnTo>
                    <a:pt x="1529" y="990"/>
                  </a:lnTo>
                  <a:lnTo>
                    <a:pt x="1501" y="998"/>
                  </a:lnTo>
                  <a:lnTo>
                    <a:pt x="1474" y="1005"/>
                  </a:lnTo>
                  <a:lnTo>
                    <a:pt x="1445" y="1012"/>
                  </a:lnTo>
                  <a:lnTo>
                    <a:pt x="1417" y="1018"/>
                  </a:lnTo>
                  <a:lnTo>
                    <a:pt x="1388" y="1022"/>
                  </a:lnTo>
                  <a:lnTo>
                    <a:pt x="1361" y="1026"/>
                  </a:lnTo>
                  <a:lnTo>
                    <a:pt x="1332" y="1029"/>
                  </a:lnTo>
                  <a:lnTo>
                    <a:pt x="1303" y="1032"/>
                  </a:lnTo>
                  <a:lnTo>
                    <a:pt x="1275" y="1034"/>
                  </a:lnTo>
                  <a:lnTo>
                    <a:pt x="1247" y="1035"/>
                  </a:lnTo>
                  <a:lnTo>
                    <a:pt x="1218" y="1035"/>
                  </a:lnTo>
                  <a:lnTo>
                    <a:pt x="1189" y="1035"/>
                  </a:lnTo>
                  <a:lnTo>
                    <a:pt x="1160" y="1034"/>
                  </a:lnTo>
                  <a:lnTo>
                    <a:pt x="1131" y="1033"/>
                  </a:lnTo>
                  <a:lnTo>
                    <a:pt x="1103" y="1032"/>
                  </a:lnTo>
                  <a:lnTo>
                    <a:pt x="1074" y="1029"/>
                  </a:lnTo>
                  <a:lnTo>
                    <a:pt x="1042" y="1026"/>
                  </a:lnTo>
                  <a:lnTo>
                    <a:pt x="1011" y="1020"/>
                  </a:lnTo>
                  <a:lnTo>
                    <a:pt x="979" y="1013"/>
                  </a:lnTo>
                  <a:lnTo>
                    <a:pt x="949" y="1004"/>
                  </a:lnTo>
                  <a:lnTo>
                    <a:pt x="921" y="994"/>
                  </a:lnTo>
                  <a:lnTo>
                    <a:pt x="891" y="981"/>
                  </a:lnTo>
                  <a:lnTo>
                    <a:pt x="863" y="968"/>
                  </a:lnTo>
                  <a:lnTo>
                    <a:pt x="834" y="954"/>
                  </a:lnTo>
                  <a:lnTo>
                    <a:pt x="807" y="940"/>
                  </a:lnTo>
                  <a:lnTo>
                    <a:pt x="778" y="923"/>
                  </a:lnTo>
                  <a:lnTo>
                    <a:pt x="750" y="907"/>
                  </a:lnTo>
                  <a:lnTo>
                    <a:pt x="723" y="891"/>
                  </a:lnTo>
                  <a:lnTo>
                    <a:pt x="695" y="874"/>
                  </a:lnTo>
                  <a:lnTo>
                    <a:pt x="667" y="858"/>
                  </a:lnTo>
                  <a:lnTo>
                    <a:pt x="640" y="840"/>
                  </a:lnTo>
                  <a:lnTo>
                    <a:pt x="612" y="824"/>
                  </a:lnTo>
                  <a:lnTo>
                    <a:pt x="572" y="800"/>
                  </a:lnTo>
                  <a:lnTo>
                    <a:pt x="534" y="775"/>
                  </a:lnTo>
                  <a:lnTo>
                    <a:pt x="497" y="747"/>
                  </a:lnTo>
                  <a:lnTo>
                    <a:pt x="462" y="718"/>
                  </a:lnTo>
                  <a:lnTo>
                    <a:pt x="428" y="688"/>
                  </a:lnTo>
                  <a:lnTo>
                    <a:pt x="394" y="657"/>
                  </a:lnTo>
                  <a:lnTo>
                    <a:pt x="362" y="626"/>
                  </a:lnTo>
                  <a:lnTo>
                    <a:pt x="330" y="594"/>
                  </a:lnTo>
                  <a:lnTo>
                    <a:pt x="299" y="561"/>
                  </a:lnTo>
                  <a:lnTo>
                    <a:pt x="267" y="528"/>
                  </a:lnTo>
                  <a:lnTo>
                    <a:pt x="235" y="495"/>
                  </a:lnTo>
                  <a:lnTo>
                    <a:pt x="204" y="462"/>
                  </a:lnTo>
                  <a:lnTo>
                    <a:pt x="172" y="428"/>
                  </a:lnTo>
                  <a:lnTo>
                    <a:pt x="140" y="396"/>
                  </a:lnTo>
                  <a:lnTo>
                    <a:pt x="106" y="364"/>
                  </a:lnTo>
                  <a:lnTo>
                    <a:pt x="72" y="331"/>
                  </a:lnTo>
                  <a:lnTo>
                    <a:pt x="65" y="326"/>
                  </a:lnTo>
                  <a:lnTo>
                    <a:pt x="57" y="321"/>
                  </a:lnTo>
                  <a:lnTo>
                    <a:pt x="50" y="316"/>
                  </a:lnTo>
                  <a:lnTo>
                    <a:pt x="42" y="312"/>
                  </a:lnTo>
                  <a:lnTo>
                    <a:pt x="32" y="308"/>
                  </a:lnTo>
                  <a:lnTo>
                    <a:pt x="24" y="305"/>
                  </a:lnTo>
                  <a:lnTo>
                    <a:pt x="15" y="303"/>
                  </a:lnTo>
                  <a:lnTo>
                    <a:pt x="7" y="299"/>
                  </a:lnTo>
                  <a:lnTo>
                    <a:pt x="6" y="299"/>
                  </a:lnTo>
                  <a:lnTo>
                    <a:pt x="5" y="299"/>
                  </a:lnTo>
                  <a:lnTo>
                    <a:pt x="2" y="300"/>
                  </a:lnTo>
                  <a:lnTo>
                    <a:pt x="1" y="301"/>
                  </a:lnTo>
                  <a:lnTo>
                    <a:pt x="0" y="304"/>
                  </a:lnTo>
                  <a:lnTo>
                    <a:pt x="1" y="305"/>
                  </a:lnTo>
                  <a:lnTo>
                    <a:pt x="2" y="307"/>
                  </a:lnTo>
                  <a:lnTo>
                    <a:pt x="4" y="308"/>
                  </a:lnTo>
                  <a:lnTo>
                    <a:pt x="4" y="3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2960" y="4365720"/>
              <a:ext cx="1279800" cy="1503000"/>
            </a:xfrm>
            <a:custGeom>
              <a:avLst/>
              <a:gdLst/>
              <a:ahLst/>
              <a:rect l="l" t="t" r="r" b="b"/>
              <a:pathLst>
                <a:path w="2495" h="2928">
                  <a:moveTo>
                    <a:pt x="15" y="2801"/>
                  </a:moveTo>
                  <a:lnTo>
                    <a:pt x="66" y="2710"/>
                  </a:lnTo>
                  <a:lnTo>
                    <a:pt x="112" y="2617"/>
                  </a:lnTo>
                  <a:lnTo>
                    <a:pt x="152" y="2523"/>
                  </a:lnTo>
                  <a:lnTo>
                    <a:pt x="188" y="2427"/>
                  </a:lnTo>
                  <a:lnTo>
                    <a:pt x="219" y="2329"/>
                  </a:lnTo>
                  <a:lnTo>
                    <a:pt x="247" y="2230"/>
                  </a:lnTo>
                  <a:lnTo>
                    <a:pt x="270" y="2130"/>
                  </a:lnTo>
                  <a:lnTo>
                    <a:pt x="290" y="2029"/>
                  </a:lnTo>
                  <a:lnTo>
                    <a:pt x="309" y="1927"/>
                  </a:lnTo>
                  <a:lnTo>
                    <a:pt x="325" y="1825"/>
                  </a:lnTo>
                  <a:lnTo>
                    <a:pt x="340" y="1721"/>
                  </a:lnTo>
                  <a:lnTo>
                    <a:pt x="353" y="1617"/>
                  </a:lnTo>
                  <a:lnTo>
                    <a:pt x="365" y="1514"/>
                  </a:lnTo>
                  <a:lnTo>
                    <a:pt x="378" y="1410"/>
                  </a:lnTo>
                  <a:lnTo>
                    <a:pt x="391" y="1306"/>
                  </a:lnTo>
                  <a:lnTo>
                    <a:pt x="403" y="1203"/>
                  </a:lnTo>
                  <a:lnTo>
                    <a:pt x="414" y="1129"/>
                  </a:lnTo>
                  <a:lnTo>
                    <a:pt x="425" y="1055"/>
                  </a:lnTo>
                  <a:lnTo>
                    <a:pt x="438" y="982"/>
                  </a:lnTo>
                  <a:lnTo>
                    <a:pt x="451" y="909"/>
                  </a:lnTo>
                  <a:lnTo>
                    <a:pt x="464" y="838"/>
                  </a:lnTo>
                  <a:lnTo>
                    <a:pt x="479" y="765"/>
                  </a:lnTo>
                  <a:lnTo>
                    <a:pt x="493" y="692"/>
                  </a:lnTo>
                  <a:lnTo>
                    <a:pt x="508" y="621"/>
                  </a:lnTo>
                  <a:lnTo>
                    <a:pt x="522" y="550"/>
                  </a:lnTo>
                  <a:lnTo>
                    <a:pt x="536" y="478"/>
                  </a:lnTo>
                  <a:lnTo>
                    <a:pt x="548" y="406"/>
                  </a:lnTo>
                  <a:lnTo>
                    <a:pt x="561" y="334"/>
                  </a:lnTo>
                  <a:lnTo>
                    <a:pt x="573" y="262"/>
                  </a:lnTo>
                  <a:lnTo>
                    <a:pt x="583" y="189"/>
                  </a:lnTo>
                  <a:lnTo>
                    <a:pt x="592" y="116"/>
                  </a:lnTo>
                  <a:lnTo>
                    <a:pt x="599" y="44"/>
                  </a:lnTo>
                  <a:lnTo>
                    <a:pt x="599" y="42"/>
                  </a:lnTo>
                  <a:lnTo>
                    <a:pt x="600" y="37"/>
                  </a:lnTo>
                  <a:lnTo>
                    <a:pt x="601" y="34"/>
                  </a:lnTo>
                  <a:lnTo>
                    <a:pt x="604" y="31"/>
                  </a:lnTo>
                  <a:lnTo>
                    <a:pt x="607" y="31"/>
                  </a:lnTo>
                  <a:lnTo>
                    <a:pt x="610" y="34"/>
                  </a:lnTo>
                  <a:lnTo>
                    <a:pt x="611" y="35"/>
                  </a:lnTo>
                  <a:lnTo>
                    <a:pt x="611" y="36"/>
                  </a:lnTo>
                  <a:lnTo>
                    <a:pt x="626" y="96"/>
                  </a:lnTo>
                  <a:lnTo>
                    <a:pt x="641" y="156"/>
                  </a:lnTo>
                  <a:lnTo>
                    <a:pt x="658" y="214"/>
                  </a:lnTo>
                  <a:lnTo>
                    <a:pt x="675" y="273"/>
                  </a:lnTo>
                  <a:lnTo>
                    <a:pt x="694" y="331"/>
                  </a:lnTo>
                  <a:lnTo>
                    <a:pt x="714" y="388"/>
                  </a:lnTo>
                  <a:lnTo>
                    <a:pt x="735" y="446"/>
                  </a:lnTo>
                  <a:lnTo>
                    <a:pt x="758" y="502"/>
                  </a:lnTo>
                  <a:lnTo>
                    <a:pt x="781" y="560"/>
                  </a:lnTo>
                  <a:lnTo>
                    <a:pt x="807" y="615"/>
                  </a:lnTo>
                  <a:lnTo>
                    <a:pt x="832" y="672"/>
                  </a:lnTo>
                  <a:lnTo>
                    <a:pt x="860" y="727"/>
                  </a:lnTo>
                  <a:lnTo>
                    <a:pt x="888" y="782"/>
                  </a:lnTo>
                  <a:lnTo>
                    <a:pt x="918" y="836"/>
                  </a:lnTo>
                  <a:lnTo>
                    <a:pt x="949" y="892"/>
                  </a:lnTo>
                  <a:lnTo>
                    <a:pt x="982" y="946"/>
                  </a:lnTo>
                  <a:lnTo>
                    <a:pt x="1006" y="985"/>
                  </a:lnTo>
                  <a:lnTo>
                    <a:pt x="1031" y="1022"/>
                  </a:lnTo>
                  <a:lnTo>
                    <a:pt x="1058" y="1058"/>
                  </a:lnTo>
                  <a:lnTo>
                    <a:pt x="1084" y="1092"/>
                  </a:lnTo>
                  <a:lnTo>
                    <a:pt x="1112" y="1127"/>
                  </a:lnTo>
                  <a:lnTo>
                    <a:pt x="1141" y="1160"/>
                  </a:lnTo>
                  <a:lnTo>
                    <a:pt x="1169" y="1192"/>
                  </a:lnTo>
                  <a:lnTo>
                    <a:pt x="1198" y="1225"/>
                  </a:lnTo>
                  <a:lnTo>
                    <a:pt x="1228" y="1257"/>
                  </a:lnTo>
                  <a:lnTo>
                    <a:pt x="1258" y="1288"/>
                  </a:lnTo>
                  <a:lnTo>
                    <a:pt x="1288" y="1320"/>
                  </a:lnTo>
                  <a:lnTo>
                    <a:pt x="1319" y="1351"/>
                  </a:lnTo>
                  <a:lnTo>
                    <a:pt x="1349" y="1384"/>
                  </a:lnTo>
                  <a:lnTo>
                    <a:pt x="1380" y="1416"/>
                  </a:lnTo>
                  <a:lnTo>
                    <a:pt x="1410" y="1448"/>
                  </a:lnTo>
                  <a:lnTo>
                    <a:pt x="1440" y="1481"/>
                  </a:lnTo>
                  <a:lnTo>
                    <a:pt x="1469" y="1515"/>
                  </a:lnTo>
                  <a:lnTo>
                    <a:pt x="1499" y="1547"/>
                  </a:lnTo>
                  <a:lnTo>
                    <a:pt x="1528" y="1579"/>
                  </a:lnTo>
                  <a:lnTo>
                    <a:pt x="1557" y="1613"/>
                  </a:lnTo>
                  <a:lnTo>
                    <a:pt x="1585" y="1645"/>
                  </a:lnTo>
                  <a:lnTo>
                    <a:pt x="1613" y="1677"/>
                  </a:lnTo>
                  <a:lnTo>
                    <a:pt x="1642" y="1709"/>
                  </a:lnTo>
                  <a:lnTo>
                    <a:pt x="1671" y="1742"/>
                  </a:lnTo>
                  <a:lnTo>
                    <a:pt x="1698" y="1774"/>
                  </a:lnTo>
                  <a:lnTo>
                    <a:pt x="1727" y="1805"/>
                  </a:lnTo>
                  <a:lnTo>
                    <a:pt x="1755" y="1837"/>
                  </a:lnTo>
                  <a:lnTo>
                    <a:pt x="1782" y="1870"/>
                  </a:lnTo>
                  <a:lnTo>
                    <a:pt x="1811" y="1902"/>
                  </a:lnTo>
                  <a:lnTo>
                    <a:pt x="1839" y="1934"/>
                  </a:lnTo>
                  <a:lnTo>
                    <a:pt x="1866" y="1965"/>
                  </a:lnTo>
                  <a:lnTo>
                    <a:pt x="1894" y="1997"/>
                  </a:lnTo>
                  <a:lnTo>
                    <a:pt x="1923" y="2030"/>
                  </a:lnTo>
                  <a:lnTo>
                    <a:pt x="1951" y="2062"/>
                  </a:lnTo>
                  <a:lnTo>
                    <a:pt x="1978" y="2094"/>
                  </a:lnTo>
                  <a:lnTo>
                    <a:pt x="2006" y="2125"/>
                  </a:lnTo>
                  <a:lnTo>
                    <a:pt x="2033" y="2158"/>
                  </a:lnTo>
                  <a:lnTo>
                    <a:pt x="2062" y="2190"/>
                  </a:lnTo>
                  <a:lnTo>
                    <a:pt x="2090" y="2222"/>
                  </a:lnTo>
                  <a:lnTo>
                    <a:pt x="2118" y="2254"/>
                  </a:lnTo>
                  <a:lnTo>
                    <a:pt x="2146" y="2288"/>
                  </a:lnTo>
                  <a:lnTo>
                    <a:pt x="2174" y="2320"/>
                  </a:lnTo>
                  <a:lnTo>
                    <a:pt x="2202" y="2352"/>
                  </a:lnTo>
                  <a:lnTo>
                    <a:pt x="2230" y="2386"/>
                  </a:lnTo>
                  <a:lnTo>
                    <a:pt x="2259" y="2418"/>
                  </a:lnTo>
                  <a:lnTo>
                    <a:pt x="2287" y="2451"/>
                  </a:lnTo>
                  <a:lnTo>
                    <a:pt x="2316" y="2485"/>
                  </a:lnTo>
                  <a:lnTo>
                    <a:pt x="2345" y="2518"/>
                  </a:lnTo>
                  <a:lnTo>
                    <a:pt x="2353" y="2527"/>
                  </a:lnTo>
                  <a:lnTo>
                    <a:pt x="2362" y="2538"/>
                  </a:lnTo>
                  <a:lnTo>
                    <a:pt x="2371" y="2547"/>
                  </a:lnTo>
                  <a:lnTo>
                    <a:pt x="2379" y="2556"/>
                  </a:lnTo>
                  <a:lnTo>
                    <a:pt x="2386" y="2564"/>
                  </a:lnTo>
                  <a:lnTo>
                    <a:pt x="2392" y="2572"/>
                  </a:lnTo>
                  <a:lnTo>
                    <a:pt x="2395" y="2578"/>
                  </a:lnTo>
                  <a:lnTo>
                    <a:pt x="2396" y="2584"/>
                  </a:lnTo>
                  <a:lnTo>
                    <a:pt x="2393" y="2594"/>
                  </a:lnTo>
                  <a:lnTo>
                    <a:pt x="2381" y="2604"/>
                  </a:lnTo>
                  <a:lnTo>
                    <a:pt x="2365" y="2615"/>
                  </a:lnTo>
                  <a:lnTo>
                    <a:pt x="2343" y="2625"/>
                  </a:lnTo>
                  <a:lnTo>
                    <a:pt x="2316" y="2637"/>
                  </a:lnTo>
                  <a:lnTo>
                    <a:pt x="2285" y="2647"/>
                  </a:lnTo>
                  <a:lnTo>
                    <a:pt x="2251" y="2657"/>
                  </a:lnTo>
                  <a:lnTo>
                    <a:pt x="2214" y="2668"/>
                  </a:lnTo>
                  <a:lnTo>
                    <a:pt x="2175" y="2678"/>
                  </a:lnTo>
                  <a:lnTo>
                    <a:pt x="2135" y="2687"/>
                  </a:lnTo>
                  <a:lnTo>
                    <a:pt x="2093" y="2697"/>
                  </a:lnTo>
                  <a:lnTo>
                    <a:pt x="2053" y="2705"/>
                  </a:lnTo>
                  <a:lnTo>
                    <a:pt x="2013" y="2713"/>
                  </a:lnTo>
                  <a:lnTo>
                    <a:pt x="1974" y="2720"/>
                  </a:lnTo>
                  <a:lnTo>
                    <a:pt x="1937" y="2725"/>
                  </a:lnTo>
                  <a:lnTo>
                    <a:pt x="1903" y="2731"/>
                  </a:lnTo>
                  <a:lnTo>
                    <a:pt x="1871" y="2736"/>
                  </a:lnTo>
                  <a:lnTo>
                    <a:pt x="1839" y="2740"/>
                  </a:lnTo>
                  <a:lnTo>
                    <a:pt x="1807" y="2745"/>
                  </a:lnTo>
                  <a:lnTo>
                    <a:pt x="1775" y="2750"/>
                  </a:lnTo>
                  <a:lnTo>
                    <a:pt x="1743" y="2753"/>
                  </a:lnTo>
                  <a:lnTo>
                    <a:pt x="1711" y="2758"/>
                  </a:lnTo>
                  <a:lnTo>
                    <a:pt x="1680" y="2761"/>
                  </a:lnTo>
                  <a:lnTo>
                    <a:pt x="1648" y="2765"/>
                  </a:lnTo>
                  <a:lnTo>
                    <a:pt x="1616" y="2768"/>
                  </a:lnTo>
                  <a:lnTo>
                    <a:pt x="1584" y="2771"/>
                  </a:lnTo>
                  <a:lnTo>
                    <a:pt x="1553" y="2775"/>
                  </a:lnTo>
                  <a:lnTo>
                    <a:pt x="1521" y="2777"/>
                  </a:lnTo>
                  <a:lnTo>
                    <a:pt x="1490" y="2781"/>
                  </a:lnTo>
                  <a:lnTo>
                    <a:pt x="1459" y="2784"/>
                  </a:lnTo>
                  <a:lnTo>
                    <a:pt x="1426" y="2786"/>
                  </a:lnTo>
                  <a:lnTo>
                    <a:pt x="1395" y="2789"/>
                  </a:lnTo>
                  <a:lnTo>
                    <a:pt x="1364" y="2791"/>
                  </a:lnTo>
                  <a:lnTo>
                    <a:pt x="1332" y="2795"/>
                  </a:lnTo>
                  <a:lnTo>
                    <a:pt x="1301" y="2797"/>
                  </a:lnTo>
                  <a:lnTo>
                    <a:pt x="1270" y="2799"/>
                  </a:lnTo>
                  <a:lnTo>
                    <a:pt x="1237" y="2800"/>
                  </a:lnTo>
                  <a:lnTo>
                    <a:pt x="1206" y="2803"/>
                  </a:lnTo>
                  <a:lnTo>
                    <a:pt x="1174" y="2805"/>
                  </a:lnTo>
                  <a:lnTo>
                    <a:pt x="1143" y="2807"/>
                  </a:lnTo>
                  <a:lnTo>
                    <a:pt x="1112" y="2808"/>
                  </a:lnTo>
                  <a:lnTo>
                    <a:pt x="1080" y="2811"/>
                  </a:lnTo>
                  <a:lnTo>
                    <a:pt x="1048" y="2813"/>
                  </a:lnTo>
                  <a:lnTo>
                    <a:pt x="1016" y="2814"/>
                  </a:lnTo>
                  <a:lnTo>
                    <a:pt x="985" y="2816"/>
                  </a:lnTo>
                  <a:lnTo>
                    <a:pt x="953" y="2818"/>
                  </a:lnTo>
                  <a:lnTo>
                    <a:pt x="922" y="2820"/>
                  </a:lnTo>
                  <a:lnTo>
                    <a:pt x="889" y="2821"/>
                  </a:lnTo>
                  <a:lnTo>
                    <a:pt x="880" y="2821"/>
                  </a:lnTo>
                  <a:lnTo>
                    <a:pt x="871" y="2824"/>
                  </a:lnTo>
                  <a:lnTo>
                    <a:pt x="862" y="2828"/>
                  </a:lnTo>
                  <a:lnTo>
                    <a:pt x="855" y="2834"/>
                  </a:lnTo>
                  <a:lnTo>
                    <a:pt x="848" y="2841"/>
                  </a:lnTo>
                  <a:lnTo>
                    <a:pt x="843" y="2849"/>
                  </a:lnTo>
                  <a:lnTo>
                    <a:pt x="840" y="2858"/>
                  </a:lnTo>
                  <a:lnTo>
                    <a:pt x="839" y="2867"/>
                  </a:lnTo>
                  <a:lnTo>
                    <a:pt x="839" y="2876"/>
                  </a:lnTo>
                  <a:lnTo>
                    <a:pt x="842" y="2885"/>
                  </a:lnTo>
                  <a:lnTo>
                    <a:pt x="846" y="2895"/>
                  </a:lnTo>
                  <a:lnTo>
                    <a:pt x="851" y="2902"/>
                  </a:lnTo>
                  <a:lnTo>
                    <a:pt x="858" y="2909"/>
                  </a:lnTo>
                  <a:lnTo>
                    <a:pt x="866" y="2913"/>
                  </a:lnTo>
                  <a:lnTo>
                    <a:pt x="876" y="2917"/>
                  </a:lnTo>
                  <a:lnTo>
                    <a:pt x="885" y="2918"/>
                  </a:lnTo>
                  <a:lnTo>
                    <a:pt x="917" y="2921"/>
                  </a:lnTo>
                  <a:lnTo>
                    <a:pt x="951" y="2924"/>
                  </a:lnTo>
                  <a:lnTo>
                    <a:pt x="983" y="2926"/>
                  </a:lnTo>
                  <a:lnTo>
                    <a:pt x="1015" y="2927"/>
                  </a:lnTo>
                  <a:lnTo>
                    <a:pt x="1047" y="2928"/>
                  </a:lnTo>
                  <a:lnTo>
                    <a:pt x="1080" y="2928"/>
                  </a:lnTo>
                  <a:lnTo>
                    <a:pt x="1112" y="2928"/>
                  </a:lnTo>
                  <a:lnTo>
                    <a:pt x="1145" y="2928"/>
                  </a:lnTo>
                  <a:lnTo>
                    <a:pt x="1178" y="2927"/>
                  </a:lnTo>
                  <a:lnTo>
                    <a:pt x="1210" y="2926"/>
                  </a:lnTo>
                  <a:lnTo>
                    <a:pt x="1242" y="2924"/>
                  </a:lnTo>
                  <a:lnTo>
                    <a:pt x="1274" y="2922"/>
                  </a:lnTo>
                  <a:lnTo>
                    <a:pt x="1307" y="2919"/>
                  </a:lnTo>
                  <a:lnTo>
                    <a:pt x="1339" y="2917"/>
                  </a:lnTo>
                  <a:lnTo>
                    <a:pt x="1371" y="2913"/>
                  </a:lnTo>
                  <a:lnTo>
                    <a:pt x="1403" y="2910"/>
                  </a:lnTo>
                  <a:lnTo>
                    <a:pt x="1436" y="2906"/>
                  </a:lnTo>
                  <a:lnTo>
                    <a:pt x="1469" y="2903"/>
                  </a:lnTo>
                  <a:lnTo>
                    <a:pt x="1501" y="2898"/>
                  </a:lnTo>
                  <a:lnTo>
                    <a:pt x="1533" y="2894"/>
                  </a:lnTo>
                  <a:lnTo>
                    <a:pt x="1566" y="2889"/>
                  </a:lnTo>
                  <a:lnTo>
                    <a:pt x="1598" y="2884"/>
                  </a:lnTo>
                  <a:lnTo>
                    <a:pt x="1630" y="2880"/>
                  </a:lnTo>
                  <a:lnTo>
                    <a:pt x="1664" y="2875"/>
                  </a:lnTo>
                  <a:lnTo>
                    <a:pt x="1696" y="2871"/>
                  </a:lnTo>
                  <a:lnTo>
                    <a:pt x="1728" y="2865"/>
                  </a:lnTo>
                  <a:lnTo>
                    <a:pt x="1762" y="2860"/>
                  </a:lnTo>
                  <a:lnTo>
                    <a:pt x="1794" y="2854"/>
                  </a:lnTo>
                  <a:lnTo>
                    <a:pt x="1826" y="2850"/>
                  </a:lnTo>
                  <a:lnTo>
                    <a:pt x="1860" y="2845"/>
                  </a:lnTo>
                  <a:lnTo>
                    <a:pt x="1892" y="2839"/>
                  </a:lnTo>
                  <a:lnTo>
                    <a:pt x="1925" y="2835"/>
                  </a:lnTo>
                  <a:lnTo>
                    <a:pt x="1959" y="2830"/>
                  </a:lnTo>
                  <a:lnTo>
                    <a:pt x="1992" y="2824"/>
                  </a:lnTo>
                  <a:lnTo>
                    <a:pt x="2024" y="2818"/>
                  </a:lnTo>
                  <a:lnTo>
                    <a:pt x="2058" y="2812"/>
                  </a:lnTo>
                  <a:lnTo>
                    <a:pt x="2090" y="2805"/>
                  </a:lnTo>
                  <a:lnTo>
                    <a:pt x="2122" y="2797"/>
                  </a:lnTo>
                  <a:lnTo>
                    <a:pt x="2154" y="2789"/>
                  </a:lnTo>
                  <a:lnTo>
                    <a:pt x="2187" y="2780"/>
                  </a:lnTo>
                  <a:lnTo>
                    <a:pt x="2219" y="2770"/>
                  </a:lnTo>
                  <a:lnTo>
                    <a:pt x="2250" y="2760"/>
                  </a:lnTo>
                  <a:lnTo>
                    <a:pt x="2281" y="2750"/>
                  </a:lnTo>
                  <a:lnTo>
                    <a:pt x="2312" y="2737"/>
                  </a:lnTo>
                  <a:lnTo>
                    <a:pt x="2343" y="2724"/>
                  </a:lnTo>
                  <a:lnTo>
                    <a:pt x="2373" y="2712"/>
                  </a:lnTo>
                  <a:lnTo>
                    <a:pt x="2403" y="2697"/>
                  </a:lnTo>
                  <a:lnTo>
                    <a:pt x="2433" y="2682"/>
                  </a:lnTo>
                  <a:lnTo>
                    <a:pt x="2436" y="2680"/>
                  </a:lnTo>
                  <a:lnTo>
                    <a:pt x="2442" y="2676"/>
                  </a:lnTo>
                  <a:lnTo>
                    <a:pt x="2453" y="2668"/>
                  </a:lnTo>
                  <a:lnTo>
                    <a:pt x="2464" y="2657"/>
                  </a:lnTo>
                  <a:lnTo>
                    <a:pt x="2475" y="2644"/>
                  </a:lnTo>
                  <a:lnTo>
                    <a:pt x="2485" y="2629"/>
                  </a:lnTo>
                  <a:lnTo>
                    <a:pt x="2492" y="2610"/>
                  </a:lnTo>
                  <a:lnTo>
                    <a:pt x="2495" y="2589"/>
                  </a:lnTo>
                  <a:lnTo>
                    <a:pt x="2494" y="2576"/>
                  </a:lnTo>
                  <a:lnTo>
                    <a:pt x="2491" y="2558"/>
                  </a:lnTo>
                  <a:lnTo>
                    <a:pt x="2485" y="2540"/>
                  </a:lnTo>
                  <a:lnTo>
                    <a:pt x="2477" y="2520"/>
                  </a:lnTo>
                  <a:lnTo>
                    <a:pt x="2469" y="2501"/>
                  </a:lnTo>
                  <a:lnTo>
                    <a:pt x="2459" y="2482"/>
                  </a:lnTo>
                  <a:lnTo>
                    <a:pt x="2449" y="2465"/>
                  </a:lnTo>
                  <a:lnTo>
                    <a:pt x="2439" y="2450"/>
                  </a:lnTo>
                  <a:lnTo>
                    <a:pt x="2416" y="2420"/>
                  </a:lnTo>
                  <a:lnTo>
                    <a:pt x="2392" y="2391"/>
                  </a:lnTo>
                  <a:lnTo>
                    <a:pt x="2369" y="2361"/>
                  </a:lnTo>
                  <a:lnTo>
                    <a:pt x="2345" y="2334"/>
                  </a:lnTo>
                  <a:lnTo>
                    <a:pt x="2321" y="2305"/>
                  </a:lnTo>
                  <a:lnTo>
                    <a:pt x="2297" y="2276"/>
                  </a:lnTo>
                  <a:lnTo>
                    <a:pt x="2274" y="2249"/>
                  </a:lnTo>
                  <a:lnTo>
                    <a:pt x="2250" y="2221"/>
                  </a:lnTo>
                  <a:lnTo>
                    <a:pt x="2226" y="2193"/>
                  </a:lnTo>
                  <a:lnTo>
                    <a:pt x="2202" y="2166"/>
                  </a:lnTo>
                  <a:lnTo>
                    <a:pt x="2179" y="2139"/>
                  </a:lnTo>
                  <a:lnTo>
                    <a:pt x="2154" y="2111"/>
                  </a:lnTo>
                  <a:lnTo>
                    <a:pt x="2130" y="2085"/>
                  </a:lnTo>
                  <a:lnTo>
                    <a:pt x="2106" y="2058"/>
                  </a:lnTo>
                  <a:lnTo>
                    <a:pt x="2082" y="2032"/>
                  </a:lnTo>
                  <a:lnTo>
                    <a:pt x="2058" y="2004"/>
                  </a:lnTo>
                  <a:lnTo>
                    <a:pt x="2033" y="1978"/>
                  </a:lnTo>
                  <a:lnTo>
                    <a:pt x="2009" y="1951"/>
                  </a:lnTo>
                  <a:lnTo>
                    <a:pt x="1984" y="1925"/>
                  </a:lnTo>
                  <a:lnTo>
                    <a:pt x="1960" y="1898"/>
                  </a:lnTo>
                  <a:lnTo>
                    <a:pt x="1936" y="1872"/>
                  </a:lnTo>
                  <a:lnTo>
                    <a:pt x="1911" y="1845"/>
                  </a:lnTo>
                  <a:lnTo>
                    <a:pt x="1887" y="1819"/>
                  </a:lnTo>
                  <a:lnTo>
                    <a:pt x="1863" y="1791"/>
                  </a:lnTo>
                  <a:lnTo>
                    <a:pt x="1838" y="1765"/>
                  </a:lnTo>
                  <a:lnTo>
                    <a:pt x="1813" y="1737"/>
                  </a:lnTo>
                  <a:lnTo>
                    <a:pt x="1789" y="1709"/>
                  </a:lnTo>
                  <a:lnTo>
                    <a:pt x="1765" y="1683"/>
                  </a:lnTo>
                  <a:lnTo>
                    <a:pt x="1741" y="1654"/>
                  </a:lnTo>
                  <a:lnTo>
                    <a:pt x="1716" y="1627"/>
                  </a:lnTo>
                  <a:lnTo>
                    <a:pt x="1691" y="1599"/>
                  </a:lnTo>
                  <a:lnTo>
                    <a:pt x="1667" y="1570"/>
                  </a:lnTo>
                  <a:lnTo>
                    <a:pt x="1629" y="1526"/>
                  </a:lnTo>
                  <a:lnTo>
                    <a:pt x="1590" y="1484"/>
                  </a:lnTo>
                  <a:lnTo>
                    <a:pt x="1551" y="1443"/>
                  </a:lnTo>
                  <a:lnTo>
                    <a:pt x="1512" y="1403"/>
                  </a:lnTo>
                  <a:lnTo>
                    <a:pt x="1471" y="1363"/>
                  </a:lnTo>
                  <a:lnTo>
                    <a:pt x="1432" y="1324"/>
                  </a:lnTo>
                  <a:lnTo>
                    <a:pt x="1392" y="1284"/>
                  </a:lnTo>
                  <a:lnTo>
                    <a:pt x="1353" y="1245"/>
                  </a:lnTo>
                  <a:lnTo>
                    <a:pt x="1313" y="1206"/>
                  </a:lnTo>
                  <a:lnTo>
                    <a:pt x="1274" y="1167"/>
                  </a:lnTo>
                  <a:lnTo>
                    <a:pt x="1235" y="1125"/>
                  </a:lnTo>
                  <a:lnTo>
                    <a:pt x="1198" y="1084"/>
                  </a:lnTo>
                  <a:lnTo>
                    <a:pt x="1161" y="1040"/>
                  </a:lnTo>
                  <a:lnTo>
                    <a:pt x="1126" y="996"/>
                  </a:lnTo>
                  <a:lnTo>
                    <a:pt x="1090" y="949"/>
                  </a:lnTo>
                  <a:lnTo>
                    <a:pt x="1057" y="901"/>
                  </a:lnTo>
                  <a:lnTo>
                    <a:pt x="1023" y="849"/>
                  </a:lnTo>
                  <a:lnTo>
                    <a:pt x="991" y="797"/>
                  </a:lnTo>
                  <a:lnTo>
                    <a:pt x="959" y="747"/>
                  </a:lnTo>
                  <a:lnTo>
                    <a:pt x="929" y="695"/>
                  </a:lnTo>
                  <a:lnTo>
                    <a:pt x="900" y="643"/>
                  </a:lnTo>
                  <a:lnTo>
                    <a:pt x="871" y="591"/>
                  </a:lnTo>
                  <a:lnTo>
                    <a:pt x="845" y="538"/>
                  </a:lnTo>
                  <a:lnTo>
                    <a:pt x="819" y="486"/>
                  </a:lnTo>
                  <a:lnTo>
                    <a:pt x="794" y="433"/>
                  </a:lnTo>
                  <a:lnTo>
                    <a:pt x="771" y="380"/>
                  </a:lnTo>
                  <a:lnTo>
                    <a:pt x="748" y="326"/>
                  </a:lnTo>
                  <a:lnTo>
                    <a:pt x="727" y="272"/>
                  </a:lnTo>
                  <a:lnTo>
                    <a:pt x="707" y="217"/>
                  </a:lnTo>
                  <a:lnTo>
                    <a:pt x="688" y="161"/>
                  </a:lnTo>
                  <a:lnTo>
                    <a:pt x="671" y="105"/>
                  </a:lnTo>
                  <a:lnTo>
                    <a:pt x="654" y="49"/>
                  </a:lnTo>
                  <a:lnTo>
                    <a:pt x="653" y="43"/>
                  </a:lnTo>
                  <a:lnTo>
                    <a:pt x="648" y="30"/>
                  </a:lnTo>
                  <a:lnTo>
                    <a:pt x="640" y="16"/>
                  </a:lnTo>
                  <a:lnTo>
                    <a:pt x="629" y="6"/>
                  </a:lnTo>
                  <a:lnTo>
                    <a:pt x="625" y="5"/>
                  </a:lnTo>
                  <a:lnTo>
                    <a:pt x="619" y="4"/>
                  </a:lnTo>
                  <a:lnTo>
                    <a:pt x="614" y="2"/>
                  </a:lnTo>
                  <a:lnTo>
                    <a:pt x="610" y="1"/>
                  </a:lnTo>
                  <a:lnTo>
                    <a:pt x="605" y="1"/>
                  </a:lnTo>
                  <a:lnTo>
                    <a:pt x="600" y="0"/>
                  </a:lnTo>
                  <a:lnTo>
                    <a:pt x="596" y="1"/>
                  </a:lnTo>
                  <a:lnTo>
                    <a:pt x="592" y="1"/>
                  </a:lnTo>
                  <a:lnTo>
                    <a:pt x="581" y="5"/>
                  </a:lnTo>
                  <a:lnTo>
                    <a:pt x="573" y="9"/>
                  </a:lnTo>
                  <a:lnTo>
                    <a:pt x="568" y="16"/>
                  </a:lnTo>
                  <a:lnTo>
                    <a:pt x="565" y="24"/>
                  </a:lnTo>
                  <a:lnTo>
                    <a:pt x="542" y="125"/>
                  </a:lnTo>
                  <a:lnTo>
                    <a:pt x="520" y="224"/>
                  </a:lnTo>
                  <a:lnTo>
                    <a:pt x="499" y="322"/>
                  </a:lnTo>
                  <a:lnTo>
                    <a:pt x="477" y="418"/>
                  </a:lnTo>
                  <a:lnTo>
                    <a:pt x="456" y="515"/>
                  </a:lnTo>
                  <a:lnTo>
                    <a:pt x="434" y="613"/>
                  </a:lnTo>
                  <a:lnTo>
                    <a:pt x="413" y="712"/>
                  </a:lnTo>
                  <a:lnTo>
                    <a:pt x="391" y="813"/>
                  </a:lnTo>
                  <a:lnTo>
                    <a:pt x="380" y="862"/>
                  </a:lnTo>
                  <a:lnTo>
                    <a:pt x="371" y="910"/>
                  </a:lnTo>
                  <a:lnTo>
                    <a:pt x="363" y="957"/>
                  </a:lnTo>
                  <a:lnTo>
                    <a:pt x="355" y="1003"/>
                  </a:lnTo>
                  <a:lnTo>
                    <a:pt x="347" y="1051"/>
                  </a:lnTo>
                  <a:lnTo>
                    <a:pt x="340" y="1097"/>
                  </a:lnTo>
                  <a:lnTo>
                    <a:pt x="333" y="1144"/>
                  </a:lnTo>
                  <a:lnTo>
                    <a:pt x="326" y="1192"/>
                  </a:lnTo>
                  <a:lnTo>
                    <a:pt x="312" y="1295"/>
                  </a:lnTo>
                  <a:lnTo>
                    <a:pt x="301" y="1398"/>
                  </a:lnTo>
                  <a:lnTo>
                    <a:pt x="288" y="1501"/>
                  </a:lnTo>
                  <a:lnTo>
                    <a:pt x="277" y="1604"/>
                  </a:lnTo>
                  <a:lnTo>
                    <a:pt x="264" y="1706"/>
                  </a:lnTo>
                  <a:lnTo>
                    <a:pt x="251" y="1809"/>
                  </a:lnTo>
                  <a:lnTo>
                    <a:pt x="239" y="1910"/>
                  </a:lnTo>
                  <a:lnTo>
                    <a:pt x="222" y="2011"/>
                  </a:lnTo>
                  <a:lnTo>
                    <a:pt x="206" y="2111"/>
                  </a:lnTo>
                  <a:lnTo>
                    <a:pt x="187" y="2212"/>
                  </a:lnTo>
                  <a:lnTo>
                    <a:pt x="165" y="2311"/>
                  </a:lnTo>
                  <a:lnTo>
                    <a:pt x="140" y="2410"/>
                  </a:lnTo>
                  <a:lnTo>
                    <a:pt x="111" y="2507"/>
                  </a:lnTo>
                  <a:lnTo>
                    <a:pt x="78" y="2603"/>
                  </a:lnTo>
                  <a:lnTo>
                    <a:pt x="43" y="2699"/>
                  </a:lnTo>
                  <a:lnTo>
                    <a:pt x="1" y="2793"/>
                  </a:lnTo>
                  <a:lnTo>
                    <a:pt x="1" y="2793"/>
                  </a:lnTo>
                  <a:lnTo>
                    <a:pt x="0" y="2796"/>
                  </a:lnTo>
                  <a:lnTo>
                    <a:pt x="0" y="2799"/>
                  </a:lnTo>
                  <a:lnTo>
                    <a:pt x="1" y="2801"/>
                  </a:lnTo>
                  <a:lnTo>
                    <a:pt x="4" y="2804"/>
                  </a:lnTo>
                  <a:lnTo>
                    <a:pt x="7" y="2805"/>
                  </a:lnTo>
                  <a:lnTo>
                    <a:pt x="10" y="2805"/>
                  </a:lnTo>
                  <a:lnTo>
                    <a:pt x="13" y="2804"/>
                  </a:lnTo>
                  <a:lnTo>
                    <a:pt x="15" y="2801"/>
                  </a:lnTo>
                  <a:lnTo>
                    <a:pt x="15" y="28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9000" y="5794920"/>
              <a:ext cx="290160" cy="388080"/>
            </a:xfrm>
            <a:custGeom>
              <a:avLst/>
              <a:gdLst/>
              <a:ahLst/>
              <a:rect l="l" t="t" r="r" b="b"/>
              <a:pathLst>
                <a:path w="567" h="756">
                  <a:moveTo>
                    <a:pt x="304" y="752"/>
                  </a:moveTo>
                  <a:lnTo>
                    <a:pt x="321" y="709"/>
                  </a:lnTo>
                  <a:lnTo>
                    <a:pt x="341" y="663"/>
                  </a:lnTo>
                  <a:lnTo>
                    <a:pt x="361" y="612"/>
                  </a:lnTo>
                  <a:lnTo>
                    <a:pt x="380" y="560"/>
                  </a:lnTo>
                  <a:lnTo>
                    <a:pt x="401" y="507"/>
                  </a:lnTo>
                  <a:lnTo>
                    <a:pt x="422" y="454"/>
                  </a:lnTo>
                  <a:lnTo>
                    <a:pt x="442" y="401"/>
                  </a:lnTo>
                  <a:lnTo>
                    <a:pt x="462" y="350"/>
                  </a:lnTo>
                  <a:lnTo>
                    <a:pt x="482" y="301"/>
                  </a:lnTo>
                  <a:lnTo>
                    <a:pt x="499" y="255"/>
                  </a:lnTo>
                  <a:lnTo>
                    <a:pt x="515" y="212"/>
                  </a:lnTo>
                  <a:lnTo>
                    <a:pt x="529" y="174"/>
                  </a:lnTo>
                  <a:lnTo>
                    <a:pt x="542" y="142"/>
                  </a:lnTo>
                  <a:lnTo>
                    <a:pt x="551" y="117"/>
                  </a:lnTo>
                  <a:lnTo>
                    <a:pt x="559" y="97"/>
                  </a:lnTo>
                  <a:lnTo>
                    <a:pt x="562" y="87"/>
                  </a:lnTo>
                  <a:lnTo>
                    <a:pt x="566" y="74"/>
                  </a:lnTo>
                  <a:lnTo>
                    <a:pt x="567" y="62"/>
                  </a:lnTo>
                  <a:lnTo>
                    <a:pt x="566" y="53"/>
                  </a:lnTo>
                  <a:lnTo>
                    <a:pt x="562" y="44"/>
                  </a:lnTo>
                  <a:lnTo>
                    <a:pt x="556" y="36"/>
                  </a:lnTo>
                  <a:lnTo>
                    <a:pt x="547" y="30"/>
                  </a:lnTo>
                  <a:lnTo>
                    <a:pt x="536" y="26"/>
                  </a:lnTo>
                  <a:lnTo>
                    <a:pt x="521" y="22"/>
                  </a:lnTo>
                  <a:lnTo>
                    <a:pt x="509" y="21"/>
                  </a:lnTo>
                  <a:lnTo>
                    <a:pt x="492" y="19"/>
                  </a:lnTo>
                  <a:lnTo>
                    <a:pt x="469" y="16"/>
                  </a:lnTo>
                  <a:lnTo>
                    <a:pt x="440" y="13"/>
                  </a:lnTo>
                  <a:lnTo>
                    <a:pt x="409" y="11"/>
                  </a:lnTo>
                  <a:lnTo>
                    <a:pt x="373" y="8"/>
                  </a:lnTo>
                  <a:lnTo>
                    <a:pt x="336" y="5"/>
                  </a:lnTo>
                  <a:lnTo>
                    <a:pt x="297" y="4"/>
                  </a:lnTo>
                  <a:lnTo>
                    <a:pt x="257" y="1"/>
                  </a:lnTo>
                  <a:lnTo>
                    <a:pt x="218" y="0"/>
                  </a:lnTo>
                  <a:lnTo>
                    <a:pt x="179" y="0"/>
                  </a:lnTo>
                  <a:lnTo>
                    <a:pt x="141" y="1"/>
                  </a:lnTo>
                  <a:lnTo>
                    <a:pt x="106" y="3"/>
                  </a:lnTo>
                  <a:lnTo>
                    <a:pt x="74" y="6"/>
                  </a:lnTo>
                  <a:lnTo>
                    <a:pt x="46" y="11"/>
                  </a:lnTo>
                  <a:lnTo>
                    <a:pt x="23" y="16"/>
                  </a:lnTo>
                  <a:lnTo>
                    <a:pt x="12" y="23"/>
                  </a:lnTo>
                  <a:lnTo>
                    <a:pt x="4" y="34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5" y="67"/>
                  </a:lnTo>
                  <a:lnTo>
                    <a:pt x="9" y="72"/>
                  </a:lnTo>
                  <a:lnTo>
                    <a:pt x="14" y="76"/>
                  </a:lnTo>
                  <a:lnTo>
                    <a:pt x="20" y="80"/>
                  </a:lnTo>
                  <a:lnTo>
                    <a:pt x="27" y="82"/>
                  </a:lnTo>
                  <a:lnTo>
                    <a:pt x="32" y="83"/>
                  </a:lnTo>
                  <a:lnTo>
                    <a:pt x="39" y="83"/>
                  </a:lnTo>
                  <a:lnTo>
                    <a:pt x="46" y="81"/>
                  </a:lnTo>
                  <a:lnTo>
                    <a:pt x="67" y="75"/>
                  </a:lnTo>
                  <a:lnTo>
                    <a:pt x="93" y="69"/>
                  </a:lnTo>
                  <a:lnTo>
                    <a:pt x="123" y="66"/>
                  </a:lnTo>
                  <a:lnTo>
                    <a:pt x="158" y="62"/>
                  </a:lnTo>
                  <a:lnTo>
                    <a:pt x="195" y="59"/>
                  </a:lnTo>
                  <a:lnTo>
                    <a:pt x="234" y="58"/>
                  </a:lnTo>
                  <a:lnTo>
                    <a:pt x="273" y="57"/>
                  </a:lnTo>
                  <a:lnTo>
                    <a:pt x="313" y="57"/>
                  </a:lnTo>
                  <a:lnTo>
                    <a:pt x="351" y="58"/>
                  </a:lnTo>
                  <a:lnTo>
                    <a:pt x="387" y="59"/>
                  </a:lnTo>
                  <a:lnTo>
                    <a:pt x="419" y="61"/>
                  </a:lnTo>
                  <a:lnTo>
                    <a:pt x="448" y="66"/>
                  </a:lnTo>
                  <a:lnTo>
                    <a:pt x="472" y="71"/>
                  </a:lnTo>
                  <a:lnTo>
                    <a:pt x="490" y="76"/>
                  </a:lnTo>
                  <a:lnTo>
                    <a:pt x="501" y="82"/>
                  </a:lnTo>
                  <a:lnTo>
                    <a:pt x="503" y="90"/>
                  </a:lnTo>
                  <a:lnTo>
                    <a:pt x="501" y="102"/>
                  </a:lnTo>
                  <a:lnTo>
                    <a:pt x="495" y="121"/>
                  </a:lnTo>
                  <a:lnTo>
                    <a:pt x="486" y="148"/>
                  </a:lnTo>
                  <a:lnTo>
                    <a:pt x="476" y="180"/>
                  </a:lnTo>
                  <a:lnTo>
                    <a:pt x="464" y="217"/>
                  </a:lnTo>
                  <a:lnTo>
                    <a:pt x="451" y="258"/>
                  </a:lnTo>
                  <a:lnTo>
                    <a:pt x="434" y="304"/>
                  </a:lnTo>
                  <a:lnTo>
                    <a:pt x="418" y="353"/>
                  </a:lnTo>
                  <a:lnTo>
                    <a:pt x="402" y="402"/>
                  </a:lnTo>
                  <a:lnTo>
                    <a:pt x="385" y="454"/>
                  </a:lnTo>
                  <a:lnTo>
                    <a:pt x="368" y="507"/>
                  </a:lnTo>
                  <a:lnTo>
                    <a:pt x="351" y="559"/>
                  </a:lnTo>
                  <a:lnTo>
                    <a:pt x="335" y="610"/>
                  </a:lnTo>
                  <a:lnTo>
                    <a:pt x="320" y="659"/>
                  </a:lnTo>
                  <a:lnTo>
                    <a:pt x="306" y="706"/>
                  </a:lnTo>
                  <a:lnTo>
                    <a:pt x="295" y="750"/>
                  </a:lnTo>
                  <a:lnTo>
                    <a:pt x="295" y="750"/>
                  </a:lnTo>
                  <a:lnTo>
                    <a:pt x="295" y="751"/>
                  </a:lnTo>
                  <a:lnTo>
                    <a:pt x="295" y="752"/>
                  </a:lnTo>
                  <a:lnTo>
                    <a:pt x="296" y="755"/>
                  </a:lnTo>
                  <a:lnTo>
                    <a:pt x="297" y="756"/>
                  </a:lnTo>
                  <a:lnTo>
                    <a:pt x="300" y="756"/>
                  </a:lnTo>
                  <a:lnTo>
                    <a:pt x="301" y="755"/>
                  </a:lnTo>
                  <a:lnTo>
                    <a:pt x="303" y="754"/>
                  </a:lnTo>
                  <a:lnTo>
                    <a:pt x="304" y="752"/>
                  </a:lnTo>
                  <a:lnTo>
                    <a:pt x="304" y="75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31360" y="5920920"/>
              <a:ext cx="189720" cy="174600"/>
            </a:xfrm>
            <a:custGeom>
              <a:avLst/>
              <a:gdLst/>
              <a:ahLst/>
              <a:rect l="l" t="t" r="r" b="b"/>
              <a:pathLst>
                <a:path w="369" h="340">
                  <a:moveTo>
                    <a:pt x="345" y="0"/>
                  </a:moveTo>
                  <a:lnTo>
                    <a:pt x="318" y="8"/>
                  </a:lnTo>
                  <a:lnTo>
                    <a:pt x="290" y="17"/>
                  </a:lnTo>
                  <a:lnTo>
                    <a:pt x="262" y="29"/>
                  </a:lnTo>
                  <a:lnTo>
                    <a:pt x="233" y="42"/>
                  </a:lnTo>
                  <a:lnTo>
                    <a:pt x="203" y="57"/>
                  </a:lnTo>
                  <a:lnTo>
                    <a:pt x="175" y="73"/>
                  </a:lnTo>
                  <a:lnTo>
                    <a:pt x="148" y="91"/>
                  </a:lnTo>
                  <a:lnTo>
                    <a:pt x="121" y="108"/>
                  </a:lnTo>
                  <a:lnTo>
                    <a:pt x="96" y="125"/>
                  </a:lnTo>
                  <a:lnTo>
                    <a:pt x="74" y="144"/>
                  </a:lnTo>
                  <a:lnTo>
                    <a:pt x="53" y="162"/>
                  </a:lnTo>
                  <a:lnTo>
                    <a:pt x="36" y="179"/>
                  </a:lnTo>
                  <a:lnTo>
                    <a:pt x="21" y="196"/>
                  </a:lnTo>
                  <a:lnTo>
                    <a:pt x="10" y="212"/>
                  </a:lnTo>
                  <a:lnTo>
                    <a:pt x="3" y="227"/>
                  </a:lnTo>
                  <a:lnTo>
                    <a:pt x="0" y="239"/>
                  </a:lnTo>
                  <a:lnTo>
                    <a:pt x="0" y="258"/>
                  </a:lnTo>
                  <a:lnTo>
                    <a:pt x="4" y="274"/>
                  </a:lnTo>
                  <a:lnTo>
                    <a:pt x="8" y="288"/>
                  </a:lnTo>
                  <a:lnTo>
                    <a:pt x="15" y="300"/>
                  </a:lnTo>
                  <a:lnTo>
                    <a:pt x="26" y="310"/>
                  </a:lnTo>
                  <a:lnTo>
                    <a:pt x="38" y="319"/>
                  </a:lnTo>
                  <a:lnTo>
                    <a:pt x="53" y="326"/>
                  </a:lnTo>
                  <a:lnTo>
                    <a:pt x="72" y="330"/>
                  </a:lnTo>
                  <a:lnTo>
                    <a:pt x="81" y="333"/>
                  </a:lnTo>
                  <a:lnTo>
                    <a:pt x="91" y="335"/>
                  </a:lnTo>
                  <a:lnTo>
                    <a:pt x="102" y="336"/>
                  </a:lnTo>
                  <a:lnTo>
                    <a:pt x="112" y="338"/>
                  </a:lnTo>
                  <a:lnTo>
                    <a:pt x="122" y="340"/>
                  </a:lnTo>
                  <a:lnTo>
                    <a:pt x="133" y="340"/>
                  </a:lnTo>
                  <a:lnTo>
                    <a:pt x="144" y="340"/>
                  </a:lnTo>
                  <a:lnTo>
                    <a:pt x="156" y="338"/>
                  </a:lnTo>
                  <a:lnTo>
                    <a:pt x="169" y="337"/>
                  </a:lnTo>
                  <a:lnTo>
                    <a:pt x="180" y="334"/>
                  </a:lnTo>
                  <a:lnTo>
                    <a:pt x="193" y="330"/>
                  </a:lnTo>
                  <a:lnTo>
                    <a:pt x="207" y="325"/>
                  </a:lnTo>
                  <a:lnTo>
                    <a:pt x="219" y="317"/>
                  </a:lnTo>
                  <a:lnTo>
                    <a:pt x="234" y="308"/>
                  </a:lnTo>
                  <a:lnTo>
                    <a:pt x="248" y="298"/>
                  </a:lnTo>
                  <a:lnTo>
                    <a:pt x="263" y="285"/>
                  </a:lnTo>
                  <a:lnTo>
                    <a:pt x="293" y="258"/>
                  </a:lnTo>
                  <a:lnTo>
                    <a:pt x="321" y="229"/>
                  </a:lnTo>
                  <a:lnTo>
                    <a:pt x="345" y="198"/>
                  </a:lnTo>
                  <a:lnTo>
                    <a:pt x="361" y="167"/>
                  </a:lnTo>
                  <a:lnTo>
                    <a:pt x="369" y="136"/>
                  </a:lnTo>
                  <a:lnTo>
                    <a:pt x="367" y="103"/>
                  </a:lnTo>
                  <a:lnTo>
                    <a:pt x="351" y="71"/>
                  </a:lnTo>
                  <a:lnTo>
                    <a:pt x="319" y="40"/>
                  </a:lnTo>
                  <a:lnTo>
                    <a:pt x="313" y="39"/>
                  </a:lnTo>
                  <a:lnTo>
                    <a:pt x="306" y="39"/>
                  </a:lnTo>
                  <a:lnTo>
                    <a:pt x="299" y="42"/>
                  </a:lnTo>
                  <a:lnTo>
                    <a:pt x="295" y="48"/>
                  </a:lnTo>
                  <a:lnTo>
                    <a:pt x="293" y="55"/>
                  </a:lnTo>
                  <a:lnTo>
                    <a:pt x="294" y="62"/>
                  </a:lnTo>
                  <a:lnTo>
                    <a:pt x="296" y="68"/>
                  </a:lnTo>
                  <a:lnTo>
                    <a:pt x="302" y="72"/>
                  </a:lnTo>
                  <a:lnTo>
                    <a:pt x="314" y="94"/>
                  </a:lnTo>
                  <a:lnTo>
                    <a:pt x="316" y="116"/>
                  </a:lnTo>
                  <a:lnTo>
                    <a:pt x="311" y="139"/>
                  </a:lnTo>
                  <a:lnTo>
                    <a:pt x="301" y="161"/>
                  </a:lnTo>
                  <a:lnTo>
                    <a:pt x="287" y="182"/>
                  </a:lnTo>
                  <a:lnTo>
                    <a:pt x="270" y="203"/>
                  </a:lnTo>
                  <a:lnTo>
                    <a:pt x="253" y="221"/>
                  </a:lnTo>
                  <a:lnTo>
                    <a:pt x="237" y="237"/>
                  </a:lnTo>
                  <a:lnTo>
                    <a:pt x="222" y="249"/>
                  </a:lnTo>
                  <a:lnTo>
                    <a:pt x="202" y="260"/>
                  </a:lnTo>
                  <a:lnTo>
                    <a:pt x="179" y="272"/>
                  </a:lnTo>
                  <a:lnTo>
                    <a:pt x="154" y="281"/>
                  </a:lnTo>
                  <a:lnTo>
                    <a:pt x="128" y="289"/>
                  </a:lnTo>
                  <a:lnTo>
                    <a:pt x="104" y="293"/>
                  </a:lnTo>
                  <a:lnTo>
                    <a:pt x="82" y="295"/>
                  </a:lnTo>
                  <a:lnTo>
                    <a:pt x="64" y="291"/>
                  </a:lnTo>
                  <a:lnTo>
                    <a:pt x="51" y="284"/>
                  </a:lnTo>
                  <a:lnTo>
                    <a:pt x="43" y="276"/>
                  </a:lnTo>
                  <a:lnTo>
                    <a:pt x="38" y="267"/>
                  </a:lnTo>
                  <a:lnTo>
                    <a:pt x="36" y="258"/>
                  </a:lnTo>
                  <a:lnTo>
                    <a:pt x="37" y="250"/>
                  </a:lnTo>
                  <a:lnTo>
                    <a:pt x="38" y="242"/>
                  </a:lnTo>
                  <a:lnTo>
                    <a:pt x="41" y="236"/>
                  </a:lnTo>
                  <a:lnTo>
                    <a:pt x="43" y="232"/>
                  </a:lnTo>
                  <a:lnTo>
                    <a:pt x="58" y="213"/>
                  </a:lnTo>
                  <a:lnTo>
                    <a:pt x="74" y="194"/>
                  </a:lnTo>
                  <a:lnTo>
                    <a:pt x="90" y="176"/>
                  </a:lnTo>
                  <a:lnTo>
                    <a:pt x="107" y="159"/>
                  </a:lnTo>
                  <a:lnTo>
                    <a:pt x="125" y="141"/>
                  </a:lnTo>
                  <a:lnTo>
                    <a:pt x="142" y="125"/>
                  </a:lnTo>
                  <a:lnTo>
                    <a:pt x="160" y="110"/>
                  </a:lnTo>
                  <a:lnTo>
                    <a:pt x="179" y="95"/>
                  </a:lnTo>
                  <a:lnTo>
                    <a:pt x="198" y="82"/>
                  </a:lnTo>
                  <a:lnTo>
                    <a:pt x="218" y="69"/>
                  </a:lnTo>
                  <a:lnTo>
                    <a:pt x="239" y="56"/>
                  </a:lnTo>
                  <a:lnTo>
                    <a:pt x="260" y="46"/>
                  </a:lnTo>
                  <a:lnTo>
                    <a:pt x="280" y="35"/>
                  </a:lnTo>
                  <a:lnTo>
                    <a:pt x="302" y="26"/>
                  </a:lnTo>
                  <a:lnTo>
                    <a:pt x="325" y="17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52" y="8"/>
                  </a:lnTo>
                  <a:lnTo>
                    <a:pt x="352" y="6"/>
                  </a:lnTo>
                  <a:lnTo>
                    <a:pt x="352" y="3"/>
                  </a:lnTo>
                  <a:lnTo>
                    <a:pt x="351" y="1"/>
                  </a:lnTo>
                  <a:lnTo>
                    <a:pt x="348" y="0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33800" y="6075360"/>
              <a:ext cx="270000" cy="117720"/>
            </a:xfrm>
            <a:custGeom>
              <a:avLst/>
              <a:gdLst/>
              <a:ahLst/>
              <a:rect l="l" t="t" r="r" b="b"/>
              <a:pathLst>
                <a:path w="526" h="229">
                  <a:moveTo>
                    <a:pt x="16" y="221"/>
                  </a:moveTo>
                  <a:lnTo>
                    <a:pt x="24" y="220"/>
                  </a:lnTo>
                  <a:lnTo>
                    <a:pt x="33" y="219"/>
                  </a:lnTo>
                  <a:lnTo>
                    <a:pt x="42" y="218"/>
                  </a:lnTo>
                  <a:lnTo>
                    <a:pt x="49" y="216"/>
                  </a:lnTo>
                  <a:lnTo>
                    <a:pt x="68" y="204"/>
                  </a:lnTo>
                  <a:lnTo>
                    <a:pt x="89" y="193"/>
                  </a:lnTo>
                  <a:lnTo>
                    <a:pt x="109" y="180"/>
                  </a:lnTo>
                  <a:lnTo>
                    <a:pt x="128" y="167"/>
                  </a:lnTo>
                  <a:lnTo>
                    <a:pt x="148" y="155"/>
                  </a:lnTo>
                  <a:lnTo>
                    <a:pt x="167" y="142"/>
                  </a:lnTo>
                  <a:lnTo>
                    <a:pt x="187" y="130"/>
                  </a:lnTo>
                  <a:lnTo>
                    <a:pt x="206" y="119"/>
                  </a:lnTo>
                  <a:lnTo>
                    <a:pt x="226" y="109"/>
                  </a:lnTo>
                  <a:lnTo>
                    <a:pt x="247" y="99"/>
                  </a:lnTo>
                  <a:lnTo>
                    <a:pt x="268" y="91"/>
                  </a:lnTo>
                  <a:lnTo>
                    <a:pt x="289" y="84"/>
                  </a:lnTo>
                  <a:lnTo>
                    <a:pt x="311" y="81"/>
                  </a:lnTo>
                  <a:lnTo>
                    <a:pt x="334" y="79"/>
                  </a:lnTo>
                  <a:lnTo>
                    <a:pt x="357" y="79"/>
                  </a:lnTo>
                  <a:lnTo>
                    <a:pt x="382" y="81"/>
                  </a:lnTo>
                  <a:lnTo>
                    <a:pt x="405" y="83"/>
                  </a:lnTo>
                  <a:lnTo>
                    <a:pt x="382" y="72"/>
                  </a:lnTo>
                  <a:lnTo>
                    <a:pt x="401" y="92"/>
                  </a:lnTo>
                  <a:lnTo>
                    <a:pt x="408" y="102"/>
                  </a:lnTo>
                  <a:lnTo>
                    <a:pt x="417" y="109"/>
                  </a:lnTo>
                  <a:lnTo>
                    <a:pt x="425" y="115"/>
                  </a:lnTo>
                  <a:lnTo>
                    <a:pt x="436" y="122"/>
                  </a:lnTo>
                  <a:lnTo>
                    <a:pt x="445" y="128"/>
                  </a:lnTo>
                  <a:lnTo>
                    <a:pt x="453" y="135"/>
                  </a:lnTo>
                  <a:lnTo>
                    <a:pt x="462" y="142"/>
                  </a:lnTo>
                  <a:lnTo>
                    <a:pt x="469" y="150"/>
                  </a:lnTo>
                  <a:lnTo>
                    <a:pt x="474" y="155"/>
                  </a:lnTo>
                  <a:lnTo>
                    <a:pt x="480" y="158"/>
                  </a:lnTo>
                  <a:lnTo>
                    <a:pt x="485" y="160"/>
                  </a:lnTo>
                  <a:lnTo>
                    <a:pt x="491" y="162"/>
                  </a:lnTo>
                  <a:lnTo>
                    <a:pt x="498" y="162"/>
                  </a:lnTo>
                  <a:lnTo>
                    <a:pt x="504" y="159"/>
                  </a:lnTo>
                  <a:lnTo>
                    <a:pt x="509" y="157"/>
                  </a:lnTo>
                  <a:lnTo>
                    <a:pt x="515" y="153"/>
                  </a:lnTo>
                  <a:lnTo>
                    <a:pt x="522" y="143"/>
                  </a:lnTo>
                  <a:lnTo>
                    <a:pt x="526" y="132"/>
                  </a:lnTo>
                  <a:lnTo>
                    <a:pt x="523" y="120"/>
                  </a:lnTo>
                  <a:lnTo>
                    <a:pt x="518" y="109"/>
                  </a:lnTo>
                  <a:lnTo>
                    <a:pt x="514" y="100"/>
                  </a:lnTo>
                  <a:lnTo>
                    <a:pt x="509" y="92"/>
                  </a:lnTo>
                  <a:lnTo>
                    <a:pt x="504" y="87"/>
                  </a:lnTo>
                  <a:lnTo>
                    <a:pt x="498" y="80"/>
                  </a:lnTo>
                  <a:lnTo>
                    <a:pt x="492" y="75"/>
                  </a:lnTo>
                  <a:lnTo>
                    <a:pt x="484" y="69"/>
                  </a:lnTo>
                  <a:lnTo>
                    <a:pt x="477" y="66"/>
                  </a:lnTo>
                  <a:lnTo>
                    <a:pt x="469" y="61"/>
                  </a:lnTo>
                  <a:lnTo>
                    <a:pt x="433" y="26"/>
                  </a:lnTo>
                  <a:lnTo>
                    <a:pt x="429" y="21"/>
                  </a:lnTo>
                  <a:lnTo>
                    <a:pt x="423" y="18"/>
                  </a:lnTo>
                  <a:lnTo>
                    <a:pt x="417" y="14"/>
                  </a:lnTo>
                  <a:lnTo>
                    <a:pt x="410" y="13"/>
                  </a:lnTo>
                  <a:lnTo>
                    <a:pt x="369" y="1"/>
                  </a:lnTo>
                  <a:lnTo>
                    <a:pt x="340" y="0"/>
                  </a:lnTo>
                  <a:lnTo>
                    <a:pt x="312" y="3"/>
                  </a:lnTo>
                  <a:lnTo>
                    <a:pt x="285" y="6"/>
                  </a:lnTo>
                  <a:lnTo>
                    <a:pt x="259" y="13"/>
                  </a:lnTo>
                  <a:lnTo>
                    <a:pt x="234" y="21"/>
                  </a:lnTo>
                  <a:lnTo>
                    <a:pt x="210" y="33"/>
                  </a:lnTo>
                  <a:lnTo>
                    <a:pt x="187" y="44"/>
                  </a:lnTo>
                  <a:lnTo>
                    <a:pt x="164" y="59"/>
                  </a:lnTo>
                  <a:lnTo>
                    <a:pt x="142" y="74"/>
                  </a:lnTo>
                  <a:lnTo>
                    <a:pt x="121" y="90"/>
                  </a:lnTo>
                  <a:lnTo>
                    <a:pt x="100" y="109"/>
                  </a:lnTo>
                  <a:lnTo>
                    <a:pt x="81" y="127"/>
                  </a:lnTo>
                  <a:lnTo>
                    <a:pt x="61" y="147"/>
                  </a:lnTo>
                  <a:lnTo>
                    <a:pt x="43" y="166"/>
                  </a:lnTo>
                  <a:lnTo>
                    <a:pt x="24" y="186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1" y="224"/>
                  </a:lnTo>
                  <a:lnTo>
                    <a:pt x="5" y="227"/>
                  </a:lnTo>
                  <a:lnTo>
                    <a:pt x="9" y="229"/>
                  </a:lnTo>
                  <a:lnTo>
                    <a:pt x="14" y="229"/>
                  </a:lnTo>
                  <a:lnTo>
                    <a:pt x="19" y="227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97040" y="5913000"/>
              <a:ext cx="171000" cy="184680"/>
            </a:xfrm>
            <a:custGeom>
              <a:avLst/>
              <a:gdLst/>
              <a:ahLst/>
              <a:rect l="l" t="t" r="r" b="b"/>
              <a:pathLst>
                <a:path w="334" h="359">
                  <a:moveTo>
                    <a:pt x="318" y="0"/>
                  </a:moveTo>
                  <a:lnTo>
                    <a:pt x="291" y="5"/>
                  </a:lnTo>
                  <a:lnTo>
                    <a:pt x="262" y="15"/>
                  </a:lnTo>
                  <a:lnTo>
                    <a:pt x="234" y="26"/>
                  </a:lnTo>
                  <a:lnTo>
                    <a:pt x="205" y="40"/>
                  </a:lnTo>
                  <a:lnTo>
                    <a:pt x="176" y="55"/>
                  </a:lnTo>
                  <a:lnTo>
                    <a:pt x="148" y="73"/>
                  </a:lnTo>
                  <a:lnTo>
                    <a:pt x="122" y="92"/>
                  </a:lnTo>
                  <a:lnTo>
                    <a:pt x="97" y="111"/>
                  </a:lnTo>
                  <a:lnTo>
                    <a:pt x="73" y="132"/>
                  </a:lnTo>
                  <a:lnTo>
                    <a:pt x="53" y="153"/>
                  </a:lnTo>
                  <a:lnTo>
                    <a:pt x="34" y="174"/>
                  </a:lnTo>
                  <a:lnTo>
                    <a:pt x="19" y="194"/>
                  </a:lnTo>
                  <a:lnTo>
                    <a:pt x="9" y="214"/>
                  </a:lnTo>
                  <a:lnTo>
                    <a:pt x="2" y="233"/>
                  </a:lnTo>
                  <a:lnTo>
                    <a:pt x="0" y="252"/>
                  </a:lnTo>
                  <a:lnTo>
                    <a:pt x="2" y="268"/>
                  </a:lnTo>
                  <a:lnTo>
                    <a:pt x="12" y="293"/>
                  </a:lnTo>
                  <a:lnTo>
                    <a:pt x="24" y="312"/>
                  </a:lnTo>
                  <a:lnTo>
                    <a:pt x="38" y="327"/>
                  </a:lnTo>
                  <a:lnTo>
                    <a:pt x="53" y="338"/>
                  </a:lnTo>
                  <a:lnTo>
                    <a:pt x="69" y="346"/>
                  </a:lnTo>
                  <a:lnTo>
                    <a:pt x="86" y="352"/>
                  </a:lnTo>
                  <a:lnTo>
                    <a:pt x="103" y="356"/>
                  </a:lnTo>
                  <a:lnTo>
                    <a:pt x="122" y="358"/>
                  </a:lnTo>
                  <a:lnTo>
                    <a:pt x="143" y="359"/>
                  </a:lnTo>
                  <a:lnTo>
                    <a:pt x="163" y="357"/>
                  </a:lnTo>
                  <a:lnTo>
                    <a:pt x="183" y="352"/>
                  </a:lnTo>
                  <a:lnTo>
                    <a:pt x="201" y="345"/>
                  </a:lnTo>
                  <a:lnTo>
                    <a:pt x="219" y="335"/>
                  </a:lnTo>
                  <a:lnTo>
                    <a:pt x="235" y="323"/>
                  </a:lnTo>
                  <a:lnTo>
                    <a:pt x="250" y="309"/>
                  </a:lnTo>
                  <a:lnTo>
                    <a:pt x="265" y="295"/>
                  </a:lnTo>
                  <a:lnTo>
                    <a:pt x="277" y="277"/>
                  </a:lnTo>
                  <a:lnTo>
                    <a:pt x="289" y="260"/>
                  </a:lnTo>
                  <a:lnTo>
                    <a:pt x="299" y="240"/>
                  </a:lnTo>
                  <a:lnTo>
                    <a:pt x="310" y="221"/>
                  </a:lnTo>
                  <a:lnTo>
                    <a:pt x="317" y="200"/>
                  </a:lnTo>
                  <a:lnTo>
                    <a:pt x="323" y="180"/>
                  </a:lnTo>
                  <a:lnTo>
                    <a:pt x="329" y="160"/>
                  </a:lnTo>
                  <a:lnTo>
                    <a:pt x="333" y="139"/>
                  </a:lnTo>
                  <a:lnTo>
                    <a:pt x="334" y="126"/>
                  </a:lnTo>
                  <a:lnTo>
                    <a:pt x="330" y="116"/>
                  </a:lnTo>
                  <a:lnTo>
                    <a:pt x="323" y="106"/>
                  </a:lnTo>
                  <a:lnTo>
                    <a:pt x="313" y="100"/>
                  </a:lnTo>
                  <a:lnTo>
                    <a:pt x="307" y="99"/>
                  </a:lnTo>
                  <a:lnTo>
                    <a:pt x="300" y="99"/>
                  </a:lnTo>
                  <a:lnTo>
                    <a:pt x="295" y="100"/>
                  </a:lnTo>
                  <a:lnTo>
                    <a:pt x="290" y="102"/>
                  </a:lnTo>
                  <a:lnTo>
                    <a:pt x="284" y="106"/>
                  </a:lnTo>
                  <a:lnTo>
                    <a:pt x="280" y="110"/>
                  </a:lnTo>
                  <a:lnTo>
                    <a:pt x="276" y="115"/>
                  </a:lnTo>
                  <a:lnTo>
                    <a:pt x="274" y="121"/>
                  </a:lnTo>
                  <a:lnTo>
                    <a:pt x="268" y="137"/>
                  </a:lnTo>
                  <a:lnTo>
                    <a:pt x="260" y="154"/>
                  </a:lnTo>
                  <a:lnTo>
                    <a:pt x="251" y="172"/>
                  </a:lnTo>
                  <a:lnTo>
                    <a:pt x="241" y="192"/>
                  </a:lnTo>
                  <a:lnTo>
                    <a:pt x="229" y="210"/>
                  </a:lnTo>
                  <a:lnTo>
                    <a:pt x="215" y="230"/>
                  </a:lnTo>
                  <a:lnTo>
                    <a:pt x="201" y="247"/>
                  </a:lnTo>
                  <a:lnTo>
                    <a:pt x="188" y="265"/>
                  </a:lnTo>
                  <a:lnTo>
                    <a:pt x="171" y="278"/>
                  </a:lnTo>
                  <a:lnTo>
                    <a:pt x="155" y="290"/>
                  </a:lnTo>
                  <a:lnTo>
                    <a:pt x="139" y="299"/>
                  </a:lnTo>
                  <a:lnTo>
                    <a:pt x="123" y="304"/>
                  </a:lnTo>
                  <a:lnTo>
                    <a:pt x="107" y="305"/>
                  </a:lnTo>
                  <a:lnTo>
                    <a:pt x="90" y="301"/>
                  </a:lnTo>
                  <a:lnTo>
                    <a:pt x="75" y="292"/>
                  </a:lnTo>
                  <a:lnTo>
                    <a:pt x="59" y="277"/>
                  </a:lnTo>
                  <a:lnTo>
                    <a:pt x="52" y="265"/>
                  </a:lnTo>
                  <a:lnTo>
                    <a:pt x="50" y="251"/>
                  </a:lnTo>
                  <a:lnTo>
                    <a:pt x="54" y="233"/>
                  </a:lnTo>
                  <a:lnTo>
                    <a:pt x="62" y="215"/>
                  </a:lnTo>
                  <a:lnTo>
                    <a:pt x="73" y="195"/>
                  </a:lnTo>
                  <a:lnTo>
                    <a:pt x="88" y="176"/>
                  </a:lnTo>
                  <a:lnTo>
                    <a:pt x="106" y="154"/>
                  </a:lnTo>
                  <a:lnTo>
                    <a:pt x="126" y="133"/>
                  </a:lnTo>
                  <a:lnTo>
                    <a:pt x="148" y="113"/>
                  </a:lnTo>
                  <a:lnTo>
                    <a:pt x="173" y="93"/>
                  </a:lnTo>
                  <a:lnTo>
                    <a:pt x="197" y="75"/>
                  </a:lnTo>
                  <a:lnTo>
                    <a:pt x="222" y="56"/>
                  </a:lnTo>
                  <a:lnTo>
                    <a:pt x="247" y="41"/>
                  </a:lnTo>
                  <a:lnTo>
                    <a:pt x="273" y="27"/>
                  </a:lnTo>
                  <a:lnTo>
                    <a:pt x="297" y="17"/>
                  </a:lnTo>
                  <a:lnTo>
                    <a:pt x="320" y="9"/>
                  </a:lnTo>
                  <a:lnTo>
                    <a:pt x="321" y="8"/>
                  </a:lnTo>
                  <a:lnTo>
                    <a:pt x="322" y="7"/>
                  </a:lnTo>
                  <a:lnTo>
                    <a:pt x="322" y="4"/>
                  </a:lnTo>
                  <a:lnTo>
                    <a:pt x="322" y="3"/>
                  </a:lnTo>
                  <a:lnTo>
                    <a:pt x="322" y="2"/>
                  </a:lnTo>
                  <a:lnTo>
                    <a:pt x="321" y="0"/>
                  </a:lnTo>
                  <a:lnTo>
                    <a:pt x="319" y="0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60120" y="5890320"/>
              <a:ext cx="218520" cy="65520"/>
            </a:xfrm>
            <a:custGeom>
              <a:avLst/>
              <a:gdLst/>
              <a:ahLst/>
              <a:rect l="l" t="t" r="r" b="b"/>
              <a:pathLst>
                <a:path w="426" h="127">
                  <a:moveTo>
                    <a:pt x="8" y="94"/>
                  </a:moveTo>
                  <a:lnTo>
                    <a:pt x="26" y="92"/>
                  </a:lnTo>
                  <a:lnTo>
                    <a:pt x="46" y="89"/>
                  </a:lnTo>
                  <a:lnTo>
                    <a:pt x="65" y="83"/>
                  </a:lnTo>
                  <a:lnTo>
                    <a:pt x="85" y="76"/>
                  </a:lnTo>
                  <a:lnTo>
                    <a:pt x="102" y="69"/>
                  </a:lnTo>
                  <a:lnTo>
                    <a:pt x="116" y="61"/>
                  </a:lnTo>
                  <a:lnTo>
                    <a:pt x="125" y="54"/>
                  </a:lnTo>
                  <a:lnTo>
                    <a:pt x="130" y="46"/>
                  </a:lnTo>
                  <a:lnTo>
                    <a:pt x="135" y="36"/>
                  </a:lnTo>
                  <a:lnTo>
                    <a:pt x="140" y="32"/>
                  </a:lnTo>
                  <a:lnTo>
                    <a:pt x="146" y="34"/>
                  </a:lnTo>
                  <a:lnTo>
                    <a:pt x="151" y="43"/>
                  </a:lnTo>
                  <a:lnTo>
                    <a:pt x="153" y="53"/>
                  </a:lnTo>
                  <a:lnTo>
                    <a:pt x="152" y="66"/>
                  </a:lnTo>
                  <a:lnTo>
                    <a:pt x="148" y="77"/>
                  </a:lnTo>
                  <a:lnTo>
                    <a:pt x="148" y="90"/>
                  </a:lnTo>
                  <a:lnTo>
                    <a:pt x="149" y="95"/>
                  </a:lnTo>
                  <a:lnTo>
                    <a:pt x="153" y="104"/>
                  </a:lnTo>
                  <a:lnTo>
                    <a:pt x="156" y="110"/>
                  </a:lnTo>
                  <a:lnTo>
                    <a:pt x="161" y="116"/>
                  </a:lnTo>
                  <a:lnTo>
                    <a:pt x="168" y="121"/>
                  </a:lnTo>
                  <a:lnTo>
                    <a:pt x="175" y="123"/>
                  </a:lnTo>
                  <a:lnTo>
                    <a:pt x="184" y="122"/>
                  </a:lnTo>
                  <a:lnTo>
                    <a:pt x="194" y="116"/>
                  </a:lnTo>
                  <a:lnTo>
                    <a:pt x="205" y="109"/>
                  </a:lnTo>
                  <a:lnTo>
                    <a:pt x="216" y="102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49" y="92"/>
                  </a:lnTo>
                  <a:lnTo>
                    <a:pt x="258" y="92"/>
                  </a:lnTo>
                  <a:lnTo>
                    <a:pt x="265" y="94"/>
                  </a:lnTo>
                  <a:lnTo>
                    <a:pt x="269" y="99"/>
                  </a:lnTo>
                  <a:lnTo>
                    <a:pt x="274" y="109"/>
                  </a:lnTo>
                  <a:lnTo>
                    <a:pt x="277" y="119"/>
                  </a:lnTo>
                  <a:lnTo>
                    <a:pt x="281" y="124"/>
                  </a:lnTo>
                  <a:lnTo>
                    <a:pt x="291" y="127"/>
                  </a:lnTo>
                  <a:lnTo>
                    <a:pt x="298" y="125"/>
                  </a:lnTo>
                  <a:lnTo>
                    <a:pt x="305" y="122"/>
                  </a:lnTo>
                  <a:lnTo>
                    <a:pt x="311" y="116"/>
                  </a:lnTo>
                  <a:lnTo>
                    <a:pt x="317" y="112"/>
                  </a:lnTo>
                  <a:lnTo>
                    <a:pt x="321" y="107"/>
                  </a:lnTo>
                  <a:lnTo>
                    <a:pt x="326" y="105"/>
                  </a:lnTo>
                  <a:lnTo>
                    <a:pt x="329" y="106"/>
                  </a:lnTo>
                  <a:lnTo>
                    <a:pt x="333" y="112"/>
                  </a:lnTo>
                  <a:lnTo>
                    <a:pt x="337" y="115"/>
                  </a:lnTo>
                  <a:lnTo>
                    <a:pt x="346" y="114"/>
                  </a:lnTo>
                  <a:lnTo>
                    <a:pt x="359" y="110"/>
                  </a:lnTo>
                  <a:lnTo>
                    <a:pt x="373" y="105"/>
                  </a:lnTo>
                  <a:lnTo>
                    <a:pt x="386" y="98"/>
                  </a:lnTo>
                  <a:lnTo>
                    <a:pt x="398" y="92"/>
                  </a:lnTo>
                  <a:lnTo>
                    <a:pt x="408" y="89"/>
                  </a:lnTo>
                  <a:lnTo>
                    <a:pt x="412" y="89"/>
                  </a:lnTo>
                  <a:lnTo>
                    <a:pt x="417" y="91"/>
                  </a:lnTo>
                  <a:lnTo>
                    <a:pt x="423" y="92"/>
                  </a:lnTo>
                  <a:lnTo>
                    <a:pt x="426" y="91"/>
                  </a:lnTo>
                  <a:lnTo>
                    <a:pt x="426" y="84"/>
                  </a:lnTo>
                  <a:lnTo>
                    <a:pt x="423" y="76"/>
                  </a:lnTo>
                  <a:lnTo>
                    <a:pt x="418" y="69"/>
                  </a:lnTo>
                  <a:lnTo>
                    <a:pt x="410" y="64"/>
                  </a:lnTo>
                  <a:lnTo>
                    <a:pt x="395" y="62"/>
                  </a:lnTo>
                  <a:lnTo>
                    <a:pt x="386" y="61"/>
                  </a:lnTo>
                  <a:lnTo>
                    <a:pt x="374" y="62"/>
                  </a:lnTo>
                  <a:lnTo>
                    <a:pt x="364" y="62"/>
                  </a:lnTo>
                  <a:lnTo>
                    <a:pt x="352" y="64"/>
                  </a:lnTo>
                  <a:lnTo>
                    <a:pt x="342" y="66"/>
                  </a:lnTo>
                  <a:lnTo>
                    <a:pt x="332" y="67"/>
                  </a:lnTo>
                  <a:lnTo>
                    <a:pt x="323" y="67"/>
                  </a:lnTo>
                  <a:lnTo>
                    <a:pt x="317" y="67"/>
                  </a:lnTo>
                  <a:lnTo>
                    <a:pt x="308" y="64"/>
                  </a:lnTo>
                  <a:lnTo>
                    <a:pt x="304" y="57"/>
                  </a:lnTo>
                  <a:lnTo>
                    <a:pt x="302" y="48"/>
                  </a:lnTo>
                  <a:lnTo>
                    <a:pt x="302" y="37"/>
                  </a:lnTo>
                  <a:lnTo>
                    <a:pt x="300" y="28"/>
                  </a:lnTo>
                  <a:lnTo>
                    <a:pt x="295" y="23"/>
                  </a:lnTo>
                  <a:lnTo>
                    <a:pt x="285" y="21"/>
                  </a:lnTo>
                  <a:lnTo>
                    <a:pt x="275" y="22"/>
                  </a:lnTo>
                  <a:lnTo>
                    <a:pt x="262" y="24"/>
                  </a:lnTo>
                  <a:lnTo>
                    <a:pt x="251" y="28"/>
                  </a:lnTo>
                  <a:lnTo>
                    <a:pt x="239" y="32"/>
                  </a:lnTo>
                  <a:lnTo>
                    <a:pt x="231" y="36"/>
                  </a:lnTo>
                  <a:lnTo>
                    <a:pt x="219" y="41"/>
                  </a:lnTo>
                  <a:lnTo>
                    <a:pt x="211" y="47"/>
                  </a:lnTo>
                  <a:lnTo>
                    <a:pt x="206" y="52"/>
                  </a:lnTo>
                  <a:lnTo>
                    <a:pt x="205" y="53"/>
                  </a:lnTo>
                  <a:lnTo>
                    <a:pt x="204" y="53"/>
                  </a:lnTo>
                  <a:lnTo>
                    <a:pt x="200" y="52"/>
                  </a:lnTo>
                  <a:lnTo>
                    <a:pt x="199" y="47"/>
                  </a:lnTo>
                  <a:lnTo>
                    <a:pt x="201" y="34"/>
                  </a:lnTo>
                  <a:lnTo>
                    <a:pt x="202" y="26"/>
                  </a:lnTo>
                  <a:lnTo>
                    <a:pt x="200" y="19"/>
                  </a:lnTo>
                  <a:lnTo>
                    <a:pt x="194" y="14"/>
                  </a:lnTo>
                  <a:lnTo>
                    <a:pt x="188" y="8"/>
                  </a:lnTo>
                  <a:lnTo>
                    <a:pt x="179" y="4"/>
                  </a:lnTo>
                  <a:lnTo>
                    <a:pt x="173" y="2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7" y="1"/>
                  </a:lnTo>
                  <a:lnTo>
                    <a:pt x="128" y="2"/>
                  </a:lnTo>
                  <a:lnTo>
                    <a:pt x="120" y="3"/>
                  </a:lnTo>
                  <a:lnTo>
                    <a:pt x="111" y="7"/>
                  </a:lnTo>
                  <a:lnTo>
                    <a:pt x="101" y="13"/>
                  </a:lnTo>
                  <a:lnTo>
                    <a:pt x="86" y="23"/>
                  </a:lnTo>
                  <a:lnTo>
                    <a:pt x="68" y="36"/>
                  </a:lnTo>
                  <a:lnTo>
                    <a:pt x="49" y="49"/>
                  </a:lnTo>
                  <a:lnTo>
                    <a:pt x="31" y="62"/>
                  </a:lnTo>
                  <a:lnTo>
                    <a:pt x="16" y="74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5" y="94"/>
                  </a:lnTo>
                  <a:lnTo>
                    <a:pt x="8" y="94"/>
                  </a:lnTo>
                  <a:lnTo>
                    <a:pt x="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9480" y="5971320"/>
              <a:ext cx="162000" cy="51120"/>
            </a:xfrm>
            <a:custGeom>
              <a:avLst/>
              <a:gdLst/>
              <a:ahLst/>
              <a:rect l="l" t="t" r="r" b="b"/>
              <a:pathLst>
                <a:path w="317" h="101">
                  <a:moveTo>
                    <a:pt x="8" y="51"/>
                  </a:moveTo>
                  <a:lnTo>
                    <a:pt x="12" y="50"/>
                  </a:lnTo>
                  <a:lnTo>
                    <a:pt x="17" y="48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7" y="38"/>
                  </a:lnTo>
                  <a:lnTo>
                    <a:pt x="44" y="35"/>
                  </a:lnTo>
                  <a:lnTo>
                    <a:pt x="50" y="34"/>
                  </a:lnTo>
                  <a:lnTo>
                    <a:pt x="54" y="34"/>
                  </a:lnTo>
                  <a:lnTo>
                    <a:pt x="59" y="38"/>
                  </a:lnTo>
                  <a:lnTo>
                    <a:pt x="56" y="44"/>
                  </a:lnTo>
                  <a:lnTo>
                    <a:pt x="54" y="56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63" y="82"/>
                  </a:lnTo>
                  <a:lnTo>
                    <a:pt x="68" y="87"/>
                  </a:lnTo>
                  <a:lnTo>
                    <a:pt x="75" y="89"/>
                  </a:lnTo>
                  <a:lnTo>
                    <a:pt x="81" y="92"/>
                  </a:lnTo>
                  <a:lnTo>
                    <a:pt x="89" y="92"/>
                  </a:lnTo>
                  <a:lnTo>
                    <a:pt x="96" y="91"/>
                  </a:lnTo>
                  <a:lnTo>
                    <a:pt x="104" y="88"/>
                  </a:lnTo>
                  <a:lnTo>
                    <a:pt x="113" y="85"/>
                  </a:lnTo>
                  <a:lnTo>
                    <a:pt x="127" y="80"/>
                  </a:lnTo>
                  <a:lnTo>
                    <a:pt x="141" y="74"/>
                  </a:lnTo>
                  <a:lnTo>
                    <a:pt x="157" y="70"/>
                  </a:lnTo>
                  <a:lnTo>
                    <a:pt x="172" y="67"/>
                  </a:lnTo>
                  <a:lnTo>
                    <a:pt x="185" y="66"/>
                  </a:lnTo>
                  <a:lnTo>
                    <a:pt x="197" y="69"/>
                  </a:lnTo>
                  <a:lnTo>
                    <a:pt x="205" y="76"/>
                  </a:lnTo>
                  <a:lnTo>
                    <a:pt x="212" y="84"/>
                  </a:lnTo>
                  <a:lnTo>
                    <a:pt x="220" y="91"/>
                  </a:lnTo>
                  <a:lnTo>
                    <a:pt x="228" y="95"/>
                  </a:lnTo>
                  <a:lnTo>
                    <a:pt x="237" y="99"/>
                  </a:lnTo>
                  <a:lnTo>
                    <a:pt x="248" y="101"/>
                  </a:lnTo>
                  <a:lnTo>
                    <a:pt x="258" y="101"/>
                  </a:lnTo>
                  <a:lnTo>
                    <a:pt x="268" y="101"/>
                  </a:lnTo>
                  <a:lnTo>
                    <a:pt x="279" y="99"/>
                  </a:lnTo>
                  <a:lnTo>
                    <a:pt x="289" y="96"/>
                  </a:lnTo>
                  <a:lnTo>
                    <a:pt x="298" y="93"/>
                  </a:lnTo>
                  <a:lnTo>
                    <a:pt x="308" y="89"/>
                  </a:lnTo>
                  <a:lnTo>
                    <a:pt x="313" y="85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3" y="74"/>
                  </a:lnTo>
                  <a:lnTo>
                    <a:pt x="304" y="71"/>
                  </a:lnTo>
                  <a:lnTo>
                    <a:pt x="289" y="67"/>
                  </a:lnTo>
                  <a:lnTo>
                    <a:pt x="285" y="65"/>
                  </a:lnTo>
                  <a:lnTo>
                    <a:pt x="282" y="59"/>
                  </a:lnTo>
                  <a:lnTo>
                    <a:pt x="275" y="44"/>
                  </a:lnTo>
                  <a:lnTo>
                    <a:pt x="259" y="26"/>
                  </a:lnTo>
                  <a:lnTo>
                    <a:pt x="237" y="18"/>
                  </a:lnTo>
                  <a:lnTo>
                    <a:pt x="214" y="19"/>
                  </a:lnTo>
                  <a:lnTo>
                    <a:pt x="190" y="24"/>
                  </a:lnTo>
                  <a:lnTo>
                    <a:pt x="168" y="31"/>
                  </a:lnTo>
                  <a:lnTo>
                    <a:pt x="151" y="36"/>
                  </a:lnTo>
                  <a:lnTo>
                    <a:pt x="141" y="39"/>
                  </a:lnTo>
                  <a:lnTo>
                    <a:pt x="138" y="34"/>
                  </a:lnTo>
                  <a:lnTo>
                    <a:pt x="142" y="21"/>
                  </a:lnTo>
                  <a:lnTo>
                    <a:pt x="139" y="15"/>
                  </a:lnTo>
                  <a:lnTo>
                    <a:pt x="134" y="12"/>
                  </a:lnTo>
                  <a:lnTo>
                    <a:pt x="124" y="15"/>
                  </a:lnTo>
                  <a:lnTo>
                    <a:pt x="114" y="19"/>
                  </a:lnTo>
                  <a:lnTo>
                    <a:pt x="105" y="25"/>
                  </a:lnTo>
                  <a:lnTo>
                    <a:pt x="96" y="31"/>
                  </a:lnTo>
                  <a:lnTo>
                    <a:pt x="90" y="35"/>
                  </a:lnTo>
                  <a:lnTo>
                    <a:pt x="83" y="36"/>
                  </a:lnTo>
                  <a:lnTo>
                    <a:pt x="79" y="31"/>
                  </a:lnTo>
                  <a:lnTo>
                    <a:pt x="79" y="20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4" y="10"/>
                  </a:lnTo>
                  <a:lnTo>
                    <a:pt x="35" y="16"/>
                  </a:lnTo>
                  <a:lnTo>
                    <a:pt x="24" y="21"/>
                  </a:lnTo>
                  <a:lnTo>
                    <a:pt x="15" y="28"/>
                  </a:lnTo>
                  <a:lnTo>
                    <a:pt x="7" y="35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22160" y="6077160"/>
              <a:ext cx="232920" cy="93240"/>
            </a:xfrm>
            <a:custGeom>
              <a:avLst/>
              <a:gdLst/>
              <a:ahLst/>
              <a:rect l="l" t="t" r="r" b="b"/>
              <a:pathLst>
                <a:path w="454" h="181">
                  <a:moveTo>
                    <a:pt x="14" y="178"/>
                  </a:moveTo>
                  <a:lnTo>
                    <a:pt x="34" y="160"/>
                  </a:lnTo>
                  <a:lnTo>
                    <a:pt x="56" y="143"/>
                  </a:lnTo>
                  <a:lnTo>
                    <a:pt x="79" y="127"/>
                  </a:lnTo>
                  <a:lnTo>
                    <a:pt x="103" y="110"/>
                  </a:lnTo>
                  <a:lnTo>
                    <a:pt x="128" y="98"/>
                  </a:lnTo>
                  <a:lnTo>
                    <a:pt x="155" y="86"/>
                  </a:lnTo>
                  <a:lnTo>
                    <a:pt x="181" y="76"/>
                  </a:lnTo>
                  <a:lnTo>
                    <a:pt x="208" y="69"/>
                  </a:lnTo>
                  <a:lnTo>
                    <a:pt x="235" y="64"/>
                  </a:lnTo>
                  <a:lnTo>
                    <a:pt x="262" y="62"/>
                  </a:lnTo>
                  <a:lnTo>
                    <a:pt x="289" y="62"/>
                  </a:lnTo>
                  <a:lnTo>
                    <a:pt x="316" y="67"/>
                  </a:lnTo>
                  <a:lnTo>
                    <a:pt x="341" y="74"/>
                  </a:lnTo>
                  <a:lnTo>
                    <a:pt x="367" y="85"/>
                  </a:lnTo>
                  <a:lnTo>
                    <a:pt x="391" y="100"/>
                  </a:lnTo>
                  <a:lnTo>
                    <a:pt x="414" y="120"/>
                  </a:lnTo>
                  <a:lnTo>
                    <a:pt x="421" y="125"/>
                  </a:lnTo>
                  <a:lnTo>
                    <a:pt x="429" y="128"/>
                  </a:lnTo>
                  <a:lnTo>
                    <a:pt x="437" y="127"/>
                  </a:lnTo>
                  <a:lnTo>
                    <a:pt x="445" y="123"/>
                  </a:lnTo>
                  <a:lnTo>
                    <a:pt x="451" y="116"/>
                  </a:lnTo>
                  <a:lnTo>
                    <a:pt x="454" y="107"/>
                  </a:lnTo>
                  <a:lnTo>
                    <a:pt x="453" y="99"/>
                  </a:lnTo>
                  <a:lnTo>
                    <a:pt x="448" y="91"/>
                  </a:lnTo>
                  <a:lnTo>
                    <a:pt x="438" y="72"/>
                  </a:lnTo>
                  <a:lnTo>
                    <a:pt x="427" y="57"/>
                  </a:lnTo>
                  <a:lnTo>
                    <a:pt x="412" y="44"/>
                  </a:lnTo>
                  <a:lnTo>
                    <a:pt x="395" y="32"/>
                  </a:lnTo>
                  <a:lnTo>
                    <a:pt x="378" y="22"/>
                  </a:lnTo>
                  <a:lnTo>
                    <a:pt x="360" y="15"/>
                  </a:lnTo>
                  <a:lnTo>
                    <a:pt x="341" y="9"/>
                  </a:lnTo>
                  <a:lnTo>
                    <a:pt x="322" y="6"/>
                  </a:lnTo>
                  <a:lnTo>
                    <a:pt x="302" y="2"/>
                  </a:lnTo>
                  <a:lnTo>
                    <a:pt x="284" y="1"/>
                  </a:lnTo>
                  <a:lnTo>
                    <a:pt x="264" y="0"/>
                  </a:lnTo>
                  <a:lnTo>
                    <a:pt x="245" y="0"/>
                  </a:lnTo>
                  <a:lnTo>
                    <a:pt x="225" y="2"/>
                  </a:lnTo>
                  <a:lnTo>
                    <a:pt x="207" y="6"/>
                  </a:lnTo>
                  <a:lnTo>
                    <a:pt x="187" y="11"/>
                  </a:lnTo>
                  <a:lnTo>
                    <a:pt x="169" y="18"/>
                  </a:lnTo>
                  <a:lnTo>
                    <a:pt x="143" y="29"/>
                  </a:lnTo>
                  <a:lnTo>
                    <a:pt x="119" y="41"/>
                  </a:lnTo>
                  <a:lnTo>
                    <a:pt x="95" y="55"/>
                  </a:lnTo>
                  <a:lnTo>
                    <a:pt x="72" y="70"/>
                  </a:lnTo>
                  <a:lnTo>
                    <a:pt x="51" y="87"/>
                  </a:lnTo>
                  <a:lnTo>
                    <a:pt x="31" y="108"/>
                  </a:lnTo>
                  <a:lnTo>
                    <a:pt x="15" y="130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4" y="169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6"/>
                  </a:lnTo>
                  <a:lnTo>
                    <a:pt x="5" y="177"/>
                  </a:lnTo>
                  <a:lnTo>
                    <a:pt x="6" y="180"/>
                  </a:lnTo>
                  <a:lnTo>
                    <a:pt x="7" y="181"/>
                  </a:lnTo>
                  <a:lnTo>
                    <a:pt x="10" y="181"/>
                  </a:lnTo>
                  <a:lnTo>
                    <a:pt x="11" y="181"/>
                  </a:lnTo>
                  <a:lnTo>
                    <a:pt x="13" y="180"/>
                  </a:lnTo>
                  <a:lnTo>
                    <a:pt x="14" y="178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8600" y="6141960"/>
              <a:ext cx="1410120" cy="128160"/>
            </a:xfrm>
            <a:custGeom>
              <a:avLst/>
              <a:gdLst/>
              <a:ahLst/>
              <a:rect l="l" t="t" r="r" b="b"/>
              <a:pathLst>
                <a:path w="2749" h="251">
                  <a:moveTo>
                    <a:pt x="4" y="205"/>
                  </a:moveTo>
                  <a:lnTo>
                    <a:pt x="22" y="215"/>
                  </a:lnTo>
                  <a:lnTo>
                    <a:pt x="39" y="223"/>
                  </a:lnTo>
                  <a:lnTo>
                    <a:pt x="58" y="232"/>
                  </a:lnTo>
                  <a:lnTo>
                    <a:pt x="76" y="240"/>
                  </a:lnTo>
                  <a:lnTo>
                    <a:pt x="96" y="247"/>
                  </a:lnTo>
                  <a:lnTo>
                    <a:pt x="117" y="250"/>
                  </a:lnTo>
                  <a:lnTo>
                    <a:pt x="138" y="251"/>
                  </a:lnTo>
                  <a:lnTo>
                    <a:pt x="163" y="248"/>
                  </a:lnTo>
                  <a:lnTo>
                    <a:pt x="210" y="238"/>
                  </a:lnTo>
                  <a:lnTo>
                    <a:pt x="257" y="227"/>
                  </a:lnTo>
                  <a:lnTo>
                    <a:pt x="303" y="216"/>
                  </a:lnTo>
                  <a:lnTo>
                    <a:pt x="349" y="204"/>
                  </a:lnTo>
                  <a:lnTo>
                    <a:pt x="394" y="193"/>
                  </a:lnTo>
                  <a:lnTo>
                    <a:pt x="439" y="180"/>
                  </a:lnTo>
                  <a:lnTo>
                    <a:pt x="484" y="167"/>
                  </a:lnTo>
                  <a:lnTo>
                    <a:pt x="528" y="156"/>
                  </a:lnTo>
                  <a:lnTo>
                    <a:pt x="573" y="143"/>
                  </a:lnTo>
                  <a:lnTo>
                    <a:pt x="618" y="130"/>
                  </a:lnTo>
                  <a:lnTo>
                    <a:pt x="662" y="119"/>
                  </a:lnTo>
                  <a:lnTo>
                    <a:pt x="708" y="106"/>
                  </a:lnTo>
                  <a:lnTo>
                    <a:pt x="753" y="95"/>
                  </a:lnTo>
                  <a:lnTo>
                    <a:pt x="799" y="84"/>
                  </a:lnTo>
                  <a:lnTo>
                    <a:pt x="846" y="74"/>
                  </a:lnTo>
                  <a:lnTo>
                    <a:pt x="893" y="64"/>
                  </a:lnTo>
                  <a:lnTo>
                    <a:pt x="915" y="59"/>
                  </a:lnTo>
                  <a:lnTo>
                    <a:pt x="936" y="57"/>
                  </a:lnTo>
                  <a:lnTo>
                    <a:pt x="958" y="56"/>
                  </a:lnTo>
                  <a:lnTo>
                    <a:pt x="979" y="57"/>
                  </a:lnTo>
                  <a:lnTo>
                    <a:pt x="1000" y="59"/>
                  </a:lnTo>
                  <a:lnTo>
                    <a:pt x="1022" y="62"/>
                  </a:lnTo>
                  <a:lnTo>
                    <a:pt x="1043" y="69"/>
                  </a:lnTo>
                  <a:lnTo>
                    <a:pt x="1064" y="77"/>
                  </a:lnTo>
                  <a:lnTo>
                    <a:pt x="1081" y="89"/>
                  </a:lnTo>
                  <a:lnTo>
                    <a:pt x="1095" y="104"/>
                  </a:lnTo>
                  <a:lnTo>
                    <a:pt x="1106" y="121"/>
                  </a:lnTo>
                  <a:lnTo>
                    <a:pt x="1115" y="140"/>
                  </a:lnTo>
                  <a:lnTo>
                    <a:pt x="1125" y="159"/>
                  </a:lnTo>
                  <a:lnTo>
                    <a:pt x="1135" y="176"/>
                  </a:lnTo>
                  <a:lnTo>
                    <a:pt x="1148" y="191"/>
                  </a:lnTo>
                  <a:lnTo>
                    <a:pt x="1165" y="203"/>
                  </a:lnTo>
                  <a:lnTo>
                    <a:pt x="1209" y="220"/>
                  </a:lnTo>
                  <a:lnTo>
                    <a:pt x="1255" y="232"/>
                  </a:lnTo>
                  <a:lnTo>
                    <a:pt x="1303" y="239"/>
                  </a:lnTo>
                  <a:lnTo>
                    <a:pt x="1354" y="241"/>
                  </a:lnTo>
                  <a:lnTo>
                    <a:pt x="1406" y="239"/>
                  </a:lnTo>
                  <a:lnTo>
                    <a:pt x="1458" y="233"/>
                  </a:lnTo>
                  <a:lnTo>
                    <a:pt x="1508" y="225"/>
                  </a:lnTo>
                  <a:lnTo>
                    <a:pt x="1559" y="215"/>
                  </a:lnTo>
                  <a:lnTo>
                    <a:pt x="1607" y="203"/>
                  </a:lnTo>
                  <a:lnTo>
                    <a:pt x="1653" y="190"/>
                  </a:lnTo>
                  <a:lnTo>
                    <a:pt x="1696" y="178"/>
                  </a:lnTo>
                  <a:lnTo>
                    <a:pt x="1735" y="165"/>
                  </a:lnTo>
                  <a:lnTo>
                    <a:pt x="1770" y="153"/>
                  </a:lnTo>
                  <a:lnTo>
                    <a:pt x="1799" y="144"/>
                  </a:lnTo>
                  <a:lnTo>
                    <a:pt x="1822" y="137"/>
                  </a:lnTo>
                  <a:lnTo>
                    <a:pt x="1838" y="133"/>
                  </a:lnTo>
                  <a:lnTo>
                    <a:pt x="1860" y="129"/>
                  </a:lnTo>
                  <a:lnTo>
                    <a:pt x="1877" y="130"/>
                  </a:lnTo>
                  <a:lnTo>
                    <a:pt x="1890" y="135"/>
                  </a:lnTo>
                  <a:lnTo>
                    <a:pt x="1900" y="143"/>
                  </a:lnTo>
                  <a:lnTo>
                    <a:pt x="1908" y="152"/>
                  </a:lnTo>
                  <a:lnTo>
                    <a:pt x="1917" y="163"/>
                  </a:lnTo>
                  <a:lnTo>
                    <a:pt x="1928" y="173"/>
                  </a:lnTo>
                  <a:lnTo>
                    <a:pt x="1940" y="183"/>
                  </a:lnTo>
                  <a:lnTo>
                    <a:pt x="1956" y="191"/>
                  </a:lnTo>
                  <a:lnTo>
                    <a:pt x="1975" y="197"/>
                  </a:lnTo>
                  <a:lnTo>
                    <a:pt x="1996" y="203"/>
                  </a:lnTo>
                  <a:lnTo>
                    <a:pt x="2017" y="209"/>
                  </a:lnTo>
                  <a:lnTo>
                    <a:pt x="2042" y="213"/>
                  </a:lnTo>
                  <a:lnTo>
                    <a:pt x="2067" y="217"/>
                  </a:lnTo>
                  <a:lnTo>
                    <a:pt x="2093" y="220"/>
                  </a:lnTo>
                  <a:lnTo>
                    <a:pt x="2122" y="223"/>
                  </a:lnTo>
                  <a:lnTo>
                    <a:pt x="2151" y="224"/>
                  </a:lnTo>
                  <a:lnTo>
                    <a:pt x="2181" y="225"/>
                  </a:lnTo>
                  <a:lnTo>
                    <a:pt x="2211" y="226"/>
                  </a:lnTo>
                  <a:lnTo>
                    <a:pt x="2242" y="226"/>
                  </a:lnTo>
                  <a:lnTo>
                    <a:pt x="2274" y="226"/>
                  </a:lnTo>
                  <a:lnTo>
                    <a:pt x="2305" y="226"/>
                  </a:lnTo>
                  <a:lnTo>
                    <a:pt x="2338" y="225"/>
                  </a:lnTo>
                  <a:lnTo>
                    <a:pt x="2369" y="224"/>
                  </a:lnTo>
                  <a:lnTo>
                    <a:pt x="2400" y="221"/>
                  </a:lnTo>
                  <a:lnTo>
                    <a:pt x="2430" y="220"/>
                  </a:lnTo>
                  <a:lnTo>
                    <a:pt x="2460" y="218"/>
                  </a:lnTo>
                  <a:lnTo>
                    <a:pt x="2490" y="216"/>
                  </a:lnTo>
                  <a:lnTo>
                    <a:pt x="2517" y="215"/>
                  </a:lnTo>
                  <a:lnTo>
                    <a:pt x="2544" y="212"/>
                  </a:lnTo>
                  <a:lnTo>
                    <a:pt x="2569" y="210"/>
                  </a:lnTo>
                  <a:lnTo>
                    <a:pt x="2593" y="208"/>
                  </a:lnTo>
                  <a:lnTo>
                    <a:pt x="2615" y="205"/>
                  </a:lnTo>
                  <a:lnTo>
                    <a:pt x="2636" y="203"/>
                  </a:lnTo>
                  <a:lnTo>
                    <a:pt x="2655" y="201"/>
                  </a:lnTo>
                  <a:lnTo>
                    <a:pt x="2671" y="198"/>
                  </a:lnTo>
                  <a:lnTo>
                    <a:pt x="2684" y="196"/>
                  </a:lnTo>
                  <a:lnTo>
                    <a:pt x="2696" y="195"/>
                  </a:lnTo>
                  <a:lnTo>
                    <a:pt x="2704" y="194"/>
                  </a:lnTo>
                  <a:lnTo>
                    <a:pt x="2710" y="193"/>
                  </a:lnTo>
                  <a:lnTo>
                    <a:pt x="2718" y="191"/>
                  </a:lnTo>
                  <a:lnTo>
                    <a:pt x="2726" y="189"/>
                  </a:lnTo>
                  <a:lnTo>
                    <a:pt x="2733" y="185"/>
                  </a:lnTo>
                  <a:lnTo>
                    <a:pt x="2739" y="180"/>
                  </a:lnTo>
                  <a:lnTo>
                    <a:pt x="2743" y="173"/>
                  </a:lnTo>
                  <a:lnTo>
                    <a:pt x="2747" y="166"/>
                  </a:lnTo>
                  <a:lnTo>
                    <a:pt x="2748" y="158"/>
                  </a:lnTo>
                  <a:lnTo>
                    <a:pt x="2749" y="150"/>
                  </a:lnTo>
                  <a:lnTo>
                    <a:pt x="2748" y="142"/>
                  </a:lnTo>
                  <a:lnTo>
                    <a:pt x="2744" y="135"/>
                  </a:lnTo>
                  <a:lnTo>
                    <a:pt x="2740" y="128"/>
                  </a:lnTo>
                  <a:lnTo>
                    <a:pt x="2734" y="122"/>
                  </a:lnTo>
                  <a:lnTo>
                    <a:pt x="2728" y="118"/>
                  </a:lnTo>
                  <a:lnTo>
                    <a:pt x="2721" y="114"/>
                  </a:lnTo>
                  <a:lnTo>
                    <a:pt x="2713" y="113"/>
                  </a:lnTo>
                  <a:lnTo>
                    <a:pt x="2705" y="113"/>
                  </a:lnTo>
                  <a:lnTo>
                    <a:pt x="2659" y="111"/>
                  </a:lnTo>
                  <a:lnTo>
                    <a:pt x="2608" y="111"/>
                  </a:lnTo>
                  <a:lnTo>
                    <a:pt x="2554" y="112"/>
                  </a:lnTo>
                  <a:lnTo>
                    <a:pt x="2499" y="114"/>
                  </a:lnTo>
                  <a:lnTo>
                    <a:pt x="2443" y="118"/>
                  </a:lnTo>
                  <a:lnTo>
                    <a:pt x="2386" y="121"/>
                  </a:lnTo>
                  <a:lnTo>
                    <a:pt x="2330" y="125"/>
                  </a:lnTo>
                  <a:lnTo>
                    <a:pt x="2274" y="128"/>
                  </a:lnTo>
                  <a:lnTo>
                    <a:pt x="2221" y="132"/>
                  </a:lnTo>
                  <a:lnTo>
                    <a:pt x="2173" y="134"/>
                  </a:lnTo>
                  <a:lnTo>
                    <a:pt x="2128" y="134"/>
                  </a:lnTo>
                  <a:lnTo>
                    <a:pt x="2089" y="134"/>
                  </a:lnTo>
                  <a:lnTo>
                    <a:pt x="2054" y="130"/>
                  </a:lnTo>
                  <a:lnTo>
                    <a:pt x="2028" y="126"/>
                  </a:lnTo>
                  <a:lnTo>
                    <a:pt x="2009" y="118"/>
                  </a:lnTo>
                  <a:lnTo>
                    <a:pt x="1999" y="107"/>
                  </a:lnTo>
                  <a:lnTo>
                    <a:pt x="1986" y="86"/>
                  </a:lnTo>
                  <a:lnTo>
                    <a:pt x="1969" y="67"/>
                  </a:lnTo>
                  <a:lnTo>
                    <a:pt x="1948" y="54"/>
                  </a:lnTo>
                  <a:lnTo>
                    <a:pt x="1925" y="45"/>
                  </a:lnTo>
                  <a:lnTo>
                    <a:pt x="1900" y="39"/>
                  </a:lnTo>
                  <a:lnTo>
                    <a:pt x="1873" y="37"/>
                  </a:lnTo>
                  <a:lnTo>
                    <a:pt x="1846" y="38"/>
                  </a:lnTo>
                  <a:lnTo>
                    <a:pt x="1817" y="43"/>
                  </a:lnTo>
                  <a:lnTo>
                    <a:pt x="1787" y="49"/>
                  </a:lnTo>
                  <a:lnTo>
                    <a:pt x="1757" y="56"/>
                  </a:lnTo>
                  <a:lnTo>
                    <a:pt x="1728" y="62"/>
                  </a:lnTo>
                  <a:lnTo>
                    <a:pt x="1698" y="69"/>
                  </a:lnTo>
                  <a:lnTo>
                    <a:pt x="1671" y="76"/>
                  </a:lnTo>
                  <a:lnTo>
                    <a:pt x="1642" y="84"/>
                  </a:lnTo>
                  <a:lnTo>
                    <a:pt x="1613" y="91"/>
                  </a:lnTo>
                  <a:lnTo>
                    <a:pt x="1585" y="99"/>
                  </a:lnTo>
                  <a:lnTo>
                    <a:pt x="1557" y="107"/>
                  </a:lnTo>
                  <a:lnTo>
                    <a:pt x="1529" y="115"/>
                  </a:lnTo>
                  <a:lnTo>
                    <a:pt x="1501" y="122"/>
                  </a:lnTo>
                  <a:lnTo>
                    <a:pt x="1473" y="130"/>
                  </a:lnTo>
                  <a:lnTo>
                    <a:pt x="1444" y="138"/>
                  </a:lnTo>
                  <a:lnTo>
                    <a:pt x="1415" y="145"/>
                  </a:lnTo>
                  <a:lnTo>
                    <a:pt x="1386" y="153"/>
                  </a:lnTo>
                  <a:lnTo>
                    <a:pt x="1356" y="160"/>
                  </a:lnTo>
                  <a:lnTo>
                    <a:pt x="1337" y="164"/>
                  </a:lnTo>
                  <a:lnTo>
                    <a:pt x="1317" y="166"/>
                  </a:lnTo>
                  <a:lnTo>
                    <a:pt x="1300" y="165"/>
                  </a:lnTo>
                  <a:lnTo>
                    <a:pt x="1282" y="163"/>
                  </a:lnTo>
                  <a:lnTo>
                    <a:pt x="1266" y="158"/>
                  </a:lnTo>
                  <a:lnTo>
                    <a:pt x="1251" y="152"/>
                  </a:lnTo>
                  <a:lnTo>
                    <a:pt x="1236" y="145"/>
                  </a:lnTo>
                  <a:lnTo>
                    <a:pt x="1223" y="137"/>
                  </a:lnTo>
                  <a:lnTo>
                    <a:pt x="1209" y="127"/>
                  </a:lnTo>
                  <a:lnTo>
                    <a:pt x="1196" y="117"/>
                  </a:lnTo>
                  <a:lnTo>
                    <a:pt x="1183" y="105"/>
                  </a:lnTo>
                  <a:lnTo>
                    <a:pt x="1171" y="94"/>
                  </a:lnTo>
                  <a:lnTo>
                    <a:pt x="1158" y="81"/>
                  </a:lnTo>
                  <a:lnTo>
                    <a:pt x="1145" y="68"/>
                  </a:lnTo>
                  <a:lnTo>
                    <a:pt x="1133" y="56"/>
                  </a:lnTo>
                  <a:lnTo>
                    <a:pt x="1120" y="43"/>
                  </a:lnTo>
                  <a:lnTo>
                    <a:pt x="1108" y="33"/>
                  </a:lnTo>
                  <a:lnTo>
                    <a:pt x="1096" y="24"/>
                  </a:lnTo>
                  <a:lnTo>
                    <a:pt x="1082" y="16"/>
                  </a:lnTo>
                  <a:lnTo>
                    <a:pt x="1068" y="11"/>
                  </a:lnTo>
                  <a:lnTo>
                    <a:pt x="1054" y="7"/>
                  </a:lnTo>
                  <a:lnTo>
                    <a:pt x="1039" y="4"/>
                  </a:lnTo>
                  <a:lnTo>
                    <a:pt x="1023" y="1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976" y="0"/>
                  </a:lnTo>
                  <a:lnTo>
                    <a:pt x="960" y="3"/>
                  </a:lnTo>
                  <a:lnTo>
                    <a:pt x="944" y="4"/>
                  </a:lnTo>
                  <a:lnTo>
                    <a:pt x="928" y="6"/>
                  </a:lnTo>
                  <a:lnTo>
                    <a:pt x="911" y="9"/>
                  </a:lnTo>
                  <a:lnTo>
                    <a:pt x="895" y="13"/>
                  </a:lnTo>
                  <a:lnTo>
                    <a:pt x="880" y="16"/>
                  </a:lnTo>
                  <a:lnTo>
                    <a:pt x="834" y="28"/>
                  </a:lnTo>
                  <a:lnTo>
                    <a:pt x="788" y="41"/>
                  </a:lnTo>
                  <a:lnTo>
                    <a:pt x="742" y="54"/>
                  </a:lnTo>
                  <a:lnTo>
                    <a:pt x="697" y="67"/>
                  </a:lnTo>
                  <a:lnTo>
                    <a:pt x="653" y="81"/>
                  </a:lnTo>
                  <a:lnTo>
                    <a:pt x="609" y="96"/>
                  </a:lnTo>
                  <a:lnTo>
                    <a:pt x="565" y="110"/>
                  </a:lnTo>
                  <a:lnTo>
                    <a:pt x="520" y="124"/>
                  </a:lnTo>
                  <a:lnTo>
                    <a:pt x="476" y="138"/>
                  </a:lnTo>
                  <a:lnTo>
                    <a:pt x="431" y="152"/>
                  </a:lnTo>
                  <a:lnTo>
                    <a:pt x="387" y="166"/>
                  </a:lnTo>
                  <a:lnTo>
                    <a:pt x="342" y="180"/>
                  </a:lnTo>
                  <a:lnTo>
                    <a:pt x="297" y="193"/>
                  </a:lnTo>
                  <a:lnTo>
                    <a:pt x="251" y="205"/>
                  </a:lnTo>
                  <a:lnTo>
                    <a:pt x="205" y="218"/>
                  </a:lnTo>
                  <a:lnTo>
                    <a:pt x="158" y="229"/>
                  </a:lnTo>
                  <a:lnTo>
                    <a:pt x="137" y="233"/>
                  </a:lnTo>
                  <a:lnTo>
                    <a:pt x="118" y="233"/>
                  </a:lnTo>
                  <a:lnTo>
                    <a:pt x="99" y="231"/>
                  </a:lnTo>
                  <a:lnTo>
                    <a:pt x="80" y="226"/>
                  </a:lnTo>
                  <a:lnTo>
                    <a:pt x="61" y="220"/>
                  </a:lnTo>
                  <a:lnTo>
                    <a:pt x="43" y="213"/>
                  </a:lnTo>
                  <a:lnTo>
                    <a:pt x="26" y="205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5" y="196"/>
                  </a:lnTo>
                  <a:lnTo>
                    <a:pt x="4" y="196"/>
                  </a:lnTo>
                  <a:lnTo>
                    <a:pt x="3" y="198"/>
                  </a:lnTo>
                  <a:lnTo>
                    <a:pt x="1" y="200"/>
                  </a:lnTo>
                  <a:lnTo>
                    <a:pt x="0" y="201"/>
                  </a:lnTo>
                  <a:lnTo>
                    <a:pt x="1" y="203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4" y="20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0600" y="6328800"/>
              <a:ext cx="1135080" cy="155880"/>
            </a:xfrm>
            <a:custGeom>
              <a:avLst/>
              <a:gdLst/>
              <a:ahLst/>
              <a:rect l="l" t="t" r="r" b="b"/>
              <a:pathLst>
                <a:path w="2213" h="304">
                  <a:moveTo>
                    <a:pt x="3" y="182"/>
                  </a:moveTo>
                  <a:lnTo>
                    <a:pt x="21" y="190"/>
                  </a:lnTo>
                  <a:lnTo>
                    <a:pt x="39" y="196"/>
                  </a:lnTo>
                  <a:lnTo>
                    <a:pt x="58" y="202"/>
                  </a:lnTo>
                  <a:lnTo>
                    <a:pt x="76" y="206"/>
                  </a:lnTo>
                  <a:lnTo>
                    <a:pt x="95" y="210"/>
                  </a:lnTo>
                  <a:lnTo>
                    <a:pt x="114" y="212"/>
                  </a:lnTo>
                  <a:lnTo>
                    <a:pt x="134" y="213"/>
                  </a:lnTo>
                  <a:lnTo>
                    <a:pt x="152" y="214"/>
                  </a:lnTo>
                  <a:lnTo>
                    <a:pt x="172" y="216"/>
                  </a:lnTo>
                  <a:lnTo>
                    <a:pt x="192" y="216"/>
                  </a:lnTo>
                  <a:lnTo>
                    <a:pt x="211" y="214"/>
                  </a:lnTo>
                  <a:lnTo>
                    <a:pt x="231" y="214"/>
                  </a:lnTo>
                  <a:lnTo>
                    <a:pt x="250" y="213"/>
                  </a:lnTo>
                  <a:lnTo>
                    <a:pt x="269" y="212"/>
                  </a:lnTo>
                  <a:lnTo>
                    <a:pt x="288" y="210"/>
                  </a:lnTo>
                  <a:lnTo>
                    <a:pt x="308" y="209"/>
                  </a:lnTo>
                  <a:lnTo>
                    <a:pt x="338" y="206"/>
                  </a:lnTo>
                  <a:lnTo>
                    <a:pt x="368" y="204"/>
                  </a:lnTo>
                  <a:lnTo>
                    <a:pt x="399" y="201"/>
                  </a:lnTo>
                  <a:lnTo>
                    <a:pt x="429" y="197"/>
                  </a:lnTo>
                  <a:lnTo>
                    <a:pt x="461" y="194"/>
                  </a:lnTo>
                  <a:lnTo>
                    <a:pt x="492" y="190"/>
                  </a:lnTo>
                  <a:lnTo>
                    <a:pt x="523" y="186"/>
                  </a:lnTo>
                  <a:lnTo>
                    <a:pt x="556" y="181"/>
                  </a:lnTo>
                  <a:lnTo>
                    <a:pt x="587" y="176"/>
                  </a:lnTo>
                  <a:lnTo>
                    <a:pt x="619" y="172"/>
                  </a:lnTo>
                  <a:lnTo>
                    <a:pt x="650" y="166"/>
                  </a:lnTo>
                  <a:lnTo>
                    <a:pt x="681" y="162"/>
                  </a:lnTo>
                  <a:lnTo>
                    <a:pt x="711" y="156"/>
                  </a:lnTo>
                  <a:lnTo>
                    <a:pt x="742" y="151"/>
                  </a:lnTo>
                  <a:lnTo>
                    <a:pt x="771" y="145"/>
                  </a:lnTo>
                  <a:lnTo>
                    <a:pt x="801" y="141"/>
                  </a:lnTo>
                  <a:lnTo>
                    <a:pt x="829" y="135"/>
                  </a:lnTo>
                  <a:lnTo>
                    <a:pt x="857" y="129"/>
                  </a:lnTo>
                  <a:lnTo>
                    <a:pt x="884" y="125"/>
                  </a:lnTo>
                  <a:lnTo>
                    <a:pt x="910" y="120"/>
                  </a:lnTo>
                  <a:lnTo>
                    <a:pt x="935" y="114"/>
                  </a:lnTo>
                  <a:lnTo>
                    <a:pt x="959" y="110"/>
                  </a:lnTo>
                  <a:lnTo>
                    <a:pt x="982" y="105"/>
                  </a:lnTo>
                  <a:lnTo>
                    <a:pt x="1004" y="100"/>
                  </a:lnTo>
                  <a:lnTo>
                    <a:pt x="1023" y="97"/>
                  </a:lnTo>
                  <a:lnTo>
                    <a:pt x="1043" y="92"/>
                  </a:lnTo>
                  <a:lnTo>
                    <a:pt x="1060" y="89"/>
                  </a:lnTo>
                  <a:lnTo>
                    <a:pt x="1076" y="85"/>
                  </a:lnTo>
                  <a:lnTo>
                    <a:pt x="1090" y="83"/>
                  </a:lnTo>
                  <a:lnTo>
                    <a:pt x="1103" y="80"/>
                  </a:lnTo>
                  <a:lnTo>
                    <a:pt x="1113" y="79"/>
                  </a:lnTo>
                  <a:lnTo>
                    <a:pt x="1122" y="76"/>
                  </a:lnTo>
                  <a:lnTo>
                    <a:pt x="1151" y="71"/>
                  </a:lnTo>
                  <a:lnTo>
                    <a:pt x="1178" y="64"/>
                  </a:lnTo>
                  <a:lnTo>
                    <a:pt x="1202" y="59"/>
                  </a:lnTo>
                  <a:lnTo>
                    <a:pt x="1221" y="56"/>
                  </a:lnTo>
                  <a:lnTo>
                    <a:pt x="1239" y="54"/>
                  </a:lnTo>
                  <a:lnTo>
                    <a:pt x="1251" y="57"/>
                  </a:lnTo>
                  <a:lnTo>
                    <a:pt x="1261" y="62"/>
                  </a:lnTo>
                  <a:lnTo>
                    <a:pt x="1265" y="73"/>
                  </a:lnTo>
                  <a:lnTo>
                    <a:pt x="1269" y="89"/>
                  </a:lnTo>
                  <a:lnTo>
                    <a:pt x="1277" y="113"/>
                  </a:lnTo>
                  <a:lnTo>
                    <a:pt x="1288" y="140"/>
                  </a:lnTo>
                  <a:lnTo>
                    <a:pt x="1304" y="167"/>
                  </a:lnTo>
                  <a:lnTo>
                    <a:pt x="1327" y="195"/>
                  </a:lnTo>
                  <a:lnTo>
                    <a:pt x="1357" y="217"/>
                  </a:lnTo>
                  <a:lnTo>
                    <a:pt x="1395" y="233"/>
                  </a:lnTo>
                  <a:lnTo>
                    <a:pt x="1443" y="239"/>
                  </a:lnTo>
                  <a:lnTo>
                    <a:pt x="1488" y="238"/>
                  </a:lnTo>
                  <a:lnTo>
                    <a:pt x="1529" y="235"/>
                  </a:lnTo>
                  <a:lnTo>
                    <a:pt x="1571" y="232"/>
                  </a:lnTo>
                  <a:lnTo>
                    <a:pt x="1610" y="227"/>
                  </a:lnTo>
                  <a:lnTo>
                    <a:pt x="1649" y="223"/>
                  </a:lnTo>
                  <a:lnTo>
                    <a:pt x="1687" y="218"/>
                  </a:lnTo>
                  <a:lnTo>
                    <a:pt x="1726" y="214"/>
                  </a:lnTo>
                  <a:lnTo>
                    <a:pt x="1765" y="211"/>
                  </a:lnTo>
                  <a:lnTo>
                    <a:pt x="1806" y="211"/>
                  </a:lnTo>
                  <a:lnTo>
                    <a:pt x="1848" y="213"/>
                  </a:lnTo>
                  <a:lnTo>
                    <a:pt x="1892" y="218"/>
                  </a:lnTo>
                  <a:lnTo>
                    <a:pt x="1939" y="226"/>
                  </a:lnTo>
                  <a:lnTo>
                    <a:pt x="1989" y="238"/>
                  </a:lnTo>
                  <a:lnTo>
                    <a:pt x="2042" y="254"/>
                  </a:lnTo>
                  <a:lnTo>
                    <a:pt x="2099" y="276"/>
                  </a:lnTo>
                  <a:lnTo>
                    <a:pt x="2160" y="302"/>
                  </a:lnTo>
                  <a:lnTo>
                    <a:pt x="2168" y="304"/>
                  </a:lnTo>
                  <a:lnTo>
                    <a:pt x="2177" y="304"/>
                  </a:lnTo>
                  <a:lnTo>
                    <a:pt x="2185" y="303"/>
                  </a:lnTo>
                  <a:lnTo>
                    <a:pt x="2191" y="300"/>
                  </a:lnTo>
                  <a:lnTo>
                    <a:pt x="2198" y="294"/>
                  </a:lnTo>
                  <a:lnTo>
                    <a:pt x="2204" y="288"/>
                  </a:lnTo>
                  <a:lnTo>
                    <a:pt x="2209" y="281"/>
                  </a:lnTo>
                  <a:lnTo>
                    <a:pt x="2212" y="273"/>
                  </a:lnTo>
                  <a:lnTo>
                    <a:pt x="2213" y="265"/>
                  </a:lnTo>
                  <a:lnTo>
                    <a:pt x="2213" y="257"/>
                  </a:lnTo>
                  <a:lnTo>
                    <a:pt x="2211" y="249"/>
                  </a:lnTo>
                  <a:lnTo>
                    <a:pt x="2209" y="242"/>
                  </a:lnTo>
                  <a:lnTo>
                    <a:pt x="2204" y="235"/>
                  </a:lnTo>
                  <a:lnTo>
                    <a:pt x="2198" y="229"/>
                  </a:lnTo>
                  <a:lnTo>
                    <a:pt x="2191" y="226"/>
                  </a:lnTo>
                  <a:lnTo>
                    <a:pt x="2183" y="223"/>
                  </a:lnTo>
                  <a:lnTo>
                    <a:pt x="2140" y="204"/>
                  </a:lnTo>
                  <a:lnTo>
                    <a:pt x="2097" y="188"/>
                  </a:lnTo>
                  <a:lnTo>
                    <a:pt x="2053" y="174"/>
                  </a:lnTo>
                  <a:lnTo>
                    <a:pt x="2011" y="162"/>
                  </a:lnTo>
                  <a:lnTo>
                    <a:pt x="1967" y="151"/>
                  </a:lnTo>
                  <a:lnTo>
                    <a:pt x="1923" y="142"/>
                  </a:lnTo>
                  <a:lnTo>
                    <a:pt x="1879" y="135"/>
                  </a:lnTo>
                  <a:lnTo>
                    <a:pt x="1836" y="129"/>
                  </a:lnTo>
                  <a:lnTo>
                    <a:pt x="1791" y="127"/>
                  </a:lnTo>
                  <a:lnTo>
                    <a:pt x="1744" y="126"/>
                  </a:lnTo>
                  <a:lnTo>
                    <a:pt x="1698" y="127"/>
                  </a:lnTo>
                  <a:lnTo>
                    <a:pt x="1652" y="129"/>
                  </a:lnTo>
                  <a:lnTo>
                    <a:pt x="1605" y="134"/>
                  </a:lnTo>
                  <a:lnTo>
                    <a:pt x="1557" y="141"/>
                  </a:lnTo>
                  <a:lnTo>
                    <a:pt x="1507" y="150"/>
                  </a:lnTo>
                  <a:lnTo>
                    <a:pt x="1456" y="162"/>
                  </a:lnTo>
                  <a:lnTo>
                    <a:pt x="1446" y="163"/>
                  </a:lnTo>
                  <a:lnTo>
                    <a:pt x="1436" y="164"/>
                  </a:lnTo>
                  <a:lnTo>
                    <a:pt x="1425" y="164"/>
                  </a:lnTo>
                  <a:lnTo>
                    <a:pt x="1416" y="163"/>
                  </a:lnTo>
                  <a:lnTo>
                    <a:pt x="1406" y="160"/>
                  </a:lnTo>
                  <a:lnTo>
                    <a:pt x="1397" y="157"/>
                  </a:lnTo>
                  <a:lnTo>
                    <a:pt x="1389" y="152"/>
                  </a:lnTo>
                  <a:lnTo>
                    <a:pt x="1380" y="147"/>
                  </a:lnTo>
                  <a:lnTo>
                    <a:pt x="1362" y="126"/>
                  </a:lnTo>
                  <a:lnTo>
                    <a:pt x="1346" y="102"/>
                  </a:lnTo>
                  <a:lnTo>
                    <a:pt x="1333" y="76"/>
                  </a:lnTo>
                  <a:lnTo>
                    <a:pt x="1319" y="52"/>
                  </a:lnTo>
                  <a:lnTo>
                    <a:pt x="1304" y="30"/>
                  </a:lnTo>
                  <a:lnTo>
                    <a:pt x="1285" y="13"/>
                  </a:lnTo>
                  <a:lnTo>
                    <a:pt x="1258" y="3"/>
                  </a:lnTo>
                  <a:lnTo>
                    <a:pt x="1224" y="0"/>
                  </a:lnTo>
                  <a:lnTo>
                    <a:pt x="1186" y="4"/>
                  </a:lnTo>
                  <a:lnTo>
                    <a:pt x="1147" y="8"/>
                  </a:lnTo>
                  <a:lnTo>
                    <a:pt x="1109" y="14"/>
                  </a:lnTo>
                  <a:lnTo>
                    <a:pt x="1071" y="20"/>
                  </a:lnTo>
                  <a:lnTo>
                    <a:pt x="1033" y="27"/>
                  </a:lnTo>
                  <a:lnTo>
                    <a:pt x="995" y="34"/>
                  </a:lnTo>
                  <a:lnTo>
                    <a:pt x="956" y="42"/>
                  </a:lnTo>
                  <a:lnTo>
                    <a:pt x="918" y="51"/>
                  </a:lnTo>
                  <a:lnTo>
                    <a:pt x="880" y="60"/>
                  </a:lnTo>
                  <a:lnTo>
                    <a:pt x="844" y="68"/>
                  </a:lnTo>
                  <a:lnTo>
                    <a:pt x="806" y="79"/>
                  </a:lnTo>
                  <a:lnTo>
                    <a:pt x="768" y="88"/>
                  </a:lnTo>
                  <a:lnTo>
                    <a:pt x="730" y="97"/>
                  </a:lnTo>
                  <a:lnTo>
                    <a:pt x="693" y="106"/>
                  </a:lnTo>
                  <a:lnTo>
                    <a:pt x="655" y="115"/>
                  </a:lnTo>
                  <a:lnTo>
                    <a:pt x="617" y="125"/>
                  </a:lnTo>
                  <a:lnTo>
                    <a:pt x="579" y="134"/>
                  </a:lnTo>
                  <a:lnTo>
                    <a:pt x="542" y="142"/>
                  </a:lnTo>
                  <a:lnTo>
                    <a:pt x="504" y="150"/>
                  </a:lnTo>
                  <a:lnTo>
                    <a:pt x="466" y="158"/>
                  </a:lnTo>
                  <a:lnTo>
                    <a:pt x="428" y="165"/>
                  </a:lnTo>
                  <a:lnTo>
                    <a:pt x="390" y="171"/>
                  </a:lnTo>
                  <a:lnTo>
                    <a:pt x="352" y="175"/>
                  </a:lnTo>
                  <a:lnTo>
                    <a:pt x="314" y="180"/>
                  </a:lnTo>
                  <a:lnTo>
                    <a:pt x="276" y="183"/>
                  </a:lnTo>
                  <a:lnTo>
                    <a:pt x="238" y="186"/>
                  </a:lnTo>
                  <a:lnTo>
                    <a:pt x="200" y="187"/>
                  </a:lnTo>
                  <a:lnTo>
                    <a:pt x="162" y="187"/>
                  </a:lnTo>
                  <a:lnTo>
                    <a:pt x="124" y="186"/>
                  </a:lnTo>
                  <a:lnTo>
                    <a:pt x="84" y="183"/>
                  </a:lnTo>
                  <a:lnTo>
                    <a:pt x="46" y="179"/>
                  </a:lnTo>
                  <a:lnTo>
                    <a:pt x="7" y="173"/>
                  </a:lnTo>
                  <a:lnTo>
                    <a:pt x="7" y="173"/>
                  </a:lnTo>
                  <a:lnTo>
                    <a:pt x="5" y="173"/>
                  </a:lnTo>
                  <a:lnTo>
                    <a:pt x="4" y="173"/>
                  </a:lnTo>
                  <a:lnTo>
                    <a:pt x="1" y="174"/>
                  </a:lnTo>
                  <a:lnTo>
                    <a:pt x="0" y="175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1" y="181"/>
                  </a:lnTo>
                  <a:lnTo>
                    <a:pt x="3" y="182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af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07080" y="6290640"/>
              <a:ext cx="353880" cy="286200"/>
            </a:xfrm>
            <a:custGeom>
              <a:avLst/>
              <a:gdLst/>
              <a:ahLst/>
              <a:rect l="l" t="t" r="r" b="b"/>
              <a:pathLst>
                <a:path w="690" h="558">
                  <a:moveTo>
                    <a:pt x="689" y="286"/>
                  </a:moveTo>
                  <a:lnTo>
                    <a:pt x="679" y="261"/>
                  </a:lnTo>
                  <a:lnTo>
                    <a:pt x="668" y="236"/>
                  </a:lnTo>
                  <a:lnTo>
                    <a:pt x="657" y="211"/>
                  </a:lnTo>
                  <a:lnTo>
                    <a:pt x="644" y="187"/>
                  </a:lnTo>
                  <a:lnTo>
                    <a:pt x="630" y="165"/>
                  </a:lnTo>
                  <a:lnTo>
                    <a:pt x="615" y="144"/>
                  </a:lnTo>
                  <a:lnTo>
                    <a:pt x="599" y="124"/>
                  </a:lnTo>
                  <a:lnTo>
                    <a:pt x="581" y="104"/>
                  </a:lnTo>
                  <a:lnTo>
                    <a:pt x="561" y="87"/>
                  </a:lnTo>
                  <a:lnTo>
                    <a:pt x="540" y="70"/>
                  </a:lnTo>
                  <a:lnTo>
                    <a:pt x="516" y="55"/>
                  </a:lnTo>
                  <a:lnTo>
                    <a:pt x="491" y="42"/>
                  </a:lnTo>
                  <a:lnTo>
                    <a:pt x="463" y="29"/>
                  </a:lnTo>
                  <a:lnTo>
                    <a:pt x="433" y="19"/>
                  </a:lnTo>
                  <a:lnTo>
                    <a:pt x="400" y="11"/>
                  </a:lnTo>
                  <a:lnTo>
                    <a:pt x="364" y="4"/>
                  </a:lnTo>
                  <a:lnTo>
                    <a:pt x="327" y="1"/>
                  </a:lnTo>
                  <a:lnTo>
                    <a:pt x="292" y="0"/>
                  </a:lnTo>
                  <a:lnTo>
                    <a:pt x="257" y="2"/>
                  </a:lnTo>
                  <a:lnTo>
                    <a:pt x="225" y="9"/>
                  </a:lnTo>
                  <a:lnTo>
                    <a:pt x="193" y="17"/>
                  </a:lnTo>
                  <a:lnTo>
                    <a:pt x="163" y="29"/>
                  </a:lnTo>
                  <a:lnTo>
                    <a:pt x="135" y="43"/>
                  </a:lnTo>
                  <a:lnTo>
                    <a:pt x="108" y="61"/>
                  </a:lnTo>
                  <a:lnTo>
                    <a:pt x="85" y="79"/>
                  </a:lnTo>
                  <a:lnTo>
                    <a:pt x="64" y="101"/>
                  </a:lnTo>
                  <a:lnTo>
                    <a:pt x="45" y="124"/>
                  </a:lnTo>
                  <a:lnTo>
                    <a:pt x="30" y="149"/>
                  </a:lnTo>
                  <a:lnTo>
                    <a:pt x="17" y="176"/>
                  </a:lnTo>
                  <a:lnTo>
                    <a:pt x="8" y="203"/>
                  </a:lnTo>
                  <a:lnTo>
                    <a:pt x="2" y="233"/>
                  </a:lnTo>
                  <a:lnTo>
                    <a:pt x="0" y="263"/>
                  </a:lnTo>
                  <a:lnTo>
                    <a:pt x="1" y="293"/>
                  </a:lnTo>
                  <a:lnTo>
                    <a:pt x="6" y="323"/>
                  </a:lnTo>
                  <a:lnTo>
                    <a:pt x="12" y="351"/>
                  </a:lnTo>
                  <a:lnTo>
                    <a:pt x="21" y="376"/>
                  </a:lnTo>
                  <a:lnTo>
                    <a:pt x="31" y="402"/>
                  </a:lnTo>
                  <a:lnTo>
                    <a:pt x="45" y="425"/>
                  </a:lnTo>
                  <a:lnTo>
                    <a:pt x="59" y="445"/>
                  </a:lnTo>
                  <a:lnTo>
                    <a:pt x="75" y="465"/>
                  </a:lnTo>
                  <a:lnTo>
                    <a:pt x="92" y="483"/>
                  </a:lnTo>
                  <a:lnTo>
                    <a:pt x="111" y="499"/>
                  </a:lnTo>
                  <a:lnTo>
                    <a:pt x="129" y="513"/>
                  </a:lnTo>
                  <a:lnTo>
                    <a:pt x="149" y="526"/>
                  </a:lnTo>
                  <a:lnTo>
                    <a:pt x="170" y="536"/>
                  </a:lnTo>
                  <a:lnTo>
                    <a:pt x="189" y="545"/>
                  </a:lnTo>
                  <a:lnTo>
                    <a:pt x="210" y="551"/>
                  </a:lnTo>
                  <a:lnTo>
                    <a:pt x="229" y="556"/>
                  </a:lnTo>
                  <a:lnTo>
                    <a:pt x="250" y="558"/>
                  </a:lnTo>
                  <a:lnTo>
                    <a:pt x="271" y="558"/>
                  </a:lnTo>
                  <a:lnTo>
                    <a:pt x="292" y="556"/>
                  </a:lnTo>
                  <a:lnTo>
                    <a:pt x="312" y="551"/>
                  </a:lnTo>
                  <a:lnTo>
                    <a:pt x="333" y="545"/>
                  </a:lnTo>
                  <a:lnTo>
                    <a:pt x="354" y="539"/>
                  </a:lnTo>
                  <a:lnTo>
                    <a:pt x="372" y="529"/>
                  </a:lnTo>
                  <a:lnTo>
                    <a:pt x="390" y="519"/>
                  </a:lnTo>
                  <a:lnTo>
                    <a:pt x="406" y="507"/>
                  </a:lnTo>
                  <a:lnTo>
                    <a:pt x="418" y="495"/>
                  </a:lnTo>
                  <a:lnTo>
                    <a:pt x="430" y="482"/>
                  </a:lnTo>
                  <a:lnTo>
                    <a:pt x="438" y="468"/>
                  </a:lnTo>
                  <a:lnTo>
                    <a:pt x="444" y="453"/>
                  </a:lnTo>
                  <a:lnTo>
                    <a:pt x="445" y="438"/>
                  </a:lnTo>
                  <a:lnTo>
                    <a:pt x="443" y="422"/>
                  </a:lnTo>
                  <a:lnTo>
                    <a:pt x="437" y="407"/>
                  </a:lnTo>
                  <a:lnTo>
                    <a:pt x="422" y="382"/>
                  </a:lnTo>
                  <a:lnTo>
                    <a:pt x="413" y="366"/>
                  </a:lnTo>
                  <a:lnTo>
                    <a:pt x="405" y="358"/>
                  </a:lnTo>
                  <a:lnTo>
                    <a:pt x="400" y="355"/>
                  </a:lnTo>
                  <a:lnTo>
                    <a:pt x="395" y="360"/>
                  </a:lnTo>
                  <a:lnTo>
                    <a:pt x="390" y="368"/>
                  </a:lnTo>
                  <a:lnTo>
                    <a:pt x="380" y="378"/>
                  </a:lnTo>
                  <a:lnTo>
                    <a:pt x="369" y="390"/>
                  </a:lnTo>
                  <a:lnTo>
                    <a:pt x="362" y="396"/>
                  </a:lnTo>
                  <a:lnTo>
                    <a:pt x="353" y="400"/>
                  </a:lnTo>
                  <a:lnTo>
                    <a:pt x="345" y="405"/>
                  </a:lnTo>
                  <a:lnTo>
                    <a:pt x="335" y="410"/>
                  </a:lnTo>
                  <a:lnTo>
                    <a:pt x="325" y="413"/>
                  </a:lnTo>
                  <a:lnTo>
                    <a:pt x="315" y="415"/>
                  </a:lnTo>
                  <a:lnTo>
                    <a:pt x="303" y="418"/>
                  </a:lnTo>
                  <a:lnTo>
                    <a:pt x="292" y="419"/>
                  </a:lnTo>
                  <a:lnTo>
                    <a:pt x="279" y="419"/>
                  </a:lnTo>
                  <a:lnTo>
                    <a:pt x="267" y="418"/>
                  </a:lnTo>
                  <a:lnTo>
                    <a:pt x="254" y="415"/>
                  </a:lnTo>
                  <a:lnTo>
                    <a:pt x="241" y="412"/>
                  </a:lnTo>
                  <a:lnTo>
                    <a:pt x="227" y="408"/>
                  </a:lnTo>
                  <a:lnTo>
                    <a:pt x="212" y="403"/>
                  </a:lnTo>
                  <a:lnTo>
                    <a:pt x="198" y="395"/>
                  </a:lnTo>
                  <a:lnTo>
                    <a:pt x="183" y="387"/>
                  </a:lnTo>
                  <a:lnTo>
                    <a:pt x="155" y="366"/>
                  </a:lnTo>
                  <a:lnTo>
                    <a:pt x="129" y="340"/>
                  </a:lnTo>
                  <a:lnTo>
                    <a:pt x="111" y="312"/>
                  </a:lnTo>
                  <a:lnTo>
                    <a:pt x="102" y="281"/>
                  </a:lnTo>
                  <a:lnTo>
                    <a:pt x="104" y="246"/>
                  </a:lnTo>
                  <a:lnTo>
                    <a:pt x="121" y="209"/>
                  </a:lnTo>
                  <a:lnTo>
                    <a:pt x="156" y="172"/>
                  </a:lnTo>
                  <a:lnTo>
                    <a:pt x="210" y="133"/>
                  </a:lnTo>
                  <a:lnTo>
                    <a:pt x="242" y="116"/>
                  </a:lnTo>
                  <a:lnTo>
                    <a:pt x="276" y="104"/>
                  </a:lnTo>
                  <a:lnTo>
                    <a:pt x="309" y="96"/>
                  </a:lnTo>
                  <a:lnTo>
                    <a:pt x="343" y="93"/>
                  </a:lnTo>
                  <a:lnTo>
                    <a:pt x="377" y="94"/>
                  </a:lnTo>
                  <a:lnTo>
                    <a:pt x="409" y="99"/>
                  </a:lnTo>
                  <a:lnTo>
                    <a:pt x="441" y="105"/>
                  </a:lnTo>
                  <a:lnTo>
                    <a:pt x="474" y="117"/>
                  </a:lnTo>
                  <a:lnTo>
                    <a:pt x="505" y="132"/>
                  </a:lnTo>
                  <a:lnTo>
                    <a:pt x="534" y="149"/>
                  </a:lnTo>
                  <a:lnTo>
                    <a:pt x="561" y="169"/>
                  </a:lnTo>
                  <a:lnTo>
                    <a:pt x="588" y="191"/>
                  </a:lnTo>
                  <a:lnTo>
                    <a:pt x="612" y="215"/>
                  </a:lnTo>
                  <a:lnTo>
                    <a:pt x="635" y="240"/>
                  </a:lnTo>
                  <a:lnTo>
                    <a:pt x="655" y="268"/>
                  </a:lnTo>
                  <a:lnTo>
                    <a:pt x="672" y="297"/>
                  </a:lnTo>
                  <a:lnTo>
                    <a:pt x="675" y="299"/>
                  </a:lnTo>
                  <a:lnTo>
                    <a:pt x="679" y="301"/>
                  </a:lnTo>
                  <a:lnTo>
                    <a:pt x="682" y="301"/>
                  </a:lnTo>
                  <a:lnTo>
                    <a:pt x="686" y="299"/>
                  </a:lnTo>
                  <a:lnTo>
                    <a:pt x="688" y="297"/>
                  </a:lnTo>
                  <a:lnTo>
                    <a:pt x="690" y="293"/>
                  </a:lnTo>
                  <a:lnTo>
                    <a:pt x="690" y="290"/>
                  </a:lnTo>
                  <a:lnTo>
                    <a:pt x="689" y="286"/>
                  </a:lnTo>
                  <a:lnTo>
                    <a:pt x="68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7040" y="6454080"/>
              <a:ext cx="315000" cy="233640"/>
            </a:xfrm>
            <a:custGeom>
              <a:avLst/>
              <a:gdLst/>
              <a:ahLst/>
              <a:rect l="l" t="t" r="r" b="b"/>
              <a:pathLst>
                <a:path w="614" h="456">
                  <a:moveTo>
                    <a:pt x="613" y="250"/>
                  </a:moveTo>
                  <a:lnTo>
                    <a:pt x="600" y="222"/>
                  </a:lnTo>
                  <a:lnTo>
                    <a:pt x="585" y="194"/>
                  </a:lnTo>
                  <a:lnTo>
                    <a:pt x="568" y="169"/>
                  </a:lnTo>
                  <a:lnTo>
                    <a:pt x="548" y="145"/>
                  </a:lnTo>
                  <a:lnTo>
                    <a:pt x="529" y="122"/>
                  </a:lnTo>
                  <a:lnTo>
                    <a:pt x="506" y="100"/>
                  </a:lnTo>
                  <a:lnTo>
                    <a:pt x="483" y="80"/>
                  </a:lnTo>
                  <a:lnTo>
                    <a:pt x="459" y="62"/>
                  </a:lnTo>
                  <a:lnTo>
                    <a:pt x="433" y="46"/>
                  </a:lnTo>
                  <a:lnTo>
                    <a:pt x="407" y="32"/>
                  </a:lnTo>
                  <a:lnTo>
                    <a:pt x="379" y="20"/>
                  </a:lnTo>
                  <a:lnTo>
                    <a:pt x="351" y="11"/>
                  </a:lnTo>
                  <a:lnTo>
                    <a:pt x="323" y="4"/>
                  </a:lnTo>
                  <a:lnTo>
                    <a:pt x="295" y="1"/>
                  </a:lnTo>
                  <a:lnTo>
                    <a:pt x="266" y="0"/>
                  </a:lnTo>
                  <a:lnTo>
                    <a:pt x="237" y="1"/>
                  </a:lnTo>
                  <a:lnTo>
                    <a:pt x="189" y="8"/>
                  </a:lnTo>
                  <a:lnTo>
                    <a:pt x="154" y="13"/>
                  </a:lnTo>
                  <a:lnTo>
                    <a:pt x="131" y="18"/>
                  </a:lnTo>
                  <a:lnTo>
                    <a:pt x="117" y="24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11" y="33"/>
                  </a:lnTo>
                  <a:lnTo>
                    <a:pt x="83" y="51"/>
                  </a:lnTo>
                  <a:lnTo>
                    <a:pt x="59" y="72"/>
                  </a:lnTo>
                  <a:lnTo>
                    <a:pt x="38" y="95"/>
                  </a:lnTo>
                  <a:lnTo>
                    <a:pt x="22" y="122"/>
                  </a:lnTo>
                  <a:lnTo>
                    <a:pt x="10" y="149"/>
                  </a:lnTo>
                  <a:lnTo>
                    <a:pt x="2" y="180"/>
                  </a:lnTo>
                  <a:lnTo>
                    <a:pt x="0" y="213"/>
                  </a:lnTo>
                  <a:lnTo>
                    <a:pt x="3" y="248"/>
                  </a:lnTo>
                  <a:lnTo>
                    <a:pt x="9" y="274"/>
                  </a:lnTo>
                  <a:lnTo>
                    <a:pt x="18" y="298"/>
                  </a:lnTo>
                  <a:lnTo>
                    <a:pt x="30" y="322"/>
                  </a:lnTo>
                  <a:lnTo>
                    <a:pt x="44" y="344"/>
                  </a:lnTo>
                  <a:lnTo>
                    <a:pt x="60" y="366"/>
                  </a:lnTo>
                  <a:lnTo>
                    <a:pt x="78" y="387"/>
                  </a:lnTo>
                  <a:lnTo>
                    <a:pt x="98" y="404"/>
                  </a:lnTo>
                  <a:lnTo>
                    <a:pt x="120" y="420"/>
                  </a:lnTo>
                  <a:lnTo>
                    <a:pt x="142" y="434"/>
                  </a:lnTo>
                  <a:lnTo>
                    <a:pt x="166" y="444"/>
                  </a:lnTo>
                  <a:lnTo>
                    <a:pt x="190" y="451"/>
                  </a:lnTo>
                  <a:lnTo>
                    <a:pt x="215" y="456"/>
                  </a:lnTo>
                  <a:lnTo>
                    <a:pt x="241" y="456"/>
                  </a:lnTo>
                  <a:lnTo>
                    <a:pt x="266" y="452"/>
                  </a:lnTo>
                  <a:lnTo>
                    <a:pt x="291" y="445"/>
                  </a:lnTo>
                  <a:lnTo>
                    <a:pt x="317" y="433"/>
                  </a:lnTo>
                  <a:lnTo>
                    <a:pt x="326" y="429"/>
                  </a:lnTo>
                  <a:lnTo>
                    <a:pt x="334" y="425"/>
                  </a:lnTo>
                  <a:lnTo>
                    <a:pt x="340" y="419"/>
                  </a:lnTo>
                  <a:lnTo>
                    <a:pt x="346" y="412"/>
                  </a:lnTo>
                  <a:lnTo>
                    <a:pt x="349" y="404"/>
                  </a:lnTo>
                  <a:lnTo>
                    <a:pt x="351" y="396"/>
                  </a:lnTo>
                  <a:lnTo>
                    <a:pt x="351" y="387"/>
                  </a:lnTo>
                  <a:lnTo>
                    <a:pt x="350" y="377"/>
                  </a:lnTo>
                  <a:lnTo>
                    <a:pt x="347" y="369"/>
                  </a:lnTo>
                  <a:lnTo>
                    <a:pt x="341" y="361"/>
                  </a:lnTo>
                  <a:lnTo>
                    <a:pt x="335" y="354"/>
                  </a:lnTo>
                  <a:lnTo>
                    <a:pt x="327" y="350"/>
                  </a:lnTo>
                  <a:lnTo>
                    <a:pt x="319" y="346"/>
                  </a:lnTo>
                  <a:lnTo>
                    <a:pt x="311" y="344"/>
                  </a:lnTo>
                  <a:lnTo>
                    <a:pt x="302" y="344"/>
                  </a:lnTo>
                  <a:lnTo>
                    <a:pt x="293" y="346"/>
                  </a:lnTo>
                  <a:lnTo>
                    <a:pt x="278" y="350"/>
                  </a:lnTo>
                  <a:lnTo>
                    <a:pt x="263" y="351"/>
                  </a:lnTo>
                  <a:lnTo>
                    <a:pt x="247" y="350"/>
                  </a:lnTo>
                  <a:lnTo>
                    <a:pt x="230" y="349"/>
                  </a:lnTo>
                  <a:lnTo>
                    <a:pt x="214" y="345"/>
                  </a:lnTo>
                  <a:lnTo>
                    <a:pt x="199" y="339"/>
                  </a:lnTo>
                  <a:lnTo>
                    <a:pt x="184" y="334"/>
                  </a:lnTo>
                  <a:lnTo>
                    <a:pt x="169" y="326"/>
                  </a:lnTo>
                  <a:lnTo>
                    <a:pt x="157" y="317"/>
                  </a:lnTo>
                  <a:lnTo>
                    <a:pt x="144" y="307"/>
                  </a:lnTo>
                  <a:lnTo>
                    <a:pt x="134" y="297"/>
                  </a:lnTo>
                  <a:lnTo>
                    <a:pt x="123" y="285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8" y="245"/>
                  </a:lnTo>
                  <a:lnTo>
                    <a:pt x="107" y="230"/>
                  </a:lnTo>
                  <a:lnTo>
                    <a:pt x="114" y="201"/>
                  </a:lnTo>
                  <a:lnTo>
                    <a:pt x="129" y="177"/>
                  </a:lnTo>
                  <a:lnTo>
                    <a:pt x="149" y="155"/>
                  </a:lnTo>
                  <a:lnTo>
                    <a:pt x="173" y="137"/>
                  </a:lnTo>
                  <a:lnTo>
                    <a:pt x="196" y="123"/>
                  </a:lnTo>
                  <a:lnTo>
                    <a:pt x="215" y="111"/>
                  </a:lnTo>
                  <a:lnTo>
                    <a:pt x="229" y="106"/>
                  </a:lnTo>
                  <a:lnTo>
                    <a:pt x="235" y="103"/>
                  </a:lnTo>
                  <a:lnTo>
                    <a:pt x="235" y="102"/>
                  </a:lnTo>
                  <a:lnTo>
                    <a:pt x="234" y="101"/>
                  </a:lnTo>
                  <a:lnTo>
                    <a:pt x="233" y="101"/>
                  </a:lnTo>
                  <a:lnTo>
                    <a:pt x="233" y="100"/>
                  </a:lnTo>
                  <a:lnTo>
                    <a:pt x="259" y="97"/>
                  </a:lnTo>
                  <a:lnTo>
                    <a:pt x="286" y="97"/>
                  </a:lnTo>
                  <a:lnTo>
                    <a:pt x="312" y="99"/>
                  </a:lnTo>
                  <a:lnTo>
                    <a:pt x="338" y="102"/>
                  </a:lnTo>
                  <a:lnTo>
                    <a:pt x="363" y="107"/>
                  </a:lnTo>
                  <a:lnTo>
                    <a:pt x="388" y="114"/>
                  </a:lnTo>
                  <a:lnTo>
                    <a:pt x="412" y="122"/>
                  </a:lnTo>
                  <a:lnTo>
                    <a:pt x="437" y="132"/>
                  </a:lnTo>
                  <a:lnTo>
                    <a:pt x="460" y="144"/>
                  </a:lnTo>
                  <a:lnTo>
                    <a:pt x="482" y="156"/>
                  </a:lnTo>
                  <a:lnTo>
                    <a:pt x="503" y="171"/>
                  </a:lnTo>
                  <a:lnTo>
                    <a:pt x="524" y="186"/>
                  </a:lnTo>
                  <a:lnTo>
                    <a:pt x="544" y="203"/>
                  </a:lnTo>
                  <a:lnTo>
                    <a:pt x="563" y="222"/>
                  </a:lnTo>
                  <a:lnTo>
                    <a:pt x="581" y="240"/>
                  </a:lnTo>
                  <a:lnTo>
                    <a:pt x="598" y="261"/>
                  </a:lnTo>
                  <a:lnTo>
                    <a:pt x="600" y="263"/>
                  </a:lnTo>
                  <a:lnTo>
                    <a:pt x="604" y="265"/>
                  </a:lnTo>
                  <a:lnTo>
                    <a:pt x="607" y="265"/>
                  </a:lnTo>
                  <a:lnTo>
                    <a:pt x="609" y="263"/>
                  </a:lnTo>
                  <a:lnTo>
                    <a:pt x="612" y="261"/>
                  </a:lnTo>
                  <a:lnTo>
                    <a:pt x="614" y="258"/>
                  </a:lnTo>
                  <a:lnTo>
                    <a:pt x="614" y="253"/>
                  </a:lnTo>
                  <a:lnTo>
                    <a:pt x="613" y="250"/>
                  </a:lnTo>
                  <a:lnTo>
                    <a:pt x="613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19800" y="6138000"/>
              <a:ext cx="356040" cy="262440"/>
            </a:xfrm>
            <a:custGeom>
              <a:avLst/>
              <a:gdLst/>
              <a:ahLst/>
              <a:rect l="l" t="t" r="r" b="b"/>
              <a:pathLst>
                <a:path w="694" h="513">
                  <a:moveTo>
                    <a:pt x="692" y="148"/>
                  </a:moveTo>
                  <a:lnTo>
                    <a:pt x="662" y="117"/>
                  </a:lnTo>
                  <a:lnTo>
                    <a:pt x="627" y="89"/>
                  </a:lnTo>
                  <a:lnTo>
                    <a:pt x="590" y="64"/>
                  </a:lnTo>
                  <a:lnTo>
                    <a:pt x="551" y="44"/>
                  </a:lnTo>
                  <a:lnTo>
                    <a:pt x="510" y="27"/>
                  </a:lnTo>
                  <a:lnTo>
                    <a:pt x="466" y="14"/>
                  </a:lnTo>
                  <a:lnTo>
                    <a:pt x="422" y="5"/>
                  </a:lnTo>
                  <a:lnTo>
                    <a:pt x="377" y="0"/>
                  </a:lnTo>
                  <a:lnTo>
                    <a:pt x="332" y="0"/>
                  </a:lnTo>
                  <a:lnTo>
                    <a:pt x="288" y="5"/>
                  </a:lnTo>
                  <a:lnTo>
                    <a:pt x="245" y="14"/>
                  </a:lnTo>
                  <a:lnTo>
                    <a:pt x="203" y="27"/>
                  </a:lnTo>
                  <a:lnTo>
                    <a:pt x="163" y="45"/>
                  </a:lnTo>
                  <a:lnTo>
                    <a:pt x="125" y="68"/>
                  </a:lnTo>
                  <a:lnTo>
                    <a:pt x="90" y="97"/>
                  </a:lnTo>
                  <a:lnTo>
                    <a:pt x="59" y="130"/>
                  </a:lnTo>
                  <a:lnTo>
                    <a:pt x="41" y="156"/>
                  </a:lnTo>
                  <a:lnTo>
                    <a:pt x="26" y="181"/>
                  </a:lnTo>
                  <a:lnTo>
                    <a:pt x="13" y="209"/>
                  </a:lnTo>
                  <a:lnTo>
                    <a:pt x="5" y="237"/>
                  </a:lnTo>
                  <a:lnTo>
                    <a:pt x="0" y="269"/>
                  </a:lnTo>
                  <a:lnTo>
                    <a:pt x="2" y="301"/>
                  </a:lnTo>
                  <a:lnTo>
                    <a:pt x="6" y="335"/>
                  </a:lnTo>
                  <a:lnTo>
                    <a:pt x="17" y="373"/>
                  </a:lnTo>
                  <a:lnTo>
                    <a:pt x="23" y="392"/>
                  </a:lnTo>
                  <a:lnTo>
                    <a:pt x="33" y="409"/>
                  </a:lnTo>
                  <a:lnTo>
                    <a:pt x="44" y="424"/>
                  </a:lnTo>
                  <a:lnTo>
                    <a:pt x="57" y="438"/>
                  </a:lnTo>
                  <a:lnTo>
                    <a:pt x="71" y="451"/>
                  </a:lnTo>
                  <a:lnTo>
                    <a:pt x="87" y="462"/>
                  </a:lnTo>
                  <a:lnTo>
                    <a:pt x="103" y="472"/>
                  </a:lnTo>
                  <a:lnTo>
                    <a:pt x="120" y="481"/>
                  </a:lnTo>
                  <a:lnTo>
                    <a:pt x="139" y="489"/>
                  </a:lnTo>
                  <a:lnTo>
                    <a:pt x="157" y="495"/>
                  </a:lnTo>
                  <a:lnTo>
                    <a:pt x="177" y="500"/>
                  </a:lnTo>
                  <a:lnTo>
                    <a:pt x="196" y="505"/>
                  </a:lnTo>
                  <a:lnTo>
                    <a:pt x="215" y="508"/>
                  </a:lnTo>
                  <a:lnTo>
                    <a:pt x="234" y="510"/>
                  </a:lnTo>
                  <a:lnTo>
                    <a:pt x="254" y="512"/>
                  </a:lnTo>
                  <a:lnTo>
                    <a:pt x="272" y="513"/>
                  </a:lnTo>
                  <a:lnTo>
                    <a:pt x="292" y="512"/>
                  </a:lnTo>
                  <a:lnTo>
                    <a:pt x="311" y="508"/>
                  </a:lnTo>
                  <a:lnTo>
                    <a:pt x="331" y="504"/>
                  </a:lnTo>
                  <a:lnTo>
                    <a:pt x="350" y="495"/>
                  </a:lnTo>
                  <a:lnTo>
                    <a:pt x="368" y="486"/>
                  </a:lnTo>
                  <a:lnTo>
                    <a:pt x="386" y="476"/>
                  </a:lnTo>
                  <a:lnTo>
                    <a:pt x="402" y="463"/>
                  </a:lnTo>
                  <a:lnTo>
                    <a:pt x="417" y="449"/>
                  </a:lnTo>
                  <a:lnTo>
                    <a:pt x="431" y="434"/>
                  </a:lnTo>
                  <a:lnTo>
                    <a:pt x="443" y="418"/>
                  </a:lnTo>
                  <a:lnTo>
                    <a:pt x="452" y="401"/>
                  </a:lnTo>
                  <a:lnTo>
                    <a:pt x="460" y="383"/>
                  </a:lnTo>
                  <a:lnTo>
                    <a:pt x="465" y="363"/>
                  </a:lnTo>
                  <a:lnTo>
                    <a:pt x="466" y="342"/>
                  </a:lnTo>
                  <a:lnTo>
                    <a:pt x="465" y="322"/>
                  </a:lnTo>
                  <a:lnTo>
                    <a:pt x="460" y="300"/>
                  </a:lnTo>
                  <a:lnTo>
                    <a:pt x="458" y="292"/>
                  </a:lnTo>
                  <a:lnTo>
                    <a:pt x="454" y="284"/>
                  </a:lnTo>
                  <a:lnTo>
                    <a:pt x="451" y="277"/>
                  </a:lnTo>
                  <a:lnTo>
                    <a:pt x="447" y="271"/>
                  </a:lnTo>
                  <a:lnTo>
                    <a:pt x="443" y="265"/>
                  </a:lnTo>
                  <a:lnTo>
                    <a:pt x="438" y="261"/>
                  </a:lnTo>
                  <a:lnTo>
                    <a:pt x="432" y="258"/>
                  </a:lnTo>
                  <a:lnTo>
                    <a:pt x="426" y="256"/>
                  </a:lnTo>
                  <a:lnTo>
                    <a:pt x="420" y="256"/>
                  </a:lnTo>
                  <a:lnTo>
                    <a:pt x="413" y="257"/>
                  </a:lnTo>
                  <a:lnTo>
                    <a:pt x="407" y="259"/>
                  </a:lnTo>
                  <a:lnTo>
                    <a:pt x="400" y="263"/>
                  </a:lnTo>
                  <a:lnTo>
                    <a:pt x="394" y="267"/>
                  </a:lnTo>
                  <a:lnTo>
                    <a:pt x="389" y="273"/>
                  </a:lnTo>
                  <a:lnTo>
                    <a:pt x="384" y="281"/>
                  </a:lnTo>
                  <a:lnTo>
                    <a:pt x="381" y="290"/>
                  </a:lnTo>
                  <a:lnTo>
                    <a:pt x="374" y="307"/>
                  </a:lnTo>
                  <a:lnTo>
                    <a:pt x="364" y="323"/>
                  </a:lnTo>
                  <a:lnTo>
                    <a:pt x="352" y="338"/>
                  </a:lnTo>
                  <a:lnTo>
                    <a:pt x="337" y="352"/>
                  </a:lnTo>
                  <a:lnTo>
                    <a:pt x="321" y="363"/>
                  </a:lnTo>
                  <a:lnTo>
                    <a:pt x="302" y="373"/>
                  </a:lnTo>
                  <a:lnTo>
                    <a:pt x="283" y="381"/>
                  </a:lnTo>
                  <a:lnTo>
                    <a:pt x="262" y="387"/>
                  </a:lnTo>
                  <a:lnTo>
                    <a:pt x="241" y="391"/>
                  </a:lnTo>
                  <a:lnTo>
                    <a:pt x="220" y="391"/>
                  </a:lnTo>
                  <a:lnTo>
                    <a:pt x="200" y="388"/>
                  </a:lnTo>
                  <a:lnTo>
                    <a:pt x="180" y="381"/>
                  </a:lnTo>
                  <a:lnTo>
                    <a:pt x="162" y="371"/>
                  </a:lnTo>
                  <a:lnTo>
                    <a:pt x="146" y="357"/>
                  </a:lnTo>
                  <a:lnTo>
                    <a:pt x="131" y="339"/>
                  </a:lnTo>
                  <a:lnTo>
                    <a:pt x="118" y="316"/>
                  </a:lnTo>
                  <a:lnTo>
                    <a:pt x="111" y="293"/>
                  </a:lnTo>
                  <a:lnTo>
                    <a:pt x="111" y="271"/>
                  </a:lnTo>
                  <a:lnTo>
                    <a:pt x="117" y="248"/>
                  </a:lnTo>
                  <a:lnTo>
                    <a:pt x="127" y="225"/>
                  </a:lnTo>
                  <a:lnTo>
                    <a:pt x="142" y="203"/>
                  </a:lnTo>
                  <a:lnTo>
                    <a:pt x="162" y="182"/>
                  </a:lnTo>
                  <a:lnTo>
                    <a:pt x="184" y="163"/>
                  </a:lnTo>
                  <a:lnTo>
                    <a:pt x="209" y="144"/>
                  </a:lnTo>
                  <a:lnTo>
                    <a:pt x="237" y="127"/>
                  </a:lnTo>
                  <a:lnTo>
                    <a:pt x="267" y="112"/>
                  </a:lnTo>
                  <a:lnTo>
                    <a:pt x="297" y="99"/>
                  </a:lnTo>
                  <a:lnTo>
                    <a:pt x="328" y="90"/>
                  </a:lnTo>
                  <a:lnTo>
                    <a:pt x="359" y="82"/>
                  </a:lnTo>
                  <a:lnTo>
                    <a:pt x="389" y="77"/>
                  </a:lnTo>
                  <a:lnTo>
                    <a:pt x="417" y="76"/>
                  </a:lnTo>
                  <a:lnTo>
                    <a:pt x="445" y="79"/>
                  </a:lnTo>
                  <a:lnTo>
                    <a:pt x="460" y="81"/>
                  </a:lnTo>
                  <a:lnTo>
                    <a:pt x="475" y="83"/>
                  </a:lnTo>
                  <a:lnTo>
                    <a:pt x="491" y="87"/>
                  </a:lnTo>
                  <a:lnTo>
                    <a:pt x="506" y="89"/>
                  </a:lnTo>
                  <a:lnTo>
                    <a:pt x="522" y="91"/>
                  </a:lnTo>
                  <a:lnTo>
                    <a:pt x="537" y="95"/>
                  </a:lnTo>
                  <a:lnTo>
                    <a:pt x="552" y="98"/>
                  </a:lnTo>
                  <a:lnTo>
                    <a:pt x="567" y="103"/>
                  </a:lnTo>
                  <a:lnTo>
                    <a:pt x="582" y="107"/>
                  </a:lnTo>
                  <a:lnTo>
                    <a:pt x="597" y="112"/>
                  </a:lnTo>
                  <a:lnTo>
                    <a:pt x="612" y="118"/>
                  </a:lnTo>
                  <a:lnTo>
                    <a:pt x="626" y="125"/>
                  </a:lnTo>
                  <a:lnTo>
                    <a:pt x="640" y="133"/>
                  </a:lnTo>
                  <a:lnTo>
                    <a:pt x="654" y="141"/>
                  </a:lnTo>
                  <a:lnTo>
                    <a:pt x="666" y="151"/>
                  </a:lnTo>
                  <a:lnTo>
                    <a:pt x="679" y="161"/>
                  </a:lnTo>
                  <a:lnTo>
                    <a:pt x="682" y="164"/>
                  </a:lnTo>
                  <a:lnTo>
                    <a:pt x="686" y="164"/>
                  </a:lnTo>
                  <a:lnTo>
                    <a:pt x="688" y="164"/>
                  </a:lnTo>
                  <a:lnTo>
                    <a:pt x="692" y="161"/>
                  </a:lnTo>
                  <a:lnTo>
                    <a:pt x="694" y="158"/>
                  </a:lnTo>
                  <a:lnTo>
                    <a:pt x="694" y="155"/>
                  </a:lnTo>
                  <a:lnTo>
                    <a:pt x="694" y="151"/>
                  </a:lnTo>
                  <a:lnTo>
                    <a:pt x="692" y="148"/>
                  </a:lnTo>
                  <a:lnTo>
                    <a:pt x="69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ccecff"/>
                </a:solidFill>
                <a:latin typeface="華康中圓體"/>
                <a:ea typeface="華康中圓體"/>
              </a:rPr>
              <a:t>行 程 規 劃</a:t>
            </a:r>
            <a:endParaRPr b="0" lang="en-US" sz="7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日期：三月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行程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9:00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集合、出發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10:20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抵達淡水，步行淡水老街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12:20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午餐時間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13:30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坐船至八里，進入十三行博</a:t>
            </a:r>
            <a:br>
              <a:rPr sz="3500"/>
            </a:b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           物館中瀏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37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14:00  </a:t>
            </a: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歸心似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ccecff"/>
                </a:solidFill>
                <a:latin typeface="華康中圓體"/>
                <a:ea typeface="華康中圓體"/>
              </a:rPr>
              <a:t>費用明細表</a:t>
            </a:r>
            <a:endParaRPr b="0" lang="en-US" sz="7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01640" y="1906560"/>
            <a:ext cx="4156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遊覽車費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$60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保險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餐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自付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 u="sng">
                <a:solidFill>
                  <a:srgbClr val="009900"/>
                </a:solidFill>
                <a:uFillTx/>
                <a:latin typeface="Arial"/>
              </a:rPr>
              <a:t>合計 </a:t>
            </a:r>
            <a:r>
              <a:rPr b="1" i="1" lang="zh-TW" sz="4000" spc="-1" strike="noStrike" u="sng">
                <a:solidFill>
                  <a:srgbClr val="009900"/>
                </a:solidFill>
                <a:uFillTx/>
                <a:latin typeface="Arial"/>
              </a:rPr>
              <a:t>1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1000" y="1844640"/>
            <a:ext cx="32511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5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ccecff"/>
                </a:solidFill>
                <a:latin typeface="華康中圓體"/>
                <a:ea typeface="華康中圓體"/>
              </a:rPr>
              <a:t>行前注意事項</a:t>
            </a:r>
            <a:endParaRPr b="0" lang="en-US" sz="7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5400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必備物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ffffff"/>
                </a:solidFill>
                <a:latin typeface="Arial"/>
              </a:rPr>
              <a:t>個人藥品、雨具、暈船藥……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集合時間：三月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日上午 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點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集合地點：學校操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6:49:27Z</dcterms:created>
  <dc:creator>旗立資訊</dc:creator>
  <dc:description/>
  <dc:language>en-US</dc:language>
  <cp:lastModifiedBy>思蓉</cp:lastModifiedBy>
  <dcterms:modified xsi:type="dcterms:W3CDTF">2005-02-25T02:21:03Z</dcterms:modified>
  <cp:revision>10</cp:revision>
  <dc:subject/>
  <dc:title>ex01-04.ppt</dc:title>
</cp:coreProperties>
</file>