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56E-BAE1-4509-AAAE-2D5E9714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802-EB3A-4C44-8D27-CA743FF9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978-9AF5-4B27-BC32-BDA68658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A1E-E017-4EDA-9494-BA4B5C4A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5ACA-6CE0-4314-9DD8-DE36B914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DBF3-37B9-4363-BB4D-67A3CDA1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7EF7-BB99-4119-A0DA-B29C5F6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CBD6-7363-4441-B31A-8127E29E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13E4-F151-4F77-BC33-05D79C4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0400-89E1-4FC9-AD3B-2318FFB4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7FD4-C50D-4BE2-8AB1-C97C53C5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F2B-CD69-469B-8B2E-3FC1D3E4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A499-C820-4D3B-9A14-553738C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8527-738D-4B95-ACEB-BDFF91AF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4ABB-71EE-4D7C-A4D2-DEDC1125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D743-A94D-44B0-8D84-62A49769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86E5-280B-4D05-A19F-FB76B04A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744-3CCD-4533-B7DB-579780CA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22A-5F6B-4B42-BFDF-C235E32F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0A2-B4C9-4B1F-973F-7BDC8675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D0B-200D-4FCF-906C-50A6E106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97A-8F0E-46E5-93CD-D4282D2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E3D-5130-4372-AB55-76AC1C6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C76-2778-41A9-8CDA-56A16A35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440F-E3D6-428C-AFC9-D4E3D918AFC8}" type="slidenum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20E2-2EE9-42AF-97C8-745EC0C69C9F}" type="slidenum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60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我的基本資料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09640" y="2214720"/>
          <a:ext cx="7958160" cy="4024080"/>
        </p:xfrm>
        <a:graphic>
          <a:graphicData uri="http://schemas.openxmlformats.org/drawingml/2006/table">
            <a:tbl>
              <a:tblPr/>
              <a:tblGrid>
                <a:gridCol w="1326960"/>
                <a:gridCol w="1325880"/>
                <a:gridCol w="390240"/>
                <a:gridCol w="1247760"/>
                <a:gridCol w="1014480"/>
                <a:gridCol w="2652840"/>
              </a:tblGrid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黃小伍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性別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男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6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年齡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1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身高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152</a:t>
                      </a: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公分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體重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40</a:t>
                      </a: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公斤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星座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雙魚座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血型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AB</a:t>
                      </a:r>
                      <a:r>
                        <a:rPr b="0" lang="zh-TW" sz="3200" spc="-1" strike="noStrike">
                          <a:solidFill>
                            <a:srgbClr val="003366"/>
                          </a:solidFill>
                          <a:latin typeface="華康古印體"/>
                          <a:ea typeface="華康古印體"/>
                        </a:rPr>
                        <a:t>型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181560" y="2736720"/>
            <a:ext cx="26575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60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我的甜蜜家庭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85840" y="2141640"/>
          <a:ext cx="4819680" cy="43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2141640"/>
                    <a:ext cx="481968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1:15:52Z</dcterms:created>
  <dc:creator>e049</dc:creator>
  <dc:description/>
  <dc:language>en-US</dc:language>
  <cp:lastModifiedBy>思蓉</cp:lastModifiedBy>
  <dcterms:modified xsi:type="dcterms:W3CDTF">2005-03-02T08:52:43Z</dcterms:modified>
  <cp:revision>10</cp:revision>
  <dc:subject/>
  <dc:title>旗立小學組織圖</dc:title>
</cp:coreProperties>
</file>