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2DC-459C-4CA7-9C92-15787C29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075-E7DD-4FE7-8BDA-5FE15CEE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78D-D1DA-4AC3-88E3-635D471B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E5E-7A92-4F12-896C-A7157C00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42C1F-1D39-455C-919C-C58454BA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C9C39-3A66-4156-B039-CF99F7F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BB470-77C6-4CCE-A4D5-A74ADC85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9E811-6979-4BE3-AB72-7F691A85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02960-966B-40C6-B4CD-BBBB1F6D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AF145-013F-4A8E-B4E1-EDB3A7FB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97034-80D9-41C8-B728-AA1FCDB8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4BB-A1B3-4098-BF2A-BFC5426B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40FC-D3D7-4B5A-B230-C951C05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32AF-E0CE-4967-88AE-4F06F13C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85B00-4B22-42AE-89B1-8B328545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408A1-C7CE-4F6D-8EE7-EBDAC470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83B13-C65B-48B1-B49B-7ECE8A72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72F-2238-4188-9BB5-370B036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12A-6D32-4C0D-8C70-3AF85BE7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5A7-9FC6-4634-A31E-4C7F0E1B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53D-C738-481C-A319-0F295D5B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B95-1216-425D-AB11-AA06B1D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482-E3C7-4610-A1F7-D8AA36A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D7D-FB36-44CE-A2EA-4F0BC731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527400" indent="-20268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2" marL="811440" indent="-16200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3" marL="1135800" indent="-16200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4" marL="1460520" indent="-162000">
              <a:spcBef>
                <a:spcPts val="1125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5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6" marL="1460520" indent="-162000">
              <a:spcBef>
                <a:spcPts val="112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A2B-8E75-447E-A68F-F4584A1FA465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825440" y="4280400"/>
            <a:ext cx="2259000" cy="2292120"/>
            <a:chOff x="4825440" y="4280400"/>
            <a:chExt cx="2259000" cy="2292120"/>
          </a:xfrm>
        </p:grpSpPr>
        <p:sp>
          <p:nvSpPr>
            <p:cNvPr id="6" name=""/>
            <p:cNvSpPr/>
            <p:nvPr/>
          </p:nvSpPr>
          <p:spPr>
            <a:xfrm rot="21214800">
              <a:off x="4916160" y="4936680"/>
              <a:ext cx="1782720" cy="722160"/>
            </a:xfrm>
            <a:custGeom>
              <a:avLst/>
              <a:gdLst/>
              <a:ahLst/>
              <a:rect l="l" t="t" r="r" b="b"/>
              <a:pathLst>
                <a:path w="1123" h="455">
                  <a:moveTo>
                    <a:pt x="8" y="156"/>
                  </a:moveTo>
                  <a:cubicBezTo>
                    <a:pt x="0" y="169"/>
                    <a:pt x="44" y="164"/>
                    <a:pt x="70" y="162"/>
                  </a:cubicBezTo>
                  <a:lnTo>
                    <a:pt x="167" y="145"/>
                  </a:lnTo>
                  <a:lnTo>
                    <a:pt x="348" y="137"/>
                  </a:lnTo>
                  <a:lnTo>
                    <a:pt x="554" y="144"/>
                  </a:lnTo>
                  <a:lnTo>
                    <a:pt x="772" y="192"/>
                  </a:lnTo>
                  <a:cubicBezTo>
                    <a:pt x="844" y="237"/>
                    <a:pt x="936" y="369"/>
                    <a:pt x="987" y="412"/>
                  </a:cubicBezTo>
                  <a:cubicBezTo>
                    <a:pt x="1039" y="455"/>
                    <a:pt x="1060" y="442"/>
                    <a:pt x="1082" y="449"/>
                  </a:cubicBezTo>
                  <a:lnTo>
                    <a:pt x="1123" y="451"/>
                  </a:lnTo>
                  <a:lnTo>
                    <a:pt x="884" y="31"/>
                  </a:lnTo>
                  <a:lnTo>
                    <a:pt x="405" y="0"/>
                  </a:lnTo>
                  <a:lnTo>
                    <a:pt x="119" y="81"/>
                  </a:lnTo>
                  <a:cubicBezTo>
                    <a:pt x="53" y="107"/>
                    <a:pt x="16" y="143"/>
                    <a:pt x="8" y="15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9782600">
              <a:off x="5146200" y="4571640"/>
              <a:ext cx="1617480" cy="1709640"/>
            </a:xfrm>
            <a:custGeom>
              <a:avLst/>
              <a:gdLst/>
              <a:ahLst/>
              <a:rect l="l" t="t" r="r" b="b"/>
              <a:pathLst>
                <a:path w="1019" h="1077">
                  <a:moveTo>
                    <a:pt x="0" y="97"/>
                  </a:moveTo>
                  <a:cubicBezTo>
                    <a:pt x="6" y="31"/>
                    <a:pt x="72" y="73"/>
                    <a:pt x="150" y="79"/>
                  </a:cubicBezTo>
                  <a:cubicBezTo>
                    <a:pt x="210" y="43"/>
                    <a:pt x="342" y="0"/>
                    <a:pt x="450" y="7"/>
                  </a:cubicBezTo>
                  <a:cubicBezTo>
                    <a:pt x="558" y="14"/>
                    <a:pt x="720" y="54"/>
                    <a:pt x="798" y="121"/>
                  </a:cubicBezTo>
                  <a:cubicBezTo>
                    <a:pt x="876" y="188"/>
                    <a:pt x="897" y="296"/>
                    <a:pt x="912" y="403"/>
                  </a:cubicBezTo>
                  <a:cubicBezTo>
                    <a:pt x="927" y="510"/>
                    <a:pt x="907" y="716"/>
                    <a:pt x="912" y="799"/>
                  </a:cubicBezTo>
                  <a:lnTo>
                    <a:pt x="942" y="901"/>
                  </a:lnTo>
                  <a:cubicBezTo>
                    <a:pt x="959" y="945"/>
                    <a:pt x="1019" y="1049"/>
                    <a:pt x="1014" y="1063"/>
                  </a:cubicBezTo>
                  <a:cubicBezTo>
                    <a:pt x="1009" y="1077"/>
                    <a:pt x="935" y="1006"/>
                    <a:pt x="912" y="985"/>
                  </a:cubicBezTo>
                  <a:lnTo>
                    <a:pt x="876" y="937"/>
                  </a:lnTo>
                  <a:lnTo>
                    <a:pt x="864" y="733"/>
                  </a:lnTo>
                  <a:lnTo>
                    <a:pt x="810" y="493"/>
                  </a:lnTo>
                  <a:lnTo>
                    <a:pt x="696" y="367"/>
                  </a:lnTo>
                  <a:lnTo>
                    <a:pt x="780" y="493"/>
                  </a:lnTo>
                  <a:cubicBezTo>
                    <a:pt x="794" y="546"/>
                    <a:pt x="816" y="691"/>
                    <a:pt x="780" y="685"/>
                  </a:cubicBezTo>
                  <a:cubicBezTo>
                    <a:pt x="744" y="679"/>
                    <a:pt x="663" y="504"/>
                    <a:pt x="612" y="433"/>
                  </a:cubicBezTo>
                  <a:lnTo>
                    <a:pt x="474" y="259"/>
                  </a:lnTo>
                  <a:lnTo>
                    <a:pt x="312" y="223"/>
                  </a:lnTo>
                  <a:lnTo>
                    <a:pt x="180" y="169"/>
                  </a:lnTo>
                  <a:cubicBezTo>
                    <a:pt x="128" y="148"/>
                    <a:pt x="54" y="145"/>
                    <a:pt x="0" y="9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21214800">
              <a:off x="6131160" y="4596120"/>
              <a:ext cx="604800" cy="262080"/>
            </a:xfrm>
            <a:custGeom>
              <a:avLst/>
              <a:gdLst/>
              <a:ahLst/>
              <a:rect l="l" t="t" r="r" b="b"/>
              <a:pathLst>
                <a:path w="381" h="165">
                  <a:moveTo>
                    <a:pt x="0" y="58"/>
                  </a:moveTo>
                  <a:lnTo>
                    <a:pt x="88" y="19"/>
                  </a:lnTo>
                  <a:lnTo>
                    <a:pt x="220" y="6"/>
                  </a:lnTo>
                  <a:cubicBezTo>
                    <a:pt x="220" y="6"/>
                    <a:pt x="381" y="0"/>
                    <a:pt x="287" y="55"/>
                  </a:cubicBezTo>
                  <a:cubicBezTo>
                    <a:pt x="193" y="110"/>
                    <a:pt x="100" y="165"/>
                    <a:pt x="100" y="165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782600">
              <a:off x="5398560" y="4934880"/>
              <a:ext cx="74520" cy="745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6009840" y="4484520"/>
            <a:ext cx="2909160" cy="2937240"/>
            <a:chOff x="6009840" y="4484520"/>
            <a:chExt cx="2909160" cy="2937240"/>
          </a:xfrm>
        </p:grpSpPr>
        <p:sp>
          <p:nvSpPr>
            <p:cNvPr id="11" name=""/>
            <p:cNvSpPr/>
            <p:nvPr/>
          </p:nvSpPr>
          <p:spPr>
            <a:xfrm rot="18767400">
              <a:off x="6300360" y="5047920"/>
              <a:ext cx="2327400" cy="1809720"/>
            </a:xfrm>
            <a:custGeom>
              <a:avLst/>
              <a:gdLst/>
              <a:ahLst/>
              <a:rect l="l" t="t" r="r" b="b"/>
              <a:pathLst>
                <a:path w="1466" h="1140">
                  <a:moveTo>
                    <a:pt x="12" y="438"/>
                  </a:moveTo>
                  <a:cubicBezTo>
                    <a:pt x="0" y="486"/>
                    <a:pt x="145" y="472"/>
                    <a:pt x="228" y="498"/>
                  </a:cubicBezTo>
                  <a:cubicBezTo>
                    <a:pt x="311" y="524"/>
                    <a:pt x="451" y="575"/>
                    <a:pt x="510" y="594"/>
                  </a:cubicBezTo>
                  <a:cubicBezTo>
                    <a:pt x="569" y="613"/>
                    <a:pt x="543" y="570"/>
                    <a:pt x="582" y="612"/>
                  </a:cubicBezTo>
                  <a:cubicBezTo>
                    <a:pt x="582" y="612"/>
                    <a:pt x="744" y="846"/>
                    <a:pt x="744" y="846"/>
                  </a:cubicBezTo>
                  <a:cubicBezTo>
                    <a:pt x="744" y="846"/>
                    <a:pt x="909" y="1061"/>
                    <a:pt x="942" y="1062"/>
                  </a:cubicBezTo>
                  <a:cubicBezTo>
                    <a:pt x="975" y="1063"/>
                    <a:pt x="966" y="918"/>
                    <a:pt x="942" y="852"/>
                  </a:cubicBezTo>
                  <a:cubicBezTo>
                    <a:pt x="918" y="786"/>
                    <a:pt x="824" y="664"/>
                    <a:pt x="858" y="666"/>
                  </a:cubicBezTo>
                  <a:cubicBezTo>
                    <a:pt x="858" y="666"/>
                    <a:pt x="1002" y="765"/>
                    <a:pt x="1146" y="864"/>
                  </a:cubicBezTo>
                  <a:cubicBezTo>
                    <a:pt x="1164" y="948"/>
                    <a:pt x="1164" y="1110"/>
                    <a:pt x="1218" y="1140"/>
                  </a:cubicBezTo>
                  <a:cubicBezTo>
                    <a:pt x="1242" y="1056"/>
                    <a:pt x="1272" y="1002"/>
                    <a:pt x="1272" y="954"/>
                  </a:cubicBezTo>
                  <a:lnTo>
                    <a:pt x="1218" y="852"/>
                  </a:lnTo>
                  <a:cubicBezTo>
                    <a:pt x="1217" y="832"/>
                    <a:pt x="1266" y="894"/>
                    <a:pt x="1266" y="834"/>
                  </a:cubicBezTo>
                  <a:cubicBezTo>
                    <a:pt x="1266" y="774"/>
                    <a:pt x="1234" y="694"/>
                    <a:pt x="1218" y="636"/>
                  </a:cubicBezTo>
                  <a:lnTo>
                    <a:pt x="1170" y="486"/>
                  </a:lnTo>
                  <a:lnTo>
                    <a:pt x="1440" y="456"/>
                  </a:lnTo>
                  <a:cubicBezTo>
                    <a:pt x="1466" y="443"/>
                    <a:pt x="1290" y="402"/>
                    <a:pt x="1326" y="408"/>
                  </a:cubicBezTo>
                  <a:cubicBezTo>
                    <a:pt x="1344" y="420"/>
                    <a:pt x="1242" y="405"/>
                    <a:pt x="1116" y="402"/>
                  </a:cubicBezTo>
                  <a:cubicBezTo>
                    <a:pt x="1092" y="342"/>
                    <a:pt x="1043" y="306"/>
                    <a:pt x="978" y="276"/>
                  </a:cubicBezTo>
                  <a:cubicBezTo>
                    <a:pt x="913" y="246"/>
                    <a:pt x="798" y="222"/>
                    <a:pt x="726" y="222"/>
                  </a:cubicBezTo>
                  <a:cubicBezTo>
                    <a:pt x="732" y="168"/>
                    <a:pt x="822" y="42"/>
                    <a:pt x="822" y="6"/>
                  </a:cubicBezTo>
                  <a:cubicBezTo>
                    <a:pt x="738" y="0"/>
                    <a:pt x="648" y="48"/>
                    <a:pt x="594" y="108"/>
                  </a:cubicBezTo>
                  <a:cubicBezTo>
                    <a:pt x="540" y="168"/>
                    <a:pt x="546" y="210"/>
                    <a:pt x="528" y="240"/>
                  </a:cubicBezTo>
                  <a:cubicBezTo>
                    <a:pt x="423" y="267"/>
                    <a:pt x="318" y="294"/>
                    <a:pt x="318" y="294"/>
                  </a:cubicBezTo>
                  <a:lnTo>
                    <a:pt x="198" y="384"/>
                  </a:lnTo>
                  <a:cubicBezTo>
                    <a:pt x="147" y="408"/>
                    <a:pt x="24" y="390"/>
                    <a:pt x="12" y="4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8767400">
              <a:off x="6942600" y="6170400"/>
              <a:ext cx="76320" cy="76320"/>
            </a:xfrm>
            <a:prstGeom prst="ellipse">
              <a:avLst/>
            </a:prstGeom>
            <a:solidFill>
              <a:srgbClr val="0000b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46E1-E0A1-4605-9EA5-4BA934815C35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402120" indent="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8046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0672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60920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609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66"/>
                </a:solidFill>
                <a:latin typeface="Tahoma"/>
                <a:ea typeface="華康古印體"/>
              </a:rPr>
              <a:t>鯨魚與海豚</a:t>
            </a:r>
            <a:endParaRPr b="0" lang="en-US" sz="9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00000" y="1125360"/>
            <a:ext cx="7315200" cy="20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華康超明體"/>
              </a:rPr>
              <a:t>海洋中的天才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摘要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SzPct val="12342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與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主要可分兩大類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須鯨－口中沒有牙齒，只有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齒鯨－口中保留牙齒，無須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SzPct val="1234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：一般統稱體長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公尺左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右的小型齒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鯨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海洋中的哺乳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用肺呼吸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目前形體最大的藍鯨是地球上最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大的動物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234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若以腦占體重的百分比來判斷動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物的聰明程度，則海豚僅次於人</a:t>
            </a:r>
            <a:br>
              <a:rPr sz="3900"/>
            </a:br>
            <a:r>
              <a:rPr b="0" lang="zh-TW" sz="3900" spc="-1" strike="noStrike">
                <a:solidFill>
                  <a:srgbClr val="ffffff"/>
                </a:solidFill>
                <a:latin typeface="Tahoma"/>
              </a:rPr>
              <a:t>  ，猴子名列第三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基本小常識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個性溫和好玩，喜歡推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動海面的漂浮物體游戲，因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此常有海豚救人的故事發生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海豚能接受人類的訓練，從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事表演或成為人類的助手，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如潛水打撈沉入海底中的物</a:t>
            </a:r>
            <a:br>
              <a:rPr sz="4500"/>
            </a:br>
            <a:r>
              <a:rPr b="0" lang="zh-TW" sz="4500" spc="-1" strike="noStrike">
                <a:solidFill>
                  <a:srgbClr val="ffffff"/>
                </a:solidFill>
                <a:latin typeface="Tahoma"/>
              </a:rPr>
              <a:t>  品或傳遞訊息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海豚與人類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ffff"/>
                </a:solidFill>
                <a:latin typeface="Tahoma"/>
              </a:rPr>
              <a:t>臺灣常見的鯨豚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SzPct val="1234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大翅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小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SzPct val="1234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偽虎鯨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條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飛旋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瓶鼻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ffff"/>
                </a:solidFill>
                <a:latin typeface="Tahoma"/>
              </a:rPr>
              <a:t>弗氏海豚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6:42:48Z</dcterms:created>
  <dc:creator>E052</dc:creator>
  <dc:description/>
  <dc:language>en-US</dc:language>
  <cp:lastModifiedBy>思蓉</cp:lastModifiedBy>
  <dcterms:modified xsi:type="dcterms:W3CDTF">2005-03-03T11:02:59Z</dcterms:modified>
  <cp:revision>13</cp:revision>
  <dc:subject/>
  <dc:title>海洋中的天才</dc:title>
</cp:coreProperties>
</file>