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7BC-ADC6-4D4F-9E57-D9D00899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E86-A1DC-46A2-B4BD-459B20B2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A2B-A289-40B4-BF84-8D757BFF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809-1800-43BA-91CB-CA3D6163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86E-33BC-4FF7-B4F0-441AD48E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AAE-AD3B-4186-AF10-9C228418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1F5-1D42-4F88-83C5-FB45CB5D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6C6-BFBB-4006-A00B-9E9AAF4A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02D-BD1F-48D0-9748-6419573E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F23-12E9-472D-9EAA-170AD247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ACB-C3DC-4AB9-85C6-F1F10987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450-C683-4AC1-8808-755C5343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DF28-B773-4F22-9E66-652CBE21E3B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3:21:48Z</dcterms:created>
  <dc:creator>思蓉</dc:creator>
  <dc:description/>
  <dc:language>en-US</dc:language>
  <cp:lastModifiedBy>思蓉</cp:lastModifiedBy>
  <dcterms:modified xsi:type="dcterms:W3CDTF">2005-02-26T03:25:57Z</dcterms:modified>
  <cp:revision>2</cp:revision>
  <dc:subject/>
  <dc:title>投影片 1</dc:title>
</cp:coreProperties>
</file>