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8719-52F5-4915-8404-643CBB690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D8D6-15F5-4E2B-9B2C-2455634B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0BD6-797F-481A-994E-DD9CF42B8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01D4-D82C-4A4B-85F7-6272795A8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BE27-FB41-445B-9468-C1CA9979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30A8-6C39-4312-BBFD-59FA2C45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56FA-78EF-4C08-8638-DE9C307C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18F6-AD31-4FC0-9A46-80BD1E2C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2361-D4E4-4D34-BAF7-5E305E77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44E2-B3EB-4781-870E-DEDABD77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C71A-5D60-4384-AFDF-41DCE4EA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4BBE-7C5E-4308-BA70-B287E26D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86B9-53EA-4A39-A583-9D0C18C0B2AC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800" spc="-1" strike="noStrike">
                <a:solidFill>
                  <a:srgbClr val="ff0066"/>
                </a:solidFill>
                <a:latin typeface="Arial"/>
                <a:ea typeface="華康POP1體W5"/>
              </a:rPr>
              <a:t>自我介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ff"/>
                </a:solidFill>
                <a:latin typeface="Arial"/>
                <a:ea typeface="華康少女文字W5"/>
              </a:rPr>
              <a:t>我的個人小檔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6T03:21:48Z</dcterms:created>
  <dc:creator>思蓉</dc:creator>
  <dc:description/>
  <dc:language>en-US</dc:language>
  <cp:lastModifiedBy>思蓉</cp:lastModifiedBy>
  <dcterms:modified xsi:type="dcterms:W3CDTF">2005-02-26T04:34:54Z</dcterms:modified>
  <cp:revision>3</cp:revision>
  <dc:subject/>
  <dc:title>投影片 1</dc:title>
</cp:coreProperties>
</file>