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9CB-E8EB-4C3C-ABDE-9D0887F0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B8E-89D3-41F6-A1C8-A3B2D7B5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148-716C-4CAD-80B5-2971964E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F38-5228-41C0-B779-7C5D7FF8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719-2EBC-441E-B00A-71E545FB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5A8-2064-445A-8139-FC2C93AC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900-BEE1-441F-A118-BB69B378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27D-D07D-4F62-905B-69F039C5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BA4-CEC4-479B-AD91-5A911504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D31-F31D-4FDD-8D85-8CC630BC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9B1-023B-4F45-B0A2-627E142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98C-0EC4-4768-81AE-D2617153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0E33-E1F6-4CDD-A8AD-32FC9B08CB5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file:///tmp/home/.config/libreoffice/4/user/gallery/MSSN00228A0000%5B1%5D.wav" TargetMode="External"/><Relationship Id="rId7" Type="http://schemas.microsoft.com/office/2007/relationships/media" Target="file:///tmp/home/.config/libreoffice/4/user/gallery/MSSN00228A0000%5B1%5D.wav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330000">
            <a:off x="-396360" y="2416320"/>
            <a:ext cx="9632880" cy="4397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89800" y="4834080"/>
            <a:ext cx="2554200" cy="226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41480" y="2709720"/>
            <a:ext cx="3601800" cy="410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3916200">
            <a:off x="6080400" y="619200"/>
            <a:ext cx="144432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157800" y="1346040"/>
            <a:ext cx="2014560" cy="193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36360" y="-27000"/>
            <a:ext cx="603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99"/>
                </a:solidFill>
                <a:latin typeface="Arial"/>
              </a:rPr>
              <a:t>很久很久以前，兔子與烏龜進行一場空前大對決，在這場比賽中，自信甚高的兔子，因瞧不起烏龜，而在賽程中偷睡覺，沒想到卻因而延誤比賽時間，讓烏龜贏了這場比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48160" y="3305160"/>
            <a:ext cx="8190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40"/>
                            </p:stCondLst>
                            <p:childTnLst>
                              <p:par>
                                <p:cTn id="1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33 -0.29921 L 0.00417 0.04714 E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4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612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06:24:51Z</dcterms:created>
  <dc:creator>思蓉</dc:creator>
  <dc:description/>
  <dc:language>en-US</dc:language>
  <cp:lastModifiedBy>思蓉</cp:lastModifiedBy>
  <dcterms:modified xsi:type="dcterms:W3CDTF">2005-03-03T06:33:51Z</dcterms:modified>
  <cp:revision>2</cp:revision>
  <dc:subject/>
  <dc:title>投影片 1</dc:title>
</cp:coreProperties>
</file>