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763A-841A-4AB7-9A02-7E68DDFB6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F01E-2301-42F3-BD30-B912B2511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CD8F-C345-4C29-A269-612FDD3BF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CC81-276B-40AA-8E85-CA4690412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C2F1-F9A6-47B1-9401-7AE6EADF4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2E13-07B3-4EC2-BBE1-D8DE7EB3C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A0E1-2991-4BBF-B1D7-AE0AC6B69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FF66-6379-4591-958A-E5B43CB29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5A38-59D3-43F2-88E3-E651F3239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9C78-20E7-408C-AE6C-A21406F07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0404-95CE-4F07-AF17-BF39C6F00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30D6-7330-476E-8EED-28D466B9E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F865E-B118-4588-A15B-7BEE11776E83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16000" y="1628640"/>
            <a:ext cx="3673440" cy="3503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643280" y="333360"/>
            <a:ext cx="4176720" cy="374328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500" spc="-1" strike="noStrike">
                <a:solidFill>
                  <a:srgbClr val="333399"/>
                </a:solidFill>
                <a:latin typeface="Arial"/>
                <a:ea typeface="華康新特圓體"/>
              </a:rPr>
              <a:t>等你來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600" spc="-1" strike="noStrike">
                <a:solidFill>
                  <a:srgbClr val="ff0066"/>
                </a:solidFill>
                <a:latin typeface="Arial"/>
                <a:ea typeface="華康新特圓體"/>
              </a:rPr>
              <a:t>挑戰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1T05:49:19Z</dcterms:created>
  <dc:creator>思蓉</dc:creator>
  <dc:description/>
  <dc:language>en-US</dc:language>
  <cp:lastModifiedBy>思蓉</cp:lastModifiedBy>
  <dcterms:modified xsi:type="dcterms:W3CDTF">2005-03-01T08:06:40Z</dcterms:modified>
  <cp:revision>4</cp:revision>
  <dc:subject/>
  <dc:title>投影片 1</dc:title>
</cp:coreProperties>
</file>