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F3A-6819-4B99-8B57-127A58F7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B1B-76A1-4D55-B3E7-6830720D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ECB-C570-447C-AC97-D319B3EE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54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256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26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54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256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68A-1E5E-4F49-BB0D-9C403FEF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DC94-40F5-4924-A06C-8525E622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C6EE-CEE0-40E4-A62C-573F52D2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90EF-6581-4AC7-86D2-4DE4D99E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285B-559D-43F8-ACC8-C76D861C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5298-E6C3-4BF1-BA96-69E12E22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2692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F19D-EFE2-4F5E-9A55-63B938F4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56F0-A73B-4412-89E3-BC9039E2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15A-79F0-4D48-AF85-C450BB71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7065-6AA2-469A-ADE9-9DEE6B73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E401-1D59-4B89-9F9A-C9921AE5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0AB8-AFC5-43C7-B2BE-1A9FB168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2314-8867-4D67-893A-70C2802B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4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8256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26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4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8256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7C07-27E5-459D-93CE-4E120F4F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BAD-EDD2-4CDC-A64E-6784268A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078-84CA-4A00-BC20-FD6C1B8A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0B1-102E-4192-862C-B847D3B0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2692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7D8-7961-41BF-B57F-6FBEE427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A15-3826-4E0B-BCC6-DD3F2820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8A6-F23C-4CFE-A186-49B24394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81C-7F29-45CA-AF8C-DE529F35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06200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C085-5272-4A27-9C1F-72030C653F40}" type="slidenum">
              <a:rPr b="0" lang="zh-TW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65760" indent="-36576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1" marL="821520" indent="-364320">
              <a:spcBef>
                <a:spcPts val="10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2" marL="1095840" indent="-182880">
              <a:spcBef>
                <a:spcPts val="10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3" marL="1370160" indent="-182880">
              <a:spcBef>
                <a:spcPts val="10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2509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240" y="19807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A2B7-4651-4969-87AB-8D3C5094ACBA}" type="slidenum"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r>
              <a:rPr b="0" lang="zh-TW" sz="8000" spc="-1" strike="noStrike">
                <a:solidFill>
                  <a:srgbClr val="ff0000"/>
                </a:solidFill>
                <a:latin typeface="華康POP1體W7"/>
                <a:ea typeface="華康POP1體W7"/>
              </a:rPr>
              <a:t>我</a:t>
            </a: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們</a:t>
            </a:r>
            <a:r>
              <a:rPr b="0" lang="zh-TW" sz="8000" spc="-1" strike="noStrike">
                <a:solidFill>
                  <a:srgbClr val="339933"/>
                </a:solidFill>
                <a:latin typeface="華康POP1體W7"/>
                <a:ea typeface="華康POP1體W7"/>
              </a:rPr>
              <a:t>這</a:t>
            </a:r>
            <a:r>
              <a:rPr b="0" lang="zh-TW" sz="8000" spc="-1" strike="noStrike">
                <a:solidFill>
                  <a:srgbClr val="ff9900"/>
                </a:solidFill>
                <a:latin typeface="華康POP1體W7"/>
                <a:ea typeface="華康POP1體W7"/>
              </a:rPr>
              <a:t>一</a:t>
            </a:r>
            <a:r>
              <a:rPr b="0" lang="zh-TW" sz="8000" spc="-1" strike="noStrike">
                <a:solidFill>
                  <a:srgbClr val="9999ff"/>
                </a:solidFill>
                <a:latin typeface="華康POP1體W7"/>
                <a:ea typeface="華康POP1體W7"/>
              </a:rPr>
              <a:t>班</a:t>
            </a: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endParaRPr b="0" lang="en-US" sz="8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64832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年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班 班級資料</a:t>
            </a:r>
            <a:endParaRPr b="0" lang="en-US" sz="6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通訊錄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21016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星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電話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顏成序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天秤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22-1234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周妤茗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處女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82-9956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朱笑添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雙子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22-1314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吳劍好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金牛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21-5420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班上男女生人數比例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2825280"/>
            <a:ext cx="40194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男生人數：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14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人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marL="457200" indent="-457200">
              <a:spcBef>
                <a:spcPts val="36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女生人數：</a:t>
            </a: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17</a:t>
            </a: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人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89440" y="21016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9440" y="21016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班級幹部組織圖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7:52:26Z</dcterms:created>
  <dc:creator>e049</dc:creator>
  <dc:description/>
  <dc:language>en-US</dc:language>
  <cp:lastModifiedBy>思蓉</cp:lastModifiedBy>
  <dcterms:modified xsi:type="dcterms:W3CDTF">2005-03-02T08:03:23Z</dcterms:modified>
  <cp:revision>22</cp:revision>
  <dc:subject/>
  <dc:title>我們這一班</dc:title>
</cp:coreProperties>
</file>