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A98-4441-4691-832F-8178AFB8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CFDA-0791-4A02-A5E8-4E11B3D9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E33-B537-40FA-A674-2EFFF9EE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484E-CBBE-4B70-BF9E-DB5FBAC9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95A-7551-499B-8249-1050D48C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ADD-FD80-43FB-9B4D-44DC72F7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64D-4D95-4089-9FB2-270DA679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16F4-3E75-493C-9AB7-C9C701F4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B1C2-A002-4FB2-9FAD-36F18D54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395-82C4-4122-AE9E-2D4651CD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DC2-59D5-4921-A685-6D37A25B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95B-2D95-46E5-82A3-C0BB0369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216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2214-34B6-4CD7-8E9A-995B964A6D42}" type="slidenum">
              <a:rPr b="0" lang="zh-TW" sz="2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2000" y="1990800"/>
            <a:ext cx="6794280" cy="302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gradFill rotWithShape="0">
                  <a:gsLst>
                    <a:gs pos="0">
                      <a:srgbClr val="f2531a"/>
                    </a:gs>
                    <a:gs pos="50000">
                      <a:srgbClr val="ffff00"/>
                    </a:gs>
                    <a:gs pos="100000">
                      <a:srgbClr val="f2531a"/>
                    </a:gs>
                  </a:gsLst>
                  <a:lin ang="5400000"/>
                </a:gradFill>
                <a:latin typeface="華康少女文字W5"/>
              </a:rPr>
              <a:t>墾丁之旅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f2531a"/>
                  </a:gs>
                  <a:gs pos="50000">
                    <a:srgbClr val="ffff00"/>
                  </a:gs>
                  <a:gs pos="100000">
                    <a:srgbClr val="f2531a"/>
                  </a:gs>
                </a:gsLst>
                <a:lin ang="5400000"/>
              </a:gradFill>
              <a:latin typeface="華康少女文字W5"/>
              <a:ea typeface="華康少女文字W5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5516640"/>
            <a:ext cx="423396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ffff99"/>
                </a:solidFill>
                <a:latin typeface="華康少女文字W3"/>
                <a:ea typeface="華康少女文字W3"/>
              </a:rPr>
              <a:t>小魔女 嘔心企劃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ffff99"/>
                </a:solidFill>
                <a:latin typeface="華康少女文字W3"/>
                <a:ea typeface="華康少女文字W3"/>
              </a:rPr>
              <a:t>QQ</a:t>
            </a:r>
            <a:r>
              <a:rPr b="0" lang="zh-TW" sz="3500" spc="-1" strike="noStrike">
                <a:solidFill>
                  <a:srgbClr val="ffff99"/>
                </a:solidFill>
                <a:latin typeface="華康少女文字W3"/>
                <a:ea typeface="華康少女文字W3"/>
              </a:rPr>
              <a:t>鼠率團 泣血製作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5840" y="5805360"/>
            <a:ext cx="4467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500" spc="-1" strike="noStrike">
                <a:solidFill>
                  <a:srgbClr val="ffffff"/>
                </a:solidFill>
                <a:latin typeface="華康POP1體W5"/>
                <a:ea typeface="華康POP1體W5"/>
              </a:rPr>
              <a:t>墾丁之旅紀事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240" y="1380960"/>
            <a:ext cx="8736120" cy="319320"/>
            <a:chOff x="228240" y="1380960"/>
            <a:chExt cx="8736120" cy="319320"/>
          </a:xfrm>
        </p:grpSpPr>
        <p:sp>
          <p:nvSpPr>
            <p:cNvPr id="45" name=""/>
            <p:cNvSpPr/>
            <p:nvPr/>
          </p:nvSpPr>
          <p:spPr>
            <a:xfrm>
              <a:off x="678600" y="1380960"/>
              <a:ext cx="8285760" cy="31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27880" y="1380960"/>
              <a:ext cx="46548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4759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63504" dir="7616091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500" spc="-1" strike="noStrike">
                <a:solidFill>
                  <a:srgbClr val="006633"/>
                </a:solidFill>
                <a:latin typeface="Arial"/>
                <a:ea typeface="華康少女文字W3"/>
              </a:rPr>
              <a:t>凡走過，必留下足跡…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84360" y="2104560"/>
            <a:ext cx="69897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一天：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火車快飛到墾丁＋營火晚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二天：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魚兒水中游＋夜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第三天：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imes New Roman"/>
                <a:ea typeface="標楷體"/>
              </a:rPr>
              <a:t>依依不捨說再見＋溫暖的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868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500" spc="-1" strike="noStrike">
                <a:solidFill>
                  <a:srgbClr val="006633"/>
                </a:solidFill>
                <a:latin typeface="Arial"/>
                <a:ea typeface="華康少女文字W3"/>
              </a:rPr>
              <a:t>墾丁行腳…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3789360"/>
            <a:ext cx="4698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0000"/>
                </a:solidFill>
                <a:latin typeface="標楷體"/>
                <a:ea typeface="標楷體"/>
              </a:rPr>
              <a:t>青年活動中心</a:t>
            </a:r>
            <a:br>
              <a:rPr sz="3500"/>
            </a:br>
            <a:r>
              <a:rPr b="0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建築以三合院、</a:t>
            </a:r>
            <a:r>
              <a:rPr b="0" lang="zh-TW" sz="35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合院為主，為仿照台灣傳統書院的建築</a:t>
            </a:r>
            <a:r>
              <a:rPr b="0" lang="zh-TW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03440" y="1463760"/>
            <a:ext cx="3436920" cy="4270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95840" y="596880"/>
            <a:ext cx="3908520" cy="2936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500" spc="-1" strike="noStrike">
                <a:solidFill>
                  <a:srgbClr val="006633"/>
                </a:solidFill>
                <a:latin typeface="Arial"/>
                <a:ea typeface="華康少女文字W3"/>
              </a:rPr>
              <a:t>墾丁行腳…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64040" y="3429000"/>
            <a:ext cx="4705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船帆石</a:t>
            </a:r>
            <a:br>
              <a:rPr sz="3500"/>
            </a:br>
            <a:r>
              <a:rPr b="0" lang="zh-TW" sz="35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位於墾丁與鵝鑾鼻之間，高約</a:t>
            </a:r>
            <a:r>
              <a:rPr b="0" lang="zh-TW" sz="35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50</a:t>
            </a:r>
            <a:r>
              <a:rPr b="0" lang="zh-TW" sz="35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公尺，因形狀像一艘船隻而得名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88000" y="852480"/>
            <a:ext cx="3763800" cy="2544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454560" cy="4191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500" spc="-1" strike="noStrike">
                <a:solidFill>
                  <a:srgbClr val="006633"/>
                </a:solidFill>
                <a:latin typeface="Arial"/>
                <a:ea typeface="華康少女文字W3"/>
              </a:rPr>
              <a:t>墾丁行腳…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3933720"/>
            <a:ext cx="5187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0000"/>
                </a:solidFill>
                <a:latin typeface="Times New Roman"/>
                <a:ea typeface="華康細圓體"/>
              </a:rPr>
              <a:t>恆春古城</a:t>
            </a:r>
            <a:br>
              <a:rPr sz="3500"/>
            </a:br>
            <a:r>
              <a:rPr b="0" lang="zh-TW" sz="35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恆春于清光緒元年開始建城，如今留下東、西、南、北四座城門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37080" y="1211400"/>
            <a:ext cx="3095640" cy="2325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35640" y="3811680"/>
            <a:ext cx="3168720" cy="226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966960" y="1413000"/>
            <a:ext cx="3286080" cy="2481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 flipH="1">
            <a:off x="4614840" y="765000"/>
            <a:ext cx="673200" cy="67320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249240" y="765000"/>
            <a:ext cx="671400" cy="67320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433840" y="765000"/>
            <a:ext cx="671760" cy="67320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798720" y="762120"/>
            <a:ext cx="671760" cy="67284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7066800" y="765000"/>
            <a:ext cx="671400" cy="67320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884360" y="765000"/>
            <a:ext cx="671400" cy="67320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500" spc="-1" strike="noStrike">
                <a:solidFill>
                  <a:srgbClr val="006633"/>
                </a:solidFill>
                <a:latin typeface="Arial"/>
                <a:ea typeface="華康少女文字W3"/>
              </a:rPr>
              <a:t>閃亮的一刻…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6248520"/>
            <a:ext cx="640872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16280" y="1763640"/>
            <a:ext cx="316080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4:39:40Z</dcterms:created>
  <dc:creator>e052</dc:creator>
  <dc:description/>
  <dc:language>en-US</dc:language>
  <cp:lastModifiedBy>思蓉</cp:lastModifiedBy>
  <dcterms:modified xsi:type="dcterms:W3CDTF">2005-03-04T01:25:04Z</dcterms:modified>
  <cp:revision>15</cp:revision>
  <dc:subject/>
  <dc:title>墾丁之旅</dc:title>
</cp:coreProperties>
</file>