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D82C-15A0-4E4B-A6C6-C75350BA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2692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078-D1C1-40A2-ADB1-7B16A3C7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0960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FECF-6EB7-4CB3-9B87-9288720E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549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8256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269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549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8256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245-675C-4D6E-8972-9CC5BD9E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F101-C2BB-4E21-8F38-1700EB42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90B9-2167-4AB9-87B2-3AFCDD2D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BF75-1C5C-4B9E-8EAC-3D03EBAC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97BA-FC29-4940-BF65-C1A145D6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84C0-8941-4ADC-9280-07CDD6AC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2692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9C67-8D8F-42F8-B77D-64712EF4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4477-2B94-43A1-94C0-814842CE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9671-20AA-483B-83CD-103500F3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0960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69FA-92A2-43FC-B5AC-6B4D7807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1DDF-4D43-4C44-9155-BB753813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2692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1642-C712-4543-80A4-33945A08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0960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5931-A6CF-4604-AB06-5EB8C4F5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49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8256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269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549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8256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9DB7-3B01-4A75-901C-66B675CA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3F8-9C38-4C02-B538-D35CD46C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0FD7-D856-4C52-ACD6-A56F96FA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08FB-6A45-455F-B1FA-CD788BB0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2692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4C7E-22D2-48F5-839C-2E974268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F56-1871-48EA-8B49-7D8261C0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0960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0441-A66F-4FE0-902F-5B1252B3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BEF-5EBE-4A3A-BF68-F4CF8D1D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06200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5D95-3CFF-4A33-96C9-EE54A70E710F}" type="slidenum">
              <a:rPr b="0" lang="zh-TW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65760" indent="-36576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1" marL="821520" indent="-364320">
              <a:spcBef>
                <a:spcPts val="10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2" marL="1095840" indent="-182880">
              <a:spcBef>
                <a:spcPts val="10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3" marL="1370160" indent="-182880">
              <a:spcBef>
                <a:spcPts val="10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2509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240" y="198072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D75D-60FC-40F2-B644-539DD8942B51}" type="slidenum"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〜</a:t>
            </a:r>
            <a:r>
              <a:rPr b="0" lang="zh-TW" sz="8000" spc="-1" strike="noStrike">
                <a:solidFill>
                  <a:srgbClr val="ff0000"/>
                </a:solidFill>
                <a:latin typeface="華康POP1體W7"/>
                <a:ea typeface="華康POP1體W7"/>
              </a:rPr>
              <a:t>我</a:t>
            </a:r>
            <a:r>
              <a:rPr b="0" lang="zh-TW" sz="80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們</a:t>
            </a:r>
            <a:r>
              <a:rPr b="0" lang="zh-TW" sz="8000" spc="-1" strike="noStrike">
                <a:solidFill>
                  <a:srgbClr val="339933"/>
                </a:solidFill>
                <a:latin typeface="華康POP1體W7"/>
                <a:ea typeface="華康POP1體W7"/>
              </a:rPr>
              <a:t>這</a:t>
            </a:r>
            <a:r>
              <a:rPr b="0" lang="zh-TW" sz="8000" spc="-1" strike="noStrike">
                <a:solidFill>
                  <a:srgbClr val="ff9900"/>
                </a:solidFill>
                <a:latin typeface="華康POP1體W7"/>
                <a:ea typeface="華康POP1體W7"/>
              </a:rPr>
              <a:t>一</a:t>
            </a:r>
            <a:r>
              <a:rPr b="0" lang="zh-TW" sz="8000" spc="-1" strike="noStrike">
                <a:solidFill>
                  <a:srgbClr val="9999ff"/>
                </a:solidFill>
                <a:latin typeface="華康POP1體W7"/>
                <a:ea typeface="華康POP1體W7"/>
              </a:rPr>
              <a:t>班</a:t>
            </a:r>
            <a:r>
              <a:rPr b="0" lang="zh-TW" sz="80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〜</a:t>
            </a:r>
            <a:endParaRPr b="0" lang="en-US" sz="8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648320"/>
            <a:ext cx="7429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5</a:t>
            </a:r>
            <a:r>
              <a:rPr b="0" lang="zh-TW" sz="60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年</a:t>
            </a:r>
            <a:r>
              <a:rPr b="0" lang="zh-TW" sz="60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5</a:t>
            </a:r>
            <a:r>
              <a:rPr b="0" lang="zh-TW" sz="60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班 班級資料</a:t>
            </a:r>
            <a:endParaRPr b="0" lang="en-US" sz="6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33cc"/>
                </a:solidFill>
                <a:latin typeface="Times New Roman"/>
                <a:ea typeface="華康POP1體W5"/>
              </a:rPr>
              <a:t>通訊錄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26920" y="21016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姓名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星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電話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顏成序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天秤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2322-1234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周妤茗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處女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2382-9956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朱笑添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雙子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2322-1314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990099"/>
                          </a:solidFill>
                          <a:latin typeface="華康仿宋體W6"/>
                          <a:ea typeface="華康仿宋體W6"/>
                        </a:rPr>
                        <a:t>吳劍好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9900"/>
                          </a:solidFill>
                          <a:latin typeface="華康仿宋體W6"/>
                          <a:ea typeface="華康仿宋體W6"/>
                        </a:rPr>
                        <a:t>金牛座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99ff"/>
                          </a:solidFill>
                          <a:latin typeface="華康仿宋體W6"/>
                          <a:ea typeface="華康仿宋體W6"/>
                        </a:rPr>
                        <a:t>2321-5420</a:t>
                      </a:r>
                      <a:endParaRPr b="0" lang="en-US" sz="3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33cc"/>
                </a:solidFill>
                <a:latin typeface="Times New Roman"/>
                <a:ea typeface="華康POP1體W5"/>
              </a:rPr>
              <a:t>班上男女生人數比例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2825280"/>
            <a:ext cx="40194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男生人數：</a:t>
            </a: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14</a:t>
            </a: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人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marL="457200" indent="-457200">
              <a:spcBef>
                <a:spcPts val="36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a9500"/>
                </a:solidFill>
                <a:latin typeface="Times New Roman"/>
              </a:rPr>
              <a:t>女生人數：</a:t>
            </a:r>
            <a:r>
              <a:rPr b="0" lang="zh-TW" sz="3600" spc="-1" strike="noStrike">
                <a:solidFill>
                  <a:srgbClr val="fa9500"/>
                </a:solidFill>
                <a:latin typeface="Times New Roman"/>
              </a:rPr>
              <a:t>17</a:t>
            </a:r>
            <a:r>
              <a:rPr b="0" lang="zh-TW" sz="3600" spc="-1" strike="noStrike">
                <a:solidFill>
                  <a:srgbClr val="fa9500"/>
                </a:solidFill>
                <a:latin typeface="Times New Roman"/>
              </a:rPr>
              <a:t>人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22760" y="2101680"/>
            <a:ext cx="3981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33cc"/>
                </a:solidFill>
                <a:latin typeface="Times New Roman"/>
                <a:ea typeface="華康POP1體W5"/>
              </a:rPr>
              <a:t>班級幹部組織圖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07:52:26Z</dcterms:created>
  <dc:creator>e049</dc:creator>
  <dc:description/>
  <dc:language>en-US</dc:language>
  <cp:lastModifiedBy>思蓉</cp:lastModifiedBy>
  <dcterms:modified xsi:type="dcterms:W3CDTF">2005-03-02T07:57:40Z</dcterms:modified>
  <cp:revision>16</cp:revision>
  <dc:subject/>
  <dc:title>我們這一班</dc:title>
</cp:coreProperties>
</file>