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69A-E59D-40D5-9801-8895BDCC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686-20BD-4417-B2F8-7FC5865B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28B-9D08-4482-95CD-DED141FF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2CF-77CA-4BBF-A72F-3251032B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AB0-8A26-4AEA-BB61-5CD458CD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3D1-4F56-4C9A-B433-825BED98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1DC-28AC-4603-9F61-B9BC50E5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5ED-1CE4-48C3-82C5-FAB85F09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F7B-E38A-4001-AE9E-DBED3C15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45F-1911-41F5-B66F-1F036A41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0E4-8388-4C94-B8C3-4E49B3F9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02A-91C7-425D-BF2E-DED2C8AE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ECCB-C521-405F-9971-F12C6660A49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0066"/>
                </a:solidFill>
                <a:latin typeface="Arial"/>
                <a:ea typeface="華康POP1體W5"/>
              </a:rPr>
              <a:t>自我介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Arial"/>
                <a:ea typeface="華康少女文字W5"/>
              </a:rPr>
              <a:t>我的個人小檔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5013360"/>
            <a:ext cx="44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五年五班 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24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號 范曉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報告日期：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96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年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9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月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26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ff"/>
                </a:solidFill>
                <a:latin typeface="Arial"/>
                <a:ea typeface="華康POP1體W5"/>
              </a:rPr>
              <a:t>基本資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身高：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152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公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體重：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40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公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星座：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獅子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血型：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O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家庭成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爹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媽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哥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小狗～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"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波波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ff"/>
                </a:solidFill>
                <a:latin typeface="Arial"/>
                <a:ea typeface="華康POP1體W5"/>
              </a:rPr>
              <a:t>我的興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戶外運動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羽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躲避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游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室內靜態類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畫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收集哈姆太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看電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玩電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ff"/>
                </a:solidFill>
                <a:latin typeface="Arial"/>
                <a:ea typeface="華康POP1體W5"/>
              </a:rPr>
              <a:t>才藝比賽記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三年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全校畫畫比賽</a:t>
            </a: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.....</a:t>
            </a: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佳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四年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戰鬥陀螺爭霸賽</a:t>
            </a: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...</a:t>
            </a: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亞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班際躲避球</a:t>
            </a: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.......</a:t>
            </a:r>
            <a:r>
              <a:rPr b="0" lang="zh-TW" sz="44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最有潛力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3:21:48Z</dcterms:created>
  <dc:creator>思蓉</dc:creator>
  <dc:description/>
  <dc:language>en-US</dc:language>
  <cp:lastModifiedBy>思蓉</cp:lastModifiedBy>
  <dcterms:modified xsi:type="dcterms:W3CDTF">2005-03-13T02:38:16Z</dcterms:modified>
  <cp:revision>7</cp:revision>
  <dc:subject/>
  <dc:title>投影片 1</dc:title>
</cp:coreProperties>
</file>