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A5C-3960-4AD3-BE1A-94D52634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3FB-2C9E-4FEB-A7DD-4AAAB8A5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056-35D4-42D9-9E57-61630BE5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335-4615-4B21-B012-16260ECE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3FCD-752D-4FC4-843D-EC6BB57E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E47E-C4D7-417B-8B4B-6A81DCA7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CDEB-05D3-48D9-8AB6-5BEB507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F1D-3188-4B98-8C0A-E4F1CFCC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864C-B7C7-4859-A478-EF6FEE4A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F895-92AC-4FC3-AEE0-A40985CB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DC73-C5EB-42AE-82ED-EC83185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8B5-D874-4E42-A5DF-4C118DD6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4F9F-A979-4395-9883-DF8355C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D8F-6AA2-4E9C-B7C5-B9B74B94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9B92-F826-4F46-B5D8-8D90C9D5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C0BC-9B2F-4002-8CEC-9E00BA3B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49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49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8E5B-0FAD-4BE0-9F88-4C3C8D15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6B8-67E1-4A65-987B-4BF201E9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21D-6332-4C2C-BE44-B01EAD4E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F12-DDE7-4690-8516-BEB2E50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2692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B65-104D-439E-B585-EC559A6F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066-1E86-4CBB-B745-811961B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960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568-D4EA-474F-9D68-2A04E894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960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2DB-B7E0-402C-865F-C206C72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06200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8BD-F3BC-4876-9A85-43C8BF537B35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82692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2509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19807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E9AE-00EE-4EEA-959F-96080BABCCE1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r>
              <a:rPr b="0" lang="zh-TW" sz="8000" spc="-1" strike="noStrike">
                <a:solidFill>
                  <a:srgbClr val="ff0000"/>
                </a:solidFill>
                <a:latin typeface="華康POP1體W7"/>
                <a:ea typeface="華康POP1體W7"/>
              </a:rPr>
              <a:t>我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們</a:t>
            </a:r>
            <a:r>
              <a:rPr b="0" lang="zh-TW" sz="8000" spc="-1" strike="noStrike">
                <a:solidFill>
                  <a:srgbClr val="339933"/>
                </a:solidFill>
                <a:latin typeface="華康POP1體W7"/>
                <a:ea typeface="華康POP1體W7"/>
              </a:rPr>
              <a:t>這</a:t>
            </a:r>
            <a:r>
              <a:rPr b="0" lang="zh-TW" sz="8000" spc="-1" strike="noStrike">
                <a:solidFill>
                  <a:srgbClr val="ff9900"/>
                </a:solidFill>
                <a:latin typeface="華康POP1體W7"/>
                <a:ea typeface="華康POP1體W7"/>
              </a:rPr>
              <a:t>一</a:t>
            </a:r>
            <a:r>
              <a:rPr b="0" lang="zh-TW" sz="8000" spc="-1" strike="noStrike">
                <a:solidFill>
                  <a:srgbClr val="9999ff"/>
                </a:solidFill>
                <a:latin typeface="華康POP1體W7"/>
                <a:ea typeface="華康POP1體W7"/>
              </a:rPr>
              <a:t>班</a:t>
            </a:r>
            <a:r>
              <a:rPr b="0" lang="zh-TW" sz="8000" spc="-1" strike="noStrike">
                <a:solidFill>
                  <a:srgbClr val="0099ff"/>
                </a:solidFill>
                <a:latin typeface="華康POP1體W7"/>
                <a:ea typeface="華康POP1體W7"/>
              </a:rPr>
              <a:t>〜</a:t>
            </a:r>
            <a:endParaRPr b="0" lang="en-US" sz="8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64832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年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5</a:t>
            </a:r>
            <a:r>
              <a:rPr b="0" lang="zh-TW" sz="6000" spc="-1" strike="noStrike">
                <a:solidFill>
                  <a:srgbClr val="663300"/>
                </a:solidFill>
                <a:latin typeface="華康楷書體W7"/>
                <a:ea typeface="華康楷書體W7"/>
              </a:rPr>
              <a:t>班 班級資料</a:t>
            </a:r>
            <a:endParaRPr b="0" lang="en-US" sz="6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通訊錄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2101680"/>
          <a:ext cx="777240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上男女生人數比例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2825280"/>
            <a:ext cx="4019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男生人數：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14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marL="457200" indent="-457200">
              <a:spcBef>
                <a:spcPts val="36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女生人數：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17</a:t>
            </a:r>
            <a:r>
              <a:rPr b="0" lang="zh-TW" sz="3600" spc="-1" strike="noStrike">
                <a:solidFill>
                  <a:srgbClr val="fa95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22760" y="2101680"/>
            <a:ext cx="398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33cc"/>
                </a:solidFill>
                <a:latin typeface="Times New Roman"/>
                <a:ea typeface="華康POP1體W5"/>
              </a:rPr>
              <a:t>班級幹部組織圖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7:52:26Z</dcterms:created>
  <dc:creator>e049</dc:creator>
  <dc:description/>
  <dc:language>en-US</dc:language>
  <cp:lastModifiedBy>思蓉</cp:lastModifiedBy>
  <dcterms:modified xsi:type="dcterms:W3CDTF">2005-03-02T07:57:32Z</dcterms:modified>
  <cp:revision>13</cp:revision>
  <dc:subject/>
  <dc:title>我們這一班</dc:title>
</cp:coreProperties>
</file>