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505-605F-426C-8F23-BAE90112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8AB-39BF-473E-B3B6-20B8D2B7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BDD-80D3-421A-B37E-BED5C54D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9B2-7B17-4AAA-8D47-39831C2E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92B0-5B23-4448-B8BE-D0899226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3B67-E18F-465F-A212-2CF3293A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192B-0D7D-4E61-B390-5DC49450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9A72-AA19-4C40-B3EA-0430C9A7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184B-DF26-40F0-BDB5-2DFE1842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E97B-6E15-4BFF-BF01-7A000811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FFF7-F2BC-4424-83EE-B9B7C61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8BB-8CF5-4A5C-B732-8B5BE0CF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1689-FCAA-4A86-9478-6F366F79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984A-8B7F-49F5-B1EF-9288A9E3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BC54-27EB-472B-8D5E-D873025C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CF6B-46EE-4745-842C-1BC582F4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AD92-B6E0-479E-8BFB-1BCDE99A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4DD-3D28-4295-96A9-08A785A9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78A-D6FF-487A-96D8-C70BAE66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6EB-CD09-403E-B7FB-9E2A1D24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DDB-83CE-4C93-A5CA-10E5657A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684-D5A0-40C4-8B59-6BCA9FC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22C-43E1-4E84-B949-17DEE1BD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237-966B-43B1-A29B-168C97ED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F235-32EF-4BB7-B7F4-969EB45627AE}" type="slidenum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351F-7583-4223-8B2E-7555E38DB45E}" type="slidenum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60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我的基本資料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09640" y="2214360"/>
          <a:ext cx="7958160" cy="388116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6000" spc="-1" strike="noStrike">
                <a:solidFill>
                  <a:srgbClr val="0033cc"/>
                </a:solidFill>
                <a:latin typeface="Times New Roman"/>
                <a:ea typeface="華康中圓體"/>
              </a:rPr>
              <a:t>我的甜蜜家庭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1:15:52Z</dcterms:created>
  <dc:creator>e049</dc:creator>
  <dc:description/>
  <dc:language>en-US</dc:language>
  <cp:lastModifiedBy>思蓉</cp:lastModifiedBy>
  <dcterms:modified xsi:type="dcterms:W3CDTF">2005-03-02T08:54:56Z</dcterms:modified>
  <cp:revision>11</cp:revision>
  <dc:subject/>
  <dc:title>旗立小學組織圖</dc:title>
</cp:coreProperties>
</file>