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996-A2ED-4D2A-9F7A-1AEAE38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271-9F74-4B50-84F6-DA3C53CE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D9E-D128-4CFB-8B7D-FE765F32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4AE-228F-4B73-8EC0-D6086039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C09-F809-4563-8931-109D0F2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9B0-E819-46F5-BD20-6AF5E969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78A-6F6A-4888-BF5B-8AB22AA6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638-5776-4DC9-87FB-2355C5F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88D-1536-4EA0-9575-69A16B3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67E-1D74-4A53-B020-DC9F143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0EB-3BCB-4AD4-B92B-7C8293D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B91-D3E8-40CA-91F1-F836DA6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9F3F-FEEA-48CE-B3C1-2104C575CD5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91400" cy="6208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1800" y="2346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Cataneo BT"/>
                <a:ea typeface="華康布丁體"/>
              </a:rPr>
              <a:t>2007</a:t>
            </a:r>
            <a:r>
              <a:rPr b="1" lang="zh-TW" sz="7200" spc="-1" strike="noStrike">
                <a:solidFill>
                  <a:srgbClr val="000000"/>
                </a:solidFill>
                <a:latin typeface="華康少女文字W3"/>
                <a:ea typeface="華康少女文字W3"/>
              </a:rPr>
              <a:t>年旅遊相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769600" cy="620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12640" y="541440"/>
            <a:ext cx="8153640" cy="546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87640" y="6048360"/>
            <a:ext cx="388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</a:rPr>
              <a:t>花蓮－海洋世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3160" y="326880"/>
            <a:ext cx="8799480" cy="620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541440"/>
            <a:ext cx="8240760" cy="553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056280"/>
            <a:ext cx="748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Times New Roman"/>
              </a:rPr>
              <a:t>花蓮－七星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2:23:45Z</dcterms:created>
  <dc:creator>思蓉</dc:creator>
  <dc:description/>
  <dc:language>en-US</dc:language>
  <cp:lastModifiedBy>思蓉</cp:lastModifiedBy>
  <dcterms:modified xsi:type="dcterms:W3CDTF">2005-03-07T03:39:24Z</dcterms:modified>
  <cp:revision>3</cp:revision>
  <dc:subject/>
  <dc:title>投影片 1</dc:title>
</cp:coreProperties>
</file>