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406D-8039-48AA-A377-59042A30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AE0-1C56-46DF-AEC4-4204B59C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8502-F6EB-4007-A3F5-3589179C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8887-3CD1-43E1-964A-67A27B01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46C1-D7A2-4EF7-9A63-5A5E9F1D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AA55-DF12-40FF-9DA7-257DEAFD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8298-1D24-4DA0-900D-C137B0C3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34EE-5CFF-474F-8413-5B27FF1B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7195-04F4-4665-8513-1927FF85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DD18-E61F-4520-B89F-E13CC167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FF17-25CC-4359-A090-F37413F0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69BF-2490-4446-A8A4-9E568FD6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4D2B-E047-40F8-A8E4-A3171FD2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81E4-EE25-4939-A46A-D27FE570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A771-5657-493D-A9DE-B47AE093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E35F-9D04-4920-A130-B6A8BDCC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43BA-D010-4C9C-9B17-ABDE34D7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8D52-2516-488B-99D7-C03D19A0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E3A4-CCC5-400D-9532-469AF186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6F2F-0318-4AF8-8853-C91AF7B3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D905-9D38-4EC2-85C6-98796482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437-46D8-47A7-95A3-04BC4EB7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B365-9F91-4A66-BF99-F409B25A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7304-2F97-428F-AEF1-419D69EE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1802-59DA-4B46-BC2E-7AE1E92098D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FF35-E31B-4D6C-B860-911EA66B6D6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四年一班　甄好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2663640" cy="16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精選笑話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高麗菜爬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十顆雞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颱風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社會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27640" y="2637000"/>
            <a:ext cx="352908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846680" y="1341360"/>
            <a:ext cx="3865680" cy="4392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高麗菜爬山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兩顆高麗菜一前一後在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山。爬到山頂時，前面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高麗菜為什麼不見了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508720" y="4005360"/>
            <a:ext cx="936360" cy="85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十顆雞蛋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5256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有一天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顆雞蛋對第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顆雞蛋說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2600" spc="-1" strike="noStrike">
                <a:solidFill>
                  <a:srgbClr val="996600"/>
                </a:solidFill>
                <a:latin typeface="Arial"/>
              </a:rPr>
              <a:t>你看，第</a:t>
            </a: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10</a:t>
            </a:r>
            <a:r>
              <a:rPr b="0" lang="zh-TW" sz="2600" spc="-1" strike="noStrike">
                <a:solidFill>
                  <a:srgbClr val="996600"/>
                </a:solidFill>
                <a:latin typeface="Arial"/>
              </a:rPr>
              <a:t>顆雞蛋有毛吔！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顆雞蛋也說了同樣的話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後來一直傳到第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顆雞蛋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顆雞蛋終於忍不住叫道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2600" spc="-1" strike="noStrike">
                <a:solidFill>
                  <a:srgbClr val="996600"/>
                </a:solidFill>
                <a:latin typeface="Arial"/>
              </a:rPr>
              <a:t>我是奇異果啦～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颱風天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颱風天要帶多少錢出門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答案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996600"/>
                </a:solidFill>
                <a:latin typeface="Arial"/>
              </a:rPr>
              <a:t>四千萬。因為颱風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996600"/>
                </a:solidFill>
                <a:latin typeface="Arial"/>
              </a:rPr>
              <a:t>沒「事千萬」不要出門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19640" y="1052640"/>
            <a:ext cx="2567160" cy="2701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651640" y="3716280"/>
            <a:ext cx="2259000" cy="22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006633"/>
                </a:solidFill>
                <a:latin typeface="Garamond"/>
              </a:rPr>
              <a:t>社會課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在一堂社會課裡，有個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生在打瞌睡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老師把他叫醒後問道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2600" spc="-1" strike="noStrike">
                <a:solidFill>
                  <a:srgbClr val="996600"/>
                </a:solidFill>
                <a:latin typeface="Arial"/>
              </a:rPr>
              <a:t>清廷最大的敵人是誰？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學生睡眼惺忪的回答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2600" spc="-1" strike="noStrike">
                <a:solidFill>
                  <a:srgbClr val="996600"/>
                </a:solidFill>
                <a:latin typeface="Arial"/>
              </a:rPr>
              <a:t>青蛙！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00720" y="3860640"/>
            <a:ext cx="3095640" cy="2043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 rot="5400000">
            <a:off x="7536240" y="2768760"/>
            <a:ext cx="114156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6633"/>
                </a:solidFill>
                <a:latin typeface="Garamond"/>
              </a:rPr>
              <a:t>你有更好笑的笑話嗎？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Arial"/>
              </a:rPr>
              <a:t>歡迎一起來分享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42920" y="3933720"/>
            <a:ext cx="8571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5-12-26T07:22:28Z</dcterms:modified>
  <cp:revision>88</cp:revision>
  <dc:subject/>
  <dc:title>PowerPoint Presentation</dc:title>
</cp:coreProperties>
</file>