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camera.wav" ContentType="audio/x-wav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9623425" cy="6886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2400" y="-1493640"/>
            <a:ext cx="1371600" cy="98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2400" y="-1493640"/>
            <a:ext cx="1371600" cy="98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52400" y="-1493640"/>
            <a:ext cx="1371600" cy="98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5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36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51424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75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36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B1F3-08E0-44AE-8D2E-77EA917CB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2400" y="-1493640"/>
            <a:ext cx="1371600" cy="98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67BC-15EF-4AB8-992E-1C0671E26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2400" y="-1493640"/>
            <a:ext cx="1371600" cy="98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326A-DFC1-4265-A083-67C6D2FA1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2400" y="-1493640"/>
            <a:ext cx="1371600" cy="98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8594-73DA-4ADD-9B46-11BE0C1F9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2400" y="-1493640"/>
            <a:ext cx="1371600" cy="98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D7B1-84F7-40C9-BC63-93807BBE6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52400" y="7652520"/>
            <a:ext cx="13716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15DC-64FD-4B79-99CA-1C6A874D0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2400" y="-1493640"/>
            <a:ext cx="1371600" cy="98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7BF3-D7CE-46FE-AB16-335626F4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52400" y="-1493640"/>
            <a:ext cx="1371600" cy="98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2400" y="-1493640"/>
            <a:ext cx="1371600" cy="98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D6D0-C92D-439F-8E01-A58AB9E3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2400" y="-1493640"/>
            <a:ext cx="1371600" cy="98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B63E-F19D-41B3-98B8-AEE9F7670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2400" y="-1493640"/>
            <a:ext cx="1371600" cy="98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B824-A4BC-4891-9EBC-70D77D654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2400" y="-1493640"/>
            <a:ext cx="1371600" cy="98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2611-675B-4DD9-91EA-8386B76B4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2400" y="-1493640"/>
            <a:ext cx="1371600" cy="98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5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36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51424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575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36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1D4F-098C-448F-88B6-64E70F776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2400" y="-1493640"/>
            <a:ext cx="1371600" cy="98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2400" y="-1493640"/>
            <a:ext cx="1371600" cy="98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2400" y="-1493640"/>
            <a:ext cx="1371600" cy="98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52400" y="7652520"/>
            <a:ext cx="13716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2400" y="-1493640"/>
            <a:ext cx="1371600" cy="98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2400" y="-1493640"/>
            <a:ext cx="1371600" cy="98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2400" y="-1493640"/>
            <a:ext cx="1371600" cy="98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4303800"/>
            <a:ext cx="9144000" cy="25542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60948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240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1125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1125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spcBef>
                <a:spcPts val="1125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lvl="3" marL="1360080" indent="-194040">
              <a:spcBef>
                <a:spcPts val="1125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lvl="4" marL="1748520" indent="-194040">
              <a:spcBef>
                <a:spcPts val="1125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lvl="5" marL="1748520" indent="-194040">
              <a:spcBef>
                <a:spcPts val="1125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lvl="6" marL="1748520" indent="-194040">
              <a:spcBef>
                <a:spcPts val="1125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1676520" y="4772160"/>
            <a:ext cx="7467480" cy="208584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858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304920" y="1125360"/>
            <a:ext cx="8534160" cy="3772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B2D51-11CA-4091-8FFC-7DCD6D21FD19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550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chinese.pku.edu.cn/tang/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912960" y="2335320"/>
            <a:ext cx="7310160" cy="5414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908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0066cc"/>
                  </a:solidFill>
                  <a:miter/>
                </a:ln>
                <a:solidFill>
                  <a:srgbClr val="99ccff"/>
                </a:solidFill>
                <a:effectLst>
                  <a:outerShdw dist="107932" dir="18900000" blurRad="0" rotWithShape="0">
                    <a:srgbClr val="0000cc"/>
                  </a:outerShdw>
                </a:effectLst>
                <a:latin typeface="華康新特圓體"/>
              </a:rPr>
              <a:t>古詩欣賞 楓橋夜泊</a:t>
            </a:r>
            <a:endParaRPr b="0" lang="en-US" sz="1800" spc="1" strike="noStrike">
              <a:ln w="19080">
                <a:solidFill>
                  <a:srgbClr val="0066cc"/>
                </a:solidFill>
                <a:miter/>
              </a:ln>
              <a:solidFill>
                <a:srgbClr val="99ccff"/>
              </a:solidFill>
              <a:effectLst>
                <a:outerShdw dist="107932" dir="18900000" blurRad="0" rotWithShape="0">
                  <a:srgbClr val="0000cc"/>
                </a:outerShdw>
              </a:effectLst>
              <a:latin typeface="華康新特圓體"/>
              <a:ea typeface="華康新特圓體"/>
            </a:endParaRPr>
          </a:p>
        </p:txBody>
      </p:sp>
      <p:sp>
        <p:nvSpPr>
          <p:cNvPr id="85" name=""/>
          <p:cNvSpPr/>
          <p:nvPr/>
        </p:nvSpPr>
        <p:spPr>
          <a:xfrm>
            <a:off x="2098800" y="5157720"/>
            <a:ext cx="552276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700" spc="-1" strike="noStrike">
                <a:solidFill>
                  <a:srgbClr val="000000"/>
                </a:solidFill>
                <a:latin typeface="Times New Roman"/>
                <a:ea typeface="華康儷楷書"/>
              </a:rPr>
              <a:t>作　　者：張　繼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700" spc="-1" strike="noStrike">
                <a:solidFill>
                  <a:srgbClr val="000000"/>
                </a:solidFill>
                <a:latin typeface="Times New Roman"/>
                <a:ea typeface="華康儷楷書"/>
              </a:rPr>
              <a:t>學生姓名：古岱仁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478400" y="3816360"/>
            <a:ext cx="479520" cy="47952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  <p:sndAc>
      <p:stSnd>
        <p:snd r:embed="rId2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240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ff"/>
                </a:solidFill>
                <a:latin typeface="Times New Roman"/>
              </a:rPr>
              <a:t>作者生平介紹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14240" y="623880"/>
            <a:ext cx="609588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500" spc="-1" strike="noStrike">
                <a:solidFill>
                  <a:srgbClr val="000000"/>
                </a:solidFill>
                <a:latin typeface="標楷體"/>
              </a:rPr>
              <a:t>張繼，字懿孫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500" spc="-1" strike="noStrike">
                <a:solidFill>
                  <a:srgbClr val="000000"/>
                </a:solidFill>
                <a:latin typeface="標楷體"/>
              </a:rPr>
              <a:t>唐襄州人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500" spc="-1" strike="noStrike">
                <a:solidFill>
                  <a:srgbClr val="000000"/>
                </a:solidFill>
                <a:latin typeface="標楷體"/>
              </a:rPr>
              <a:t>生卒年不詳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500" spc="-1" strike="noStrike">
                <a:solidFill>
                  <a:srgbClr val="000000"/>
                </a:solidFill>
                <a:latin typeface="標楷體"/>
              </a:rPr>
              <a:t>玄宗天寶年間進士，是當時有名的詩人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240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0" spc="-1" strike="noStrike">
                <a:solidFill>
                  <a:srgbClr val="ffffff"/>
                </a:solidFill>
                <a:latin typeface="Times New Roman"/>
              </a:rPr>
              <a:t>楓橋夜泊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20092800">
            <a:off x="7790040" y="236520"/>
            <a:ext cx="647640" cy="1225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52480" y="1133640"/>
            <a:ext cx="6095880" cy="40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8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500" spc="-1" strike="noStrike">
                <a:solidFill>
                  <a:srgbClr val="000000"/>
                </a:solidFill>
                <a:latin typeface="Times New Roman"/>
              </a:rPr>
              <a:t>月 落 烏 啼 霜 滿 天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8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500" spc="-1" strike="noStrike">
                <a:solidFill>
                  <a:srgbClr val="000000"/>
                </a:solidFill>
                <a:latin typeface="Times New Roman"/>
              </a:rPr>
              <a:t>江 楓 漁 火 對 愁 眠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8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500" spc="-1" strike="noStrike">
                <a:solidFill>
                  <a:srgbClr val="000000"/>
                </a:solidFill>
                <a:latin typeface="Times New Roman"/>
              </a:rPr>
              <a:t>姑 蘇 城 外 寒 山 寺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8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500" spc="-1" strike="noStrike">
                <a:solidFill>
                  <a:srgbClr val="000000"/>
                </a:solidFill>
                <a:latin typeface="Times New Roman"/>
              </a:rPr>
              <a:t>夜 半 鐘 聲 到 客 船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314440" y="5408640"/>
            <a:ext cx="2259000" cy="1184400"/>
            <a:chOff x="2314440" y="5408640"/>
            <a:chExt cx="2259000" cy="1184400"/>
          </a:xfrm>
        </p:grpSpPr>
        <p:sp>
          <p:nvSpPr>
            <p:cNvPr id="93" name=""/>
            <p:cNvSpPr/>
            <p:nvPr/>
          </p:nvSpPr>
          <p:spPr>
            <a:xfrm>
              <a:off x="2438280" y="5786280"/>
              <a:ext cx="1805040" cy="193680"/>
            </a:xfrm>
            <a:custGeom>
              <a:avLst/>
              <a:gdLst/>
              <a:ahLst/>
              <a:rect l="l" t="t" r="r" b="b"/>
              <a:pathLst>
                <a:path w="1137" h="122">
                  <a:moveTo>
                    <a:pt x="0" y="13"/>
                  </a:moveTo>
                  <a:lnTo>
                    <a:pt x="276" y="31"/>
                  </a:lnTo>
                  <a:lnTo>
                    <a:pt x="396" y="34"/>
                  </a:lnTo>
                  <a:lnTo>
                    <a:pt x="899" y="0"/>
                  </a:lnTo>
                  <a:lnTo>
                    <a:pt x="1137" y="34"/>
                  </a:lnTo>
                  <a:lnTo>
                    <a:pt x="896" y="122"/>
                  </a:lnTo>
                  <a:lnTo>
                    <a:pt x="266" y="119"/>
                  </a:lnTo>
                  <a:lnTo>
                    <a:pt x="156" y="97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9cb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314440" y="5535720"/>
              <a:ext cx="2259000" cy="690480"/>
            </a:xfrm>
            <a:custGeom>
              <a:avLst/>
              <a:gdLst/>
              <a:ahLst/>
              <a:rect l="l" t="t" r="r" b="b"/>
              <a:pathLst>
                <a:path w="1423" h="435">
                  <a:moveTo>
                    <a:pt x="339" y="193"/>
                  </a:moveTo>
                  <a:lnTo>
                    <a:pt x="361" y="201"/>
                  </a:lnTo>
                  <a:lnTo>
                    <a:pt x="371" y="205"/>
                  </a:lnTo>
                  <a:lnTo>
                    <a:pt x="393" y="211"/>
                  </a:lnTo>
                  <a:lnTo>
                    <a:pt x="405" y="215"/>
                  </a:lnTo>
                  <a:lnTo>
                    <a:pt x="418" y="218"/>
                  </a:lnTo>
                  <a:lnTo>
                    <a:pt x="431" y="221"/>
                  </a:lnTo>
                  <a:lnTo>
                    <a:pt x="447" y="224"/>
                  </a:lnTo>
                  <a:lnTo>
                    <a:pt x="463" y="226"/>
                  </a:lnTo>
                  <a:lnTo>
                    <a:pt x="481" y="228"/>
                  </a:lnTo>
                  <a:lnTo>
                    <a:pt x="508" y="231"/>
                  </a:lnTo>
                  <a:lnTo>
                    <a:pt x="538" y="233"/>
                  </a:lnTo>
                  <a:lnTo>
                    <a:pt x="605" y="236"/>
                  </a:lnTo>
                  <a:lnTo>
                    <a:pt x="753" y="237"/>
                  </a:lnTo>
                  <a:lnTo>
                    <a:pt x="887" y="235"/>
                  </a:lnTo>
                  <a:lnTo>
                    <a:pt x="973" y="228"/>
                  </a:lnTo>
                  <a:lnTo>
                    <a:pt x="996" y="224"/>
                  </a:lnTo>
                  <a:lnTo>
                    <a:pt x="1021" y="219"/>
                  </a:lnTo>
                  <a:lnTo>
                    <a:pt x="1044" y="214"/>
                  </a:lnTo>
                  <a:lnTo>
                    <a:pt x="1066" y="209"/>
                  </a:lnTo>
                  <a:lnTo>
                    <a:pt x="1085" y="205"/>
                  </a:lnTo>
                  <a:lnTo>
                    <a:pt x="1099" y="202"/>
                  </a:lnTo>
                  <a:lnTo>
                    <a:pt x="1112" y="199"/>
                  </a:lnTo>
                  <a:lnTo>
                    <a:pt x="945" y="188"/>
                  </a:lnTo>
                  <a:lnTo>
                    <a:pt x="894" y="192"/>
                  </a:lnTo>
                  <a:lnTo>
                    <a:pt x="839" y="195"/>
                  </a:lnTo>
                  <a:lnTo>
                    <a:pt x="774" y="200"/>
                  </a:lnTo>
                  <a:lnTo>
                    <a:pt x="705" y="204"/>
                  </a:lnTo>
                  <a:lnTo>
                    <a:pt x="638" y="208"/>
                  </a:lnTo>
                  <a:lnTo>
                    <a:pt x="581" y="210"/>
                  </a:lnTo>
                  <a:lnTo>
                    <a:pt x="540" y="210"/>
                  </a:lnTo>
                  <a:lnTo>
                    <a:pt x="498" y="207"/>
                  </a:lnTo>
                  <a:lnTo>
                    <a:pt x="476" y="204"/>
                  </a:lnTo>
                  <a:lnTo>
                    <a:pt x="453" y="199"/>
                  </a:lnTo>
                  <a:lnTo>
                    <a:pt x="430" y="195"/>
                  </a:lnTo>
                  <a:lnTo>
                    <a:pt x="409" y="191"/>
                  </a:lnTo>
                  <a:lnTo>
                    <a:pt x="388" y="186"/>
                  </a:lnTo>
                  <a:lnTo>
                    <a:pt x="369" y="181"/>
                  </a:lnTo>
                  <a:lnTo>
                    <a:pt x="493" y="180"/>
                  </a:lnTo>
                  <a:lnTo>
                    <a:pt x="565" y="177"/>
                  </a:lnTo>
                  <a:lnTo>
                    <a:pt x="641" y="172"/>
                  </a:lnTo>
                  <a:lnTo>
                    <a:pt x="680" y="169"/>
                  </a:lnTo>
                  <a:lnTo>
                    <a:pt x="720" y="166"/>
                  </a:lnTo>
                  <a:lnTo>
                    <a:pt x="759" y="163"/>
                  </a:lnTo>
                  <a:lnTo>
                    <a:pt x="799" y="159"/>
                  </a:lnTo>
                  <a:lnTo>
                    <a:pt x="838" y="156"/>
                  </a:lnTo>
                  <a:lnTo>
                    <a:pt x="876" y="153"/>
                  </a:lnTo>
                  <a:lnTo>
                    <a:pt x="915" y="148"/>
                  </a:lnTo>
                  <a:lnTo>
                    <a:pt x="951" y="144"/>
                  </a:lnTo>
                  <a:lnTo>
                    <a:pt x="1118" y="134"/>
                  </a:lnTo>
                  <a:lnTo>
                    <a:pt x="1144" y="131"/>
                  </a:lnTo>
                  <a:lnTo>
                    <a:pt x="1167" y="128"/>
                  </a:lnTo>
                  <a:lnTo>
                    <a:pt x="1201" y="122"/>
                  </a:lnTo>
                  <a:lnTo>
                    <a:pt x="1225" y="118"/>
                  </a:lnTo>
                  <a:lnTo>
                    <a:pt x="1236" y="114"/>
                  </a:lnTo>
                  <a:lnTo>
                    <a:pt x="1246" y="111"/>
                  </a:lnTo>
                  <a:lnTo>
                    <a:pt x="1257" y="107"/>
                  </a:lnTo>
                  <a:lnTo>
                    <a:pt x="1267" y="103"/>
                  </a:lnTo>
                  <a:lnTo>
                    <a:pt x="1277" y="99"/>
                  </a:lnTo>
                  <a:lnTo>
                    <a:pt x="1287" y="94"/>
                  </a:lnTo>
                  <a:lnTo>
                    <a:pt x="1295" y="89"/>
                  </a:lnTo>
                  <a:lnTo>
                    <a:pt x="1305" y="84"/>
                  </a:lnTo>
                  <a:lnTo>
                    <a:pt x="1309" y="81"/>
                  </a:lnTo>
                  <a:lnTo>
                    <a:pt x="1313" y="79"/>
                  </a:lnTo>
                  <a:lnTo>
                    <a:pt x="1317" y="76"/>
                  </a:lnTo>
                  <a:lnTo>
                    <a:pt x="1321" y="74"/>
                  </a:lnTo>
                  <a:lnTo>
                    <a:pt x="1324" y="71"/>
                  </a:lnTo>
                  <a:lnTo>
                    <a:pt x="1329" y="68"/>
                  </a:lnTo>
                  <a:lnTo>
                    <a:pt x="1332" y="66"/>
                  </a:lnTo>
                  <a:lnTo>
                    <a:pt x="1336" y="63"/>
                  </a:lnTo>
                  <a:lnTo>
                    <a:pt x="1349" y="52"/>
                  </a:lnTo>
                  <a:lnTo>
                    <a:pt x="1362" y="42"/>
                  </a:lnTo>
                  <a:lnTo>
                    <a:pt x="1372" y="32"/>
                  </a:lnTo>
                  <a:lnTo>
                    <a:pt x="1381" y="23"/>
                  </a:lnTo>
                  <a:lnTo>
                    <a:pt x="1388" y="15"/>
                  </a:lnTo>
                  <a:lnTo>
                    <a:pt x="1398" y="4"/>
                  </a:lnTo>
                  <a:lnTo>
                    <a:pt x="1402" y="0"/>
                  </a:lnTo>
                  <a:lnTo>
                    <a:pt x="1404" y="6"/>
                  </a:lnTo>
                  <a:lnTo>
                    <a:pt x="1410" y="26"/>
                  </a:lnTo>
                  <a:lnTo>
                    <a:pt x="1417" y="55"/>
                  </a:lnTo>
                  <a:lnTo>
                    <a:pt x="1422" y="89"/>
                  </a:lnTo>
                  <a:lnTo>
                    <a:pt x="1423" y="125"/>
                  </a:lnTo>
                  <a:lnTo>
                    <a:pt x="1422" y="144"/>
                  </a:lnTo>
                  <a:lnTo>
                    <a:pt x="1419" y="162"/>
                  </a:lnTo>
                  <a:lnTo>
                    <a:pt x="1414" y="179"/>
                  </a:lnTo>
                  <a:lnTo>
                    <a:pt x="1411" y="188"/>
                  </a:lnTo>
                  <a:lnTo>
                    <a:pt x="1407" y="196"/>
                  </a:lnTo>
                  <a:lnTo>
                    <a:pt x="1402" y="203"/>
                  </a:lnTo>
                  <a:lnTo>
                    <a:pt x="1397" y="210"/>
                  </a:lnTo>
                  <a:lnTo>
                    <a:pt x="1390" y="217"/>
                  </a:lnTo>
                  <a:lnTo>
                    <a:pt x="1384" y="222"/>
                  </a:lnTo>
                  <a:lnTo>
                    <a:pt x="1379" y="225"/>
                  </a:lnTo>
                  <a:lnTo>
                    <a:pt x="1374" y="228"/>
                  </a:lnTo>
                  <a:lnTo>
                    <a:pt x="1368" y="231"/>
                  </a:lnTo>
                  <a:lnTo>
                    <a:pt x="1359" y="235"/>
                  </a:lnTo>
                  <a:lnTo>
                    <a:pt x="1351" y="238"/>
                  </a:lnTo>
                  <a:lnTo>
                    <a:pt x="1341" y="241"/>
                  </a:lnTo>
                  <a:lnTo>
                    <a:pt x="1330" y="246"/>
                  </a:lnTo>
                  <a:lnTo>
                    <a:pt x="1319" y="250"/>
                  </a:lnTo>
                  <a:lnTo>
                    <a:pt x="1306" y="253"/>
                  </a:lnTo>
                  <a:lnTo>
                    <a:pt x="1292" y="257"/>
                  </a:lnTo>
                  <a:lnTo>
                    <a:pt x="1278" y="262"/>
                  </a:lnTo>
                  <a:lnTo>
                    <a:pt x="1262" y="266"/>
                  </a:lnTo>
                  <a:lnTo>
                    <a:pt x="1246" y="270"/>
                  </a:lnTo>
                  <a:lnTo>
                    <a:pt x="1229" y="275"/>
                  </a:lnTo>
                  <a:lnTo>
                    <a:pt x="1212" y="280"/>
                  </a:lnTo>
                  <a:lnTo>
                    <a:pt x="1193" y="285"/>
                  </a:lnTo>
                  <a:lnTo>
                    <a:pt x="1174" y="289"/>
                  </a:lnTo>
                  <a:lnTo>
                    <a:pt x="1154" y="294"/>
                  </a:lnTo>
                  <a:lnTo>
                    <a:pt x="1134" y="299"/>
                  </a:lnTo>
                  <a:lnTo>
                    <a:pt x="1124" y="301"/>
                  </a:lnTo>
                  <a:lnTo>
                    <a:pt x="1114" y="304"/>
                  </a:lnTo>
                  <a:lnTo>
                    <a:pt x="1103" y="305"/>
                  </a:lnTo>
                  <a:lnTo>
                    <a:pt x="1092" y="308"/>
                  </a:lnTo>
                  <a:lnTo>
                    <a:pt x="1081" y="311"/>
                  </a:lnTo>
                  <a:lnTo>
                    <a:pt x="1070" y="313"/>
                  </a:lnTo>
                  <a:lnTo>
                    <a:pt x="1059" y="315"/>
                  </a:lnTo>
                  <a:lnTo>
                    <a:pt x="1048" y="318"/>
                  </a:lnTo>
                  <a:lnTo>
                    <a:pt x="1037" y="320"/>
                  </a:lnTo>
                  <a:lnTo>
                    <a:pt x="1025" y="323"/>
                  </a:lnTo>
                  <a:lnTo>
                    <a:pt x="1014" y="325"/>
                  </a:lnTo>
                  <a:lnTo>
                    <a:pt x="1002" y="328"/>
                  </a:lnTo>
                  <a:lnTo>
                    <a:pt x="990" y="330"/>
                  </a:lnTo>
                  <a:lnTo>
                    <a:pt x="979" y="333"/>
                  </a:lnTo>
                  <a:lnTo>
                    <a:pt x="967" y="335"/>
                  </a:lnTo>
                  <a:lnTo>
                    <a:pt x="954" y="337"/>
                  </a:lnTo>
                  <a:lnTo>
                    <a:pt x="930" y="342"/>
                  </a:lnTo>
                  <a:lnTo>
                    <a:pt x="906" y="347"/>
                  </a:lnTo>
                  <a:lnTo>
                    <a:pt x="881" y="352"/>
                  </a:lnTo>
                  <a:lnTo>
                    <a:pt x="857" y="356"/>
                  </a:lnTo>
                  <a:lnTo>
                    <a:pt x="832" y="361"/>
                  </a:lnTo>
                  <a:lnTo>
                    <a:pt x="806" y="366"/>
                  </a:lnTo>
                  <a:lnTo>
                    <a:pt x="781" y="370"/>
                  </a:lnTo>
                  <a:lnTo>
                    <a:pt x="756" y="375"/>
                  </a:lnTo>
                  <a:lnTo>
                    <a:pt x="730" y="379"/>
                  </a:lnTo>
                  <a:lnTo>
                    <a:pt x="706" y="384"/>
                  </a:lnTo>
                  <a:lnTo>
                    <a:pt x="680" y="387"/>
                  </a:lnTo>
                  <a:lnTo>
                    <a:pt x="655" y="391"/>
                  </a:lnTo>
                  <a:lnTo>
                    <a:pt x="630" y="395"/>
                  </a:lnTo>
                  <a:lnTo>
                    <a:pt x="605" y="399"/>
                  </a:lnTo>
                  <a:lnTo>
                    <a:pt x="580" y="402"/>
                  </a:lnTo>
                  <a:lnTo>
                    <a:pt x="555" y="406"/>
                  </a:lnTo>
                  <a:lnTo>
                    <a:pt x="531" y="409"/>
                  </a:lnTo>
                  <a:lnTo>
                    <a:pt x="507" y="413"/>
                  </a:lnTo>
                  <a:lnTo>
                    <a:pt x="483" y="415"/>
                  </a:lnTo>
                  <a:lnTo>
                    <a:pt x="460" y="418"/>
                  </a:lnTo>
                  <a:lnTo>
                    <a:pt x="437" y="421"/>
                  </a:lnTo>
                  <a:lnTo>
                    <a:pt x="415" y="423"/>
                  </a:lnTo>
                  <a:lnTo>
                    <a:pt x="393" y="426"/>
                  </a:lnTo>
                  <a:lnTo>
                    <a:pt x="350" y="429"/>
                  </a:lnTo>
                  <a:lnTo>
                    <a:pt x="309" y="433"/>
                  </a:lnTo>
                  <a:lnTo>
                    <a:pt x="271" y="434"/>
                  </a:lnTo>
                  <a:lnTo>
                    <a:pt x="204" y="435"/>
                  </a:lnTo>
                  <a:lnTo>
                    <a:pt x="150" y="432"/>
                  </a:lnTo>
                  <a:lnTo>
                    <a:pt x="122" y="426"/>
                  </a:lnTo>
                  <a:lnTo>
                    <a:pt x="110" y="422"/>
                  </a:lnTo>
                  <a:lnTo>
                    <a:pt x="99" y="417"/>
                  </a:lnTo>
                  <a:lnTo>
                    <a:pt x="94" y="414"/>
                  </a:lnTo>
                  <a:lnTo>
                    <a:pt x="89" y="411"/>
                  </a:lnTo>
                  <a:lnTo>
                    <a:pt x="84" y="408"/>
                  </a:lnTo>
                  <a:lnTo>
                    <a:pt x="79" y="404"/>
                  </a:lnTo>
                  <a:lnTo>
                    <a:pt x="64" y="389"/>
                  </a:lnTo>
                  <a:lnTo>
                    <a:pt x="53" y="371"/>
                  </a:lnTo>
                  <a:lnTo>
                    <a:pt x="44" y="350"/>
                  </a:lnTo>
                  <a:lnTo>
                    <a:pt x="35" y="305"/>
                  </a:lnTo>
                  <a:lnTo>
                    <a:pt x="0" y="159"/>
                  </a:lnTo>
                  <a:lnTo>
                    <a:pt x="290" y="19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49480" y="5408640"/>
              <a:ext cx="1368360" cy="515880"/>
            </a:xfrm>
            <a:custGeom>
              <a:avLst/>
              <a:gdLst/>
              <a:ahLst/>
              <a:rect l="l" t="t" r="r" b="b"/>
              <a:pathLst>
                <a:path w="862" h="325">
                  <a:moveTo>
                    <a:pt x="6" y="273"/>
                  </a:moveTo>
                  <a:cubicBezTo>
                    <a:pt x="0" y="220"/>
                    <a:pt x="14" y="38"/>
                    <a:pt x="142" y="0"/>
                  </a:cubicBezTo>
                  <a:cubicBezTo>
                    <a:pt x="770" y="41"/>
                    <a:pt x="662" y="28"/>
                    <a:pt x="777" y="46"/>
                  </a:cubicBezTo>
                  <a:cubicBezTo>
                    <a:pt x="778" y="45"/>
                    <a:pt x="818" y="61"/>
                    <a:pt x="834" y="109"/>
                  </a:cubicBezTo>
                  <a:cubicBezTo>
                    <a:pt x="850" y="157"/>
                    <a:pt x="858" y="205"/>
                    <a:pt x="862" y="205"/>
                  </a:cubicBezTo>
                  <a:cubicBezTo>
                    <a:pt x="756" y="255"/>
                    <a:pt x="630" y="325"/>
                    <a:pt x="630" y="325"/>
                  </a:cubicBezTo>
                  <a:lnTo>
                    <a:pt x="178" y="317"/>
                  </a:lnTo>
                  <a:lnTo>
                    <a:pt x="6" y="273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73240" y="5581800"/>
              <a:ext cx="339480" cy="301320"/>
            </a:xfrm>
            <a:custGeom>
              <a:avLst/>
              <a:gdLst/>
              <a:ahLst/>
              <a:rect l="l" t="t" r="r" b="b"/>
              <a:pathLst>
                <a:path w="214" h="190">
                  <a:moveTo>
                    <a:pt x="187" y="0"/>
                  </a:moveTo>
                  <a:cubicBezTo>
                    <a:pt x="214" y="6"/>
                    <a:pt x="173" y="184"/>
                    <a:pt x="173" y="190"/>
                  </a:cubicBezTo>
                  <a:cubicBezTo>
                    <a:pt x="167" y="184"/>
                    <a:pt x="34" y="182"/>
                    <a:pt x="11" y="154"/>
                  </a:cubicBezTo>
                  <a:cubicBezTo>
                    <a:pt x="0" y="132"/>
                    <a:pt x="43" y="56"/>
                    <a:pt x="83" y="36"/>
                  </a:cubicBezTo>
                  <a:cubicBezTo>
                    <a:pt x="123" y="16"/>
                    <a:pt x="165" y="4"/>
                    <a:pt x="187" y="0"/>
                  </a:cubicBezTo>
                  <a:close/>
                </a:path>
              </a:pathLst>
            </a:custGeom>
            <a:solidFill>
              <a:srgbClr val="ffffc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600360" y="5730840"/>
              <a:ext cx="657000" cy="123840"/>
            </a:xfrm>
            <a:custGeom>
              <a:avLst/>
              <a:gdLst/>
              <a:ahLst/>
              <a:rect l="l" t="t" r="r" b="b"/>
              <a:pathLst>
                <a:path w="414" h="78">
                  <a:moveTo>
                    <a:pt x="0" y="78"/>
                  </a:moveTo>
                  <a:cubicBezTo>
                    <a:pt x="46" y="63"/>
                    <a:pt x="101" y="60"/>
                    <a:pt x="150" y="54"/>
                  </a:cubicBezTo>
                  <a:cubicBezTo>
                    <a:pt x="196" y="39"/>
                    <a:pt x="227" y="29"/>
                    <a:pt x="276" y="24"/>
                  </a:cubicBezTo>
                  <a:cubicBezTo>
                    <a:pt x="300" y="18"/>
                    <a:pt x="323" y="8"/>
                    <a:pt x="348" y="6"/>
                  </a:cubicBezTo>
                  <a:cubicBezTo>
                    <a:pt x="370" y="4"/>
                    <a:pt x="414" y="0"/>
                    <a:pt x="414" y="0"/>
                  </a:cubicBezTo>
                  <a:lnTo>
                    <a:pt x="0" y="78"/>
                  </a:lnTo>
                  <a:close/>
                </a:path>
              </a:pathLst>
            </a:custGeom>
            <a:solidFill>
              <a:srgbClr val="ff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422440" y="6189480"/>
              <a:ext cx="1089000" cy="403560"/>
            </a:xfrm>
            <a:custGeom>
              <a:avLst/>
              <a:gdLst/>
              <a:ahLst/>
              <a:rect l="l" t="t" r="r" b="b"/>
              <a:pathLst>
                <a:path w="686" h="254">
                  <a:moveTo>
                    <a:pt x="66" y="53"/>
                  </a:moveTo>
                  <a:cubicBezTo>
                    <a:pt x="132" y="49"/>
                    <a:pt x="327" y="46"/>
                    <a:pt x="422" y="37"/>
                  </a:cubicBezTo>
                  <a:cubicBezTo>
                    <a:pt x="517" y="28"/>
                    <a:pt x="623" y="0"/>
                    <a:pt x="638" y="1"/>
                  </a:cubicBezTo>
                  <a:cubicBezTo>
                    <a:pt x="653" y="2"/>
                    <a:pt x="564" y="33"/>
                    <a:pt x="510" y="45"/>
                  </a:cubicBezTo>
                  <a:cubicBezTo>
                    <a:pt x="456" y="57"/>
                    <a:pt x="308" y="64"/>
                    <a:pt x="314" y="73"/>
                  </a:cubicBezTo>
                  <a:cubicBezTo>
                    <a:pt x="320" y="82"/>
                    <a:pt x="484" y="99"/>
                    <a:pt x="546" y="97"/>
                  </a:cubicBezTo>
                  <a:cubicBezTo>
                    <a:pt x="608" y="95"/>
                    <a:pt x="675" y="58"/>
                    <a:pt x="686" y="61"/>
                  </a:cubicBezTo>
                  <a:lnTo>
                    <a:pt x="614" y="113"/>
                  </a:lnTo>
                  <a:cubicBezTo>
                    <a:pt x="574" y="125"/>
                    <a:pt x="516" y="128"/>
                    <a:pt x="446" y="133"/>
                  </a:cubicBezTo>
                  <a:cubicBezTo>
                    <a:pt x="376" y="138"/>
                    <a:pt x="209" y="130"/>
                    <a:pt x="194" y="145"/>
                  </a:cubicBezTo>
                  <a:cubicBezTo>
                    <a:pt x="179" y="160"/>
                    <a:pt x="310" y="208"/>
                    <a:pt x="358" y="221"/>
                  </a:cubicBezTo>
                  <a:cubicBezTo>
                    <a:pt x="406" y="234"/>
                    <a:pt x="435" y="228"/>
                    <a:pt x="486" y="225"/>
                  </a:cubicBezTo>
                  <a:cubicBezTo>
                    <a:pt x="537" y="222"/>
                    <a:pt x="653" y="200"/>
                    <a:pt x="666" y="201"/>
                  </a:cubicBezTo>
                  <a:cubicBezTo>
                    <a:pt x="666" y="201"/>
                    <a:pt x="612" y="220"/>
                    <a:pt x="562" y="229"/>
                  </a:cubicBezTo>
                  <a:cubicBezTo>
                    <a:pt x="512" y="238"/>
                    <a:pt x="422" y="254"/>
                    <a:pt x="366" y="253"/>
                  </a:cubicBezTo>
                  <a:cubicBezTo>
                    <a:pt x="310" y="252"/>
                    <a:pt x="277" y="236"/>
                    <a:pt x="226" y="221"/>
                  </a:cubicBezTo>
                  <a:cubicBezTo>
                    <a:pt x="175" y="206"/>
                    <a:pt x="75" y="176"/>
                    <a:pt x="62" y="161"/>
                  </a:cubicBezTo>
                  <a:cubicBezTo>
                    <a:pt x="49" y="146"/>
                    <a:pt x="109" y="140"/>
                    <a:pt x="150" y="129"/>
                  </a:cubicBezTo>
                  <a:cubicBezTo>
                    <a:pt x="191" y="118"/>
                    <a:pt x="295" y="100"/>
                    <a:pt x="306" y="93"/>
                  </a:cubicBezTo>
                  <a:cubicBezTo>
                    <a:pt x="306" y="93"/>
                    <a:pt x="257" y="92"/>
                    <a:pt x="214" y="89"/>
                  </a:cubicBezTo>
                  <a:cubicBezTo>
                    <a:pt x="171" y="86"/>
                    <a:pt x="81" y="78"/>
                    <a:pt x="50" y="73"/>
                  </a:cubicBezTo>
                  <a:cubicBezTo>
                    <a:pt x="19" y="68"/>
                    <a:pt x="23" y="64"/>
                    <a:pt x="26" y="61"/>
                  </a:cubicBezTo>
                  <a:cubicBezTo>
                    <a:pt x="26" y="61"/>
                    <a:pt x="0" y="57"/>
                    <a:pt x="66" y="53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r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240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0" spc="-1" strike="noStrike">
                <a:solidFill>
                  <a:srgbClr val="ffffff"/>
                </a:solidFill>
                <a:latin typeface="Times New Roman"/>
              </a:rPr>
              <a:t>本詩大意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14240" y="698040"/>
            <a:ext cx="6095880" cy="46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500" spc="-1" strike="noStrike">
                <a:solidFill>
                  <a:srgbClr val="000000"/>
                </a:solidFill>
                <a:latin typeface="Times New Roman"/>
              </a:rPr>
              <a:t>楓橋夜泊，選自</a:t>
            </a:r>
            <a:r>
              <a:rPr b="0" lang="zh-TW" sz="4500" spc="-1" strike="noStrike" u="sng">
                <a:solidFill>
                  <a:srgbClr val="cc00cc"/>
                </a:solidFill>
                <a:uFillTx/>
                <a:latin typeface="Times New Roman"/>
                <a:hlinkClick r:id="rId2"/>
              </a:rPr>
              <a:t>全唐詩</a:t>
            </a:r>
            <a:r>
              <a:rPr b="0" lang="zh-TW" sz="45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500" spc="-1" strike="noStrike">
                <a:solidFill>
                  <a:srgbClr val="000000"/>
                </a:solidFill>
                <a:latin typeface="Times New Roman"/>
              </a:rPr>
              <a:t>描寫旅客夜宿舟中，愁思滿懷而夜半不寐之所思所聞。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35:00Z</dcterms:created>
  <dc:creator>黛琳</dc:creator>
  <dc:description/>
  <dc:language>en-US</dc:language>
  <cp:lastModifiedBy>思蓉</cp:lastModifiedBy>
  <dcterms:modified xsi:type="dcterms:W3CDTF">2005-03-03T05:48:26Z</dcterms:modified>
  <cp:revision>46</cp:revision>
  <dc:subject/>
  <dc:title>古詩欣賞-楓橋夜泊</dc:title>
</cp:coreProperties>
</file>