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100-EB27-40B6-8B92-3B2DAC6F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E41-0B17-4195-9F09-8DF2B3B9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436-6C90-4F3F-B212-53B76D92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F70-A2F1-4C57-AD1D-EA8A7461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10C-54C3-43D0-9366-4643BD1C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78F-2B77-4C28-8322-563F2FB5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3BD0-039C-49B9-8A7F-4D408755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E31-3832-4F1A-80A7-0363F021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483-A69A-4387-86E6-87FDC99B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B0A-B6AA-4AB6-8B5A-3D4C8BFE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A845-AD4D-4FAD-93F5-3715ACFB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FB49-9D98-44D5-A0E3-415670F0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A9DC-42E4-4EE1-A3BE-FC0F5F1B243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969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學生姓名：莫   砸   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班    　級：３ 年 ３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1320" y="1057320"/>
            <a:ext cx="6629400" cy="22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華康新特圓體"/>
              </a:rPr>
              <a:t>生活中的樂器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華康新特圓體"/>
              <a:ea typeface="華康新特圓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音 樂 的 魔 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音樂可陶冶性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音樂可使人放鬆心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增加生活中的樂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95640" y="3913200"/>
            <a:ext cx="365760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樂器的分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弦樂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木管樂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銅管樂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鍵盤樂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節奏樂器（又稱敲擊樂器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調性樂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無調性樂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658920" y="2971800"/>
            <a:ext cx="1144440" cy="1247760"/>
          </a:xfrm>
          <a:prstGeom prst="star5">
            <a:avLst/>
          </a:prstGeom>
          <a:gradFill rotWithShape="0">
            <a:gsLst>
              <a:gs pos="0">
                <a:srgbClr val="65b2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7236000" y="2286000"/>
            <a:ext cx="374400" cy="4190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620040" y="838080"/>
            <a:ext cx="1079280" cy="1152720"/>
          </a:xfrm>
          <a:prstGeom prst="star5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011280" y="4941720"/>
            <a:ext cx="863640" cy="792360"/>
          </a:xfrm>
          <a:prstGeom prst="star5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573960" y="2666880"/>
            <a:ext cx="503280" cy="50508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147640" y="2133720"/>
            <a:ext cx="826920" cy="863640"/>
          </a:xfrm>
          <a:prstGeom prst="star5">
            <a:avLst/>
          </a:prstGeom>
          <a:gradFill rotWithShape="0">
            <a:gsLst>
              <a:gs pos="0">
                <a:srgbClr val="ff0066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628600" y="3733920"/>
            <a:ext cx="469800" cy="50472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229520" y="5029200"/>
            <a:ext cx="380880" cy="3524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7000920" y="6095880"/>
            <a:ext cx="380880" cy="3524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基 本 樂 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譜表與譜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音符與休止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節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音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音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98920" y="3746520"/>
            <a:ext cx="3733920" cy="292248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2833920" y="4380120"/>
            <a:ext cx="1425960" cy="1866240"/>
            <a:chOff x="2833920" y="4380120"/>
            <a:chExt cx="1425960" cy="1866240"/>
          </a:xfrm>
        </p:grpSpPr>
        <p:sp>
          <p:nvSpPr>
            <p:cNvPr id="61" name=""/>
            <p:cNvSpPr/>
            <p:nvPr/>
          </p:nvSpPr>
          <p:spPr>
            <a:xfrm rot="19673400">
              <a:off x="3832920" y="5933520"/>
              <a:ext cx="205920" cy="206640"/>
            </a:xfrm>
            <a:custGeom>
              <a:avLst/>
              <a:gdLst/>
              <a:ahLst/>
              <a:rect l="l" t="t" r="r" b="b"/>
              <a:pathLst>
                <a:path w="460" h="459">
                  <a:moveTo>
                    <a:pt x="182" y="459"/>
                  </a:moveTo>
                  <a:lnTo>
                    <a:pt x="0" y="307"/>
                  </a:lnTo>
                  <a:lnTo>
                    <a:pt x="11" y="80"/>
                  </a:lnTo>
                  <a:lnTo>
                    <a:pt x="262" y="0"/>
                  </a:lnTo>
                  <a:lnTo>
                    <a:pt x="424" y="98"/>
                  </a:lnTo>
                  <a:lnTo>
                    <a:pt x="460" y="252"/>
                  </a:lnTo>
                  <a:lnTo>
                    <a:pt x="389" y="368"/>
                  </a:lnTo>
                  <a:lnTo>
                    <a:pt x="182" y="459"/>
                  </a:lnTo>
                  <a:lnTo>
                    <a:pt x="182" y="459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9673400">
              <a:off x="3638520" y="5230080"/>
              <a:ext cx="488520" cy="396720"/>
            </a:xfrm>
            <a:custGeom>
              <a:avLst/>
              <a:gdLst/>
              <a:ahLst/>
              <a:rect l="l" t="t" r="r" b="b"/>
              <a:pathLst>
                <a:path w="1091" h="882">
                  <a:moveTo>
                    <a:pt x="9" y="594"/>
                  </a:moveTo>
                  <a:lnTo>
                    <a:pt x="0" y="261"/>
                  </a:lnTo>
                  <a:lnTo>
                    <a:pt x="207" y="43"/>
                  </a:lnTo>
                  <a:lnTo>
                    <a:pt x="524" y="0"/>
                  </a:lnTo>
                  <a:lnTo>
                    <a:pt x="856" y="61"/>
                  </a:lnTo>
                  <a:lnTo>
                    <a:pt x="1064" y="325"/>
                  </a:lnTo>
                  <a:lnTo>
                    <a:pt x="1091" y="575"/>
                  </a:lnTo>
                  <a:lnTo>
                    <a:pt x="911" y="882"/>
                  </a:lnTo>
                  <a:lnTo>
                    <a:pt x="845" y="396"/>
                  </a:lnTo>
                  <a:lnTo>
                    <a:pt x="513" y="261"/>
                  </a:lnTo>
                  <a:lnTo>
                    <a:pt x="280" y="307"/>
                  </a:lnTo>
                  <a:lnTo>
                    <a:pt x="108" y="477"/>
                  </a:lnTo>
                  <a:lnTo>
                    <a:pt x="9" y="594"/>
                  </a:lnTo>
                  <a:lnTo>
                    <a:pt x="9" y="594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9673400">
              <a:off x="3290760" y="4924800"/>
              <a:ext cx="571320" cy="725760"/>
            </a:xfrm>
            <a:custGeom>
              <a:avLst/>
              <a:gdLst/>
              <a:ahLst/>
              <a:rect l="l" t="t" r="r" b="b"/>
              <a:pathLst>
                <a:path w="1270" h="1615">
                  <a:moveTo>
                    <a:pt x="0" y="1046"/>
                  </a:moveTo>
                  <a:lnTo>
                    <a:pt x="316" y="614"/>
                  </a:lnTo>
                  <a:lnTo>
                    <a:pt x="613" y="387"/>
                  </a:lnTo>
                  <a:lnTo>
                    <a:pt x="1270" y="0"/>
                  </a:lnTo>
                  <a:lnTo>
                    <a:pt x="1270" y="198"/>
                  </a:lnTo>
                  <a:lnTo>
                    <a:pt x="1036" y="468"/>
                  </a:lnTo>
                  <a:lnTo>
                    <a:pt x="505" y="828"/>
                  </a:lnTo>
                  <a:lnTo>
                    <a:pt x="180" y="1217"/>
                  </a:lnTo>
                  <a:lnTo>
                    <a:pt x="91" y="1615"/>
                  </a:lnTo>
                  <a:lnTo>
                    <a:pt x="0" y="1046"/>
                  </a:lnTo>
                  <a:lnTo>
                    <a:pt x="0" y="1046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9673400">
              <a:off x="3274560" y="4479480"/>
              <a:ext cx="232920" cy="355320"/>
            </a:xfrm>
            <a:custGeom>
              <a:avLst/>
              <a:gdLst/>
              <a:ahLst/>
              <a:rect l="l" t="t" r="r" b="b"/>
              <a:pathLst>
                <a:path w="522" h="794">
                  <a:moveTo>
                    <a:pt x="0" y="641"/>
                  </a:moveTo>
                  <a:lnTo>
                    <a:pt x="29" y="271"/>
                  </a:lnTo>
                  <a:lnTo>
                    <a:pt x="171" y="45"/>
                  </a:lnTo>
                  <a:lnTo>
                    <a:pt x="435" y="0"/>
                  </a:lnTo>
                  <a:lnTo>
                    <a:pt x="522" y="243"/>
                  </a:lnTo>
                  <a:lnTo>
                    <a:pt x="280" y="416"/>
                  </a:lnTo>
                  <a:lnTo>
                    <a:pt x="146" y="587"/>
                  </a:lnTo>
                  <a:lnTo>
                    <a:pt x="37" y="794"/>
                  </a:lnTo>
                  <a:lnTo>
                    <a:pt x="0" y="641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9673400">
              <a:off x="3309120" y="4441320"/>
              <a:ext cx="268200" cy="615960"/>
            </a:xfrm>
            <a:custGeom>
              <a:avLst/>
              <a:gdLst/>
              <a:ahLst/>
              <a:rect l="l" t="t" r="r" b="b"/>
              <a:pathLst>
                <a:path w="598" h="1369">
                  <a:moveTo>
                    <a:pt x="28" y="1369"/>
                  </a:moveTo>
                  <a:lnTo>
                    <a:pt x="17" y="1099"/>
                  </a:lnTo>
                  <a:lnTo>
                    <a:pt x="2" y="805"/>
                  </a:lnTo>
                  <a:lnTo>
                    <a:pt x="0" y="494"/>
                  </a:lnTo>
                  <a:lnTo>
                    <a:pt x="29" y="301"/>
                  </a:lnTo>
                  <a:lnTo>
                    <a:pt x="60" y="236"/>
                  </a:lnTo>
                  <a:lnTo>
                    <a:pt x="97" y="182"/>
                  </a:lnTo>
                  <a:lnTo>
                    <a:pt x="175" y="103"/>
                  </a:lnTo>
                  <a:lnTo>
                    <a:pt x="255" y="58"/>
                  </a:lnTo>
                  <a:lnTo>
                    <a:pt x="328" y="33"/>
                  </a:lnTo>
                  <a:lnTo>
                    <a:pt x="500" y="0"/>
                  </a:lnTo>
                  <a:lnTo>
                    <a:pt x="542" y="105"/>
                  </a:lnTo>
                  <a:lnTo>
                    <a:pt x="413" y="142"/>
                  </a:lnTo>
                  <a:lnTo>
                    <a:pt x="308" y="187"/>
                  </a:lnTo>
                  <a:lnTo>
                    <a:pt x="217" y="258"/>
                  </a:lnTo>
                  <a:lnTo>
                    <a:pt x="162" y="356"/>
                  </a:lnTo>
                  <a:lnTo>
                    <a:pt x="139" y="470"/>
                  </a:lnTo>
                  <a:lnTo>
                    <a:pt x="128" y="603"/>
                  </a:lnTo>
                  <a:lnTo>
                    <a:pt x="162" y="536"/>
                  </a:lnTo>
                  <a:lnTo>
                    <a:pt x="211" y="472"/>
                  </a:lnTo>
                  <a:lnTo>
                    <a:pt x="280" y="409"/>
                  </a:lnTo>
                  <a:lnTo>
                    <a:pt x="375" y="354"/>
                  </a:lnTo>
                  <a:lnTo>
                    <a:pt x="471" y="312"/>
                  </a:lnTo>
                  <a:lnTo>
                    <a:pt x="580" y="276"/>
                  </a:lnTo>
                  <a:lnTo>
                    <a:pt x="598" y="436"/>
                  </a:lnTo>
                  <a:lnTo>
                    <a:pt x="578" y="425"/>
                  </a:lnTo>
                  <a:lnTo>
                    <a:pt x="455" y="458"/>
                  </a:lnTo>
                  <a:lnTo>
                    <a:pt x="398" y="487"/>
                  </a:lnTo>
                  <a:lnTo>
                    <a:pt x="349" y="530"/>
                  </a:lnTo>
                  <a:lnTo>
                    <a:pt x="289" y="599"/>
                  </a:lnTo>
                  <a:lnTo>
                    <a:pt x="240" y="672"/>
                  </a:lnTo>
                  <a:lnTo>
                    <a:pt x="209" y="752"/>
                  </a:lnTo>
                  <a:lnTo>
                    <a:pt x="189" y="826"/>
                  </a:lnTo>
                  <a:lnTo>
                    <a:pt x="168" y="943"/>
                  </a:lnTo>
                  <a:lnTo>
                    <a:pt x="160" y="1062"/>
                  </a:lnTo>
                  <a:lnTo>
                    <a:pt x="164" y="1286"/>
                  </a:lnTo>
                  <a:lnTo>
                    <a:pt x="28" y="1369"/>
                  </a:lnTo>
                  <a:lnTo>
                    <a:pt x="28" y="1369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9673400">
              <a:off x="3610080" y="5092920"/>
              <a:ext cx="75960" cy="253800"/>
            </a:xfrm>
            <a:custGeom>
              <a:avLst/>
              <a:gdLst/>
              <a:ahLst/>
              <a:rect l="l" t="t" r="r" b="b"/>
              <a:pathLst>
                <a:path w="167" h="569">
                  <a:moveTo>
                    <a:pt x="7" y="569"/>
                  </a:moveTo>
                  <a:lnTo>
                    <a:pt x="0" y="95"/>
                  </a:lnTo>
                  <a:lnTo>
                    <a:pt x="145" y="0"/>
                  </a:lnTo>
                  <a:lnTo>
                    <a:pt x="167" y="516"/>
                  </a:lnTo>
                  <a:lnTo>
                    <a:pt x="7" y="569"/>
                  </a:lnTo>
                  <a:lnTo>
                    <a:pt x="7" y="569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9673400">
              <a:off x="3708720" y="5396760"/>
              <a:ext cx="361800" cy="815760"/>
            </a:xfrm>
            <a:custGeom>
              <a:avLst/>
              <a:gdLst/>
              <a:ahLst/>
              <a:rect l="l" t="t" r="r" b="b"/>
              <a:pathLst>
                <a:path w="805" h="1817">
                  <a:moveTo>
                    <a:pt x="744" y="0"/>
                  </a:moveTo>
                  <a:lnTo>
                    <a:pt x="805" y="1513"/>
                  </a:lnTo>
                  <a:lnTo>
                    <a:pt x="784" y="1562"/>
                  </a:lnTo>
                  <a:lnTo>
                    <a:pt x="715" y="1671"/>
                  </a:lnTo>
                  <a:lnTo>
                    <a:pt x="658" y="1729"/>
                  </a:lnTo>
                  <a:lnTo>
                    <a:pt x="624" y="1753"/>
                  </a:lnTo>
                  <a:lnTo>
                    <a:pt x="587" y="1779"/>
                  </a:lnTo>
                  <a:lnTo>
                    <a:pt x="500" y="1809"/>
                  </a:lnTo>
                  <a:lnTo>
                    <a:pt x="397" y="1817"/>
                  </a:lnTo>
                  <a:lnTo>
                    <a:pt x="209" y="1768"/>
                  </a:lnTo>
                  <a:lnTo>
                    <a:pt x="142" y="1726"/>
                  </a:lnTo>
                  <a:lnTo>
                    <a:pt x="88" y="1677"/>
                  </a:lnTo>
                  <a:lnTo>
                    <a:pt x="0" y="1553"/>
                  </a:lnTo>
                  <a:lnTo>
                    <a:pt x="378" y="1559"/>
                  </a:lnTo>
                  <a:lnTo>
                    <a:pt x="411" y="1604"/>
                  </a:lnTo>
                  <a:lnTo>
                    <a:pt x="455" y="1633"/>
                  </a:lnTo>
                  <a:lnTo>
                    <a:pt x="518" y="1637"/>
                  </a:lnTo>
                  <a:lnTo>
                    <a:pt x="582" y="1610"/>
                  </a:lnTo>
                  <a:lnTo>
                    <a:pt x="616" y="1561"/>
                  </a:lnTo>
                  <a:lnTo>
                    <a:pt x="640" y="1495"/>
                  </a:lnTo>
                  <a:lnTo>
                    <a:pt x="575" y="38"/>
                  </a:lnTo>
                  <a:lnTo>
                    <a:pt x="744" y="0"/>
                  </a:lnTo>
                  <a:lnTo>
                    <a:pt x="7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9673400">
              <a:off x="3164400" y="4462200"/>
              <a:ext cx="728280" cy="1454040"/>
            </a:xfrm>
            <a:custGeom>
              <a:avLst/>
              <a:gdLst/>
              <a:ahLst/>
              <a:rect l="l" t="t" r="r" b="b"/>
              <a:pathLst>
                <a:path w="1625" h="3239">
                  <a:moveTo>
                    <a:pt x="1218" y="43"/>
                  </a:moveTo>
                  <a:lnTo>
                    <a:pt x="1261" y="103"/>
                  </a:lnTo>
                  <a:lnTo>
                    <a:pt x="1354" y="247"/>
                  </a:lnTo>
                  <a:lnTo>
                    <a:pt x="1399" y="336"/>
                  </a:lnTo>
                  <a:lnTo>
                    <a:pt x="1441" y="430"/>
                  </a:lnTo>
                  <a:lnTo>
                    <a:pt x="1469" y="607"/>
                  </a:lnTo>
                  <a:lnTo>
                    <a:pt x="1438" y="754"/>
                  </a:lnTo>
                  <a:lnTo>
                    <a:pt x="1414" y="823"/>
                  </a:lnTo>
                  <a:lnTo>
                    <a:pt x="1383" y="888"/>
                  </a:lnTo>
                  <a:lnTo>
                    <a:pt x="1345" y="950"/>
                  </a:lnTo>
                  <a:lnTo>
                    <a:pt x="1296" y="1008"/>
                  </a:lnTo>
                  <a:lnTo>
                    <a:pt x="1234" y="1064"/>
                  </a:lnTo>
                  <a:lnTo>
                    <a:pt x="1161" y="1115"/>
                  </a:lnTo>
                  <a:lnTo>
                    <a:pt x="1074" y="1173"/>
                  </a:lnTo>
                  <a:lnTo>
                    <a:pt x="976" y="1241"/>
                  </a:lnTo>
                  <a:lnTo>
                    <a:pt x="821" y="1339"/>
                  </a:lnTo>
                  <a:lnTo>
                    <a:pt x="714" y="1408"/>
                  </a:lnTo>
                  <a:lnTo>
                    <a:pt x="602" y="1484"/>
                  </a:lnTo>
                  <a:lnTo>
                    <a:pt x="493" y="1564"/>
                  </a:lnTo>
                  <a:lnTo>
                    <a:pt x="391" y="1649"/>
                  </a:lnTo>
                  <a:lnTo>
                    <a:pt x="294" y="1740"/>
                  </a:lnTo>
                  <a:lnTo>
                    <a:pt x="211" y="1834"/>
                  </a:lnTo>
                  <a:lnTo>
                    <a:pt x="173" y="1882"/>
                  </a:lnTo>
                  <a:lnTo>
                    <a:pt x="96" y="2016"/>
                  </a:lnTo>
                  <a:lnTo>
                    <a:pt x="44" y="2156"/>
                  </a:lnTo>
                  <a:lnTo>
                    <a:pt x="15" y="2289"/>
                  </a:lnTo>
                  <a:lnTo>
                    <a:pt x="0" y="2423"/>
                  </a:lnTo>
                  <a:lnTo>
                    <a:pt x="2" y="2552"/>
                  </a:lnTo>
                  <a:lnTo>
                    <a:pt x="22" y="2656"/>
                  </a:lnTo>
                  <a:lnTo>
                    <a:pt x="51" y="2750"/>
                  </a:lnTo>
                  <a:lnTo>
                    <a:pt x="89" y="2824"/>
                  </a:lnTo>
                  <a:lnTo>
                    <a:pt x="129" y="2883"/>
                  </a:lnTo>
                  <a:lnTo>
                    <a:pt x="213" y="2972"/>
                  </a:lnTo>
                  <a:lnTo>
                    <a:pt x="298" y="3039"/>
                  </a:lnTo>
                  <a:lnTo>
                    <a:pt x="409" y="3104"/>
                  </a:lnTo>
                  <a:lnTo>
                    <a:pt x="543" y="3170"/>
                  </a:lnTo>
                  <a:lnTo>
                    <a:pt x="663" y="3208"/>
                  </a:lnTo>
                  <a:lnTo>
                    <a:pt x="831" y="3235"/>
                  </a:lnTo>
                  <a:lnTo>
                    <a:pt x="1056" y="3239"/>
                  </a:lnTo>
                  <a:lnTo>
                    <a:pt x="1005" y="3077"/>
                  </a:lnTo>
                  <a:lnTo>
                    <a:pt x="876" y="3050"/>
                  </a:lnTo>
                  <a:lnTo>
                    <a:pt x="756" y="3010"/>
                  </a:lnTo>
                  <a:lnTo>
                    <a:pt x="571" y="2924"/>
                  </a:lnTo>
                  <a:lnTo>
                    <a:pt x="493" y="2866"/>
                  </a:lnTo>
                  <a:lnTo>
                    <a:pt x="413" y="2797"/>
                  </a:lnTo>
                  <a:lnTo>
                    <a:pt x="354" y="2719"/>
                  </a:lnTo>
                  <a:lnTo>
                    <a:pt x="324" y="2656"/>
                  </a:lnTo>
                  <a:lnTo>
                    <a:pt x="253" y="2183"/>
                  </a:lnTo>
                  <a:lnTo>
                    <a:pt x="264" y="2098"/>
                  </a:lnTo>
                  <a:lnTo>
                    <a:pt x="294" y="2009"/>
                  </a:lnTo>
                  <a:lnTo>
                    <a:pt x="343" y="1914"/>
                  </a:lnTo>
                  <a:lnTo>
                    <a:pt x="414" y="1807"/>
                  </a:lnTo>
                  <a:lnTo>
                    <a:pt x="460" y="1753"/>
                  </a:lnTo>
                  <a:lnTo>
                    <a:pt x="511" y="1700"/>
                  </a:lnTo>
                  <a:lnTo>
                    <a:pt x="567" y="1649"/>
                  </a:lnTo>
                  <a:lnTo>
                    <a:pt x="627" y="1604"/>
                  </a:lnTo>
                  <a:lnTo>
                    <a:pt x="689" y="1557"/>
                  </a:lnTo>
                  <a:lnTo>
                    <a:pt x="751" y="1515"/>
                  </a:lnTo>
                  <a:lnTo>
                    <a:pt x="816" y="1475"/>
                  </a:lnTo>
                  <a:lnTo>
                    <a:pt x="941" y="1402"/>
                  </a:lnTo>
                  <a:lnTo>
                    <a:pt x="1056" y="1339"/>
                  </a:lnTo>
                  <a:lnTo>
                    <a:pt x="1189" y="1259"/>
                  </a:lnTo>
                  <a:lnTo>
                    <a:pt x="1241" y="1215"/>
                  </a:lnTo>
                  <a:lnTo>
                    <a:pt x="1325" y="1135"/>
                  </a:lnTo>
                  <a:lnTo>
                    <a:pt x="1378" y="1095"/>
                  </a:lnTo>
                  <a:lnTo>
                    <a:pt x="1432" y="1053"/>
                  </a:lnTo>
                  <a:lnTo>
                    <a:pt x="1601" y="826"/>
                  </a:lnTo>
                  <a:lnTo>
                    <a:pt x="1625" y="679"/>
                  </a:lnTo>
                  <a:lnTo>
                    <a:pt x="1618" y="539"/>
                  </a:lnTo>
                  <a:lnTo>
                    <a:pt x="1587" y="416"/>
                  </a:lnTo>
                  <a:lnTo>
                    <a:pt x="1547" y="314"/>
                  </a:lnTo>
                  <a:lnTo>
                    <a:pt x="1429" y="112"/>
                  </a:lnTo>
                  <a:lnTo>
                    <a:pt x="1352" y="0"/>
                  </a:lnTo>
                  <a:lnTo>
                    <a:pt x="1218" y="43"/>
                  </a:lnTo>
                  <a:lnTo>
                    <a:pt x="1218" y="43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9673400">
              <a:off x="3268440" y="4748040"/>
              <a:ext cx="637560" cy="905040"/>
            </a:xfrm>
            <a:custGeom>
              <a:avLst/>
              <a:gdLst/>
              <a:ahLst/>
              <a:rect l="l" t="t" r="r" b="b"/>
              <a:pathLst>
                <a:path w="1419" h="2016">
                  <a:moveTo>
                    <a:pt x="1419" y="0"/>
                  </a:moveTo>
                  <a:lnTo>
                    <a:pt x="1399" y="229"/>
                  </a:lnTo>
                  <a:lnTo>
                    <a:pt x="1372" y="336"/>
                  </a:lnTo>
                  <a:lnTo>
                    <a:pt x="1332" y="450"/>
                  </a:lnTo>
                  <a:lnTo>
                    <a:pt x="1272" y="565"/>
                  </a:lnTo>
                  <a:lnTo>
                    <a:pt x="1190" y="676"/>
                  </a:lnTo>
                  <a:lnTo>
                    <a:pt x="1085" y="779"/>
                  </a:lnTo>
                  <a:lnTo>
                    <a:pt x="965" y="879"/>
                  </a:lnTo>
                  <a:lnTo>
                    <a:pt x="832" y="975"/>
                  </a:lnTo>
                  <a:lnTo>
                    <a:pt x="699" y="1064"/>
                  </a:lnTo>
                  <a:lnTo>
                    <a:pt x="572" y="1153"/>
                  </a:lnTo>
                  <a:lnTo>
                    <a:pt x="452" y="1237"/>
                  </a:lnTo>
                  <a:lnTo>
                    <a:pt x="354" y="1322"/>
                  </a:lnTo>
                  <a:lnTo>
                    <a:pt x="281" y="1406"/>
                  </a:lnTo>
                  <a:lnTo>
                    <a:pt x="200" y="1531"/>
                  </a:lnTo>
                  <a:lnTo>
                    <a:pt x="143" y="1669"/>
                  </a:lnTo>
                  <a:lnTo>
                    <a:pt x="114" y="1796"/>
                  </a:lnTo>
                  <a:lnTo>
                    <a:pt x="65" y="2016"/>
                  </a:lnTo>
                  <a:lnTo>
                    <a:pt x="0" y="1660"/>
                  </a:lnTo>
                  <a:lnTo>
                    <a:pt x="23" y="1604"/>
                  </a:lnTo>
                  <a:lnTo>
                    <a:pt x="58" y="1538"/>
                  </a:lnTo>
                  <a:lnTo>
                    <a:pt x="105" y="1457"/>
                  </a:lnTo>
                  <a:lnTo>
                    <a:pt x="172" y="1362"/>
                  </a:lnTo>
                  <a:lnTo>
                    <a:pt x="211" y="1309"/>
                  </a:lnTo>
                  <a:lnTo>
                    <a:pt x="256" y="1259"/>
                  </a:lnTo>
                  <a:lnTo>
                    <a:pt x="305" y="1204"/>
                  </a:lnTo>
                  <a:lnTo>
                    <a:pt x="360" y="1150"/>
                  </a:lnTo>
                  <a:lnTo>
                    <a:pt x="421" y="1093"/>
                  </a:lnTo>
                  <a:lnTo>
                    <a:pt x="483" y="1039"/>
                  </a:lnTo>
                  <a:lnTo>
                    <a:pt x="549" y="986"/>
                  </a:lnTo>
                  <a:lnTo>
                    <a:pt x="610" y="941"/>
                  </a:lnTo>
                  <a:lnTo>
                    <a:pt x="669" y="899"/>
                  </a:lnTo>
                  <a:lnTo>
                    <a:pt x="767" y="819"/>
                  </a:lnTo>
                  <a:lnTo>
                    <a:pt x="888" y="732"/>
                  </a:lnTo>
                  <a:lnTo>
                    <a:pt x="1001" y="643"/>
                  </a:lnTo>
                  <a:lnTo>
                    <a:pt x="1072" y="583"/>
                  </a:lnTo>
                  <a:lnTo>
                    <a:pt x="1125" y="488"/>
                  </a:lnTo>
                  <a:lnTo>
                    <a:pt x="1188" y="350"/>
                  </a:lnTo>
                  <a:lnTo>
                    <a:pt x="1237" y="225"/>
                  </a:lnTo>
                  <a:lnTo>
                    <a:pt x="1256" y="171"/>
                  </a:lnTo>
                  <a:lnTo>
                    <a:pt x="1419" y="0"/>
                  </a:lnTo>
                  <a:lnTo>
                    <a:pt x="1419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9673400">
              <a:off x="3678840" y="5310720"/>
              <a:ext cx="500040" cy="444600"/>
            </a:xfrm>
            <a:custGeom>
              <a:avLst/>
              <a:gdLst/>
              <a:ahLst/>
              <a:rect l="l" t="t" r="r" b="b"/>
              <a:pathLst>
                <a:path w="1116" h="992">
                  <a:moveTo>
                    <a:pt x="0" y="336"/>
                  </a:moveTo>
                  <a:lnTo>
                    <a:pt x="31" y="281"/>
                  </a:lnTo>
                  <a:lnTo>
                    <a:pt x="75" y="225"/>
                  </a:lnTo>
                  <a:lnTo>
                    <a:pt x="100" y="194"/>
                  </a:lnTo>
                  <a:lnTo>
                    <a:pt x="166" y="129"/>
                  </a:lnTo>
                  <a:lnTo>
                    <a:pt x="248" y="71"/>
                  </a:lnTo>
                  <a:lnTo>
                    <a:pt x="293" y="47"/>
                  </a:lnTo>
                  <a:lnTo>
                    <a:pt x="397" y="13"/>
                  </a:lnTo>
                  <a:lnTo>
                    <a:pt x="506" y="0"/>
                  </a:lnTo>
                  <a:lnTo>
                    <a:pt x="607" y="5"/>
                  </a:lnTo>
                  <a:lnTo>
                    <a:pt x="733" y="38"/>
                  </a:lnTo>
                  <a:lnTo>
                    <a:pt x="816" y="78"/>
                  </a:lnTo>
                  <a:lnTo>
                    <a:pt x="871" y="123"/>
                  </a:lnTo>
                  <a:lnTo>
                    <a:pt x="920" y="167"/>
                  </a:lnTo>
                  <a:lnTo>
                    <a:pt x="953" y="218"/>
                  </a:lnTo>
                  <a:lnTo>
                    <a:pt x="985" y="318"/>
                  </a:lnTo>
                  <a:lnTo>
                    <a:pt x="985" y="543"/>
                  </a:lnTo>
                  <a:lnTo>
                    <a:pt x="1116" y="525"/>
                  </a:lnTo>
                  <a:lnTo>
                    <a:pt x="1076" y="628"/>
                  </a:lnTo>
                  <a:lnTo>
                    <a:pt x="998" y="726"/>
                  </a:lnTo>
                  <a:lnTo>
                    <a:pt x="938" y="779"/>
                  </a:lnTo>
                  <a:lnTo>
                    <a:pt x="858" y="830"/>
                  </a:lnTo>
                  <a:lnTo>
                    <a:pt x="776" y="877"/>
                  </a:lnTo>
                  <a:lnTo>
                    <a:pt x="700" y="913"/>
                  </a:lnTo>
                  <a:lnTo>
                    <a:pt x="569" y="963"/>
                  </a:lnTo>
                  <a:lnTo>
                    <a:pt x="453" y="992"/>
                  </a:lnTo>
                  <a:lnTo>
                    <a:pt x="402" y="830"/>
                  </a:lnTo>
                  <a:lnTo>
                    <a:pt x="607" y="775"/>
                  </a:lnTo>
                  <a:lnTo>
                    <a:pt x="689" y="743"/>
                  </a:lnTo>
                  <a:lnTo>
                    <a:pt x="760" y="696"/>
                  </a:lnTo>
                  <a:lnTo>
                    <a:pt x="855" y="570"/>
                  </a:lnTo>
                  <a:lnTo>
                    <a:pt x="867" y="421"/>
                  </a:lnTo>
                  <a:lnTo>
                    <a:pt x="849" y="354"/>
                  </a:lnTo>
                  <a:lnTo>
                    <a:pt x="820" y="294"/>
                  </a:lnTo>
                  <a:lnTo>
                    <a:pt x="786" y="240"/>
                  </a:lnTo>
                  <a:lnTo>
                    <a:pt x="680" y="167"/>
                  </a:lnTo>
                  <a:lnTo>
                    <a:pt x="613" y="149"/>
                  </a:lnTo>
                  <a:lnTo>
                    <a:pt x="486" y="142"/>
                  </a:lnTo>
                  <a:lnTo>
                    <a:pt x="348" y="174"/>
                  </a:lnTo>
                  <a:lnTo>
                    <a:pt x="266" y="234"/>
                  </a:lnTo>
                  <a:lnTo>
                    <a:pt x="213" y="307"/>
                  </a:lnTo>
                  <a:lnTo>
                    <a:pt x="204" y="405"/>
                  </a:lnTo>
                  <a:lnTo>
                    <a:pt x="233" y="481"/>
                  </a:lnTo>
                  <a:lnTo>
                    <a:pt x="277" y="525"/>
                  </a:lnTo>
                  <a:lnTo>
                    <a:pt x="346" y="543"/>
                  </a:lnTo>
                  <a:lnTo>
                    <a:pt x="482" y="559"/>
                  </a:lnTo>
                  <a:lnTo>
                    <a:pt x="716" y="577"/>
                  </a:lnTo>
                  <a:lnTo>
                    <a:pt x="442" y="686"/>
                  </a:lnTo>
                  <a:lnTo>
                    <a:pt x="269" y="681"/>
                  </a:lnTo>
                  <a:lnTo>
                    <a:pt x="166" y="646"/>
                  </a:lnTo>
                  <a:lnTo>
                    <a:pt x="89" y="601"/>
                  </a:lnTo>
                  <a:lnTo>
                    <a:pt x="22" y="514"/>
                  </a:lnTo>
                  <a:lnTo>
                    <a:pt x="8" y="428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9673400">
              <a:off x="3592440" y="5212440"/>
              <a:ext cx="550440" cy="406440"/>
            </a:xfrm>
            <a:custGeom>
              <a:avLst/>
              <a:gdLst/>
              <a:ahLst/>
              <a:rect l="l" t="t" r="r" b="b"/>
              <a:pathLst>
                <a:path w="1225" h="904">
                  <a:moveTo>
                    <a:pt x="98" y="797"/>
                  </a:moveTo>
                  <a:lnTo>
                    <a:pt x="72" y="755"/>
                  </a:lnTo>
                  <a:lnTo>
                    <a:pt x="25" y="643"/>
                  </a:lnTo>
                  <a:lnTo>
                    <a:pt x="0" y="479"/>
                  </a:lnTo>
                  <a:lnTo>
                    <a:pt x="11" y="385"/>
                  </a:lnTo>
                  <a:lnTo>
                    <a:pt x="41" y="285"/>
                  </a:lnTo>
                  <a:lnTo>
                    <a:pt x="96" y="201"/>
                  </a:lnTo>
                  <a:lnTo>
                    <a:pt x="169" y="130"/>
                  </a:lnTo>
                  <a:lnTo>
                    <a:pt x="260" y="76"/>
                  </a:lnTo>
                  <a:lnTo>
                    <a:pt x="361" y="38"/>
                  </a:lnTo>
                  <a:lnTo>
                    <a:pt x="492" y="12"/>
                  </a:lnTo>
                  <a:lnTo>
                    <a:pt x="609" y="0"/>
                  </a:lnTo>
                  <a:lnTo>
                    <a:pt x="761" y="23"/>
                  </a:lnTo>
                  <a:lnTo>
                    <a:pt x="881" y="59"/>
                  </a:lnTo>
                  <a:lnTo>
                    <a:pt x="963" y="96"/>
                  </a:lnTo>
                  <a:lnTo>
                    <a:pt x="1043" y="161"/>
                  </a:lnTo>
                  <a:lnTo>
                    <a:pt x="1105" y="221"/>
                  </a:lnTo>
                  <a:lnTo>
                    <a:pt x="1165" y="326"/>
                  </a:lnTo>
                  <a:lnTo>
                    <a:pt x="1216" y="474"/>
                  </a:lnTo>
                  <a:lnTo>
                    <a:pt x="1225" y="590"/>
                  </a:lnTo>
                  <a:lnTo>
                    <a:pt x="1199" y="695"/>
                  </a:lnTo>
                  <a:lnTo>
                    <a:pt x="1159" y="799"/>
                  </a:lnTo>
                  <a:lnTo>
                    <a:pt x="937" y="904"/>
                  </a:lnTo>
                  <a:lnTo>
                    <a:pt x="1052" y="739"/>
                  </a:lnTo>
                  <a:lnTo>
                    <a:pt x="1083" y="606"/>
                  </a:lnTo>
                  <a:lnTo>
                    <a:pt x="1081" y="494"/>
                  </a:lnTo>
                  <a:lnTo>
                    <a:pt x="1056" y="379"/>
                  </a:lnTo>
                  <a:lnTo>
                    <a:pt x="994" y="276"/>
                  </a:lnTo>
                  <a:lnTo>
                    <a:pt x="947" y="228"/>
                  </a:lnTo>
                  <a:lnTo>
                    <a:pt x="888" y="198"/>
                  </a:lnTo>
                  <a:lnTo>
                    <a:pt x="812" y="165"/>
                  </a:lnTo>
                  <a:lnTo>
                    <a:pt x="712" y="141"/>
                  </a:lnTo>
                  <a:lnTo>
                    <a:pt x="590" y="128"/>
                  </a:lnTo>
                  <a:lnTo>
                    <a:pt x="421" y="148"/>
                  </a:lnTo>
                  <a:lnTo>
                    <a:pt x="330" y="188"/>
                  </a:lnTo>
                  <a:lnTo>
                    <a:pt x="256" y="236"/>
                  </a:lnTo>
                  <a:lnTo>
                    <a:pt x="198" y="283"/>
                  </a:lnTo>
                  <a:lnTo>
                    <a:pt x="165" y="323"/>
                  </a:lnTo>
                  <a:lnTo>
                    <a:pt x="131" y="414"/>
                  </a:lnTo>
                  <a:lnTo>
                    <a:pt x="120" y="526"/>
                  </a:lnTo>
                  <a:lnTo>
                    <a:pt x="127" y="663"/>
                  </a:lnTo>
                  <a:lnTo>
                    <a:pt x="98" y="797"/>
                  </a:lnTo>
                  <a:lnTo>
                    <a:pt x="98" y="797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9673400">
              <a:off x="3808800" y="5922000"/>
              <a:ext cx="242640" cy="231840"/>
            </a:xfrm>
            <a:custGeom>
              <a:avLst/>
              <a:gdLst/>
              <a:ahLst/>
              <a:rect l="l" t="t" r="r" b="b"/>
              <a:pathLst>
                <a:path w="542" h="516">
                  <a:moveTo>
                    <a:pt x="451" y="454"/>
                  </a:moveTo>
                  <a:lnTo>
                    <a:pt x="496" y="403"/>
                  </a:lnTo>
                  <a:lnTo>
                    <a:pt x="527" y="343"/>
                  </a:lnTo>
                  <a:lnTo>
                    <a:pt x="542" y="276"/>
                  </a:lnTo>
                  <a:lnTo>
                    <a:pt x="536" y="209"/>
                  </a:lnTo>
                  <a:lnTo>
                    <a:pt x="515" y="145"/>
                  </a:lnTo>
                  <a:lnTo>
                    <a:pt x="473" y="89"/>
                  </a:lnTo>
                  <a:lnTo>
                    <a:pt x="418" y="42"/>
                  </a:lnTo>
                  <a:lnTo>
                    <a:pt x="356" y="14"/>
                  </a:lnTo>
                  <a:lnTo>
                    <a:pt x="287" y="0"/>
                  </a:lnTo>
                  <a:lnTo>
                    <a:pt x="217" y="5"/>
                  </a:lnTo>
                  <a:lnTo>
                    <a:pt x="151" y="27"/>
                  </a:lnTo>
                  <a:lnTo>
                    <a:pt x="93" y="67"/>
                  </a:lnTo>
                  <a:lnTo>
                    <a:pt x="46" y="116"/>
                  </a:lnTo>
                  <a:lnTo>
                    <a:pt x="13" y="180"/>
                  </a:lnTo>
                  <a:lnTo>
                    <a:pt x="0" y="245"/>
                  </a:lnTo>
                  <a:lnTo>
                    <a:pt x="6" y="312"/>
                  </a:lnTo>
                  <a:lnTo>
                    <a:pt x="29" y="378"/>
                  </a:lnTo>
                  <a:lnTo>
                    <a:pt x="69" y="432"/>
                  </a:lnTo>
                  <a:lnTo>
                    <a:pt x="122" y="478"/>
                  </a:lnTo>
                  <a:lnTo>
                    <a:pt x="233" y="516"/>
                  </a:lnTo>
                  <a:lnTo>
                    <a:pt x="249" y="412"/>
                  </a:lnTo>
                  <a:lnTo>
                    <a:pt x="211" y="398"/>
                  </a:lnTo>
                  <a:lnTo>
                    <a:pt x="160" y="360"/>
                  </a:lnTo>
                  <a:lnTo>
                    <a:pt x="129" y="309"/>
                  </a:lnTo>
                  <a:lnTo>
                    <a:pt x="122" y="251"/>
                  </a:lnTo>
                  <a:lnTo>
                    <a:pt x="138" y="192"/>
                  </a:lnTo>
                  <a:lnTo>
                    <a:pt x="162" y="158"/>
                  </a:lnTo>
                  <a:lnTo>
                    <a:pt x="211" y="125"/>
                  </a:lnTo>
                  <a:lnTo>
                    <a:pt x="273" y="109"/>
                  </a:lnTo>
                  <a:lnTo>
                    <a:pt x="333" y="116"/>
                  </a:lnTo>
                  <a:lnTo>
                    <a:pt x="387" y="149"/>
                  </a:lnTo>
                  <a:lnTo>
                    <a:pt x="424" y="194"/>
                  </a:lnTo>
                  <a:lnTo>
                    <a:pt x="440" y="252"/>
                  </a:lnTo>
                  <a:lnTo>
                    <a:pt x="431" y="311"/>
                  </a:lnTo>
                  <a:lnTo>
                    <a:pt x="398" y="361"/>
                  </a:lnTo>
                  <a:lnTo>
                    <a:pt x="349" y="398"/>
                  </a:lnTo>
                  <a:lnTo>
                    <a:pt x="311" y="412"/>
                  </a:lnTo>
                  <a:lnTo>
                    <a:pt x="358" y="507"/>
                  </a:lnTo>
                  <a:lnTo>
                    <a:pt x="451" y="454"/>
                  </a:lnTo>
                  <a:lnTo>
                    <a:pt x="451" y="454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642200" y="2801160"/>
            <a:ext cx="736200" cy="829080"/>
            <a:chOff x="4642200" y="2801160"/>
            <a:chExt cx="736200" cy="829080"/>
          </a:xfrm>
        </p:grpSpPr>
        <p:sp>
          <p:nvSpPr>
            <p:cNvPr id="74" name=""/>
            <p:cNvSpPr/>
            <p:nvPr/>
          </p:nvSpPr>
          <p:spPr>
            <a:xfrm rot="2526600">
              <a:off x="4774680" y="3420720"/>
              <a:ext cx="214200" cy="13104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526600">
              <a:off x="4757400" y="3408480"/>
              <a:ext cx="229680" cy="15516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526600">
              <a:off x="4802400" y="3438720"/>
              <a:ext cx="183240" cy="14940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2526600">
              <a:off x="5024160" y="2977920"/>
              <a:ext cx="321840" cy="12024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2526600">
              <a:off x="4758840" y="2916000"/>
              <a:ext cx="481320" cy="53316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526600">
              <a:off x="4931640" y="2952000"/>
              <a:ext cx="481680" cy="8028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678000" y="1019880"/>
            <a:ext cx="1146600" cy="1493280"/>
            <a:chOff x="6678000" y="1019880"/>
            <a:chExt cx="1146600" cy="1493280"/>
          </a:xfrm>
        </p:grpSpPr>
        <p:sp>
          <p:nvSpPr>
            <p:cNvPr id="81" name=""/>
            <p:cNvSpPr/>
            <p:nvPr/>
          </p:nvSpPr>
          <p:spPr>
            <a:xfrm rot="1066800">
              <a:off x="7073640" y="2167920"/>
              <a:ext cx="382320" cy="24768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066800">
              <a:off x="7043760" y="2152440"/>
              <a:ext cx="409320" cy="29376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66800">
              <a:off x="7140240" y="2188440"/>
              <a:ext cx="328680" cy="28116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66800">
              <a:off x="7156080" y="1177560"/>
              <a:ext cx="576360" cy="22716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066800">
              <a:off x="6810480" y="1182240"/>
              <a:ext cx="861840" cy="100332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066800">
              <a:off x="6959520" y="1147680"/>
              <a:ext cx="862200" cy="15228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021000" y="2414160"/>
            <a:ext cx="559080" cy="917640"/>
            <a:chOff x="6021000" y="2414160"/>
            <a:chExt cx="559080" cy="917640"/>
          </a:xfrm>
        </p:grpSpPr>
        <p:sp>
          <p:nvSpPr>
            <p:cNvPr id="88" name=""/>
            <p:cNvSpPr/>
            <p:nvPr/>
          </p:nvSpPr>
          <p:spPr>
            <a:xfrm rot="21596400">
              <a:off x="6311880" y="3128400"/>
              <a:ext cx="249120" cy="17460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1596400">
              <a:off x="6294240" y="3120480"/>
              <a:ext cx="266760" cy="20808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1596400">
              <a:off x="6362640" y="3131640"/>
              <a:ext cx="211320" cy="19980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1596400">
              <a:off x="6161040" y="2422440"/>
              <a:ext cx="372960" cy="16020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1596400">
              <a:off x="6021360" y="2457360"/>
              <a:ext cx="557280" cy="71100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1596400">
              <a:off x="6022800" y="2414520"/>
              <a:ext cx="557280" cy="10764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從大自然中取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石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貝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樹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27760" y="253224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60720" y="4691160"/>
            <a:ext cx="2555640" cy="190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027760" y="4691160"/>
            <a:ext cx="2514600" cy="19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從生活環境中取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吸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錢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玻璃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鍋碗瓢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103720" y="4722840"/>
            <a:ext cx="2389320" cy="1862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979640" y="4702320"/>
            <a:ext cx="2590920" cy="1895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103720" y="2496960"/>
            <a:ext cx="2362320" cy="201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8:18:46Z</dcterms:created>
  <dc:creator>e049</dc:creator>
  <dc:description/>
  <dc:language>en-US</dc:language>
  <cp:lastModifiedBy>思蓉</cp:lastModifiedBy>
  <dcterms:modified xsi:type="dcterms:W3CDTF">2005-03-01T10:57:06Z</dcterms:modified>
  <cp:revision>6</cp:revision>
  <dc:subject/>
  <dc:title>PowerPoint 簡報</dc:title>
</cp:coreProperties>
</file>