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B06E-B9D7-4B7F-A6D8-70C0DC659FAD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256C-6FCF-4045-B6ED-8076756724C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地球曾經歷數次大變動，造成生物群集的改變。當地球上的生物形成第一次群集後，通常先有大規模的滅絕，而後才有適應新環境的生物大繁衍，如此週而復始，形成演化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007-A887-4DD0-9FB1-F42B19B2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2392-3237-4DC5-821B-5D5215FE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108F-5BA0-4EC2-A4DE-0BC3EC77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744D-268E-4559-BDE0-44DFCC9F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35BE-BF9D-474C-9B9F-5BD8739D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6030-92EF-4BF6-A87F-83A8588E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EB85-41B2-4A34-8AD5-5FB28582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371C-92EC-4381-A6FF-0B71238C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9E72-FE97-410B-A906-03A65DE1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894A-817E-4EDF-80CF-3C75769E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E925-16F9-4B44-926B-1D9055D6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1CB8-7A64-46E9-9DC6-7C135831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9762-AD9E-4340-B0AD-79869468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105A-45DC-4DF0-A422-9AF3D8A5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A96C-13B9-4C26-AAD6-1A8B8F6F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1CD4-A674-49F9-8393-55B933C9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C081-6F98-4EB2-BEF4-4F96C698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FB8EF-A210-4EDA-9127-8906AEAF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26867-8485-43A5-88DC-A2081311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2B2FE-2910-4FFD-94F2-85BEEC89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39777-E38C-4CEF-805C-E8D9E8C9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C6931-C4AE-4A29-A022-FF1EFECC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3009-F997-46F2-A234-D880858D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4D10B-3D9D-432E-A352-D3250AC9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3C880-A208-480E-B400-A6B09261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18B94-DF8E-4015-933A-12D63D06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CBA69-7522-4854-B408-DACAA2D9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CB1F3-E1D1-4F25-A43F-EF1BCDB9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7BA2E-55EA-45E6-9520-6F8BD517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2CAFC-D409-460E-A66C-0E1ADA27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39488-1D62-465B-BB59-23D164AF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B813F-67A5-49A5-A486-30C946BA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33542-B49D-4B2D-B814-C71BB336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3D7-EF8F-4440-B5AF-DF98B51F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BAD2E-2047-42BA-9785-FBA72711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88B11-E220-4206-860D-7F29C9D0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04D93-C547-44E5-8986-3CC850F4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E1E08-DA41-47D6-B3AC-C24813F0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635FE-72C6-4BE0-8127-25F3DE45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37F3D-FDEC-4738-A1EE-C19CFEE9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9B3E4-B55E-4028-AA1E-B02AEEF5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0BEFA-BC19-472D-9BCE-A704D2DB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8B6FB-F3D8-4235-8AA7-C6F1CFE6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1273B-BBD0-4E70-B0A0-CAE4C29E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AC9-3003-4FFB-AFA9-A6E64D16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72833-0C44-4818-8062-D08E841E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CC918-EFFF-42AD-BAD9-866B1DE7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B2A3C-7717-410C-91F6-6C7F3D8C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E7728-2C25-4BB5-94B2-93F25342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C7B28-9F26-4C18-948B-42968C4F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34AA7-ADEB-4EF5-917F-B7667D07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43F52-ECD5-4FDB-8EDC-8AA850C4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B304B-3EFC-4B7D-AE75-B4F629FC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A05C3-AA9E-4138-BDCA-1484328F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4995D-8B07-4668-8A54-1DE19506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E9F5-5555-448C-ABC3-84FBB993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43E84-9DBA-42F9-97A4-8E19C95C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423-0655-40A7-9BE7-10F92282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79EC-B21A-4A9E-9E1E-DD97BB9F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F3AF-D505-4B39-8ED6-7A3AB32A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6197-3926-4529-A3A3-03E4EFB73DCC}" type="slidenum">
              <a:rPr b="0" lang="zh-TW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F4C5-83ED-4D32-82AC-11031FAC071C}" type="slidenum">
              <a:rPr b="0" lang="zh-TW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E4FB-46C3-4891-B22D-0EE74D045CB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27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8A92-C03E-4397-8F84-6B538582905A}" type="slidenum">
              <a:rPr b="0" lang="zh-TW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3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200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230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9" name="PlaceHolder 3"/>
          <p:cNvSpPr>
            <a:spLocks noGrp="1"/>
          </p:cNvSpPr>
          <p:nvPr>
            <p:ph type="ftr" idx="14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5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8757-3054-4061-9C33-51AF01252849}" type="slidenum">
              <a:rPr b="0" lang="zh-TW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ow.org.tw/index.htm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www.wow.org.tw/index.h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980640"/>
            <a:ext cx="6046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500" spc="-1" strike="noStrike">
                <a:solidFill>
                  <a:srgbClr val="006633"/>
                </a:solidFill>
                <a:latin typeface="Garamond"/>
                <a:ea typeface="華康POP1體W7"/>
              </a:rPr>
              <a:t>地球上的生物</a:t>
            </a:r>
            <a:endParaRPr b="0" lang="en-US" sz="7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066920" y="4436640"/>
            <a:ext cx="45291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學生姓名：曾詠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班　　級：五年五班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95280" y="134136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地球曾經歷數次大變動，造成生物群集的改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演化原則：由低等而高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　　　　　　由簡單而複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生物群集的演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"/>
          <p:cNvSpPr/>
          <p:nvPr/>
        </p:nvSpPr>
        <p:spPr>
          <a:xfrm rot="20049000">
            <a:off x="7667640" y="2919240"/>
            <a:ext cx="647640" cy="1962360"/>
          </a:xfrm>
          <a:custGeom>
            <a:avLst/>
            <a:gdLst>
              <a:gd name="textAreaLeft" fmla="*/ 86760 w 647640"/>
              <a:gd name="textAreaRight" fmla="*/ 560880 w 647640"/>
              <a:gd name="textAreaTop" fmla="*/ 343440 h 1962360"/>
              <a:gd name="textAreaBottom" fmla="*/ 1422720 h 196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96000" y="26845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生物群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236000" y="479736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大滅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43280" y="486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大繁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6177600" y="4690080"/>
            <a:ext cx="600120" cy="1947600"/>
          </a:xfrm>
          <a:custGeom>
            <a:avLst/>
            <a:gdLst>
              <a:gd name="textAreaLeft" fmla="*/ 80280 w 600120"/>
              <a:gd name="textAreaRight" fmla="*/ 519840 w 600120"/>
              <a:gd name="textAreaTop" fmla="*/ 340560 h 1947600"/>
              <a:gd name="textAreaBottom" fmla="*/ 1411920 h 19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rot="7107000">
            <a:off x="4231080" y="3520080"/>
            <a:ext cx="1977840" cy="576000"/>
          </a:xfrm>
          <a:custGeom>
            <a:avLst/>
            <a:gdLst>
              <a:gd name="textAreaLeft" fmla="*/ 345960 w 1977840"/>
              <a:gd name="textAreaRight" fmla="*/ 1433880 w 197784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2023200" y="1175040"/>
            <a:ext cx="5207040" cy="5035320"/>
            <a:chOff x="2023200" y="1175040"/>
            <a:chExt cx="5207040" cy="5035320"/>
          </a:xfrm>
        </p:grpSpPr>
        <p:cxnSp>
          <p:nvCxnSpPr>
            <p:cNvPr id="305" name="_s95261"/>
            <p:cNvCxnSpPr>
              <a:stCxn id="306" idx="2"/>
              <a:endCxn id="307" idx="4"/>
            </p:cNvCxnSpPr>
            <p:nvPr/>
          </p:nvCxnSpPr>
          <p:spPr>
            <a:xfrm rot="10800000">
              <a:off x="3029040" y="3796200"/>
              <a:ext cx="1811160" cy="2046600"/>
            </a:xfrm>
            <a:prstGeom prst="bentConnector3">
              <a:avLst>
                <a:gd name="adj1" fmla="val 7196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308" name="_s95257"/>
            <p:cNvCxnSpPr>
              <a:stCxn id="309" idx="2"/>
              <a:endCxn id="307" idx="4"/>
            </p:cNvCxnSpPr>
            <p:nvPr/>
          </p:nvCxnSpPr>
          <p:spPr>
            <a:xfrm rot="10800000">
              <a:off x="3029040" y="3796200"/>
              <a:ext cx="1811160" cy="1020240"/>
            </a:xfrm>
            <a:prstGeom prst="bentConnector3">
              <a:avLst>
                <a:gd name="adj1" fmla="val 7196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310" name="_s95253"/>
            <p:cNvCxnSpPr>
              <a:stCxn id="311" idx="2"/>
              <a:endCxn id="307" idx="4"/>
            </p:cNvCxnSpPr>
            <p:nvPr/>
          </p:nvCxnSpPr>
          <p:spPr>
            <a:xfrm flipV="1" rot="10800000">
              <a:off x="3029040" y="3789000"/>
              <a:ext cx="1811160" cy="7560"/>
            </a:xfrm>
            <a:prstGeom prst="bentConnector3">
              <a:avLst>
                <a:gd name="adj1" fmla="val 7196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312" name="_s95252"/>
            <p:cNvCxnSpPr>
              <a:stCxn id="313" idx="2"/>
              <a:endCxn id="307" idx="4"/>
            </p:cNvCxnSpPr>
            <p:nvPr/>
          </p:nvCxnSpPr>
          <p:spPr>
            <a:xfrm flipV="1" rot="10800000">
              <a:off x="3029040" y="2760840"/>
              <a:ext cx="1811160" cy="1036080"/>
            </a:xfrm>
            <a:prstGeom prst="bentConnector3">
              <a:avLst>
                <a:gd name="adj1" fmla="val 7196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314" name="_s95251"/>
            <p:cNvCxnSpPr>
              <a:stCxn id="315" idx="2"/>
              <a:endCxn id="307" idx="4"/>
            </p:cNvCxnSpPr>
            <p:nvPr/>
          </p:nvCxnSpPr>
          <p:spPr>
            <a:xfrm flipV="1" rot="10800000">
              <a:off x="3029040" y="1630440"/>
              <a:ext cx="1811160" cy="2166120"/>
            </a:xfrm>
            <a:prstGeom prst="bentConnector3">
              <a:avLst>
                <a:gd name="adj1" fmla="val 7196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307" name="_s95247"/>
            <p:cNvSpPr/>
            <p:nvPr/>
          </p:nvSpPr>
          <p:spPr>
            <a:xfrm>
              <a:off x="2023200" y="1370520"/>
              <a:ext cx="1127880" cy="4729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>
                    <a:alpha val="40000"/>
                  </a:srgbClr>
                </a:gs>
              </a:gsLst>
              <a:lin ang="13500000"/>
            </a:gradFill>
            <a:ln w="936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360" bIns="453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600" spc="-1" strike="noStrike">
                  <a:solidFill>
                    <a:srgbClr val="000099"/>
                  </a:solidFill>
                  <a:latin typeface="Arial"/>
                  <a:ea typeface="華康隸書體W7"/>
                </a:rPr>
                <a:t>生 物 分 類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95248"/>
            <p:cNvSpPr/>
            <p:nvPr/>
          </p:nvSpPr>
          <p:spPr>
            <a:xfrm>
              <a:off x="4840560" y="1175040"/>
              <a:ext cx="2389680" cy="8236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400" spc="-1" strike="noStrike">
                  <a:solidFill>
                    <a:srgbClr val="800000"/>
                  </a:solidFill>
                  <a:latin typeface="Arial"/>
                  <a:ea typeface="華康隸書體W7"/>
                </a:rPr>
                <a:t>原核生物界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_s95249"/>
            <p:cNvSpPr/>
            <p:nvPr/>
          </p:nvSpPr>
          <p:spPr>
            <a:xfrm>
              <a:off x="4840560" y="2306880"/>
              <a:ext cx="2389680" cy="821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400" spc="-1" strike="noStrike">
                  <a:solidFill>
                    <a:srgbClr val="800000"/>
                  </a:solidFill>
                  <a:latin typeface="Arial"/>
                  <a:ea typeface="華康隸書體W7"/>
                </a:rPr>
                <a:t>原生生物界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_s95250"/>
            <p:cNvSpPr/>
            <p:nvPr/>
          </p:nvSpPr>
          <p:spPr>
            <a:xfrm>
              <a:off x="4840560" y="3335400"/>
              <a:ext cx="2389680" cy="81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400" spc="-1" strike="noStrike">
                  <a:solidFill>
                    <a:srgbClr val="800000"/>
                  </a:solidFill>
                  <a:latin typeface="Arial"/>
                  <a:ea typeface="華康隸書體W7"/>
                </a:rPr>
                <a:t>菌物界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95256"/>
            <p:cNvSpPr/>
            <p:nvPr/>
          </p:nvSpPr>
          <p:spPr>
            <a:xfrm>
              <a:off x="4840560" y="4361760"/>
              <a:ext cx="2389680" cy="821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400" spc="-1" strike="noStrike">
                  <a:solidFill>
                    <a:srgbClr val="800000"/>
                  </a:solidFill>
                  <a:latin typeface="Arial"/>
                  <a:ea typeface="華康隸書體W7"/>
                </a:rPr>
                <a:t>植物界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_s95260"/>
            <p:cNvSpPr/>
            <p:nvPr/>
          </p:nvSpPr>
          <p:spPr>
            <a:xfrm>
              <a:off x="4840560" y="5388480"/>
              <a:ext cx="2389680" cy="821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400" spc="-1" strike="noStrike">
                  <a:solidFill>
                    <a:srgbClr val="800000"/>
                  </a:solidFill>
                  <a:latin typeface="Arial"/>
                  <a:ea typeface="華康隸書體W7"/>
                </a:rPr>
                <a:t>動物界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</a:rPr>
              <a:t>生物分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臺灣常見的保育動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6165720"/>
            <a:ext cx="280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相關連結：</a:t>
            </a:r>
            <a:r>
              <a:rPr b="0" lang="zh-TW" sz="1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野生動植物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191772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水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05320" y="1125360"/>
            <a:ext cx="143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臺灣黑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250920" y="2444760"/>
            <a:ext cx="3808440" cy="28558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4795920" y="3886200"/>
            <a:ext cx="3808440" cy="28558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4867200" y="933480"/>
            <a:ext cx="3808440" cy="28558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505320" y="58514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台北赤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臺灣常見的保育動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"/>
          <p:cNvSpPr/>
          <p:nvPr/>
        </p:nvSpPr>
        <p:spPr>
          <a:xfrm>
            <a:off x="3708360" y="5877000"/>
            <a:ext cx="11509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梅花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9640" y="1916280"/>
            <a:ext cx="180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臺灣獼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62200" y="1125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黑面琵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938840" y="93204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257040" y="251604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4938840" y="3860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11280" y="6165720"/>
            <a:ext cx="280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相關連結：</a:t>
            </a:r>
            <a:r>
              <a:rPr b="0" lang="zh-TW" sz="18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野生動植物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08:49:45Z</dcterms:created>
  <dc:creator>黛琳</dc:creator>
  <dc:description/>
  <dc:language>en-US</dc:language>
  <cp:lastModifiedBy>思蓉</cp:lastModifiedBy>
  <dcterms:modified xsi:type="dcterms:W3CDTF">2005-03-03T11:30:59Z</dcterms:modified>
  <cp:revision>24</cp:revision>
  <dc:subject/>
  <dc:title>地球上的生物</dc:title>
</cp:coreProperties>
</file>