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  <p:custShowLst>
    <p:custShow name="海豚自訂放映" id="0">
      <p:sldLst>
        <p:sld r:id="rId4"/>
        <p:sld r:id="rId6"/>
        <p:sld r:id="rId7"/>
        <p:sld r:id="rId6"/>
        <p:sld r:id="rId8"/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custShow id="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B5E0-8CB2-4AE8-9350-9C1ADE37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4C71-86A7-4BC3-ACB4-D1CAEC77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546A-0091-4405-A425-7DEE1025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A93E-4875-413C-9182-D0BF80F74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05FCC-8BAC-49A2-8FE6-E5D850CA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5771E-5143-44D6-AD74-74207F2E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70B06-392F-47CD-B39F-8E2CD857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4B1E4-B507-47BE-96F8-520D5863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CACAD-F131-4E5F-AA0E-FB7585D3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BDBAD-F361-4F5E-8016-F3EEB082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EA8B2-04B2-43DE-9323-ADAF496F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D287-66E1-4C71-A7D7-0FEFDB8C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9BEC5-ECC2-43A0-9DB3-45DA5EC6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A59AB-E331-48B7-92ED-8440E51B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19053-E857-433E-8C4A-4DADB1FD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3D542-9D3A-453E-98EF-879B0E34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8C3DE-D9A2-4E5F-A8D6-EB0D1AEC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EC35-45FC-4AAA-9CFF-77F1A164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AC75-7778-4631-8C18-C28D5559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665B-31F2-4075-97C4-D7A0B0FD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58CB-2084-40EF-B396-58015FB5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1D5D-9E23-4E02-936C-80D4C1CC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1DEF-F0FD-4A9B-83D5-85D3944A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8E27-CF87-4875-B177-19633ACB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11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1" marL="527400" indent="-202680"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2" marL="811440" indent="-162000">
              <a:spcBef>
                <a:spcPts val="11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3" marL="1135800" indent="-162000"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4" marL="1460520" indent="-162000">
              <a:spcBef>
                <a:spcPts val="1125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5" marL="1460520" indent="-162000">
              <a:spcBef>
                <a:spcPts val="1125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6" marL="1460520" indent="-162000">
              <a:spcBef>
                <a:spcPts val="1125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E54A-CBD6-490A-932E-54186092BCDA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825440" y="4280400"/>
            <a:ext cx="2259000" cy="2292120"/>
            <a:chOff x="4825440" y="4280400"/>
            <a:chExt cx="2259000" cy="2292120"/>
          </a:xfrm>
        </p:grpSpPr>
        <p:sp>
          <p:nvSpPr>
            <p:cNvPr id="6" name=""/>
            <p:cNvSpPr/>
            <p:nvPr/>
          </p:nvSpPr>
          <p:spPr>
            <a:xfrm rot="21214800">
              <a:off x="4916160" y="4936680"/>
              <a:ext cx="1782720" cy="722160"/>
            </a:xfrm>
            <a:custGeom>
              <a:avLst/>
              <a:gdLst/>
              <a:ahLst/>
              <a:rect l="l" t="t" r="r" b="b"/>
              <a:pathLst>
                <a:path w="1123" h="455">
                  <a:moveTo>
                    <a:pt x="8" y="156"/>
                  </a:moveTo>
                  <a:cubicBezTo>
                    <a:pt x="0" y="169"/>
                    <a:pt x="44" y="164"/>
                    <a:pt x="70" y="162"/>
                  </a:cubicBezTo>
                  <a:lnTo>
                    <a:pt x="167" y="145"/>
                  </a:lnTo>
                  <a:lnTo>
                    <a:pt x="348" y="137"/>
                  </a:lnTo>
                  <a:lnTo>
                    <a:pt x="554" y="144"/>
                  </a:lnTo>
                  <a:lnTo>
                    <a:pt x="772" y="192"/>
                  </a:lnTo>
                  <a:cubicBezTo>
                    <a:pt x="844" y="237"/>
                    <a:pt x="936" y="369"/>
                    <a:pt x="987" y="412"/>
                  </a:cubicBezTo>
                  <a:cubicBezTo>
                    <a:pt x="1039" y="455"/>
                    <a:pt x="1060" y="442"/>
                    <a:pt x="1082" y="449"/>
                  </a:cubicBezTo>
                  <a:lnTo>
                    <a:pt x="1123" y="451"/>
                  </a:lnTo>
                  <a:lnTo>
                    <a:pt x="884" y="31"/>
                  </a:lnTo>
                  <a:lnTo>
                    <a:pt x="405" y="0"/>
                  </a:lnTo>
                  <a:lnTo>
                    <a:pt x="119" y="81"/>
                  </a:lnTo>
                  <a:cubicBezTo>
                    <a:pt x="53" y="107"/>
                    <a:pt x="16" y="143"/>
                    <a:pt x="8" y="156"/>
                  </a:cubicBezTo>
                  <a:close/>
                </a:path>
              </a:pathLst>
            </a:custGeom>
            <a:solidFill>
              <a:srgbClr val="4d4d4d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19782600">
              <a:off x="5146200" y="4571640"/>
              <a:ext cx="1617480" cy="1709640"/>
            </a:xfrm>
            <a:custGeom>
              <a:avLst/>
              <a:gdLst/>
              <a:ahLst/>
              <a:rect l="l" t="t" r="r" b="b"/>
              <a:pathLst>
                <a:path w="1019" h="1077">
                  <a:moveTo>
                    <a:pt x="0" y="97"/>
                  </a:moveTo>
                  <a:cubicBezTo>
                    <a:pt x="6" y="31"/>
                    <a:pt x="72" y="73"/>
                    <a:pt x="150" y="79"/>
                  </a:cubicBezTo>
                  <a:cubicBezTo>
                    <a:pt x="210" y="43"/>
                    <a:pt x="342" y="0"/>
                    <a:pt x="450" y="7"/>
                  </a:cubicBezTo>
                  <a:cubicBezTo>
                    <a:pt x="558" y="14"/>
                    <a:pt x="720" y="54"/>
                    <a:pt x="798" y="121"/>
                  </a:cubicBezTo>
                  <a:cubicBezTo>
                    <a:pt x="876" y="188"/>
                    <a:pt x="897" y="296"/>
                    <a:pt x="912" y="403"/>
                  </a:cubicBezTo>
                  <a:cubicBezTo>
                    <a:pt x="927" y="510"/>
                    <a:pt x="907" y="716"/>
                    <a:pt x="912" y="799"/>
                  </a:cubicBezTo>
                  <a:lnTo>
                    <a:pt x="942" y="901"/>
                  </a:lnTo>
                  <a:cubicBezTo>
                    <a:pt x="959" y="945"/>
                    <a:pt x="1019" y="1049"/>
                    <a:pt x="1014" y="1063"/>
                  </a:cubicBezTo>
                  <a:cubicBezTo>
                    <a:pt x="1009" y="1077"/>
                    <a:pt x="935" y="1006"/>
                    <a:pt x="912" y="985"/>
                  </a:cubicBezTo>
                  <a:lnTo>
                    <a:pt x="876" y="937"/>
                  </a:lnTo>
                  <a:lnTo>
                    <a:pt x="864" y="733"/>
                  </a:lnTo>
                  <a:lnTo>
                    <a:pt x="810" y="493"/>
                  </a:lnTo>
                  <a:lnTo>
                    <a:pt x="696" y="367"/>
                  </a:lnTo>
                  <a:lnTo>
                    <a:pt x="780" y="493"/>
                  </a:lnTo>
                  <a:cubicBezTo>
                    <a:pt x="794" y="546"/>
                    <a:pt x="816" y="691"/>
                    <a:pt x="780" y="685"/>
                  </a:cubicBezTo>
                  <a:cubicBezTo>
                    <a:pt x="744" y="679"/>
                    <a:pt x="663" y="504"/>
                    <a:pt x="612" y="433"/>
                  </a:cubicBezTo>
                  <a:lnTo>
                    <a:pt x="474" y="259"/>
                  </a:lnTo>
                  <a:lnTo>
                    <a:pt x="312" y="223"/>
                  </a:lnTo>
                  <a:lnTo>
                    <a:pt x="180" y="169"/>
                  </a:lnTo>
                  <a:cubicBezTo>
                    <a:pt x="128" y="148"/>
                    <a:pt x="54" y="145"/>
                    <a:pt x="0" y="9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21214800">
              <a:off x="6131160" y="4596120"/>
              <a:ext cx="604800" cy="262080"/>
            </a:xfrm>
            <a:custGeom>
              <a:avLst/>
              <a:gdLst/>
              <a:ahLst/>
              <a:rect l="l" t="t" r="r" b="b"/>
              <a:pathLst>
                <a:path w="381" h="165">
                  <a:moveTo>
                    <a:pt x="0" y="58"/>
                  </a:moveTo>
                  <a:lnTo>
                    <a:pt x="88" y="19"/>
                  </a:lnTo>
                  <a:lnTo>
                    <a:pt x="220" y="6"/>
                  </a:lnTo>
                  <a:cubicBezTo>
                    <a:pt x="220" y="6"/>
                    <a:pt x="381" y="0"/>
                    <a:pt x="287" y="55"/>
                  </a:cubicBezTo>
                  <a:cubicBezTo>
                    <a:pt x="193" y="110"/>
                    <a:pt x="100" y="165"/>
                    <a:pt x="100" y="165"/>
                  </a:cubicBez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782600">
              <a:off x="5398560" y="4934880"/>
              <a:ext cx="74520" cy="74520"/>
            </a:xfrm>
            <a:prstGeom prst="ellipse">
              <a:avLst/>
            </a:prstGeom>
            <a:solidFill>
              <a:srgbClr val="0000b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6009840" y="4484520"/>
            <a:ext cx="2909160" cy="2937240"/>
            <a:chOff x="6009840" y="4484520"/>
            <a:chExt cx="2909160" cy="2937240"/>
          </a:xfrm>
        </p:grpSpPr>
        <p:sp>
          <p:nvSpPr>
            <p:cNvPr id="11" name=""/>
            <p:cNvSpPr/>
            <p:nvPr/>
          </p:nvSpPr>
          <p:spPr>
            <a:xfrm rot="18767400">
              <a:off x="6300360" y="5047920"/>
              <a:ext cx="2327400" cy="1809720"/>
            </a:xfrm>
            <a:custGeom>
              <a:avLst/>
              <a:gdLst/>
              <a:ahLst/>
              <a:rect l="l" t="t" r="r" b="b"/>
              <a:pathLst>
                <a:path w="1466" h="1140">
                  <a:moveTo>
                    <a:pt x="12" y="438"/>
                  </a:moveTo>
                  <a:cubicBezTo>
                    <a:pt x="0" y="486"/>
                    <a:pt x="145" y="472"/>
                    <a:pt x="228" y="498"/>
                  </a:cubicBezTo>
                  <a:cubicBezTo>
                    <a:pt x="311" y="524"/>
                    <a:pt x="451" y="575"/>
                    <a:pt x="510" y="594"/>
                  </a:cubicBezTo>
                  <a:cubicBezTo>
                    <a:pt x="569" y="613"/>
                    <a:pt x="543" y="570"/>
                    <a:pt x="582" y="612"/>
                  </a:cubicBezTo>
                  <a:cubicBezTo>
                    <a:pt x="582" y="612"/>
                    <a:pt x="744" y="846"/>
                    <a:pt x="744" y="846"/>
                  </a:cubicBezTo>
                  <a:cubicBezTo>
                    <a:pt x="744" y="846"/>
                    <a:pt x="909" y="1061"/>
                    <a:pt x="942" y="1062"/>
                  </a:cubicBezTo>
                  <a:cubicBezTo>
                    <a:pt x="975" y="1063"/>
                    <a:pt x="966" y="918"/>
                    <a:pt x="942" y="852"/>
                  </a:cubicBezTo>
                  <a:cubicBezTo>
                    <a:pt x="918" y="786"/>
                    <a:pt x="824" y="664"/>
                    <a:pt x="858" y="666"/>
                  </a:cubicBezTo>
                  <a:cubicBezTo>
                    <a:pt x="858" y="666"/>
                    <a:pt x="1002" y="765"/>
                    <a:pt x="1146" y="864"/>
                  </a:cubicBezTo>
                  <a:cubicBezTo>
                    <a:pt x="1164" y="948"/>
                    <a:pt x="1164" y="1110"/>
                    <a:pt x="1218" y="1140"/>
                  </a:cubicBezTo>
                  <a:cubicBezTo>
                    <a:pt x="1242" y="1056"/>
                    <a:pt x="1272" y="1002"/>
                    <a:pt x="1272" y="954"/>
                  </a:cubicBezTo>
                  <a:lnTo>
                    <a:pt x="1218" y="852"/>
                  </a:lnTo>
                  <a:cubicBezTo>
                    <a:pt x="1217" y="832"/>
                    <a:pt x="1266" y="894"/>
                    <a:pt x="1266" y="834"/>
                  </a:cubicBezTo>
                  <a:cubicBezTo>
                    <a:pt x="1266" y="774"/>
                    <a:pt x="1234" y="694"/>
                    <a:pt x="1218" y="636"/>
                  </a:cubicBezTo>
                  <a:lnTo>
                    <a:pt x="1170" y="486"/>
                  </a:lnTo>
                  <a:lnTo>
                    <a:pt x="1440" y="456"/>
                  </a:lnTo>
                  <a:cubicBezTo>
                    <a:pt x="1466" y="443"/>
                    <a:pt x="1290" y="402"/>
                    <a:pt x="1326" y="408"/>
                  </a:cubicBezTo>
                  <a:cubicBezTo>
                    <a:pt x="1344" y="420"/>
                    <a:pt x="1242" y="405"/>
                    <a:pt x="1116" y="402"/>
                  </a:cubicBezTo>
                  <a:cubicBezTo>
                    <a:pt x="1092" y="342"/>
                    <a:pt x="1043" y="306"/>
                    <a:pt x="978" y="276"/>
                  </a:cubicBezTo>
                  <a:cubicBezTo>
                    <a:pt x="913" y="246"/>
                    <a:pt x="798" y="222"/>
                    <a:pt x="726" y="222"/>
                  </a:cubicBezTo>
                  <a:cubicBezTo>
                    <a:pt x="732" y="168"/>
                    <a:pt x="822" y="42"/>
                    <a:pt x="822" y="6"/>
                  </a:cubicBezTo>
                  <a:cubicBezTo>
                    <a:pt x="738" y="0"/>
                    <a:pt x="648" y="48"/>
                    <a:pt x="594" y="108"/>
                  </a:cubicBezTo>
                  <a:cubicBezTo>
                    <a:pt x="540" y="168"/>
                    <a:pt x="546" y="210"/>
                    <a:pt x="528" y="240"/>
                  </a:cubicBezTo>
                  <a:cubicBezTo>
                    <a:pt x="423" y="267"/>
                    <a:pt x="318" y="294"/>
                    <a:pt x="318" y="294"/>
                  </a:cubicBezTo>
                  <a:lnTo>
                    <a:pt x="198" y="384"/>
                  </a:lnTo>
                  <a:cubicBezTo>
                    <a:pt x="147" y="408"/>
                    <a:pt x="24" y="390"/>
                    <a:pt x="12" y="438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rot="18767400">
              <a:off x="6942600" y="6170400"/>
              <a:ext cx="76320" cy="76320"/>
            </a:xfrm>
            <a:prstGeom prst="ellipse">
              <a:avLst/>
            </a:prstGeom>
            <a:solidFill>
              <a:srgbClr val="0000b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6B7C-BADE-4B56-B13D-7F77916870E1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1" marL="402120" indent="0" algn="ctr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2" marL="80460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206720" algn="ctr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609200" algn="ctr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6092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6092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763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0" spc="-1" strike="noStrike">
                <a:solidFill>
                  <a:srgbClr val="ffff66"/>
                </a:solidFill>
                <a:latin typeface="Tahoma"/>
                <a:ea typeface="華康古印體"/>
              </a:rPr>
              <a:t>鯨魚與海豚</a:t>
            </a:r>
            <a:endParaRPr b="0" lang="en-US" sz="9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00000" y="1125360"/>
            <a:ext cx="7315200" cy="204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89800"/>
                  </a:outerShdw>
                </a:effectLst>
                <a:latin typeface="華康超明體"/>
              </a:rPr>
              <a:t>海洋中的天才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989800"/>
                </a:outerShdw>
              </a:effectLst>
              <a:latin typeface="華康超明體"/>
              <a:ea typeface="華康超明體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摘要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SzPct val="1234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鯨與豚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SzPct val="12342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基本小常識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_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鯨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SzPct val="12342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基本小常識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_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海豚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SzPct val="12342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海豚與人類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SzPct val="12342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海豚與人類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SzPct val="12342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臺灣常見的鯨豚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鯨與豚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SzPct val="1234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鯨主要可分兩大類：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7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須鯨－口中沒有牙齒，只有須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7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齒鯨－口中保留牙齒，無須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SzPct val="12342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海豚：一般統稱體長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公尺左</a:t>
            </a:r>
            <a:br>
              <a:rPr sz="4500"/>
            </a:b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右的小型齒鯨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基本小常識</a:t>
            </a: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_</a:t>
            </a: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鯨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SzPct val="1234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鯨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7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海洋中的哺乳動物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7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用肺呼吸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7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目前形體最大的藍鯨是地球上最</a:t>
            </a:r>
            <a:br>
              <a:rPr sz="3900"/>
            </a:b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大的動物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SzPct val="1234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海豚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7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若以腦占體重的百分比來判斷動</a:t>
            </a:r>
            <a:br>
              <a:rPr sz="3900"/>
            </a:b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 物的聰明程度，則海豚僅次於人</a:t>
            </a:r>
            <a:br>
              <a:rPr sz="3900"/>
            </a:b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 ，猴子名列第三 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基本小常識</a:t>
            </a: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_</a:t>
            </a: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海豚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海豚與人類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海豚個性溫和好玩，喜歡推</a:t>
            </a:r>
            <a:br>
              <a:rPr sz="4500"/>
            </a:b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 動海面的漂浮物體游戲，因</a:t>
            </a:r>
            <a:br>
              <a:rPr sz="4500"/>
            </a:b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 此常有海豚救人的故事發生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海豚能接受人類的訓練，從</a:t>
            </a:r>
            <a:br>
              <a:rPr sz="4500"/>
            </a:b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 事表演或成為人類的助手，</a:t>
            </a:r>
            <a:br>
              <a:rPr sz="4500"/>
            </a:b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 如潛水打撈沉入海底中的物</a:t>
            </a:r>
            <a:br>
              <a:rPr sz="4500"/>
            </a:b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 品或傳遞訊息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海豚與人類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臺灣常見的鯨豚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26"/>
              </a:spcBef>
              <a:buSzPct val="1234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大翅鯨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26"/>
              </a:spcBef>
              <a:buSzPct val="12349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小虎鯨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26"/>
              </a:spcBef>
              <a:buSzPct val="12349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虎鯨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26"/>
              </a:spcBef>
              <a:buSzPct val="12349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偽虎鯨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條紋海豚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飛旋海豚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瓶鼻海豚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弗氏海豚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06:42:48Z</dcterms:created>
  <dc:creator>E052</dc:creator>
  <dc:description/>
  <dc:language>en-US</dc:language>
  <cp:lastModifiedBy>思蓉</cp:lastModifiedBy>
  <dcterms:modified xsi:type="dcterms:W3CDTF">2005-03-03T11:06:41Z</dcterms:modified>
  <cp:revision>14</cp:revision>
  <dc:subject/>
  <dc:title>海洋中的天才</dc:title>
</cp:coreProperties>
</file>