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A7D-ACDA-4A75-B138-972652BA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6B6-24D7-4F88-B6E9-7A04E3F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32F-7B15-4D73-83EA-DD4E53FE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2B1-400F-4144-95E9-29061639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AFA3-D928-4C60-9B51-EB0B6940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73C3-DD3D-4749-BAC4-23E324C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A80D-1D37-45CE-81BD-57706E15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5ACC-930C-4015-A2A7-52FB3174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7953-1813-4384-BB9B-28C6D29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C4B-791B-49FF-AC01-D86485C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72F7-1DB3-45F2-8BB5-1EC60D0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95C-5B6B-454E-8F1F-F1A7A16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C1E1-6573-4605-801D-5F1D9DB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22E8-35E8-4FD1-BD39-25DEADF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0C85-16A6-494A-A0AD-50C24E7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8B5C-B77C-4B26-A082-96D7D616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47AC-CE70-4D4E-B8C2-2EE764BC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EC2-C0F1-49FF-950B-8D492537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D1E-F0BA-4767-A0BA-BBF194A5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A0C-B604-41FB-B2AA-9935455D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739-E182-455A-898A-35D85791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D40-3106-4129-BB15-36A680D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1EC-61C5-4FF1-B487-1C999B28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AD8-B9B4-4194-8F11-5810782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F6D-0F0A-4DE2-8E72-D9BDF7C8871D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F18-322E-4B3C-B68A-4959153728FE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362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學生姓名：莫   砸   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班    　級：３ 年 ３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00200" y="137160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音 樂 的 魔 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樂器的分類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Narrow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Narrow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812000" y="2971800"/>
            <a:ext cx="114480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387640" y="2286000"/>
            <a:ext cx="37476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771680" y="838080"/>
            <a:ext cx="107964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16364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72632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00720" y="2133720"/>
            <a:ext cx="82728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81680" y="3733920"/>
            <a:ext cx="47016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81160" y="502920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152560" y="609588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基 本 樂 理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257800" y="3616200"/>
            <a:ext cx="3733920" cy="29228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592800" y="4249800"/>
            <a:ext cx="1425960" cy="1866240"/>
            <a:chOff x="3592800" y="4249800"/>
            <a:chExt cx="1425960" cy="1866240"/>
          </a:xfrm>
        </p:grpSpPr>
        <p:sp>
          <p:nvSpPr>
            <p:cNvPr id="137" name=""/>
            <p:cNvSpPr/>
            <p:nvPr/>
          </p:nvSpPr>
          <p:spPr>
            <a:xfrm rot="19673400">
              <a:off x="4591800" y="580320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673400">
              <a:off x="4397400" y="509976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673400">
              <a:off x="4049640" y="479448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673400">
              <a:off x="4033440" y="434916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673400">
              <a:off x="4068000" y="431100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673400">
              <a:off x="4368960" y="496260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673400">
              <a:off x="4467600" y="526644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673400">
              <a:off x="3923280" y="433188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673400">
              <a:off x="4027320" y="461772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673400">
              <a:off x="4437720" y="518040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673400">
              <a:off x="4351320" y="508212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673400">
              <a:off x="4567680" y="579168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401080" y="2670840"/>
            <a:ext cx="736560" cy="829440"/>
            <a:chOff x="5401080" y="2670840"/>
            <a:chExt cx="736560" cy="829440"/>
          </a:xfrm>
        </p:grpSpPr>
        <p:sp>
          <p:nvSpPr>
            <p:cNvPr id="150" name=""/>
            <p:cNvSpPr/>
            <p:nvPr/>
          </p:nvSpPr>
          <p:spPr>
            <a:xfrm rot="2526600">
              <a:off x="5533560" y="329076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526600">
              <a:off x="5515920" y="3278520"/>
              <a:ext cx="229680" cy="15552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526600">
              <a:off x="5561280" y="330876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526600">
              <a:off x="5783040" y="284760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526600">
              <a:off x="5517720" y="2785680"/>
              <a:ext cx="481320" cy="5335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526600">
              <a:off x="5690880" y="2821680"/>
              <a:ext cx="481680" cy="80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436880" y="889920"/>
            <a:ext cx="1146600" cy="1493280"/>
            <a:chOff x="7436880" y="889920"/>
            <a:chExt cx="1146600" cy="1493280"/>
          </a:xfrm>
        </p:grpSpPr>
        <p:sp>
          <p:nvSpPr>
            <p:cNvPr id="157" name=""/>
            <p:cNvSpPr/>
            <p:nvPr/>
          </p:nvSpPr>
          <p:spPr>
            <a:xfrm rot="1066800">
              <a:off x="7832520" y="203796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66800">
              <a:off x="7802640" y="202248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66800">
              <a:off x="7899120" y="205848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66800">
              <a:off x="7914960" y="104760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66800">
              <a:off x="7569360" y="105228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66800">
              <a:off x="7718400" y="101772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779880" y="2284200"/>
            <a:ext cx="559080" cy="917640"/>
            <a:chOff x="6779880" y="2284200"/>
            <a:chExt cx="559080" cy="917640"/>
          </a:xfrm>
        </p:grpSpPr>
        <p:sp>
          <p:nvSpPr>
            <p:cNvPr id="164" name=""/>
            <p:cNvSpPr/>
            <p:nvPr/>
          </p:nvSpPr>
          <p:spPr>
            <a:xfrm rot="21596400">
              <a:off x="7070760" y="299844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596400">
              <a:off x="7053120" y="299052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596400">
              <a:off x="7121520" y="300168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596400">
              <a:off x="6919920" y="229248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1596400">
              <a:off x="6780240" y="232740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596400">
              <a:off x="6781680" y="228456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從大自然中取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943600" y="20574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895480" y="4341960"/>
            <a:ext cx="2556000" cy="1906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5943600" y="434196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從生活環境中取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172200" y="4419720"/>
            <a:ext cx="2389320" cy="18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048120" y="4398840"/>
            <a:ext cx="2590560" cy="1895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172200" y="198108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3-05-19T05:52:17Z</dcterms:modified>
  <cp:revision>4</cp:revision>
  <dc:subject/>
  <dc:title>PowerPoint 簡報</dc:title>
</cp:coreProperties>
</file>