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54C-B0B4-4A81-8EBC-57B38764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F72-7EA9-4822-9A88-74C9F1C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EFD-2775-4998-A780-5033B18B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454-7C0D-4628-B367-F3D54A1B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1D8-4CCA-4655-AE1E-78F77D5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1FA-A4AB-4B79-B3FA-4129E99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A7D-FCA2-49E5-8C94-6B40574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83E-6E3F-499B-B823-E6875AB6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FBF-061D-4904-8CB9-A4B4A2D3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4F8-C529-4E81-A43A-ED2D977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FAC-F9F4-4FD3-BFD7-0317ABA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D5E-763B-4435-851D-D83C063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CA61-77C8-4786-828D-63132C8D7F7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E01686_" descr=""/>
          <p:cNvPicPr/>
          <p:nvPr/>
        </p:nvPicPr>
        <p:blipFill>
          <a:blip r:embed="rId1"/>
          <a:stretch/>
        </p:blipFill>
        <p:spPr>
          <a:xfrm>
            <a:off x="701640" y="1981080"/>
            <a:ext cx="377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9:32:38Z</dcterms:created>
  <dc:creator>e049</dc:creator>
  <dc:description/>
  <dc:language>en-US</dc:language>
  <cp:lastModifiedBy>e049</cp:lastModifiedBy>
  <dcterms:modified xsi:type="dcterms:W3CDTF">2003-04-22T09:34:37Z</dcterms:modified>
  <cp:revision>1</cp:revision>
  <dc:subject/>
  <dc:title>PowerPoint 簡報</dc:title>
</cp:coreProperties>
</file>