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1AF-376D-4294-80A2-85852F6B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1CB-5BAA-4866-959B-902B13CD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C66-C2C2-4875-980C-CCAC6D92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E39-1EFA-417E-940F-109058BC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56D-4C2B-40D7-96B2-F7E687E0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7FE-1B70-4C56-B0FB-8DE713A6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6EC-840F-4AF7-AD9C-1E4DE93D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99C-2297-4162-89F0-0CC57F9B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F5B-B098-4A1B-BB48-AFF1AB2E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5AF-967B-4B25-9B55-285461D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50F-83DB-4CE2-AC02-BD8CEDB9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F02-75CF-4776-9BB6-5D4F5E85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9D0D-A7D2-44CC-9C5A-98C084C91A76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CE17-6A32-48D6-81B2-322AAB42E1F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9760" y="2286000"/>
            <a:ext cx="613404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f2531a"/>
                    </a:gs>
                    <a:gs pos="50000">
                      <a:srgbClr val="ffff00"/>
                    </a:gs>
                    <a:gs pos="100000">
                      <a:srgbClr val="f2531a"/>
                    </a:gs>
                  </a:gsLst>
                  <a:lin ang="5400000"/>
                </a:gradFill>
                <a:latin typeface="華康POP1體W5"/>
              </a:rPr>
              <a:t>墾丁之旅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f2531a"/>
                  </a:gs>
                  <a:gs pos="50000">
                    <a:srgbClr val="ffff00"/>
                  </a:gs>
                  <a:gs pos="100000">
                    <a:srgbClr val="f2531a"/>
                  </a:gs>
                </a:gsLst>
                <a:lin ang="5400000"/>
              </a:gradFill>
              <a:latin typeface="華康POP1體W5"/>
              <a:ea typeface="華康POP1體W5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516640"/>
            <a:ext cx="34210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八卦美 嘔心企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QQ</a:t>
            </a: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鼠率團 泣血製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5229360"/>
            <a:ext cx="4467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華康POP1體W5"/>
                <a:ea typeface="華康POP1體W5"/>
              </a:rPr>
              <a:t>墾丁之旅紀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1F4-594C-488E-8B5D-25E8E5149F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BCF7C-B3E3-4984-823A-EAD70B9A5F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240" y="1380960"/>
            <a:ext cx="8736120" cy="319320"/>
            <a:chOff x="228240" y="1380960"/>
            <a:chExt cx="8736120" cy="319320"/>
          </a:xfrm>
        </p:grpSpPr>
        <p:sp>
          <p:nvSpPr>
            <p:cNvPr id="45" name=""/>
            <p:cNvSpPr/>
            <p:nvPr/>
          </p:nvSpPr>
          <p:spPr>
            <a:xfrm>
              <a:off x="678600" y="1380960"/>
              <a:ext cx="828576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27880" y="1380960"/>
              <a:ext cx="46548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6633"/>
                </a:solidFill>
                <a:latin typeface="Arial"/>
                <a:ea typeface="華康魏碑體"/>
              </a:rPr>
              <a:t>凡走過，必留下足跡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6000" y="2420640"/>
            <a:ext cx="6227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一天   火車快飛到墾丁＋營火晚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二天   魚兒水中游＋夜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三天   望海的日子＋壓馬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四天   依依不捨說再見＋溫暖的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CBD-E5D5-4418-AF89-36A1DF88F0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BDA46-4433-4368-AA81-D1F0531C96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4038480"/>
            <a:ext cx="44193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青年活動中心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建築以三合院、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合院為主，為仿照台灣傳統書院的建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319040"/>
            <a:ext cx="3436920" cy="4270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91120" y="419040"/>
            <a:ext cx="4343400" cy="326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874-08D2-4359-8003-E1343528C4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F8CF1-9581-4C7D-99FA-2BA4C47F67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4032360"/>
            <a:ext cx="47052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船帆石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位於墾丁與鵝鑾鼻之間，高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尺，因形狀像一艘船隻而得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681440" cy="3165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54560" cy="4191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F70-CF71-4B0F-AF00-6B20709E52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AE7C0-8C26-4FF6-883B-810235B785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4705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恆春古城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恆春于清光緒元年開始建城，如今留下東、西、南、北四座城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211400"/>
            <a:ext cx="3095640" cy="2325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91280" y="3811680"/>
            <a:ext cx="3168360" cy="22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4105080" cy="3098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36C-7947-4528-B52D-CDD5CF0262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23BEB-6B49-4345-92E5-C6751F7EB9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H="1">
            <a:off x="4614840" y="765000"/>
            <a:ext cx="6732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24924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33840" y="765000"/>
            <a:ext cx="67176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798720" y="762120"/>
            <a:ext cx="671760" cy="67284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066800" y="765000"/>
            <a:ext cx="67140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88436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66634"/>
                </a:solidFill>
                <a:latin typeface="Garamond"/>
                <a:ea typeface="華康魏碑體"/>
              </a:rPr>
              <a:t>閃亮的一刻</a:t>
            </a:r>
            <a:r>
              <a:rPr b="0" lang="zh-TW" sz="5400" spc="-1" strike="noStrike">
                <a:solidFill>
                  <a:srgbClr val="066634"/>
                </a:solidFill>
                <a:latin typeface="Times New Roman"/>
                <a:ea typeface="華康魏碑體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248520"/>
            <a:ext cx="640872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4369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32B-4CED-45B4-9143-AA34548BC5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7F22C-CE0F-47B9-BD18-AAAB5E764A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39:40Z</dcterms:created>
  <dc:creator>e049</dc:creator>
  <dc:description/>
  <dc:language>en-US</dc:language>
  <cp:lastModifiedBy>e049</cp:lastModifiedBy>
  <dcterms:modified xsi:type="dcterms:W3CDTF">2003-05-19T06:36:54Z</dcterms:modified>
  <cp:revision>7</cp:revision>
  <dc:subject/>
  <dc:title>PowerPoint 簡報</dc:title>
</cp:coreProperties>
</file>