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E2C-AEF1-40DD-B0D1-69B12FE0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142-A6E5-41E4-8108-04E209D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2AE-D6F2-4F9C-BB6B-55609BE9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CFF-95D4-4A3F-9732-19B6CAC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119-497B-4AEA-91E4-FCCE1EE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484-87C4-498A-8DFD-5B2DA02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EED-E227-4DA1-8417-2A1F03C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816-D747-449F-95A6-F4D4546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D23-F947-4E02-8C34-CE38F971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FBC-2989-4448-848C-593B60B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D47-CB7A-466B-84CA-6E25832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D3A-F728-45EA-978C-4330321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9B2-B4D4-4858-89E4-B1E5387A3A3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9760" y="2286000"/>
            <a:ext cx="613404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POP1體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POP1體W5"/>
              <a:ea typeface="華康POP1體W5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3421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八卦美 嘔心企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QQ</a:t>
            </a:r>
            <a:r>
              <a:rPr b="0" lang="zh-TW" sz="2400" spc="-1" strike="noStrike">
                <a:solidFill>
                  <a:srgbClr val="ffff99"/>
                </a:solidFill>
                <a:latin typeface="華康行書體"/>
                <a:ea typeface="華康行書體"/>
              </a:rPr>
              <a:t>鼠率團 泣血製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33"/>
                </a:solidFill>
                <a:latin typeface="Arial"/>
                <a:ea typeface="華康魏碑體"/>
              </a:rPr>
              <a:t>凡走過，必留下足跡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000" y="2420640"/>
            <a:ext cx="622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   火車快飛到墾丁＋營火晚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   魚兒水中游＋夜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   望海的日子＋壓馬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四天   依依不捨說再見＋溫暖的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4038480"/>
            <a:ext cx="4419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319040"/>
            <a:ext cx="3436920" cy="427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91120" y="419040"/>
            <a:ext cx="4343400" cy="326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032360"/>
            <a:ext cx="47052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船帆石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於墾丁與鵝鑾鼻之間，高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尺，因形狀像一艘船隻而得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81440" cy="316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00"/>
                </a:solidFill>
                <a:latin typeface="Times New Roman"/>
                <a:ea typeface="華康魏碑體"/>
              </a:rPr>
              <a:t>墾丁行腳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恆春古城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恆春于清光緒元年開始建城，如今留下東、西、南、北四座城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1280" y="3811680"/>
            <a:ext cx="316836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105080" cy="30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66634"/>
                </a:solidFill>
                <a:latin typeface="Garamond"/>
                <a:ea typeface="華康魏碑體"/>
              </a:rPr>
              <a:t>閃亮的一刻</a:t>
            </a:r>
            <a:r>
              <a:rPr b="0" lang="zh-TW" sz="5400" spc="-1" strike="noStrike">
                <a:solidFill>
                  <a:srgbClr val="066634"/>
                </a:solidFill>
                <a:latin typeface="Times New Roman"/>
                <a:ea typeface="華康魏碑體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43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49</dc:creator>
  <dc:description/>
  <dc:language>en-US</dc:language>
  <cp:lastModifiedBy>思蓉</cp:lastModifiedBy>
  <dcterms:modified xsi:type="dcterms:W3CDTF">2003-05-19T06:29:55Z</dcterms:modified>
  <cp:revision>6</cp:revision>
  <dc:subject/>
  <dc:title>PowerPoint 簡報</dc:title>
</cp:coreProperties>
</file>