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2B92-503F-4F95-9969-BC4EE14A1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1"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2"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CDF3-6945-4064-A537-D409032D7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7"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5830C-4BC1-4015-BA4B-1C6B50ABC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9"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4"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7A46C-877F-4636-99B4-314FA2595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20646-BF61-45B2-B604-122633D15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DAB4-C574-4BA2-B387-13AA0525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4850B-50ED-4EBC-8385-3AAD1A9D4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3"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5162A-F0D5-49D4-841C-030465872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6133B-0FE5-49E9-A910-CB08EB3F0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3EF2D-CF22-4606-B96F-E35BC97F4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8"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0E121-B2FD-4A52-8F58-D9C566DED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0"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7F0CF-E923-4B1A-90D4-275AC31A4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88D62-3347-42A4-8F1B-64040F9D9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0D2F-104D-4318-8D8C-61C137DD2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48FC3-E6E5-498A-846F-578F8F21A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4"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9A209-F86D-4210-8D91-3A311D510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7"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1"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2"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FC6BE-A2E5-457F-A962-B7A7E34F1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5235-5408-48F6-8244-5F844CEF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B283-8971-4EED-9363-08DD73AC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3A48-8996-4673-A80F-00FBA1E4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405D1-1515-4145-B251-7CE732B13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83E2-B8DD-47B5-85BE-0322BF41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5"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B2F5-2B3F-4A12-BFF5-A1E7A4A5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C05A-A627-4ED7-B680-4DAC7305B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D4B3-614C-4684-9B87-9E6FD6649C95}"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 name=""/>
          <p:cNvSpPr/>
          <p:nvPr/>
        </p:nvSpPr>
        <p:spPr>
          <a:xfrm>
            <a:off x="4648320" y="7632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標楷體"/>
              </a:rPr>
              <a:t>中華民國第</a:t>
            </a:r>
            <a:r>
              <a:rPr b="0" lang="zh-TW" sz="1600" spc="-1" strike="noStrike">
                <a:solidFill>
                  <a:srgbClr val="ffffff"/>
                </a:solidFill>
                <a:latin typeface="Times New Roman"/>
                <a:ea typeface="標楷體"/>
              </a:rPr>
              <a:t>42</a:t>
            </a:r>
            <a:r>
              <a:rPr b="0" lang="zh-TW" sz="1600" spc="-1" strike="noStrike">
                <a:solidFill>
                  <a:srgbClr val="ffffff"/>
                </a:solidFill>
                <a:latin typeface="Times New Roman"/>
                <a:ea typeface="標楷體"/>
              </a:rPr>
              <a:t>屆全國中小學科展生物組</a:t>
            </a:r>
            <a:r>
              <a:rPr b="0" lang="zh-TW" sz="1600" spc="-1" strike="noStrike">
                <a:solidFill>
                  <a:srgbClr val="ffffff"/>
                </a:solidFill>
                <a:latin typeface="Times New Roman"/>
                <a:ea typeface="標楷體"/>
              </a:rPr>
              <a:t>#106</a:t>
            </a:r>
            <a:r>
              <a:rPr b="0" lang="zh-TW" sz="1600" spc="-1" strike="noStrike">
                <a:solidFill>
                  <a:srgbClr val="ffffff"/>
                </a:solidFill>
                <a:latin typeface="Times New Roman"/>
              </a:rPr>
              <a:t> </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5" name=""/>
          <p:cNvGrpSpPr/>
          <p:nvPr/>
        </p:nvGrpSpPr>
        <p:grpSpPr>
          <a:xfrm>
            <a:off x="0" y="0"/>
            <a:ext cx="9144000" cy="6858000"/>
            <a:chOff x="0" y="0"/>
            <a:chExt cx="9144000" cy="6858000"/>
          </a:xfrm>
        </p:grpSpPr>
        <p:sp>
          <p:nvSpPr>
            <p:cNvPr id="66"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8" name=""/>
          <p:cNvGrpSpPr/>
          <p:nvPr/>
        </p:nvGrpSpPr>
        <p:grpSpPr>
          <a:xfrm>
            <a:off x="151920" y="313920"/>
            <a:ext cx="848160" cy="6543720"/>
            <a:chOff x="151920" y="313920"/>
            <a:chExt cx="848160" cy="6543720"/>
          </a:xfrm>
        </p:grpSpPr>
        <p:sp>
          <p:nvSpPr>
            <p:cNvPr id="69"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 name=""/>
          <p:cNvGrpSpPr/>
          <p:nvPr/>
        </p:nvGrpSpPr>
        <p:grpSpPr>
          <a:xfrm>
            <a:off x="150840" y="0"/>
            <a:ext cx="849240" cy="6858000"/>
            <a:chOff x="150840" y="0"/>
            <a:chExt cx="849240" cy="6858000"/>
          </a:xfrm>
        </p:grpSpPr>
        <p:sp>
          <p:nvSpPr>
            <p:cNvPr id="83"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0"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2"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1115-9EDA-4535-8D59-C7B5C1BF561B}"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
          <p:cNvSpPr/>
          <p:nvPr/>
        </p:nvSpPr>
        <p:spPr>
          <a:xfrm>
            <a:off x="4724280" y="763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標楷體"/>
              </a:rPr>
              <a:t>中華民國第</a:t>
            </a:r>
            <a:r>
              <a:rPr b="0" lang="zh-TW" sz="1600" spc="-1" strike="noStrike">
                <a:solidFill>
                  <a:srgbClr val="ffffff"/>
                </a:solidFill>
                <a:latin typeface="Times New Roman"/>
                <a:ea typeface="標楷體"/>
              </a:rPr>
              <a:t>42</a:t>
            </a:r>
            <a:r>
              <a:rPr b="0" lang="zh-TW" sz="1600" spc="-1" strike="noStrike">
                <a:solidFill>
                  <a:srgbClr val="ffffff"/>
                </a:solidFill>
                <a:latin typeface="Times New Roman"/>
                <a:ea typeface="標楷體"/>
              </a:rPr>
              <a:t>屆全國中小學科展生物組</a:t>
            </a:r>
            <a:r>
              <a:rPr b="0" lang="zh-TW" sz="1600" spc="-1" strike="noStrike">
                <a:solidFill>
                  <a:srgbClr val="ffffff"/>
                </a:solidFill>
                <a:latin typeface="Times New Roman"/>
                <a:ea typeface="標楷體"/>
              </a:rPr>
              <a:t>#106</a:t>
            </a:r>
            <a:r>
              <a:rPr b="0" lang="zh-TW"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4160" y="1332000"/>
            <a:ext cx="7772400" cy="1311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華康中圓體"/>
                <a:ea typeface="華康中圓體"/>
              </a:rPr>
              <a:t>一個可以轉移蔬菜害蟲吸引力的有機蔬菜培育法</a:t>
            </a:r>
            <a:r>
              <a:rPr b="0" lang="zh-TW" sz="4000" spc="-1" strike="noStrike">
                <a:solidFill>
                  <a:srgbClr val="ccffff"/>
                </a:solidFill>
                <a:latin typeface="華康中圓體"/>
                <a:ea typeface="華康中圓體"/>
              </a:rPr>
              <a:t> </a:t>
            </a:r>
            <a:endParaRPr b="0" lang="en-US" sz="4000" spc="-1" strike="noStrike">
              <a:solidFill>
                <a:srgbClr val="ccffff"/>
              </a:solidFill>
              <a:latin typeface="Arial Black"/>
            </a:endParaRPr>
          </a:p>
        </p:txBody>
      </p:sp>
      <p:sp>
        <p:nvSpPr>
          <p:cNvPr id="134" name="PlaceHolder 2"/>
          <p:cNvSpPr>
            <a:spLocks noGrp="1"/>
          </p:cNvSpPr>
          <p:nvPr>
            <p:ph type="subTitle"/>
          </p:nvPr>
        </p:nvSpPr>
        <p:spPr>
          <a:xfrm>
            <a:off x="2666880" y="3886200"/>
            <a:ext cx="3733920" cy="1333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作者：許家瑜</a:t>
            </a:r>
            <a:endParaRPr b="0" lang="en-US" sz="2400" spc="-1" strike="noStrike">
              <a:solidFill>
                <a:srgbClr val="ffffff"/>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就讀學校：旗立小學</a:t>
            </a:r>
            <a:endParaRPr b="0" lang="en-US" sz="2400" spc="-1" strike="noStrike">
              <a:solidFill>
                <a:srgbClr val="ffffff"/>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指導教師：李旗立</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68668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ccffff"/>
                </a:solidFill>
                <a:latin typeface="Arial Black"/>
              </a:rPr>
              <a:t>六、提問與回應</a:t>
            </a:r>
            <a:endParaRPr b="0" lang="en-US" sz="5400" spc="-1" strike="noStrike">
              <a:solidFill>
                <a:srgbClr val="ccffff"/>
              </a:solidFill>
              <a:latin typeface="Arial Black"/>
            </a:endParaRPr>
          </a:p>
        </p:txBody>
      </p:sp>
      <p:sp>
        <p:nvSpPr>
          <p:cNvPr id="3" name="PlaceHolder 2"/>
          <p:cNvSpPr>
            <a:spLocks noGrp="1"/>
          </p:cNvSpPr>
          <p:nvPr>
            <p:ph type="sldNum" idx="3"/>
          </p:nvPr>
        </p:nvSpPr>
        <p:spPr/>
        <p:txBody>
          <a:bodyPr/>
          <a:p>
            <a:fld id="{B0CAB406-D242-4E23-9F31-96DAB7D1430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簡報大綱</a:t>
            </a:r>
            <a:endParaRPr b="0" lang="en-US" sz="4400" spc="-1" strike="noStrike">
              <a:solidFill>
                <a:srgbClr val="ccffff"/>
              </a:solidFill>
              <a:latin typeface="Arial Black"/>
            </a:endParaRPr>
          </a:p>
        </p:txBody>
      </p:sp>
      <p:sp>
        <p:nvSpPr>
          <p:cNvPr id="136" name="PlaceHolder 2"/>
          <p:cNvSpPr>
            <a:spLocks noGrp="1"/>
          </p:cNvSpPr>
          <p:nvPr>
            <p:ph/>
          </p:nvPr>
        </p:nvSpPr>
        <p:spPr>
          <a:xfrm>
            <a:off x="2066400" y="1980720"/>
            <a:ext cx="6156360" cy="388620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一、研究動機</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二、研究目的</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三、研究方法</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四、實驗結果</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五、結論</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六、提問與回應</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DE923AF5-55C5-456D-B9B4-8C296975BB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一、研究動機</a:t>
            </a:r>
            <a:endParaRPr b="0" lang="en-US" sz="4400" spc="-1" strike="noStrike">
              <a:solidFill>
                <a:srgbClr val="ccffff"/>
              </a:solidFill>
              <a:latin typeface="Arial Black"/>
            </a:endParaRPr>
          </a:p>
        </p:txBody>
      </p:sp>
      <p:sp>
        <p:nvSpPr>
          <p:cNvPr id="13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當前使用大量化學農藥栽植蔬菜的方法，除了有殘餘農藥危害人體的缺失外，對於土壤的傷害也很深。</a:t>
            </a:r>
            <a:endParaRPr b="0" lang="en-US" sz="28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為避免上述缺失，全世界已經掀起一陣以有機栽植法培育蔬菜的風潮。</a:t>
            </a:r>
            <a:r>
              <a:rPr b="0" lang="zh-TW" sz="3200" spc="-1" strike="noStrike">
                <a:solidFill>
                  <a:srgbClr val="ffffff"/>
                </a:solidFill>
                <a:latin typeface="Arial Black"/>
              </a:rPr>
              <a:t> </a:t>
            </a:r>
            <a:endParaRPr b="0" lang="en-US" sz="32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目前有機栽植法中，有些方法耗費的人力成本太高，有些方法對生態環境多少會帶來一些負面的影響。</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864437D1-BB3F-450D-B75D-91406AE7BF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二、研究目的</a:t>
            </a:r>
            <a:endParaRPr b="0" lang="en-US" sz="4400" spc="-1" strike="noStrike">
              <a:solidFill>
                <a:srgbClr val="ccffff"/>
              </a:solidFill>
              <a:latin typeface="Arial Black"/>
            </a:endParaRPr>
          </a:p>
        </p:txBody>
      </p:sp>
      <p:sp>
        <p:nvSpPr>
          <p:cNvPr id="140" name="PlaceHolder 2"/>
          <p:cNvSpPr>
            <a:spLocks noGrp="1"/>
          </p:cNvSpPr>
          <p:nvPr>
            <p:ph/>
          </p:nvPr>
        </p:nvSpPr>
        <p:spPr>
          <a:xfrm>
            <a:off x="1374840" y="1981080"/>
            <a:ext cx="7540560" cy="36576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提出一個可以轉移蔬菜害蟲吸引力的有機蔬菜培育法。</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以實驗方式驗證我們提出的方法是否可以達到預期的目的。</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藉由實驗結果，檢討本研究所提的有機蔬菜培育法的優缺點。</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F3156434-FDFE-49C2-A315-D7FE79EE9E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標楷體"/>
              </a:rPr>
              <a:t>基本概念</a:t>
            </a:r>
            <a:endParaRPr b="0" lang="en-US" sz="3200" spc="-1" strike="noStrike">
              <a:solidFill>
                <a:srgbClr val="ccffff"/>
              </a:solidFill>
              <a:latin typeface="Arial Black"/>
            </a:endParaRPr>
          </a:p>
        </p:txBody>
      </p:sp>
      <p:sp>
        <p:nvSpPr>
          <p:cNvPr id="142" name="PlaceHolder 2"/>
          <p:cNvSpPr>
            <a:spLocks noGrp="1"/>
          </p:cNvSpPr>
          <p:nvPr>
            <p:ph/>
          </p:nvPr>
        </p:nvSpPr>
        <p:spPr>
          <a:xfrm>
            <a:off x="685440" y="1981080"/>
            <a:ext cx="7924680" cy="4114800"/>
          </a:xfrm>
          <a:prstGeom prst="rect">
            <a:avLst/>
          </a:prstGeom>
          <a:noFill/>
          <a:ln w="0">
            <a:noFill/>
          </a:ln>
        </p:spPr>
        <p:txBody>
          <a:bodyPr anchor="t">
            <a:normAutofit/>
          </a:bodyPr>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每種特定蔬菜都有特定的害蟲，如果能找出該些害蟲們最喜愛的植物，並將之栽種於特定蔬菜的附近，使轉移害蟲的注意力，應該可以在不破壞生態的情形下，成功降低蔬菜害蟲的危害。</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上述方法不需耗用太多人力，如果害蟲喜愛的植物經濟價值低於該特定蔬菜，將使得我們的構想更具實用性。 </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D1B65F48-1D12-4F0C-A5CB-515545342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Arial Black"/>
              </a:rPr>
              <a:t>研究過程</a:t>
            </a:r>
            <a:endParaRPr b="0" lang="en-US" sz="32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找出小白菜、茼蒿菜的害蟲。</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小白菜、茼蒿菜害蟲最喜愛的植物。</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設計</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依序將小白菜、茼蒿菜及ｘ菜的種子植入大型土耕蔬菜培養皿中。</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ｘ菜環繞植於小白菜及茼蒿菜外圍。</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對照組：小白菜及茼蒿菜外圍不栽植ｘ菜。</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9387C5F7-C859-4593-BD72-D682BAC97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Arial Black"/>
              </a:rPr>
              <a:t>研究設備及器材</a:t>
            </a:r>
            <a:r>
              <a:rPr b="0" lang="zh-TW" sz="4400" spc="-1" strike="noStrike">
                <a:solidFill>
                  <a:srgbClr val="ccffff"/>
                </a:solidFill>
                <a:latin typeface="Arial Black"/>
              </a:rPr>
              <a:t> </a:t>
            </a:r>
            <a:endParaRPr b="0" lang="en-US" sz="4400" spc="-1" strike="noStrike">
              <a:solidFill>
                <a:srgbClr val="ccffff"/>
              </a:solidFill>
              <a:latin typeface="Arial Black"/>
            </a:endParaRPr>
          </a:p>
        </p:txBody>
      </p:sp>
      <p:sp>
        <p:nvSpPr>
          <p:cNvPr id="146" name=""/>
          <p:cNvSpPr/>
          <p:nvPr/>
        </p:nvSpPr>
        <p:spPr>
          <a:xfrm>
            <a:off x="1066680" y="2209680"/>
            <a:ext cx="7162920" cy="3195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大型土耕蔬菜培養皿</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照相機</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溫度計</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小白菜、茼蒿菜、ｘ菜的種子</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有機肥</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9A17D72D-61A9-4641-9C0A-9EAFF461B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四、實驗結果</a:t>
            </a:r>
            <a:endParaRPr b="0" lang="en-US" sz="4400" spc="-1" strike="noStrike">
              <a:solidFill>
                <a:srgbClr val="ccffff"/>
              </a:solidFill>
              <a:latin typeface="Arial Black"/>
            </a:endParaRPr>
          </a:p>
        </p:txBody>
      </p:sp>
      <p:graphicFrame>
        <p:nvGraphicFramePr>
          <p:cNvPr id="148" name=""/>
          <p:cNvGraphicFramePr/>
          <p:nvPr/>
        </p:nvGraphicFramePr>
        <p:xfrm>
          <a:off x="1523880" y="2209680"/>
          <a:ext cx="6553080" cy="3353040"/>
        </p:xfrm>
        <a:graphic>
          <a:graphicData uri="http://schemas.openxmlformats.org/drawingml/2006/table">
            <a:tbl>
              <a:tblPr/>
              <a:tblGrid>
                <a:gridCol w="2184480"/>
                <a:gridCol w="2184120"/>
                <a:gridCol w="2184480"/>
              </a:tblGrid>
              <a:tr h="608400">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99"/>
                          </a:solidFill>
                          <a:latin typeface="Arial Black"/>
                        </a:rPr>
                        <a:t>不同組別中蔬菜表面積被啃食之平均百分比</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組別</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蔬菜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對照組</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小白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茼蒿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rPr>
                        <a:t>Ｘ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6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38B0463-59EA-4E8E-80FC-679B4462E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五、結論</a:t>
            </a:r>
            <a:endParaRPr b="0" lang="en-US" sz="4400" spc="-1" strike="noStrike">
              <a:solidFill>
                <a:srgbClr val="ccffff"/>
              </a:solidFill>
              <a:latin typeface="Arial Black"/>
            </a:endParaRPr>
          </a:p>
        </p:txBody>
      </p:sp>
      <p:sp>
        <p:nvSpPr>
          <p:cNvPr id="150" name="PlaceHolder 2"/>
          <p:cNvSpPr>
            <a:spLocks noGrp="1"/>
          </p:cNvSpPr>
          <p:nvPr>
            <p:ph/>
          </p:nvPr>
        </p:nvSpPr>
        <p:spPr>
          <a:xfrm>
            <a:off x="1066680" y="1981080"/>
            <a:ext cx="7848720" cy="4114800"/>
          </a:xfrm>
          <a:prstGeom prst="rect">
            <a:avLst/>
          </a:prstGeom>
          <a:noFill/>
          <a:ln w="0">
            <a:noFill/>
          </a:ln>
        </p:spPr>
        <p:txBody>
          <a:bodyPr anchor="t">
            <a:normAutofit/>
          </a:bodyPr>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研究成果：</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中的小白菜及茼蒿菜表面積被啃食的百分比明顯的低於對照組，初步證實本研究所提出的方法有效。</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0B9ABD77-5D2F-4A20-9B76-620F1988FE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2T14:41:42Z</dcterms:created>
  <dc:creator>許芳誠</dc:creator>
  <dc:description/>
  <dc:language>en-US</dc:language>
  <cp:lastModifiedBy>e049</cp:lastModifiedBy>
  <dcterms:modified xsi:type="dcterms:W3CDTF">2003-05-06T09:42:38Z</dcterms:modified>
  <cp:revision>30</cp:revision>
  <dc:subject/>
  <dc:title>一個可以轉移蔬菜害蟲注意力的有機蔬菜培育法 </dc:title>
</cp:coreProperties>
</file>