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4BB-4E4B-4FDF-BE1F-AF801B57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A0D-2CA7-4EBE-AF76-E7DC79C1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6A4-E763-4227-96D2-12B6BCDD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34F-ABBA-43FF-B65F-D7CA7273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E43E-2106-411A-8DB9-DC57EAA3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686E-0CFB-4438-AAD4-2CAEC59D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EE06-71DA-4CC2-BF23-856A9234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E980-9A51-44DA-B0BB-D95EA468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3C2D-0AEF-4DC1-9786-237C6780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41AC-1F0C-41A3-A5B9-24ECD0C0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B393-47FC-481A-80DD-8821AD0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E27-4E4E-44E1-8970-2D0D0908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6BF3-EE17-4038-82FD-EA691EDF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FBB9-286C-47A5-837E-C6B5D4C5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AECA-B9DA-47FF-BC6A-B98BF8D7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E466-E382-404A-9796-34661A7A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1785-A672-4706-8C0D-ABECD2C3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677-C45A-4B34-A981-3C427029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6AB-DF3B-464A-8DB7-39825A50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824-E22D-4BAA-A6AE-9B098339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34F-71CB-4E16-8361-9209AD0B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9FA-BA47-497F-8535-70D75E5E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7BF-5DD5-43D9-8A3C-AC877FB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3EA-B394-4880-B5F4-05DC11E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F12B-23C9-4947-BAE3-5E6A4C939738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B1FA-9841-40AD-A27C-658BD9E2774A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72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72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72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72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72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7920" y="46483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48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料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2101680"/>
          <a:ext cx="777240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e049</cp:lastModifiedBy>
  <dcterms:modified xsi:type="dcterms:W3CDTF">2003-05-01T07:46:19Z</dcterms:modified>
  <cp:revision>7</cp:revision>
  <dc:subject/>
  <dc:title>我們這一班</dc:title>
</cp:coreProperties>
</file>