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794-7B0B-4DB4-981A-B366A61F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7B8-16F5-470E-A8CE-CEF90687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C29-CD08-434C-BF7F-1E1BA54C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FA1-6C0E-4B48-B04E-08ED3B28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A0A-26F0-4C44-BAFD-336F5059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26D0-0657-4A60-B1EC-ED069A34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382-BC7C-45CD-82FA-44914375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77B-CDD4-4525-9955-B3607EAB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4C87-A5DD-4324-B432-236AFCEB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935-3765-4AFC-8283-07699459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616-5487-4C30-8B00-F33700C4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70C-6B84-4BDA-8383-59657FCB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FF9C-A72F-42FF-9FD6-9292183F319C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B02E-D798-44C2-953B-670D52F8D57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9760" y="2286000"/>
            <a:ext cx="613404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f2531a"/>
                    </a:gs>
                    <a:gs pos="50000">
                      <a:srgbClr val="ffff00"/>
                    </a:gs>
                    <a:gs pos="100000">
                      <a:srgbClr val="f2531a"/>
                    </a:gs>
                  </a:gsLst>
                  <a:lin ang="5400000"/>
                </a:gradFill>
                <a:latin typeface="華康POP1體W5"/>
              </a:rPr>
              <a:t>墾丁之旅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f2531a"/>
                  </a:gs>
                  <a:gs pos="50000">
                    <a:srgbClr val="ffff00"/>
                  </a:gs>
                  <a:gs pos="100000">
                    <a:srgbClr val="f2531a"/>
                  </a:gs>
                </a:gsLst>
                <a:lin ang="5400000"/>
              </a:gradFill>
              <a:latin typeface="華康POP1體W5"/>
              <a:ea typeface="華康POP1體W5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516640"/>
            <a:ext cx="342108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華康行書體"/>
                <a:ea typeface="華康行書體"/>
              </a:rPr>
              <a:t>八卦美 嘔心企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華康行書體"/>
                <a:ea typeface="華康行書體"/>
              </a:rPr>
              <a:t>QQ</a:t>
            </a:r>
            <a:r>
              <a:rPr b="0" lang="zh-TW" sz="2400" spc="-1" strike="noStrike">
                <a:solidFill>
                  <a:srgbClr val="ffff99"/>
                </a:solidFill>
                <a:latin typeface="華康行書體"/>
                <a:ea typeface="華康行書體"/>
              </a:rPr>
              <a:t>鼠率團 泣血製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5229360"/>
            <a:ext cx="4467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華康POP1體W5"/>
                <a:ea typeface="華康POP1體W5"/>
              </a:rPr>
              <a:t>墾丁之旅紀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84A-B1F6-42ED-BD16-A9406D9D68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2E55B-38D9-481B-927F-41D5BDAC7F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240" y="1380960"/>
            <a:ext cx="8736120" cy="319320"/>
            <a:chOff x="228240" y="1380960"/>
            <a:chExt cx="8736120" cy="319320"/>
          </a:xfrm>
        </p:grpSpPr>
        <p:sp>
          <p:nvSpPr>
            <p:cNvPr id="45" name=""/>
            <p:cNvSpPr/>
            <p:nvPr/>
          </p:nvSpPr>
          <p:spPr>
            <a:xfrm>
              <a:off x="678600" y="1380960"/>
              <a:ext cx="8285760" cy="31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27880" y="1380960"/>
              <a:ext cx="46548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63504" dir="7616091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6633"/>
                </a:solidFill>
                <a:latin typeface="Arial"/>
                <a:ea typeface="華康魏碑體"/>
              </a:rPr>
              <a:t>凡走過，必留下足跡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16000" y="2420640"/>
            <a:ext cx="6227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一天   火車快飛到墾丁＋營火晚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二天   魚兒水中游＋夜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三天   望海的日子＋壓馬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四天   依依不捨說再見＋溫暖的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803-442B-4BFC-8892-1E1D87BF8E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1E33F-E9E3-4A75-BD3C-FD898F660D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6600"/>
                </a:solidFill>
                <a:latin typeface="Times New Roman"/>
                <a:ea typeface="華康魏碑體"/>
              </a:rPr>
              <a:t>墾丁行腳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4038480"/>
            <a:ext cx="44193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青年活動中心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建築以三合院、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合院為主，為仿照台灣傳統書院的建築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319040"/>
            <a:ext cx="3436920" cy="4270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191120" y="419040"/>
            <a:ext cx="4343400" cy="326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139-C607-40B0-A25D-54A666D095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BDC6B-B906-4D84-8484-A1770AC194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6600"/>
                </a:solidFill>
                <a:latin typeface="Times New Roman"/>
                <a:ea typeface="華康魏碑體"/>
              </a:rPr>
              <a:t>墾丁行腳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4032360"/>
            <a:ext cx="47052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船帆石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位於墾丁與鵝鑾鼻之間，高約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尺，因形狀像一艘船隻而得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681440" cy="3165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454560" cy="4191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96F-1FFA-4E6C-B5EE-690A07944D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F9C86-7984-40DB-8435-79A1771238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6600"/>
                </a:solidFill>
                <a:latin typeface="Times New Roman"/>
                <a:ea typeface="華康魏碑體"/>
              </a:rPr>
              <a:t>墾丁行腳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4705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恆春古城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恆春于清光緒元年開始建城，如今留下東、西、南、北四座城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92720" y="1211400"/>
            <a:ext cx="3095640" cy="2325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91280" y="3811680"/>
            <a:ext cx="3168360" cy="226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4105080" cy="3098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112-E0F1-4C81-B90E-82B396E9900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A7070-E115-4EC1-B619-1D6B211293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flipH="1">
            <a:off x="4614840" y="765000"/>
            <a:ext cx="6732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249240" y="765000"/>
            <a:ext cx="6714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33840" y="765000"/>
            <a:ext cx="671760" cy="6732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798720" y="762120"/>
            <a:ext cx="671760" cy="67284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066800" y="765000"/>
            <a:ext cx="671400" cy="6732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884360" y="765000"/>
            <a:ext cx="6714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66634"/>
                </a:solidFill>
                <a:latin typeface="Garamond"/>
                <a:ea typeface="華康魏碑體"/>
              </a:rPr>
              <a:t>閃亮的一刻</a:t>
            </a:r>
            <a:r>
              <a:rPr b="0" lang="zh-TW" sz="5400" spc="-1" strike="noStrike">
                <a:solidFill>
                  <a:srgbClr val="066634"/>
                </a:solidFill>
                <a:latin typeface="Times New Roman"/>
                <a:ea typeface="華康魏碑體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6248520"/>
            <a:ext cx="640872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4369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CAB-17CB-436F-BFB5-33842D6241A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C456F-1E7D-44A5-8FB1-CF533268E4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39:40Z</dcterms:created>
  <dc:creator>e049</dc:creator>
  <dc:description/>
  <dc:language>en-US</dc:language>
  <cp:lastModifiedBy>e049</cp:lastModifiedBy>
  <dcterms:modified xsi:type="dcterms:W3CDTF">2003-05-19T06:35:09Z</dcterms:modified>
  <cp:revision>7</cp:revision>
  <dc:subject/>
  <dc:title>PowerPoint 簡報</dc:title>
</cp:coreProperties>
</file>