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projctor.wav" ContentType="audio/x-wav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3200F-FD8D-42BB-8854-47086CCACFD1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我只套用簡報設計範本，在字型、直書橫書等完全沒更動，可自由變更（包括範本也可更換），但在第三頁詩本文請加上一些圖案，如蓮花、小孩划船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1F83-F27C-4375-B330-A92BBEC08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9EE8-3107-40AF-B820-9AAEC155D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49F0-6C8B-4A88-95D5-48A65ECA8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C468-951C-44F4-A0B0-E49B23667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DE4A-DF6F-4E4A-8EED-6C8D33287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48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CB29-B296-407E-8C43-50C5A3F88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4D74-468C-4471-84D4-7379A2F7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1810-FD05-4C8C-B66E-D55586B0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F8FB-3FC1-400E-A78C-D14826AF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E986-4226-4550-AADD-445C4A697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3F5E-391A-47FF-A16F-F7E62044B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E295-2371-4E22-8A15-5FCFC1DB5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0948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4303800"/>
            <a:ext cx="9144000" cy="25542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60948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1" name="" descr=""/>
            <p:cNvPicPr/>
            <p:nvPr/>
          </p:nvPicPr>
          <p:blipFill>
            <a:blip r:embed="rId2"/>
            <a:stretch/>
          </p:blipFill>
          <p:spPr>
            <a:xfrm>
              <a:off x="1676520" y="4772160"/>
              <a:ext cx="7467480" cy="20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685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4"/>
            <a:stretch/>
          </p:blipFill>
          <p:spPr>
            <a:xfrm>
              <a:off x="304920" y="1371600"/>
              <a:ext cx="8534160" cy="377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937C6-5AA8-4DC6-B2DC-CB7D6D5BA5E4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550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7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7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7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7.wmf"/><Relationship Id="rId3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Times New Roman"/>
                <a:ea typeface="華康隸書體W7"/>
              </a:rPr>
              <a:t>古 詩 欣 賞</a:t>
            </a:r>
            <a:br>
              <a:rPr sz="4800"/>
            </a:br>
            <a:r>
              <a:rPr b="0" lang="zh-TW" sz="5400" spc="-1" strike="noStrike">
                <a:solidFill>
                  <a:srgbClr val="993300"/>
                </a:solidFill>
                <a:latin typeface="Times New Roman"/>
                <a:ea typeface="華康隸書體W7"/>
              </a:rPr>
              <a:t>池 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華康隸書體W5"/>
              </a:rPr>
              <a:t>作　者：白居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  <a:ea typeface="華康隸書體W7"/>
              </a:rPr>
              <a:t>作者生平介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42840" y="8380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000000"/>
                </a:solidFill>
                <a:uFillTx/>
                <a:latin typeface="Times New Roman"/>
                <a:ea typeface="華康隸書體W7"/>
              </a:rPr>
              <a:t>白居易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華康隸書體W7"/>
              </a:rPr>
              <a:t>，字</a:t>
            </a:r>
            <a:r>
              <a:rPr b="0" lang="zh-TW" sz="3200" spc="-1" strike="noStrike" u="sng">
                <a:solidFill>
                  <a:srgbClr val="000000"/>
                </a:solidFill>
                <a:uFillTx/>
                <a:latin typeface="Times New Roman"/>
                <a:ea typeface="華康隸書體W7"/>
              </a:rPr>
              <a:t>樂天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華康隸書體W7"/>
              </a:rPr>
              <a:t>，晚年自號</a:t>
            </a:r>
            <a:r>
              <a:rPr b="0" lang="zh-TW" sz="3200" spc="-1" strike="noStrike" u="sng">
                <a:solidFill>
                  <a:srgbClr val="000000"/>
                </a:solidFill>
                <a:uFillTx/>
                <a:latin typeface="Times New Roman"/>
                <a:ea typeface="華康隸書體W7"/>
              </a:rPr>
              <a:t>醉吟先生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華康隸書體W7"/>
              </a:rPr>
              <a:t>、</a:t>
            </a:r>
            <a:r>
              <a:rPr b="0" lang="zh-TW" sz="3200" spc="-1" strike="noStrike" u="sng">
                <a:solidFill>
                  <a:srgbClr val="000000"/>
                </a:solidFill>
                <a:uFillTx/>
                <a:latin typeface="Times New Roman"/>
                <a:ea typeface="華康隸書體W7"/>
              </a:rPr>
              <a:t>香山居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000000"/>
                </a:solidFill>
                <a:uFillTx/>
                <a:latin typeface="Times New Roman"/>
                <a:ea typeface="華康隸書體W7"/>
              </a:rPr>
              <a:t>唐德宗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華康隸書體W7"/>
              </a:rPr>
              <a:t>時中進士，後官途多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  <p:sndAc>
      <p:stSnd>
        <p:snd r:embed="rId1" name="projcto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華康隸書體W7"/>
              </a:rPr>
              <a:t>池上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90560" y="685800"/>
            <a:ext cx="6095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華康隸書體W7"/>
              </a:rPr>
              <a:t>           </a:t>
            </a:r>
            <a:r>
              <a:rPr b="0" lang="zh-TW" sz="4000" spc="-1" strike="noStrike">
                <a:solidFill>
                  <a:srgbClr val="663300"/>
                </a:solidFill>
                <a:latin typeface="Times New Roman"/>
                <a:ea typeface="華康隸書體W7"/>
              </a:rPr>
              <a:t>小娃撐小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63300"/>
                </a:solidFill>
                <a:latin typeface="Times New Roman"/>
                <a:ea typeface="華康隸書體W7"/>
              </a:rPr>
              <a:t>                 </a:t>
            </a:r>
            <a:r>
              <a:rPr b="0" lang="zh-TW" sz="4000" spc="-1" strike="noStrike">
                <a:solidFill>
                  <a:srgbClr val="663300"/>
                </a:solidFill>
                <a:latin typeface="Times New Roman"/>
                <a:ea typeface="華康隸書體W7"/>
              </a:rPr>
              <a:t>偷採白蓮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63300"/>
                </a:solidFill>
                <a:latin typeface="Times New Roman"/>
                <a:ea typeface="華康隸書體W7"/>
              </a:rPr>
              <a:t>             </a:t>
            </a:r>
            <a:r>
              <a:rPr b="0" lang="zh-TW" sz="4000" spc="-1" strike="noStrike">
                <a:solidFill>
                  <a:srgbClr val="663300"/>
                </a:solidFill>
                <a:latin typeface="Times New Roman"/>
                <a:ea typeface="華康隸書體W7"/>
              </a:rPr>
              <a:t>不解藏蹤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63300"/>
                </a:solidFill>
                <a:latin typeface="Times New Roman"/>
                <a:ea typeface="華康隸書體W7"/>
              </a:rPr>
              <a:t>                     </a:t>
            </a:r>
            <a:r>
              <a:rPr b="0" lang="zh-TW" sz="4000" spc="-1" strike="noStrike">
                <a:solidFill>
                  <a:srgbClr val="663300"/>
                </a:solidFill>
                <a:latin typeface="Times New Roman"/>
                <a:ea typeface="華康隸書體W7"/>
              </a:rPr>
              <a:t>浮萍一道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981080" y="5091120"/>
          <a:ext cx="6934320" cy="15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5091120"/>
                    <a:ext cx="6934320" cy="15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5867280" y="5867280"/>
          <a:ext cx="457200" cy="19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5867280"/>
                    <a:ext cx="457200" cy="19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6629400" y="5867280"/>
          <a:ext cx="380880" cy="163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29400" y="5867280"/>
                    <a:ext cx="380880" cy="1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2895480" y="5029200"/>
          <a:ext cx="2398680" cy="1181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95480" y="5029200"/>
                    <a:ext cx="239868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7010280" y="5562720"/>
          <a:ext cx="381240" cy="163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010280" y="5562720"/>
                    <a:ext cx="381240" cy="16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8001000" y="5334120"/>
          <a:ext cx="304920" cy="131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001000" y="5334120"/>
                    <a:ext cx="304920" cy="1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6248520" y="5181480"/>
          <a:ext cx="228600" cy="98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248520" y="5181480"/>
                    <a:ext cx="2286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5029200" y="5257800"/>
          <a:ext cx="304920" cy="131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029200" y="5257800"/>
                    <a:ext cx="304920" cy="1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5638680" y="5257800"/>
          <a:ext cx="304920" cy="152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638680" y="5257800"/>
                    <a:ext cx="304920" cy="15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5181480" y="6248520"/>
          <a:ext cx="609840" cy="2617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181480" y="6248520"/>
                    <a:ext cx="609840" cy="26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4038480" y="6172200"/>
          <a:ext cx="609840" cy="2620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038480" y="6172200"/>
                    <a:ext cx="609840" cy="2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5410080" y="6053040"/>
          <a:ext cx="304920" cy="1303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410080" y="6053040"/>
                    <a:ext cx="30492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6095880" y="5791320"/>
          <a:ext cx="406440" cy="5331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095880" y="5791320"/>
                    <a:ext cx="40644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8034480" y="5410080"/>
          <a:ext cx="290520" cy="3812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8034480" y="5410080"/>
                    <a:ext cx="29052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5486040" y="4876920"/>
          <a:ext cx="414360" cy="4572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486040" y="4876920"/>
                    <a:ext cx="4143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2946240" y="5029200"/>
          <a:ext cx="406440" cy="5335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946240" y="5029200"/>
                    <a:ext cx="40644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  <a:ea typeface="華康隸書體W7"/>
              </a:rPr>
              <a:t>本詩大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742840" y="685800"/>
            <a:ext cx="6095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華康隸書體W7"/>
              </a:rPr>
              <a:t>這首詩在描寫孩童划著船來到蓮花池，偷偷的採了幾朵白蓮，但天真的他們不懂得隱藏自己，反而在划船的時候，在池面上的浮萍中留下了一道船行的痕跡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0T01:33:25Z</dcterms:created>
  <dc:creator>e049</dc:creator>
  <dc:description/>
  <dc:language>en-US</dc:language>
  <cp:lastModifiedBy>e049</cp:lastModifiedBy>
  <dcterms:modified xsi:type="dcterms:W3CDTF">2003-05-19T04:05:57Z</dcterms:modified>
  <cp:revision>22</cp:revision>
  <dc:subject/>
  <dc:title>古詩欣賞 池上</dc:title>
</cp:coreProperties>
</file>