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projctor.wav" ContentType="audio/x-wav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BBCC-41F9-43AA-AAB9-16DA4CF1D370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我只套用簡報設計範本，在字型、直書橫書等完全沒更動，可自由變更（包括範本也可更換），但在第三頁詩本文請加上一些圖案，如蓮花、小孩划船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26E6-9051-4B35-982F-BD002F18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D5C6-3171-4C8D-8598-560F5E24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B11B-9AC6-43C9-9927-4B635913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B9FE-10D3-473B-A3DF-3F10B0D6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47C3-08EA-460E-B40C-D85BBBAB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65EE-535A-4014-A6F0-6C9B8758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21A4-567D-43C1-8B38-CE343490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2A39-7A62-4E33-842C-A77C765E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ECE2-C009-4F90-80F1-B30EF3D1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AC8F-2F83-434E-B368-8AF42A0B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9172-7162-49E7-92E5-15C9AC1A5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CE0C-57B6-4ACA-8D33-89C6755C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2F80-C4EF-4CE0-BFD5-60F2E9F78421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.wmf"/><Relationship Id="rId3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imes New Roman"/>
                <a:ea typeface="華康隸書體W7"/>
              </a:rPr>
              <a:t>古 詩 欣 賞</a:t>
            </a:r>
            <a:br>
              <a:rPr sz="4800"/>
            </a:br>
            <a:r>
              <a:rPr b="0" lang="zh-TW" sz="5400" spc="-1" strike="noStrike">
                <a:solidFill>
                  <a:srgbClr val="993300"/>
                </a:solidFill>
                <a:latin typeface="Times New Roman"/>
                <a:ea typeface="華康隸書體W7"/>
              </a:rPr>
              <a:t>池 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隸書體W5"/>
              </a:rPr>
              <a:t>作　者：白居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  <a:ea typeface="華康隸書體W7"/>
              </a:rPr>
              <a:t>作者生平介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2840" y="8380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0000"/>
                </a:solidFill>
                <a:uFillTx/>
                <a:latin typeface="Times New Roman"/>
                <a:ea typeface="華康隸書體W7"/>
              </a:rPr>
              <a:t>白居易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隸書體W7"/>
              </a:rPr>
              <a:t>，字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Times New Roman"/>
                <a:ea typeface="華康隸書體W7"/>
              </a:rPr>
              <a:t>樂天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隸書體W7"/>
              </a:rPr>
              <a:t>，晚年自號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Times New Roman"/>
                <a:ea typeface="華康隸書體W7"/>
              </a:rPr>
              <a:t>醉吟先生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隸書體W7"/>
              </a:rPr>
              <a:t>、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Times New Roman"/>
                <a:ea typeface="華康隸書體W7"/>
              </a:rPr>
              <a:t>香山居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0000"/>
                </a:solidFill>
                <a:uFillTx/>
                <a:latin typeface="Times New Roman"/>
                <a:ea typeface="華康隸書體W7"/>
              </a:rPr>
              <a:t>唐德宗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隸書體W7"/>
              </a:rPr>
              <a:t>時中進士，後官途多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  <p:sndAc>
      <p:stSnd>
        <p:snd r:embed="rId1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華康隸書體W7"/>
              </a:rPr>
              <a:t>池上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90560" y="6858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隸書體W7"/>
              </a:rPr>
              <a:t>           </a:t>
            </a:r>
            <a:r>
              <a:rPr b="0" lang="zh-TW" sz="4000" spc="-1" strike="noStrike">
                <a:solidFill>
                  <a:srgbClr val="663300"/>
                </a:solidFill>
                <a:latin typeface="Times New Roman"/>
                <a:ea typeface="華康隸書體W7"/>
              </a:rPr>
              <a:t>小娃撐小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63300"/>
                </a:solidFill>
                <a:latin typeface="Times New Roman"/>
                <a:ea typeface="華康隸書體W7"/>
              </a:rPr>
              <a:t>                 </a:t>
            </a:r>
            <a:r>
              <a:rPr b="0" lang="zh-TW" sz="4000" spc="-1" strike="noStrike">
                <a:solidFill>
                  <a:srgbClr val="663300"/>
                </a:solidFill>
                <a:latin typeface="Times New Roman"/>
                <a:ea typeface="華康隸書體W7"/>
              </a:rPr>
              <a:t>偷採白蓮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63300"/>
                </a:solidFill>
                <a:latin typeface="Times New Roman"/>
                <a:ea typeface="華康隸書體W7"/>
              </a:rPr>
              <a:t>             </a:t>
            </a:r>
            <a:r>
              <a:rPr b="0" lang="zh-TW" sz="4000" spc="-1" strike="noStrike">
                <a:solidFill>
                  <a:srgbClr val="663300"/>
                </a:solidFill>
                <a:latin typeface="Times New Roman"/>
                <a:ea typeface="華康隸書體W7"/>
              </a:rPr>
              <a:t>不解藏蹤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63300"/>
                </a:solidFill>
                <a:latin typeface="Times New Roman"/>
                <a:ea typeface="華康隸書體W7"/>
              </a:rPr>
              <a:t>                     </a:t>
            </a:r>
            <a:r>
              <a:rPr b="0" lang="zh-TW" sz="4000" spc="-1" strike="noStrike">
                <a:solidFill>
                  <a:srgbClr val="663300"/>
                </a:solidFill>
                <a:latin typeface="Times New Roman"/>
                <a:ea typeface="華康隸書體W7"/>
              </a:rPr>
              <a:t>浮萍一道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981080" y="5091120"/>
          <a:ext cx="6934320" cy="15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091120"/>
                    <a:ext cx="693432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867280" y="5867280"/>
          <a:ext cx="457200" cy="19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5867280"/>
                    <a:ext cx="457200" cy="1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6629400" y="5867280"/>
          <a:ext cx="380880" cy="16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29400" y="5867280"/>
                    <a:ext cx="380880" cy="1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2895480" y="5029200"/>
          <a:ext cx="2398680" cy="118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95480" y="5029200"/>
                    <a:ext cx="239868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7010280" y="5562720"/>
          <a:ext cx="381240" cy="163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10280" y="5562720"/>
                    <a:ext cx="381240" cy="1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8001000" y="5334120"/>
          <a:ext cx="304920" cy="131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001000" y="5334120"/>
                    <a:ext cx="304920" cy="1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248520" y="5181480"/>
          <a:ext cx="228600" cy="98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48520" y="5181480"/>
                    <a:ext cx="2286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029200" y="5257800"/>
          <a:ext cx="304920" cy="131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029200" y="5257800"/>
                    <a:ext cx="304920" cy="1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5638680" y="5257800"/>
          <a:ext cx="304920" cy="152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638680" y="5257800"/>
                    <a:ext cx="30492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5181480" y="6248520"/>
          <a:ext cx="609840" cy="261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81480" y="6248520"/>
                    <a:ext cx="609840" cy="26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038480" y="6172200"/>
          <a:ext cx="609840" cy="262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038480" y="6172200"/>
                    <a:ext cx="609840" cy="2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5410080" y="6053040"/>
          <a:ext cx="304920" cy="130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410080" y="6053040"/>
                    <a:ext cx="30492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6095880" y="5791320"/>
          <a:ext cx="406440" cy="533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95880" y="5791320"/>
                    <a:ext cx="4064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8034480" y="5410080"/>
          <a:ext cx="290520" cy="3812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8034480" y="5410080"/>
                    <a:ext cx="2905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486040" y="4876920"/>
          <a:ext cx="414360" cy="4572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486040" y="4876920"/>
                    <a:ext cx="414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2946240" y="5029200"/>
          <a:ext cx="406440" cy="5335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946240" y="5029200"/>
                    <a:ext cx="4064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  <a:ea typeface="華康隸書體W7"/>
              </a:rPr>
              <a:t>本詩大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742840" y="6858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隸書體W7"/>
              </a:rPr>
              <a:t>這首詩在描寫孩童划著船來到蓮花池，偷偷的採了幾朵白蓮，但天真的他們不懂得隱藏自己，反而在划船的時候，在池面上的浮萍中留下了一道船行的痕跡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01:33:25Z</dcterms:created>
  <dc:creator>e049</dc:creator>
  <dc:description/>
  <dc:language>en-US</dc:language>
  <cp:lastModifiedBy>e049</cp:lastModifiedBy>
  <dcterms:modified xsi:type="dcterms:W3CDTF">2003-04-16T01:44:48Z</dcterms:modified>
  <cp:revision>18</cp:revision>
  <dc:subject/>
  <dc:title>古詩欣賞 池上</dc:title>
</cp:coreProperties>
</file>