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DEA7-4BA3-40CF-A4A4-8AB3E8DA5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7B91-CF1B-4A25-956B-FBFB3CDE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015E-C506-48CC-A326-3FB9C3E90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C9C1-5539-464B-885A-50F29FF60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9818-BB99-454F-8762-EDAF4646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AF92-A42F-4E6B-ADF4-5EF9399C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3FFD-756C-476B-AF17-5A7FF7AD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0509-1838-4876-A283-A1B21CAD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337C-AEC1-405F-B569-10720BA5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1C85-1484-49D7-8D9F-5988D4B0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B1E2-98FB-4521-AE0B-1E2B0D58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B449-14DA-4BB6-A650-66310265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0390-EB9D-4579-B05A-075BEEAA694A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E01686_" descr=""/>
          <p:cNvPicPr/>
          <p:nvPr/>
        </p:nvPicPr>
        <p:blipFill>
          <a:blip r:embed="rId1"/>
          <a:stretch/>
        </p:blipFill>
        <p:spPr>
          <a:xfrm>
            <a:off x="701640" y="1981080"/>
            <a:ext cx="3778200" cy="4114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038480" y="838080"/>
            <a:ext cx="4343400" cy="403884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0000"/>
                </a:solidFill>
                <a:latin typeface="Times New Roman"/>
                <a:ea typeface="華康POP1體W9"/>
              </a:rPr>
              <a:t> </a:t>
            </a:r>
            <a:r>
              <a:rPr b="0" lang="zh-TW" sz="7200" spc="-1" strike="noStrike">
                <a:solidFill>
                  <a:srgbClr val="ff0000"/>
                </a:solidFill>
                <a:latin typeface="Times New Roman"/>
                <a:ea typeface="華康POP1體W9"/>
              </a:rPr>
              <a:t>加油！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2T09:32:38Z</dcterms:created>
  <dc:creator>e049</dc:creator>
  <dc:description/>
  <dc:language>en-US</dc:language>
  <cp:lastModifiedBy>e049</cp:lastModifiedBy>
  <dcterms:modified xsi:type="dcterms:W3CDTF">2003-04-22T10:05:00Z</dcterms:modified>
  <cp:revision>2</cp:revision>
  <dc:subject/>
  <dc:title>PowerPoint 簡報</dc:title>
</cp:coreProperties>
</file>