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B8F3-7187-4A58-A48B-E8795168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A1AB-3194-4DDA-A2F6-F964B4DF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DF55-76A7-405F-A7C9-46B7E33D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BD86-6FA9-4553-8D2B-7F5887AA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059B-ACBA-4247-AF8B-958D9175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8F48-5297-4A4D-80C6-A4C26EDB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3F14-C12C-4F07-9ACB-5D8CD155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7BD3-C7A0-41DF-BF72-61449C17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CC47-AF05-47A4-B4A8-CB33488E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8004-3B79-4820-A14A-0116AA5B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2540-4E92-4431-9CB5-3BBAAB3A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DC30-F448-4EC0-BC8D-AD0D2A92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18D8-34C0-4774-8710-A47710EB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08C9-5BD9-44F5-9561-4D4C176D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7F9C-6BA3-456F-ABF6-5CCF60AD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08D3-9659-49C5-8028-7A40EA39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874B-40F8-417D-9269-9DE03168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751-04ED-4E99-A74B-908D6825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08FD-39AE-4E0F-8471-4D2D96EE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7BFC-F20E-487D-831A-273720F5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6E9-876D-4BB7-A9D4-4A1DCBEC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2C91-E08D-41C8-9C1F-51D6C03B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CC59-FDE8-475C-ABA4-162FA960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8D0E-3680-4D81-8DB7-90D0C324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5AAA-5BF0-459E-A452-B477A08C1E30}" type="slidenum"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1B8A-6C46-4495-94DC-D4E24565368E}" type="slidenum"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22860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學生姓名：莫   砸   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班    　級：３ 年 ３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600200" y="1371600"/>
            <a:ext cx="6629400" cy="22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華康新特圓體"/>
              </a:rPr>
              <a:t>生活中的樂器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華康新特圓體"/>
              <a:ea typeface="華康新特圓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 Narrow"/>
              </a:rPr>
              <a:t>音 樂 的 魔 力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音樂可陶冶性情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音樂可使人放鬆心情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增加生活中的樂趣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181480" y="3733920"/>
            <a:ext cx="36576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 Narrow"/>
              </a:rPr>
              <a:t>樂器的分類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弦樂器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木管樂器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銅管樂器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鍵盤樂器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節奏樂器（又稱敲擊樂器）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 Narrow"/>
              </a:rPr>
              <a:t>有調性樂器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 Narrow"/>
              </a:rPr>
              <a:t>無調性樂器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812000" y="2971800"/>
            <a:ext cx="1144800" cy="1247760"/>
          </a:xfrm>
          <a:prstGeom prst="star5">
            <a:avLst/>
          </a:prstGeom>
          <a:gradFill rotWithShape="0">
            <a:gsLst>
              <a:gs pos="0">
                <a:srgbClr val="65b2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8387640" y="2286000"/>
            <a:ext cx="374760" cy="41904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771680" y="838080"/>
            <a:ext cx="1079640" cy="1152720"/>
          </a:xfrm>
          <a:prstGeom prst="star5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163640" y="4941720"/>
            <a:ext cx="863640" cy="792360"/>
          </a:xfrm>
          <a:prstGeom prst="star5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726320" y="2666880"/>
            <a:ext cx="503280" cy="50508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300720" y="2133720"/>
            <a:ext cx="827280" cy="863640"/>
          </a:xfrm>
          <a:prstGeom prst="star5">
            <a:avLst/>
          </a:prstGeom>
          <a:gradFill rotWithShape="0">
            <a:gsLst>
              <a:gs pos="0">
                <a:srgbClr val="ff0066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781680" y="3733920"/>
            <a:ext cx="470160" cy="50472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8381160" y="5029200"/>
            <a:ext cx="381240" cy="35244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8152560" y="6095880"/>
            <a:ext cx="381240" cy="35244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 Narrow"/>
              </a:rPr>
              <a:t>基 本 樂 理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譜表與譜號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音符與休止符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節拍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音程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音階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5257800" y="3616200"/>
            <a:ext cx="3733920" cy="292284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3592800" y="4249800"/>
            <a:ext cx="1425960" cy="1866240"/>
            <a:chOff x="3592800" y="4249800"/>
            <a:chExt cx="1425960" cy="1866240"/>
          </a:xfrm>
        </p:grpSpPr>
        <p:sp>
          <p:nvSpPr>
            <p:cNvPr id="137" name=""/>
            <p:cNvSpPr/>
            <p:nvPr/>
          </p:nvSpPr>
          <p:spPr>
            <a:xfrm rot="19673400">
              <a:off x="4591800" y="5803200"/>
              <a:ext cx="205920" cy="206640"/>
            </a:xfrm>
            <a:custGeom>
              <a:avLst/>
              <a:gdLst/>
              <a:ahLst/>
              <a:rect l="l" t="t" r="r" b="b"/>
              <a:pathLst>
                <a:path w="460" h="459">
                  <a:moveTo>
                    <a:pt x="182" y="459"/>
                  </a:moveTo>
                  <a:lnTo>
                    <a:pt x="0" y="307"/>
                  </a:lnTo>
                  <a:lnTo>
                    <a:pt x="11" y="80"/>
                  </a:lnTo>
                  <a:lnTo>
                    <a:pt x="262" y="0"/>
                  </a:lnTo>
                  <a:lnTo>
                    <a:pt x="424" y="98"/>
                  </a:lnTo>
                  <a:lnTo>
                    <a:pt x="460" y="252"/>
                  </a:lnTo>
                  <a:lnTo>
                    <a:pt x="389" y="368"/>
                  </a:lnTo>
                  <a:lnTo>
                    <a:pt x="182" y="459"/>
                  </a:lnTo>
                  <a:lnTo>
                    <a:pt x="182" y="459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9673400">
              <a:off x="4397400" y="5099760"/>
              <a:ext cx="488520" cy="396720"/>
            </a:xfrm>
            <a:custGeom>
              <a:avLst/>
              <a:gdLst/>
              <a:ahLst/>
              <a:rect l="l" t="t" r="r" b="b"/>
              <a:pathLst>
                <a:path w="1091" h="882">
                  <a:moveTo>
                    <a:pt x="9" y="594"/>
                  </a:moveTo>
                  <a:lnTo>
                    <a:pt x="0" y="261"/>
                  </a:lnTo>
                  <a:lnTo>
                    <a:pt x="207" y="43"/>
                  </a:lnTo>
                  <a:lnTo>
                    <a:pt x="524" y="0"/>
                  </a:lnTo>
                  <a:lnTo>
                    <a:pt x="856" y="61"/>
                  </a:lnTo>
                  <a:lnTo>
                    <a:pt x="1064" y="325"/>
                  </a:lnTo>
                  <a:lnTo>
                    <a:pt x="1091" y="575"/>
                  </a:lnTo>
                  <a:lnTo>
                    <a:pt x="911" y="882"/>
                  </a:lnTo>
                  <a:lnTo>
                    <a:pt x="845" y="396"/>
                  </a:lnTo>
                  <a:lnTo>
                    <a:pt x="513" y="261"/>
                  </a:lnTo>
                  <a:lnTo>
                    <a:pt x="280" y="307"/>
                  </a:lnTo>
                  <a:lnTo>
                    <a:pt x="108" y="477"/>
                  </a:lnTo>
                  <a:lnTo>
                    <a:pt x="9" y="594"/>
                  </a:lnTo>
                  <a:lnTo>
                    <a:pt x="9" y="594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9673400">
              <a:off x="4049640" y="4794480"/>
              <a:ext cx="571320" cy="725760"/>
            </a:xfrm>
            <a:custGeom>
              <a:avLst/>
              <a:gdLst/>
              <a:ahLst/>
              <a:rect l="l" t="t" r="r" b="b"/>
              <a:pathLst>
                <a:path w="1270" h="1615">
                  <a:moveTo>
                    <a:pt x="0" y="1046"/>
                  </a:moveTo>
                  <a:lnTo>
                    <a:pt x="316" y="614"/>
                  </a:lnTo>
                  <a:lnTo>
                    <a:pt x="613" y="387"/>
                  </a:lnTo>
                  <a:lnTo>
                    <a:pt x="1270" y="0"/>
                  </a:lnTo>
                  <a:lnTo>
                    <a:pt x="1270" y="198"/>
                  </a:lnTo>
                  <a:lnTo>
                    <a:pt x="1036" y="468"/>
                  </a:lnTo>
                  <a:lnTo>
                    <a:pt x="505" y="828"/>
                  </a:lnTo>
                  <a:lnTo>
                    <a:pt x="180" y="1217"/>
                  </a:lnTo>
                  <a:lnTo>
                    <a:pt x="91" y="1615"/>
                  </a:lnTo>
                  <a:lnTo>
                    <a:pt x="0" y="1046"/>
                  </a:lnTo>
                  <a:lnTo>
                    <a:pt x="0" y="1046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9673400">
              <a:off x="4033440" y="4349160"/>
              <a:ext cx="232920" cy="355320"/>
            </a:xfrm>
            <a:custGeom>
              <a:avLst/>
              <a:gdLst/>
              <a:ahLst/>
              <a:rect l="l" t="t" r="r" b="b"/>
              <a:pathLst>
                <a:path w="522" h="794">
                  <a:moveTo>
                    <a:pt x="0" y="641"/>
                  </a:moveTo>
                  <a:lnTo>
                    <a:pt x="29" y="271"/>
                  </a:lnTo>
                  <a:lnTo>
                    <a:pt x="171" y="45"/>
                  </a:lnTo>
                  <a:lnTo>
                    <a:pt x="435" y="0"/>
                  </a:lnTo>
                  <a:lnTo>
                    <a:pt x="522" y="243"/>
                  </a:lnTo>
                  <a:lnTo>
                    <a:pt x="280" y="416"/>
                  </a:lnTo>
                  <a:lnTo>
                    <a:pt x="146" y="587"/>
                  </a:lnTo>
                  <a:lnTo>
                    <a:pt x="37" y="794"/>
                  </a:lnTo>
                  <a:lnTo>
                    <a:pt x="0" y="641"/>
                  </a:lnTo>
                  <a:lnTo>
                    <a:pt x="0" y="641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9673400">
              <a:off x="4068000" y="4311000"/>
              <a:ext cx="268200" cy="615960"/>
            </a:xfrm>
            <a:custGeom>
              <a:avLst/>
              <a:gdLst/>
              <a:ahLst/>
              <a:rect l="l" t="t" r="r" b="b"/>
              <a:pathLst>
                <a:path w="598" h="1369">
                  <a:moveTo>
                    <a:pt x="28" y="1369"/>
                  </a:moveTo>
                  <a:lnTo>
                    <a:pt x="17" y="1099"/>
                  </a:lnTo>
                  <a:lnTo>
                    <a:pt x="2" y="805"/>
                  </a:lnTo>
                  <a:lnTo>
                    <a:pt x="0" y="494"/>
                  </a:lnTo>
                  <a:lnTo>
                    <a:pt x="29" y="301"/>
                  </a:lnTo>
                  <a:lnTo>
                    <a:pt x="60" y="236"/>
                  </a:lnTo>
                  <a:lnTo>
                    <a:pt x="97" y="182"/>
                  </a:lnTo>
                  <a:lnTo>
                    <a:pt x="175" y="103"/>
                  </a:lnTo>
                  <a:lnTo>
                    <a:pt x="255" y="58"/>
                  </a:lnTo>
                  <a:lnTo>
                    <a:pt x="328" y="33"/>
                  </a:lnTo>
                  <a:lnTo>
                    <a:pt x="500" y="0"/>
                  </a:lnTo>
                  <a:lnTo>
                    <a:pt x="542" y="105"/>
                  </a:lnTo>
                  <a:lnTo>
                    <a:pt x="413" y="142"/>
                  </a:lnTo>
                  <a:lnTo>
                    <a:pt x="308" y="187"/>
                  </a:lnTo>
                  <a:lnTo>
                    <a:pt x="217" y="258"/>
                  </a:lnTo>
                  <a:lnTo>
                    <a:pt x="162" y="356"/>
                  </a:lnTo>
                  <a:lnTo>
                    <a:pt x="139" y="470"/>
                  </a:lnTo>
                  <a:lnTo>
                    <a:pt x="128" y="603"/>
                  </a:lnTo>
                  <a:lnTo>
                    <a:pt x="162" y="536"/>
                  </a:lnTo>
                  <a:lnTo>
                    <a:pt x="211" y="472"/>
                  </a:lnTo>
                  <a:lnTo>
                    <a:pt x="280" y="409"/>
                  </a:lnTo>
                  <a:lnTo>
                    <a:pt x="375" y="354"/>
                  </a:lnTo>
                  <a:lnTo>
                    <a:pt x="471" y="312"/>
                  </a:lnTo>
                  <a:lnTo>
                    <a:pt x="580" y="276"/>
                  </a:lnTo>
                  <a:lnTo>
                    <a:pt x="598" y="436"/>
                  </a:lnTo>
                  <a:lnTo>
                    <a:pt x="578" y="425"/>
                  </a:lnTo>
                  <a:lnTo>
                    <a:pt x="455" y="458"/>
                  </a:lnTo>
                  <a:lnTo>
                    <a:pt x="398" y="487"/>
                  </a:lnTo>
                  <a:lnTo>
                    <a:pt x="349" y="530"/>
                  </a:lnTo>
                  <a:lnTo>
                    <a:pt x="289" y="599"/>
                  </a:lnTo>
                  <a:lnTo>
                    <a:pt x="240" y="672"/>
                  </a:lnTo>
                  <a:lnTo>
                    <a:pt x="209" y="752"/>
                  </a:lnTo>
                  <a:lnTo>
                    <a:pt x="189" y="826"/>
                  </a:lnTo>
                  <a:lnTo>
                    <a:pt x="168" y="943"/>
                  </a:lnTo>
                  <a:lnTo>
                    <a:pt x="160" y="1062"/>
                  </a:lnTo>
                  <a:lnTo>
                    <a:pt x="164" y="1286"/>
                  </a:lnTo>
                  <a:lnTo>
                    <a:pt x="28" y="1369"/>
                  </a:lnTo>
                  <a:lnTo>
                    <a:pt x="28" y="1369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9673400">
              <a:off x="4368960" y="4962600"/>
              <a:ext cx="75960" cy="253800"/>
            </a:xfrm>
            <a:custGeom>
              <a:avLst/>
              <a:gdLst/>
              <a:ahLst/>
              <a:rect l="l" t="t" r="r" b="b"/>
              <a:pathLst>
                <a:path w="167" h="569">
                  <a:moveTo>
                    <a:pt x="7" y="569"/>
                  </a:moveTo>
                  <a:lnTo>
                    <a:pt x="0" y="95"/>
                  </a:lnTo>
                  <a:lnTo>
                    <a:pt x="145" y="0"/>
                  </a:lnTo>
                  <a:lnTo>
                    <a:pt x="167" y="516"/>
                  </a:lnTo>
                  <a:lnTo>
                    <a:pt x="7" y="569"/>
                  </a:lnTo>
                  <a:lnTo>
                    <a:pt x="7" y="569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9673400">
              <a:off x="4467600" y="5266440"/>
              <a:ext cx="361800" cy="815760"/>
            </a:xfrm>
            <a:custGeom>
              <a:avLst/>
              <a:gdLst/>
              <a:ahLst/>
              <a:rect l="l" t="t" r="r" b="b"/>
              <a:pathLst>
                <a:path w="805" h="1817">
                  <a:moveTo>
                    <a:pt x="744" y="0"/>
                  </a:moveTo>
                  <a:lnTo>
                    <a:pt x="805" y="1513"/>
                  </a:lnTo>
                  <a:lnTo>
                    <a:pt x="784" y="1562"/>
                  </a:lnTo>
                  <a:lnTo>
                    <a:pt x="715" y="1671"/>
                  </a:lnTo>
                  <a:lnTo>
                    <a:pt x="658" y="1729"/>
                  </a:lnTo>
                  <a:lnTo>
                    <a:pt x="624" y="1753"/>
                  </a:lnTo>
                  <a:lnTo>
                    <a:pt x="587" y="1779"/>
                  </a:lnTo>
                  <a:lnTo>
                    <a:pt x="500" y="1809"/>
                  </a:lnTo>
                  <a:lnTo>
                    <a:pt x="397" y="1817"/>
                  </a:lnTo>
                  <a:lnTo>
                    <a:pt x="209" y="1768"/>
                  </a:lnTo>
                  <a:lnTo>
                    <a:pt x="142" y="1726"/>
                  </a:lnTo>
                  <a:lnTo>
                    <a:pt x="88" y="1677"/>
                  </a:lnTo>
                  <a:lnTo>
                    <a:pt x="0" y="1553"/>
                  </a:lnTo>
                  <a:lnTo>
                    <a:pt x="378" y="1559"/>
                  </a:lnTo>
                  <a:lnTo>
                    <a:pt x="411" y="1604"/>
                  </a:lnTo>
                  <a:lnTo>
                    <a:pt x="455" y="1633"/>
                  </a:lnTo>
                  <a:lnTo>
                    <a:pt x="518" y="1637"/>
                  </a:lnTo>
                  <a:lnTo>
                    <a:pt x="582" y="1610"/>
                  </a:lnTo>
                  <a:lnTo>
                    <a:pt x="616" y="1561"/>
                  </a:lnTo>
                  <a:lnTo>
                    <a:pt x="640" y="1495"/>
                  </a:lnTo>
                  <a:lnTo>
                    <a:pt x="575" y="38"/>
                  </a:lnTo>
                  <a:lnTo>
                    <a:pt x="744" y="0"/>
                  </a:lnTo>
                  <a:lnTo>
                    <a:pt x="7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9673400">
              <a:off x="3923280" y="4331880"/>
              <a:ext cx="728280" cy="1454040"/>
            </a:xfrm>
            <a:custGeom>
              <a:avLst/>
              <a:gdLst/>
              <a:ahLst/>
              <a:rect l="l" t="t" r="r" b="b"/>
              <a:pathLst>
                <a:path w="1625" h="3239">
                  <a:moveTo>
                    <a:pt x="1218" y="43"/>
                  </a:moveTo>
                  <a:lnTo>
                    <a:pt x="1261" y="103"/>
                  </a:lnTo>
                  <a:lnTo>
                    <a:pt x="1354" y="247"/>
                  </a:lnTo>
                  <a:lnTo>
                    <a:pt x="1399" y="336"/>
                  </a:lnTo>
                  <a:lnTo>
                    <a:pt x="1441" y="430"/>
                  </a:lnTo>
                  <a:lnTo>
                    <a:pt x="1469" y="607"/>
                  </a:lnTo>
                  <a:lnTo>
                    <a:pt x="1438" y="754"/>
                  </a:lnTo>
                  <a:lnTo>
                    <a:pt x="1414" y="823"/>
                  </a:lnTo>
                  <a:lnTo>
                    <a:pt x="1383" y="888"/>
                  </a:lnTo>
                  <a:lnTo>
                    <a:pt x="1345" y="950"/>
                  </a:lnTo>
                  <a:lnTo>
                    <a:pt x="1296" y="1008"/>
                  </a:lnTo>
                  <a:lnTo>
                    <a:pt x="1234" y="1064"/>
                  </a:lnTo>
                  <a:lnTo>
                    <a:pt x="1161" y="1115"/>
                  </a:lnTo>
                  <a:lnTo>
                    <a:pt x="1074" y="1173"/>
                  </a:lnTo>
                  <a:lnTo>
                    <a:pt x="976" y="1241"/>
                  </a:lnTo>
                  <a:lnTo>
                    <a:pt x="821" y="1339"/>
                  </a:lnTo>
                  <a:lnTo>
                    <a:pt x="714" y="1408"/>
                  </a:lnTo>
                  <a:lnTo>
                    <a:pt x="602" y="1484"/>
                  </a:lnTo>
                  <a:lnTo>
                    <a:pt x="493" y="1564"/>
                  </a:lnTo>
                  <a:lnTo>
                    <a:pt x="391" y="1649"/>
                  </a:lnTo>
                  <a:lnTo>
                    <a:pt x="294" y="1740"/>
                  </a:lnTo>
                  <a:lnTo>
                    <a:pt x="211" y="1834"/>
                  </a:lnTo>
                  <a:lnTo>
                    <a:pt x="173" y="1882"/>
                  </a:lnTo>
                  <a:lnTo>
                    <a:pt x="96" y="2016"/>
                  </a:lnTo>
                  <a:lnTo>
                    <a:pt x="44" y="2156"/>
                  </a:lnTo>
                  <a:lnTo>
                    <a:pt x="15" y="2289"/>
                  </a:lnTo>
                  <a:lnTo>
                    <a:pt x="0" y="2423"/>
                  </a:lnTo>
                  <a:lnTo>
                    <a:pt x="2" y="2552"/>
                  </a:lnTo>
                  <a:lnTo>
                    <a:pt x="22" y="2656"/>
                  </a:lnTo>
                  <a:lnTo>
                    <a:pt x="51" y="2750"/>
                  </a:lnTo>
                  <a:lnTo>
                    <a:pt x="89" y="2824"/>
                  </a:lnTo>
                  <a:lnTo>
                    <a:pt x="129" y="2883"/>
                  </a:lnTo>
                  <a:lnTo>
                    <a:pt x="213" y="2972"/>
                  </a:lnTo>
                  <a:lnTo>
                    <a:pt x="298" y="3039"/>
                  </a:lnTo>
                  <a:lnTo>
                    <a:pt x="409" y="3104"/>
                  </a:lnTo>
                  <a:lnTo>
                    <a:pt x="543" y="3170"/>
                  </a:lnTo>
                  <a:lnTo>
                    <a:pt x="663" y="3208"/>
                  </a:lnTo>
                  <a:lnTo>
                    <a:pt x="831" y="3235"/>
                  </a:lnTo>
                  <a:lnTo>
                    <a:pt x="1056" y="3239"/>
                  </a:lnTo>
                  <a:lnTo>
                    <a:pt x="1005" y="3077"/>
                  </a:lnTo>
                  <a:lnTo>
                    <a:pt x="876" y="3050"/>
                  </a:lnTo>
                  <a:lnTo>
                    <a:pt x="756" y="3010"/>
                  </a:lnTo>
                  <a:lnTo>
                    <a:pt x="571" y="2924"/>
                  </a:lnTo>
                  <a:lnTo>
                    <a:pt x="493" y="2866"/>
                  </a:lnTo>
                  <a:lnTo>
                    <a:pt x="413" y="2797"/>
                  </a:lnTo>
                  <a:lnTo>
                    <a:pt x="354" y="2719"/>
                  </a:lnTo>
                  <a:lnTo>
                    <a:pt x="324" y="2656"/>
                  </a:lnTo>
                  <a:lnTo>
                    <a:pt x="253" y="2183"/>
                  </a:lnTo>
                  <a:lnTo>
                    <a:pt x="264" y="2098"/>
                  </a:lnTo>
                  <a:lnTo>
                    <a:pt x="294" y="2009"/>
                  </a:lnTo>
                  <a:lnTo>
                    <a:pt x="343" y="1914"/>
                  </a:lnTo>
                  <a:lnTo>
                    <a:pt x="414" y="1807"/>
                  </a:lnTo>
                  <a:lnTo>
                    <a:pt x="460" y="1753"/>
                  </a:lnTo>
                  <a:lnTo>
                    <a:pt x="511" y="1700"/>
                  </a:lnTo>
                  <a:lnTo>
                    <a:pt x="567" y="1649"/>
                  </a:lnTo>
                  <a:lnTo>
                    <a:pt x="627" y="1604"/>
                  </a:lnTo>
                  <a:lnTo>
                    <a:pt x="689" y="1557"/>
                  </a:lnTo>
                  <a:lnTo>
                    <a:pt x="751" y="1515"/>
                  </a:lnTo>
                  <a:lnTo>
                    <a:pt x="816" y="1475"/>
                  </a:lnTo>
                  <a:lnTo>
                    <a:pt x="941" y="1402"/>
                  </a:lnTo>
                  <a:lnTo>
                    <a:pt x="1056" y="1339"/>
                  </a:lnTo>
                  <a:lnTo>
                    <a:pt x="1189" y="1259"/>
                  </a:lnTo>
                  <a:lnTo>
                    <a:pt x="1241" y="1215"/>
                  </a:lnTo>
                  <a:lnTo>
                    <a:pt x="1325" y="1135"/>
                  </a:lnTo>
                  <a:lnTo>
                    <a:pt x="1378" y="1095"/>
                  </a:lnTo>
                  <a:lnTo>
                    <a:pt x="1432" y="1053"/>
                  </a:lnTo>
                  <a:lnTo>
                    <a:pt x="1601" y="826"/>
                  </a:lnTo>
                  <a:lnTo>
                    <a:pt x="1625" y="679"/>
                  </a:lnTo>
                  <a:lnTo>
                    <a:pt x="1618" y="539"/>
                  </a:lnTo>
                  <a:lnTo>
                    <a:pt x="1587" y="416"/>
                  </a:lnTo>
                  <a:lnTo>
                    <a:pt x="1547" y="314"/>
                  </a:lnTo>
                  <a:lnTo>
                    <a:pt x="1429" y="112"/>
                  </a:lnTo>
                  <a:lnTo>
                    <a:pt x="1352" y="0"/>
                  </a:lnTo>
                  <a:lnTo>
                    <a:pt x="1218" y="43"/>
                  </a:lnTo>
                  <a:lnTo>
                    <a:pt x="1218" y="43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9673400">
              <a:off x="4027320" y="4617720"/>
              <a:ext cx="637560" cy="905040"/>
            </a:xfrm>
            <a:custGeom>
              <a:avLst/>
              <a:gdLst/>
              <a:ahLst/>
              <a:rect l="l" t="t" r="r" b="b"/>
              <a:pathLst>
                <a:path w="1419" h="2016">
                  <a:moveTo>
                    <a:pt x="1419" y="0"/>
                  </a:moveTo>
                  <a:lnTo>
                    <a:pt x="1399" y="229"/>
                  </a:lnTo>
                  <a:lnTo>
                    <a:pt x="1372" y="336"/>
                  </a:lnTo>
                  <a:lnTo>
                    <a:pt x="1332" y="450"/>
                  </a:lnTo>
                  <a:lnTo>
                    <a:pt x="1272" y="565"/>
                  </a:lnTo>
                  <a:lnTo>
                    <a:pt x="1190" y="676"/>
                  </a:lnTo>
                  <a:lnTo>
                    <a:pt x="1085" y="779"/>
                  </a:lnTo>
                  <a:lnTo>
                    <a:pt x="965" y="879"/>
                  </a:lnTo>
                  <a:lnTo>
                    <a:pt x="832" y="975"/>
                  </a:lnTo>
                  <a:lnTo>
                    <a:pt x="699" y="1064"/>
                  </a:lnTo>
                  <a:lnTo>
                    <a:pt x="572" y="1153"/>
                  </a:lnTo>
                  <a:lnTo>
                    <a:pt x="452" y="1237"/>
                  </a:lnTo>
                  <a:lnTo>
                    <a:pt x="354" y="1322"/>
                  </a:lnTo>
                  <a:lnTo>
                    <a:pt x="281" y="1406"/>
                  </a:lnTo>
                  <a:lnTo>
                    <a:pt x="200" y="1531"/>
                  </a:lnTo>
                  <a:lnTo>
                    <a:pt x="143" y="1669"/>
                  </a:lnTo>
                  <a:lnTo>
                    <a:pt x="114" y="1796"/>
                  </a:lnTo>
                  <a:lnTo>
                    <a:pt x="65" y="2016"/>
                  </a:lnTo>
                  <a:lnTo>
                    <a:pt x="0" y="1660"/>
                  </a:lnTo>
                  <a:lnTo>
                    <a:pt x="23" y="1604"/>
                  </a:lnTo>
                  <a:lnTo>
                    <a:pt x="58" y="1538"/>
                  </a:lnTo>
                  <a:lnTo>
                    <a:pt x="105" y="1457"/>
                  </a:lnTo>
                  <a:lnTo>
                    <a:pt x="172" y="1362"/>
                  </a:lnTo>
                  <a:lnTo>
                    <a:pt x="211" y="1309"/>
                  </a:lnTo>
                  <a:lnTo>
                    <a:pt x="256" y="1259"/>
                  </a:lnTo>
                  <a:lnTo>
                    <a:pt x="305" y="1204"/>
                  </a:lnTo>
                  <a:lnTo>
                    <a:pt x="360" y="1150"/>
                  </a:lnTo>
                  <a:lnTo>
                    <a:pt x="421" y="1093"/>
                  </a:lnTo>
                  <a:lnTo>
                    <a:pt x="483" y="1039"/>
                  </a:lnTo>
                  <a:lnTo>
                    <a:pt x="549" y="986"/>
                  </a:lnTo>
                  <a:lnTo>
                    <a:pt x="610" y="941"/>
                  </a:lnTo>
                  <a:lnTo>
                    <a:pt x="669" y="899"/>
                  </a:lnTo>
                  <a:lnTo>
                    <a:pt x="767" y="819"/>
                  </a:lnTo>
                  <a:lnTo>
                    <a:pt x="888" y="732"/>
                  </a:lnTo>
                  <a:lnTo>
                    <a:pt x="1001" y="643"/>
                  </a:lnTo>
                  <a:lnTo>
                    <a:pt x="1072" y="583"/>
                  </a:lnTo>
                  <a:lnTo>
                    <a:pt x="1125" y="488"/>
                  </a:lnTo>
                  <a:lnTo>
                    <a:pt x="1188" y="350"/>
                  </a:lnTo>
                  <a:lnTo>
                    <a:pt x="1237" y="225"/>
                  </a:lnTo>
                  <a:lnTo>
                    <a:pt x="1256" y="171"/>
                  </a:lnTo>
                  <a:lnTo>
                    <a:pt x="1419" y="0"/>
                  </a:lnTo>
                  <a:lnTo>
                    <a:pt x="1419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9673400">
              <a:off x="4437720" y="5180400"/>
              <a:ext cx="500040" cy="444600"/>
            </a:xfrm>
            <a:custGeom>
              <a:avLst/>
              <a:gdLst/>
              <a:ahLst/>
              <a:rect l="l" t="t" r="r" b="b"/>
              <a:pathLst>
                <a:path w="1116" h="992">
                  <a:moveTo>
                    <a:pt x="0" y="336"/>
                  </a:moveTo>
                  <a:lnTo>
                    <a:pt x="31" y="281"/>
                  </a:lnTo>
                  <a:lnTo>
                    <a:pt x="75" y="225"/>
                  </a:lnTo>
                  <a:lnTo>
                    <a:pt x="100" y="194"/>
                  </a:lnTo>
                  <a:lnTo>
                    <a:pt x="166" y="129"/>
                  </a:lnTo>
                  <a:lnTo>
                    <a:pt x="248" y="71"/>
                  </a:lnTo>
                  <a:lnTo>
                    <a:pt x="293" y="47"/>
                  </a:lnTo>
                  <a:lnTo>
                    <a:pt x="397" y="13"/>
                  </a:lnTo>
                  <a:lnTo>
                    <a:pt x="506" y="0"/>
                  </a:lnTo>
                  <a:lnTo>
                    <a:pt x="607" y="5"/>
                  </a:lnTo>
                  <a:lnTo>
                    <a:pt x="733" y="38"/>
                  </a:lnTo>
                  <a:lnTo>
                    <a:pt x="816" y="78"/>
                  </a:lnTo>
                  <a:lnTo>
                    <a:pt x="871" y="123"/>
                  </a:lnTo>
                  <a:lnTo>
                    <a:pt x="920" y="167"/>
                  </a:lnTo>
                  <a:lnTo>
                    <a:pt x="953" y="218"/>
                  </a:lnTo>
                  <a:lnTo>
                    <a:pt x="985" y="318"/>
                  </a:lnTo>
                  <a:lnTo>
                    <a:pt x="985" y="543"/>
                  </a:lnTo>
                  <a:lnTo>
                    <a:pt x="1116" y="525"/>
                  </a:lnTo>
                  <a:lnTo>
                    <a:pt x="1076" y="628"/>
                  </a:lnTo>
                  <a:lnTo>
                    <a:pt x="998" y="726"/>
                  </a:lnTo>
                  <a:lnTo>
                    <a:pt x="938" y="779"/>
                  </a:lnTo>
                  <a:lnTo>
                    <a:pt x="858" y="830"/>
                  </a:lnTo>
                  <a:lnTo>
                    <a:pt x="776" y="877"/>
                  </a:lnTo>
                  <a:lnTo>
                    <a:pt x="700" y="913"/>
                  </a:lnTo>
                  <a:lnTo>
                    <a:pt x="569" y="963"/>
                  </a:lnTo>
                  <a:lnTo>
                    <a:pt x="453" y="992"/>
                  </a:lnTo>
                  <a:lnTo>
                    <a:pt x="402" y="830"/>
                  </a:lnTo>
                  <a:lnTo>
                    <a:pt x="607" y="775"/>
                  </a:lnTo>
                  <a:lnTo>
                    <a:pt x="689" y="743"/>
                  </a:lnTo>
                  <a:lnTo>
                    <a:pt x="760" y="696"/>
                  </a:lnTo>
                  <a:lnTo>
                    <a:pt x="855" y="570"/>
                  </a:lnTo>
                  <a:lnTo>
                    <a:pt x="867" y="421"/>
                  </a:lnTo>
                  <a:lnTo>
                    <a:pt x="849" y="354"/>
                  </a:lnTo>
                  <a:lnTo>
                    <a:pt x="820" y="294"/>
                  </a:lnTo>
                  <a:lnTo>
                    <a:pt x="786" y="240"/>
                  </a:lnTo>
                  <a:lnTo>
                    <a:pt x="680" y="167"/>
                  </a:lnTo>
                  <a:lnTo>
                    <a:pt x="613" y="149"/>
                  </a:lnTo>
                  <a:lnTo>
                    <a:pt x="486" y="142"/>
                  </a:lnTo>
                  <a:lnTo>
                    <a:pt x="348" y="174"/>
                  </a:lnTo>
                  <a:lnTo>
                    <a:pt x="266" y="234"/>
                  </a:lnTo>
                  <a:lnTo>
                    <a:pt x="213" y="307"/>
                  </a:lnTo>
                  <a:lnTo>
                    <a:pt x="204" y="405"/>
                  </a:lnTo>
                  <a:lnTo>
                    <a:pt x="233" y="481"/>
                  </a:lnTo>
                  <a:lnTo>
                    <a:pt x="277" y="525"/>
                  </a:lnTo>
                  <a:lnTo>
                    <a:pt x="346" y="543"/>
                  </a:lnTo>
                  <a:lnTo>
                    <a:pt x="482" y="559"/>
                  </a:lnTo>
                  <a:lnTo>
                    <a:pt x="716" y="577"/>
                  </a:lnTo>
                  <a:lnTo>
                    <a:pt x="442" y="686"/>
                  </a:lnTo>
                  <a:lnTo>
                    <a:pt x="269" y="681"/>
                  </a:lnTo>
                  <a:lnTo>
                    <a:pt x="166" y="646"/>
                  </a:lnTo>
                  <a:lnTo>
                    <a:pt x="89" y="601"/>
                  </a:lnTo>
                  <a:lnTo>
                    <a:pt x="22" y="514"/>
                  </a:lnTo>
                  <a:lnTo>
                    <a:pt x="8" y="428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9673400">
              <a:off x="4351320" y="5082120"/>
              <a:ext cx="550440" cy="406440"/>
            </a:xfrm>
            <a:custGeom>
              <a:avLst/>
              <a:gdLst/>
              <a:ahLst/>
              <a:rect l="l" t="t" r="r" b="b"/>
              <a:pathLst>
                <a:path w="1225" h="904">
                  <a:moveTo>
                    <a:pt x="98" y="797"/>
                  </a:moveTo>
                  <a:lnTo>
                    <a:pt x="72" y="755"/>
                  </a:lnTo>
                  <a:lnTo>
                    <a:pt x="25" y="643"/>
                  </a:lnTo>
                  <a:lnTo>
                    <a:pt x="0" y="479"/>
                  </a:lnTo>
                  <a:lnTo>
                    <a:pt x="11" y="385"/>
                  </a:lnTo>
                  <a:lnTo>
                    <a:pt x="41" y="285"/>
                  </a:lnTo>
                  <a:lnTo>
                    <a:pt x="96" y="201"/>
                  </a:lnTo>
                  <a:lnTo>
                    <a:pt x="169" y="130"/>
                  </a:lnTo>
                  <a:lnTo>
                    <a:pt x="260" y="76"/>
                  </a:lnTo>
                  <a:lnTo>
                    <a:pt x="361" y="38"/>
                  </a:lnTo>
                  <a:lnTo>
                    <a:pt x="492" y="12"/>
                  </a:lnTo>
                  <a:lnTo>
                    <a:pt x="609" y="0"/>
                  </a:lnTo>
                  <a:lnTo>
                    <a:pt x="761" y="23"/>
                  </a:lnTo>
                  <a:lnTo>
                    <a:pt x="881" y="59"/>
                  </a:lnTo>
                  <a:lnTo>
                    <a:pt x="963" y="96"/>
                  </a:lnTo>
                  <a:lnTo>
                    <a:pt x="1043" y="161"/>
                  </a:lnTo>
                  <a:lnTo>
                    <a:pt x="1105" y="221"/>
                  </a:lnTo>
                  <a:lnTo>
                    <a:pt x="1165" y="326"/>
                  </a:lnTo>
                  <a:lnTo>
                    <a:pt x="1216" y="474"/>
                  </a:lnTo>
                  <a:lnTo>
                    <a:pt x="1225" y="590"/>
                  </a:lnTo>
                  <a:lnTo>
                    <a:pt x="1199" y="695"/>
                  </a:lnTo>
                  <a:lnTo>
                    <a:pt x="1159" y="799"/>
                  </a:lnTo>
                  <a:lnTo>
                    <a:pt x="937" y="904"/>
                  </a:lnTo>
                  <a:lnTo>
                    <a:pt x="1052" y="739"/>
                  </a:lnTo>
                  <a:lnTo>
                    <a:pt x="1083" y="606"/>
                  </a:lnTo>
                  <a:lnTo>
                    <a:pt x="1081" y="494"/>
                  </a:lnTo>
                  <a:lnTo>
                    <a:pt x="1056" y="379"/>
                  </a:lnTo>
                  <a:lnTo>
                    <a:pt x="994" y="276"/>
                  </a:lnTo>
                  <a:lnTo>
                    <a:pt x="947" y="228"/>
                  </a:lnTo>
                  <a:lnTo>
                    <a:pt x="888" y="198"/>
                  </a:lnTo>
                  <a:lnTo>
                    <a:pt x="812" y="165"/>
                  </a:lnTo>
                  <a:lnTo>
                    <a:pt x="712" y="141"/>
                  </a:lnTo>
                  <a:lnTo>
                    <a:pt x="590" y="128"/>
                  </a:lnTo>
                  <a:lnTo>
                    <a:pt x="421" y="148"/>
                  </a:lnTo>
                  <a:lnTo>
                    <a:pt x="330" y="188"/>
                  </a:lnTo>
                  <a:lnTo>
                    <a:pt x="256" y="236"/>
                  </a:lnTo>
                  <a:lnTo>
                    <a:pt x="198" y="283"/>
                  </a:lnTo>
                  <a:lnTo>
                    <a:pt x="165" y="323"/>
                  </a:lnTo>
                  <a:lnTo>
                    <a:pt x="131" y="414"/>
                  </a:lnTo>
                  <a:lnTo>
                    <a:pt x="120" y="526"/>
                  </a:lnTo>
                  <a:lnTo>
                    <a:pt x="127" y="663"/>
                  </a:lnTo>
                  <a:lnTo>
                    <a:pt x="98" y="797"/>
                  </a:lnTo>
                  <a:lnTo>
                    <a:pt x="98" y="797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9673400">
              <a:off x="4567680" y="5791680"/>
              <a:ext cx="242640" cy="231840"/>
            </a:xfrm>
            <a:custGeom>
              <a:avLst/>
              <a:gdLst/>
              <a:ahLst/>
              <a:rect l="l" t="t" r="r" b="b"/>
              <a:pathLst>
                <a:path w="542" h="516">
                  <a:moveTo>
                    <a:pt x="451" y="454"/>
                  </a:moveTo>
                  <a:lnTo>
                    <a:pt x="496" y="403"/>
                  </a:lnTo>
                  <a:lnTo>
                    <a:pt x="527" y="343"/>
                  </a:lnTo>
                  <a:lnTo>
                    <a:pt x="542" y="276"/>
                  </a:lnTo>
                  <a:lnTo>
                    <a:pt x="536" y="209"/>
                  </a:lnTo>
                  <a:lnTo>
                    <a:pt x="515" y="145"/>
                  </a:lnTo>
                  <a:lnTo>
                    <a:pt x="473" y="89"/>
                  </a:lnTo>
                  <a:lnTo>
                    <a:pt x="418" y="42"/>
                  </a:lnTo>
                  <a:lnTo>
                    <a:pt x="356" y="14"/>
                  </a:lnTo>
                  <a:lnTo>
                    <a:pt x="287" y="0"/>
                  </a:lnTo>
                  <a:lnTo>
                    <a:pt x="217" y="5"/>
                  </a:lnTo>
                  <a:lnTo>
                    <a:pt x="151" y="27"/>
                  </a:lnTo>
                  <a:lnTo>
                    <a:pt x="93" y="67"/>
                  </a:lnTo>
                  <a:lnTo>
                    <a:pt x="46" y="116"/>
                  </a:lnTo>
                  <a:lnTo>
                    <a:pt x="13" y="180"/>
                  </a:lnTo>
                  <a:lnTo>
                    <a:pt x="0" y="245"/>
                  </a:lnTo>
                  <a:lnTo>
                    <a:pt x="6" y="312"/>
                  </a:lnTo>
                  <a:lnTo>
                    <a:pt x="29" y="378"/>
                  </a:lnTo>
                  <a:lnTo>
                    <a:pt x="69" y="432"/>
                  </a:lnTo>
                  <a:lnTo>
                    <a:pt x="122" y="478"/>
                  </a:lnTo>
                  <a:lnTo>
                    <a:pt x="233" y="516"/>
                  </a:lnTo>
                  <a:lnTo>
                    <a:pt x="249" y="412"/>
                  </a:lnTo>
                  <a:lnTo>
                    <a:pt x="211" y="398"/>
                  </a:lnTo>
                  <a:lnTo>
                    <a:pt x="160" y="360"/>
                  </a:lnTo>
                  <a:lnTo>
                    <a:pt x="129" y="309"/>
                  </a:lnTo>
                  <a:lnTo>
                    <a:pt x="122" y="251"/>
                  </a:lnTo>
                  <a:lnTo>
                    <a:pt x="138" y="192"/>
                  </a:lnTo>
                  <a:lnTo>
                    <a:pt x="162" y="158"/>
                  </a:lnTo>
                  <a:lnTo>
                    <a:pt x="211" y="125"/>
                  </a:lnTo>
                  <a:lnTo>
                    <a:pt x="273" y="109"/>
                  </a:lnTo>
                  <a:lnTo>
                    <a:pt x="333" y="116"/>
                  </a:lnTo>
                  <a:lnTo>
                    <a:pt x="387" y="149"/>
                  </a:lnTo>
                  <a:lnTo>
                    <a:pt x="424" y="194"/>
                  </a:lnTo>
                  <a:lnTo>
                    <a:pt x="440" y="252"/>
                  </a:lnTo>
                  <a:lnTo>
                    <a:pt x="431" y="311"/>
                  </a:lnTo>
                  <a:lnTo>
                    <a:pt x="398" y="361"/>
                  </a:lnTo>
                  <a:lnTo>
                    <a:pt x="349" y="398"/>
                  </a:lnTo>
                  <a:lnTo>
                    <a:pt x="311" y="412"/>
                  </a:lnTo>
                  <a:lnTo>
                    <a:pt x="358" y="507"/>
                  </a:lnTo>
                  <a:lnTo>
                    <a:pt x="451" y="454"/>
                  </a:lnTo>
                  <a:lnTo>
                    <a:pt x="451" y="454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401080" y="2670840"/>
            <a:ext cx="736560" cy="829440"/>
            <a:chOff x="5401080" y="2670840"/>
            <a:chExt cx="736560" cy="829440"/>
          </a:xfrm>
        </p:grpSpPr>
        <p:sp>
          <p:nvSpPr>
            <p:cNvPr id="150" name=""/>
            <p:cNvSpPr/>
            <p:nvPr/>
          </p:nvSpPr>
          <p:spPr>
            <a:xfrm rot="2526600">
              <a:off x="5533560" y="3290760"/>
              <a:ext cx="214200" cy="131040"/>
            </a:xfrm>
            <a:custGeom>
              <a:avLst/>
              <a:gdLst/>
              <a:ahLst/>
              <a:rect l="l" t="t" r="r" b="b"/>
              <a:pathLst>
                <a:path w="798" h="539">
                  <a:moveTo>
                    <a:pt x="0" y="286"/>
                  </a:moveTo>
                  <a:lnTo>
                    <a:pt x="167" y="103"/>
                  </a:lnTo>
                  <a:lnTo>
                    <a:pt x="323" y="15"/>
                  </a:lnTo>
                  <a:lnTo>
                    <a:pt x="631" y="0"/>
                  </a:lnTo>
                  <a:lnTo>
                    <a:pt x="798" y="191"/>
                  </a:lnTo>
                  <a:lnTo>
                    <a:pt x="653" y="436"/>
                  </a:lnTo>
                  <a:lnTo>
                    <a:pt x="349" y="539"/>
                  </a:lnTo>
                  <a:lnTo>
                    <a:pt x="91" y="49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526600">
              <a:off x="5515920" y="3278520"/>
              <a:ext cx="229680" cy="155520"/>
            </a:xfrm>
            <a:custGeom>
              <a:avLst/>
              <a:gdLst/>
              <a:ahLst/>
              <a:rect l="l" t="t" r="r" b="b"/>
              <a:pathLst>
                <a:path w="851" h="643">
                  <a:moveTo>
                    <a:pt x="851" y="109"/>
                  </a:moveTo>
                  <a:lnTo>
                    <a:pt x="671" y="13"/>
                  </a:lnTo>
                  <a:lnTo>
                    <a:pt x="578" y="0"/>
                  </a:lnTo>
                  <a:lnTo>
                    <a:pt x="447" y="13"/>
                  </a:lnTo>
                  <a:lnTo>
                    <a:pt x="332" y="50"/>
                  </a:lnTo>
                  <a:lnTo>
                    <a:pt x="223" y="100"/>
                  </a:lnTo>
                  <a:lnTo>
                    <a:pt x="152" y="148"/>
                  </a:lnTo>
                  <a:lnTo>
                    <a:pt x="83" y="222"/>
                  </a:lnTo>
                  <a:lnTo>
                    <a:pt x="33" y="293"/>
                  </a:lnTo>
                  <a:lnTo>
                    <a:pt x="6" y="370"/>
                  </a:lnTo>
                  <a:lnTo>
                    <a:pt x="0" y="435"/>
                  </a:lnTo>
                  <a:lnTo>
                    <a:pt x="21" y="503"/>
                  </a:lnTo>
                  <a:lnTo>
                    <a:pt x="64" y="570"/>
                  </a:lnTo>
                  <a:lnTo>
                    <a:pt x="136" y="619"/>
                  </a:lnTo>
                  <a:lnTo>
                    <a:pt x="216" y="643"/>
                  </a:lnTo>
                  <a:lnTo>
                    <a:pt x="407" y="394"/>
                  </a:lnTo>
                  <a:lnTo>
                    <a:pt x="195" y="435"/>
                  </a:lnTo>
                  <a:lnTo>
                    <a:pt x="368" y="293"/>
                  </a:lnTo>
                  <a:lnTo>
                    <a:pt x="157" y="357"/>
                  </a:lnTo>
                  <a:lnTo>
                    <a:pt x="302" y="231"/>
                  </a:lnTo>
                  <a:lnTo>
                    <a:pt x="161" y="270"/>
                  </a:lnTo>
                  <a:lnTo>
                    <a:pt x="245" y="158"/>
                  </a:lnTo>
                  <a:lnTo>
                    <a:pt x="324" y="106"/>
                  </a:lnTo>
                  <a:lnTo>
                    <a:pt x="398" y="80"/>
                  </a:lnTo>
                  <a:lnTo>
                    <a:pt x="494" y="64"/>
                  </a:lnTo>
                  <a:lnTo>
                    <a:pt x="580" y="63"/>
                  </a:lnTo>
                  <a:lnTo>
                    <a:pt x="851" y="109"/>
                  </a:lnTo>
                  <a:lnTo>
                    <a:pt x="85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526600">
              <a:off x="5561280" y="3308760"/>
              <a:ext cx="183240" cy="149400"/>
            </a:xfrm>
            <a:custGeom>
              <a:avLst/>
              <a:gdLst/>
              <a:ahLst/>
              <a:rect l="l" t="t" r="r" b="b"/>
              <a:pathLst>
                <a:path w="681" h="614">
                  <a:moveTo>
                    <a:pt x="470" y="0"/>
                  </a:moveTo>
                  <a:lnTo>
                    <a:pt x="307" y="114"/>
                  </a:lnTo>
                  <a:lnTo>
                    <a:pt x="496" y="89"/>
                  </a:lnTo>
                  <a:lnTo>
                    <a:pt x="364" y="177"/>
                  </a:lnTo>
                  <a:lnTo>
                    <a:pt x="549" y="159"/>
                  </a:lnTo>
                  <a:lnTo>
                    <a:pt x="408" y="249"/>
                  </a:lnTo>
                  <a:lnTo>
                    <a:pt x="539" y="233"/>
                  </a:lnTo>
                  <a:lnTo>
                    <a:pt x="468" y="327"/>
                  </a:lnTo>
                  <a:lnTo>
                    <a:pt x="396" y="383"/>
                  </a:lnTo>
                  <a:lnTo>
                    <a:pt x="294" y="422"/>
                  </a:lnTo>
                  <a:lnTo>
                    <a:pt x="226" y="436"/>
                  </a:lnTo>
                  <a:lnTo>
                    <a:pt x="98" y="445"/>
                  </a:lnTo>
                  <a:lnTo>
                    <a:pt x="0" y="603"/>
                  </a:lnTo>
                  <a:lnTo>
                    <a:pt x="87" y="613"/>
                  </a:lnTo>
                  <a:lnTo>
                    <a:pt x="181" y="614"/>
                  </a:lnTo>
                  <a:lnTo>
                    <a:pt x="281" y="595"/>
                  </a:lnTo>
                  <a:lnTo>
                    <a:pt x="382" y="561"/>
                  </a:lnTo>
                  <a:lnTo>
                    <a:pt x="479" y="510"/>
                  </a:lnTo>
                  <a:lnTo>
                    <a:pt x="565" y="439"/>
                  </a:lnTo>
                  <a:lnTo>
                    <a:pt x="625" y="357"/>
                  </a:lnTo>
                  <a:lnTo>
                    <a:pt x="672" y="273"/>
                  </a:lnTo>
                  <a:lnTo>
                    <a:pt x="681" y="199"/>
                  </a:lnTo>
                  <a:lnTo>
                    <a:pt x="674" y="132"/>
                  </a:lnTo>
                  <a:lnTo>
                    <a:pt x="630" y="65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526600">
              <a:off x="5783040" y="2847600"/>
              <a:ext cx="321840" cy="120240"/>
            </a:xfrm>
            <a:custGeom>
              <a:avLst/>
              <a:gdLst/>
              <a:ahLst/>
              <a:rect l="l" t="t" r="r" b="b"/>
              <a:pathLst>
                <a:path w="1197" h="497">
                  <a:moveTo>
                    <a:pt x="0" y="57"/>
                  </a:moveTo>
                  <a:lnTo>
                    <a:pt x="380" y="0"/>
                  </a:lnTo>
                  <a:lnTo>
                    <a:pt x="769" y="221"/>
                  </a:lnTo>
                  <a:lnTo>
                    <a:pt x="1197" y="255"/>
                  </a:lnTo>
                  <a:lnTo>
                    <a:pt x="908" y="491"/>
                  </a:lnTo>
                  <a:lnTo>
                    <a:pt x="674" y="497"/>
                  </a:lnTo>
                  <a:lnTo>
                    <a:pt x="345" y="431"/>
                  </a:lnTo>
                  <a:lnTo>
                    <a:pt x="124" y="49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526600">
              <a:off x="5517720" y="2785680"/>
              <a:ext cx="481320" cy="533520"/>
            </a:xfrm>
            <a:custGeom>
              <a:avLst/>
              <a:gdLst/>
              <a:ahLst/>
              <a:rect l="l" t="t" r="r" b="b"/>
              <a:pathLst>
                <a:path w="1790" h="2197">
                  <a:moveTo>
                    <a:pt x="0" y="181"/>
                  </a:moveTo>
                  <a:lnTo>
                    <a:pt x="774" y="1068"/>
                  </a:lnTo>
                  <a:lnTo>
                    <a:pt x="552" y="1578"/>
                  </a:lnTo>
                  <a:lnTo>
                    <a:pt x="1655" y="2197"/>
                  </a:lnTo>
                  <a:lnTo>
                    <a:pt x="1732" y="2159"/>
                  </a:lnTo>
                  <a:lnTo>
                    <a:pt x="799" y="1510"/>
                  </a:lnTo>
                  <a:lnTo>
                    <a:pt x="1032" y="1027"/>
                  </a:lnTo>
                  <a:lnTo>
                    <a:pt x="567" y="474"/>
                  </a:lnTo>
                  <a:lnTo>
                    <a:pt x="737" y="392"/>
                  </a:lnTo>
                  <a:lnTo>
                    <a:pt x="815" y="378"/>
                  </a:lnTo>
                  <a:lnTo>
                    <a:pt x="889" y="374"/>
                  </a:lnTo>
                  <a:lnTo>
                    <a:pt x="973" y="388"/>
                  </a:lnTo>
                  <a:lnTo>
                    <a:pt x="1057" y="424"/>
                  </a:lnTo>
                  <a:lnTo>
                    <a:pt x="1167" y="449"/>
                  </a:lnTo>
                  <a:lnTo>
                    <a:pt x="1294" y="446"/>
                  </a:lnTo>
                  <a:lnTo>
                    <a:pt x="1396" y="420"/>
                  </a:lnTo>
                  <a:lnTo>
                    <a:pt x="1532" y="374"/>
                  </a:lnTo>
                  <a:lnTo>
                    <a:pt x="1614" y="311"/>
                  </a:lnTo>
                  <a:lnTo>
                    <a:pt x="1696" y="205"/>
                  </a:lnTo>
                  <a:lnTo>
                    <a:pt x="1757" y="106"/>
                  </a:lnTo>
                  <a:lnTo>
                    <a:pt x="1790" y="15"/>
                  </a:lnTo>
                  <a:lnTo>
                    <a:pt x="1519" y="191"/>
                  </a:lnTo>
                  <a:lnTo>
                    <a:pt x="1433" y="293"/>
                  </a:lnTo>
                  <a:lnTo>
                    <a:pt x="1311" y="358"/>
                  </a:lnTo>
                  <a:lnTo>
                    <a:pt x="1157" y="365"/>
                  </a:lnTo>
                  <a:lnTo>
                    <a:pt x="1057" y="325"/>
                  </a:lnTo>
                  <a:lnTo>
                    <a:pt x="966" y="285"/>
                  </a:lnTo>
                  <a:lnTo>
                    <a:pt x="872" y="279"/>
                  </a:lnTo>
                  <a:lnTo>
                    <a:pt x="674" y="313"/>
                  </a:lnTo>
                  <a:lnTo>
                    <a:pt x="881" y="204"/>
                  </a:lnTo>
                  <a:lnTo>
                    <a:pt x="624" y="211"/>
                  </a:lnTo>
                  <a:lnTo>
                    <a:pt x="816" y="121"/>
                  </a:lnTo>
                  <a:lnTo>
                    <a:pt x="594" y="120"/>
                  </a:lnTo>
                  <a:lnTo>
                    <a:pt x="759" y="32"/>
                  </a:lnTo>
                  <a:lnTo>
                    <a:pt x="546" y="0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526600">
              <a:off x="5690880" y="2821680"/>
              <a:ext cx="481680" cy="80640"/>
            </a:xfrm>
            <a:custGeom>
              <a:avLst/>
              <a:gdLst/>
              <a:ahLst/>
              <a:rect l="l" t="t" r="r" b="b"/>
              <a:pathLst>
                <a:path w="1786" h="330">
                  <a:moveTo>
                    <a:pt x="0" y="306"/>
                  </a:moveTo>
                  <a:lnTo>
                    <a:pt x="205" y="183"/>
                  </a:lnTo>
                  <a:lnTo>
                    <a:pt x="285" y="132"/>
                  </a:lnTo>
                  <a:lnTo>
                    <a:pt x="422" y="69"/>
                  </a:lnTo>
                  <a:lnTo>
                    <a:pt x="576" y="24"/>
                  </a:lnTo>
                  <a:lnTo>
                    <a:pt x="745" y="0"/>
                  </a:lnTo>
                  <a:lnTo>
                    <a:pt x="872" y="27"/>
                  </a:lnTo>
                  <a:lnTo>
                    <a:pt x="979" y="77"/>
                  </a:lnTo>
                  <a:lnTo>
                    <a:pt x="1093" y="151"/>
                  </a:lnTo>
                  <a:lnTo>
                    <a:pt x="1189" y="220"/>
                  </a:lnTo>
                  <a:lnTo>
                    <a:pt x="1298" y="250"/>
                  </a:lnTo>
                  <a:lnTo>
                    <a:pt x="1403" y="246"/>
                  </a:lnTo>
                  <a:lnTo>
                    <a:pt x="1545" y="223"/>
                  </a:lnTo>
                  <a:lnTo>
                    <a:pt x="1786" y="144"/>
                  </a:lnTo>
                  <a:lnTo>
                    <a:pt x="1542" y="311"/>
                  </a:lnTo>
                  <a:lnTo>
                    <a:pt x="1403" y="330"/>
                  </a:lnTo>
                  <a:lnTo>
                    <a:pt x="1285" y="320"/>
                  </a:lnTo>
                  <a:lnTo>
                    <a:pt x="1189" y="287"/>
                  </a:lnTo>
                  <a:lnTo>
                    <a:pt x="1082" y="208"/>
                  </a:lnTo>
                  <a:lnTo>
                    <a:pt x="976" y="132"/>
                  </a:lnTo>
                  <a:lnTo>
                    <a:pt x="887" y="96"/>
                  </a:lnTo>
                  <a:lnTo>
                    <a:pt x="758" y="84"/>
                  </a:lnTo>
                  <a:lnTo>
                    <a:pt x="619" y="101"/>
                  </a:lnTo>
                  <a:lnTo>
                    <a:pt x="526" y="142"/>
                  </a:lnTo>
                  <a:lnTo>
                    <a:pt x="200" y="32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436880" y="889920"/>
            <a:ext cx="1146600" cy="1493280"/>
            <a:chOff x="7436880" y="889920"/>
            <a:chExt cx="1146600" cy="1493280"/>
          </a:xfrm>
        </p:grpSpPr>
        <p:sp>
          <p:nvSpPr>
            <p:cNvPr id="157" name=""/>
            <p:cNvSpPr/>
            <p:nvPr/>
          </p:nvSpPr>
          <p:spPr>
            <a:xfrm rot="1066800">
              <a:off x="7832520" y="2037960"/>
              <a:ext cx="382320" cy="247680"/>
            </a:xfrm>
            <a:custGeom>
              <a:avLst/>
              <a:gdLst/>
              <a:ahLst/>
              <a:rect l="l" t="t" r="r" b="b"/>
              <a:pathLst>
                <a:path w="798" h="539">
                  <a:moveTo>
                    <a:pt x="0" y="286"/>
                  </a:moveTo>
                  <a:lnTo>
                    <a:pt x="167" y="103"/>
                  </a:lnTo>
                  <a:lnTo>
                    <a:pt x="323" y="15"/>
                  </a:lnTo>
                  <a:lnTo>
                    <a:pt x="631" y="0"/>
                  </a:lnTo>
                  <a:lnTo>
                    <a:pt x="798" y="191"/>
                  </a:lnTo>
                  <a:lnTo>
                    <a:pt x="653" y="436"/>
                  </a:lnTo>
                  <a:lnTo>
                    <a:pt x="349" y="539"/>
                  </a:lnTo>
                  <a:lnTo>
                    <a:pt x="91" y="49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066800">
              <a:off x="7802640" y="2022480"/>
              <a:ext cx="409320" cy="293760"/>
            </a:xfrm>
            <a:custGeom>
              <a:avLst/>
              <a:gdLst/>
              <a:ahLst/>
              <a:rect l="l" t="t" r="r" b="b"/>
              <a:pathLst>
                <a:path w="851" h="643">
                  <a:moveTo>
                    <a:pt x="851" y="109"/>
                  </a:moveTo>
                  <a:lnTo>
                    <a:pt x="671" y="13"/>
                  </a:lnTo>
                  <a:lnTo>
                    <a:pt x="578" y="0"/>
                  </a:lnTo>
                  <a:lnTo>
                    <a:pt x="447" y="13"/>
                  </a:lnTo>
                  <a:lnTo>
                    <a:pt x="332" y="50"/>
                  </a:lnTo>
                  <a:lnTo>
                    <a:pt x="223" y="100"/>
                  </a:lnTo>
                  <a:lnTo>
                    <a:pt x="152" y="148"/>
                  </a:lnTo>
                  <a:lnTo>
                    <a:pt x="83" y="222"/>
                  </a:lnTo>
                  <a:lnTo>
                    <a:pt x="33" y="293"/>
                  </a:lnTo>
                  <a:lnTo>
                    <a:pt x="6" y="370"/>
                  </a:lnTo>
                  <a:lnTo>
                    <a:pt x="0" y="435"/>
                  </a:lnTo>
                  <a:lnTo>
                    <a:pt x="21" y="503"/>
                  </a:lnTo>
                  <a:lnTo>
                    <a:pt x="64" y="570"/>
                  </a:lnTo>
                  <a:lnTo>
                    <a:pt x="136" y="619"/>
                  </a:lnTo>
                  <a:lnTo>
                    <a:pt x="216" y="643"/>
                  </a:lnTo>
                  <a:lnTo>
                    <a:pt x="407" y="394"/>
                  </a:lnTo>
                  <a:lnTo>
                    <a:pt x="195" y="435"/>
                  </a:lnTo>
                  <a:lnTo>
                    <a:pt x="368" y="293"/>
                  </a:lnTo>
                  <a:lnTo>
                    <a:pt x="157" y="357"/>
                  </a:lnTo>
                  <a:lnTo>
                    <a:pt x="302" y="231"/>
                  </a:lnTo>
                  <a:lnTo>
                    <a:pt x="161" y="270"/>
                  </a:lnTo>
                  <a:lnTo>
                    <a:pt x="245" y="158"/>
                  </a:lnTo>
                  <a:lnTo>
                    <a:pt x="324" y="106"/>
                  </a:lnTo>
                  <a:lnTo>
                    <a:pt x="398" y="80"/>
                  </a:lnTo>
                  <a:lnTo>
                    <a:pt x="494" y="64"/>
                  </a:lnTo>
                  <a:lnTo>
                    <a:pt x="580" y="63"/>
                  </a:lnTo>
                  <a:lnTo>
                    <a:pt x="851" y="109"/>
                  </a:lnTo>
                  <a:lnTo>
                    <a:pt x="85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066800">
              <a:off x="7899120" y="2058480"/>
              <a:ext cx="328680" cy="281160"/>
            </a:xfrm>
            <a:custGeom>
              <a:avLst/>
              <a:gdLst/>
              <a:ahLst/>
              <a:rect l="l" t="t" r="r" b="b"/>
              <a:pathLst>
                <a:path w="681" h="614">
                  <a:moveTo>
                    <a:pt x="470" y="0"/>
                  </a:moveTo>
                  <a:lnTo>
                    <a:pt x="307" y="114"/>
                  </a:lnTo>
                  <a:lnTo>
                    <a:pt x="496" y="89"/>
                  </a:lnTo>
                  <a:lnTo>
                    <a:pt x="364" y="177"/>
                  </a:lnTo>
                  <a:lnTo>
                    <a:pt x="549" y="159"/>
                  </a:lnTo>
                  <a:lnTo>
                    <a:pt x="408" y="249"/>
                  </a:lnTo>
                  <a:lnTo>
                    <a:pt x="539" y="233"/>
                  </a:lnTo>
                  <a:lnTo>
                    <a:pt x="468" y="327"/>
                  </a:lnTo>
                  <a:lnTo>
                    <a:pt x="396" y="383"/>
                  </a:lnTo>
                  <a:lnTo>
                    <a:pt x="294" y="422"/>
                  </a:lnTo>
                  <a:lnTo>
                    <a:pt x="226" y="436"/>
                  </a:lnTo>
                  <a:lnTo>
                    <a:pt x="98" y="445"/>
                  </a:lnTo>
                  <a:lnTo>
                    <a:pt x="0" y="603"/>
                  </a:lnTo>
                  <a:lnTo>
                    <a:pt x="87" y="613"/>
                  </a:lnTo>
                  <a:lnTo>
                    <a:pt x="181" y="614"/>
                  </a:lnTo>
                  <a:lnTo>
                    <a:pt x="281" y="595"/>
                  </a:lnTo>
                  <a:lnTo>
                    <a:pt x="382" y="561"/>
                  </a:lnTo>
                  <a:lnTo>
                    <a:pt x="479" y="510"/>
                  </a:lnTo>
                  <a:lnTo>
                    <a:pt x="565" y="439"/>
                  </a:lnTo>
                  <a:lnTo>
                    <a:pt x="625" y="357"/>
                  </a:lnTo>
                  <a:lnTo>
                    <a:pt x="672" y="273"/>
                  </a:lnTo>
                  <a:lnTo>
                    <a:pt x="681" y="199"/>
                  </a:lnTo>
                  <a:lnTo>
                    <a:pt x="674" y="132"/>
                  </a:lnTo>
                  <a:lnTo>
                    <a:pt x="630" y="65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066800">
              <a:off x="7914960" y="1047600"/>
              <a:ext cx="576360" cy="227160"/>
            </a:xfrm>
            <a:custGeom>
              <a:avLst/>
              <a:gdLst/>
              <a:ahLst/>
              <a:rect l="l" t="t" r="r" b="b"/>
              <a:pathLst>
                <a:path w="1197" h="497">
                  <a:moveTo>
                    <a:pt x="0" y="57"/>
                  </a:moveTo>
                  <a:lnTo>
                    <a:pt x="380" y="0"/>
                  </a:lnTo>
                  <a:lnTo>
                    <a:pt x="769" y="221"/>
                  </a:lnTo>
                  <a:lnTo>
                    <a:pt x="1197" y="255"/>
                  </a:lnTo>
                  <a:lnTo>
                    <a:pt x="908" y="491"/>
                  </a:lnTo>
                  <a:lnTo>
                    <a:pt x="674" y="497"/>
                  </a:lnTo>
                  <a:lnTo>
                    <a:pt x="345" y="431"/>
                  </a:lnTo>
                  <a:lnTo>
                    <a:pt x="124" y="49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066800">
              <a:off x="7569360" y="1052280"/>
              <a:ext cx="861840" cy="1003320"/>
            </a:xfrm>
            <a:custGeom>
              <a:avLst/>
              <a:gdLst/>
              <a:ahLst/>
              <a:rect l="l" t="t" r="r" b="b"/>
              <a:pathLst>
                <a:path w="1790" h="2197">
                  <a:moveTo>
                    <a:pt x="0" y="181"/>
                  </a:moveTo>
                  <a:lnTo>
                    <a:pt x="774" y="1068"/>
                  </a:lnTo>
                  <a:lnTo>
                    <a:pt x="552" y="1578"/>
                  </a:lnTo>
                  <a:lnTo>
                    <a:pt x="1655" y="2197"/>
                  </a:lnTo>
                  <a:lnTo>
                    <a:pt x="1732" y="2159"/>
                  </a:lnTo>
                  <a:lnTo>
                    <a:pt x="799" y="1510"/>
                  </a:lnTo>
                  <a:lnTo>
                    <a:pt x="1032" y="1027"/>
                  </a:lnTo>
                  <a:lnTo>
                    <a:pt x="567" y="474"/>
                  </a:lnTo>
                  <a:lnTo>
                    <a:pt x="737" y="392"/>
                  </a:lnTo>
                  <a:lnTo>
                    <a:pt x="815" y="378"/>
                  </a:lnTo>
                  <a:lnTo>
                    <a:pt x="889" y="374"/>
                  </a:lnTo>
                  <a:lnTo>
                    <a:pt x="973" y="388"/>
                  </a:lnTo>
                  <a:lnTo>
                    <a:pt x="1057" y="424"/>
                  </a:lnTo>
                  <a:lnTo>
                    <a:pt x="1167" y="449"/>
                  </a:lnTo>
                  <a:lnTo>
                    <a:pt x="1294" y="446"/>
                  </a:lnTo>
                  <a:lnTo>
                    <a:pt x="1396" y="420"/>
                  </a:lnTo>
                  <a:lnTo>
                    <a:pt x="1532" y="374"/>
                  </a:lnTo>
                  <a:lnTo>
                    <a:pt x="1614" y="311"/>
                  </a:lnTo>
                  <a:lnTo>
                    <a:pt x="1696" y="205"/>
                  </a:lnTo>
                  <a:lnTo>
                    <a:pt x="1757" y="106"/>
                  </a:lnTo>
                  <a:lnTo>
                    <a:pt x="1790" y="15"/>
                  </a:lnTo>
                  <a:lnTo>
                    <a:pt x="1519" y="191"/>
                  </a:lnTo>
                  <a:lnTo>
                    <a:pt x="1433" y="293"/>
                  </a:lnTo>
                  <a:lnTo>
                    <a:pt x="1311" y="358"/>
                  </a:lnTo>
                  <a:lnTo>
                    <a:pt x="1157" y="365"/>
                  </a:lnTo>
                  <a:lnTo>
                    <a:pt x="1057" y="325"/>
                  </a:lnTo>
                  <a:lnTo>
                    <a:pt x="966" y="285"/>
                  </a:lnTo>
                  <a:lnTo>
                    <a:pt x="872" y="279"/>
                  </a:lnTo>
                  <a:lnTo>
                    <a:pt x="674" y="313"/>
                  </a:lnTo>
                  <a:lnTo>
                    <a:pt x="881" y="204"/>
                  </a:lnTo>
                  <a:lnTo>
                    <a:pt x="624" y="211"/>
                  </a:lnTo>
                  <a:lnTo>
                    <a:pt x="816" y="121"/>
                  </a:lnTo>
                  <a:lnTo>
                    <a:pt x="594" y="120"/>
                  </a:lnTo>
                  <a:lnTo>
                    <a:pt x="759" y="32"/>
                  </a:lnTo>
                  <a:lnTo>
                    <a:pt x="546" y="0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066800">
              <a:off x="7718400" y="1017720"/>
              <a:ext cx="862200" cy="152280"/>
            </a:xfrm>
            <a:custGeom>
              <a:avLst/>
              <a:gdLst/>
              <a:ahLst/>
              <a:rect l="l" t="t" r="r" b="b"/>
              <a:pathLst>
                <a:path w="1786" h="330">
                  <a:moveTo>
                    <a:pt x="0" y="306"/>
                  </a:moveTo>
                  <a:lnTo>
                    <a:pt x="205" y="183"/>
                  </a:lnTo>
                  <a:lnTo>
                    <a:pt x="285" y="132"/>
                  </a:lnTo>
                  <a:lnTo>
                    <a:pt x="422" y="69"/>
                  </a:lnTo>
                  <a:lnTo>
                    <a:pt x="576" y="24"/>
                  </a:lnTo>
                  <a:lnTo>
                    <a:pt x="745" y="0"/>
                  </a:lnTo>
                  <a:lnTo>
                    <a:pt x="872" y="27"/>
                  </a:lnTo>
                  <a:lnTo>
                    <a:pt x="979" y="77"/>
                  </a:lnTo>
                  <a:lnTo>
                    <a:pt x="1093" y="151"/>
                  </a:lnTo>
                  <a:lnTo>
                    <a:pt x="1189" y="220"/>
                  </a:lnTo>
                  <a:lnTo>
                    <a:pt x="1298" y="250"/>
                  </a:lnTo>
                  <a:lnTo>
                    <a:pt x="1403" y="246"/>
                  </a:lnTo>
                  <a:lnTo>
                    <a:pt x="1545" y="223"/>
                  </a:lnTo>
                  <a:lnTo>
                    <a:pt x="1786" y="144"/>
                  </a:lnTo>
                  <a:lnTo>
                    <a:pt x="1542" y="311"/>
                  </a:lnTo>
                  <a:lnTo>
                    <a:pt x="1403" y="330"/>
                  </a:lnTo>
                  <a:lnTo>
                    <a:pt x="1285" y="320"/>
                  </a:lnTo>
                  <a:lnTo>
                    <a:pt x="1189" y="287"/>
                  </a:lnTo>
                  <a:lnTo>
                    <a:pt x="1082" y="208"/>
                  </a:lnTo>
                  <a:lnTo>
                    <a:pt x="976" y="132"/>
                  </a:lnTo>
                  <a:lnTo>
                    <a:pt x="887" y="96"/>
                  </a:lnTo>
                  <a:lnTo>
                    <a:pt x="758" y="84"/>
                  </a:lnTo>
                  <a:lnTo>
                    <a:pt x="619" y="101"/>
                  </a:lnTo>
                  <a:lnTo>
                    <a:pt x="526" y="142"/>
                  </a:lnTo>
                  <a:lnTo>
                    <a:pt x="200" y="32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779880" y="2284200"/>
            <a:ext cx="559080" cy="917640"/>
            <a:chOff x="6779880" y="2284200"/>
            <a:chExt cx="559080" cy="917640"/>
          </a:xfrm>
        </p:grpSpPr>
        <p:sp>
          <p:nvSpPr>
            <p:cNvPr id="164" name=""/>
            <p:cNvSpPr/>
            <p:nvPr/>
          </p:nvSpPr>
          <p:spPr>
            <a:xfrm rot="21596400">
              <a:off x="7070760" y="2998440"/>
              <a:ext cx="249120" cy="174600"/>
            </a:xfrm>
            <a:custGeom>
              <a:avLst/>
              <a:gdLst/>
              <a:ahLst/>
              <a:rect l="l" t="t" r="r" b="b"/>
              <a:pathLst>
                <a:path w="798" h="539">
                  <a:moveTo>
                    <a:pt x="0" y="286"/>
                  </a:moveTo>
                  <a:lnTo>
                    <a:pt x="167" y="103"/>
                  </a:lnTo>
                  <a:lnTo>
                    <a:pt x="323" y="15"/>
                  </a:lnTo>
                  <a:lnTo>
                    <a:pt x="631" y="0"/>
                  </a:lnTo>
                  <a:lnTo>
                    <a:pt x="798" y="191"/>
                  </a:lnTo>
                  <a:lnTo>
                    <a:pt x="653" y="436"/>
                  </a:lnTo>
                  <a:lnTo>
                    <a:pt x="349" y="539"/>
                  </a:lnTo>
                  <a:lnTo>
                    <a:pt x="91" y="49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1596400">
              <a:off x="7053120" y="2990520"/>
              <a:ext cx="266760" cy="208080"/>
            </a:xfrm>
            <a:custGeom>
              <a:avLst/>
              <a:gdLst/>
              <a:ahLst/>
              <a:rect l="l" t="t" r="r" b="b"/>
              <a:pathLst>
                <a:path w="851" h="643">
                  <a:moveTo>
                    <a:pt x="851" y="109"/>
                  </a:moveTo>
                  <a:lnTo>
                    <a:pt x="671" y="13"/>
                  </a:lnTo>
                  <a:lnTo>
                    <a:pt x="578" y="0"/>
                  </a:lnTo>
                  <a:lnTo>
                    <a:pt x="447" y="13"/>
                  </a:lnTo>
                  <a:lnTo>
                    <a:pt x="332" y="50"/>
                  </a:lnTo>
                  <a:lnTo>
                    <a:pt x="223" y="100"/>
                  </a:lnTo>
                  <a:lnTo>
                    <a:pt x="152" y="148"/>
                  </a:lnTo>
                  <a:lnTo>
                    <a:pt x="83" y="222"/>
                  </a:lnTo>
                  <a:lnTo>
                    <a:pt x="33" y="293"/>
                  </a:lnTo>
                  <a:lnTo>
                    <a:pt x="6" y="370"/>
                  </a:lnTo>
                  <a:lnTo>
                    <a:pt x="0" y="435"/>
                  </a:lnTo>
                  <a:lnTo>
                    <a:pt x="21" y="503"/>
                  </a:lnTo>
                  <a:lnTo>
                    <a:pt x="64" y="570"/>
                  </a:lnTo>
                  <a:lnTo>
                    <a:pt x="136" y="619"/>
                  </a:lnTo>
                  <a:lnTo>
                    <a:pt x="216" y="643"/>
                  </a:lnTo>
                  <a:lnTo>
                    <a:pt x="407" y="394"/>
                  </a:lnTo>
                  <a:lnTo>
                    <a:pt x="195" y="435"/>
                  </a:lnTo>
                  <a:lnTo>
                    <a:pt x="368" y="293"/>
                  </a:lnTo>
                  <a:lnTo>
                    <a:pt x="157" y="357"/>
                  </a:lnTo>
                  <a:lnTo>
                    <a:pt x="302" y="231"/>
                  </a:lnTo>
                  <a:lnTo>
                    <a:pt x="161" y="270"/>
                  </a:lnTo>
                  <a:lnTo>
                    <a:pt x="245" y="158"/>
                  </a:lnTo>
                  <a:lnTo>
                    <a:pt x="324" y="106"/>
                  </a:lnTo>
                  <a:lnTo>
                    <a:pt x="398" y="80"/>
                  </a:lnTo>
                  <a:lnTo>
                    <a:pt x="494" y="64"/>
                  </a:lnTo>
                  <a:lnTo>
                    <a:pt x="580" y="63"/>
                  </a:lnTo>
                  <a:lnTo>
                    <a:pt x="851" y="109"/>
                  </a:lnTo>
                  <a:lnTo>
                    <a:pt x="85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1596400">
              <a:off x="7121520" y="3001680"/>
              <a:ext cx="211320" cy="199800"/>
            </a:xfrm>
            <a:custGeom>
              <a:avLst/>
              <a:gdLst/>
              <a:ahLst/>
              <a:rect l="l" t="t" r="r" b="b"/>
              <a:pathLst>
                <a:path w="681" h="614">
                  <a:moveTo>
                    <a:pt x="470" y="0"/>
                  </a:moveTo>
                  <a:lnTo>
                    <a:pt x="307" y="114"/>
                  </a:lnTo>
                  <a:lnTo>
                    <a:pt x="496" y="89"/>
                  </a:lnTo>
                  <a:lnTo>
                    <a:pt x="364" y="177"/>
                  </a:lnTo>
                  <a:lnTo>
                    <a:pt x="549" y="159"/>
                  </a:lnTo>
                  <a:lnTo>
                    <a:pt x="408" y="249"/>
                  </a:lnTo>
                  <a:lnTo>
                    <a:pt x="539" y="233"/>
                  </a:lnTo>
                  <a:lnTo>
                    <a:pt x="468" y="327"/>
                  </a:lnTo>
                  <a:lnTo>
                    <a:pt x="396" y="383"/>
                  </a:lnTo>
                  <a:lnTo>
                    <a:pt x="294" y="422"/>
                  </a:lnTo>
                  <a:lnTo>
                    <a:pt x="226" y="436"/>
                  </a:lnTo>
                  <a:lnTo>
                    <a:pt x="98" y="445"/>
                  </a:lnTo>
                  <a:lnTo>
                    <a:pt x="0" y="603"/>
                  </a:lnTo>
                  <a:lnTo>
                    <a:pt x="87" y="613"/>
                  </a:lnTo>
                  <a:lnTo>
                    <a:pt x="181" y="614"/>
                  </a:lnTo>
                  <a:lnTo>
                    <a:pt x="281" y="595"/>
                  </a:lnTo>
                  <a:lnTo>
                    <a:pt x="382" y="561"/>
                  </a:lnTo>
                  <a:lnTo>
                    <a:pt x="479" y="510"/>
                  </a:lnTo>
                  <a:lnTo>
                    <a:pt x="565" y="439"/>
                  </a:lnTo>
                  <a:lnTo>
                    <a:pt x="625" y="357"/>
                  </a:lnTo>
                  <a:lnTo>
                    <a:pt x="672" y="273"/>
                  </a:lnTo>
                  <a:lnTo>
                    <a:pt x="681" y="199"/>
                  </a:lnTo>
                  <a:lnTo>
                    <a:pt x="674" y="132"/>
                  </a:lnTo>
                  <a:lnTo>
                    <a:pt x="630" y="65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1596400">
              <a:off x="6919920" y="2292480"/>
              <a:ext cx="372960" cy="160200"/>
            </a:xfrm>
            <a:custGeom>
              <a:avLst/>
              <a:gdLst/>
              <a:ahLst/>
              <a:rect l="l" t="t" r="r" b="b"/>
              <a:pathLst>
                <a:path w="1197" h="497">
                  <a:moveTo>
                    <a:pt x="0" y="57"/>
                  </a:moveTo>
                  <a:lnTo>
                    <a:pt x="380" y="0"/>
                  </a:lnTo>
                  <a:lnTo>
                    <a:pt x="769" y="221"/>
                  </a:lnTo>
                  <a:lnTo>
                    <a:pt x="1197" y="255"/>
                  </a:lnTo>
                  <a:lnTo>
                    <a:pt x="908" y="491"/>
                  </a:lnTo>
                  <a:lnTo>
                    <a:pt x="674" y="497"/>
                  </a:lnTo>
                  <a:lnTo>
                    <a:pt x="345" y="431"/>
                  </a:lnTo>
                  <a:lnTo>
                    <a:pt x="124" y="49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1596400">
              <a:off x="6780240" y="2327400"/>
              <a:ext cx="557280" cy="711000"/>
            </a:xfrm>
            <a:custGeom>
              <a:avLst/>
              <a:gdLst/>
              <a:ahLst/>
              <a:rect l="l" t="t" r="r" b="b"/>
              <a:pathLst>
                <a:path w="1790" h="2197">
                  <a:moveTo>
                    <a:pt x="0" y="181"/>
                  </a:moveTo>
                  <a:lnTo>
                    <a:pt x="774" y="1068"/>
                  </a:lnTo>
                  <a:lnTo>
                    <a:pt x="552" y="1578"/>
                  </a:lnTo>
                  <a:lnTo>
                    <a:pt x="1655" y="2197"/>
                  </a:lnTo>
                  <a:lnTo>
                    <a:pt x="1732" y="2159"/>
                  </a:lnTo>
                  <a:lnTo>
                    <a:pt x="799" y="1510"/>
                  </a:lnTo>
                  <a:lnTo>
                    <a:pt x="1032" y="1027"/>
                  </a:lnTo>
                  <a:lnTo>
                    <a:pt x="567" y="474"/>
                  </a:lnTo>
                  <a:lnTo>
                    <a:pt x="737" y="392"/>
                  </a:lnTo>
                  <a:lnTo>
                    <a:pt x="815" y="378"/>
                  </a:lnTo>
                  <a:lnTo>
                    <a:pt x="889" y="374"/>
                  </a:lnTo>
                  <a:lnTo>
                    <a:pt x="973" y="388"/>
                  </a:lnTo>
                  <a:lnTo>
                    <a:pt x="1057" y="424"/>
                  </a:lnTo>
                  <a:lnTo>
                    <a:pt x="1167" y="449"/>
                  </a:lnTo>
                  <a:lnTo>
                    <a:pt x="1294" y="446"/>
                  </a:lnTo>
                  <a:lnTo>
                    <a:pt x="1396" y="420"/>
                  </a:lnTo>
                  <a:lnTo>
                    <a:pt x="1532" y="374"/>
                  </a:lnTo>
                  <a:lnTo>
                    <a:pt x="1614" y="311"/>
                  </a:lnTo>
                  <a:lnTo>
                    <a:pt x="1696" y="205"/>
                  </a:lnTo>
                  <a:lnTo>
                    <a:pt x="1757" y="106"/>
                  </a:lnTo>
                  <a:lnTo>
                    <a:pt x="1790" y="15"/>
                  </a:lnTo>
                  <a:lnTo>
                    <a:pt x="1519" y="191"/>
                  </a:lnTo>
                  <a:lnTo>
                    <a:pt x="1433" y="293"/>
                  </a:lnTo>
                  <a:lnTo>
                    <a:pt x="1311" y="358"/>
                  </a:lnTo>
                  <a:lnTo>
                    <a:pt x="1157" y="365"/>
                  </a:lnTo>
                  <a:lnTo>
                    <a:pt x="1057" y="325"/>
                  </a:lnTo>
                  <a:lnTo>
                    <a:pt x="966" y="285"/>
                  </a:lnTo>
                  <a:lnTo>
                    <a:pt x="872" y="279"/>
                  </a:lnTo>
                  <a:lnTo>
                    <a:pt x="674" y="313"/>
                  </a:lnTo>
                  <a:lnTo>
                    <a:pt x="881" y="204"/>
                  </a:lnTo>
                  <a:lnTo>
                    <a:pt x="624" y="211"/>
                  </a:lnTo>
                  <a:lnTo>
                    <a:pt x="816" y="121"/>
                  </a:lnTo>
                  <a:lnTo>
                    <a:pt x="594" y="120"/>
                  </a:lnTo>
                  <a:lnTo>
                    <a:pt x="759" y="32"/>
                  </a:lnTo>
                  <a:lnTo>
                    <a:pt x="546" y="0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1596400">
              <a:off x="6781680" y="2284560"/>
              <a:ext cx="557280" cy="107640"/>
            </a:xfrm>
            <a:custGeom>
              <a:avLst/>
              <a:gdLst/>
              <a:ahLst/>
              <a:rect l="l" t="t" r="r" b="b"/>
              <a:pathLst>
                <a:path w="1786" h="330">
                  <a:moveTo>
                    <a:pt x="0" y="306"/>
                  </a:moveTo>
                  <a:lnTo>
                    <a:pt x="205" y="183"/>
                  </a:lnTo>
                  <a:lnTo>
                    <a:pt x="285" y="132"/>
                  </a:lnTo>
                  <a:lnTo>
                    <a:pt x="422" y="69"/>
                  </a:lnTo>
                  <a:lnTo>
                    <a:pt x="576" y="24"/>
                  </a:lnTo>
                  <a:lnTo>
                    <a:pt x="745" y="0"/>
                  </a:lnTo>
                  <a:lnTo>
                    <a:pt x="872" y="27"/>
                  </a:lnTo>
                  <a:lnTo>
                    <a:pt x="979" y="77"/>
                  </a:lnTo>
                  <a:lnTo>
                    <a:pt x="1093" y="151"/>
                  </a:lnTo>
                  <a:lnTo>
                    <a:pt x="1189" y="220"/>
                  </a:lnTo>
                  <a:lnTo>
                    <a:pt x="1298" y="250"/>
                  </a:lnTo>
                  <a:lnTo>
                    <a:pt x="1403" y="246"/>
                  </a:lnTo>
                  <a:lnTo>
                    <a:pt x="1545" y="223"/>
                  </a:lnTo>
                  <a:lnTo>
                    <a:pt x="1786" y="144"/>
                  </a:lnTo>
                  <a:lnTo>
                    <a:pt x="1542" y="311"/>
                  </a:lnTo>
                  <a:lnTo>
                    <a:pt x="1403" y="330"/>
                  </a:lnTo>
                  <a:lnTo>
                    <a:pt x="1285" y="320"/>
                  </a:lnTo>
                  <a:lnTo>
                    <a:pt x="1189" y="287"/>
                  </a:lnTo>
                  <a:lnTo>
                    <a:pt x="1082" y="208"/>
                  </a:lnTo>
                  <a:lnTo>
                    <a:pt x="976" y="132"/>
                  </a:lnTo>
                  <a:lnTo>
                    <a:pt x="887" y="96"/>
                  </a:lnTo>
                  <a:lnTo>
                    <a:pt x="758" y="84"/>
                  </a:lnTo>
                  <a:lnTo>
                    <a:pt x="619" y="101"/>
                  </a:lnTo>
                  <a:lnTo>
                    <a:pt x="526" y="142"/>
                  </a:lnTo>
                  <a:lnTo>
                    <a:pt x="200" y="32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 Narrow"/>
              </a:rPr>
              <a:t>從大自然中取材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石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貝殼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樹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5943600" y="2057400"/>
            <a:ext cx="2514600" cy="1905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2895480" y="4341960"/>
            <a:ext cx="2556000" cy="1906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5943600" y="4341960"/>
            <a:ext cx="251460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 Narrow"/>
              </a:rPr>
              <a:t>從生活環境中取材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吸管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錢幣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玻璃杯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鍋碗瓢盆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6172200" y="4419720"/>
            <a:ext cx="2389320" cy="1861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3048120" y="4398840"/>
            <a:ext cx="2590560" cy="1895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172200" y="1981080"/>
            <a:ext cx="23623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8:18:46Z</dcterms:created>
  <dc:creator>e049</dc:creator>
  <dc:description/>
  <dc:language>en-US</dc:language>
  <cp:lastModifiedBy>思蓉</cp:lastModifiedBy>
  <dcterms:modified xsi:type="dcterms:W3CDTF">2003-05-19T05:48:54Z</dcterms:modified>
  <cp:revision>5</cp:revision>
  <dc:subject/>
  <dc:title>PowerPoint 簡報</dc:title>
</cp:coreProperties>
</file>