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EE7-A1EC-4428-B76E-BF0188C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F8E-B49C-43A6-A060-8039B945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444-CE32-42A9-8DC0-3B1A14F1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8AF-C025-4CB0-99F2-A13C0CD9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3A6-971C-44EF-A924-ECC35D9D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8BD-6A56-412A-BFBB-B6496CA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243-D5AA-45B6-B2C7-1D8719C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784-6E92-4FF9-AD4A-5511164B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AA-6142-4F8C-BB87-8314BBC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81A-5573-4E38-BA06-5FCD04D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FD1-BF83-46FE-80D8-620ABCC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C7F-B446-41D1-8544-816CD87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D86-21D6-43AC-96EB-2C31F017810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 rot="19800">
            <a:off x="1817640" y="1674720"/>
            <a:ext cx="5562720" cy="3587760"/>
          </a:xfrm>
          <a:prstGeom prst="cloudCallout">
            <a:avLst>
              <a:gd name="adj1" fmla="val -27856"/>
              <a:gd name="adj2" fmla="val 3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3300"/>
                </a:solidFill>
                <a:latin typeface="華康少女文字W5"/>
                <a:ea typeface="華康少女文字W5"/>
              </a:rPr>
              <a:t> </a:t>
            </a:r>
            <a:r>
              <a:rPr b="1" lang="zh-TW" sz="4400" spc="-1" strike="noStrike">
                <a:solidFill>
                  <a:srgbClr val="663300"/>
                </a:solidFill>
                <a:latin typeface="華康少女文字W5"/>
                <a:ea typeface="華康少女文字W5"/>
              </a:rPr>
              <a:t>比賽公告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時間：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10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月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5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      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下午 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-5 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地點：學校大操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57200"/>
            <a:ext cx="8534160" cy="13716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05120 h 1371600"/>
              <a:gd name="textAreaBottom" fmla="*/ 10270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26"/>
                </a:moveTo>
                <a:arcTo wR="21600" hR="22721" stAng="-7125666" swAng="463564"/>
                <a:lnTo>
                  <a:pt x="2700" y="1658"/>
                </a:lnTo>
                <a:arcTo wR="21600" hR="22721" stAng="-6662103" swAng="2524206"/>
                <a:lnTo>
                  <a:pt x="18900" y="4040"/>
                </a:lnTo>
                <a:arcTo wR="21600" hR="22721" stAng="-4137897" swAng="463564"/>
                <a:lnTo>
                  <a:pt x="18900" y="12127"/>
                </a:lnTo>
                <a:lnTo>
                  <a:pt x="21600" y="21600"/>
                </a:lnTo>
                <a:lnTo>
                  <a:pt x="21600" y="21600"/>
                </a:lnTo>
                <a:arcTo wR="21600" hR="22721" stAng="-3674334" swAng="-898188"/>
                <a:lnTo>
                  <a:pt x="16200" y="16895"/>
                </a:lnTo>
                <a:arcTo wR="21600" hR="22721" stAng="-4572522" swAng="-1654956"/>
                <a:lnTo>
                  <a:pt x="5400" y="19277"/>
                </a:lnTo>
                <a:arcTo wR="21600" hR="22721" stAng="-6227478" swAng="-898188"/>
                <a:lnTo>
                  <a:pt x="2700" y="12127"/>
                </a:lnTo>
                <a:close/>
              </a:path>
              <a:path fill="none" w="21600" h="21600">
                <a:moveTo>
                  <a:pt x="5400" y="16895"/>
                </a:moveTo>
                <a:arcTo wR="21600" hR="22721" stAng="-6227478" swAng="-434625"/>
                <a:lnTo>
                  <a:pt x="5400" y="19277"/>
                </a:lnTo>
              </a:path>
              <a:path fill="none" w="21600" h="21600">
                <a:moveTo>
                  <a:pt x="16200" y="16895"/>
                </a:moveTo>
                <a:arcTo wR="21600" hR="22721" stAng="-4572522" swAng="434625"/>
                <a:lnTo>
                  <a:pt x="16200" y="19277"/>
                </a:lnTo>
              </a:path>
              <a:path fill="none" w="21600" h="21600">
                <a:moveTo>
                  <a:pt x="2700" y="4040"/>
                </a:moveTo>
                <a:lnTo>
                  <a:pt x="2700" y="17832"/>
                </a:lnTo>
              </a:path>
              <a:path fill="none" w="21600" h="21600">
                <a:moveTo>
                  <a:pt x="18900" y="4040"/>
                </a:moveTo>
                <a:lnTo>
                  <a:pt x="18900" y="17832"/>
                </a:lnTo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66cc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少女文字W5"/>
                <a:ea typeface="華康少女文字W5"/>
              </a:rPr>
              <a:t>高年級棒球大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65880" y="3682440"/>
            <a:ext cx="4698360" cy="2817720"/>
            <a:chOff x="965880" y="3682440"/>
            <a:chExt cx="4698360" cy="2817720"/>
          </a:xfrm>
        </p:grpSpPr>
        <p:sp>
          <p:nvSpPr>
            <p:cNvPr id="44" name=""/>
            <p:cNvSpPr/>
            <p:nvPr/>
          </p:nvSpPr>
          <p:spPr>
            <a:xfrm rot="17682600">
              <a:off x="2874600" y="2715480"/>
              <a:ext cx="880560" cy="4766760"/>
            </a:xfrm>
            <a:custGeom>
              <a:avLst/>
              <a:gdLst/>
              <a:ahLst/>
              <a:rect l="l" t="t" r="r" b="b"/>
              <a:pathLst>
                <a:path w="415" h="2011">
                  <a:moveTo>
                    <a:pt x="29" y="1992"/>
                  </a:moveTo>
                  <a:lnTo>
                    <a:pt x="21" y="1990"/>
                  </a:lnTo>
                  <a:lnTo>
                    <a:pt x="16" y="1986"/>
                  </a:lnTo>
                  <a:lnTo>
                    <a:pt x="10" y="1982"/>
                  </a:lnTo>
                  <a:lnTo>
                    <a:pt x="6" y="1976"/>
                  </a:lnTo>
                  <a:lnTo>
                    <a:pt x="2" y="1970"/>
                  </a:lnTo>
                  <a:lnTo>
                    <a:pt x="0" y="1965"/>
                  </a:lnTo>
                  <a:lnTo>
                    <a:pt x="0" y="1957"/>
                  </a:lnTo>
                  <a:lnTo>
                    <a:pt x="0" y="1951"/>
                  </a:lnTo>
                  <a:lnTo>
                    <a:pt x="2" y="1944"/>
                  </a:lnTo>
                  <a:lnTo>
                    <a:pt x="6" y="1938"/>
                  </a:lnTo>
                  <a:lnTo>
                    <a:pt x="10" y="1930"/>
                  </a:lnTo>
                  <a:lnTo>
                    <a:pt x="16" y="1924"/>
                  </a:lnTo>
                  <a:lnTo>
                    <a:pt x="21" y="1919"/>
                  </a:lnTo>
                  <a:lnTo>
                    <a:pt x="31" y="1915"/>
                  </a:lnTo>
                  <a:lnTo>
                    <a:pt x="41" y="1911"/>
                  </a:lnTo>
                  <a:lnTo>
                    <a:pt x="50" y="1907"/>
                  </a:lnTo>
                  <a:lnTo>
                    <a:pt x="60" y="1863"/>
                  </a:lnTo>
                  <a:lnTo>
                    <a:pt x="69" y="1794"/>
                  </a:lnTo>
                  <a:lnTo>
                    <a:pt x="79" y="1708"/>
                  </a:lnTo>
                  <a:lnTo>
                    <a:pt x="87" y="1612"/>
                  </a:lnTo>
                  <a:lnTo>
                    <a:pt x="89" y="1564"/>
                  </a:lnTo>
                  <a:lnTo>
                    <a:pt x="90" y="1516"/>
                  </a:lnTo>
                  <a:lnTo>
                    <a:pt x="92" y="1470"/>
                  </a:lnTo>
                  <a:lnTo>
                    <a:pt x="92" y="1426"/>
                  </a:lnTo>
                  <a:lnTo>
                    <a:pt x="90" y="1387"/>
                  </a:lnTo>
                  <a:lnTo>
                    <a:pt x="89" y="1351"/>
                  </a:lnTo>
                  <a:lnTo>
                    <a:pt x="83" y="1322"/>
                  </a:lnTo>
                  <a:lnTo>
                    <a:pt x="77" y="1299"/>
                  </a:lnTo>
                  <a:lnTo>
                    <a:pt x="69" y="1251"/>
                  </a:lnTo>
                  <a:lnTo>
                    <a:pt x="66" y="1194"/>
                  </a:lnTo>
                  <a:lnTo>
                    <a:pt x="62" y="1128"/>
                  </a:lnTo>
                  <a:lnTo>
                    <a:pt x="60" y="1057"/>
                  </a:lnTo>
                  <a:lnTo>
                    <a:pt x="60" y="902"/>
                  </a:lnTo>
                  <a:lnTo>
                    <a:pt x="62" y="741"/>
                  </a:lnTo>
                  <a:lnTo>
                    <a:pt x="67" y="587"/>
                  </a:lnTo>
                  <a:lnTo>
                    <a:pt x="73" y="453"/>
                  </a:lnTo>
                  <a:lnTo>
                    <a:pt x="79" y="351"/>
                  </a:lnTo>
                  <a:lnTo>
                    <a:pt x="81" y="296"/>
                  </a:lnTo>
                  <a:lnTo>
                    <a:pt x="81" y="261"/>
                  </a:lnTo>
                  <a:lnTo>
                    <a:pt x="83" y="215"/>
                  </a:lnTo>
                  <a:lnTo>
                    <a:pt x="83" y="190"/>
                  </a:lnTo>
                  <a:lnTo>
                    <a:pt x="87" y="165"/>
                  </a:lnTo>
                  <a:lnTo>
                    <a:pt x="90" y="138"/>
                  </a:lnTo>
                  <a:lnTo>
                    <a:pt x="96" y="113"/>
                  </a:lnTo>
                  <a:lnTo>
                    <a:pt x="106" y="90"/>
                  </a:lnTo>
                  <a:lnTo>
                    <a:pt x="117" y="67"/>
                  </a:lnTo>
                  <a:lnTo>
                    <a:pt x="123" y="58"/>
                  </a:lnTo>
                  <a:lnTo>
                    <a:pt x="131" y="46"/>
                  </a:lnTo>
                  <a:lnTo>
                    <a:pt x="140" y="39"/>
                  </a:lnTo>
                  <a:lnTo>
                    <a:pt x="150" y="29"/>
                  </a:lnTo>
                  <a:lnTo>
                    <a:pt x="161" y="23"/>
                  </a:lnTo>
                  <a:lnTo>
                    <a:pt x="173" y="16"/>
                  </a:lnTo>
                  <a:lnTo>
                    <a:pt x="186" y="10"/>
                  </a:lnTo>
                  <a:lnTo>
                    <a:pt x="200" y="6"/>
                  </a:lnTo>
                  <a:lnTo>
                    <a:pt x="215" y="2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71" y="0"/>
                  </a:lnTo>
                  <a:lnTo>
                    <a:pt x="290" y="2"/>
                  </a:lnTo>
                  <a:lnTo>
                    <a:pt x="307" y="6"/>
                  </a:lnTo>
                  <a:lnTo>
                    <a:pt x="323" y="10"/>
                  </a:lnTo>
                  <a:lnTo>
                    <a:pt x="338" y="14"/>
                  </a:lnTo>
                  <a:lnTo>
                    <a:pt x="351" y="21"/>
                  </a:lnTo>
                  <a:lnTo>
                    <a:pt x="363" y="27"/>
                  </a:lnTo>
                  <a:lnTo>
                    <a:pt x="373" y="37"/>
                  </a:lnTo>
                  <a:lnTo>
                    <a:pt x="382" y="44"/>
                  </a:lnTo>
                  <a:lnTo>
                    <a:pt x="390" y="54"/>
                  </a:lnTo>
                  <a:lnTo>
                    <a:pt x="396" y="65"/>
                  </a:lnTo>
                  <a:lnTo>
                    <a:pt x="401" y="75"/>
                  </a:lnTo>
                  <a:lnTo>
                    <a:pt x="405" y="87"/>
                  </a:lnTo>
                  <a:lnTo>
                    <a:pt x="413" y="112"/>
                  </a:lnTo>
                  <a:lnTo>
                    <a:pt x="415" y="138"/>
                  </a:lnTo>
                  <a:lnTo>
                    <a:pt x="415" y="165"/>
                  </a:lnTo>
                  <a:lnTo>
                    <a:pt x="413" y="194"/>
                  </a:lnTo>
                  <a:lnTo>
                    <a:pt x="411" y="223"/>
                  </a:lnTo>
                  <a:lnTo>
                    <a:pt x="405" y="250"/>
                  </a:lnTo>
                  <a:lnTo>
                    <a:pt x="396" y="305"/>
                  </a:lnTo>
                  <a:lnTo>
                    <a:pt x="388" y="351"/>
                  </a:lnTo>
                  <a:lnTo>
                    <a:pt x="380" y="424"/>
                  </a:lnTo>
                  <a:lnTo>
                    <a:pt x="369" y="543"/>
                  </a:lnTo>
                  <a:lnTo>
                    <a:pt x="353" y="691"/>
                  </a:lnTo>
                  <a:lnTo>
                    <a:pt x="334" y="854"/>
                  </a:lnTo>
                  <a:lnTo>
                    <a:pt x="313" y="1015"/>
                  </a:lnTo>
                  <a:lnTo>
                    <a:pt x="292" y="1155"/>
                  </a:lnTo>
                  <a:lnTo>
                    <a:pt x="282" y="1213"/>
                  </a:lnTo>
                  <a:lnTo>
                    <a:pt x="271" y="1259"/>
                  </a:lnTo>
                  <a:lnTo>
                    <a:pt x="265" y="1278"/>
                  </a:lnTo>
                  <a:lnTo>
                    <a:pt x="261" y="1291"/>
                  </a:lnTo>
                  <a:lnTo>
                    <a:pt x="255" y="1303"/>
                  </a:lnTo>
                  <a:lnTo>
                    <a:pt x="250" y="1311"/>
                  </a:lnTo>
                  <a:lnTo>
                    <a:pt x="246" y="1316"/>
                  </a:lnTo>
                  <a:lnTo>
                    <a:pt x="240" y="1326"/>
                  </a:lnTo>
                  <a:lnTo>
                    <a:pt x="236" y="1337"/>
                  </a:lnTo>
                  <a:lnTo>
                    <a:pt x="232" y="1351"/>
                  </a:lnTo>
                  <a:lnTo>
                    <a:pt x="223" y="1383"/>
                  </a:lnTo>
                  <a:lnTo>
                    <a:pt x="215" y="1422"/>
                  </a:lnTo>
                  <a:lnTo>
                    <a:pt x="202" y="1516"/>
                  </a:lnTo>
                  <a:lnTo>
                    <a:pt x="190" y="1619"/>
                  </a:lnTo>
                  <a:lnTo>
                    <a:pt x="183" y="1723"/>
                  </a:lnTo>
                  <a:lnTo>
                    <a:pt x="175" y="1813"/>
                  </a:lnTo>
                  <a:lnTo>
                    <a:pt x="171" y="1882"/>
                  </a:lnTo>
                  <a:lnTo>
                    <a:pt x="171" y="1917"/>
                  </a:lnTo>
                  <a:lnTo>
                    <a:pt x="183" y="1924"/>
                  </a:lnTo>
                  <a:lnTo>
                    <a:pt x="192" y="1934"/>
                  </a:lnTo>
                  <a:lnTo>
                    <a:pt x="202" y="1944"/>
                  </a:lnTo>
                  <a:lnTo>
                    <a:pt x="208" y="1955"/>
                  </a:lnTo>
                  <a:lnTo>
                    <a:pt x="211" y="1967"/>
                  </a:lnTo>
                  <a:lnTo>
                    <a:pt x="211" y="1978"/>
                  </a:lnTo>
                  <a:lnTo>
                    <a:pt x="209" y="1984"/>
                  </a:lnTo>
                  <a:lnTo>
                    <a:pt x="208" y="1990"/>
                  </a:lnTo>
                  <a:lnTo>
                    <a:pt x="204" y="1993"/>
                  </a:lnTo>
                  <a:lnTo>
                    <a:pt x="198" y="1999"/>
                  </a:lnTo>
                  <a:lnTo>
                    <a:pt x="192" y="2003"/>
                  </a:lnTo>
                  <a:lnTo>
                    <a:pt x="184" y="2005"/>
                  </a:lnTo>
                  <a:lnTo>
                    <a:pt x="177" y="2009"/>
                  </a:lnTo>
                  <a:lnTo>
                    <a:pt x="167" y="2011"/>
                  </a:lnTo>
                  <a:lnTo>
                    <a:pt x="148" y="2011"/>
                  </a:lnTo>
                  <a:lnTo>
                    <a:pt x="125" y="2011"/>
                  </a:lnTo>
                  <a:lnTo>
                    <a:pt x="102" y="2007"/>
                  </a:lnTo>
                  <a:lnTo>
                    <a:pt x="77" y="2003"/>
                  </a:lnTo>
                  <a:lnTo>
                    <a:pt x="52" y="1997"/>
                  </a:lnTo>
                  <a:lnTo>
                    <a:pt x="29" y="199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7682600">
              <a:off x="5113440" y="6267600"/>
              <a:ext cx="141840" cy="23688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51" y="6"/>
                  </a:moveTo>
                  <a:lnTo>
                    <a:pt x="57" y="0"/>
                  </a:lnTo>
                  <a:lnTo>
                    <a:pt x="46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0"/>
                  </a:lnTo>
                  <a:lnTo>
                    <a:pt x="13" y="27"/>
                  </a:lnTo>
                  <a:lnTo>
                    <a:pt x="7" y="35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81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0" y="85"/>
                  </a:lnTo>
                  <a:lnTo>
                    <a:pt x="34" y="83"/>
                  </a:lnTo>
                  <a:lnTo>
                    <a:pt x="28" y="81"/>
                  </a:lnTo>
                  <a:lnTo>
                    <a:pt x="25" y="77"/>
                  </a:lnTo>
                  <a:lnTo>
                    <a:pt x="21" y="73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2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6" y="27"/>
                  </a:lnTo>
                  <a:lnTo>
                    <a:pt x="44" y="22"/>
                  </a:lnTo>
                  <a:lnTo>
                    <a:pt x="51" y="18"/>
                  </a:lnTo>
                  <a:lnTo>
                    <a:pt x="61" y="16"/>
                  </a:lnTo>
                  <a:lnTo>
                    <a:pt x="67" y="10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67" y="10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7682600">
              <a:off x="4419360" y="5229000"/>
              <a:ext cx="122400" cy="1450080"/>
            </a:xfrm>
            <a:custGeom>
              <a:avLst/>
              <a:gdLst/>
              <a:ahLst/>
              <a:rect l="l" t="t" r="r" b="b"/>
              <a:pathLst>
                <a:path w="58" h="612">
                  <a:moveTo>
                    <a:pt x="27" y="4"/>
                  </a:moveTo>
                  <a:lnTo>
                    <a:pt x="27" y="6"/>
                  </a:lnTo>
                  <a:lnTo>
                    <a:pt x="33" y="27"/>
                  </a:lnTo>
                  <a:lnTo>
                    <a:pt x="37" y="56"/>
                  </a:lnTo>
                  <a:lnTo>
                    <a:pt x="41" y="90"/>
                  </a:lnTo>
                  <a:lnTo>
                    <a:pt x="43" y="129"/>
                  </a:lnTo>
                  <a:lnTo>
                    <a:pt x="43" y="173"/>
                  </a:lnTo>
                  <a:lnTo>
                    <a:pt x="41" y="219"/>
                  </a:lnTo>
                  <a:lnTo>
                    <a:pt x="39" y="267"/>
                  </a:lnTo>
                  <a:lnTo>
                    <a:pt x="37" y="315"/>
                  </a:lnTo>
                  <a:lnTo>
                    <a:pt x="29" y="411"/>
                  </a:lnTo>
                  <a:lnTo>
                    <a:pt x="20" y="497"/>
                  </a:lnTo>
                  <a:lnTo>
                    <a:pt x="10" y="564"/>
                  </a:lnTo>
                  <a:lnTo>
                    <a:pt x="0" y="608"/>
                  </a:lnTo>
                  <a:lnTo>
                    <a:pt x="16" y="612"/>
                  </a:lnTo>
                  <a:lnTo>
                    <a:pt x="25" y="568"/>
                  </a:lnTo>
                  <a:lnTo>
                    <a:pt x="35" y="499"/>
                  </a:lnTo>
                  <a:lnTo>
                    <a:pt x="45" y="413"/>
                  </a:lnTo>
                  <a:lnTo>
                    <a:pt x="52" y="317"/>
                  </a:lnTo>
                  <a:lnTo>
                    <a:pt x="54" y="267"/>
                  </a:lnTo>
                  <a:lnTo>
                    <a:pt x="58" y="219"/>
                  </a:lnTo>
                  <a:lnTo>
                    <a:pt x="58" y="173"/>
                  </a:lnTo>
                  <a:lnTo>
                    <a:pt x="58" y="129"/>
                  </a:lnTo>
                  <a:lnTo>
                    <a:pt x="56" y="88"/>
                  </a:lnTo>
                  <a:lnTo>
                    <a:pt x="54" y="54"/>
                  </a:lnTo>
                  <a:lnTo>
                    <a:pt x="48" y="23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7682600">
              <a:off x="2705760" y="3968640"/>
              <a:ext cx="82440" cy="2381760"/>
            </a:xfrm>
            <a:custGeom>
              <a:avLst/>
              <a:gdLst/>
              <a:ahLst/>
              <a:rect l="l" t="t" r="r" b="b"/>
              <a:pathLst>
                <a:path w="39" h="1005">
                  <a:moveTo>
                    <a:pt x="23" y="0"/>
                  </a:moveTo>
                  <a:lnTo>
                    <a:pt x="23" y="0"/>
                  </a:lnTo>
                  <a:lnTo>
                    <a:pt x="21" y="55"/>
                  </a:lnTo>
                  <a:lnTo>
                    <a:pt x="16" y="157"/>
                  </a:lnTo>
                  <a:lnTo>
                    <a:pt x="10" y="291"/>
                  </a:lnTo>
                  <a:lnTo>
                    <a:pt x="4" y="445"/>
                  </a:lnTo>
                  <a:lnTo>
                    <a:pt x="0" y="606"/>
                  </a:lnTo>
                  <a:lnTo>
                    <a:pt x="2" y="761"/>
                  </a:lnTo>
                  <a:lnTo>
                    <a:pt x="4" y="832"/>
                  </a:lnTo>
                  <a:lnTo>
                    <a:pt x="6" y="899"/>
                  </a:lnTo>
                  <a:lnTo>
                    <a:pt x="12" y="957"/>
                  </a:lnTo>
                  <a:lnTo>
                    <a:pt x="19" y="1005"/>
                  </a:lnTo>
                  <a:lnTo>
                    <a:pt x="35" y="1003"/>
                  </a:lnTo>
                  <a:lnTo>
                    <a:pt x="27" y="955"/>
                  </a:lnTo>
                  <a:lnTo>
                    <a:pt x="23" y="898"/>
                  </a:lnTo>
                  <a:lnTo>
                    <a:pt x="19" y="832"/>
                  </a:lnTo>
                  <a:lnTo>
                    <a:pt x="17" y="761"/>
                  </a:lnTo>
                  <a:lnTo>
                    <a:pt x="17" y="606"/>
                  </a:lnTo>
                  <a:lnTo>
                    <a:pt x="19" y="445"/>
                  </a:lnTo>
                  <a:lnTo>
                    <a:pt x="25" y="291"/>
                  </a:lnTo>
                  <a:lnTo>
                    <a:pt x="31" y="157"/>
                  </a:lnTo>
                  <a:lnTo>
                    <a:pt x="37" y="5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7682600">
              <a:off x="1219680" y="3954960"/>
              <a:ext cx="419760" cy="718560"/>
            </a:xfrm>
            <a:custGeom>
              <a:avLst/>
              <a:gdLst/>
              <a:ahLst/>
              <a:rect l="l" t="t" r="r" b="b"/>
              <a:pathLst>
                <a:path w="198" h="303">
                  <a:moveTo>
                    <a:pt x="198" y="0"/>
                  </a:moveTo>
                  <a:lnTo>
                    <a:pt x="198" y="0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2" y="2"/>
                  </a:lnTo>
                  <a:lnTo>
                    <a:pt x="125" y="5"/>
                  </a:lnTo>
                  <a:lnTo>
                    <a:pt x="110" y="9"/>
                  </a:lnTo>
                  <a:lnTo>
                    <a:pt x="96" y="15"/>
                  </a:lnTo>
                  <a:lnTo>
                    <a:pt x="85" y="23"/>
                  </a:lnTo>
                  <a:lnTo>
                    <a:pt x="73" y="30"/>
                  </a:lnTo>
                  <a:lnTo>
                    <a:pt x="62" y="40"/>
                  </a:lnTo>
                  <a:lnTo>
                    <a:pt x="52" y="49"/>
                  </a:lnTo>
                  <a:lnTo>
                    <a:pt x="44" y="59"/>
                  </a:lnTo>
                  <a:lnTo>
                    <a:pt x="37" y="71"/>
                  </a:lnTo>
                  <a:lnTo>
                    <a:pt x="25" y="94"/>
                  </a:lnTo>
                  <a:lnTo>
                    <a:pt x="16" y="119"/>
                  </a:lnTo>
                  <a:lnTo>
                    <a:pt x="10" y="145"/>
                  </a:lnTo>
                  <a:lnTo>
                    <a:pt x="4" y="170"/>
                  </a:lnTo>
                  <a:lnTo>
                    <a:pt x="2" y="197"/>
                  </a:lnTo>
                  <a:lnTo>
                    <a:pt x="0" y="222"/>
                  </a:lnTo>
                  <a:lnTo>
                    <a:pt x="0" y="268"/>
                  </a:lnTo>
                  <a:lnTo>
                    <a:pt x="0" y="303"/>
                  </a:lnTo>
                  <a:lnTo>
                    <a:pt x="16" y="303"/>
                  </a:lnTo>
                  <a:lnTo>
                    <a:pt x="17" y="268"/>
                  </a:lnTo>
                  <a:lnTo>
                    <a:pt x="17" y="222"/>
                  </a:lnTo>
                  <a:lnTo>
                    <a:pt x="17" y="197"/>
                  </a:lnTo>
                  <a:lnTo>
                    <a:pt x="21" y="172"/>
                  </a:lnTo>
                  <a:lnTo>
                    <a:pt x="25" y="147"/>
                  </a:lnTo>
                  <a:lnTo>
                    <a:pt x="31" y="124"/>
                  </a:lnTo>
                  <a:lnTo>
                    <a:pt x="39" y="99"/>
                  </a:lnTo>
                  <a:lnTo>
                    <a:pt x="50" y="78"/>
                  </a:lnTo>
                  <a:lnTo>
                    <a:pt x="58" y="69"/>
                  </a:lnTo>
                  <a:lnTo>
                    <a:pt x="64" y="59"/>
                  </a:lnTo>
                  <a:lnTo>
                    <a:pt x="73" y="51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5" y="25"/>
                  </a:lnTo>
                  <a:lnTo>
                    <a:pt x="129" y="21"/>
                  </a:lnTo>
                  <a:lnTo>
                    <a:pt x="144" y="17"/>
                  </a:lnTo>
                  <a:lnTo>
                    <a:pt x="159" y="15"/>
                  </a:lnTo>
                  <a:lnTo>
                    <a:pt x="177" y="15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7682600">
              <a:off x="1482840" y="3581280"/>
              <a:ext cx="324000" cy="853560"/>
            </a:xfrm>
            <a:custGeom>
              <a:avLst/>
              <a:gdLst/>
              <a:ahLst/>
              <a:rect l="l" t="t" r="r" b="b"/>
              <a:pathLst>
                <a:path w="153" h="360">
                  <a:moveTo>
                    <a:pt x="127" y="360"/>
                  </a:moveTo>
                  <a:lnTo>
                    <a:pt x="127" y="360"/>
                  </a:lnTo>
                  <a:lnTo>
                    <a:pt x="134" y="312"/>
                  </a:lnTo>
                  <a:lnTo>
                    <a:pt x="144" y="259"/>
                  </a:lnTo>
                  <a:lnTo>
                    <a:pt x="150" y="230"/>
                  </a:lnTo>
                  <a:lnTo>
                    <a:pt x="151" y="201"/>
                  </a:lnTo>
                  <a:lnTo>
                    <a:pt x="153" y="172"/>
                  </a:lnTo>
                  <a:lnTo>
                    <a:pt x="153" y="145"/>
                  </a:lnTo>
                  <a:lnTo>
                    <a:pt x="151" y="117"/>
                  </a:lnTo>
                  <a:lnTo>
                    <a:pt x="144" y="92"/>
                  </a:lnTo>
                  <a:lnTo>
                    <a:pt x="140" y="80"/>
                  </a:lnTo>
                  <a:lnTo>
                    <a:pt x="134" y="69"/>
                  </a:lnTo>
                  <a:lnTo>
                    <a:pt x="127" y="57"/>
                  </a:lnTo>
                  <a:lnTo>
                    <a:pt x="119" y="46"/>
                  </a:lnTo>
                  <a:lnTo>
                    <a:pt x="109" y="36"/>
                  </a:lnTo>
                  <a:lnTo>
                    <a:pt x="98" y="28"/>
                  </a:lnTo>
                  <a:lnTo>
                    <a:pt x="86" y="21"/>
                  </a:lnTo>
                  <a:lnTo>
                    <a:pt x="71" y="15"/>
                  </a:lnTo>
                  <a:lnTo>
                    <a:pt x="56" y="9"/>
                  </a:lnTo>
                  <a:lnTo>
                    <a:pt x="40" y="3"/>
                  </a:lnTo>
                  <a:lnTo>
                    <a:pt x="21" y="2"/>
                  </a:lnTo>
                  <a:lnTo>
                    <a:pt x="2" y="0"/>
                  </a:lnTo>
                  <a:lnTo>
                    <a:pt x="0" y="15"/>
                  </a:lnTo>
                  <a:lnTo>
                    <a:pt x="19" y="17"/>
                  </a:lnTo>
                  <a:lnTo>
                    <a:pt x="36" y="21"/>
                  </a:lnTo>
                  <a:lnTo>
                    <a:pt x="52" y="25"/>
                  </a:lnTo>
                  <a:lnTo>
                    <a:pt x="65" y="28"/>
                  </a:lnTo>
                  <a:lnTo>
                    <a:pt x="79" y="34"/>
                  </a:lnTo>
                  <a:lnTo>
                    <a:pt x="88" y="42"/>
                  </a:lnTo>
                  <a:lnTo>
                    <a:pt x="98" y="49"/>
                  </a:lnTo>
                  <a:lnTo>
                    <a:pt x="105" y="57"/>
                  </a:lnTo>
                  <a:lnTo>
                    <a:pt x="113" y="67"/>
                  </a:lnTo>
                  <a:lnTo>
                    <a:pt x="119" y="76"/>
                  </a:lnTo>
                  <a:lnTo>
                    <a:pt x="125" y="86"/>
                  </a:lnTo>
                  <a:lnTo>
                    <a:pt x="128" y="97"/>
                  </a:lnTo>
                  <a:lnTo>
                    <a:pt x="134" y="120"/>
                  </a:lnTo>
                  <a:lnTo>
                    <a:pt x="138" y="145"/>
                  </a:lnTo>
                  <a:lnTo>
                    <a:pt x="138" y="172"/>
                  </a:lnTo>
                  <a:lnTo>
                    <a:pt x="136" y="201"/>
                  </a:lnTo>
                  <a:lnTo>
                    <a:pt x="132" y="228"/>
                  </a:lnTo>
                  <a:lnTo>
                    <a:pt x="128" y="257"/>
                  </a:lnTo>
                  <a:lnTo>
                    <a:pt x="119" y="310"/>
                  </a:lnTo>
                  <a:lnTo>
                    <a:pt x="111" y="358"/>
                  </a:lnTo>
                  <a:lnTo>
                    <a:pt x="111" y="358"/>
                  </a:lnTo>
                  <a:lnTo>
                    <a:pt x="127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7682600">
              <a:off x="2882880" y="3567600"/>
              <a:ext cx="322560" cy="2287080"/>
            </a:xfrm>
            <a:custGeom>
              <a:avLst/>
              <a:gdLst/>
              <a:ahLst/>
              <a:rect l="l" t="t" r="r" b="b"/>
              <a:pathLst>
                <a:path w="152" h="965">
                  <a:moveTo>
                    <a:pt x="11" y="965"/>
                  </a:moveTo>
                  <a:lnTo>
                    <a:pt x="11" y="965"/>
                  </a:lnTo>
                  <a:lnTo>
                    <a:pt x="19" y="956"/>
                  </a:lnTo>
                  <a:lnTo>
                    <a:pt x="23" y="944"/>
                  </a:lnTo>
                  <a:lnTo>
                    <a:pt x="29" y="929"/>
                  </a:lnTo>
                  <a:lnTo>
                    <a:pt x="34" y="910"/>
                  </a:lnTo>
                  <a:lnTo>
                    <a:pt x="46" y="864"/>
                  </a:lnTo>
                  <a:lnTo>
                    <a:pt x="56" y="804"/>
                  </a:lnTo>
                  <a:lnTo>
                    <a:pt x="77" y="664"/>
                  </a:lnTo>
                  <a:lnTo>
                    <a:pt x="98" y="505"/>
                  </a:lnTo>
                  <a:lnTo>
                    <a:pt x="117" y="342"/>
                  </a:lnTo>
                  <a:lnTo>
                    <a:pt x="132" y="192"/>
                  </a:lnTo>
                  <a:lnTo>
                    <a:pt x="144" y="73"/>
                  </a:lnTo>
                  <a:lnTo>
                    <a:pt x="152" y="2"/>
                  </a:lnTo>
                  <a:lnTo>
                    <a:pt x="136" y="0"/>
                  </a:lnTo>
                  <a:lnTo>
                    <a:pt x="129" y="71"/>
                  </a:lnTo>
                  <a:lnTo>
                    <a:pt x="117" y="190"/>
                  </a:lnTo>
                  <a:lnTo>
                    <a:pt x="100" y="340"/>
                  </a:lnTo>
                  <a:lnTo>
                    <a:pt x="82" y="503"/>
                  </a:lnTo>
                  <a:lnTo>
                    <a:pt x="61" y="662"/>
                  </a:lnTo>
                  <a:lnTo>
                    <a:pt x="40" y="802"/>
                  </a:lnTo>
                  <a:lnTo>
                    <a:pt x="29" y="860"/>
                  </a:lnTo>
                  <a:lnTo>
                    <a:pt x="19" y="906"/>
                  </a:lnTo>
                  <a:lnTo>
                    <a:pt x="13" y="923"/>
                  </a:lnTo>
                  <a:lnTo>
                    <a:pt x="10" y="938"/>
                  </a:lnTo>
                  <a:lnTo>
                    <a:pt x="4" y="948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11" y="9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7682600">
              <a:off x="4530240" y="4965480"/>
              <a:ext cx="195120" cy="146736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12" y="604"/>
                  </a:moveTo>
                  <a:lnTo>
                    <a:pt x="16" y="612"/>
                  </a:lnTo>
                  <a:lnTo>
                    <a:pt x="18" y="577"/>
                  </a:lnTo>
                  <a:lnTo>
                    <a:pt x="21" y="508"/>
                  </a:lnTo>
                  <a:lnTo>
                    <a:pt x="27" y="418"/>
                  </a:lnTo>
                  <a:lnTo>
                    <a:pt x="35" y="314"/>
                  </a:lnTo>
                  <a:lnTo>
                    <a:pt x="46" y="211"/>
                  </a:lnTo>
                  <a:lnTo>
                    <a:pt x="60" y="119"/>
                  </a:lnTo>
                  <a:lnTo>
                    <a:pt x="68" y="78"/>
                  </a:lnTo>
                  <a:lnTo>
                    <a:pt x="77" y="48"/>
                  </a:lnTo>
                  <a:lnTo>
                    <a:pt x="81" y="34"/>
                  </a:lnTo>
                  <a:lnTo>
                    <a:pt x="85" y="23"/>
                  </a:lnTo>
                  <a:lnTo>
                    <a:pt x="89" y="15"/>
                  </a:lnTo>
                  <a:lnTo>
                    <a:pt x="92" y="11"/>
                  </a:lnTo>
                  <a:lnTo>
                    <a:pt x="81" y="0"/>
                  </a:lnTo>
                  <a:lnTo>
                    <a:pt x="75" y="7"/>
                  </a:lnTo>
                  <a:lnTo>
                    <a:pt x="69" y="17"/>
                  </a:lnTo>
                  <a:lnTo>
                    <a:pt x="66" y="29"/>
                  </a:lnTo>
                  <a:lnTo>
                    <a:pt x="62" y="42"/>
                  </a:lnTo>
                  <a:lnTo>
                    <a:pt x="52" y="77"/>
                  </a:lnTo>
                  <a:lnTo>
                    <a:pt x="45" y="115"/>
                  </a:lnTo>
                  <a:lnTo>
                    <a:pt x="31" y="209"/>
                  </a:lnTo>
                  <a:lnTo>
                    <a:pt x="20" y="312"/>
                  </a:lnTo>
                  <a:lnTo>
                    <a:pt x="12" y="416"/>
                  </a:lnTo>
                  <a:lnTo>
                    <a:pt x="4" y="508"/>
                  </a:lnTo>
                  <a:lnTo>
                    <a:pt x="0" y="577"/>
                  </a:lnTo>
                  <a:lnTo>
                    <a:pt x="0" y="612"/>
                  </a:lnTo>
                  <a:lnTo>
                    <a:pt x="4" y="619"/>
                  </a:lnTo>
                  <a:lnTo>
                    <a:pt x="0" y="612"/>
                  </a:lnTo>
                  <a:lnTo>
                    <a:pt x="0" y="616"/>
                  </a:lnTo>
                  <a:lnTo>
                    <a:pt x="4" y="619"/>
                  </a:lnTo>
                  <a:lnTo>
                    <a:pt x="12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682600">
              <a:off x="5296320" y="5955120"/>
              <a:ext cx="110160" cy="227880"/>
            </a:xfrm>
            <a:custGeom>
              <a:avLst/>
              <a:gdLst/>
              <a:ahLst/>
              <a:rect l="l" t="t" r="r" b="b"/>
              <a:pathLst>
                <a:path w="52" h="96">
                  <a:moveTo>
                    <a:pt x="37" y="96"/>
                  </a:moveTo>
                  <a:lnTo>
                    <a:pt x="37" y="96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77"/>
                  </a:lnTo>
                  <a:lnTo>
                    <a:pt x="52" y="69"/>
                  </a:lnTo>
                  <a:lnTo>
                    <a:pt x="52" y="56"/>
                  </a:lnTo>
                  <a:lnTo>
                    <a:pt x="48" y="42"/>
                  </a:lnTo>
                  <a:lnTo>
                    <a:pt x="41" y="31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0" y="21"/>
                  </a:lnTo>
                  <a:lnTo>
                    <a:pt x="19" y="31"/>
                  </a:lnTo>
                  <a:lnTo>
                    <a:pt x="27" y="40"/>
                  </a:lnTo>
                  <a:lnTo>
                    <a:pt x="33" y="50"/>
                  </a:lnTo>
                  <a:lnTo>
                    <a:pt x="37" y="60"/>
                  </a:lnTo>
                  <a:lnTo>
                    <a:pt x="37" y="69"/>
                  </a:lnTo>
                  <a:lnTo>
                    <a:pt x="35" y="71"/>
                  </a:lnTo>
                  <a:lnTo>
                    <a:pt x="33" y="75"/>
                  </a:lnTo>
                  <a:lnTo>
                    <a:pt x="31" y="79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7682600">
              <a:off x="5189040" y="6222240"/>
              <a:ext cx="375480" cy="80280"/>
            </a:xfrm>
            <a:custGeom>
              <a:avLst/>
              <a:gdLst/>
              <a:ahLst/>
              <a:rect l="l" t="t" r="r" b="b"/>
              <a:pathLst>
                <a:path w="177" h="34">
                  <a:moveTo>
                    <a:pt x="0" y="15"/>
                  </a:moveTo>
                  <a:lnTo>
                    <a:pt x="0" y="15"/>
                  </a:lnTo>
                  <a:lnTo>
                    <a:pt x="23" y="23"/>
                  </a:lnTo>
                  <a:lnTo>
                    <a:pt x="48" y="27"/>
                  </a:lnTo>
                  <a:lnTo>
                    <a:pt x="73" y="32"/>
                  </a:lnTo>
                  <a:lnTo>
                    <a:pt x="98" y="34"/>
                  </a:lnTo>
                  <a:lnTo>
                    <a:pt x="121" y="34"/>
                  </a:lnTo>
                  <a:lnTo>
                    <a:pt x="140" y="34"/>
                  </a:lnTo>
                  <a:lnTo>
                    <a:pt x="152" y="32"/>
                  </a:lnTo>
                  <a:lnTo>
                    <a:pt x="159" y="29"/>
                  </a:lnTo>
                  <a:lnTo>
                    <a:pt x="169" y="25"/>
                  </a:lnTo>
                  <a:lnTo>
                    <a:pt x="177" y="21"/>
                  </a:lnTo>
                  <a:lnTo>
                    <a:pt x="167" y="8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48" y="17"/>
                  </a:lnTo>
                  <a:lnTo>
                    <a:pt x="140" y="17"/>
                  </a:lnTo>
                  <a:lnTo>
                    <a:pt x="121" y="19"/>
                  </a:lnTo>
                  <a:lnTo>
                    <a:pt x="98" y="19"/>
                  </a:lnTo>
                  <a:lnTo>
                    <a:pt x="75" y="15"/>
                  </a:lnTo>
                  <a:lnTo>
                    <a:pt x="52" y="11"/>
                  </a:lnTo>
                  <a:lnTo>
                    <a:pt x="2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682600">
              <a:off x="2280600" y="3307320"/>
              <a:ext cx="197280" cy="2166120"/>
            </a:xfrm>
            <a:custGeom>
              <a:avLst/>
              <a:gdLst/>
              <a:ahLst/>
              <a:rect l="l" t="t" r="r" b="b"/>
              <a:pathLst>
                <a:path w="93" h="914">
                  <a:moveTo>
                    <a:pt x="27" y="0"/>
                  </a:moveTo>
                  <a:lnTo>
                    <a:pt x="39" y="4"/>
                  </a:lnTo>
                  <a:lnTo>
                    <a:pt x="64" y="20"/>
                  </a:lnTo>
                  <a:lnTo>
                    <a:pt x="69" y="25"/>
                  </a:lnTo>
                  <a:lnTo>
                    <a:pt x="75" y="31"/>
                  </a:lnTo>
                  <a:lnTo>
                    <a:pt x="81" y="39"/>
                  </a:lnTo>
                  <a:lnTo>
                    <a:pt x="87" y="48"/>
                  </a:lnTo>
                  <a:lnTo>
                    <a:pt x="91" y="60"/>
                  </a:lnTo>
                  <a:lnTo>
                    <a:pt x="93" y="71"/>
                  </a:lnTo>
                  <a:lnTo>
                    <a:pt x="93" y="85"/>
                  </a:lnTo>
                  <a:lnTo>
                    <a:pt x="93" y="100"/>
                  </a:lnTo>
                  <a:lnTo>
                    <a:pt x="85" y="160"/>
                  </a:lnTo>
                  <a:lnTo>
                    <a:pt x="73" y="263"/>
                  </a:lnTo>
                  <a:lnTo>
                    <a:pt x="60" y="394"/>
                  </a:lnTo>
                  <a:lnTo>
                    <a:pt x="45" y="538"/>
                  </a:lnTo>
                  <a:lnTo>
                    <a:pt x="29" y="680"/>
                  </a:lnTo>
                  <a:lnTo>
                    <a:pt x="16" y="799"/>
                  </a:lnTo>
                  <a:lnTo>
                    <a:pt x="6" y="883"/>
                  </a:lnTo>
                  <a:lnTo>
                    <a:pt x="4" y="914"/>
                  </a:lnTo>
                  <a:lnTo>
                    <a:pt x="4" y="881"/>
                  </a:lnTo>
                  <a:lnTo>
                    <a:pt x="10" y="793"/>
                  </a:lnTo>
                  <a:lnTo>
                    <a:pt x="16" y="668"/>
                  </a:lnTo>
                  <a:lnTo>
                    <a:pt x="23" y="524"/>
                  </a:lnTo>
                  <a:lnTo>
                    <a:pt x="31" y="378"/>
                  </a:lnTo>
                  <a:lnTo>
                    <a:pt x="37" y="248"/>
                  </a:lnTo>
                  <a:lnTo>
                    <a:pt x="41" y="150"/>
                  </a:lnTo>
                  <a:lnTo>
                    <a:pt x="43" y="104"/>
                  </a:lnTo>
                  <a:lnTo>
                    <a:pt x="43" y="98"/>
                  </a:lnTo>
                  <a:lnTo>
                    <a:pt x="41" y="91"/>
                  </a:lnTo>
                  <a:lnTo>
                    <a:pt x="39" y="85"/>
                  </a:lnTo>
                  <a:lnTo>
                    <a:pt x="35" y="79"/>
                  </a:lnTo>
                  <a:lnTo>
                    <a:pt x="27" y="71"/>
                  </a:lnTo>
                  <a:lnTo>
                    <a:pt x="18" y="62"/>
                  </a:lnTo>
                  <a:lnTo>
                    <a:pt x="10" y="54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2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ab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52680" y="5638680"/>
            <a:ext cx="709560" cy="709560"/>
            <a:chOff x="1552680" y="5638680"/>
            <a:chExt cx="709560" cy="709560"/>
          </a:xfrm>
        </p:grpSpPr>
        <p:sp>
          <p:nvSpPr>
            <p:cNvPr id="56" name=""/>
            <p:cNvSpPr/>
            <p:nvPr/>
          </p:nvSpPr>
          <p:spPr>
            <a:xfrm>
              <a:off x="209232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920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040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664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756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704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5120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356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1772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656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072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7812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372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112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76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060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764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828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9856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8776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804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868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896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84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4492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520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2872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936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1468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496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884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236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588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976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472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6860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212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600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952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304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980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512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88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2576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252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604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316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992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344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9876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552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228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8904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616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92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292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968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7644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7644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7320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7320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996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996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6708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6708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6708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6708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708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708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708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708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708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708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708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6708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996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996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7320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320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644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968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292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16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904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228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552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876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344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668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992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316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604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2252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576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900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188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512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692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3980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4628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4952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5276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600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888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212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536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184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472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976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8300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8588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912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9236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560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884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0172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496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0820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144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468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936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260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2584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2872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196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520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3844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168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492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4780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104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84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572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896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220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544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868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156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7480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7804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128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8452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776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064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244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9568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856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0180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504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0828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836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836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268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5268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184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432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860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028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796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004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584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4328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5120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496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352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8300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0664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336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43120" y="5867280"/>
            <a:ext cx="709560" cy="709560"/>
            <a:chOff x="2643120" y="5867280"/>
            <a:chExt cx="709560" cy="709560"/>
          </a:xfrm>
        </p:grpSpPr>
        <p:sp>
          <p:nvSpPr>
            <p:cNvPr id="235" name=""/>
            <p:cNvSpPr/>
            <p:nvPr/>
          </p:nvSpPr>
          <p:spPr>
            <a:xfrm>
              <a:off x="318276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964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2084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9708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800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748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164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2400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816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9700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116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856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5416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156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220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2104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808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872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900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7820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848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912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4940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328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3536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564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916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0980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512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540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928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280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632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020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516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5256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44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348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2556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2232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620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1296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0648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0360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036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9388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064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920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8596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8272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7948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7660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336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012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688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364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364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040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040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5752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5752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5752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752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752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752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5752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5752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752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5752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752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5752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6040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364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364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012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7336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7660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948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8272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596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920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064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9388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9712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036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360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0648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972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1296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620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944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2232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2556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736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3024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348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3672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996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644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932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5256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580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5904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228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516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6696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7020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7344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632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7956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8280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8604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928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16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9540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864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0188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512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0656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0980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304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628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16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240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564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888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3212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3536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3824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4148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4328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616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940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5264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5588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912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6200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6524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6848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7172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7496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7820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8108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8288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8612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8900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224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548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9872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9880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880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4312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4312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476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5904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6072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8280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3840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188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3048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1628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372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0980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164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540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396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7344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9708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380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33440" y="5867280"/>
            <a:ext cx="709560" cy="709560"/>
            <a:chOff x="433440" y="5867280"/>
            <a:chExt cx="709560" cy="709560"/>
          </a:xfrm>
        </p:grpSpPr>
        <p:sp>
          <p:nvSpPr>
            <p:cNvPr id="414" name=""/>
            <p:cNvSpPr/>
            <p:nvPr/>
          </p:nvSpPr>
          <p:spPr>
            <a:xfrm>
              <a:off x="97308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996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116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740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832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780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196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432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48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732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48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88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48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188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252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136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840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904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932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52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80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944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972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360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568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8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012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544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572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960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312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64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052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48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6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288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6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028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380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056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88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264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52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8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680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92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8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420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96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952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628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04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980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692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368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368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44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720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96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396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2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72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784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784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84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84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784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784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784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784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784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84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84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784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072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072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96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396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044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368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692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980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304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952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096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420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744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068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392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80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04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28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976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264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768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56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380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04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28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52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676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288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612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936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548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28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52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76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664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988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312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636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60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48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572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96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220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44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88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12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36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660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48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272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96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920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44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568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56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180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360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648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972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296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620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944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556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880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04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28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852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40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320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644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932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56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580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04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12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12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44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344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260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508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36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104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312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872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220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080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660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404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012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196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572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428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76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740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412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62840" y="5638680"/>
            <a:ext cx="709560" cy="709560"/>
            <a:chOff x="7062840" y="5638680"/>
            <a:chExt cx="709560" cy="709560"/>
          </a:xfrm>
        </p:grpSpPr>
        <p:sp>
          <p:nvSpPr>
            <p:cNvPr id="593" name=""/>
            <p:cNvSpPr/>
            <p:nvPr/>
          </p:nvSpPr>
          <p:spPr>
            <a:xfrm>
              <a:off x="760248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6936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4056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1680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9772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720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136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4372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2788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1672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088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8828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388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6128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5192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4076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2780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844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0872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792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8820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884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6912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6300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508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4536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888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952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484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1512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0900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0252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9604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8992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8488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876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7228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6616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5968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320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4996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4528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204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3592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3268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620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2332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2008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1360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036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0892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568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0244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9920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9632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9308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9308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8984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8660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8660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8336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8336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8012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8012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7724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7724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7724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7724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724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7724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724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724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7724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7724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7724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7724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012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8012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8336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336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8660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8984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9308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9632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9920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244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0568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892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1036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1360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1684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2008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332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2620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2944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3268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3592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3916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4204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528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4708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4996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320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644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6616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904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228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7552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876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200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488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668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92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316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9604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9928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0252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0576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1188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1512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1836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2160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484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628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2952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276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3600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888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4212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4536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4860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5184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5508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5796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6120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6300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6588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6912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7236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560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7884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8172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8496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8820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9468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9792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0080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0260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584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0872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196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1520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844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1852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1852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6284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284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200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9448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876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8044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5812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2160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5020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600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344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952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6136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1512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8368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9316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1680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5352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153280" y="5867280"/>
            <a:ext cx="709560" cy="709560"/>
            <a:chOff x="8153280" y="5867280"/>
            <a:chExt cx="709560" cy="709560"/>
          </a:xfrm>
        </p:grpSpPr>
        <p:sp>
          <p:nvSpPr>
            <p:cNvPr id="772" name=""/>
            <p:cNvSpPr/>
            <p:nvPr/>
          </p:nvSpPr>
          <p:spPr>
            <a:xfrm>
              <a:off x="869292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5980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3100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0724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8816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56764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5180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3416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1832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0716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49132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7872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6432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45172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44236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3120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1824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0888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9916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38836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37864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6928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5956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5344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4552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3580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2932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1996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1528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0556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9944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9296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8648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8036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27532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6920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6272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5660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5012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4364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4040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3572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23248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2636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312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21664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21376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1052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0404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0080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9936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9612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288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8964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8676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8352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8352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8028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17704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17704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7380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7380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7056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7056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16768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6768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16768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6768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16768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16768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16768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6768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6768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6768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6768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6768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7056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7056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7380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7380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7704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8028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8352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8676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8964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9288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9612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936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0080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0404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0728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21052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1376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1664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1988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2312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2636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960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3248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3572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3752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4040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4364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5012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336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25660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5948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6272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26596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920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7244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7532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712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8036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28360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8648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28972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9296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9620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29944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0232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0556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0880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1204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1528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1672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1996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2320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644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932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3256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3580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3904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4228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4552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4840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5164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5344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5632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35956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6280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6604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6928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7216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7540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7864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188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512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836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9124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9304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9628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9916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0240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0564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0888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0896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50896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328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5328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7244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58492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26920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7088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9296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4856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1204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4064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32644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54388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1996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5180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0556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57412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28360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0724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64396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943600" y="5867280"/>
            <a:ext cx="709560" cy="709560"/>
            <a:chOff x="5943600" y="5867280"/>
            <a:chExt cx="709560" cy="709560"/>
          </a:xfrm>
        </p:grpSpPr>
        <p:sp>
          <p:nvSpPr>
            <p:cNvPr id="951" name=""/>
            <p:cNvSpPr/>
            <p:nvPr/>
          </p:nvSpPr>
          <p:spPr>
            <a:xfrm>
              <a:off x="648324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5012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42132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9756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7848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5796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4212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2448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0864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9748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8164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6904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5464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4204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3268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152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856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9920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948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868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6896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5960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4988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376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13584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612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1964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1028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0560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588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976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8328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7680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7068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6564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5952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5304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4692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4044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3396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3072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2604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2280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1668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1344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0696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0408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0084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9436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9112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8968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8644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8320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7996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708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7384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384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7060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736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6736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6412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6412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6088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6088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5800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95800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5800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5800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5800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5800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5800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5800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5800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5800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5800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6088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088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6412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412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736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7060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7384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7708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7996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320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644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8968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9112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9436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9760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0084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0408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0696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1020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1344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1668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992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2280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2604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2784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3072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3396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720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044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368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4692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4980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5304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5628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5952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6276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6564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744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7068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7392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7680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8004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8328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8652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8976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9264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912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0236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0560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0704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1028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1352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11676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1964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2288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2612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2936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3260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3584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3872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4196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4376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4664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4988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5312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5636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5960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16248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6572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16896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7220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7544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17868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8156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8336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8660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8948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9272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9596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9920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29928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928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4360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360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6276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7524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5952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120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328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3888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10236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3096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1676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420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1028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4212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36444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7392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9756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3428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 rot="21567000">
            <a:off x="533520" y="2666520"/>
            <a:ext cx="457200" cy="45720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3200400"/>
            <a:ext cx="380880" cy="38088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96080" y="2133720"/>
            <a:ext cx="457200" cy="45720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53280" y="3276720"/>
            <a:ext cx="381240" cy="45720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2057400"/>
            <a:ext cx="380880" cy="38088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3800">
            <a:off x="8381520" y="2590560"/>
            <a:ext cx="381240" cy="45720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229600" y="4267080"/>
            <a:ext cx="457200" cy="45720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48720" y="5181480"/>
            <a:ext cx="304560" cy="38124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95680"/>
            <a:ext cx="381240" cy="38124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5105520"/>
            <a:ext cx="380880" cy="380880"/>
          </a:xfrm>
          <a:prstGeom prst="star5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7:04Z</dcterms:created>
  <dc:creator>e049</dc:creator>
  <dc:description/>
  <dc:language>en-US</dc:language>
  <cp:lastModifiedBy>e049</cp:lastModifiedBy>
  <dcterms:modified xsi:type="dcterms:W3CDTF">2003-04-18T01:45:06Z</dcterms:modified>
  <cp:revision>13</cp:revision>
  <dc:subject/>
  <dc:title>PowerPoint 簡報</dc:title>
</cp:coreProperties>
</file>