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804-B6FC-421A-9FA0-E7E01673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851-2B04-4547-AE62-695593A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A27-E3B5-490B-A894-BE0092FC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EB5-7514-40C7-9374-FCBD23C5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D2D-7A98-4041-8508-4FD71473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F41-6F83-4B8C-BA45-BF0437B8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72C-B8DA-40B4-A54D-8BAE1689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83A-6E8E-426F-AA9D-02E7620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9D9-58FB-4836-BD86-5246035E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01A-54F1-47ED-AEC8-98D9CF0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1B1-936D-4B0E-99E0-1DB881E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E22-4F0D-4B6C-859E-EFC5D9C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EC44-5C9B-46E4-81A8-20AFED320B8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3:05:44Z</dcterms:created>
  <dc:creator>e049</dc:creator>
  <dc:description/>
  <dc:language>en-US</dc:language>
  <cp:lastModifiedBy>e049</cp:lastModifiedBy>
  <dcterms:modified xsi:type="dcterms:W3CDTF">2003-04-18T03:05:47Z</dcterms:modified>
  <cp:revision>1</cp:revision>
  <dc:subject/>
  <dc:title>PowerPoint 簡報</dc:title>
</cp:coreProperties>
</file>