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84A-543A-4140-BCD7-B7FB7442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E85-8147-4ACC-9A85-0378F94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4B6-D921-439C-9940-45553F20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72D-5DA2-4F8C-90FD-3FB2C31C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A7A-B30A-4694-AB86-9A6CB04F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E3B4-8D92-4EE4-89D8-4DD7D4AA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CC1-4188-418F-A04A-260559C8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65F-E41E-40B2-A252-8B14AFC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3095-6094-4850-A525-DEFB14E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9882-7E0A-48BB-ADC8-B4136A4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56F-2A5A-4BEF-9204-E2B81E0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962-1F7A-46EB-8BB9-8D34B4DA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E3B9-09C7-407B-B2F3-DD2621F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0B3F-5C5F-4745-9A16-92D6769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2E2F-7455-4299-B9E6-92ED50F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76A-E67F-4B3E-BE13-F8E52A30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1555-AC3D-4CC9-B3FA-E4CD19F5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901-77C2-4131-84E4-1148617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BBE-1F4C-406B-B2FD-DF023A12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FC9-3D31-4C04-ACD8-BDF0DE2A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624-2A04-4E40-943E-FD49532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088-60B3-480A-8EA3-14B0F02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450-25BB-44B0-8136-ECA1E3D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CB5-6715-4799-9213-C193D1D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FD2-5795-423D-8BDB-A5CA103CF68F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920-421E-4E4D-BCC8-32549BD4ED8E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72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72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72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72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46483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ccff"/>
                </a:solidFill>
                <a:latin typeface="華康POP1體W5"/>
                <a:ea typeface="華康POP1體W5"/>
              </a:rPr>
              <a:t>通 </a:t>
            </a:r>
            <a:r>
              <a:rPr b="0" lang="zh-TW" sz="60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訊 </a:t>
            </a:r>
            <a:r>
              <a:rPr b="0" lang="zh-TW" sz="6000" spc="-1" strike="noStrike">
                <a:solidFill>
                  <a:srgbClr val="990099"/>
                </a:solidFill>
                <a:latin typeface="華康POP1體W5"/>
                <a:ea typeface="華康POP1體W5"/>
              </a:rPr>
              <a:t>錄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2101680"/>
          <a:ext cx="762012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438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姓     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華康仿宋體W6"/>
                        </a:rPr>
                        <a:t>星    座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Times New Roman"/>
                          <a:ea typeface="華康正顏楷體W5"/>
                        </a:rPr>
                        <a:t>電            話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顏層絮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天秤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吳劍好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金牛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周愚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處女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99"/>
                          </a:solidFill>
                          <a:latin typeface="Times New Roman"/>
                          <a:ea typeface="華康仿宋體W6"/>
                        </a:rPr>
                        <a:t>朱笑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99ff"/>
                          </a:solidFill>
                          <a:latin typeface="Times New Roman"/>
                          <a:ea typeface="華康仿宋體W6"/>
                        </a:rPr>
                        <a:t>雙子座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559-8726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33cc"/>
                </a:solidFill>
                <a:latin typeface="華康POP1體W5"/>
                <a:ea typeface="華康POP1體W5"/>
              </a:rPr>
              <a:t>班上男女生人數比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3015720"/>
            <a:ext cx="41148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男生人數：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14</a:t>
            </a:r>
            <a:r>
              <a:rPr b="0" lang="zh-TW" sz="3600" spc="-1" strike="noStrike">
                <a:solidFill>
                  <a:srgbClr val="339966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女生人數：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17</a:t>
            </a:r>
            <a:r>
              <a:rPr b="0" lang="zh-TW" sz="3600" spc="-1" strike="noStrike">
                <a:solidFill>
                  <a:srgbClr val="ff9900"/>
                </a:solidFill>
                <a:latin typeface="華康中圓體"/>
                <a:ea typeface="華康中圓體"/>
              </a:rPr>
              <a:t>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e049</cp:lastModifiedBy>
  <dcterms:modified xsi:type="dcterms:W3CDTF">2003-04-19T09:54:26Z</dcterms:modified>
  <cp:revision>7</cp:revision>
  <dc:subject/>
  <dc:title>我們這一班</dc:title>
</cp:coreProperties>
</file>