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382-445B-43F3-A0C2-0BA0935F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9C3-48CA-4991-84A7-6108BEBD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B33-A236-498F-9DB1-16A26C6B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259-AAA5-4D75-A124-CD5CADCB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675-8616-4F53-9264-717A8D9F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F62-13D4-473C-8F2C-4634E15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E1E-96E5-45D6-96D0-E3FD726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F6D-A97F-443E-92B3-E09C4C0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20B-FC60-43F2-B8F8-6ACD0C5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E9C-5B76-4479-8EFB-AD08138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753-A125-426D-8231-D653738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CBC-11AD-44A0-B4CD-3F1E9EF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3BB-5E34-429E-850B-DE31C86CAD6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00"/>
                </a:solidFill>
                <a:latin typeface="Times New Roman"/>
                <a:ea typeface="華康POP1體W7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  <a:ea typeface="華康少女文字W5"/>
              </a:rPr>
              <a:t>我的個人小檔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3:05:44Z</dcterms:created>
  <dc:creator>e049</dc:creator>
  <dc:description/>
  <dc:language>en-US</dc:language>
  <cp:lastModifiedBy>e049</cp:lastModifiedBy>
  <dcterms:modified xsi:type="dcterms:W3CDTF">2003-05-05T08:07:25Z</dcterms:modified>
  <cp:revision>4</cp:revision>
  <dc:subject/>
  <dc:title>PowerPoint 簡報</dc:title>
</cp:coreProperties>
</file>