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5BF-46E0-46A8-90EA-F0403C99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44B-E808-4F42-A7EA-FEEA5964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89C9-C1B1-423B-BB47-12D3C6E7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24F-E5F8-4B7E-9157-581AA105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3935-5C85-44B2-A46C-82532200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FC17-CBC1-494D-9A82-D3D2A9A3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E901-4B33-4B60-9889-E1623FE1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C17-4787-42A5-9B59-6E7D201C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5646-7374-4D1F-8B61-0F708DFE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BE96-A113-4907-B72B-5BC0A7CD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0E51-7E86-4341-A5D0-CF63AF42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0E7-9E12-47FB-8659-18C44462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1A3B-1F39-43D0-B8C7-A8CE2B8578B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ff0000"/>
                </a:solidFill>
                <a:latin typeface="Times New Roman"/>
                <a:ea typeface="華康POP1體W7"/>
              </a:rPr>
              <a:t>自我介紹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cc"/>
                </a:solidFill>
                <a:latin typeface="Times New Roman"/>
                <a:ea typeface="華康少女文字W5"/>
              </a:rPr>
              <a:t>我的個人小檔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cc"/>
                </a:solidFill>
                <a:latin typeface="Times New Roman"/>
                <a:ea typeface="華康中圓體"/>
              </a:rPr>
              <a:t>基 本 資 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00"/>
                </a:solidFill>
                <a:latin typeface="華康少女文字W5"/>
                <a:ea typeface="華康少女文字W5"/>
              </a:rPr>
              <a:t> </a:t>
            </a:r>
            <a:r>
              <a:rPr b="0" lang="zh-TW" sz="3200" spc="-1" strike="noStrike">
                <a:solidFill>
                  <a:srgbClr val="3333cc"/>
                </a:solidFill>
                <a:latin typeface="華康少女文字W5"/>
                <a:ea typeface="華康少女文字W5"/>
              </a:rPr>
              <a:t>身高：</a:t>
            </a:r>
            <a:r>
              <a:rPr b="0" lang="zh-TW" sz="3200" spc="-1" strike="noStrike">
                <a:solidFill>
                  <a:srgbClr val="006600"/>
                </a:solidFill>
                <a:latin typeface="華康少女文字W5"/>
                <a:ea typeface="華康少女文字W5"/>
              </a:rPr>
              <a:t>152 </a:t>
            </a:r>
            <a:r>
              <a:rPr b="0" lang="zh-TW" sz="3200" spc="-1" strike="noStrike">
                <a:solidFill>
                  <a:srgbClr val="006600"/>
                </a:solidFill>
                <a:latin typeface="華康少女文字W5"/>
                <a:ea typeface="華康少女文字W5"/>
              </a:rPr>
              <a:t>公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00"/>
                </a:solidFill>
                <a:latin typeface="華康少女文字W5"/>
                <a:ea typeface="華康少女文字W5"/>
              </a:rPr>
              <a:t> </a:t>
            </a:r>
            <a:r>
              <a:rPr b="0" lang="zh-TW" sz="3200" spc="-1" strike="noStrike">
                <a:solidFill>
                  <a:srgbClr val="3333cc"/>
                </a:solidFill>
                <a:latin typeface="華康少女文字W5"/>
                <a:ea typeface="華康少女文字W5"/>
              </a:rPr>
              <a:t>體重：</a:t>
            </a:r>
            <a:r>
              <a:rPr b="0" lang="zh-TW" sz="3200" spc="-1" strike="noStrike">
                <a:solidFill>
                  <a:srgbClr val="006600"/>
                </a:solidFill>
                <a:latin typeface="華康少女文字W5"/>
                <a:ea typeface="華康少女文字W5"/>
              </a:rPr>
              <a:t>40 </a:t>
            </a:r>
            <a:r>
              <a:rPr b="0" lang="zh-TW" sz="3200" spc="-1" strike="noStrike">
                <a:solidFill>
                  <a:srgbClr val="006600"/>
                </a:solidFill>
                <a:latin typeface="華康少女文字W5"/>
                <a:ea typeface="華康少女文字W5"/>
              </a:rPr>
              <a:t>公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00"/>
                </a:solidFill>
                <a:latin typeface="華康少女文字W5"/>
                <a:ea typeface="華康少女文字W5"/>
              </a:rPr>
              <a:t> </a:t>
            </a:r>
            <a:r>
              <a:rPr b="0" lang="zh-TW" sz="3200" spc="-1" strike="noStrike">
                <a:solidFill>
                  <a:srgbClr val="3333cc"/>
                </a:solidFill>
                <a:latin typeface="華康少女文字W5"/>
                <a:ea typeface="華康少女文字W5"/>
              </a:rPr>
              <a:t>星座：</a:t>
            </a:r>
            <a:r>
              <a:rPr b="0" lang="zh-TW" sz="3200" spc="-1" strike="noStrike">
                <a:solidFill>
                  <a:srgbClr val="006600"/>
                </a:solidFill>
                <a:latin typeface="華康少女文字W5"/>
                <a:ea typeface="華康少女文字W5"/>
              </a:rPr>
              <a:t>雙魚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00"/>
                </a:solidFill>
                <a:latin typeface="華康少女文字W5"/>
                <a:ea typeface="華康少女文字W5"/>
              </a:rPr>
              <a:t> </a:t>
            </a:r>
            <a:r>
              <a:rPr b="0" lang="zh-TW" sz="3200" spc="-1" strike="noStrike">
                <a:solidFill>
                  <a:srgbClr val="3333cc"/>
                </a:solidFill>
                <a:latin typeface="華康少女文字W5"/>
                <a:ea typeface="華康少女文字W5"/>
              </a:rPr>
              <a:t>血型：</a:t>
            </a:r>
            <a:r>
              <a:rPr b="0" lang="zh-TW" sz="3200" spc="-1" strike="noStrike">
                <a:solidFill>
                  <a:srgbClr val="006600"/>
                </a:solidFill>
                <a:latin typeface="華康少女文字W5"/>
                <a:ea typeface="華康少女文字W5"/>
              </a:rPr>
              <a:t>AB</a:t>
            </a:r>
            <a:r>
              <a:rPr b="0" lang="zh-TW" sz="3200" spc="-1" strike="noStrike">
                <a:solidFill>
                  <a:srgbClr val="006600"/>
                </a:solidFill>
                <a:latin typeface="華康少女文字W5"/>
                <a:ea typeface="華康少女文字W5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00"/>
                </a:solidFill>
                <a:latin typeface="華康少女文字W5"/>
                <a:ea typeface="華康少女文字W5"/>
              </a:rPr>
              <a:t> </a:t>
            </a:r>
            <a:r>
              <a:rPr b="0" lang="zh-TW" sz="3200" spc="-1" strike="noStrike">
                <a:solidFill>
                  <a:srgbClr val="3333cc"/>
                </a:solidFill>
                <a:latin typeface="華康少女文字W5"/>
                <a:ea typeface="華康少女文字W5"/>
              </a:rPr>
              <a:t>家庭成員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00"/>
                </a:solidFill>
                <a:latin typeface="華康少女文字W5"/>
                <a:ea typeface="華康少女文字W5"/>
              </a:rPr>
              <a:t> </a:t>
            </a:r>
            <a:r>
              <a:rPr b="0" lang="zh-TW" sz="2800" spc="-1" strike="noStrike">
                <a:solidFill>
                  <a:srgbClr val="006600"/>
                </a:solidFill>
                <a:latin typeface="華康少女文字W5"/>
                <a:ea typeface="華康少女文字W5"/>
              </a:rPr>
              <a:t>爸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00"/>
                </a:solidFill>
                <a:latin typeface="華康少女文字W5"/>
                <a:ea typeface="華康少女文字W5"/>
              </a:rPr>
              <a:t> </a:t>
            </a:r>
            <a:r>
              <a:rPr b="0" lang="zh-TW" sz="2800" spc="-1" strike="noStrike">
                <a:solidFill>
                  <a:srgbClr val="006600"/>
                </a:solidFill>
                <a:latin typeface="華康少女文字W5"/>
                <a:ea typeface="華康少女文字W5"/>
              </a:rPr>
              <a:t>媽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00"/>
                </a:solidFill>
                <a:latin typeface="華康少女文字W5"/>
                <a:ea typeface="華康少女文字W5"/>
              </a:rPr>
              <a:t> </a:t>
            </a:r>
            <a:r>
              <a:rPr b="0" lang="zh-TW" sz="2800" spc="-1" strike="noStrike">
                <a:solidFill>
                  <a:srgbClr val="006600"/>
                </a:solidFill>
                <a:latin typeface="華康少女文字W5"/>
                <a:ea typeface="華康少女文字W5"/>
              </a:rPr>
              <a:t>哥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00"/>
                </a:solidFill>
                <a:latin typeface="華康少女文字W5"/>
                <a:ea typeface="華康少女文字W5"/>
              </a:rPr>
              <a:t> </a:t>
            </a:r>
            <a:r>
              <a:rPr b="0" lang="zh-TW" sz="2800" spc="-1" strike="noStrike">
                <a:solidFill>
                  <a:srgbClr val="006600"/>
                </a:solidFill>
                <a:latin typeface="華康少女文字W5"/>
                <a:ea typeface="華康少女文字W5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00"/>
                </a:solidFill>
                <a:latin typeface="華康少女文字W5"/>
                <a:ea typeface="華康少女文字W5"/>
              </a:rPr>
              <a:t> </a:t>
            </a:r>
            <a:r>
              <a:rPr b="0" lang="zh-TW" sz="2800" spc="-1" strike="noStrike">
                <a:solidFill>
                  <a:srgbClr val="006600"/>
                </a:solidFill>
                <a:latin typeface="華康少女文字W5"/>
                <a:ea typeface="華康少女文字W5"/>
              </a:rPr>
              <a:t>一隻小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03:05:44Z</dcterms:created>
  <dc:creator>e049</dc:creator>
  <dc:description/>
  <dc:language>en-US</dc:language>
  <cp:lastModifiedBy>e049</cp:lastModifiedBy>
  <dcterms:modified xsi:type="dcterms:W3CDTF">2003-04-18T06:21:05Z</dcterms:modified>
  <cp:revision>7</cp:revision>
  <dc:subject/>
  <dc:title>PowerPoint 簡報</dc:title>
</cp:coreProperties>
</file>