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7C2-C154-47A7-BD58-C940BE72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C47-43C6-4C90-B560-FD31877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41E-6132-409E-A3E3-E00E147E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276-C63F-48F6-9D2A-2402F241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B3942-712B-45B2-B621-2FC49AC5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A8095-7260-4015-838C-A10F155E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F2C78-3035-44C2-A3E4-357E369B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82442-F717-48F4-A834-ED13D6BD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A8665-2300-4EAA-99A6-E7AA37C1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415CE-4CF3-4F34-9F14-3510775C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4B52E-A1B7-4C82-97E1-C9540B7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EC2-315D-43B0-99D7-7CBF9D3B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2A323-1EB1-4503-AD89-7F7658F0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4C007-21C9-4EE6-9852-FC71402D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88BAD-20D9-441B-BAB5-4DF5EC63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14637-0784-401C-8958-89C2655D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AF0C8-473C-430A-88CE-E1BA3716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C52-E4D7-4C87-9E9B-9F92AADC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080-8F4B-45E0-BE4C-1F697EC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C17-C35B-454D-98EE-B5D08E33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9B1-DFA8-4891-8CD3-4DE1E48F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27C-6B61-4200-9039-D997B257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C9D-3F6E-466B-A8D3-0F458B47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1A5-C516-47D6-86D5-D57D3D4C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274-A784-465C-89D6-50311531AA7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825440" y="4280400"/>
            <a:ext cx="2259000" cy="2292120"/>
            <a:chOff x="4825440" y="4280400"/>
            <a:chExt cx="2259000" cy="2292120"/>
          </a:xfrm>
        </p:grpSpPr>
        <p:sp>
          <p:nvSpPr>
            <p:cNvPr id="6" name=""/>
            <p:cNvSpPr/>
            <p:nvPr/>
          </p:nvSpPr>
          <p:spPr>
            <a:xfrm rot="21214800">
              <a:off x="4916160" y="4936680"/>
              <a:ext cx="1782720" cy="722160"/>
            </a:xfrm>
            <a:custGeom>
              <a:avLst/>
              <a:gdLst/>
              <a:ahLst/>
              <a:rect l="l" t="t" r="r" b="b"/>
              <a:pathLst>
                <a:path w="1123" h="455">
                  <a:moveTo>
                    <a:pt x="8" y="156"/>
                  </a:moveTo>
                  <a:cubicBezTo>
                    <a:pt x="0" y="169"/>
                    <a:pt x="44" y="164"/>
                    <a:pt x="70" y="162"/>
                  </a:cubicBezTo>
                  <a:lnTo>
                    <a:pt x="167" y="145"/>
                  </a:lnTo>
                  <a:lnTo>
                    <a:pt x="348" y="137"/>
                  </a:lnTo>
                  <a:lnTo>
                    <a:pt x="554" y="144"/>
                  </a:lnTo>
                  <a:lnTo>
                    <a:pt x="772" y="192"/>
                  </a:lnTo>
                  <a:cubicBezTo>
                    <a:pt x="844" y="237"/>
                    <a:pt x="936" y="369"/>
                    <a:pt x="987" y="412"/>
                  </a:cubicBezTo>
                  <a:cubicBezTo>
                    <a:pt x="1039" y="455"/>
                    <a:pt x="1060" y="442"/>
                    <a:pt x="1082" y="449"/>
                  </a:cubicBezTo>
                  <a:lnTo>
                    <a:pt x="1123" y="451"/>
                  </a:lnTo>
                  <a:lnTo>
                    <a:pt x="884" y="31"/>
                  </a:lnTo>
                  <a:lnTo>
                    <a:pt x="405" y="0"/>
                  </a:lnTo>
                  <a:lnTo>
                    <a:pt x="119" y="81"/>
                  </a:lnTo>
                  <a:cubicBezTo>
                    <a:pt x="53" y="107"/>
                    <a:pt x="16" y="143"/>
                    <a:pt x="8" y="15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782600">
              <a:off x="5146200" y="4571640"/>
              <a:ext cx="1617480" cy="1709640"/>
            </a:xfrm>
            <a:custGeom>
              <a:avLst/>
              <a:gdLst/>
              <a:ahLst/>
              <a:rect l="l" t="t" r="r" b="b"/>
              <a:pathLst>
                <a:path w="1019" h="1077">
                  <a:moveTo>
                    <a:pt x="0" y="97"/>
                  </a:moveTo>
                  <a:cubicBezTo>
                    <a:pt x="6" y="31"/>
                    <a:pt x="72" y="73"/>
                    <a:pt x="150" y="79"/>
                  </a:cubicBezTo>
                  <a:cubicBezTo>
                    <a:pt x="210" y="43"/>
                    <a:pt x="342" y="0"/>
                    <a:pt x="450" y="7"/>
                  </a:cubicBezTo>
                  <a:cubicBezTo>
                    <a:pt x="558" y="14"/>
                    <a:pt x="720" y="54"/>
                    <a:pt x="798" y="121"/>
                  </a:cubicBezTo>
                  <a:cubicBezTo>
                    <a:pt x="876" y="188"/>
                    <a:pt x="897" y="296"/>
                    <a:pt x="912" y="403"/>
                  </a:cubicBezTo>
                  <a:cubicBezTo>
                    <a:pt x="927" y="510"/>
                    <a:pt x="907" y="716"/>
                    <a:pt x="912" y="799"/>
                  </a:cubicBezTo>
                  <a:lnTo>
                    <a:pt x="942" y="901"/>
                  </a:lnTo>
                  <a:cubicBezTo>
                    <a:pt x="959" y="945"/>
                    <a:pt x="1019" y="1049"/>
                    <a:pt x="1014" y="1063"/>
                  </a:cubicBezTo>
                  <a:cubicBezTo>
                    <a:pt x="1009" y="1077"/>
                    <a:pt x="935" y="1006"/>
                    <a:pt x="912" y="985"/>
                  </a:cubicBezTo>
                  <a:lnTo>
                    <a:pt x="876" y="937"/>
                  </a:lnTo>
                  <a:lnTo>
                    <a:pt x="864" y="733"/>
                  </a:lnTo>
                  <a:lnTo>
                    <a:pt x="810" y="493"/>
                  </a:lnTo>
                  <a:lnTo>
                    <a:pt x="696" y="367"/>
                  </a:lnTo>
                  <a:lnTo>
                    <a:pt x="780" y="493"/>
                  </a:lnTo>
                  <a:cubicBezTo>
                    <a:pt x="794" y="546"/>
                    <a:pt x="816" y="691"/>
                    <a:pt x="780" y="685"/>
                  </a:cubicBezTo>
                  <a:cubicBezTo>
                    <a:pt x="744" y="679"/>
                    <a:pt x="663" y="504"/>
                    <a:pt x="612" y="433"/>
                  </a:cubicBezTo>
                  <a:lnTo>
                    <a:pt x="474" y="259"/>
                  </a:lnTo>
                  <a:lnTo>
                    <a:pt x="312" y="223"/>
                  </a:lnTo>
                  <a:lnTo>
                    <a:pt x="180" y="169"/>
                  </a:lnTo>
                  <a:cubicBezTo>
                    <a:pt x="128" y="148"/>
                    <a:pt x="54" y="145"/>
                    <a:pt x="0" y="9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21214800">
              <a:off x="6131160" y="4596120"/>
              <a:ext cx="604800" cy="262080"/>
            </a:xfrm>
            <a:custGeom>
              <a:avLst/>
              <a:gdLst/>
              <a:ahLst/>
              <a:rect l="l" t="t" r="r" b="b"/>
              <a:pathLst>
                <a:path w="381" h="165">
                  <a:moveTo>
                    <a:pt x="0" y="58"/>
                  </a:moveTo>
                  <a:lnTo>
                    <a:pt x="88" y="19"/>
                  </a:lnTo>
                  <a:lnTo>
                    <a:pt x="220" y="6"/>
                  </a:lnTo>
                  <a:cubicBezTo>
                    <a:pt x="220" y="6"/>
                    <a:pt x="381" y="0"/>
                    <a:pt x="287" y="55"/>
                  </a:cubicBezTo>
                  <a:cubicBezTo>
                    <a:pt x="193" y="110"/>
                    <a:pt x="100" y="165"/>
                    <a:pt x="100" y="165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782600">
              <a:off x="5398560" y="4934880"/>
              <a:ext cx="74520" cy="745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6009840" y="4484520"/>
            <a:ext cx="2909160" cy="2937240"/>
            <a:chOff x="6009840" y="4484520"/>
            <a:chExt cx="2909160" cy="2937240"/>
          </a:xfrm>
        </p:grpSpPr>
        <p:sp>
          <p:nvSpPr>
            <p:cNvPr id="11" name=""/>
            <p:cNvSpPr/>
            <p:nvPr/>
          </p:nvSpPr>
          <p:spPr>
            <a:xfrm rot="18767400">
              <a:off x="6300360" y="5047920"/>
              <a:ext cx="2327400" cy="1809720"/>
            </a:xfrm>
            <a:custGeom>
              <a:avLst/>
              <a:gdLst/>
              <a:ahLst/>
              <a:rect l="l" t="t" r="r" b="b"/>
              <a:pathLst>
                <a:path w="1466" h="1140">
                  <a:moveTo>
                    <a:pt x="12" y="438"/>
                  </a:moveTo>
                  <a:cubicBezTo>
                    <a:pt x="0" y="486"/>
                    <a:pt x="145" y="472"/>
                    <a:pt x="228" y="498"/>
                  </a:cubicBezTo>
                  <a:cubicBezTo>
                    <a:pt x="311" y="524"/>
                    <a:pt x="451" y="575"/>
                    <a:pt x="510" y="594"/>
                  </a:cubicBezTo>
                  <a:cubicBezTo>
                    <a:pt x="569" y="613"/>
                    <a:pt x="543" y="570"/>
                    <a:pt x="582" y="612"/>
                  </a:cubicBezTo>
                  <a:cubicBezTo>
                    <a:pt x="582" y="612"/>
                    <a:pt x="744" y="846"/>
                    <a:pt x="744" y="846"/>
                  </a:cubicBezTo>
                  <a:cubicBezTo>
                    <a:pt x="744" y="846"/>
                    <a:pt x="909" y="1061"/>
                    <a:pt x="942" y="1062"/>
                  </a:cubicBezTo>
                  <a:cubicBezTo>
                    <a:pt x="975" y="1063"/>
                    <a:pt x="966" y="918"/>
                    <a:pt x="942" y="852"/>
                  </a:cubicBezTo>
                  <a:cubicBezTo>
                    <a:pt x="918" y="786"/>
                    <a:pt x="824" y="664"/>
                    <a:pt x="858" y="666"/>
                  </a:cubicBezTo>
                  <a:cubicBezTo>
                    <a:pt x="858" y="666"/>
                    <a:pt x="1002" y="765"/>
                    <a:pt x="1146" y="864"/>
                  </a:cubicBezTo>
                  <a:cubicBezTo>
                    <a:pt x="1164" y="948"/>
                    <a:pt x="1164" y="1110"/>
                    <a:pt x="1218" y="1140"/>
                  </a:cubicBezTo>
                  <a:cubicBezTo>
                    <a:pt x="1242" y="1056"/>
                    <a:pt x="1272" y="1002"/>
                    <a:pt x="1272" y="954"/>
                  </a:cubicBezTo>
                  <a:lnTo>
                    <a:pt x="1218" y="852"/>
                  </a:lnTo>
                  <a:cubicBezTo>
                    <a:pt x="1217" y="832"/>
                    <a:pt x="1266" y="894"/>
                    <a:pt x="1266" y="834"/>
                  </a:cubicBezTo>
                  <a:cubicBezTo>
                    <a:pt x="1266" y="774"/>
                    <a:pt x="1234" y="694"/>
                    <a:pt x="1218" y="636"/>
                  </a:cubicBezTo>
                  <a:lnTo>
                    <a:pt x="1170" y="486"/>
                  </a:lnTo>
                  <a:lnTo>
                    <a:pt x="1440" y="456"/>
                  </a:lnTo>
                  <a:cubicBezTo>
                    <a:pt x="1466" y="443"/>
                    <a:pt x="1290" y="402"/>
                    <a:pt x="1326" y="408"/>
                  </a:cubicBezTo>
                  <a:cubicBezTo>
                    <a:pt x="1344" y="420"/>
                    <a:pt x="1242" y="405"/>
                    <a:pt x="1116" y="402"/>
                  </a:cubicBezTo>
                  <a:cubicBezTo>
                    <a:pt x="1092" y="342"/>
                    <a:pt x="1043" y="306"/>
                    <a:pt x="978" y="276"/>
                  </a:cubicBezTo>
                  <a:cubicBezTo>
                    <a:pt x="913" y="246"/>
                    <a:pt x="798" y="222"/>
                    <a:pt x="726" y="222"/>
                  </a:cubicBezTo>
                  <a:cubicBezTo>
                    <a:pt x="732" y="168"/>
                    <a:pt x="822" y="42"/>
                    <a:pt x="822" y="6"/>
                  </a:cubicBezTo>
                  <a:cubicBezTo>
                    <a:pt x="738" y="0"/>
                    <a:pt x="648" y="48"/>
                    <a:pt x="594" y="108"/>
                  </a:cubicBezTo>
                  <a:cubicBezTo>
                    <a:pt x="540" y="168"/>
                    <a:pt x="546" y="210"/>
                    <a:pt x="528" y="240"/>
                  </a:cubicBezTo>
                  <a:cubicBezTo>
                    <a:pt x="423" y="267"/>
                    <a:pt x="318" y="294"/>
                    <a:pt x="318" y="294"/>
                  </a:cubicBezTo>
                  <a:lnTo>
                    <a:pt x="198" y="384"/>
                  </a:lnTo>
                  <a:cubicBezTo>
                    <a:pt x="147" y="408"/>
                    <a:pt x="24" y="390"/>
                    <a:pt x="12" y="4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67400">
              <a:off x="6942600" y="6170400"/>
              <a:ext cx="76320" cy="763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DCCF-BED1-4C20-9030-5DDF34F6374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4251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8503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0064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3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cc00"/>
                </a:solidFill>
                <a:latin typeface="Tahoma"/>
                <a:ea typeface="華康儷特圓"/>
              </a:rPr>
              <a:t>海洋中的天才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336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66"/>
                </a:solidFill>
                <a:latin typeface="Tahoma"/>
                <a:ea typeface="華康古印體"/>
              </a:rPr>
              <a:t>鯨魚與海豚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投影片摘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鯨主要可分兩大類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須鯨－口中沒有牙齒，只有須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齒鯨－口中保留牙齒，無須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：一般統稱體長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公尺左右的小型齒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海洋中的哺乳動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用肺呼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目前形體最大的藍鯨是地球上最大的動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若以腦占體重的百分比來判斷動物的聰明程度，則海豚僅次于人，猴子名列第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個性溫和好玩，喜歡推動海面的漂浮物體游戲，因此常有海豚救人的故事發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能接受人類的訓練，從事表演或成為人類的助手，如潛水打撈沉入海底中的物品或傳遞訊息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大翅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小虎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虎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偽虎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條紋海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飛旋海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瓶鼻海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弗氏海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6:42:48Z</dcterms:created>
  <dc:creator>黛琳</dc:creator>
  <dc:description/>
  <dc:language>en-US</dc:language>
  <cp:lastModifiedBy>e049</cp:lastModifiedBy>
  <dcterms:modified xsi:type="dcterms:W3CDTF">2003-04-23T07:25:58Z</dcterms:modified>
  <cp:revision>10</cp:revision>
  <dc:subject/>
  <dc:title>海洋中的</dc:title>
</cp:coreProperties>
</file>