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F12-4CF2-4756-905B-C27FFC3E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17F-D905-4E33-A137-AE6963DD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2C7-57E4-4B27-831A-DDB3FDAD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BEF-1DEF-4080-BBEA-B7746D67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7145-9149-465F-B555-A3C4E2F8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AE9E-13AE-4FFD-B8EB-8EC32BE8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4AC4-E58E-4DD9-B9C4-0E6F29EF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029A-7E16-4C7F-BE0F-D78C08A5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ADB7-747E-44EF-9E86-C9DFA700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D738-5F49-4AEB-AF27-70D38712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07F2-93EE-4284-92F0-014887FE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C39-F0C6-4FDB-9B33-0002230D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761C-B32E-49E3-B698-7319233C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0872-4FA2-460F-A3A7-E3B44812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FA00-6563-430F-AF7E-7C14876E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1EE6-E650-48EA-A4E3-E94C4F35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C5D9-9370-4C1C-B43A-BD8D2853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35D-431A-482F-B09E-BB176941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EC2-A825-41F7-937B-4CEC6993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117-1525-42E8-B4FE-F7ABBB75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053-9B96-46FB-9F45-D4A824B6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CAB-3C12-490E-8298-5509938A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E64-ADB5-4416-BD5B-B358DB8F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1B0-7B39-44EC-846C-FB519235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74FC-C423-46C9-BD5F-A637090FB77A}" type="slidenum">
              <a:rPr b="0" lang="zh-TW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128A-E6FE-44FE-9210-2D0A301C5AE2}" type="slidenum"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6761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r>
              <a:rPr b="0" lang="zh-TW" sz="7200" spc="-1" strike="noStrike">
                <a:solidFill>
                  <a:srgbClr val="ff0000"/>
                </a:solidFill>
                <a:latin typeface="華康POP1體W7"/>
                <a:ea typeface="華康POP1體W7"/>
              </a:rPr>
              <a:t>我</a:t>
            </a:r>
            <a:r>
              <a:rPr b="0" lang="zh-TW" sz="72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們</a:t>
            </a:r>
            <a:r>
              <a:rPr b="0" lang="zh-TW" sz="7200" spc="-1" strike="noStrike">
                <a:solidFill>
                  <a:srgbClr val="339933"/>
                </a:solidFill>
                <a:latin typeface="華康POP1體W7"/>
                <a:ea typeface="華康POP1體W7"/>
              </a:rPr>
              <a:t>這</a:t>
            </a:r>
            <a:r>
              <a:rPr b="0" lang="zh-TW" sz="7200" spc="-1" strike="noStrike">
                <a:solidFill>
                  <a:srgbClr val="ff9900"/>
                </a:solidFill>
                <a:latin typeface="華康POP1體W7"/>
                <a:ea typeface="華康POP1體W7"/>
              </a:rPr>
              <a:t>一</a:t>
            </a:r>
            <a:r>
              <a:rPr b="0" lang="zh-TW" sz="7200" spc="-1" strike="noStrike">
                <a:solidFill>
                  <a:srgbClr val="9999ff"/>
                </a:solidFill>
                <a:latin typeface="華康POP1體W7"/>
                <a:ea typeface="華康POP1體W7"/>
              </a:rPr>
              <a:t>班</a:t>
            </a:r>
            <a:r>
              <a:rPr b="0" lang="zh-TW" sz="72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7920" y="464832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48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年</a:t>
            </a:r>
            <a:r>
              <a:rPr b="0" lang="zh-TW" sz="48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48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班 班級資照熅料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ccff"/>
                </a:solidFill>
                <a:latin typeface="華康POP1體W5"/>
                <a:ea typeface="華康POP1體W5"/>
              </a:rPr>
              <a:t>通 </a:t>
            </a:r>
            <a:r>
              <a:rPr b="0" lang="zh-TW" sz="6000" spc="-1" strike="noStrike">
                <a:solidFill>
                  <a:srgbClr val="0033cc"/>
                </a:solidFill>
                <a:latin typeface="華康POP1體W5"/>
                <a:ea typeface="華康POP1體W5"/>
              </a:rPr>
              <a:t>訊 </a:t>
            </a:r>
            <a:r>
              <a:rPr b="0" lang="zh-TW" sz="6000" spc="-1" strike="noStrike">
                <a:solidFill>
                  <a:srgbClr val="990099"/>
                </a:solidFill>
                <a:latin typeface="華康POP1體W5"/>
                <a:ea typeface="華康POP1體W5"/>
              </a:rPr>
              <a:t>錄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66680" y="2101680"/>
          <a:ext cx="762012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4382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華康仿宋體W6"/>
                        </a:rPr>
                        <a:t>姓     名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華康仿宋體W6"/>
                        </a:rPr>
                        <a:t>星    座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8000"/>
                          </a:solidFill>
                          <a:latin typeface="Times New Roman"/>
                          <a:ea typeface="華康正顏楷體W5"/>
                        </a:rPr>
                        <a:t>電            話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華康仿宋體W6"/>
                        </a:rPr>
                        <a:t>顏層絮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99ff"/>
                          </a:solidFill>
                          <a:latin typeface="Times New Roman"/>
                          <a:ea typeface="華康仿宋體W6"/>
                        </a:rPr>
                        <a:t>天秤座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559-8726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華康仿宋體W6"/>
                        </a:rPr>
                        <a:t>吳劍好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99ff"/>
                          </a:solidFill>
                          <a:latin typeface="Times New Roman"/>
                          <a:ea typeface="華康仿宋體W6"/>
                        </a:rPr>
                        <a:t>金牛座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559-8726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華康仿宋體W6"/>
                        </a:rPr>
                        <a:t>周愚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99ff"/>
                          </a:solidFill>
                          <a:latin typeface="Times New Roman"/>
                          <a:ea typeface="華康仿宋體W6"/>
                        </a:rPr>
                        <a:t>處女座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559-8726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華康仿宋體W6"/>
                        </a:rPr>
                        <a:t>朱笑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99ff"/>
                          </a:solidFill>
                          <a:latin typeface="Times New Roman"/>
                          <a:ea typeface="華康仿宋體W6"/>
                        </a:rPr>
                        <a:t>雙子座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559-8726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33cc"/>
                </a:solidFill>
                <a:latin typeface="華康POP1體W5"/>
                <a:ea typeface="華康POP1體W5"/>
              </a:rPr>
              <a:t>班上男女生人數比例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3015720"/>
            <a:ext cx="41148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9966"/>
                </a:solidFill>
                <a:latin typeface="華康中圓體"/>
                <a:ea typeface="華康中圓體"/>
              </a:rPr>
              <a:t>男生人數：</a:t>
            </a:r>
            <a:r>
              <a:rPr b="0" lang="zh-TW" sz="3600" spc="-1" strike="noStrike">
                <a:solidFill>
                  <a:srgbClr val="339966"/>
                </a:solidFill>
                <a:latin typeface="華康中圓體"/>
                <a:ea typeface="華康中圓體"/>
              </a:rPr>
              <a:t>14</a:t>
            </a:r>
            <a:r>
              <a:rPr b="0" lang="zh-TW" sz="3600" spc="-1" strike="noStrike">
                <a:solidFill>
                  <a:srgbClr val="339966"/>
                </a:solidFill>
                <a:latin typeface="華康中圓體"/>
                <a:ea typeface="華康中圓體"/>
              </a:rPr>
              <a:t>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9900"/>
                </a:solidFill>
                <a:latin typeface="華康中圓體"/>
                <a:ea typeface="華康中圓體"/>
              </a:rPr>
              <a:t>女生人數：</a:t>
            </a:r>
            <a:r>
              <a:rPr b="0" lang="zh-TW" sz="3600" spc="-1" strike="noStrike">
                <a:solidFill>
                  <a:srgbClr val="ff9900"/>
                </a:solidFill>
                <a:latin typeface="華康中圓體"/>
                <a:ea typeface="華康中圓體"/>
              </a:rPr>
              <a:t>17</a:t>
            </a:r>
            <a:r>
              <a:rPr b="0" lang="zh-TW" sz="3600" spc="-1" strike="noStrike">
                <a:solidFill>
                  <a:srgbClr val="ff9900"/>
                </a:solidFill>
                <a:latin typeface="華康中圓體"/>
                <a:ea typeface="華康中圓體"/>
              </a:rPr>
              <a:t>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24280" y="2133720"/>
          <a:ext cx="3810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133720"/>
                    <a:ext cx="3810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7:52:26Z</dcterms:created>
  <dc:creator>e049</dc:creator>
  <dc:description/>
  <dc:language>en-US</dc:language>
  <cp:lastModifiedBy>e049</cp:lastModifiedBy>
  <dcterms:modified xsi:type="dcterms:W3CDTF">2003-05-19T07:03:52Z</dcterms:modified>
  <cp:revision>12</cp:revision>
  <dc:subject/>
  <dc:title>我們這一班</dc:title>
</cp:coreProperties>
</file>