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projctor.wav" ContentType="audio/x-wav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79A-6CF0-4D8D-892E-228D3E49150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我只套用簡報設計範本，在字型、直書橫書等完全沒更動，可自由變更（包括範本也可更換），但在第三頁詩本文請加上一些圖案，如蓮花、小孩划船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8AA-FAB7-43CD-91E1-C06031B5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7AB-2E27-4604-8793-668A3157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447-4144-4830-9AD8-9EADED22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8AA-6C1F-43BA-BF3F-F9BDC849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EE5-A441-42D0-8C88-C3475887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3FB-6ADF-438E-BBC0-D159FB7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EF8-C14E-447C-8495-109AFE7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B92-6BB5-4C41-918C-DA472455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4CA-3197-4DA5-B55B-13FAAFC0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2FD-74AF-4714-BE54-6005427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2FD-2D8A-4A9E-9ADF-72317BFA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41A-785E-4D51-BD86-C49FF2B0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EAFB-ECE0-49E2-AC6F-F853F6433FE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.wmf"/><Relationship Id="rId3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古 詩 欣 賞</a:t>
            </a:r>
            <a:br>
              <a:rPr sz="4800"/>
            </a:br>
            <a:r>
              <a:rPr b="0" lang="zh-TW" sz="5400" spc="-1" strike="noStrike">
                <a:solidFill>
                  <a:srgbClr val="993300"/>
                </a:solidFill>
                <a:latin typeface="Times New Roman"/>
                <a:ea typeface="華康隸書體W7"/>
              </a:rPr>
              <a:t>池 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作　者：白居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作者生平介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8380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白居易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字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樂天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，晚年自號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醉吟先生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香山居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華康隸書體W7"/>
              </a:rPr>
              <a:t>唐德宗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時中進士，後官途多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池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685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小娃撐小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偷採白蓮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不解藏蹤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                     </a:t>
            </a:r>
            <a:r>
              <a:rPr b="0" lang="zh-TW" sz="4000" spc="-1" strike="noStrike">
                <a:solidFill>
                  <a:srgbClr val="663300"/>
                </a:solidFill>
                <a:latin typeface="Times New Roman"/>
                <a:ea typeface="華康隸書體W7"/>
              </a:rPr>
              <a:t>浮萍一道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81080" y="5091120"/>
          <a:ext cx="69343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91120"/>
                    <a:ext cx="6934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867280" y="5867280"/>
          <a:ext cx="457200" cy="1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867280"/>
                    <a:ext cx="45720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629400" y="5867280"/>
          <a:ext cx="380880" cy="1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5867280"/>
                    <a:ext cx="380880" cy="1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95480" y="5029200"/>
          <a:ext cx="239868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029200"/>
                    <a:ext cx="23986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010280" y="5562720"/>
          <a:ext cx="381240" cy="16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562720"/>
                    <a:ext cx="3812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8001000" y="5334120"/>
          <a:ext cx="304920" cy="13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01000" y="533412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248520" y="5181480"/>
          <a:ext cx="2286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181480"/>
                    <a:ext cx="2286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029200" y="5257800"/>
          <a:ext cx="304920" cy="13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5257800"/>
                    <a:ext cx="304920" cy="1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638680" y="5257800"/>
          <a:ext cx="304920" cy="152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38680" y="5257800"/>
                    <a:ext cx="304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181480" y="6248520"/>
          <a:ext cx="609840" cy="26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81480" y="6248520"/>
                    <a:ext cx="60984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38480" y="6172200"/>
          <a:ext cx="609840" cy="262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6172200"/>
                    <a:ext cx="6098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6053040"/>
          <a:ext cx="304920" cy="130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6053040"/>
                    <a:ext cx="3049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095880" y="5791320"/>
          <a:ext cx="40644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95880" y="57913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034480" y="5410080"/>
          <a:ext cx="290520" cy="38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034480" y="5410080"/>
                    <a:ext cx="290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86040" y="4876920"/>
          <a:ext cx="41436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486040" y="4876920"/>
                    <a:ext cx="4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946240" y="5029200"/>
          <a:ext cx="40644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6240" y="5029200"/>
                    <a:ext cx="40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華康隸書體W7"/>
              </a:rPr>
              <a:t>本詩大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2840" y="6858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隸書體W7"/>
              </a:rPr>
              <a:t>這首詩在描寫孩童划著船來到蓮花池，偷偷的採了幾朵白蓮，但天真的他們不懂得隱藏自己，反而在划船的時候，在池面上的浮萍中留下了一道船行的痕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1:33:25Z</dcterms:created>
  <dc:creator>e049</dc:creator>
  <dc:description/>
  <dc:language>en-US</dc:language>
  <cp:lastModifiedBy>e049</cp:lastModifiedBy>
  <dcterms:modified xsi:type="dcterms:W3CDTF">2003-05-19T03:58:52Z</dcterms:modified>
  <cp:revision>17</cp:revision>
  <dc:subject/>
  <dc:title>古詩欣賞 池上</dc:title>
</cp:coreProperties>
</file>