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DB1-545D-4C94-9561-C52492DD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4B5-D2ED-425D-BA9C-D6158A56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88F-03BA-43D2-B406-184E9273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AD1-4C5E-4D71-91B6-39F3587E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D10-5135-4DCD-B354-D7EA9991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7A2-6A4D-4564-B931-DCB711F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F82-0925-4B54-8ACE-100621E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B1A-49F1-49FA-8858-5213B36A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7C9-ACD3-4E8C-886B-A071F079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F67-496D-45A5-B46C-10FBD64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307-25F7-4A07-97C4-72B8DA30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749-C67D-4793-8BEB-C23A1973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4E12-4E5F-414A-AA33-5C8C81AD344E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414B-38F7-4559-88B0-4CC590815D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9760" y="2286000"/>
            <a:ext cx="613404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POP1體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POP1體W5"/>
              <a:ea typeface="華康POP1體W5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3421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八卦美 嘔心企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QQ</a:t>
            </a: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鼠率團 泣血製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AE6-BEF3-4F75-BA97-B174B8F39D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68790-5434-4AE7-B4E8-9CD7B1756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33"/>
                </a:solidFill>
                <a:latin typeface="Arial"/>
                <a:ea typeface="華康魏碑體"/>
              </a:rPr>
              <a:t>凡走過，必留下足跡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000" y="2420640"/>
            <a:ext cx="622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   火車快飛到墾丁＋營火晚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   魚兒水中游＋夜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   望海的日子＋壓馬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四天   依依不捨說再見＋溫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FB4-DDA5-43E5-AF21-2F6D8205F5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A105F-7F70-4A40-8F06-005FDD225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4038480"/>
            <a:ext cx="4419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319040"/>
            <a:ext cx="3436920" cy="427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91120" y="419040"/>
            <a:ext cx="4343400" cy="326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F97-059F-4867-96FC-59E26DE35D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0E800-FEC6-4462-8189-FD7153A7B3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032360"/>
            <a:ext cx="47052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船帆石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於墾丁與鵝鑾鼻之間，高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尺，因形狀像一艘船隻而得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81440" cy="316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8F0-81BF-4112-9AAE-599403C93D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64FC6-5D6A-471A-85BD-D233E31F6B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恆春古城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恆春于清光緒元年開始建城，如今留下東、西、南、北四座城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1280" y="3811680"/>
            <a:ext cx="316836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105080" cy="30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1DA-2005-4768-BA39-F97CFD345C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1DDC5-92B4-43B6-A5DA-BACD9EBB6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66634"/>
                </a:solidFill>
                <a:latin typeface="Garamond"/>
                <a:ea typeface="華康魏碑體"/>
              </a:rPr>
              <a:t>閃亮的一刻</a:t>
            </a:r>
            <a:r>
              <a:rPr b="0" lang="zh-TW" sz="5400" spc="-1" strike="noStrike">
                <a:solidFill>
                  <a:srgbClr val="066634"/>
                </a:solidFill>
                <a:latin typeface="Times New Roman"/>
                <a:ea typeface="華康魏碑體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4369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3/2 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B56-E1B8-4BE3-9C8A-828E27C7C5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3BD37-2F1E-4A53-8D36-046C56593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49</dc:creator>
  <dc:description/>
  <dc:language>en-US</dc:language>
  <cp:lastModifiedBy>e049</cp:lastModifiedBy>
  <dcterms:modified xsi:type="dcterms:W3CDTF">2003-05-19T06:34:43Z</dcterms:modified>
  <cp:revision>7</cp:revision>
  <dc:subject/>
  <dc:title>PowerPoint 簡報</dc:title>
</cp:coreProperties>
</file>