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projctor.wav" ContentType="audio/x-wav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5A7-E7DF-4A1D-9267-AFEAE59EC3C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我只套用簡報設計範本，在字型、直書橫書等完全沒更動，可自由變更（包括範本也可更換），但在第三頁詩本文請加上一些圖案，如蓮花、小孩划船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895-524E-4783-AB6A-CD1E120E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DC5-EF16-4EE7-A690-3E6FF306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10C-D44B-4C30-ABC0-1995096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C23-7B08-4B3A-BE66-3EF7C534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46B-C22A-4779-93F8-D066D96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2E3-9C56-4A86-99F1-6F93720F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F51-FA96-4B29-AA21-7604AC0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C37-B159-4146-9863-EB8916E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ED0-1D8E-4407-92BE-D61A388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B94-657B-42E5-AC23-5568B2F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C0B-8F87-47B1-8970-45B91347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2FA-EFB2-4DBD-A99C-B495BFC8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380B-79AF-4025-8883-6152E6EE9C9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.wmf"/><Relationship Id="rId3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古 詩 欣 賞</a:t>
            </a:r>
            <a:br>
              <a:rPr sz="4800"/>
            </a:br>
            <a:r>
              <a:rPr b="0" lang="zh-TW" sz="5400" spc="-1" strike="noStrike">
                <a:solidFill>
                  <a:srgbClr val="993300"/>
                </a:solidFill>
                <a:latin typeface="Times New Roman"/>
                <a:ea typeface="華康隸書體W7"/>
              </a:rPr>
              <a:t>池 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5"/>
              </a:rPr>
              <a:t>作　者：白居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作者生平介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8380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白居易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，字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樂天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，晚年自號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醉吟先生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香山居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唐德宗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時中進士，後官途多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池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685800"/>
            <a:ext cx="6095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小娃撐小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偷採白蓮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不解藏蹤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浮萍一道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81080" y="5091120"/>
          <a:ext cx="69343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91120"/>
                    <a:ext cx="6934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867280" y="5867280"/>
          <a:ext cx="457200" cy="1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867280"/>
                    <a:ext cx="45720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629400" y="5867280"/>
          <a:ext cx="380880" cy="1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5867280"/>
                    <a:ext cx="380880" cy="1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95480" y="5029200"/>
          <a:ext cx="2398680" cy="11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029200"/>
                    <a:ext cx="23986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010280" y="5562720"/>
          <a:ext cx="381240" cy="16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5562720"/>
                    <a:ext cx="3812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8001000" y="5334120"/>
          <a:ext cx="304920" cy="13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01000" y="5334120"/>
                    <a:ext cx="304920" cy="1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248520" y="5181480"/>
          <a:ext cx="2286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181480"/>
                    <a:ext cx="2286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029200" y="5257800"/>
          <a:ext cx="304920" cy="13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5257800"/>
                    <a:ext cx="304920" cy="1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638680" y="5257800"/>
          <a:ext cx="304920" cy="152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38680" y="5257800"/>
                    <a:ext cx="304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181480" y="6248520"/>
          <a:ext cx="609840" cy="26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81480" y="6248520"/>
                    <a:ext cx="60984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038480" y="6172200"/>
          <a:ext cx="609840" cy="262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6172200"/>
                    <a:ext cx="6098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10080" y="6053040"/>
          <a:ext cx="304920" cy="130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10080" y="6053040"/>
                    <a:ext cx="30492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095880" y="5791320"/>
          <a:ext cx="40644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95880" y="5791320"/>
                    <a:ext cx="40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034480" y="5410080"/>
          <a:ext cx="290520" cy="38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034480" y="5410080"/>
                    <a:ext cx="290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86040" y="4876920"/>
          <a:ext cx="41436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486040" y="4876920"/>
                    <a:ext cx="414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946240" y="5029200"/>
          <a:ext cx="406440" cy="533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6240" y="5029200"/>
                    <a:ext cx="406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本詩大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2840" y="6858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這首詩在描寫孩童划著船來到蓮花池，偷偷的採了幾朵白蓮，但天真的他們不懂得隱藏自己，反而在划船的時候，在池面上的浮萍中留下了一道船行的痕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1:33:25Z</dcterms:created>
  <dc:creator>e049</dc:creator>
  <dc:description/>
  <dc:language>en-US</dc:language>
  <cp:lastModifiedBy>e049</cp:lastModifiedBy>
  <dcterms:modified xsi:type="dcterms:W3CDTF">2003-04-16T02:55:07Z</dcterms:modified>
  <cp:revision>19</cp:revision>
  <dc:subject/>
  <dc:title>古詩欣賞 池上</dc:title>
</cp:coreProperties>
</file>