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A90-FBD9-4A55-B4C5-24B7A408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683-BA17-442B-91CF-7EB6E62D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492-4EE4-4226-9647-135EAFE0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C75-CFAF-482B-A12B-7B68E991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41EA-3E69-46E3-85E2-8041E15C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AB14-CE5F-43FC-BEBB-7A6D5347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6BA4-AC79-4D00-8977-1FB26305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9E00-7D43-4135-8D93-1B4CD086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9CFE-1C12-47C2-85B1-CE581FC5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733920" y="609120"/>
            <a:ext cx="457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D4BC-B3A5-4210-AAFA-8F806037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08FF-AD71-448B-BBE1-2B2EDF42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9FC-CA5B-4DD1-A824-0C4CB33B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0C43-C712-497A-B653-5B241B1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DF18-2DFC-4382-ACC3-7477BA27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D6D4-326E-4F5C-9383-817AB577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B0DA-A32D-44AE-8B3D-DC9390BB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20CE-DF3F-49C0-9328-6DA95B01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EB4-E01F-4795-A76A-101BB850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B14-1BA4-4CBA-801A-3FD89267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14B-1A81-4995-8CE3-33CF2F0F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33920" y="609120"/>
            <a:ext cx="457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418-4F54-4482-8D7B-92D343EF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B3D-5F37-4495-B060-5B5ECF94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010-57E6-43A8-BFFD-64BA1FE9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920" y="40248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9BE-D575-4D38-AEA5-B03C239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05320" y="304920"/>
            <a:ext cx="4952880" cy="1828800"/>
          </a:xfrm>
          <a:prstGeom prst="cloudCallout">
            <a:avLst>
              <a:gd name="adj1" fmla="val -91953"/>
              <a:gd name="adj2" fmla="val 42537"/>
            </a:avLst>
          </a:prstGeom>
          <a:gradFill rotWithShape="0">
            <a:gsLst>
              <a:gs pos="0">
                <a:srgbClr val="feebd8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d28b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62120" y="228600"/>
            <a:ext cx="2895480" cy="167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3392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1" marL="653760" indent="-184320">
              <a:spcBef>
                <a:spcPts val="9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2" marL="1022400" indent="-200880">
              <a:spcBef>
                <a:spcPts val="901"/>
              </a:spcBef>
              <a:buClr>
                <a:srgbClr val="a76b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a76b1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a76b1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AD23-532A-420C-88ED-E79D938455A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685800"/>
            <a:ext cx="6248520" cy="2971800"/>
          </a:xfrm>
          <a:prstGeom prst="cloudCallout">
            <a:avLst>
              <a:gd name="adj1" fmla="val -43370"/>
              <a:gd name="adj2" fmla="val 66935"/>
            </a:avLst>
          </a:prstGeom>
          <a:gradFill rotWithShape="0">
            <a:gsLst>
              <a:gs pos="0">
                <a:srgbClr val="f3e2d1"/>
              </a:gs>
              <a:gs pos="100000">
                <a:srgbClr val="d28b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17181" dir="2438368" blurRad="0" rotWithShape="0">
              <a:srgbClr val="a7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6880" y="114300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8946-5E9C-4C3E-9521-E211BC37B67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09640" y="3733920"/>
            <a:ext cx="206388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2" marL="914400" indent="19080" algn="ctr">
              <a:spcBef>
                <a:spcPts val="499"/>
              </a:spcBef>
              <a:buClr>
                <a:srgbClr val="a76b1b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6b1b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a76b1b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76b1b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6b1b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a76b1b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76b1b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6b1b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a76b1b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6b1b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a76b1b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6b1b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a76b1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6880" y="114300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3399"/>
                </a:solidFill>
                <a:latin typeface="Times New Roman"/>
                <a:ea typeface="標楷體"/>
              </a:rPr>
              <a:t>美食地圖</a:t>
            </a:r>
            <a:endParaRPr b="1" lang="en-US" sz="8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3392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Times New Roman"/>
              </a:rPr>
              <a:t>台南小吃</a:t>
            </a:r>
            <a:endParaRPr b="1" lang="en-US" sz="4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再發號肉粽</a:t>
            </a:r>
            <a:br>
              <a:rPr sz="3600"/>
            </a:b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     台南市民權路二段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71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號  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度小月擔仔麵</a:t>
            </a:r>
            <a:br>
              <a:rPr sz="3600"/>
            </a:b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     台南市中正路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16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號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赤崁食堂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棺材板</a:t>
            </a:r>
            <a:br>
              <a:rPr sz="3600"/>
            </a:b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     台南市康樂街市場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號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3:15:55Z</dcterms:created>
  <dc:creator>user</dc:creator>
  <dc:description/>
  <dc:language>en-US</dc:language>
  <cp:lastModifiedBy>user</cp:lastModifiedBy>
  <dcterms:modified xsi:type="dcterms:W3CDTF">2006-03-10T03:20:18Z</dcterms:modified>
  <cp:revision>1</cp:revision>
  <dc:subject/>
  <dc:title>美食地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8</vt:r8>
  </property>
  <property fmtid="{D5CDD505-2E9C-101B-9397-08002B2CF9AE}" pid="3" name="Version">
    <vt:r8>3</vt:r8>
  </property>
</Properties>
</file>