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7FC-8F70-4CB4-A520-0C6D5A56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948-0F1F-4000-81F7-E6766B1F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DC4-5D61-4FFD-AAFF-41F6F5D8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2A6-5750-4C0B-B1F0-D2D38DD2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75B1-21BF-49F7-A484-D06500BB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E84E-4107-4ECD-8021-2B47EF7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6710-7548-4CC2-9E8E-09413751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CDDF-C715-4495-8966-4544359B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FFBA-51DF-4DD0-8DF9-FEF12D6B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8E4D-5321-47CB-A236-E3A9477B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7BD5-0616-4161-89F6-D1A2369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A6C-5F56-4A97-991B-E7DFECD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F886-EF6B-4B4E-80DB-A7C1C146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8EE0-44C3-42DC-B009-F006652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F484-8D27-4A45-9D51-189E3B8E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BD1D-97BC-44E0-8059-1AE28FF5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117-E275-4DBA-9122-7160CA2D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F1E0-7417-4BB5-B250-E1320571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4190-76DD-4BE5-B7A5-C19545CF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9C11-9298-4376-B136-589D779B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EA5AE-1777-4913-A378-C8FAD13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F122-138B-4E52-B46A-C41E6273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F28-7B31-4F03-B1BE-B192F88B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7A91-D0F6-4D9F-9641-E94C8B2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BF74-2877-48C4-8F75-BAFEA31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1E0E-3028-4A2E-B044-517C501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D4A4-74A0-4F7C-B3F8-7B47482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723C-356B-4B11-AB73-FFFC747A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4C34-D869-4248-BFD7-A92DCBFA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11CC-D436-49FA-B78B-E8CCFD86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28D8-F8AD-4A39-8FB9-7AAEA2E2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62E1-9148-46ED-941D-FE04287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982A-7985-4B2E-9972-0E3B8D2C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463-4B2B-4CDA-9135-DF3CE99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2B9B-C224-4337-8693-8583130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27CF-F59A-402B-8C02-208B0BCE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539A-8774-423D-BF8E-939A1B6E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57F2-C310-4093-86DE-9F5485BE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AD6A-76FD-4377-A869-2E3A36B6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FE40-2E09-4926-AABD-08E76FE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7BB8-B2F3-4344-96A7-BF61E4A0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A8FF-BEB6-4F0A-B249-BE62B95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C7A8-4A10-4B51-8D01-E5757E20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6EE3A-6B73-4750-8CB0-631884B2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DD9-F5D7-4C49-8489-D1506194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62D8-38E3-4804-A6FD-7A0A83A0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12B8-7D8A-4432-9834-20A7A091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5AE2A-F314-4F6B-A159-07C2442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4DC5-68FD-4BE1-B0FE-346D0FE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828E-6AB0-4A24-A8C1-191D0325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20A1-A187-4E21-918F-1BE6108C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BBC1B-9091-43D5-AC8E-241A154B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A234-3A22-4EA4-BF6E-930AEBA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6EC3-0627-452E-A3F1-7EF9D419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1E35-57DC-4717-BC3A-0DCF7148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A78-7F27-4EB0-B00E-B05FE4F9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5B38-C612-4D93-BCE4-9C93879D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1D9-4AC0-4BAE-9400-9E09EE1D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9C2-66E1-42CC-B241-7C3121B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D57-F5F6-483C-A2EB-CE3EAD8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123-64CD-4A7C-B2E8-4BFB03FFB4E1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E80-F656-414C-A85C-B595B5F35512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4504-CA86-40CE-9155-D8CE1C70298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27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408-F7E4-4C2F-A03E-E83BFD9BF391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200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30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1B12-1CE5-456F-8332-4F5622FE2C2D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w.org.tw/index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wow.org.tw/index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980640"/>
            <a:ext cx="6046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006633"/>
                </a:solidFill>
                <a:latin typeface="Garamond"/>
                <a:ea typeface="華康流隸體W5"/>
              </a:rPr>
              <a:t>地球上的生物</a:t>
            </a:r>
            <a:endParaRPr b="0" lang="en-US" sz="7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066920" y="4436640"/>
            <a:ext cx="4529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學生姓名：曾詠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班　　級：三年三班３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172360" y="-1035000"/>
            <a:ext cx="916200" cy="91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880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生 物 的 演 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66560" y="1268280"/>
          <a:ext cx="8137800" cy="4961160"/>
        </p:xfrm>
        <a:graphic>
          <a:graphicData uri="http://schemas.openxmlformats.org/drawingml/2006/table">
            <a:tbl>
              <a:tblPr/>
              <a:tblGrid>
                <a:gridCol w="2027520"/>
                <a:gridCol w="1511280"/>
                <a:gridCol w="2232000"/>
                <a:gridCol w="236700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地球歷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時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當時主要生物類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代表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3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單細胞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藍綠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之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古生代初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多細胞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陸上無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三葉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海洋生物開始向陸地發展，依序是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蕨類→昆蟲→兩棲類→脊椎動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陸上植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維管束植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動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兩棲類及昆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多年前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~650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萬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中生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植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裸子植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動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爬蟲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恐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650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萬年前至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恐龍滅絕後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新生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鳥類、哺乳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百多萬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人類崛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巧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cap="rnd" w="63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95280" y="1341360"/>
            <a:ext cx="8280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地球曾經歷數次大變動，造成生物群集的改變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演化原則：由低等而高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　　　　　　由簡單而複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生物群集的演化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 rot="20049000">
            <a:off x="7020000" y="3016080"/>
            <a:ext cx="647640" cy="1962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43440 h 1962360"/>
              <a:gd name="textAreaBottom" fmla="*/ 1422720 h 19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27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生物群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48942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大滅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4965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大繁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5529600" y="4786920"/>
            <a:ext cx="600120" cy="1947960"/>
          </a:xfrm>
          <a:custGeom>
            <a:avLst/>
            <a:gdLst>
              <a:gd name="textAreaLeft" fmla="*/ 80280 w 600120"/>
              <a:gd name="textAreaRight" fmla="*/ 519840 w 600120"/>
              <a:gd name="textAreaTop" fmla="*/ 340920 h 1947960"/>
              <a:gd name="textAreaBottom" fmla="*/ 1412280 h 19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7107000">
            <a:off x="3583440" y="3616920"/>
            <a:ext cx="1977840" cy="576000"/>
          </a:xfrm>
          <a:custGeom>
            <a:avLst/>
            <a:gdLst>
              <a:gd name="textAreaLeft" fmla="*/ 345960 w 1977840"/>
              <a:gd name="textAreaRight" fmla="*/ 1433880 w 19778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臺灣常見的保育動物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184464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水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360" y="127008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臺灣黑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35280" y="558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台北赤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011560" y="378936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4867200" y="933480"/>
            <a:ext cx="3808440" cy="285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臺灣常見的保育動物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"/>
          <p:cNvSpPr/>
          <p:nvPr/>
        </p:nvSpPr>
        <p:spPr>
          <a:xfrm>
            <a:off x="3852720" y="5661000"/>
            <a:ext cx="1150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梅花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1916280"/>
            <a:ext cx="180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臺灣獼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4590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黑面琵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938840" y="1052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57040" y="25160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938840" y="38847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8:49:45Z</dcterms:created>
  <dc:creator>黛琳</dc:creator>
  <dc:description/>
  <dc:language>en-US</dc:language>
  <cp:lastModifiedBy>e048</cp:lastModifiedBy>
  <dcterms:modified xsi:type="dcterms:W3CDTF">2002-12-31T03:42:09Z</dcterms:modified>
  <cp:revision>24</cp:revision>
  <dc:subject/>
  <dc:title>地球上的生物</dc:title>
</cp:coreProperties>
</file>