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9D7-354C-49B0-B2D5-86B984D8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4A7-28B6-40A0-B914-B7237BF1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F49-F009-456E-9FE4-E271F839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0A9-B589-4600-8F12-31A54F0E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3D7-7232-442D-9879-979AD030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517-D16F-49E2-A8E2-08AB098E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058-1CE0-4614-938A-EE20205D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410-51BF-4363-9C03-FB3CFA71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AED-7D8B-4D7B-8F80-CB2F35C1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0FE-392B-4F94-8A0D-2B4A1F4E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25E-005F-4011-A98A-C7FF1796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DA7-862B-4D65-99AF-D87A8A5F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FE0E-0EDE-4C90-AC4B-97FEF398AF2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6600" spc="-1" strike="noStrike">
              <a:solidFill>
                <a:srgbClr val="ff3300"/>
              </a:solidFill>
              <a:latin typeface="Arial"/>
              <a:ea typeface="華康POP1體W5(P)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主辦者：曾  郝  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時    間：</a:t>
            </a: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92 </a:t>
            </a: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年 </a:t>
            </a: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8 </a:t>
            </a: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cc00"/>
                </a:solidFill>
                <a:latin typeface="Arial"/>
                <a:ea typeface="華康流隸體W5"/>
              </a:rPr>
              <a:t>詳細行程安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第一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桃園中正機場 → 直飛夏威夷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/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檀香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第二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檀香山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/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希羅－柯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第三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檀香山－小環島－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PCC(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遊園、晚餐、呼拉秀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第四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檀香山（自由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第五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檀香山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/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台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327492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cc00"/>
                </a:solidFill>
                <a:latin typeface="Arial"/>
                <a:ea typeface="華康流隸體W5"/>
              </a:rPr>
              <a:t>費用明細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01880" y="1599840"/>
            <a:ext cx="458640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來回機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$20000</a:t>
            </a: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（含機場税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住宿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US$180</a:t>
            </a: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 /</a:t>
            </a: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每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其餘一律計在團費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2754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cc00"/>
                </a:solidFill>
                <a:latin typeface="Arial"/>
                <a:ea typeface="華康流隸體W5"/>
              </a:rPr>
              <a:t>行前注意事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必備物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護照、身份證、個人藥品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集合時間：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7/28 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上午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8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集合地點：桃園機場第一航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1:57:14Z</dcterms:created>
  <dc:creator>e048</dc:creator>
  <dc:description/>
  <dc:language>en-US</dc:language>
  <cp:lastModifiedBy>e048</cp:lastModifiedBy>
  <dcterms:modified xsi:type="dcterms:W3CDTF">2002-12-31T03:28:27Z</dcterms:modified>
  <cp:revision>4</cp:revision>
  <dc:subject/>
  <dc:title>夏威夷五天四夜 熱情逍遙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8</vt:r8>
  </property>
  <property fmtid="{D5CDD505-2E9C-101B-9397-08002B2CF9AE}" pid="3" name="Version">
    <vt:r8>3</vt:r8>
  </property>
</Properties>
</file>