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media/image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67A3D-7071-4F1B-9BE6-8517B0D9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05A7F-F896-409F-B245-C6FC87B9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6013E-D8D5-46D8-BAD5-97A30894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C672D-09CB-4CEE-9DA0-0D55D603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EF6F-5CCB-4D53-8996-493C84B8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A2B0-B7B4-428D-BEF7-BCF13FF9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0FC3-357E-41AD-B7A5-51B7772A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8295-874B-4CDF-A623-4B68C243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9368-3FE3-45E7-9AE3-1BE9B067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91B1-08E2-4686-9FD4-C0902B80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F8CC-B6B7-43B0-8B0C-3439A205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70DE6-967E-43BB-85D0-4B430DC4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5406-E9EF-4532-AE03-BA56D8EC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3F5C-D4CB-46A8-B12F-E6A3EE71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3065-14D1-4DF7-ABBD-C8613A79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0DCC-B8A2-4177-AEC2-0B3D1A60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52FA-E2C2-4273-8C7F-10AC2CCF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5816-F972-491F-82C2-9EE5868C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5A671-0D39-4F2A-9EF1-28DA0D16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A9EC-F94E-43B4-9B27-D9F2B5B6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91027-18DE-44C1-85E5-A802BFA6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09022-D47A-431E-876B-0FC8E5C5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D97E6-1CE4-4391-8232-A8DB37A0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A7325-D039-42D7-A2C9-5C243DAA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ACAD-9A94-44A4-B4C8-C010A984BB5A}" type="slidenum">
              <a:rPr b="0" lang="zh-TW" sz="2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36360" y="-27000"/>
            <a:ext cx="9144000" cy="546120"/>
            <a:chOff x="-36360" y="-2700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-36360" y="-2700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76560" y="108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73320" y="108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11200" y="-2700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1200" y="108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38320" y="247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5400" y="109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3320" y="244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8320" y="382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-27000"/>
            <a:ext cx="9144000" cy="6858000"/>
            <a:chOff x="0" y="-2700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-2700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63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39680"/>
              <a:ext cx="2867040" cy="3157560"/>
              <a:chOff x="0" y="1039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56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63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39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56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63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297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297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297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21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21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89FA-7F27-44AA-BC79-CDDEEF3A934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140000" y="5084640"/>
            <a:ext cx="4537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cc"/>
                </a:solidFill>
                <a:latin typeface="Arial"/>
                <a:ea typeface="華康中黑體(P)"/>
              </a:rPr>
              <a:t>學生姓名：曾詠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cc"/>
                </a:solidFill>
                <a:latin typeface="Arial"/>
                <a:ea typeface="華康中黑體(P)"/>
              </a:rPr>
              <a:t>班　　級：三年三班３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197000"/>
            <a:ext cx="7920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2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華康細圓體"/>
              </a:rPr>
              <a:t>食物與健康的關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華康細圓體"/>
              <a:ea typeface="華康細圓體"/>
            </a:endParaRPr>
          </a:p>
        </p:txBody>
      </p:sp>
    </p:spTree>
  </p:cSld>
  <p:transition>
    <p:zoom dir="out"/>
    <p:sndAc>
      <p:stSnd>
        <p:snd r:embed="rId1" name="las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68360" y="1700280"/>
          <a:ext cx="8137440" cy="4176720"/>
        </p:xfrm>
        <a:graphic>
          <a:graphicData uri="http://schemas.openxmlformats.org/drawingml/2006/table">
            <a:tbl>
              <a:tblPr/>
              <a:tblGrid>
                <a:gridCol w="574560"/>
                <a:gridCol w="601560"/>
                <a:gridCol w="535320"/>
                <a:gridCol w="534960"/>
                <a:gridCol w="531720"/>
                <a:gridCol w="538200"/>
                <a:gridCol w="534960"/>
                <a:gridCol w="538200"/>
                <a:gridCol w="533160"/>
                <a:gridCol w="528840"/>
                <a:gridCol w="542880"/>
                <a:gridCol w="538200"/>
                <a:gridCol w="534960"/>
                <a:gridCol w="536400"/>
                <a:gridCol w="533520"/>
              </a:tblGrid>
              <a:tr h="3988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7d"/>
                      </a:solidFill>
                    </a:lnR>
                    <a:lnT>
                      <a:noFill/>
                    </a:lnT>
                    <a:lnB w="18720">
                      <a:solidFill>
                        <a:srgbClr val="00007d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早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午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晚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00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412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中黑體"/>
                        </a:rPr>
                        <a:t>食物類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蔬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蔬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蔬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水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3316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中黑體"/>
                        </a:rPr>
                        <a:t>食譜舉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雜糧饅頭　一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炒蛋　　　一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生菜沙拉　一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乾飯一至　二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糖醋排骨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鮭魚　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洋蔥胡蘿蔔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炒菠菜　　二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白飯　一至二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蝦仁豆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蔥油雞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炒青椒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魯白菜　　二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蕃石榴　　一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青少年適用之營養食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208A5-A431-48CE-9BF2-E865702696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3640" y="2421000"/>
            <a:ext cx="5267160" cy="3951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 物 的 功 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61952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供給熱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建造或修補體內組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調節生理機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C4B69-CE2A-42D6-98D2-F70978839F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物中的營養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71640" y="1557360"/>
          <a:ext cx="7127640" cy="4335480"/>
        </p:xfrm>
        <a:graphic>
          <a:graphicData uri="http://schemas.openxmlformats.org/drawingml/2006/table">
            <a:tbl>
              <a:tblPr/>
              <a:tblGrid>
                <a:gridCol w="3166920"/>
                <a:gridCol w="3960720"/>
              </a:tblGrid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食   物   類   別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供  給  的  營 養  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五穀根莖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醣類、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奶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鈣質及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蛋、豆、魚、肉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蔬果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維生素、礦物質與纖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油脂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脂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F56D6-0BAB-4223-BB81-447E0A5573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營 養 素 的 種 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1640" y="2606760"/>
            <a:ext cx="8208720" cy="1143000"/>
            <a:chOff x="431640" y="2606760"/>
            <a:chExt cx="8208720" cy="1143000"/>
          </a:xfrm>
        </p:grpSpPr>
        <p:cxnSp>
          <p:nvCxnSpPr>
            <p:cNvPr id="115" name="_s147481"/>
            <p:cNvCxnSpPr>
              <a:stCxn id="116" idx="0"/>
              <a:endCxn id="117" idx="5"/>
            </p:cNvCxnSpPr>
            <p:nvPr/>
          </p:nvCxnSpPr>
          <p:spPr>
            <a:xfrm flipV="1" rot="16200000">
              <a:off x="6174000" y="1425960"/>
              <a:ext cx="229320" cy="3503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8" name="_s147477"/>
            <p:cNvCxnSpPr>
              <a:stCxn id="119" idx="0"/>
              <a:endCxn id="117" idx="4"/>
            </p:cNvCxnSpPr>
            <p:nvPr/>
          </p:nvCxnSpPr>
          <p:spPr>
            <a:xfrm flipV="1" rot="16200000">
              <a:off x="4772880" y="2827800"/>
              <a:ext cx="229320" cy="7002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" name="_s147475"/>
            <p:cNvCxnSpPr>
              <a:stCxn id="121" idx="0"/>
              <a:endCxn id="117" idx="3"/>
            </p:cNvCxnSpPr>
            <p:nvPr/>
          </p:nvCxnSpPr>
          <p:spPr>
            <a:xfrm flipV="1" rot="16200000">
              <a:off x="5473800" y="2126880"/>
              <a:ext cx="229320" cy="2102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" name="_s147469"/>
            <p:cNvCxnSpPr>
              <a:stCxn id="123" idx="0"/>
              <a:endCxn id="117" idx="2"/>
            </p:cNvCxnSpPr>
            <p:nvPr/>
          </p:nvCxnSpPr>
          <p:spPr>
            <a:xfrm flipH="1" flipV="1" rot="5400000">
              <a:off x="4071600" y="2826360"/>
              <a:ext cx="229320" cy="703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4" name="_s147468"/>
            <p:cNvCxnSpPr>
              <a:stCxn id="125" idx="0"/>
              <a:endCxn id="117" idx="1"/>
            </p:cNvCxnSpPr>
            <p:nvPr/>
          </p:nvCxnSpPr>
          <p:spPr>
            <a:xfrm flipH="1" flipV="1" rot="5400000">
              <a:off x="3370680" y="2125440"/>
              <a:ext cx="229320" cy="2104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" name="_s147467"/>
            <p:cNvCxnSpPr>
              <a:stCxn id="127" idx="0"/>
              <a:endCxn id="117" idx="0"/>
            </p:cNvCxnSpPr>
            <p:nvPr/>
          </p:nvCxnSpPr>
          <p:spPr>
            <a:xfrm flipH="1" flipV="1" rot="5400000">
              <a:off x="2670480" y="1425240"/>
              <a:ext cx="229320" cy="3505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7" name="_s147463"/>
            <p:cNvSpPr/>
            <p:nvPr/>
          </p:nvSpPr>
          <p:spPr>
            <a:xfrm>
              <a:off x="3931920" y="2606760"/>
              <a:ext cx="120816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Arial"/>
                </a:rPr>
                <a:t>六大營養素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47464"/>
            <p:cNvSpPr/>
            <p:nvPr/>
          </p:nvSpPr>
          <p:spPr>
            <a:xfrm>
              <a:off x="431640" y="3292560"/>
              <a:ext cx="120096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Arial"/>
                </a:rPr>
                <a:t>醣類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47465"/>
            <p:cNvSpPr/>
            <p:nvPr/>
          </p:nvSpPr>
          <p:spPr>
            <a:xfrm>
              <a:off x="1833120" y="3292560"/>
              <a:ext cx="120096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Arial"/>
                </a:rPr>
                <a:t>脂肪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47466"/>
            <p:cNvSpPr/>
            <p:nvPr/>
          </p:nvSpPr>
          <p:spPr>
            <a:xfrm>
              <a:off x="3234960" y="3292560"/>
              <a:ext cx="120060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Arial"/>
                </a:rPr>
                <a:t>蛋白質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47474"/>
            <p:cNvSpPr/>
            <p:nvPr/>
          </p:nvSpPr>
          <p:spPr>
            <a:xfrm>
              <a:off x="6037920" y="3292560"/>
              <a:ext cx="120060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Arial"/>
                </a:rPr>
                <a:t>維生素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47476"/>
            <p:cNvSpPr/>
            <p:nvPr/>
          </p:nvSpPr>
          <p:spPr>
            <a:xfrm>
              <a:off x="4636080" y="3292560"/>
              <a:ext cx="120096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Arial"/>
                </a:rPr>
                <a:t>礦物質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47480"/>
            <p:cNvSpPr/>
            <p:nvPr/>
          </p:nvSpPr>
          <p:spPr>
            <a:xfrm>
              <a:off x="7439400" y="3292560"/>
              <a:ext cx="120096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Arial"/>
                </a:rPr>
                <a:t>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97336-2924-4364-AB95-A8F116E639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營養素對健康的影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11280" y="1773360"/>
          <a:ext cx="7848360" cy="4589280"/>
        </p:xfrm>
        <a:graphic>
          <a:graphicData uri="http://schemas.openxmlformats.org/drawingml/2006/table">
            <a:tbl>
              <a:tblPr/>
              <a:tblGrid>
                <a:gridCol w="1584360"/>
                <a:gridCol w="3384360"/>
                <a:gridCol w="2879640"/>
              </a:tblGrid>
              <a:tr h="53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素的功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不良易得之疾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保護上皮組織和眼睛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乾眼症、夜盲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B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群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促進熱量與蛋白質的新陳代謝與安定神經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腳氣病、神經發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口角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構成軟骨、結締組織和細胞組織間的膠原物質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壞血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75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幫助人體吸收及利用鈣與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軟骨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鈣、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骨骼與牙齒主要的成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骨質疏鬆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甲狀腺素的重要元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甲狀腺腫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血紅素的主要成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貧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34EAF-96D2-4EA7-9CB7-B6851644B82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 物 與 記 憶 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00000" y="1844640"/>
          <a:ext cx="7344000" cy="4176720"/>
        </p:xfrm>
        <a:graphic>
          <a:graphicData uri="http://schemas.openxmlformats.org/drawingml/2006/table">
            <a:tbl>
              <a:tblPr/>
              <a:tblGrid>
                <a:gridCol w="2473560"/>
                <a:gridCol w="4870440"/>
              </a:tblGrid>
              <a:tr h="12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Arial"/>
                          <a:ea typeface="華康粗圓體"/>
                        </a:rPr>
                        <a:t>提升記憶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Arial"/>
                          <a:ea typeface="華康粗圓體"/>
                        </a:rPr>
                        <a:t>銀杏、迷佚香、卵磷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2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Arial"/>
                          <a:ea typeface="華康粗圓體"/>
                        </a:rPr>
                        <a:t>破壞記憶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Arial"/>
                          <a:ea typeface="華康粗圓體"/>
                        </a:rPr>
                        <a:t>咖啡、酒精、白麵粉、火雞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68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華康粗圓體"/>
                          <a:ea typeface="華康粗圓體"/>
                        </a:rPr>
                        <a:t>增加學習效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葡萄糖、維生素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B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群﹑蛋白質﹑鐵質﹑葉﹑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DHA﹑EPA﹑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卵磷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7BE1C-428C-44C6-91E1-12AFA45B92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青 少 年 飲 食 須 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497844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多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多喝水，少喝飲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定時定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少吃速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D0CED-86F3-477B-83DE-96A7C1B884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1700280"/>
            <a:ext cx="7632720" cy="1657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身體質量指數（</a:t>
            </a: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BMI</a:t>
            </a: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）＝體重</a:t>
            </a:r>
            <a:r>
              <a:rPr b="1" lang="zh-TW" sz="3200" spc="-1" strike="noStrike">
                <a:solidFill>
                  <a:srgbClr val="0033cc"/>
                </a:solidFill>
                <a:latin typeface="Arial"/>
                <a:ea typeface="華康細圓體"/>
              </a:rPr>
              <a:t>÷</a:t>
            </a:r>
            <a:r>
              <a:rPr b="1" lang="zh-TW" sz="3200" spc="-1" strike="noStrike">
                <a:solidFill>
                  <a:srgbClr val="0033cc"/>
                </a:solidFill>
                <a:latin typeface="Arial"/>
                <a:ea typeface="華康細圓體"/>
              </a:rPr>
              <a:t>身高</a:t>
            </a:r>
            <a:r>
              <a:rPr b="1" lang="zh-TW" sz="3200" spc="-1" strike="noStrike" baseline="60000">
                <a:solidFill>
                  <a:srgbClr val="0033cc"/>
                </a:solidFill>
                <a:latin typeface="Arial"/>
                <a:ea typeface="華康細圓體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（單位：體重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-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公斤，身高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-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公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理 想 的體 重 標 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50600" y="3860640"/>
            <a:ext cx="60166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&lt;18.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ff9933"/>
                </a:solidFill>
                <a:latin typeface="Arial"/>
                <a:ea typeface="華康中明體"/>
              </a:rPr>
              <a:t>體重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=18.5~22.9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006600"/>
                </a:solidFill>
                <a:latin typeface="Arial"/>
                <a:ea typeface="華康中明體"/>
              </a:rPr>
              <a:t>標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=23~24.9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cc66ff"/>
                </a:solidFill>
                <a:latin typeface="Arial"/>
                <a:ea typeface="華康中明體"/>
              </a:rPr>
              <a:t>過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&gt;2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華康中明體"/>
              </a:rPr>
              <a:t>肥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F5202-987E-48FF-9E63-BA7EAAB354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熱 量 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-855720" y="1200240"/>
          <a:ext cx="9053640" cy="56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5720" y="1200240"/>
                    <a:ext cx="9053640" cy="56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9E436-FF7F-485D-ADDB-B42D87BFC1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21:36Z</dcterms:created>
  <dc:creator>黛琳</dc:creator>
  <dc:description/>
  <dc:language>en-US</dc:language>
  <cp:lastModifiedBy>e055</cp:lastModifiedBy>
  <dcterms:modified xsi:type="dcterms:W3CDTF">2005-06-02T09:53:13Z</dcterms:modified>
  <cp:revision>85</cp:revision>
  <dc:subject/>
  <dc:title>投影片 1</dc:title>
</cp:coreProperties>
</file>