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E096-4CC6-4175-8D3D-895B6FC6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ABD4-FC07-47F7-BB8E-291CA51C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61FE-4A7E-4134-9018-CA7F7EBD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2951-2BDF-4CD4-856E-9C568ADD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342-B104-4ABB-9A49-BBAEEC4D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BDEB-06EC-4C28-8472-D6F123E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B43-2B43-4112-BCAF-3BDA04D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22F6-DFC8-4A30-BE33-85DA28E8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7B0-81B1-49FF-A766-C897008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CE8-1530-4D87-AF85-C327EE2A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825-40EF-4C10-BDA7-51BCC3D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7B07-76C6-4D29-A85A-6C44D6F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F31-DD17-4E2F-A02B-7D410CC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0D67-C584-4A89-A454-D536746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B344-3D92-46EF-A39C-C5699CA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ECE0-385C-4498-B508-6C9B47D9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0F0-509B-448A-B1DF-BA3583BD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1299-4603-46FC-B751-C11D18E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42A0-CD93-40B0-B435-3FC778CE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8E5A-FB3E-4A97-AF61-CCDF3DC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D65C-816B-4517-BAF0-E9A364C8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C1DD-0C7A-4167-B813-105DB86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B0B6-EB19-49C7-8EDD-5ACF820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1FCF-44E4-4D4B-BF93-FAFBDFE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D1B-6B0F-44C3-ADD3-FDF2C0E32C4A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44D-89FC-4C50-8262-E8262EFE3DB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6673-9775-4F71-8D8A-4B229B9C85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0092-5BD0-4A4D-9ECA-EEF4122A2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1EF7-E5A5-4909-90B8-CCE2639E1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720" cy="1528200"/>
            <a:chOff x="431640" y="1971720"/>
            <a:chExt cx="8208720" cy="1528200"/>
          </a:xfrm>
        </p:grpSpPr>
        <p:cxnSp>
          <p:nvCxnSpPr>
            <p:cNvPr id="115" name="_s154629"/>
            <p:cNvCxnSpPr>
              <a:stCxn id="116" idx="0"/>
              <a:endCxn id="117" idx="5"/>
            </p:cNvCxnSpPr>
            <p:nvPr/>
          </p:nvCxnSpPr>
          <p:spPr>
            <a:xfrm flipV="1" rot="16200000">
              <a:off x="4732560" y="2384640"/>
              <a:ext cx="306360" cy="70128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_s154630"/>
            <p:cNvCxnSpPr>
              <a:stCxn id="119" idx="0"/>
              <a:endCxn id="117" idx="4"/>
            </p:cNvCxnSpPr>
            <p:nvPr/>
          </p:nvCxnSpPr>
          <p:spPr>
            <a:xfrm flipV="1" rot="16200000">
              <a:off x="5433480" y="1683720"/>
              <a:ext cx="306360" cy="210312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_s154631"/>
            <p:cNvCxnSpPr>
              <a:stCxn id="121" idx="0"/>
              <a:endCxn id="117" idx="3"/>
            </p:cNvCxnSpPr>
            <p:nvPr/>
          </p:nvCxnSpPr>
          <p:spPr>
            <a:xfrm flipV="1" rot="16200000">
              <a:off x="6134400" y="982800"/>
              <a:ext cx="306360" cy="350496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_s154632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4033080" y="2386080"/>
              <a:ext cx="306360" cy="69876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_s154633"/>
            <p:cNvCxnSpPr>
              <a:stCxn id="125" idx="0"/>
              <a:endCxn id="117" idx="1"/>
            </p:cNvCxnSpPr>
            <p:nvPr/>
          </p:nvCxnSpPr>
          <p:spPr>
            <a:xfrm flipH="1" flipV="1" rot="5400000">
              <a:off x="3332160" y="1685160"/>
              <a:ext cx="306360" cy="210060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_s154634"/>
            <p:cNvCxnSpPr>
              <a:stCxn id="127" idx="0"/>
              <a:endCxn id="117" idx="0"/>
            </p:cNvCxnSpPr>
            <p:nvPr/>
          </p:nvCxnSpPr>
          <p:spPr>
            <a:xfrm flipH="1" flipV="1" rot="5400000">
              <a:off x="2631600" y="984240"/>
              <a:ext cx="306360" cy="350244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_s154635"/>
            <p:cNvSpPr/>
            <p:nvPr/>
          </p:nvSpPr>
          <p:spPr>
            <a:xfrm>
              <a:off x="3934800" y="197172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六大營養素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54636"/>
            <p:cNvSpPr/>
            <p:nvPr/>
          </p:nvSpPr>
          <p:spPr>
            <a:xfrm>
              <a:off x="43164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醣類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54637"/>
            <p:cNvSpPr/>
            <p:nvPr/>
          </p:nvSpPr>
          <p:spPr>
            <a:xfrm>
              <a:off x="183312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脂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4638"/>
            <p:cNvSpPr/>
            <p:nvPr/>
          </p:nvSpPr>
          <p:spPr>
            <a:xfrm>
              <a:off x="323496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蛋白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4639"/>
            <p:cNvSpPr/>
            <p:nvPr/>
          </p:nvSpPr>
          <p:spPr>
            <a:xfrm>
              <a:off x="743904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4640"/>
            <p:cNvSpPr/>
            <p:nvPr/>
          </p:nvSpPr>
          <p:spPr>
            <a:xfrm>
              <a:off x="603720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維生素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54641"/>
            <p:cNvSpPr/>
            <p:nvPr/>
          </p:nvSpPr>
          <p:spPr>
            <a:xfrm>
              <a:off x="4636800" y="2888640"/>
              <a:ext cx="120024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礦物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36F1-4871-4E2F-A72E-E96F954A6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3855-805C-4F45-B5DD-13B567B566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CB68-300D-4690-A14C-8259B3A8FE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EEF0-BCC4-404A-8E5C-4ADE91929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9C40-2631-41CE-AAA4-38689FE0D4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EEAF-3BE1-47CB-8328-1E32BF6FB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55</cp:lastModifiedBy>
  <dcterms:modified xsi:type="dcterms:W3CDTF">2005-06-02T09:51:40Z</dcterms:modified>
  <cp:revision>84</cp:revision>
  <dc:subject/>
  <dc:title>投影片 1</dc:title>
</cp:coreProperties>
</file>