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0A01-2353-4F57-9DC0-2E84F892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0600-9B01-416C-8756-190EFF4F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66B3-8A05-4C9C-9E22-934679CE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2A24-18F2-45C4-8F82-40074EA1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3E4B-A610-4FC7-8D43-EAE2D739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CB1-B7E9-4775-909A-3164C4EB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B068-2466-4F6D-8869-4D47F99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7588-91F1-4092-97B9-CD38C41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12C0-DA49-451C-B0B2-A9182BD8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4166-362C-4D3A-85B7-4761E4DE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7822-0843-469D-9FE3-D3EA9A66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8FE6-6D34-4FE7-9377-F633DE13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0C13-E0E0-4A3B-BEC3-0EAF85D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57CF-A81B-42E7-AC66-DF1DB033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3E4A-B3C0-4543-9B2D-E2717922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D292-378D-4A17-B32A-649A83AC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C2DC-0B8F-4B63-AC16-A0D57CBC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9336-639A-466D-A4B2-7BD56795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BA69-4A51-4D26-B970-DC54C877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EBA0-F10F-4169-838A-BF394DD9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5F25-CAFF-406E-BD3A-AC294CDF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E526-828E-458E-9F73-B69EBED1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4927-030B-4FD5-8FB2-08C022B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8CB5-F9B3-4FE1-AD47-4A6A425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4B3E-71E0-4DB8-963A-BC300381103A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360" y="-27000"/>
            <a:ext cx="9144000" cy="546120"/>
            <a:chOff x="-36360" y="-2700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-36360" y="-270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6560" y="108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3320" y="108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1200" y="-270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1200" y="108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320" y="247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" y="109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3320" y="244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8320" y="382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27000"/>
            <a:ext cx="9144000" cy="6858000"/>
            <a:chOff x="0" y="-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-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63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39680"/>
              <a:ext cx="2867040" cy="3157560"/>
              <a:chOff x="0" y="1039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56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63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39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56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63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297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297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297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21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21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BA1D-4076-45B9-9376-DA8381A292D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140000" y="508464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學生姓名：曾詠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班　　級：三年三班３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97000"/>
            <a:ext cx="79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細圓體"/>
              </a:rPr>
              <a:t>食物與健康的關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細圓體"/>
              <a:ea typeface="華康細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68360" y="1700280"/>
          <a:ext cx="8137440" cy="4176720"/>
        </p:xfrm>
        <a:graphic>
          <a:graphicData uri="http://schemas.openxmlformats.org/drawingml/2006/table">
            <a:tbl>
              <a:tblPr/>
              <a:tblGrid>
                <a:gridCol w="574560"/>
                <a:gridCol w="601560"/>
                <a:gridCol w="535320"/>
                <a:gridCol w="534960"/>
                <a:gridCol w="531720"/>
                <a:gridCol w="538200"/>
                <a:gridCol w="534960"/>
                <a:gridCol w="538200"/>
                <a:gridCol w="533160"/>
                <a:gridCol w="528840"/>
                <a:gridCol w="542880"/>
                <a:gridCol w="538200"/>
                <a:gridCol w="534960"/>
                <a:gridCol w="536400"/>
                <a:gridCol w="533520"/>
              </a:tblGrid>
              <a:tr h="398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7d"/>
                      </a:solidFill>
                    </a:lnR>
                    <a:lnT>
                      <a:noFill/>
                    </a:lnT>
                    <a:lnB w="18720">
                      <a:solidFill>
                        <a:srgbClr val="00007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早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午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晚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41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物類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蔬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水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31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譜舉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雜糧饅頭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炒蛋　　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生菜沙拉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乾飯一至　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糖醋排骨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鮭魚　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洋蔥胡蘿蔔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炒菠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白飯　一至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蝦仁豆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蔥油雞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炒青椒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魯白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蕃石榴　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少年適用之營養食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8A48-2CED-40C5-A796-9B85C4CAE4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267160" cy="39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的 功 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19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供給熱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建造或修補體內組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調節生理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DBD6-A667-49CC-8999-7A2C4D66FC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物中的營養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557360"/>
          <a:ext cx="7127640" cy="4335480"/>
        </p:xfrm>
        <a:graphic>
          <a:graphicData uri="http://schemas.openxmlformats.org/drawingml/2006/table">
            <a:tbl>
              <a:tblPr/>
              <a:tblGrid>
                <a:gridCol w="3166920"/>
                <a:gridCol w="39607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食   物   類   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供  給  的  營 養  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五穀根莖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醣類、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奶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鈣質及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、豆、魚、肉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蔬果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維生素、礦物質與纖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油脂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脂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5541-D9DB-4C51-AD74-3E72C61EA4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 養 素 的 種 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418B-E90F-4BC5-A605-1211BCA3D3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養素對健康的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1773360"/>
          <a:ext cx="7848360" cy="4589280"/>
        </p:xfrm>
        <a:graphic>
          <a:graphicData uri="http://schemas.openxmlformats.org/drawingml/2006/table">
            <a:tbl>
              <a:tblPr/>
              <a:tblGrid>
                <a:gridCol w="1584360"/>
                <a:gridCol w="3384360"/>
                <a:gridCol w="2879640"/>
              </a:tblGrid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的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不良易得之疾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保護上皮組織和眼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乾眼症、夜盲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B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促進熱量與蛋白質的新陳代謝與安定神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腳氣病、神經發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口角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構成軟骨、結締組織和細胞組織間的膠原物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壞血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幫助人體吸收及利用鈣與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軟骨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鈣、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骼與牙齒主要的成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質疏鬆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素的重要元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腫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血紅素的主要成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貧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60F1-6F3B-454F-8AC4-06ADBEA3E2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與 記 憶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00000" y="1844640"/>
          <a:ext cx="7344000" cy="4176720"/>
        </p:xfrm>
        <a:graphic>
          <a:graphicData uri="http://schemas.openxmlformats.org/drawingml/2006/table">
            <a:tbl>
              <a:tblPr/>
              <a:tblGrid>
                <a:gridCol w="2473560"/>
                <a:gridCol w="487044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提升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銀杏、迷佚香、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破壞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咖啡、酒精、白麵粉、火雞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粗圓體"/>
                          <a:ea typeface="華康粗圓體"/>
                        </a:rPr>
                        <a:t>增加學習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葡萄糖、維生素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B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群﹑蛋白質﹑鐵質﹑葉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DHA﹑EPA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98F0-1F1E-4ADD-9A6A-21D4719917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 少 年 飲 食 須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978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喝水，少喝飲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定時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少吃速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0353-AC94-40DE-BE9E-89C4938D2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5640" y="1700280"/>
            <a:ext cx="7632720" cy="16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身體質量指數（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BMI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）＝體重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÷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身高</a:t>
            </a:r>
            <a:r>
              <a:rPr b="1" lang="zh-TW" sz="3200" spc="-1" strike="noStrike" baseline="60000">
                <a:solidFill>
                  <a:srgbClr val="0033cc"/>
                </a:solidFill>
                <a:latin typeface="Arial"/>
                <a:ea typeface="華康細圓體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（單位：體重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斤，身高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理 想 的體 重 標 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50600" y="3860640"/>
            <a:ext cx="6016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lt;18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9933"/>
                </a:solidFill>
                <a:latin typeface="Arial"/>
                <a:ea typeface="華康中明體"/>
              </a:rPr>
              <a:t>體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18.5~22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006600"/>
                </a:solidFill>
                <a:latin typeface="Arial"/>
                <a:ea typeface="華康中明體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23~24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cc66ff"/>
                </a:solidFill>
                <a:latin typeface="Arial"/>
                <a:ea typeface="華康中明體"/>
              </a:rPr>
              <a:t>過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gt;2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華康中明體"/>
              </a:rPr>
              <a:t>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40D0-3E09-464D-9158-2A4D48D0C9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熱 量 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D5C9-D0F6-4453-AA7A-97D1A67C2B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21:36Z</dcterms:created>
  <dc:creator>黛琳</dc:creator>
  <dc:description/>
  <dc:language>en-US</dc:language>
  <cp:lastModifiedBy>e048</cp:lastModifiedBy>
  <dcterms:modified xsi:type="dcterms:W3CDTF">2002-11-26T10:06:05Z</dcterms:modified>
  <cp:revision>82</cp:revision>
  <dc:subject/>
  <dc:title>投影片 1</dc:title>
</cp:coreProperties>
</file>