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FDBA-4511-4204-BC39-F5EB53C7C50C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421E-D08E-4735-96AE-1584E5899F1B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648-6CE4-41F5-9B7C-6AE3087A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92D-4E24-4193-AC3B-7775A220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5D9-06F0-481E-9B02-C6065744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BC9-AFB7-480F-A4DD-37123419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156-5BD0-4967-8FA2-D653C86D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B7F-B3F0-4EA1-94FF-ED2D5B8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126C-1EE4-44E0-9BD8-8AA59028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D54-57F5-4D63-94B0-C5AE7951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3E76-D633-45C0-8BC9-0D9EA046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0AF2-ECF5-42B6-A8BE-4FBBC5AD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7CE-2C3C-4037-A0C7-8F48553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27E-3C51-4F9E-AB27-51E33435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9543-C1F2-46DF-854D-45CB14B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D14B-1693-4FEF-A060-B0BBBA8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E32-2EE9-42C5-8B14-CB456B38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F08-5EE5-4F69-8A89-258CA173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4643-11F7-4E65-814A-883384DE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E99-164B-4FE5-A4CC-356FD409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600-3EE2-492C-B90B-36F33649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21A-2D6B-457C-A4E5-9CC47E8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A49-F495-474B-A666-3D4AC592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727-55F2-4692-A49F-3276701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98F-1948-440B-81F8-7E053A0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A83-30E7-45E8-B40B-40DD9A9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545-EB4B-4FA9-8A3E-444A12ADAE01}" type="datetime3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二〇二六年七月三十一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A5F7-5783-4E4B-A479-52F2098A6161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F63-B180-4A91-AE3A-164A9784A962}" type="datetime3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二〇二六年七月三十一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B06-853A-4FF3-97CF-8BBAF0A6E578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1320" y="2468520"/>
            <a:ext cx="2962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29120" y="2468520"/>
            <a:ext cx="30276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87A-E868-434A-88F7-78EB4734B983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BDFCC-CA94-415D-806D-12AA24ADD632}" type="datetime3">
              <a:rPr lang="en-US"/>
              <a:t>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38280" y="1873080"/>
            <a:ext cx="47800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E32-1B38-403F-9C45-24F272ADE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DD1E1-A07F-4507-989E-A4AF916204EE}" type="datetime3">
              <a:rPr lang="en-US"/>
              <a:t>July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-109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05480" y="2025720"/>
            <a:ext cx="377640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B07-148E-4385-868B-42EB92E981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F13DD-D586-4DE1-8699-750B41C530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5600" y="253800"/>
            <a:ext cx="3504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92200" y="1857240"/>
          <a:ext cx="6194520" cy="3625920"/>
        </p:xfrm>
        <a:graphic>
          <a:graphicData uri="http://schemas.openxmlformats.org/drawingml/2006/table">
            <a:tbl>
              <a:tblPr/>
              <a:tblGrid>
                <a:gridCol w="1567440"/>
                <a:gridCol w="4627080"/>
              </a:tblGrid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1C4-5B96-4C16-B554-BDFEBA00D8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00F2C-1999-445B-95B2-60B95508C66F}" type="datetime3">
              <a:rPr lang="en-US"/>
              <a:t>July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67960" y="-576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DBA-ACF8-40A3-8AE4-674A283E73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CE53B-CD9E-444C-AF85-3AEB9F3B7BE2}" type="datetime3">
              <a:rPr lang="en-US"/>
              <a:t>July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7200" y="150840"/>
            <a:ext cx="4545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74F-AF38-4371-BE80-162A1BA3C8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8955F-C37B-4D3A-9C60-6FE91D3EA112}" type="datetime3">
              <a:rPr lang="en-US"/>
              <a:t>July 31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2720" y="-18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73160" y="371808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40280" y="1828800"/>
            <a:ext cx="3054240" cy="176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940280" y="3718080"/>
            <a:ext cx="3054240" cy="17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155-A202-4FB1-8E56-A2EEC9F2BF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F6DB0-D377-41E6-B9D8-3593CAA45F3F}" type="datetime3">
              <a:rPr lang="en-US"/>
              <a:t>July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55F-C1E5-459C-9298-A77A6A3438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9E3C3-47AA-44CC-A1C0-BE5063F4B87C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57:39Z</dcterms:modified>
  <cp:revision>113</cp:revision>
  <dc:subject/>
  <dc:title>自我介紹</dc:title>
</cp:coreProperties>
</file>