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9E58-7751-4688-AF62-36BEA64C81DB}" type="datetime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115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041120" y="721800"/>
            <a:ext cx="4808520" cy="360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9040" y="4568760"/>
            <a:ext cx="55101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903840" y="914040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F610-FBE5-4F8B-BA6F-451894A2A3A1}" type="slidenum"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041480" y="722160"/>
            <a:ext cx="4808520" cy="3606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9040" y="4568760"/>
            <a:ext cx="55101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先簡介一下整個簡報的大綱，也可以從這裡點選直接到那個主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2147-2831-49A3-B733-1B3ABB8C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6BAB-1CF0-4022-A258-DB78A4C6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F1FD-C45A-4359-A5C2-7EFCE4D18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4740-C29E-4F5B-ADC6-E5A11351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2DE6-861B-4D21-9BF4-9039EF28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5DB5-4F06-4EA4-878D-CACE2078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627B-32FE-470F-ADD5-D8177D2A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FD69-C49B-4864-BFE8-B17D8F4A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2792-64CD-4A0D-984F-F5E24EE8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BF4C-34C9-4FEE-AA08-F380EA9B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FABB-60A9-4334-A2BB-80649300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9B89-3C5B-42A0-92C0-0223351E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569B-1AC1-4A46-9D45-21F72CAE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FB57-A062-4AE9-A1B8-BCEE8A64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7B3B-D698-4A46-B72C-6F2A4E1F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206B-63DF-4213-9900-C1073EF8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9B9E-6AF6-4B07-AC74-1BA31A4B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8CA5-F66D-4738-BE5E-BDBDF195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9DF6-193A-454C-8965-AC0C45A8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48FA-0357-4915-9C92-E2ACECE6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6681-F3AE-4463-9B22-ED092A3F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885-8418-469E-9760-096987CC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F8FC-2887-48C8-BC3C-BB1EEDB2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C81F-103E-43D6-81A6-5C9C562C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27F3-48EE-4902-AFF4-C90EAC5AD4E8}" type="datetime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4FAE-9A72-48E6-A4B3-C4EA79628FE0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375E-4B9E-42F0-96ED-EE908AA0EF7F}" type="datetime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580D-043F-4C13-9FE4-0E9A31169DF9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390680" y="387144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畢上中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三年忠班</a:t>
            </a:r>
            <a:r>
              <a:rPr b="0" lang="zh-TW" sz="36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13</a:t>
            </a:r>
            <a:r>
              <a:rPr b="0" lang="zh-TW" sz="36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曾詠欣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258920" y="836640"/>
            <a:ext cx="6624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華康超明體"/>
              </a:rPr>
              <a:t>自我介紹</a:t>
            </a:r>
            <a:endParaRPr b="0" lang="en-US" sz="60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華康超明體"/>
              <a:ea typeface="華康超明體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自我介紹內容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1320" y="2468520"/>
            <a:ext cx="2962080" cy="27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Comic Sans MS"/>
                <a:ea typeface="華康細圓體"/>
              </a:rPr>
              <a:t>基本資料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5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Comic Sans MS"/>
                <a:ea typeface="華康細圓體"/>
              </a:rPr>
              <a:t>專長與興趣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5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Comic Sans MS"/>
                <a:ea typeface="華康細圓體"/>
              </a:rPr>
              <a:t>社團經驗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29120" y="2468520"/>
            <a:ext cx="302760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Comic Sans MS"/>
                <a:ea typeface="華康細圓體"/>
              </a:rPr>
              <a:t>才藝比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45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Comic Sans MS"/>
                <a:ea typeface="華康細圓體"/>
              </a:rPr>
              <a:t>我的座右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45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Comic Sans MS"/>
                <a:ea typeface="華康細圓體"/>
              </a:rPr>
              <a:t>生活點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秘密檔案</a:t>
            </a:r>
            <a:r>
              <a:rPr b="0" lang="zh-TW" sz="4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----</a:t>
            </a:r>
            <a:r>
              <a:rPr b="0" lang="zh-TW" sz="4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我的基本資料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38280" y="1873080"/>
            <a:ext cx="478008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生日：民國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79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年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2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月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30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身高：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152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公分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體重：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40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公斤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家中成員</a:t>
            </a:r>
            <a:r>
              <a:rPr b="1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爸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媽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哥哥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小花（狗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0200" y="-1098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Comic Sans MS"/>
                <a:ea typeface="華康細圓體"/>
              </a:rPr>
              <a:t>專長與興趣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420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Comic Sans MS"/>
              </a:rPr>
              <a:t>專長：長笛、素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Comic Sans MS"/>
              </a:rPr>
              <a:t>興趣：打桌球、看小說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05480" y="2025720"/>
            <a:ext cx="37764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65600" y="253800"/>
            <a:ext cx="35049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社團經驗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492200" y="1857240"/>
          <a:ext cx="6194520" cy="3625920"/>
        </p:xfrm>
        <a:graphic>
          <a:graphicData uri="http://schemas.openxmlformats.org/drawingml/2006/table">
            <a:tbl>
              <a:tblPr/>
              <a:tblGrid>
                <a:gridCol w="1567440"/>
                <a:gridCol w="4627080"/>
              </a:tblGrid>
              <a:tr h="78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階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0099"/>
                      </a:solidFill>
                    </a:lnR>
                    <a:lnT w="1440">
                      <a:solidFill>
                        <a:srgbClr val="0066ff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社團（職稱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99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440">
                      <a:solidFill>
                        <a:srgbClr val="0066ff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小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Comic Sans MS"/>
                          <a:ea typeface="華康細圓體"/>
                        </a:rPr>
                        <a:t>樂隊（長笛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99"/>
                      </a:solidFill>
                    </a:lnL>
                    <a:lnR>
                      <a:noFill/>
                    </a:lnR>
                    <a:lnT w="38160">
                      <a:solidFill>
                        <a:srgbClr val="000099"/>
                      </a:solidFill>
                    </a:lnT>
                    <a:lnB w="1440">
                      <a:solidFill>
                        <a:srgbClr val="fffec9"/>
                      </a:solidFill>
                    </a:lnB>
                    <a:solidFill>
                      <a:srgbClr val="fffd97"/>
                    </a:solidFill>
                  </a:tcPr>
                </a:tc>
              </a:tr>
              <a:tr h="67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國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33cc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Comic Sans MS"/>
                          <a:ea typeface="華康細圓體"/>
                        </a:rPr>
                        <a:t>桌球社（社員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33cc"/>
                      </a:solidFill>
                    </a:lnL>
                    <a:lnR w="18720">
                      <a:solidFill>
                        <a:srgbClr val="fffdb1"/>
                      </a:solidFill>
                    </a:lnR>
                    <a:lnT w="1440">
                      <a:solidFill>
                        <a:srgbClr val="fffec9"/>
                      </a:solidFill>
                    </a:lnT>
                    <a:lnB w="38160">
                      <a:solidFill>
                        <a:srgbClr val="c8c300"/>
                      </a:solidFill>
                    </a:lnB>
                    <a:solidFill>
                      <a:srgbClr val="fffdb1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國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Comic Sans MS"/>
                          <a:ea typeface="華康細圓體"/>
                        </a:rPr>
                        <a:t>桌球社（學藝股長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99"/>
                      </a:solidFill>
                    </a:lnL>
                    <a:lnR>
                      <a:noFill/>
                    </a:lnR>
                    <a:lnT w="38160">
                      <a:solidFill>
                        <a:srgbClr val="c8c300"/>
                      </a:solidFill>
                    </a:lnT>
                    <a:lnB w="1440">
                      <a:solidFill>
                        <a:srgbClr val="fffec9"/>
                      </a:solidFill>
                    </a:lnB>
                    <a:solidFill>
                      <a:srgbClr val="fffd97"/>
                    </a:solidFill>
                  </a:tcPr>
                </a:tc>
              </a:tr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國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33cc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Comic Sans MS"/>
                          <a:ea typeface="華康細圓體"/>
                        </a:rPr>
                        <a:t>桌球社（副社長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33cc"/>
                      </a:solidFill>
                    </a:lnL>
                    <a:lnR w="18720">
                      <a:solidFill>
                        <a:srgbClr val="fffdb1"/>
                      </a:solidFill>
                    </a:lnR>
                    <a:lnT w="1440">
                      <a:solidFill>
                        <a:srgbClr val="fffec9"/>
                      </a:solidFill>
                    </a:lnT>
                    <a:lnB w="38160">
                      <a:solidFill>
                        <a:srgbClr val="c8c300"/>
                      </a:solidFill>
                    </a:lnB>
                    <a:solidFill>
                      <a:srgbClr val="fffdb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一：全校美術比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優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二：台北市長笛比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第三名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三：校際桌球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亞軍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5075280" y="4411800"/>
            <a:ext cx="3744720" cy="1609560"/>
          </a:xfrm>
          <a:custGeom>
            <a:avLst/>
            <a:gdLst>
              <a:gd name="textAreaLeft" fmla="*/ 936000 w 3744720"/>
              <a:gd name="textAreaRight" fmla="*/ 2808720 w 3744720"/>
              <a:gd name="textAreaTop" fmla="*/ 0 h 1609560"/>
              <a:gd name="textAreaBottom" fmla="*/ 1408680 h 1609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92920" y="4132440"/>
            <a:ext cx="1985760" cy="1915920"/>
          </a:xfrm>
          <a:custGeom>
            <a:avLst/>
            <a:gdLst>
              <a:gd name="textAreaLeft" fmla="*/ 453240 w 1985760"/>
              <a:gd name="textAreaRight" fmla="*/ 1532520 w 1985760"/>
              <a:gd name="textAreaTop" fmla="*/ 437400 h 1915920"/>
              <a:gd name="textAreaBottom" fmla="*/ 1478520 h 1915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d97"/>
          </a:solidFill>
          <a:ln w="38160">
            <a:solidFill>
              <a:srgbClr val="aaa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3333ff"/>
                </a:solidFill>
                <a:latin typeface="標楷體"/>
                <a:ea typeface="標楷體"/>
              </a:rPr>
              <a:t>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867960" y="-576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才藝比賽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17200" y="150840"/>
            <a:ext cx="4545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我的座右銘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1628640"/>
            <a:ext cx="7561440" cy="2217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fffdb1"/>
              </a:gs>
              <a:gs pos="100000">
                <a:srgbClr val="ffff00"/>
              </a:gs>
            </a:gsLst>
            <a:lin ang="10800000"/>
          </a:gra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ff"/>
                </a:solidFill>
                <a:latin typeface="Arial"/>
                <a:ea typeface="華康行書體"/>
              </a:rPr>
              <a:t>今日事、今日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3875040"/>
            <a:ext cx="7559640" cy="2217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fffdb1"/>
              </a:gs>
              <a:gs pos="100000">
                <a:srgbClr val="ffff00"/>
              </a:gs>
            </a:gsLst>
            <a:lin ang="10800000"/>
          </a:gra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ff"/>
                </a:solidFill>
                <a:latin typeface="Arial"/>
                <a:ea typeface="華康行書體"/>
              </a:rPr>
              <a:t>敬人者人恆敬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72720" y="-186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生活點滴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73160" y="1828800"/>
            <a:ext cx="3051000" cy="1766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073160" y="3718080"/>
            <a:ext cx="3051000" cy="1766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940280" y="1828800"/>
            <a:ext cx="3054240" cy="1768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940280" y="3718080"/>
            <a:ext cx="3054240" cy="17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050920" y="2349360"/>
            <a:ext cx="5042160" cy="236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ataneo BT"/>
              </a:rPr>
              <a:t>The End</a:t>
            </a:r>
            <a:endParaRPr b="0" lang="en-US" sz="4400" spc="1" strike="noStrike">
              <a:ln w="284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ataneo BT"/>
              <a:ea typeface="Cataneo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謝謝您的參與和鼓勵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08:05:50Z</dcterms:created>
  <dc:creator>user</dc:creator>
  <dc:description/>
  <dc:language>en-US</dc:language>
  <cp:lastModifiedBy>e048</cp:lastModifiedBy>
  <dcterms:modified xsi:type="dcterms:W3CDTF">2002-11-26T03:44:18Z</dcterms:modified>
  <cp:revision>111</cp:revision>
  <dc:subject/>
  <dc:title>自我介紹</dc:title>
</cp:coreProperties>
</file>