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64ED-EFC6-438B-B1C7-E2ED2446D0AF}" type="datetime">
              <a:rPr b="0" lang="zh-TW" sz="1200" spc="-1" strike="noStrike">
                <a:solidFill>
                  <a:srgbClr val="000000"/>
                </a:solidFill>
                <a:latin typeface="Arial"/>
              </a:rPr>
              <a:t>115/0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41120" y="721800"/>
            <a:ext cx="4808520" cy="360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568760"/>
            <a:ext cx="5510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8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3840" y="914040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EFCC-F991-4F35-BBB9-B4B3B325196D}" type="slidenum">
              <a:rPr b="0" lang="zh-TW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041480" y="722160"/>
            <a:ext cx="4808520" cy="36068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9040" y="4568760"/>
            <a:ext cx="5510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先簡介一下整個簡報的大綱，也可以從這裡點選直接到那個主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DDBE-466E-4646-8304-24772E50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B94D-2593-4A88-9550-EFF9675B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CB1B-590F-45B3-A66B-5FD72CAA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1DC6-4600-4820-8665-41CF744B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277E-D4A4-4982-B3E8-C47958B3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223-9D0F-46DA-BEDF-A0A39A1B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91C7-3B20-4074-8CB3-3FCFF41D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10EA-B810-4C6A-B782-A2E891BD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C68-1144-4C7F-9894-E333E9C2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5866-B708-4B54-852D-045880F7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DAB3-9591-4E2A-B096-7DAC703C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503-1F2D-4E75-9AC2-EADE962C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2101-8B0A-42A6-BEDF-4FA23894A648}" type="datetime">
              <a:rPr b="0" lang="zh-TW" sz="1400" spc="-1" strike="noStrike">
                <a:solidFill>
                  <a:srgbClr val="000000"/>
                </a:solidFill>
                <a:latin typeface="Arial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3FE6-1565-483B-9A22-40BEDBE326C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90680" y="387144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畢上中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三年忠班</a:t>
            </a: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13</a:t>
            </a: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曾詠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58920" y="836640"/>
            <a:ext cx="6624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華康超明體"/>
              </a:rPr>
              <a:t>自我介紹</a:t>
            </a:r>
            <a:endParaRPr b="0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華康超明體"/>
              <a:ea typeface="華康超明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自我介紹內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2600" y="2391840"/>
            <a:ext cx="316692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Arial"/>
                <a:ea typeface="華康細圓體"/>
              </a:rPr>
              <a:t>基本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Arial"/>
                <a:ea typeface="華康細圓體"/>
              </a:rPr>
              <a:t>專長與興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Arial"/>
                <a:ea typeface="華康細圓體"/>
              </a:rPr>
              <a:t>社團經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3920" y="2392200"/>
            <a:ext cx="323676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Arial"/>
                <a:ea typeface="華康細圓體"/>
              </a:rPr>
              <a:t>才藝比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Arial"/>
                <a:ea typeface="華康細圓體"/>
              </a:rPr>
              <a:t>我的座右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Arial"/>
                <a:ea typeface="華康細圓體"/>
              </a:rPr>
              <a:t>生活點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秘密檔案</a:t>
            </a:r>
            <a:r>
              <a:rPr b="0" lang="zh-TW" sz="4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----</a:t>
            </a:r>
            <a:r>
              <a:rPr b="0" lang="zh-TW" sz="4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我的基本資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511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生日：民國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79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年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2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月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30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身高：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152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公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體重：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40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公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家中成員</a:t>
            </a:r>
            <a:r>
              <a:rPr b="1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爸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媽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哥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小花（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Arial"/>
                <a:ea typeface="華康細圓體"/>
              </a:rPr>
              <a:t>專長與興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2240" y="1600200"/>
            <a:ext cx="420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專長：長笛、素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興趣：打桌球、看小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3200" y="272520"/>
            <a:ext cx="41976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社團經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319040" y="1635120"/>
          <a:ext cx="6624720" cy="4486320"/>
        </p:xfrm>
        <a:graphic>
          <a:graphicData uri="http://schemas.openxmlformats.org/drawingml/2006/table">
            <a:tbl>
              <a:tblPr/>
              <a:tblGrid>
                <a:gridCol w="1676520"/>
                <a:gridCol w="4948200"/>
              </a:tblGrid>
              <a:tr h="97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階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0099"/>
                      </a:solidFill>
                    </a:lnR>
                    <a:lnT w="1440">
                      <a:solidFill>
                        <a:srgbClr val="0066ff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社團（職稱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99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440">
                      <a:solidFill>
                        <a:srgbClr val="0066ff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小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Arial"/>
                          <a:ea typeface="華康細圓體"/>
                        </a:rPr>
                        <a:t>樂隊（長笛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 w="38160">
                      <a:solidFill>
                        <a:srgbClr val="000099"/>
                      </a:solidFill>
                    </a:lnT>
                    <a:lnB w="1440">
                      <a:solidFill>
                        <a:srgbClr val="fffec9"/>
                      </a:solidFill>
                    </a:lnB>
                    <a:solidFill>
                      <a:srgbClr val="fffd97"/>
                    </a:solidFill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國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33cc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Arial"/>
                          <a:ea typeface="華康細圓體"/>
                        </a:rPr>
                        <a:t>桌球社（社員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33cc"/>
                      </a:solidFill>
                    </a:lnL>
                    <a:lnR w="18720">
                      <a:solidFill>
                        <a:srgbClr val="fffdb1"/>
                      </a:solidFill>
                    </a:lnR>
                    <a:lnT w="1440">
                      <a:solidFill>
                        <a:srgbClr val="fffec9"/>
                      </a:solidFill>
                    </a:lnT>
                    <a:lnB w="38160">
                      <a:solidFill>
                        <a:srgbClr val="c8c300"/>
                      </a:solidFill>
                    </a:lnB>
                    <a:solidFill>
                      <a:srgbClr val="fffdb1"/>
                    </a:solidFill>
                  </a:tcPr>
                </a:tc>
              </a:tr>
              <a:tr h="87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國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Arial"/>
                          <a:ea typeface="華康細圓體"/>
                        </a:rPr>
                        <a:t>桌球社（學藝股長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 w="38160">
                      <a:solidFill>
                        <a:srgbClr val="c8c300"/>
                      </a:solidFill>
                    </a:lnT>
                    <a:lnB w="1440">
                      <a:solidFill>
                        <a:srgbClr val="fffec9"/>
                      </a:solidFill>
                    </a:lnB>
                    <a:solidFill>
                      <a:srgbClr val="fffd97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國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33cc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Arial"/>
                          <a:ea typeface="華康細圓體"/>
                        </a:rPr>
                        <a:t>桌球社（副社長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33cc"/>
                      </a:solidFill>
                    </a:lnL>
                    <a:lnR w="18720">
                      <a:solidFill>
                        <a:srgbClr val="fffdb1"/>
                      </a:solidFill>
                    </a:lnR>
                    <a:lnT w="1440">
                      <a:solidFill>
                        <a:srgbClr val="fffec9"/>
                      </a:solidFill>
                    </a:lnT>
                    <a:lnB w="38160">
                      <a:solidFill>
                        <a:srgbClr val="c8c300"/>
                      </a:solidFill>
                    </a:lnB>
                    <a:solidFill>
                      <a:srgbClr val="fffdb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一：全校美術比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優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二：台北市長笛比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第三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三：校際桌球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亞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5280" y="4411800"/>
            <a:ext cx="3744720" cy="1609560"/>
          </a:xfrm>
          <a:custGeom>
            <a:avLst/>
            <a:gdLst>
              <a:gd name="textAreaLeft" fmla="*/ 936000 w 3744720"/>
              <a:gd name="textAreaRight" fmla="*/ 2808720 w 3744720"/>
              <a:gd name="textAreaTop" fmla="*/ 0 h 1609560"/>
              <a:gd name="textAreaBottom" fmla="*/ 1408680 h 1609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92920" y="4132440"/>
            <a:ext cx="1985760" cy="1915920"/>
          </a:xfrm>
          <a:custGeom>
            <a:avLst/>
            <a:gdLst>
              <a:gd name="textAreaLeft" fmla="*/ 453240 w 1985760"/>
              <a:gd name="textAreaRight" fmla="*/ 1532520 w 1985760"/>
              <a:gd name="textAreaTop" fmla="*/ 437400 h 1915920"/>
              <a:gd name="textAreaBottom" fmla="*/ 1478520 h 1915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d97"/>
          </a:solidFill>
          <a:ln w="38160">
            <a:solidFill>
              <a:srgbClr val="aaa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3333ff"/>
                </a:solidFill>
                <a:latin typeface="標楷體"/>
                <a:ea typeface="標楷體"/>
              </a:rPr>
              <a:t>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才藝比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92000" y="272880"/>
            <a:ext cx="54450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我的座右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1628640"/>
            <a:ext cx="7561440" cy="2217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db1"/>
              </a:gs>
              <a:gs pos="100000">
                <a:srgbClr val="ffff00"/>
              </a:gs>
            </a:gsLst>
            <a:lin ang="108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Arial"/>
                <a:ea typeface="華康行書體"/>
              </a:rPr>
              <a:t>今日事、今日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8720" y="3875040"/>
            <a:ext cx="7559640" cy="2217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db1"/>
              </a:gs>
              <a:gs pos="100000">
                <a:srgbClr val="ffff00"/>
              </a:gs>
            </a:gsLst>
            <a:lin ang="108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Arial"/>
                <a:ea typeface="華康行書體"/>
              </a:rPr>
              <a:t>敬人者人恆敬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生活點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71560" y="1600200"/>
            <a:ext cx="3262320" cy="2185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71560" y="3938760"/>
            <a:ext cx="3262320" cy="218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006880" y="1600200"/>
            <a:ext cx="3265560" cy="2187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006880" y="3938760"/>
            <a:ext cx="32655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050920" y="2349360"/>
            <a:ext cx="5042160" cy="236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ataneo BT"/>
              </a:rPr>
              <a:t>The End</a:t>
            </a:r>
            <a:endParaRPr b="0" lang="en-US" sz="44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ataneo BT"/>
              <a:ea typeface="Cataneo BT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謝謝您的參與和鼓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08:05:50Z</dcterms:created>
  <dc:creator>user</dc:creator>
  <dc:description/>
  <dc:language>en-US</dc:language>
  <cp:lastModifiedBy>e048</cp:lastModifiedBy>
  <dcterms:modified xsi:type="dcterms:W3CDTF">2002-11-26T03:32:03Z</dcterms:modified>
  <cp:revision>110</cp:revision>
  <dc:subject/>
  <dc:title>自我介紹</dc:title>
</cp:coreProperties>
</file>