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ECBD-7A22-472B-80A5-697208C6F50A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5D36-9A04-4577-97C6-19325FA6686B}" type="slidenum">
              <a:rPr b="0" lang="zh-TW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24E-4A14-4D6D-A720-9522424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19F-3722-4EB7-9E6E-4A9FF38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F6F-527B-4817-8F47-9B98B509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56D-81D1-44C2-B65E-D7E034E2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01C-F54C-4C95-8F3D-91357BE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192-9562-4373-BFB0-96FA0E7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901-8F77-4646-8DEF-8CBDEED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D08-8AA9-4DA4-AFDA-EE8A390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559-577F-4C7E-A0E2-2C748F96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088-426F-42EC-85AF-DEF16FB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ADB-3F09-445A-B34F-55A5BC3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203-FDCA-47CE-8DB2-3BC5538B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AC9B-E6D8-42D9-8DD1-6E4622F8E855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11DF-563F-43CB-AF22-797629842DA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391840"/>
            <a:ext cx="31669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3920" y="2392200"/>
            <a:ext cx="323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0" y="272520"/>
            <a:ext cx="4197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19040" y="1635120"/>
          <a:ext cx="662472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494820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2880"/>
            <a:ext cx="54450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71560" y="393876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006880" y="1600200"/>
            <a:ext cx="326556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06880" y="3938760"/>
            <a:ext cx="32655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2:58:27Z</dcterms:modified>
  <cp:revision>109</cp:revision>
  <dc:subject/>
  <dc:title>自我介紹</dc:title>
</cp:coreProperties>
</file>