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9623425" cy="68865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7BEA0-AFC3-47B9-B5C9-065057B2C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00320-AFD3-4D67-BE8D-CC1A8B04A6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A4D38-EC91-4CD0-9A03-296812205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439CF-009E-4E0B-92FA-0D1CC57AC7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B39C9-1CD1-4438-A980-0F34CBCA2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B9298-2C5B-4B00-A7C9-59DA6DE85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73A6E-EEA2-450B-B9F3-DCAEADF07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827384-BEFC-4FF1-A00F-83A06AC4C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85AD71-DF20-4106-A8A3-21FAE176B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4EAE5-42A8-4DCD-BA66-4FC80A7868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628DE-CF8D-48DE-AA25-9DDAE0B4B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62E2F-7226-4BD6-B5E2-5C0510842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5A742-1566-421C-BB5D-4AE849ED5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686372-7B87-4A8E-9EE4-C1B32D139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D43407-8381-4C33-8D69-9B32553C1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5000F5-40B9-48A9-8AE3-CB38EC968E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0A6085-F437-4861-BAA5-65E8983A73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2DDD8-D3F4-4700-8D34-7EA308429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1F51D-904A-4661-9D74-B92BAED38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07BE5-A890-4EB3-A26E-113387E74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BAA4-F331-4B75-B9E9-403A2D4C1D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7EB40-33A6-4117-93AE-1328A440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0B839-C464-4C87-9A6D-8578E50CF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7B44-F76E-4A02-82E2-652F27E34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DB284-693F-4FAD-BDB8-E12025EE4B93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458C6-6039-4AA6-9CD7-D39F0EA53759}" type="slidenum">
              <a:rPr b="0" lang="zh-TW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4284720" y="5229360"/>
            <a:ext cx="4467240" cy="79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6699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384800" y="2739960"/>
            <a:ext cx="4759200" cy="4118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6600" spc="-1" strike="noStrike">
                <a:solidFill>
                  <a:srgbClr val="006666"/>
                </a:solidFill>
                <a:latin typeface="Verdana"/>
                <a:ea typeface="華康海報體W9"/>
              </a:rPr>
              <a:t>登山社年度結算</a:t>
            </a:r>
            <a:endParaRPr b="1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2488680" y="4279680"/>
            <a:ext cx="6147000" cy="1485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6699"/>
                </a:solidFill>
                <a:latin typeface="Verdana"/>
              </a:rPr>
              <a:t>製作人：登山社 總務 王維聲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100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 flipH="1">
            <a:off x="-360" y="4370400"/>
            <a:ext cx="4932360" cy="248760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525960" y="186120"/>
            <a:ext cx="8077680" cy="1148040"/>
          </a:xfrm>
          <a:prstGeom prst="rect">
            <a:avLst/>
          </a:prstGeom>
          <a:noFill/>
          <a:ln w="0">
            <a:noFill/>
          </a:ln>
          <a:effectLst>
            <a:outerShdw dist="53966" dir="8100000" blurRad="0" rotWithShape="0">
              <a:srgbClr val="ffffff">
                <a:alpha val="50000"/>
              </a:srgbClr>
            </a:outerShdw>
          </a:effectLst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6600" spc="-1" strike="noStrike">
                <a:solidFill>
                  <a:srgbClr val="006633"/>
                </a:solidFill>
                <a:latin typeface="Verdana"/>
                <a:ea typeface="華康魏碑體"/>
              </a:rPr>
              <a:t>本學期活動</a:t>
            </a:r>
            <a:endParaRPr b="0" lang="en-US" sz="66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9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迎新大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10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陽明山攻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11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期中社團聚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12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社團耶誕聚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1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煮湯圓大會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  <a:p>
            <a:pPr marL="343080" indent="-343080">
              <a:spcBef>
                <a:spcPts val="9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2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月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	</a:t>
            </a:r>
            <a:r>
              <a:rPr b="1" lang="zh-TW" sz="3600" spc="-1" strike="noStrike">
                <a:solidFill>
                  <a:srgbClr val="006699"/>
                </a:solidFill>
                <a:latin typeface="Verdana"/>
              </a:rPr>
              <a:t>拉拉山攻頂</a:t>
            </a:r>
            <a:endParaRPr b="0" lang="en-US" sz="36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5-22T07:00:32Z</dcterms:created>
  <dc:creator>黛琳</dc:creator>
  <dc:description/>
  <dc:language>en-US</dc:language>
  <cp:lastModifiedBy>SuperXP</cp:lastModifiedBy>
  <dcterms:modified xsi:type="dcterms:W3CDTF">2006-09-07T01:59:28Z</dcterms:modified>
  <cp:revision>58</cp:revision>
  <dc:subject/>
  <dc:title>投影片 1</dc:title>
</cp:coreProperties>
</file>