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media/image7.wmf" ContentType="image/x-wmf"/>
  <Override PartName="/ppt/media/image8.png" ContentType="image/png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735763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FC1B-B3F5-4E71-98E4-38BCD8BA63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8EE2-2374-4966-8BD6-DC87AE4FB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4B96A-E4FE-48F1-A201-209CC361D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6E08-8BC6-4166-B49D-BDA683B8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33FAC-3583-41EB-9E73-E5D8EB19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3BD9-C326-4929-8307-6E36F08E54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59A9-BEBD-4104-A541-ADD8F9F12F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B328C-6E4F-4040-9D5A-63D89C6E7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18F69-20B2-4107-A9F6-D8A611AFCA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D06A3-D193-4492-A8E4-D3F703207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6D43-1CD6-441C-B28D-6A6F0639B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8B9C3-60EF-4459-B7BB-3538CB051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Arial"/>
                <a:ea typeface="新細明體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3EECF-D284-4DFA-8332-42F968C7FDD7}" type="slidenum">
              <a:rPr b="0" lang="zh-TW" sz="1400" spc="-1" strike="noStrike">
                <a:solidFill>
                  <a:srgbClr val="000000"/>
                </a:solidFill>
                <a:latin typeface="Arial"/>
                <a:ea typeface="新細明體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自我介紹內容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10920" y="1600200"/>
            <a:ext cx="770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基本資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與興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社團經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競賽活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相關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未來學習計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rcRect l="0" t="37527" r="29829" b="17933"/>
          <a:stretch/>
        </p:blipFill>
        <p:spPr>
          <a:xfrm>
            <a:off x="6227640" y="3429000"/>
            <a:ext cx="2665440" cy="25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生日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身高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77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體重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3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公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學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育才高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仁愛國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Arial"/>
              </a:rPr>
              <a:t>忠孝國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電腦專長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c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wer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otoImpa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title"/>
          </p:nvPr>
        </p:nvSpPr>
        <p:spPr>
          <a:xfrm>
            <a:off x="456840" y="274320"/>
            <a:ext cx="744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基本資料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724360" y="4005360"/>
            <a:ext cx="2468880" cy="20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求學過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1523880"/>
            <a:ext cx="8002440" cy="456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從小喜歡玩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電腦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並且對</a:t>
            </a: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資訊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很有興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在高中時，我利用空閒時間來研讀各種電腦書籍，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，以增強本身資訊知識，並考取多項</a:t>
            </a:r>
            <a:r>
              <a:rPr b="1" lang="zh-TW" sz="2800" spc="-1" strike="noStrike">
                <a:solidFill>
                  <a:srgbClr val="000000"/>
                </a:solidFill>
                <a:latin typeface="Arial"/>
              </a:rPr>
              <a:t>證照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幹部經歷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：班長、學藝股長、輔導股長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2800" spc="-1" strike="noStrike">
                <a:solidFill>
                  <a:srgbClr val="000000"/>
                </a:solidFill>
                <a:latin typeface="新細明體"/>
              </a:rPr>
              <a:t>競賽</a:t>
            </a: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：網頁設計、英文朗讀、美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6948360" y="4975200"/>
            <a:ext cx="219564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專長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素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ffice</a:t>
            </a: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軟體應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網頁設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興趣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球類運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登山健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Arial"/>
              </a:rPr>
              <a:t>電影欣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專長與興趣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rcRect l="0" t="3400" r="0" b="0"/>
          <a:stretch/>
        </p:blipFill>
        <p:spPr>
          <a:xfrm>
            <a:off x="5219640" y="3933720"/>
            <a:ext cx="301140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755640" y="1633680"/>
          <a:ext cx="7416720" cy="4278240"/>
        </p:xfrm>
        <a:graphic>
          <a:graphicData uri="http://schemas.openxmlformats.org/drawingml/2006/table">
            <a:tbl>
              <a:tblPr/>
              <a:tblGrid>
                <a:gridCol w="1878120"/>
                <a:gridCol w="5538600"/>
              </a:tblGrid>
              <a:tr h="864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階段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社團（職稱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867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國中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  <a:ea typeface="新細明體"/>
                        </a:rPr>
                        <a:t>漫研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38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高一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  <a:ea typeface="新細明體"/>
                        </a:rPr>
                        <a:t>資訊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42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高二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  <a:ea typeface="新細明體"/>
                        </a:rPr>
                        <a:t>資訊社（社員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8650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ffffcc"/>
                          </a:solidFill>
                          <a:latin typeface="Arial"/>
                          <a:ea typeface="新細明體"/>
                        </a:rPr>
                        <a:t>高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TW" sz="3200" spc="-1" strike="noStrike">
                          <a:solidFill>
                            <a:srgbClr val="0033cc"/>
                          </a:solidFill>
                          <a:latin typeface="Arial"/>
                          <a:ea typeface="新細明體"/>
                        </a:rPr>
                        <a:t>資訊社（副社長）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</a:tbl>
          </a:graphicData>
        </a:graphic>
      </p:graphicFrame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社團經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084720" y="3573360"/>
            <a:ext cx="1822680" cy="182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競賽活動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園英文朗讀比賽　　　　　　佳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省高中職組網頁設計競賽　　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校園運動會 海報設計比賽          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5796000" y="4064040"/>
            <a:ext cx="2530440" cy="19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中英打檢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全民英檢中級檢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軟體應用丙級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網頁設計丙級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電腦硬體裝修丙級證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相關證照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" descr=""/>
          <p:cNvPicPr/>
          <p:nvPr/>
        </p:nvPicPr>
        <p:blipFill>
          <a:blip r:embed="rId1"/>
          <a:stretch/>
        </p:blipFill>
        <p:spPr>
          <a:xfrm>
            <a:off x="5364000" y="3205080"/>
            <a:ext cx="2953080" cy="279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6443640" y="4929120"/>
            <a:ext cx="2700360" cy="19288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400" spc="-1" strike="noStrike">
                <a:solidFill>
                  <a:srgbClr val="000000"/>
                </a:solidFill>
                <a:latin typeface="Arial"/>
              </a:rPr>
              <a:t>未來學習計畫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7859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課業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專心修習各項專業科目，努力獲得優等的成績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語言學習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養成閱讀英語期刊的習慣，希望通過全民英檢高級檢定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新細明體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3200" spc="-1" strike="noStrike">
                <a:solidFill>
                  <a:srgbClr val="000000"/>
                </a:solidFill>
                <a:latin typeface="新細明體"/>
              </a:rPr>
              <a:t>其他目標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新細明體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800" spc="-1" strike="noStrike">
                <a:solidFill>
                  <a:srgbClr val="000000"/>
                </a:solidFill>
                <a:latin typeface="新細明體"/>
              </a:rPr>
              <a:t>利用暑假期間，前往資訊公司工讀，預先為進入職場而作準備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4000" spc="-1" strike="noStrike">
                <a:solidFill>
                  <a:srgbClr val="000000"/>
                </a:solidFill>
                <a:latin typeface="Arial"/>
              </a:rPr>
              <a:t>簡報完畢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539280" y="4221000"/>
            <a:ext cx="6172200" cy="114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200" spc="-1" strike="noStrike">
                <a:solidFill>
                  <a:srgbClr val="000000"/>
                </a:solidFill>
                <a:latin typeface="Arial"/>
              </a:rPr>
              <a:t>敬謝指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5904000"/>
            <a:ext cx="5451480" cy="95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2T10:09:04Z</dcterms:created>
  <dc:creator>SuperXP</dc:creator>
  <dc:description/>
  <cp:keywords/>
  <dc:language>en-US</dc:language>
  <cp:lastModifiedBy>sea</cp:lastModifiedBy>
  <dcterms:modified xsi:type="dcterms:W3CDTF">2006-12-20T07:48:42Z</dcterms:modified>
  <cp:revision>36</cp:revision>
  <dc:subject/>
  <dc:title>投影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601791028</vt:lpwstr>
  </property>
</Properties>
</file>