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6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17.jpeg" ContentType="image/jpeg"/>
  <Override PartName="/ppt/media/image3.png" ContentType="image/png"/>
  <Override PartName="/ppt/media/image2.png" ContentType="image/pn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D2EC0-17A4-4DE4-8B80-2723C87385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6337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34920" y="3858480"/>
            <a:ext cx="6337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A9BC-AC70-4C49-A8D7-FEE37D3D7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8248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34920" y="385848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82480" y="385848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9B149-0CB2-4C31-855D-1498B5E703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977280" y="182844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20000" y="182844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34920" y="385848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977280" y="385848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20000" y="385848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3BB13-D823-47E3-830D-EE3C05079B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B05315-441C-4C4B-ADDA-72B22BAB2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834920" y="1828440"/>
            <a:ext cx="633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F83E3-2ABC-4916-9D40-71675D16D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633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5B552F-06A8-4D96-918F-DAE744975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309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082480" y="1828440"/>
            <a:ext cx="309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017839-A9C5-421C-B0BD-BD3A729BD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9F80E-B1F7-49A6-9437-B25028FEEA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900000" y="642960"/>
            <a:ext cx="7632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7EDFD-795F-4D5F-A110-CBF6B2EAB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82480" y="1828440"/>
            <a:ext cx="309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834920" y="385848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9E509-9F88-478E-BBD1-AD61BBEE21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34920" y="1828440"/>
            <a:ext cx="633708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9B178-55C8-4E1D-9AB9-70F21BD1E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309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08248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082480" y="385848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7321F-AD7D-4751-8F64-D40C9A26E6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8248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834920" y="3858480"/>
            <a:ext cx="6337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E86E0C-2E80-46E3-AF00-7F79DD3B5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6337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834920" y="3858480"/>
            <a:ext cx="6337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0F945-F24F-4234-80DE-0527FA760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8248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834920" y="385848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082480" y="385848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6B912-5A73-4ED2-A003-01A97CD83B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77280" y="182844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20000" y="182844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834920" y="385848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77280" y="385848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20000" y="3858480"/>
            <a:ext cx="204012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4341-861E-49AC-BE34-B591B3CE5F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633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8CB34-8478-4CB1-90CB-767784D19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309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82480" y="1828440"/>
            <a:ext cx="309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D7ADB-2DA4-4A54-AA05-0F7E2800E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AEAE5-0BC5-405B-A819-87508E6AC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900000" y="642960"/>
            <a:ext cx="763272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5925-D0BE-4928-AF30-C4EEFF151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82480" y="1828440"/>
            <a:ext cx="309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34920" y="385848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7F1D6-6488-425F-AD9A-2DBF72A7C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30924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8248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82480" y="385848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8F8A-EE77-4212-B1D5-CEFE8D11F4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3492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82480" y="1828440"/>
            <a:ext cx="30924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34920" y="3858480"/>
            <a:ext cx="633708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E6921-6BDF-4564-8AB3-6C9248DD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9900cc"/>
                </a:solidFill>
                <a:latin typeface="華康中圓體"/>
              </a:rPr>
              <a:t>Click to edit the title text format</a:t>
            </a: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34920" y="1828440"/>
            <a:ext cx="63370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1" marL="727920" indent="-28008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2" marL="1119960" indent="-223920">
              <a:spcBef>
                <a:spcPts val="700"/>
              </a:spcBef>
              <a:buClr>
                <a:srgbClr val="79551b"/>
              </a:buClr>
              <a:buFont typeface="Palatino Linotyp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568160" indent="-223920">
              <a:spcBef>
                <a:spcPts val="700"/>
              </a:spcBef>
              <a:buClr>
                <a:srgbClr val="79551b"/>
              </a:buClr>
              <a:buFont typeface="Palatino Linotype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2016000" indent="-223920">
              <a:spcBef>
                <a:spcPts val="700"/>
              </a:spcBef>
              <a:buClr>
                <a:srgbClr val="79551b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5" marL="2016000" indent="-22392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  <a:p>
            <a:pPr lvl="6" marL="2016000" indent="-223920">
              <a:spcBef>
                <a:spcPts val="7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28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3A3BCE-286E-4EE4-8FF8-75633F73F868}" type="slidenum">
              <a:rPr b="0" lang="zh-TW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340000" y="2673360"/>
            <a:ext cx="5889600" cy="90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800" spc="-1" strike="noStrike">
                <a:solidFill>
                  <a:srgbClr val="9900cc"/>
                </a:solidFill>
                <a:latin typeface="華康新特明體"/>
              </a:rPr>
              <a:t>Click to edit the title text format</a:t>
            </a:r>
            <a:endParaRPr b="1" lang="en-US" sz="7800" spc="-1" strike="noStrike">
              <a:solidFill>
                <a:srgbClr val="9900cc"/>
              </a:solidFill>
              <a:latin typeface="華康新特明體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91440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79551b"/>
                </a:solidFill>
                <a:latin typeface="Palatino Linotype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5886000"/>
            <a:ext cx="289584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79551b"/>
                </a:solidFill>
                <a:latin typeface="Palatino Linotype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477120" y="5886000"/>
            <a:ext cx="175248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79551b"/>
                </a:solidFill>
                <a:latin typeface="Palatino Linotyp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2A82B-9079-43FE-B1A5-374A75219987}" type="slidenum">
              <a:rPr b="0" lang="zh-TW" sz="1200" spc="-1" strike="noStrike">
                <a:solidFill>
                  <a:srgbClr val="79551b"/>
                </a:solidFill>
                <a:latin typeface="Palatino Linotyp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551b"/>
                </a:solidFill>
                <a:latin typeface="Palatino Linotype"/>
              </a:rPr>
              <a:t>Click to edit the outline text format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9551b"/>
                </a:solidFill>
                <a:latin typeface="Palatino Linotype"/>
              </a:rPr>
              <a:t>Second Outline Level</a:t>
            </a:r>
            <a:endParaRPr b="0" lang="en-US" sz="2400" spc="-1" strike="noStrike">
              <a:solidFill>
                <a:srgbClr val="79551b"/>
              </a:solidFill>
              <a:latin typeface="Palatino Linotype"/>
            </a:endParaRPr>
          </a:p>
          <a:p>
            <a:pPr lvl="2" marL="914400" algn="ctr">
              <a:spcBef>
                <a:spcPts val="499"/>
              </a:spcBef>
              <a:buClr>
                <a:srgbClr val="79551b"/>
              </a:buClr>
              <a:buFont typeface="Palatino Linotype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9551b"/>
                </a:solidFill>
                <a:latin typeface="Palatino Linotype"/>
              </a:rPr>
              <a:t>Third Outline Level</a:t>
            </a:r>
            <a:endParaRPr b="0" lang="en-US" sz="2000" spc="-1" strike="noStrike">
              <a:solidFill>
                <a:srgbClr val="79551b"/>
              </a:solidFill>
              <a:latin typeface="Palatino Linotype"/>
            </a:endParaRPr>
          </a:p>
          <a:p>
            <a:pPr lvl="3" marL="1371600" algn="ctr">
              <a:spcBef>
                <a:spcPts val="451"/>
              </a:spcBef>
              <a:buClr>
                <a:srgbClr val="79551b"/>
              </a:buClr>
              <a:buFont typeface="Palatino Linotype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9551b"/>
                </a:solidFill>
                <a:latin typeface="Palatino Linotype"/>
              </a:rPr>
              <a:t>Fourth Outline Level</a:t>
            </a:r>
            <a:endParaRPr b="0" lang="en-US" sz="1800" spc="-1" strike="noStrike">
              <a:solidFill>
                <a:srgbClr val="79551b"/>
              </a:solidFill>
              <a:latin typeface="Palatino Linotype"/>
            </a:endParaRPr>
          </a:p>
          <a:p>
            <a:pPr lvl="4" marL="1828800" algn="ctr">
              <a:spcBef>
                <a:spcPts val="400"/>
              </a:spcBef>
              <a:buClr>
                <a:srgbClr val="79551b"/>
              </a:buClr>
              <a:buFont typeface="Palatino Linotype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Fif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Six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Palatino Linotype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9551b"/>
                </a:solidFill>
                <a:latin typeface="Palatino Linotype"/>
              </a:rPr>
              <a:t>Seventh Outline Level</a:t>
            </a:r>
            <a:endParaRPr b="0" lang="en-US" sz="1600" spc="-1" strike="noStrike">
              <a:solidFill>
                <a:srgbClr val="79551b"/>
              </a:solidFill>
              <a:latin typeface="Palatino Linotyp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image" Target="../media/image10.jpeg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20.jpeg"/><Relationship Id="rId4" Type="http://schemas.openxmlformats.org/officeDocument/2006/relationships/image" Target="../media/image11.jpeg"/><Relationship Id="rId5" Type="http://schemas.openxmlformats.org/officeDocument/2006/relationships/image" Target="../media/image21.jpeg"/><Relationship Id="rId6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692360" y="4772160"/>
            <a:ext cx="5486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6600"/>
                </a:solidFill>
                <a:latin typeface="華康儷細黑"/>
                <a:ea typeface="華康儷細黑"/>
              </a:rPr>
              <a:t>林憶如率團 製作</a:t>
            </a:r>
            <a:endParaRPr b="0" lang="en-US" sz="3000" spc="-1" strike="noStrike">
              <a:solidFill>
                <a:srgbClr val="79551b"/>
              </a:solidFill>
              <a:latin typeface="Palatino Linotype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826920" y="1270080"/>
            <a:ext cx="7216920" cy="2735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華康徽宗宮體W5"/>
              </a:rPr>
              <a:t>三年愛班畢旅記趣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華康徽宗宮體W5"/>
              <a:ea typeface="華康徽宗宮體W5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9900cc"/>
                </a:solidFill>
                <a:latin typeface="華康中圓體"/>
              </a:rPr>
              <a:t>精彩片段回憶錄</a:t>
            </a: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pic>
        <p:nvPicPr>
          <p:cNvPr id="85" name="" descr=""/>
          <p:cNvPicPr/>
          <p:nvPr/>
        </p:nvPicPr>
        <p:blipFill>
          <a:blip r:embed="rId2"/>
          <a:stretch/>
        </p:blipFill>
        <p:spPr>
          <a:xfrm>
            <a:off x="1908000" y="1916280"/>
            <a:ext cx="5486400" cy="3657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980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85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85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9900cc"/>
                </a:solidFill>
                <a:latin typeface="華康中圓體"/>
              </a:rPr>
              <a:t>美麗景點全收錄</a:t>
            </a: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4518000" y="2743200"/>
            <a:ext cx="1896840" cy="3058920"/>
            <a:chOff x="4518000" y="2743200"/>
            <a:chExt cx="1896840" cy="3058920"/>
          </a:xfrm>
        </p:grpSpPr>
        <p:sp>
          <p:nvSpPr>
            <p:cNvPr id="88" name=""/>
            <p:cNvSpPr/>
            <p:nvPr/>
          </p:nvSpPr>
          <p:spPr>
            <a:xfrm>
              <a:off x="4518000" y="2743200"/>
              <a:ext cx="1896840" cy="28018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18000" y="5558760"/>
              <a:ext cx="1896840" cy="2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cc"/>
                  </a:solidFill>
                  <a:latin typeface="Arial"/>
                </a:rPr>
                <a:t>長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665760" y="2743200"/>
            <a:ext cx="1882440" cy="3061800"/>
            <a:chOff x="6665760" y="2743200"/>
            <a:chExt cx="1882440" cy="3061800"/>
          </a:xfrm>
        </p:grpSpPr>
        <p:sp>
          <p:nvSpPr>
            <p:cNvPr id="91" name=""/>
            <p:cNvSpPr/>
            <p:nvPr/>
          </p:nvSpPr>
          <p:spPr>
            <a:xfrm>
              <a:off x="6665760" y="2743200"/>
              <a:ext cx="1882440" cy="280476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665760" y="5561280"/>
              <a:ext cx="18824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cc"/>
                  </a:solidFill>
                  <a:latin typeface="Arial"/>
                </a:rPr>
                <a:t>人間仙境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3" name=""/>
          <p:cNvGrpSpPr/>
          <p:nvPr/>
        </p:nvGrpSpPr>
        <p:grpSpPr>
          <a:xfrm>
            <a:off x="539640" y="2743200"/>
            <a:ext cx="3728880" cy="3058920"/>
            <a:chOff x="539640" y="2743200"/>
            <a:chExt cx="3728880" cy="3058920"/>
          </a:xfrm>
        </p:grpSpPr>
        <p:sp>
          <p:nvSpPr>
            <p:cNvPr id="94" name=""/>
            <p:cNvSpPr/>
            <p:nvPr/>
          </p:nvSpPr>
          <p:spPr>
            <a:xfrm>
              <a:off x="539640" y="2743200"/>
              <a:ext cx="3728880" cy="28018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39640" y="5558760"/>
              <a:ext cx="3728880" cy="243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cc"/>
                  </a:solidFill>
                  <a:latin typeface="Arial"/>
                </a:rPr>
                <a:t>活動中心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5000" spc="-1" strike="noStrike">
                <a:solidFill>
                  <a:srgbClr val="9900cc"/>
                </a:solidFill>
                <a:latin typeface="華康中圓體"/>
              </a:rPr>
              <a:t>記憶中的墾丁</a:t>
            </a:r>
            <a:endParaRPr b="1" lang="en-US" sz="5000" spc="-1" strike="noStrike">
              <a:solidFill>
                <a:srgbClr val="9900cc"/>
              </a:solidFill>
              <a:latin typeface="華康中圓體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973920" y="1773360"/>
            <a:ext cx="1485720" cy="2157120"/>
            <a:chOff x="6973920" y="1773360"/>
            <a:chExt cx="1485720" cy="2157120"/>
          </a:xfrm>
        </p:grpSpPr>
        <p:sp>
          <p:nvSpPr>
            <p:cNvPr id="98" name=""/>
            <p:cNvSpPr/>
            <p:nvPr/>
          </p:nvSpPr>
          <p:spPr>
            <a:xfrm>
              <a:off x="6973920" y="1773360"/>
              <a:ext cx="1485720" cy="19756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973920" y="3758760"/>
              <a:ext cx="14857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cc"/>
                  </a:solidFill>
                  <a:latin typeface="Arial"/>
                </a:rPr>
                <a:t>藍天白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3889440" y="4292640"/>
            <a:ext cx="2630520" cy="2157120"/>
            <a:chOff x="3889440" y="4292640"/>
            <a:chExt cx="2630520" cy="2157120"/>
          </a:xfrm>
        </p:grpSpPr>
        <p:sp>
          <p:nvSpPr>
            <p:cNvPr id="101" name=""/>
            <p:cNvSpPr/>
            <p:nvPr/>
          </p:nvSpPr>
          <p:spPr>
            <a:xfrm>
              <a:off x="3889440" y="4292640"/>
              <a:ext cx="2630520" cy="197604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89440" y="6278040"/>
              <a:ext cx="26305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cc"/>
                  </a:solidFill>
                  <a:latin typeface="Arial"/>
                </a:rPr>
                <a:t>永遠的好朋友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804960" y="1773360"/>
            <a:ext cx="2630520" cy="2156760"/>
            <a:chOff x="804960" y="1773360"/>
            <a:chExt cx="2630520" cy="2156760"/>
          </a:xfrm>
        </p:grpSpPr>
        <p:sp>
          <p:nvSpPr>
            <p:cNvPr id="104" name=""/>
            <p:cNvSpPr/>
            <p:nvPr/>
          </p:nvSpPr>
          <p:spPr>
            <a:xfrm>
              <a:off x="804960" y="1773360"/>
              <a:ext cx="2630520" cy="197568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804960" y="3758400"/>
              <a:ext cx="26305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cc"/>
                  </a:solidFill>
                  <a:latin typeface="Arial"/>
                </a:rPr>
                <a:t>藍天白雲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6" name=""/>
          <p:cNvGrpSpPr/>
          <p:nvPr/>
        </p:nvGrpSpPr>
        <p:grpSpPr>
          <a:xfrm>
            <a:off x="6973920" y="4290840"/>
            <a:ext cx="1485720" cy="2158920"/>
            <a:chOff x="6973920" y="4290840"/>
            <a:chExt cx="1485720" cy="2158920"/>
          </a:xfrm>
        </p:grpSpPr>
        <p:sp>
          <p:nvSpPr>
            <p:cNvPr id="107" name=""/>
            <p:cNvSpPr/>
            <p:nvPr/>
          </p:nvSpPr>
          <p:spPr>
            <a:xfrm>
              <a:off x="6973920" y="4290840"/>
              <a:ext cx="1485720" cy="197784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973920" y="6278040"/>
              <a:ext cx="14857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cc"/>
                  </a:solidFill>
                  <a:latin typeface="Arial"/>
                </a:rPr>
                <a:t>大戶人家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889440" y="1773360"/>
            <a:ext cx="2630520" cy="2156760"/>
            <a:chOff x="3889440" y="1773360"/>
            <a:chExt cx="2630520" cy="2156760"/>
          </a:xfrm>
        </p:grpSpPr>
        <p:sp>
          <p:nvSpPr>
            <p:cNvPr id="110" name=""/>
            <p:cNvSpPr/>
            <p:nvPr/>
          </p:nvSpPr>
          <p:spPr>
            <a:xfrm>
              <a:off x="3889440" y="1773360"/>
              <a:ext cx="2630520" cy="1975680"/>
            </a:xfrm>
            <a:prstGeom prst="rect">
              <a:avLst/>
            </a:prstGeom>
            <a:blipFill rotWithShape="0">
              <a:blip r:embed="rId6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889440" y="3758400"/>
              <a:ext cx="26305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cc"/>
                  </a:solidFill>
                  <a:latin typeface="Arial"/>
                </a:rPr>
                <a:t>西廂房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804960" y="4292640"/>
            <a:ext cx="2630520" cy="2157120"/>
            <a:chOff x="804960" y="4292640"/>
            <a:chExt cx="2630520" cy="2157120"/>
          </a:xfrm>
        </p:grpSpPr>
        <p:sp>
          <p:nvSpPr>
            <p:cNvPr id="113" name=""/>
            <p:cNvSpPr/>
            <p:nvPr/>
          </p:nvSpPr>
          <p:spPr>
            <a:xfrm>
              <a:off x="804960" y="4292640"/>
              <a:ext cx="2630520" cy="1976040"/>
            </a:xfrm>
            <a:prstGeom prst="rect">
              <a:avLst/>
            </a:prstGeom>
            <a:blipFill rotWithShape="0">
              <a:blip r:embed="rId7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804960" y="6278040"/>
              <a:ext cx="2630520" cy="17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cc"/>
                  </a:solidFill>
                  <a:latin typeface="Arial"/>
                </a:rPr>
                <a:t>地平線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5000" spc="-1" strike="noStrike">
              <a:solidFill>
                <a:srgbClr val="9900cc"/>
              </a:solidFill>
              <a:latin typeface="華康中圓體"/>
              <a:ea typeface="新細明體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650880" y="457200"/>
            <a:ext cx="3498840" cy="2870280"/>
            <a:chOff x="650880" y="457200"/>
            <a:chExt cx="3498840" cy="2870280"/>
          </a:xfrm>
        </p:grpSpPr>
        <p:sp>
          <p:nvSpPr>
            <p:cNvPr id="117" name=""/>
            <p:cNvSpPr/>
            <p:nvPr/>
          </p:nvSpPr>
          <p:spPr>
            <a:xfrm>
              <a:off x="650880" y="457200"/>
              <a:ext cx="3498840" cy="2629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650880" y="3098880"/>
              <a:ext cx="3498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2002_0422_185047A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4994280" y="457200"/>
            <a:ext cx="3498840" cy="2870280"/>
            <a:chOff x="4994280" y="457200"/>
            <a:chExt cx="3498840" cy="2870280"/>
          </a:xfrm>
        </p:grpSpPr>
        <p:sp>
          <p:nvSpPr>
            <p:cNvPr id="120" name=""/>
            <p:cNvSpPr/>
            <p:nvPr/>
          </p:nvSpPr>
          <p:spPr>
            <a:xfrm>
              <a:off x="4994280" y="457200"/>
              <a:ext cx="3498840" cy="2629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994280" y="3098880"/>
              <a:ext cx="3498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2002_0423_103647AA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04640" y="3543480"/>
            <a:ext cx="3991320" cy="2869920"/>
            <a:chOff x="404640" y="3543480"/>
            <a:chExt cx="3991320" cy="2869920"/>
          </a:xfrm>
        </p:grpSpPr>
        <p:sp>
          <p:nvSpPr>
            <p:cNvPr id="123" name=""/>
            <p:cNvSpPr/>
            <p:nvPr/>
          </p:nvSpPr>
          <p:spPr>
            <a:xfrm>
              <a:off x="404640" y="3543480"/>
              <a:ext cx="3991320" cy="2628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404640" y="6184800"/>
              <a:ext cx="39913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A0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4781520" y="3543480"/>
            <a:ext cx="3924360" cy="2869920"/>
            <a:chOff x="4781520" y="3543480"/>
            <a:chExt cx="3924360" cy="2869920"/>
          </a:xfrm>
        </p:grpSpPr>
        <p:sp>
          <p:nvSpPr>
            <p:cNvPr id="126" name=""/>
            <p:cNvSpPr/>
            <p:nvPr/>
          </p:nvSpPr>
          <p:spPr>
            <a:xfrm>
              <a:off x="4781520" y="3543480"/>
              <a:ext cx="3924360" cy="2628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781520" y="6184800"/>
              <a:ext cx="392436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A16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5000" spc="-1" strike="noStrike">
              <a:solidFill>
                <a:srgbClr val="9900cc"/>
              </a:solidFill>
              <a:latin typeface="華康中圓體"/>
              <a:ea typeface="新細明體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441360" y="457200"/>
            <a:ext cx="3916440" cy="2870280"/>
            <a:chOff x="441360" y="457200"/>
            <a:chExt cx="3916440" cy="2870280"/>
          </a:xfrm>
        </p:grpSpPr>
        <p:sp>
          <p:nvSpPr>
            <p:cNvPr id="130" name=""/>
            <p:cNvSpPr/>
            <p:nvPr/>
          </p:nvSpPr>
          <p:spPr>
            <a:xfrm>
              <a:off x="441360" y="457200"/>
              <a:ext cx="3916440" cy="2629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360" y="3098880"/>
              <a:ext cx="3916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A2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4770360" y="457200"/>
            <a:ext cx="3946680" cy="2870280"/>
            <a:chOff x="4770360" y="457200"/>
            <a:chExt cx="3946680" cy="2870280"/>
          </a:xfrm>
        </p:grpSpPr>
        <p:sp>
          <p:nvSpPr>
            <p:cNvPr id="133" name=""/>
            <p:cNvSpPr/>
            <p:nvPr/>
          </p:nvSpPr>
          <p:spPr>
            <a:xfrm>
              <a:off x="4770360" y="457200"/>
              <a:ext cx="3946680" cy="2629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4770360" y="3098880"/>
              <a:ext cx="394668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cc"/>
                  </a:solidFill>
                  <a:latin typeface="Arial"/>
                </a:rPr>
                <a:t>B2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411200" y="3543480"/>
            <a:ext cx="1976400" cy="2869920"/>
            <a:chOff x="1411200" y="3543480"/>
            <a:chExt cx="1976400" cy="2869920"/>
          </a:xfrm>
        </p:grpSpPr>
        <p:sp>
          <p:nvSpPr>
            <p:cNvPr id="136" name=""/>
            <p:cNvSpPr/>
            <p:nvPr/>
          </p:nvSpPr>
          <p:spPr>
            <a:xfrm>
              <a:off x="1411200" y="3543480"/>
              <a:ext cx="1976400" cy="2628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1411200" y="6184800"/>
              <a:ext cx="19764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cc"/>
                  </a:solidFill>
                  <a:latin typeface="Arial"/>
                </a:rPr>
                <a:t>風吹沙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8" name=""/>
          <p:cNvGrpSpPr/>
          <p:nvPr/>
        </p:nvGrpSpPr>
        <p:grpSpPr>
          <a:xfrm>
            <a:off x="4784760" y="3543480"/>
            <a:ext cx="3916440" cy="2869920"/>
            <a:chOff x="4784760" y="3543480"/>
            <a:chExt cx="3916440" cy="2869920"/>
          </a:xfrm>
        </p:grpSpPr>
        <p:sp>
          <p:nvSpPr>
            <p:cNvPr id="139" name=""/>
            <p:cNvSpPr/>
            <p:nvPr/>
          </p:nvSpPr>
          <p:spPr>
            <a:xfrm>
              <a:off x="4784760" y="3543480"/>
              <a:ext cx="3916440" cy="262872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784760" y="6184800"/>
              <a:ext cx="39164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cc"/>
                  </a:solidFill>
                  <a:latin typeface="Arial"/>
                </a:rPr>
                <a:t>海灣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00000" y="642960"/>
            <a:ext cx="76327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TW" sz="5000" spc="-1" strike="noStrike">
              <a:solidFill>
                <a:srgbClr val="9900cc"/>
              </a:solidFill>
              <a:latin typeface="華康中圓體"/>
              <a:ea typeface="新細明體"/>
            </a:endParaRPr>
          </a:p>
        </p:txBody>
      </p:sp>
      <p:grpSp>
        <p:nvGrpSpPr>
          <p:cNvPr id="142" name=""/>
          <p:cNvGrpSpPr/>
          <p:nvPr/>
        </p:nvGrpSpPr>
        <p:grpSpPr>
          <a:xfrm>
            <a:off x="1413000" y="457200"/>
            <a:ext cx="1974600" cy="2870280"/>
            <a:chOff x="1413000" y="457200"/>
            <a:chExt cx="1974600" cy="2870280"/>
          </a:xfrm>
        </p:grpSpPr>
        <p:sp>
          <p:nvSpPr>
            <p:cNvPr id="143" name=""/>
            <p:cNvSpPr/>
            <p:nvPr/>
          </p:nvSpPr>
          <p:spPr>
            <a:xfrm>
              <a:off x="1413000" y="457200"/>
              <a:ext cx="1974600" cy="2629080"/>
            </a:xfrm>
            <a:prstGeom prst="rect">
              <a:avLst/>
            </a:prstGeom>
            <a:blipFill rotWithShape="0">
              <a:blip r:embed="rId2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1413000" y="3098880"/>
              <a:ext cx="197460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cc"/>
                  </a:solidFill>
                  <a:latin typeface="Arial"/>
                </a:rPr>
                <a:t>大戶人家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994280" y="457200"/>
            <a:ext cx="3498840" cy="2870280"/>
            <a:chOff x="4994280" y="457200"/>
            <a:chExt cx="3498840" cy="2870280"/>
          </a:xfrm>
        </p:grpSpPr>
        <p:sp>
          <p:nvSpPr>
            <p:cNvPr id="146" name=""/>
            <p:cNvSpPr/>
            <p:nvPr/>
          </p:nvSpPr>
          <p:spPr>
            <a:xfrm>
              <a:off x="4994280" y="457200"/>
              <a:ext cx="3498840" cy="2629080"/>
            </a:xfrm>
            <a:prstGeom prst="rect">
              <a:avLst/>
            </a:prstGeom>
            <a:blipFill rotWithShape="0">
              <a:blip r:embed="rId3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994280" y="3098880"/>
              <a:ext cx="3498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cc"/>
                  </a:solidFill>
                  <a:latin typeface="Arial"/>
                </a:rPr>
                <a:t>活動中心大門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8" name=""/>
          <p:cNvGrpSpPr/>
          <p:nvPr/>
        </p:nvGrpSpPr>
        <p:grpSpPr>
          <a:xfrm>
            <a:off x="4994280" y="3543480"/>
            <a:ext cx="3498840" cy="2869920"/>
            <a:chOff x="4994280" y="3543480"/>
            <a:chExt cx="3498840" cy="2869920"/>
          </a:xfrm>
        </p:grpSpPr>
        <p:sp>
          <p:nvSpPr>
            <p:cNvPr id="149" name=""/>
            <p:cNvSpPr/>
            <p:nvPr/>
          </p:nvSpPr>
          <p:spPr>
            <a:xfrm>
              <a:off x="4994280" y="3543480"/>
              <a:ext cx="3498840" cy="2628720"/>
            </a:xfrm>
            <a:prstGeom prst="rect">
              <a:avLst/>
            </a:prstGeom>
            <a:blipFill rotWithShape="0">
              <a:blip r:embed="rId4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994280" y="6184800"/>
              <a:ext cx="349884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600" spc="-1" strike="noStrike">
                  <a:solidFill>
                    <a:srgbClr val="0000cc"/>
                  </a:solidFill>
                  <a:latin typeface="Arial"/>
                </a:rPr>
                <a:t>西廂房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782640" y="3540240"/>
            <a:ext cx="3501720" cy="2872800"/>
            <a:chOff x="782640" y="3540240"/>
            <a:chExt cx="3501720" cy="2872800"/>
          </a:xfrm>
        </p:grpSpPr>
        <p:sp>
          <p:nvSpPr>
            <p:cNvPr id="152" name=""/>
            <p:cNvSpPr/>
            <p:nvPr/>
          </p:nvSpPr>
          <p:spPr>
            <a:xfrm>
              <a:off x="782640" y="3540240"/>
              <a:ext cx="3501720" cy="2631600"/>
            </a:xfrm>
            <a:prstGeom prst="rect">
              <a:avLst/>
            </a:prstGeom>
            <a:blipFill rotWithShape="0">
              <a:blip r:embed="rId5"/>
              <a:srcRect/>
              <a:stretch/>
            </a:blipFill>
            <a:ln w="0">
              <a:noFill/>
            </a:ln>
            <a:effectLst>
              <a:outerShdw dist="153753" dir="27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782640" y="6184440"/>
              <a:ext cx="3501720" cy="22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cc"/>
                  </a:solidFill>
                  <a:latin typeface="Arial"/>
                </a:rPr>
                <a:t>記憶中的小火車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17T02:28:33Z</dcterms:created>
  <dc:creator>黛琳</dc:creator>
  <dc:description/>
  <dc:language>en-US</dc:language>
  <cp:lastModifiedBy>SuperXP</cp:lastModifiedBy>
  <dcterms:modified xsi:type="dcterms:W3CDTF">2006-12-04T02:06:32Z</dcterms:modified>
  <cp:revision>13</cp:revision>
  <dc:subject/>
  <dc:title>三年八班畢業旅行相簿</dc:title>
</cp:coreProperties>
</file>