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9623425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F608F-F40F-49C0-AC81-48F03AB65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5548-C245-4B5A-ABF2-B519C9843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6220-2255-4C5B-98F9-51CE6ED19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4074E-FF02-4708-B7F0-3EDE7E744D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F5AA1E-2463-4091-9346-BFD4B3042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DF043-82E4-45D6-B95C-79F3E8003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8803F3-7DDC-4CA9-AA33-E9823ABA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2E7981-9F22-473F-B863-0EE83D4565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01F8B4-5C33-4C75-B364-53B444D6D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363E18-E0DA-4BE8-A1CD-D10811F25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9F8B2-5F25-4959-94E0-A6EFC9F47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F162F-98CE-483B-8E3A-48F07CC73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EC48E9-D6BB-4C36-980A-CD4E5C9A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445F8-1A2F-4457-8033-3857A4E6DB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5DF5F-8FEE-4E58-9BB6-2B3A71795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F5964-E908-4104-8917-56402AF6F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968C3-60A9-4A2B-A8AD-95959D8B9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22FB8-2CF5-487D-BF2E-2C534C45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3DFB0-AFBD-4062-B3FE-3A13587B5A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389B-9388-4448-AD80-EBAF2BA3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5C70-828E-4B34-98EA-23C877D480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5B8E-8ADE-4C7F-A8DE-751C77841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3A3D-261B-44CA-85BA-BAE412E8C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4A978-6368-4458-AB57-6B725AFCF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9B0C-6452-4B3A-93B7-74780AB43706}" type="slidenum">
              <a:rPr b="0" lang="zh-TW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B7EF5-436B-4B11-997D-D6553E47A647}" type="slidenum">
              <a:rPr b="0" lang="zh-TW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284720" y="5229360"/>
            <a:ext cx="44672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384800" y="2739960"/>
            <a:ext cx="4759200" cy="41180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006666"/>
                </a:solidFill>
                <a:latin typeface="Verdana"/>
                <a:ea typeface="華康海報體W9"/>
              </a:rPr>
              <a:t>登山社年度結算</a:t>
            </a:r>
            <a:endParaRPr b="1" lang="en-US" sz="6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Verdana"/>
              </a:rPr>
              <a:t>製作人：登山社 總務 王維聲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 flipH="1">
            <a:off x="-360" y="4370400"/>
            <a:ext cx="4932360" cy="24876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525960" y="186120"/>
            <a:ext cx="8077680" cy="114804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ffffff">
                <a:alpha val="50000"/>
              </a:srgbClr>
            </a:outerShdw>
          </a:effectLst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006633"/>
                </a:solidFill>
                <a:latin typeface="Verdana"/>
                <a:ea typeface="華康魏碑體"/>
              </a:rPr>
              <a:t>本學期活動</a:t>
            </a:r>
            <a:endParaRPr b="0" lang="en-US" sz="6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9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月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迎新大會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10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月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陽明山攻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11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月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期中社團聚會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12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月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社團耶誕聚會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月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煮湯圓大會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月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拉拉山攻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2T07:00:32Z</dcterms:created>
  <dc:creator>黛琳</dc:creator>
  <dc:description/>
  <dc:language>en-US</dc:language>
  <cp:lastModifiedBy>SuperXP</cp:lastModifiedBy>
  <dcterms:modified xsi:type="dcterms:W3CDTF">2006-09-07T01:59:28Z</dcterms:modified>
  <cp:revision>58</cp:revision>
  <dc:subject/>
  <dc:title>投影片 1</dc:title>
</cp:coreProperties>
</file>