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2173-9657-4AEE-A491-E26BEC3F0F40}" type="datetime">
              <a:rPr b="0" lang="zh-TW" sz="1200" spc="-1" strike="noStrike">
                <a:solidFill>
                  <a:srgbClr val="000000"/>
                </a:solidFill>
                <a:latin typeface="Arial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2B9D-E6D2-4C46-9E37-7A4CC99A638C}" type="slidenum">
              <a:rPr b="0" lang="zh-TW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2D2-E31E-4CDA-977E-C88047B2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396-ED98-4252-A6BB-FE3DF7AB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C710-176C-431F-B4D3-B17C707B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510-4861-486E-8AEF-30C885D8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F6D0-B12A-486C-B8BC-E7B558C5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930-E3D0-47D9-97EF-8DE360C3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562-81AE-4229-9B8B-60A360CE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9C20-75A2-4F52-86C0-558B46C8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7FA5-0FE9-4312-8F1D-3B45C1D0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BD00-47B8-4C3F-A658-D2A2E1C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641-6423-4DAE-80F3-A74D9B8F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69A5-66D5-4F5B-958E-C1950FA9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F68F-6284-487D-B2A6-FA9951CFDA49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9D0D-2780-475F-AE6A-C1B80FD2495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2391840"/>
            <a:ext cx="31669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3920" y="2392200"/>
            <a:ext cx="32367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Arial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73200" y="272520"/>
            <a:ext cx="4197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319040" y="1635120"/>
          <a:ext cx="6624720" cy="4486320"/>
        </p:xfrm>
        <a:graphic>
          <a:graphicData uri="http://schemas.openxmlformats.org/drawingml/2006/table">
            <a:tbl>
              <a:tblPr/>
              <a:tblGrid>
                <a:gridCol w="1676520"/>
                <a:gridCol w="494820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000" y="272880"/>
            <a:ext cx="54450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71560" y="393876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06880" y="1600200"/>
            <a:ext cx="3265560" cy="2187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06880" y="3938760"/>
            <a:ext cx="32655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3:32:03Z</dcterms:modified>
  <cp:revision>110</cp:revision>
  <dc:subject/>
  <dc:title>自我介紹</dc:title>
</cp:coreProperties>
</file>