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139D3-E529-4520-9603-AA74BB296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8EA28-9B7C-480B-B7C6-79D2A3E8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041DE-6236-4C68-9DFD-76480BF6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DD842-6A52-40C4-B602-74E1C58B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F1C1-D43E-4294-A444-B9EB29527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951C-B036-4369-AE89-2CCADC49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0CDF-8167-480B-AB6B-ABAAD218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7B3E-DDE2-475B-A211-72D39A9E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4CB7-1B71-49BA-B5C9-568E4BC3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74D7-C5AE-46AB-AEA8-30B82E65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FA48-1F25-46BA-9E9A-E4C53C9B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DEE92-60D9-457F-9407-84645079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5DE0-D9B4-4A1B-9C29-2BA8CB95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7282-0E71-4960-9031-0EDE6B66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474C-6ED8-4B41-83AA-8638430E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CCC0-0A18-4B67-B66F-617145C5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51DB-BD06-44A0-9B2F-6A3F4A842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F0C3E-71FE-4F6D-8E23-4D841084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F72C6-B768-4180-805F-C21644AD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B1696-1533-44A3-92AF-27BF91B0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BEA69-0538-4F8E-A04F-3BEFBC89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08DA9-702A-434B-9F12-C3DE1AAA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58F3B-3458-49DF-ABAD-A129EBABD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22CB2-1F64-43BF-B20A-4292E94D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E78E-7066-485B-852A-C813FA836E05}" type="slidenum">
              <a:rPr b="0" lang="zh-TW" sz="2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36360" y="-27000"/>
            <a:ext cx="9144000" cy="546120"/>
            <a:chOff x="-36360" y="-2700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-36360" y="-2700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76560" y="108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73320" y="108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11200" y="-2700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1200" y="108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38320" y="247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5400" y="109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3320" y="244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8320" y="382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-27000"/>
            <a:ext cx="9144000" cy="6858000"/>
            <a:chOff x="0" y="-2700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-2700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63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39680"/>
              <a:ext cx="2867040" cy="3157560"/>
              <a:chOff x="0" y="1039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56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63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39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56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63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297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297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297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21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21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D237-C093-4BEF-9CE2-BD7AB2C618A3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140000" y="5084640"/>
            <a:ext cx="4537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00cc"/>
                </a:solidFill>
                <a:latin typeface="Arial"/>
                <a:ea typeface="華康中黑體(P)"/>
              </a:rPr>
              <a:t>學生姓名：曾詠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00cc"/>
                </a:solidFill>
                <a:latin typeface="Arial"/>
                <a:ea typeface="華康中黑體(P)"/>
              </a:rPr>
              <a:t>班　　級：三年三班３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4360" y="1197000"/>
            <a:ext cx="7920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2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華康細圓體"/>
              </a:rPr>
              <a:t>食物與健康的關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華康細圓體"/>
              <a:ea typeface="華康細圓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468360" y="1700280"/>
          <a:ext cx="8137440" cy="4176720"/>
        </p:xfrm>
        <a:graphic>
          <a:graphicData uri="http://schemas.openxmlformats.org/drawingml/2006/table">
            <a:tbl>
              <a:tblPr/>
              <a:tblGrid>
                <a:gridCol w="574560"/>
                <a:gridCol w="601560"/>
                <a:gridCol w="535320"/>
                <a:gridCol w="534960"/>
                <a:gridCol w="531720"/>
                <a:gridCol w="538200"/>
                <a:gridCol w="534960"/>
                <a:gridCol w="538200"/>
                <a:gridCol w="533160"/>
                <a:gridCol w="528840"/>
                <a:gridCol w="542880"/>
                <a:gridCol w="538200"/>
                <a:gridCol w="534960"/>
                <a:gridCol w="536400"/>
                <a:gridCol w="533520"/>
              </a:tblGrid>
              <a:tr h="39888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7d"/>
                      </a:solidFill>
                    </a:lnR>
                    <a:lnT>
                      <a:noFill/>
                    </a:lnT>
                    <a:lnB w="18720">
                      <a:solidFill>
                        <a:srgbClr val="00007d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華康中黑體"/>
                        </a:rPr>
                        <a:t>早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33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華康中黑體"/>
                        </a:rPr>
                        <a:t>午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華康中黑體"/>
                        </a:rPr>
                        <a:t>晚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00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412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中黑體"/>
                        </a:rPr>
                        <a:t>食物類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五穀根莖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蛋豆魚肉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蔬菜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五穀根莖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蛋豆魚肉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蔬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五穀根莖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 grid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蛋豆魚肉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蔬菜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水果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33316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中黑體"/>
                        </a:rPr>
                        <a:t>食譜舉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雜糧饅頭　一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炒蛋　　　一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生菜沙拉　一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乾飯一至　二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糖醋排骨　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鮭魚　　　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洋蔥胡蘿蔔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炒菠菜　　二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白飯　一至二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蝦仁豆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蔥油雞　　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炒青椒　　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魯白菜　　二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蕃石榴　　一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青少年適用之營養食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30744-B6DE-40DF-95F6-E36278E371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03640" y="2421000"/>
            <a:ext cx="5267160" cy="3951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食 物 的 功 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61952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供給熱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建造或修補體內組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調節生理機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7178F-9033-447A-8990-0597023192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食物中的營養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71640" y="1557360"/>
          <a:ext cx="7127640" cy="4335480"/>
        </p:xfrm>
        <a:graphic>
          <a:graphicData uri="http://schemas.openxmlformats.org/drawingml/2006/table">
            <a:tbl>
              <a:tblPr/>
              <a:tblGrid>
                <a:gridCol w="3166920"/>
                <a:gridCol w="3960720"/>
              </a:tblGrid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食   物   類   別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供  給  的  營 養  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五穀根莖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醣類、蛋白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奶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鈣質及蛋白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蛋、豆、魚、肉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蛋白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蔬果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維生素、礦物質與纖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72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油脂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脂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E3C0E-5047-44E7-A47B-97C1E7F7C4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營 養 素 的 種 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31640" y="1971720"/>
            <a:ext cx="8208720" cy="1528200"/>
            <a:chOff x="431640" y="1971720"/>
            <a:chExt cx="8208720" cy="1528200"/>
          </a:xfrm>
        </p:grpSpPr>
        <p:cxnSp>
          <p:nvCxnSpPr>
            <p:cNvPr id="115" name="_s154629"/>
            <p:cNvCxnSpPr>
              <a:stCxn id="116" idx="0"/>
              <a:endCxn id="117" idx="5"/>
            </p:cNvCxnSpPr>
            <p:nvPr/>
          </p:nvCxnSpPr>
          <p:spPr>
            <a:xfrm flipV="1" rot="16200000">
              <a:off x="4732560" y="2384640"/>
              <a:ext cx="306360" cy="701280"/>
            </a:xfrm>
            <a:prstGeom prst="bentConnector3">
              <a:avLst>
                <a:gd name="adj1" fmla="val 1494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8" name="_s154630"/>
            <p:cNvCxnSpPr>
              <a:stCxn id="119" idx="0"/>
              <a:endCxn id="117" idx="4"/>
            </p:cNvCxnSpPr>
            <p:nvPr/>
          </p:nvCxnSpPr>
          <p:spPr>
            <a:xfrm flipV="1" rot="16200000">
              <a:off x="5433480" y="1683720"/>
              <a:ext cx="306360" cy="2103120"/>
            </a:xfrm>
            <a:prstGeom prst="bentConnector3">
              <a:avLst>
                <a:gd name="adj1" fmla="val 1494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0" name="_s154631"/>
            <p:cNvCxnSpPr>
              <a:stCxn id="121" idx="0"/>
              <a:endCxn id="117" idx="3"/>
            </p:cNvCxnSpPr>
            <p:nvPr/>
          </p:nvCxnSpPr>
          <p:spPr>
            <a:xfrm flipV="1" rot="16200000">
              <a:off x="6134400" y="982800"/>
              <a:ext cx="306360" cy="3504960"/>
            </a:xfrm>
            <a:prstGeom prst="bentConnector3">
              <a:avLst>
                <a:gd name="adj1" fmla="val 1494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2" name="_s154632"/>
            <p:cNvCxnSpPr>
              <a:stCxn id="123" idx="0"/>
              <a:endCxn id="117" idx="2"/>
            </p:cNvCxnSpPr>
            <p:nvPr/>
          </p:nvCxnSpPr>
          <p:spPr>
            <a:xfrm flipH="1" flipV="1" rot="5400000">
              <a:off x="4033080" y="2386080"/>
              <a:ext cx="306360" cy="698760"/>
            </a:xfrm>
            <a:prstGeom prst="bentConnector3">
              <a:avLst>
                <a:gd name="adj1" fmla="val 1494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4" name="_s154633"/>
            <p:cNvCxnSpPr>
              <a:stCxn id="125" idx="0"/>
              <a:endCxn id="117" idx="1"/>
            </p:cNvCxnSpPr>
            <p:nvPr/>
          </p:nvCxnSpPr>
          <p:spPr>
            <a:xfrm flipH="1" flipV="1" rot="5400000">
              <a:off x="3332160" y="1685160"/>
              <a:ext cx="306360" cy="2100600"/>
            </a:xfrm>
            <a:prstGeom prst="bentConnector3">
              <a:avLst>
                <a:gd name="adj1" fmla="val 1494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6" name="_s154634"/>
            <p:cNvCxnSpPr>
              <a:stCxn id="127" idx="0"/>
              <a:endCxn id="117" idx="0"/>
            </p:cNvCxnSpPr>
            <p:nvPr/>
          </p:nvCxnSpPr>
          <p:spPr>
            <a:xfrm flipH="1" flipV="1" rot="5400000">
              <a:off x="2631600" y="984240"/>
              <a:ext cx="306360" cy="3502440"/>
            </a:xfrm>
            <a:prstGeom prst="bentConnector3">
              <a:avLst>
                <a:gd name="adj1" fmla="val 14941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7" name="_s154635"/>
            <p:cNvSpPr/>
            <p:nvPr/>
          </p:nvSpPr>
          <p:spPr>
            <a:xfrm>
              <a:off x="3934800" y="1971720"/>
              <a:ext cx="1201320" cy="611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ffffff"/>
                </a:gs>
                <a:gs pos="100000">
                  <a:srgbClr val="9999ff"/>
                </a:gs>
              </a:gsLst>
              <a:lin ang="8100000"/>
            </a:gradFill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700" spc="-1" strike="noStrike">
                  <a:solidFill>
                    <a:srgbClr val="000000"/>
                  </a:solidFill>
                  <a:latin typeface="Arial"/>
                </a:rPr>
                <a:t>六大營養素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54636"/>
            <p:cNvSpPr/>
            <p:nvPr/>
          </p:nvSpPr>
          <p:spPr>
            <a:xfrm>
              <a:off x="431640" y="2888640"/>
              <a:ext cx="1201320" cy="611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99cc"/>
                </a:gs>
                <a:gs pos="50000">
                  <a:srgbClr val="ffffff"/>
                </a:gs>
                <a:gs pos="100000">
                  <a:srgbClr val="9999cc"/>
                </a:gs>
              </a:gsLst>
              <a:lin ang="8100000"/>
            </a:gradFill>
            <a:ln w="32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700" spc="-1" strike="noStrike">
                  <a:solidFill>
                    <a:srgbClr val="000000"/>
                  </a:solidFill>
                  <a:latin typeface="Arial"/>
                </a:rPr>
                <a:t>醣類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54637"/>
            <p:cNvSpPr/>
            <p:nvPr/>
          </p:nvSpPr>
          <p:spPr>
            <a:xfrm>
              <a:off x="1833120" y="2888640"/>
              <a:ext cx="1201320" cy="611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99cc"/>
                </a:gs>
                <a:gs pos="50000">
                  <a:srgbClr val="ffffff"/>
                </a:gs>
                <a:gs pos="100000">
                  <a:srgbClr val="9999cc"/>
                </a:gs>
              </a:gsLst>
              <a:lin ang="8100000"/>
            </a:gradFill>
            <a:ln w="32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700" spc="-1" strike="noStrike">
                  <a:solidFill>
                    <a:srgbClr val="000000"/>
                  </a:solidFill>
                  <a:latin typeface="Arial"/>
                </a:rPr>
                <a:t>脂肪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54638"/>
            <p:cNvSpPr/>
            <p:nvPr/>
          </p:nvSpPr>
          <p:spPr>
            <a:xfrm>
              <a:off x="3234960" y="2888640"/>
              <a:ext cx="1201320" cy="611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99cc"/>
                </a:gs>
                <a:gs pos="50000">
                  <a:srgbClr val="ffffff"/>
                </a:gs>
                <a:gs pos="100000">
                  <a:srgbClr val="9999cc"/>
                </a:gs>
              </a:gsLst>
              <a:lin ang="8100000"/>
            </a:gradFill>
            <a:ln w="32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700" spc="-1" strike="noStrike">
                  <a:solidFill>
                    <a:srgbClr val="000000"/>
                  </a:solidFill>
                  <a:latin typeface="Arial"/>
                </a:rPr>
                <a:t>蛋白質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54639"/>
            <p:cNvSpPr/>
            <p:nvPr/>
          </p:nvSpPr>
          <p:spPr>
            <a:xfrm>
              <a:off x="7439040" y="2888640"/>
              <a:ext cx="1201320" cy="611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99cc"/>
                </a:gs>
                <a:gs pos="50000">
                  <a:srgbClr val="ffffff"/>
                </a:gs>
                <a:gs pos="100000">
                  <a:srgbClr val="9999cc"/>
                </a:gs>
              </a:gsLst>
              <a:lin ang="8100000"/>
            </a:gradFill>
            <a:ln w="32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700" spc="-1" strike="noStrike">
                  <a:solidFill>
                    <a:srgbClr val="000000"/>
                  </a:solidFill>
                  <a:latin typeface="Arial"/>
                </a:rPr>
                <a:t>水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54640"/>
            <p:cNvSpPr/>
            <p:nvPr/>
          </p:nvSpPr>
          <p:spPr>
            <a:xfrm>
              <a:off x="6037200" y="2888640"/>
              <a:ext cx="1201320" cy="611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99cc"/>
                </a:gs>
                <a:gs pos="50000">
                  <a:srgbClr val="ffffff"/>
                </a:gs>
                <a:gs pos="100000">
                  <a:srgbClr val="9999cc"/>
                </a:gs>
              </a:gsLst>
              <a:lin ang="8100000"/>
            </a:gradFill>
            <a:ln w="32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700" spc="-1" strike="noStrike">
                  <a:solidFill>
                    <a:srgbClr val="000000"/>
                  </a:solidFill>
                  <a:latin typeface="Arial"/>
                </a:rPr>
                <a:t>維生素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54641"/>
            <p:cNvSpPr/>
            <p:nvPr/>
          </p:nvSpPr>
          <p:spPr>
            <a:xfrm>
              <a:off x="4636800" y="2888640"/>
              <a:ext cx="1200240" cy="611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99cc"/>
                </a:gs>
                <a:gs pos="50000">
                  <a:srgbClr val="ffffff"/>
                </a:gs>
                <a:gs pos="100000">
                  <a:srgbClr val="9999cc"/>
                </a:gs>
              </a:gsLst>
              <a:lin ang="8100000"/>
            </a:gradFill>
            <a:ln w="324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700" spc="-1" strike="noStrike">
                  <a:solidFill>
                    <a:srgbClr val="000000"/>
                  </a:solidFill>
                  <a:latin typeface="Arial"/>
                </a:rPr>
                <a:t>礦物質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46BB4-AD7B-428E-8427-960C46F36E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營養素對健康的影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11280" y="1773360"/>
          <a:ext cx="7848360" cy="4589280"/>
        </p:xfrm>
        <a:graphic>
          <a:graphicData uri="http://schemas.openxmlformats.org/drawingml/2006/table">
            <a:tbl>
              <a:tblPr/>
              <a:tblGrid>
                <a:gridCol w="1584360"/>
                <a:gridCol w="3384360"/>
                <a:gridCol w="2879640"/>
              </a:tblGrid>
              <a:tr h="53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ffffff"/>
                          </a:solidFill>
                          <a:latin typeface="華康中黑體"/>
                          <a:ea typeface="華康中黑體"/>
                        </a:rPr>
                        <a:t>營養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ffffff"/>
                          </a:solidFill>
                          <a:latin typeface="華康中黑體"/>
                          <a:ea typeface="華康中黑體"/>
                        </a:rPr>
                        <a:t>營養素的功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ffffff"/>
                          </a:solidFill>
                          <a:latin typeface="華康中黑體"/>
                          <a:ea typeface="華康中黑體"/>
                        </a:rPr>
                        <a:t>營養不良易得之疾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維生素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保護上皮組織和眼睛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乾眼症、夜盲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</a:tr>
              <a:tr h="83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維生素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B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群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促進熱量與蛋白質的新陳代謝與安定神經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腳氣病、神經發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口角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維生素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構成軟骨、結締組織和細胞組織間的膠原物質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壞血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</a:tr>
              <a:tr h="75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維生素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幫助人體吸收及利用鈣與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軟骨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鈣、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骨骼與牙齒主要的成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骨質疏鬆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甲狀腺素的重要元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甲狀腺腫大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血紅素的主要成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貧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9698B-C93E-4F59-92DE-1D0EFE178EB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食 物 與 記 憶 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00000" y="1844640"/>
          <a:ext cx="7344000" cy="4176720"/>
        </p:xfrm>
        <a:graphic>
          <a:graphicData uri="http://schemas.openxmlformats.org/drawingml/2006/table">
            <a:tbl>
              <a:tblPr/>
              <a:tblGrid>
                <a:gridCol w="2473560"/>
                <a:gridCol w="4870440"/>
              </a:tblGrid>
              <a:tr h="12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00"/>
                          </a:solidFill>
                          <a:latin typeface="Arial"/>
                          <a:ea typeface="華康粗圓體"/>
                        </a:rPr>
                        <a:t>提升記憶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Arial"/>
                          <a:ea typeface="華康粗圓體"/>
                        </a:rPr>
                        <a:t>銀杏、迷佚香、卵磷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2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00"/>
                          </a:solidFill>
                          <a:latin typeface="Arial"/>
                          <a:ea typeface="華康粗圓體"/>
                        </a:rPr>
                        <a:t>破壞記憶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Arial"/>
                          <a:ea typeface="華康粗圓體"/>
                        </a:rPr>
                        <a:t>咖啡、酒精、白麵粉、火雞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168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00"/>
                          </a:solidFill>
                          <a:latin typeface="華康粗圓體"/>
                          <a:ea typeface="華康粗圓體"/>
                        </a:rPr>
                        <a:t>增加學習效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葡萄糖、維生素</a:t>
                      </a: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B</a:t>
                      </a: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群﹑蛋白質﹑鐵質﹑葉﹑</a:t>
                      </a: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DHA﹑EPA﹑</a:t>
                      </a: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卵磷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2F6AA-6285-4E71-A419-11E46B2F5E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青 少 年 飲 食 須 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497844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7d"/>
                </a:solidFill>
                <a:latin typeface="華康細圓體"/>
              </a:rPr>
              <a:t>多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7d"/>
                </a:solidFill>
                <a:latin typeface="華康細圓體"/>
              </a:rPr>
              <a:t>多喝水，少喝飲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7d"/>
                </a:solidFill>
                <a:latin typeface="華康細圓體"/>
              </a:rPr>
              <a:t>定時定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7d"/>
                </a:solidFill>
                <a:latin typeface="華康細圓體"/>
              </a:rPr>
              <a:t>少吃速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8B7E4-5438-4AD4-8C0B-EAEBD3EE24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55640" y="1700280"/>
            <a:ext cx="7632720" cy="1657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cc"/>
                </a:solidFill>
                <a:latin typeface="華康細圓體"/>
                <a:ea typeface="華康細圓體"/>
              </a:rPr>
              <a:t>身體質量指數（</a:t>
            </a:r>
            <a:r>
              <a:rPr b="1" lang="zh-TW" sz="3200" spc="-1" strike="noStrike">
                <a:solidFill>
                  <a:srgbClr val="0033cc"/>
                </a:solidFill>
                <a:latin typeface="華康細圓體"/>
                <a:ea typeface="華康細圓體"/>
              </a:rPr>
              <a:t>BMI</a:t>
            </a:r>
            <a:r>
              <a:rPr b="1" lang="zh-TW" sz="3200" spc="-1" strike="noStrike">
                <a:solidFill>
                  <a:srgbClr val="0033cc"/>
                </a:solidFill>
                <a:latin typeface="華康細圓體"/>
                <a:ea typeface="華康細圓體"/>
              </a:rPr>
              <a:t>）＝體重</a:t>
            </a:r>
            <a:r>
              <a:rPr b="1" lang="zh-TW" sz="3200" spc="-1" strike="noStrike">
                <a:solidFill>
                  <a:srgbClr val="0033cc"/>
                </a:solidFill>
                <a:latin typeface="Arial"/>
                <a:ea typeface="華康細圓體"/>
              </a:rPr>
              <a:t>÷</a:t>
            </a:r>
            <a:r>
              <a:rPr b="1" lang="zh-TW" sz="3200" spc="-1" strike="noStrike">
                <a:solidFill>
                  <a:srgbClr val="0033cc"/>
                </a:solidFill>
                <a:latin typeface="Arial"/>
                <a:ea typeface="華康細圓體"/>
              </a:rPr>
              <a:t>身高</a:t>
            </a:r>
            <a:r>
              <a:rPr b="1" lang="zh-TW" sz="3200" spc="-1" strike="noStrike" baseline="60000">
                <a:solidFill>
                  <a:srgbClr val="0033cc"/>
                </a:solidFill>
                <a:latin typeface="Arial"/>
                <a:ea typeface="華康細圓體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（單位：體重</a:t>
            </a: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-</a:t>
            </a: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公斤，身高</a:t>
            </a: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-</a:t>
            </a: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公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理 想 的體 重 標 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50600" y="3860640"/>
            <a:ext cx="60166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MI&lt;18.5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2800" spc="-1" strike="noStrike">
                <a:solidFill>
                  <a:srgbClr val="ff9933"/>
                </a:solidFill>
                <a:latin typeface="Arial"/>
                <a:ea typeface="華康中明體"/>
              </a:rPr>
              <a:t>體重不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MI=18.5~22.9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2800" spc="-1" strike="noStrike">
                <a:solidFill>
                  <a:srgbClr val="006600"/>
                </a:solidFill>
                <a:latin typeface="Arial"/>
                <a:ea typeface="華康中明體"/>
              </a:rPr>
              <a:t>標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MI=23~24.9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2800" spc="-1" strike="noStrike">
                <a:solidFill>
                  <a:srgbClr val="cc66ff"/>
                </a:solidFill>
                <a:latin typeface="Arial"/>
                <a:ea typeface="華康中明體"/>
              </a:rPr>
              <a:t>過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MI&gt;25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  <a:ea typeface="華康中明體"/>
              </a:rPr>
              <a:t>肥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9F9E4-616D-4932-8F49-97EFE87936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熱 量 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-855720" y="1200240"/>
          <a:ext cx="9053640" cy="56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55720" y="1200240"/>
                    <a:ext cx="9053640" cy="56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F491B-108E-4920-83F6-DD97BA1EBD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21:36Z</dcterms:created>
  <dc:creator>黛琳</dc:creator>
  <dc:description/>
  <dc:language>en-US</dc:language>
  <cp:lastModifiedBy>e055</cp:lastModifiedBy>
  <dcterms:modified xsi:type="dcterms:W3CDTF">2005-06-02T09:47:39Z</dcterms:modified>
  <cp:revision>84</cp:revision>
  <dc:subject/>
  <dc:title>投影片 1</dc:title>
</cp:coreProperties>
</file>