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aser.wav" ContentType="audio/x-wav"/>
  <Override PartName="/ppt/media/image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0C96-4A85-44A9-B9DE-0E963DD2C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A0F1D-FC0A-4218-94B4-915A13E9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C5D4-E830-4CD6-8C0C-7853D402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9A1CC-A982-43EC-B8F2-1C9F0877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6DEC-CB46-462C-8C34-4DA1F3D0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E3C1-331C-47C1-AB34-B536AC79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14E8-6FAD-4F2E-8470-566B9C2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7F45-33D2-4240-8EAC-9DCB8B5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33C-F8A2-4523-9BB3-B97FAB27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AA8-54BD-41AC-B35B-EEF63EB0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AE3A8-3AFB-4386-8F91-BB1C2730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F6215-49E7-42C0-B857-DD192C0F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1D5B-1B5A-4504-B5A9-2D348A2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934A-5DF8-4A2A-9D3F-2ACBDC44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1DA3-5B05-4E88-981D-A77F8565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7F7F-157F-445D-96C7-3D580EF3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C9C1-A43B-491E-BD96-00A9B840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0E0AD-4282-45EF-B638-F6C5777B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D1A3-883B-40E8-9137-4A5F6186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BB50-66FC-4323-ADF3-5D06ED36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66481-08C9-42BE-9FE0-90DDB9C9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FD0D-04D0-4EC2-8C66-7DBA1C0A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7A54-2282-47FE-90CA-B96E7F9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2B40-4FA3-42BB-BEAD-B2D00BB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DA84-3750-495B-BCBA-2FC27088A046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1D3-5554-4E1C-A283-C94E1C6B9827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p:transition>
    <p:zoom dir="out"/>
    <p:sndAc>
      <p:stSnd>
        <p:snd r:embed="rId1" name="las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BDA63-C23E-4B11-BF03-18AB776BA0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9621-F4F3-4B88-A83D-5D58A21882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FC7FE-FC52-418C-95A2-FA2CCD43F1C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2606760"/>
            <a:ext cx="8208720" cy="1143000"/>
            <a:chOff x="431640" y="2606760"/>
            <a:chExt cx="8208720" cy="1143000"/>
          </a:xfrm>
        </p:grpSpPr>
        <p:cxnSp>
          <p:nvCxnSpPr>
            <p:cNvPr id="115" name="_s147481"/>
            <p:cNvCxnSpPr>
              <a:stCxn id="116" idx="0"/>
              <a:endCxn id="117" idx="5"/>
            </p:cNvCxnSpPr>
            <p:nvPr/>
          </p:nvCxnSpPr>
          <p:spPr>
            <a:xfrm flipV="1" rot="16200000">
              <a:off x="6174000" y="1425960"/>
              <a:ext cx="229320" cy="3503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_s147477"/>
            <p:cNvCxnSpPr>
              <a:stCxn id="119" idx="0"/>
              <a:endCxn id="117" idx="4"/>
            </p:cNvCxnSpPr>
            <p:nvPr/>
          </p:nvCxnSpPr>
          <p:spPr>
            <a:xfrm flipV="1" rot="16200000">
              <a:off x="4772880" y="2827800"/>
              <a:ext cx="229320" cy="7002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_s147475"/>
            <p:cNvCxnSpPr>
              <a:stCxn id="121" idx="0"/>
              <a:endCxn id="117" idx="3"/>
            </p:cNvCxnSpPr>
            <p:nvPr/>
          </p:nvCxnSpPr>
          <p:spPr>
            <a:xfrm flipV="1" rot="16200000">
              <a:off x="5473800" y="2126880"/>
              <a:ext cx="229320" cy="2102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_s147469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4071600" y="2826360"/>
              <a:ext cx="229320" cy="703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_s147468"/>
            <p:cNvCxnSpPr>
              <a:stCxn id="125" idx="0"/>
              <a:endCxn id="117" idx="1"/>
            </p:cNvCxnSpPr>
            <p:nvPr/>
          </p:nvCxnSpPr>
          <p:spPr>
            <a:xfrm flipH="1" flipV="1" rot="5400000">
              <a:off x="3370680" y="2125440"/>
              <a:ext cx="229320" cy="21049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_s147467"/>
            <p:cNvCxnSpPr>
              <a:stCxn id="127" idx="0"/>
              <a:endCxn id="117" idx="0"/>
            </p:cNvCxnSpPr>
            <p:nvPr/>
          </p:nvCxnSpPr>
          <p:spPr>
            <a:xfrm flipH="1" flipV="1" rot="5400000">
              <a:off x="2670480" y="1425240"/>
              <a:ext cx="229320" cy="35053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_s147463"/>
            <p:cNvSpPr/>
            <p:nvPr/>
          </p:nvSpPr>
          <p:spPr>
            <a:xfrm>
              <a:off x="3931920" y="2606760"/>
              <a:ext cx="12081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六大營養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47464"/>
            <p:cNvSpPr/>
            <p:nvPr/>
          </p:nvSpPr>
          <p:spPr>
            <a:xfrm>
              <a:off x="43164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醣類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47465"/>
            <p:cNvSpPr/>
            <p:nvPr/>
          </p:nvSpPr>
          <p:spPr>
            <a:xfrm>
              <a:off x="183312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脂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47466"/>
            <p:cNvSpPr/>
            <p:nvPr/>
          </p:nvSpPr>
          <p:spPr>
            <a:xfrm>
              <a:off x="323496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蛋白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47474"/>
            <p:cNvSpPr/>
            <p:nvPr/>
          </p:nvSpPr>
          <p:spPr>
            <a:xfrm>
              <a:off x="6037920" y="3292560"/>
              <a:ext cx="120060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維生素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47476"/>
            <p:cNvSpPr/>
            <p:nvPr/>
          </p:nvSpPr>
          <p:spPr>
            <a:xfrm>
              <a:off x="463608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礦物質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47480"/>
            <p:cNvSpPr/>
            <p:nvPr/>
          </p:nvSpPr>
          <p:spPr>
            <a:xfrm>
              <a:off x="7439400" y="3292560"/>
              <a:ext cx="1200960" cy="4572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960" rIns="75960" tIns="37800" bIns="37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5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5E75-0A9E-446D-8E39-EB53D88702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5006-BFB4-4ED4-B394-023626FDBE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031E-CA94-4C50-A118-3E4787345B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0854-57DC-461C-ACCC-E436726673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46755-11DB-4297-83AF-7545C1D0FC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2FA4-9904-4155-A636-13C02B56D5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55</cp:lastModifiedBy>
  <dcterms:modified xsi:type="dcterms:W3CDTF">2005-06-02T09:02:13Z</dcterms:modified>
  <cp:revision>85</cp:revision>
  <dc:subject/>
  <dc:title>投影片 1</dc:title>
</cp:coreProperties>
</file>