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D13-A6D1-4439-9467-F4711DFD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07EE-657D-4A9A-AC8D-C0E9E13C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A5D-4951-4939-9638-53A1DE4C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C3A-2651-484A-B325-3593C398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570-62C2-4FF3-8543-A4B01F37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ACD6-84A1-4EA9-B729-9422ADCE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F97-9C97-484D-ACD4-9354FB88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D29-1E9B-43D4-B6C9-D5D24F41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27EB-A647-4479-B77F-60FCDC26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E5F-65E8-4805-B1AB-14622CB5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546C-6371-4048-AE2D-B952EFE5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C3EA-274F-4C2F-8157-E88EDDDD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846B-9B3E-4F24-9CF1-44B45483580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484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6600" spc="-1" strike="noStrike">
              <a:solidFill>
                <a:srgbClr val="ff3300"/>
              </a:solidFill>
              <a:latin typeface="Arial"/>
              <a:ea typeface="華康POP1體W5(P)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主辦者：曾  郝  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時    間：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92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年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8 </a:t>
            </a:r>
            <a:r>
              <a:rPr b="0" lang="zh-TW" sz="3600" spc="-1" strike="noStrike">
                <a:solidFill>
                  <a:srgbClr val="000000"/>
                </a:solidFill>
                <a:latin typeface="華康POP1體W5(P)"/>
                <a:ea typeface="華康POP1體W5(P)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詳細行程安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051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一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桃園中正機場 → 直飛夏威夷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二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希羅－柯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三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－小環島－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PCC(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遊園、晚餐、呼拉秀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四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（自由行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第五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檀香山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/</a:t>
            </a:r>
            <a:r>
              <a:rPr b="0" lang="zh-TW" sz="20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台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86400" y="4343400"/>
            <a:ext cx="327492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費用明細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01880" y="1599840"/>
            <a:ext cx="4586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來回機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$20000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（含機場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住宿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華康細圓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US$180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 /</a:t>
            </a:r>
            <a:r>
              <a:rPr b="0" lang="zh-TW" sz="24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每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華康細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華康細圓體"/>
                <a:ea typeface="華康細圓體"/>
              </a:rPr>
              <a:t>其餘一律計在團費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cc00"/>
                </a:solidFill>
                <a:latin typeface="Arial"/>
                <a:ea typeface="華康流隸體W5"/>
              </a:rPr>
              <a:t>行前注意事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必備物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護照、身份證、個人藥品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集合時間：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7/28 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上午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8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  <a:ea typeface="華康細圓體"/>
              </a:rPr>
              <a:t>集合地點：桃園機場第一航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1:57:14Z</dcterms:created>
  <dc:creator>e048</dc:creator>
  <dc:description/>
  <dc:language>en-US</dc:language>
  <cp:lastModifiedBy>e048</cp:lastModifiedBy>
  <dcterms:modified xsi:type="dcterms:W3CDTF">2002-12-31T03:28:27Z</dcterms:modified>
  <cp:revision>4</cp:revision>
  <dc:subject/>
  <dc:title>夏威夷五天四夜 熱情逍遙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8</vt:r8>
  </property>
  <property fmtid="{D5CDD505-2E9C-101B-9397-08002B2CF9AE}" pid="3" name="Version">
    <vt:r8>3</vt:r8>
  </property>
</Properties>
</file>