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8532-EB20-459D-9514-665A498E7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909E-E104-4D90-8765-FFEAAB43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40F2-19A5-4BC7-B865-393BC83CB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864C-BA59-44F7-B215-839485A7D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74FE-8102-4215-8A81-2030E471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1FDB-C382-402A-91C4-38331DEA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4FAE2-1FE4-469B-BD6A-5A743A84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4DB3-42DB-4D77-9CA7-915CB0C3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4B24-DFF1-48E6-A2FC-923DD827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07CC-C4A8-4331-ADAB-643B6A25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0575-ACFC-4C70-A537-C56E8B8B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78D9-2285-4A0F-BEDB-4628BEBA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7ACC-F6B7-4D95-86E0-A1EE9E02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C363-1C92-432F-ACFD-D99FB9F2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9004-75E0-4A5B-97C7-A5B744A5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C08A-6388-40C4-9F0C-7B6250DB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782C-206F-40CB-BC51-CD01B367A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11A83-B01D-4FB3-9C97-69A2F778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B9972-F451-40FF-9603-15AC78EF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B0E6A-EDCD-4A31-8D75-5F2B2D9C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D4568-3E67-49DE-8048-1CADDAD4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4576A-EDDF-49A5-8921-480553DF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A350-E03E-464C-978E-A526E49E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F678F-BC85-496D-8952-B00F1EA3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9A62D-E6BF-47E0-8BC4-8B507DA0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C7B51-A612-4288-88F9-D5979848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7560E-566D-4CB2-A951-53566A88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B0C6A-0EC6-49A9-82A3-8C67FD35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1F98A-ED8F-46EF-B043-A09EA7DF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2CAFB-59F6-4C39-92C2-24863FAB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A048C-5AAA-418D-A2D0-23BE9842C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FCF42-3EDA-48B5-A29F-0F92BE89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0ED48-8E47-4F46-91B9-69E83C93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7BD3-5734-4747-A1F4-F9A9D645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F2B4C-2A82-4A68-8B45-B58B8102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E1003-59CF-4253-A1C2-D5E9770C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75418-27B8-40DC-A7A0-1DE5BC1E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6F0DE-9D9D-41C7-A81C-AEA3738CE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467CD-8E16-4B0F-A3C0-AF3717E6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A56B3-2044-41FA-AE7A-AF717291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B22DD-BBFB-43D0-9790-2864DED4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4AD1B-8534-43D6-A30E-B3FE51EF4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A188C-CFCA-4D8E-A372-0C1A5CDB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4D701-7638-48B8-B3FC-3A63407FB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7BC9-BEA0-4807-B96D-C37A5264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7E1B4-6B95-4328-9A9E-B1D2BAAC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569ED-1497-444F-BCF4-CB16A28F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C69D7-BB24-46E2-9D6D-94D227AF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7F6E3-5E2D-47B0-81DD-D18F2C66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C9E57-B016-4900-A2D0-21F72C10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96A49-FC3D-4526-A7D3-E62E24D1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71419-9173-431D-8EB0-1F5D1252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32E55-F38D-4A80-B0F2-DD834D49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5EA43-7F7D-4091-8296-87DBEC30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73248-F171-40B1-820B-88DCCE69E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573D-0D18-4119-9508-22588889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89886-FAD5-4F2D-97FC-31C699776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BC70-BA00-40FD-8D1D-D01EB0FE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5B39-1369-4C53-927D-4521FA66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4E36-5F07-43AC-AEC0-0878BC79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FA80-A231-4283-84B6-18A765C10885}" type="slidenum">
              <a:rPr b="0" lang="zh-TW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865C-B5B0-427D-85A4-87AC7D4A2B75}" type="slidenum">
              <a:rPr b="0" lang="zh-TW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EAF6-38DC-4B03-9AC5-375C2A407A34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27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28B4-9CC3-4449-A257-686781C2D8B4}" type="slidenum">
              <a:rPr b="0" lang="zh-TW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13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32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200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230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232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8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9" name="PlaceHolder 3"/>
          <p:cNvSpPr>
            <a:spLocks noGrp="1"/>
          </p:cNvSpPr>
          <p:nvPr>
            <p:ph type="ftr" idx="14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5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5B38-258D-4657-BE71-49D137DA93D8}" type="slidenum">
              <a:rPr b="0" lang="zh-TW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ow.org.tw/index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www.wow.org.tw/index.htm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980640"/>
            <a:ext cx="6046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500" spc="-1" strike="noStrike">
                <a:solidFill>
                  <a:srgbClr val="006633"/>
                </a:solidFill>
                <a:latin typeface="Garamond"/>
                <a:ea typeface="華康流隸體W5"/>
              </a:rPr>
              <a:t>地球上的生物</a:t>
            </a:r>
            <a:endParaRPr b="0" lang="en-US" sz="7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066920" y="4436640"/>
            <a:ext cx="45291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學生姓名：曾詠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班　　級：三年三班３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8172360" y="-1035000"/>
            <a:ext cx="916200" cy="915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5880" fill="hold"/>
                                        <p:tgtEl>
                                          <p:spTgt spid="2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06666"/>
                </a:solidFill>
                <a:latin typeface="Arial"/>
                <a:ea typeface="華康流隸體W5"/>
              </a:rPr>
              <a:t>生 物 的 演 化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66560" y="1268280"/>
          <a:ext cx="8137800" cy="4961160"/>
        </p:xfrm>
        <a:graphic>
          <a:graphicData uri="http://schemas.openxmlformats.org/drawingml/2006/table">
            <a:tbl>
              <a:tblPr/>
              <a:tblGrid>
                <a:gridCol w="2027520"/>
                <a:gridCol w="1511280"/>
                <a:gridCol w="2232000"/>
                <a:gridCol w="2367000"/>
              </a:tblGrid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地球歷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時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當時主要生物類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代表生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35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億年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單細胞生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藍綠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9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6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億年前之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古生代初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多細胞生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陸上無生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三葉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4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億年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海洋生物開始向陸地發展，依序是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蕨類→昆蟲→兩棲類→脊椎動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陸上植物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-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維管束植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動物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-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兩棲類及昆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億多年前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~6500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萬年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中生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植物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-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裸子植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動物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-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爬蟲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恐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6500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萬年前至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(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恐龍滅絕後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新生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鳥類、哺乳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2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百多萬年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人類崛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華康細圓體"/>
                        </a:rPr>
                        <a:t>巧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9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cap="rnd" w="6336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95280" y="1341360"/>
            <a:ext cx="8280360" cy="17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Arial"/>
                <a:ea typeface="華康細圓體"/>
              </a:rPr>
              <a:t>地球曾經歷數次大變動，造成生物群集的改變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Arial"/>
                <a:ea typeface="華康細圓體"/>
              </a:rPr>
              <a:t>演化原則：由低等而高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Arial"/>
                <a:ea typeface="華康細圓體"/>
              </a:rPr>
              <a:t>　　　　　　由簡單而複雜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06666"/>
                </a:solidFill>
                <a:latin typeface="Arial"/>
                <a:ea typeface="華康流隸體W5"/>
              </a:rPr>
              <a:t>生物群集的演化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" name=""/>
          <p:cNvSpPr/>
          <p:nvPr/>
        </p:nvSpPr>
        <p:spPr>
          <a:xfrm rot="20049000">
            <a:off x="7020000" y="3016080"/>
            <a:ext cx="647640" cy="1962360"/>
          </a:xfrm>
          <a:custGeom>
            <a:avLst/>
            <a:gdLst>
              <a:gd name="textAreaLeft" fmla="*/ 86760 w 647640"/>
              <a:gd name="textAreaRight" fmla="*/ 560880 w 647640"/>
              <a:gd name="textAreaTop" fmla="*/ 343440 h 1962360"/>
              <a:gd name="textAreaBottom" fmla="*/ 1422720 h 196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148360" y="2781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Arial"/>
              </a:rPr>
              <a:t>生物群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588000" y="48942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Arial"/>
              </a:rPr>
              <a:t>大滅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95640" y="49658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Arial"/>
              </a:rPr>
              <a:t>大繁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5400000">
            <a:off x="5529600" y="4786920"/>
            <a:ext cx="600120" cy="1947960"/>
          </a:xfrm>
          <a:custGeom>
            <a:avLst/>
            <a:gdLst>
              <a:gd name="textAreaLeft" fmla="*/ 80280 w 600120"/>
              <a:gd name="textAreaRight" fmla="*/ 519840 w 600120"/>
              <a:gd name="textAreaTop" fmla="*/ 340920 h 1947960"/>
              <a:gd name="textAreaBottom" fmla="*/ 1412280 h 194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 rot="7107000">
            <a:off x="3583440" y="3616920"/>
            <a:ext cx="1977840" cy="576000"/>
          </a:xfrm>
          <a:custGeom>
            <a:avLst/>
            <a:gdLst>
              <a:gd name="textAreaLeft" fmla="*/ 345960 w 1977840"/>
              <a:gd name="textAreaRight" fmla="*/ 1433880 w 197784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06666"/>
                </a:solidFill>
                <a:latin typeface="Arial"/>
                <a:ea typeface="華康流隸體W5"/>
              </a:rPr>
              <a:t>臺灣常見的保育動物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" name=""/>
          <p:cNvSpPr/>
          <p:nvPr/>
        </p:nvSpPr>
        <p:spPr>
          <a:xfrm>
            <a:off x="611280" y="6165720"/>
            <a:ext cx="280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相關連結：</a:t>
            </a:r>
            <a:r>
              <a:rPr b="0" lang="zh-TW" sz="18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野生動植物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11280" y="184464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Arial"/>
                <a:ea typeface="華康細圓體"/>
              </a:rPr>
              <a:t>水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492360" y="1270080"/>
            <a:ext cx="144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Arial"/>
                <a:ea typeface="華康細圓體"/>
              </a:rPr>
              <a:t>臺灣黑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635280" y="55897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Arial"/>
                <a:ea typeface="華康細圓體"/>
              </a:rPr>
              <a:t>台北赤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250920" y="2276640"/>
            <a:ext cx="3808440" cy="285588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5011560" y="3789360"/>
            <a:ext cx="3808440" cy="28558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4"/>
          <a:stretch/>
        </p:blipFill>
        <p:spPr>
          <a:xfrm>
            <a:off x="4867200" y="933480"/>
            <a:ext cx="3808440" cy="2855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000" spc="-1" strike="noStrike">
                <a:solidFill>
                  <a:srgbClr val="006666"/>
                </a:solidFill>
                <a:latin typeface="Arial"/>
                <a:ea typeface="華康流隸體W5"/>
              </a:rPr>
              <a:t>臺灣常見的保育動物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1" name=""/>
          <p:cNvSpPr/>
          <p:nvPr/>
        </p:nvSpPr>
        <p:spPr>
          <a:xfrm>
            <a:off x="3852720" y="5661000"/>
            <a:ext cx="11509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Arial"/>
                <a:ea typeface="華康細圓體"/>
              </a:rPr>
              <a:t>梅花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39640" y="1916280"/>
            <a:ext cx="1800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Arial"/>
                <a:ea typeface="華康細圓體"/>
              </a:rPr>
              <a:t>臺灣獼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564000" y="14590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ff"/>
                </a:solidFill>
                <a:latin typeface="Arial"/>
                <a:ea typeface="華康細圓體"/>
              </a:rPr>
              <a:t>黑面琵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938840" y="105264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257040" y="251604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4938840" y="388476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611280" y="6165720"/>
            <a:ext cx="2808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相關連結：</a:t>
            </a:r>
            <a:r>
              <a:rPr b="0" lang="zh-TW" sz="18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野生動植物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1T08:49:45Z</dcterms:created>
  <dc:creator>黛琳</dc:creator>
  <dc:description/>
  <dc:language>en-US</dc:language>
  <cp:lastModifiedBy>e048</cp:lastModifiedBy>
  <dcterms:modified xsi:type="dcterms:W3CDTF">2002-12-31T03:42:09Z</dcterms:modified>
  <cp:revision>24</cp:revision>
  <dc:subject/>
  <dc:title>地球上的生物</dc:title>
</cp:coreProperties>
</file>