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35B91-EA08-457A-9F20-CD7E7979C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E6D8-8886-4031-A272-749654DD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7EF7-446B-4E7F-9DDD-FA8D6467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65B4F-0912-4336-93BD-1FC07F73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51DB-A6A0-4E10-8D17-21F18CFC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4CB6-CDDC-4AE2-A1E3-5636A862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6C56-F133-4CF5-9DC1-87D4E964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DC83-953F-46B2-B75A-0ABC4176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52E8-6FDC-41F9-B975-9D845AE6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6A5F-538E-4647-9E8F-AE16A8C0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DEA2-56A8-4E6D-B0A5-6139E438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111B7-C6C8-4467-B90F-91E2B519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7583-49D5-4366-8918-5522460F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685A-2B81-43B1-85CC-ED54DE7E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D40D-03FB-4248-A926-B9430937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A81D-E1D0-4D43-804F-F316D2C86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566B-D4D8-495C-A6E8-41469CF9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0146-F4E0-433C-8873-54CEE4B2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00A5A-899A-496B-8639-1C5BED18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143E-4363-4158-BE9B-27613AAD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09770-89B3-4480-BC4C-08CE6F5C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CB74-1C25-4038-A2D4-F102378E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99EE7-EE51-430E-B416-3E1D7C6E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D87D5-5B80-48A9-9165-BAB73804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D92D-E7A2-4E6A-85F3-EAFD45EED278}" type="slidenum">
              <a:rPr b="0" lang="zh-TW" sz="2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36360" y="-27000"/>
            <a:ext cx="9144000" cy="546120"/>
            <a:chOff x="-36360" y="-2700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-36360" y="-2700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76560" y="108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73320" y="108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1200" y="-2700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1200" y="108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38320" y="247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5400" y="109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3320" y="244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8320" y="382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-27000"/>
            <a:ext cx="9144000" cy="6858000"/>
            <a:chOff x="0" y="-2700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-2700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63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39680"/>
              <a:ext cx="2867040" cy="3157560"/>
              <a:chOff x="0" y="1039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56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63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39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56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63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297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297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297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21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21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8C3B-16C8-4B40-B0D9-3E797B265745}" type="slidenum">
              <a:rPr b="0" lang="zh-TW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140000" y="5084640"/>
            <a:ext cx="453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學生姓名：曾詠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00cc"/>
                </a:solidFill>
                <a:latin typeface="Arial"/>
                <a:ea typeface="華康中黑體(P)"/>
              </a:rPr>
              <a:t>班　　級：三年三班３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197000"/>
            <a:ext cx="792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2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華康細圓體"/>
              </a:rPr>
              <a:t>食物與健康的關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華康細圓體"/>
              <a:ea typeface="華康細圓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68360" y="1700280"/>
          <a:ext cx="8137440" cy="4176720"/>
        </p:xfrm>
        <a:graphic>
          <a:graphicData uri="http://schemas.openxmlformats.org/drawingml/2006/table">
            <a:tbl>
              <a:tblPr/>
              <a:tblGrid>
                <a:gridCol w="574560"/>
                <a:gridCol w="601560"/>
                <a:gridCol w="535320"/>
                <a:gridCol w="534960"/>
                <a:gridCol w="531720"/>
                <a:gridCol w="538200"/>
                <a:gridCol w="534960"/>
                <a:gridCol w="538200"/>
                <a:gridCol w="533160"/>
                <a:gridCol w="528840"/>
                <a:gridCol w="542880"/>
                <a:gridCol w="538200"/>
                <a:gridCol w="534960"/>
                <a:gridCol w="536400"/>
                <a:gridCol w="533520"/>
              </a:tblGrid>
              <a:tr h="3988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7d"/>
                      </a:solidFill>
                    </a:lnR>
                    <a:lnT>
                      <a:noFill/>
                    </a:lnT>
                    <a:lnB w="18720">
                      <a:solidFill>
                        <a:srgbClr val="00007d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早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午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Arial"/>
                          <a:ea typeface="華康中黑體"/>
                        </a:rPr>
                        <a:t>晚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00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412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物類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蔬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五穀根莖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蛋豆魚肉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蔬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水果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44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3331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華康中黑體"/>
                        </a:rPr>
                        <a:t>食譜舉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872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雜糧饅頭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炒蛋　　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7d"/>
                          </a:solidFill>
                          <a:latin typeface="Times New Roman"/>
                          <a:ea typeface="新細明體"/>
                        </a:rPr>
                        <a:t>生菜沙拉　一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乾飯一至　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糖醋排骨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鮭魚　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洋蔥胡蘿蔔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cc6600"/>
                          </a:solidFill>
                          <a:latin typeface="Times New Roman"/>
                          <a:ea typeface="新細明體"/>
                        </a:rPr>
                        <a:t>炒菠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白飯　一至二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蝦仁豆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蔥油雞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炒青椒　　一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魯白菜　　二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44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6600"/>
                          </a:solidFill>
                          <a:latin typeface="Times New Roman"/>
                          <a:ea typeface="新細明體"/>
                        </a:rPr>
                        <a:t>蕃石榴　　一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7d"/>
                      </a:solidFill>
                    </a:lnL>
                    <a:lnR w="18720">
                      <a:solidFill>
                        <a:srgbClr val="00007d"/>
                      </a:solidFill>
                    </a:lnR>
                    <a:lnT w="1440">
                      <a:solidFill>
                        <a:srgbClr val="00007d"/>
                      </a:solidFill>
                    </a:lnT>
                    <a:lnB w="18720">
                      <a:solidFill>
                        <a:srgbClr val="00007d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少年適用之營養食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B2E7-AAD9-449C-8C9D-CBC90DBBDF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03640" y="2421000"/>
            <a:ext cx="5267160" cy="3951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的 功 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61952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供給熱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建造或修補體內組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666699"/>
                </a:solidFill>
                <a:latin typeface="Arial"/>
              </a:rPr>
              <a:t>調節生理機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EA03D-37D5-4D99-B9E5-D244C13A9B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物中的營養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71640" y="1557360"/>
          <a:ext cx="7127640" cy="4335480"/>
        </p:xfrm>
        <a:graphic>
          <a:graphicData uri="http://schemas.openxmlformats.org/drawingml/2006/table">
            <a:tbl>
              <a:tblPr/>
              <a:tblGrid>
                <a:gridCol w="3166920"/>
                <a:gridCol w="3960720"/>
              </a:tblGrid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食   物   類   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供  給  的  營 養  素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13680">
                      <a:solidFill>
                        <a:srgbClr val="00007d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五穀根莖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醣類、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奶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鈣質及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、豆、魚、肉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蛋白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蔬果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維生素、礦物質與纖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72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油脂類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7d"/>
                          </a:solidFill>
                          <a:latin typeface="華康楷書體W7(P)"/>
                          <a:ea typeface="華康楷書體W7(P)"/>
                        </a:rPr>
                        <a:t>脂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13680">
                      <a:solidFill>
                        <a:srgbClr val="00007d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13680">
                      <a:solidFill>
                        <a:srgbClr val="00007d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4ED5B-92B5-4EF5-BD1A-F3B7E2AB81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 養 素 的 種 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3813C-3299-4596-8823-8C5BB2C482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營養素對健康的影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11280" y="1773360"/>
          <a:ext cx="7848360" cy="4589280"/>
        </p:xfrm>
        <a:graphic>
          <a:graphicData uri="http://schemas.openxmlformats.org/drawingml/2006/table">
            <a:tbl>
              <a:tblPr/>
              <a:tblGrid>
                <a:gridCol w="1584360"/>
                <a:gridCol w="3384360"/>
                <a:gridCol w="2879640"/>
              </a:tblGrid>
              <a:tr h="53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素的功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ffffff"/>
                          </a:solidFill>
                          <a:latin typeface="華康中黑體"/>
                          <a:ea typeface="華康中黑體"/>
                        </a:rPr>
                        <a:t>營養不良易得之疾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保護上皮組織和眼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乾眼症、夜盲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83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B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群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促進熱量與蛋白質的新陳代謝與安定神經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腳氣病、神經發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口角炎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構成軟骨、結締組織和細胞組織間的膠原物質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壞血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維生素</a:t>
                      </a: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幫助人體吸收及利用鈣與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軟骨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鈣、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骼與牙齒主要的成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骨質疏鬆症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素的重要元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甲狀腺腫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ff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血紅素的主要成分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華康中明體"/>
                        </a:rPr>
                        <a:t>貧血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E4A23-3149-42B2-A856-40309DC8512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食 物 與 記 憶 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00000" y="1844640"/>
          <a:ext cx="7344000" cy="4176720"/>
        </p:xfrm>
        <a:graphic>
          <a:graphicData uri="http://schemas.openxmlformats.org/drawingml/2006/table">
            <a:tbl>
              <a:tblPr/>
              <a:tblGrid>
                <a:gridCol w="2473560"/>
                <a:gridCol w="4870440"/>
              </a:tblGrid>
              <a:tr h="124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提升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銀杏、迷佚香、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23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Arial"/>
                          <a:ea typeface="華康粗圓體"/>
                        </a:rPr>
                        <a:t>破壞記憶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Arial"/>
                          <a:ea typeface="華康粗圓體"/>
                        </a:rPr>
                        <a:t>咖啡、酒精、白麵粉、火雞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68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ff00"/>
                          </a:solidFill>
                          <a:latin typeface="華康粗圓體"/>
                          <a:ea typeface="華康粗圓體"/>
                        </a:rPr>
                        <a:t>增加學習效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葡萄糖、維生素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B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群﹑蛋白質﹑鐵質﹑葉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DHA﹑EPA﹑</a:t>
                      </a:r>
                      <a:r>
                        <a:rPr b="0" lang="zh-TW" sz="2800" spc="-1" strike="noStrike">
                          <a:solidFill>
                            <a:srgbClr val="0033cc"/>
                          </a:solidFill>
                          <a:latin typeface="華康粗圓體"/>
                          <a:ea typeface="華康粗圓體"/>
                        </a:rPr>
                        <a:t>卵磷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C510-DA2A-45C8-824C-F409EC93F2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青 少 年 飲 食 須 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497844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多喝水，少喝飲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定時定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1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7d"/>
                </a:solidFill>
                <a:latin typeface="華康細圓體"/>
              </a:rPr>
              <a:t>少吃速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AA7A6-C18A-49FA-A10E-7728D4EE73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55640" y="1700280"/>
            <a:ext cx="7632720" cy="1657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身體質量指數（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BMI</a:t>
            </a:r>
            <a:r>
              <a:rPr b="1" lang="zh-TW" sz="3200" spc="-1" strike="noStrike">
                <a:solidFill>
                  <a:srgbClr val="0033cc"/>
                </a:solidFill>
                <a:latin typeface="華康細圓體"/>
                <a:ea typeface="華康細圓體"/>
              </a:rPr>
              <a:t>）＝體重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÷</a:t>
            </a:r>
            <a:r>
              <a:rPr b="1" lang="zh-TW" sz="3200" spc="-1" strike="noStrike">
                <a:solidFill>
                  <a:srgbClr val="0033cc"/>
                </a:solidFill>
                <a:latin typeface="Arial"/>
                <a:ea typeface="華康細圓體"/>
              </a:rPr>
              <a:t>身高</a:t>
            </a:r>
            <a:r>
              <a:rPr b="1" lang="zh-TW" sz="3200" spc="-1" strike="noStrike" baseline="60000">
                <a:solidFill>
                  <a:srgbClr val="0033cc"/>
                </a:solidFill>
                <a:latin typeface="Arial"/>
                <a:ea typeface="華康細圓體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（單位：體重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斤，身高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-</a:t>
            </a:r>
            <a:r>
              <a:rPr b="0" lang="zh-TW" sz="2000" spc="-1" strike="noStrike">
                <a:solidFill>
                  <a:srgbClr val="666699"/>
                </a:solidFill>
                <a:latin typeface="Arial"/>
                <a:ea typeface="華康細圓體"/>
              </a:rPr>
              <a:t>公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理 想 的體 重 標 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50600" y="3860640"/>
            <a:ext cx="60166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lt;18.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9933"/>
                </a:solidFill>
                <a:latin typeface="Arial"/>
                <a:ea typeface="華康中明體"/>
              </a:rPr>
              <a:t>體重不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18.5~22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006600"/>
                </a:solidFill>
                <a:latin typeface="Arial"/>
                <a:ea typeface="華康中明體"/>
              </a:rPr>
              <a:t>標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=23~24.9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cc66ff"/>
                </a:solidFill>
                <a:latin typeface="Arial"/>
                <a:ea typeface="華康中明體"/>
              </a:rPr>
              <a:t>過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BMI&gt;25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TW" sz="2800" spc="-1" strike="noStrike">
                <a:solidFill>
                  <a:srgbClr val="ff0000"/>
                </a:solidFill>
                <a:latin typeface="Arial"/>
                <a:ea typeface="華康中明體"/>
              </a:rPr>
              <a:t>肥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9FADA-BDD1-41F5-A3CD-E8E45DF5DD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9900"/>
                </a:solidFill>
                <a:latin typeface="Arial"/>
                <a:ea typeface="標楷體"/>
              </a:rPr>
              <a:t>熱 量 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食物與健康的關係報告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7FA21-4EB3-4256-9C67-8399DCBD49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21:36Z</dcterms:created>
  <dc:creator>黛琳</dc:creator>
  <dc:description/>
  <dc:language>en-US</dc:language>
  <cp:lastModifiedBy>e048</cp:lastModifiedBy>
  <dcterms:modified xsi:type="dcterms:W3CDTF">2002-11-26T10:06:05Z</dcterms:modified>
  <cp:revision>82</cp:revision>
  <dc:subject/>
  <dc:title>投影片 1</dc:title>
</cp:coreProperties>
</file>