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675E-73BF-4AA1-9960-2A65D45BF7A8}" type="datetime">
              <a:rPr b="0" lang="zh-TW" sz="1200" spc="-1" strike="noStrike">
                <a:solidFill>
                  <a:srgbClr val="000000"/>
                </a:solidFill>
                <a:latin typeface="Arial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41120" y="721800"/>
            <a:ext cx="4808520" cy="360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40400"/>
            <a:ext cx="29844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D351-99DB-4A99-A2FC-C9514E4B62F2}" type="slidenum">
              <a:rPr b="0" lang="zh-TW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041480" y="722160"/>
            <a:ext cx="4808520" cy="36068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9040" y="4568760"/>
            <a:ext cx="55101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先簡介一下整個簡報的大綱，也可以從這裡點選直接到那個主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80C7-629D-4F5E-8309-06EE973DA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626-6AC9-438F-8D89-EBB56814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7A4A-0902-4285-B5CA-B3A32C76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BAC-DF77-48C8-A784-1A8CAFCE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00E-9F39-4AA3-B387-7F43B4C1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67A-5BA0-4184-B8E1-143500AF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558-677A-4F03-8136-1BEFC1E1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F6A-B29B-401C-B806-2B804BBD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FA3-EE4A-445F-BB18-9DA68C9B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6B8-1CCE-40E0-8E35-365CC941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B6F-2993-44A9-8D31-F37B6D9C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7FD-8795-4C41-BD2E-49E4EE53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9A78-C35B-4F21-A749-02CF9CC6DEC9}" type="datetime">
              <a:rPr b="0" lang="zh-TW" sz="1400" spc="-1" strike="noStrike">
                <a:solidFill>
                  <a:srgbClr val="000000"/>
                </a:solidFill>
                <a:latin typeface="Arial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1232-CC6B-4069-933E-25ACDCBFF0B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90680" y="3871440"/>
            <a:ext cx="6400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畢上中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三年忠班</a:t>
            </a: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13</a:t>
            </a: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ff"/>
                </a:solidFill>
                <a:latin typeface="華康隸書體W3"/>
                <a:ea typeface="華康隸書體W3"/>
              </a:rPr>
              <a:t>曾詠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58920" y="836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華康超明體"/>
              </a:rPr>
              <a:t>自我介紹</a:t>
            </a:r>
            <a:endParaRPr b="0" lang="en-US" sz="6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華康超明體"/>
              <a:ea typeface="華康超明體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自我介紹內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2600" y="2391840"/>
            <a:ext cx="31669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華康細圓體"/>
              </a:rPr>
              <a:t>基本資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華康細圓體"/>
              </a:rPr>
              <a:t>專長與興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ff"/>
                </a:solidFill>
                <a:latin typeface="Arial"/>
                <a:ea typeface="華康細圓體"/>
              </a:rPr>
              <a:t>社團經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3920" y="2392200"/>
            <a:ext cx="323676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華康細圓體"/>
              </a:rPr>
              <a:t>才藝比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9900"/>
                </a:solidFill>
                <a:latin typeface="Arial"/>
                <a:ea typeface="華康細圓體"/>
              </a:rPr>
              <a:t>我的座右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ff"/>
                </a:solidFill>
                <a:latin typeface="Arial"/>
                <a:ea typeface="華康細圓體"/>
              </a:rPr>
              <a:t>生活點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秘密檔案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----</a:t>
            </a:r>
            <a:r>
              <a:rPr b="0" lang="zh-TW" sz="4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基本資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03280" y="162864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生日：民國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79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年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2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月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30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身高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152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體重：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40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 </a:t>
            </a:r>
            <a:r>
              <a:rPr b="0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家中成員</a:t>
            </a:r>
            <a:r>
              <a:rPr b="1" lang="zh-TW" sz="2800" spc="-1" strike="noStrike">
                <a:solidFill>
                  <a:srgbClr val="3333ff"/>
                </a:solidFill>
                <a:latin typeface="華康細圓體"/>
                <a:ea typeface="華康細圓體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爸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媽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哥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華康細圓體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9900"/>
                </a:solidFill>
                <a:latin typeface="華康細圓體"/>
                <a:ea typeface="華康細圓體"/>
              </a:rPr>
              <a:t>小花（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Arial"/>
                <a:ea typeface="華康細圓體"/>
              </a:rPr>
              <a:t>專長與興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1600200"/>
            <a:ext cx="420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專長：長笛、素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Arial"/>
              </a:rPr>
              <a:t>興趣：打桌球、看小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8432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50920" y="2349360"/>
            <a:ext cx="50421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ataneo BT"/>
              </a:rPr>
              <a:t>The End</a:t>
            </a:r>
            <a:endParaRPr b="0" lang="en-US" sz="44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ataneo BT"/>
              <a:ea typeface="Cataneo BT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謝謝您的參與和鼓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3200" y="272520"/>
            <a:ext cx="4197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社團經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319040" y="1635120"/>
          <a:ext cx="6624720" cy="4486320"/>
        </p:xfrm>
        <a:graphic>
          <a:graphicData uri="http://schemas.openxmlformats.org/drawingml/2006/table">
            <a:tbl>
              <a:tblPr/>
              <a:tblGrid>
                <a:gridCol w="1676520"/>
                <a:gridCol w="4948200"/>
              </a:tblGrid>
              <a:tr h="97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0099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99"/>
                      </a:solidFill>
                    </a:lnL>
                    <a:lnR w="18720">
                      <a:solidFill>
                        <a:srgbClr val="3333ff"/>
                      </a:solidFill>
                    </a:lnR>
                    <a:lnT w="1440">
                      <a:solidFill>
                        <a:srgbClr val="0066ff"/>
                      </a:solidFill>
                    </a:lnT>
                    <a:lnB w="3816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小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樂隊（長笛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000099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38160">
                      <a:solidFill>
                        <a:srgbClr val="000099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144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學藝股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000099"/>
                      </a:solidFill>
                    </a:lnL>
                    <a:lnR>
                      <a:noFill/>
                    </a:lnR>
                    <a:lnT w="38160">
                      <a:solidFill>
                        <a:srgbClr val="c8c300"/>
                      </a:solidFill>
                    </a:lnT>
                    <a:lnB w="1440">
                      <a:solidFill>
                        <a:srgbClr val="fffec9"/>
                      </a:solidFill>
                    </a:lnB>
                    <a:solidFill>
                      <a:srgbClr val="fffd97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ff"/>
                          </a:solidFill>
                          <a:latin typeface="Arial"/>
                          <a:ea typeface="華康細圓體"/>
                        </a:rPr>
                        <a:t>國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66ff"/>
                      </a:solidFill>
                    </a:lnL>
                    <a:lnR w="1440">
                      <a:solidFill>
                        <a:srgbClr val="0033cc"/>
                      </a:solidFill>
                    </a:lnR>
                    <a:lnT w="1440">
                      <a:solidFill>
                        <a:srgbClr val="000099"/>
                      </a:solidFill>
                    </a:lnT>
                    <a:lnB w="28080">
                      <a:solidFill>
                        <a:srgbClr val="000099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</a:t>
                      </a:r>
                      <a:r>
                        <a:rPr b="1" lang="zh-TW" sz="3200" spc="-1" strike="noStrike">
                          <a:solidFill>
                            <a:srgbClr val="3333ff"/>
                          </a:solidFill>
                          <a:latin typeface="Arial"/>
                          <a:ea typeface="華康細圓體"/>
                        </a:rPr>
                        <a:t>桌球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33cc"/>
                      </a:solidFill>
                    </a:lnL>
                    <a:lnR w="18720">
                      <a:solidFill>
                        <a:srgbClr val="fffdb1"/>
                      </a:solidFill>
                    </a:lnR>
                    <a:lnT w="1440">
                      <a:solidFill>
                        <a:srgbClr val="fffec9"/>
                      </a:solidFill>
                    </a:lnT>
                    <a:lnB w="38160">
                      <a:solidFill>
                        <a:srgbClr val="c8c300"/>
                      </a:solidFill>
                    </a:lnB>
                    <a:solidFill>
                      <a:srgbClr val="fffdb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一：全校美術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優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二：台北市長笛比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第三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 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國三：校際桌球賽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	</a:t>
            </a:r>
            <a:r>
              <a:rPr b="0" lang="zh-TW" sz="3600" spc="-1" strike="noStrike">
                <a:solidFill>
                  <a:srgbClr val="3333ff"/>
                </a:solidFill>
                <a:latin typeface="華康行書體"/>
                <a:ea typeface="華康行書體"/>
              </a:rPr>
              <a:t>亞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5280" y="4411800"/>
            <a:ext cx="3744720" cy="1609560"/>
          </a:xfrm>
          <a:custGeom>
            <a:avLst/>
            <a:gdLst>
              <a:gd name="textAreaLeft" fmla="*/ 936000 w 3744720"/>
              <a:gd name="textAreaRight" fmla="*/ 2808720 w 3744720"/>
              <a:gd name="textAreaTop" fmla="*/ 0 h 1609560"/>
              <a:gd name="textAreaBottom" fmla="*/ 1408680 h 1609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92920" y="4132440"/>
            <a:ext cx="1985760" cy="1915920"/>
          </a:xfrm>
          <a:custGeom>
            <a:avLst/>
            <a:gdLst>
              <a:gd name="textAreaLeft" fmla="*/ 453240 w 1985760"/>
              <a:gd name="textAreaRight" fmla="*/ 1532520 w 1985760"/>
              <a:gd name="textAreaTop" fmla="*/ 437400 h 1915920"/>
              <a:gd name="textAreaBottom" fmla="*/ 1478520 h 1915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d97"/>
          </a:solidFill>
          <a:ln w="38160">
            <a:solidFill>
              <a:srgbClr val="aaa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ff"/>
                </a:solidFill>
                <a:latin typeface="標楷體"/>
                <a:ea typeface="標楷體"/>
              </a:rPr>
              <a:t>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才藝比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000" y="272880"/>
            <a:ext cx="54450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我的座右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1628640"/>
            <a:ext cx="75614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今日事、今日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8720" y="3875040"/>
            <a:ext cx="7559640" cy="2217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00"/>
              </a:gs>
              <a:gs pos="50000">
                <a:srgbClr val="fffdb1"/>
              </a:gs>
              <a:gs pos="100000">
                <a:srgbClr val="ffff00"/>
              </a:gs>
            </a:gsLst>
            <a:lin ang="10800000"/>
          </a:gra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3333ff"/>
                </a:solidFill>
                <a:latin typeface="Arial"/>
                <a:ea typeface="華康行書體"/>
              </a:rPr>
              <a:t>敬人者人恆敬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0000"/>
                </a:solidFill>
                <a:latin typeface="華康細圓體"/>
                <a:ea typeface="華康細圓體"/>
              </a:rPr>
              <a:t>生活點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71560" y="160020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71560" y="3938760"/>
            <a:ext cx="3262320" cy="218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006880" y="1600200"/>
            <a:ext cx="3265560" cy="21877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006880" y="3938760"/>
            <a:ext cx="3265560" cy="2187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08:05:50Z</dcterms:created>
  <dc:creator>user</dc:creator>
  <dc:description/>
  <dc:language>en-US</dc:language>
  <cp:lastModifiedBy>e048</cp:lastModifiedBy>
  <dcterms:modified xsi:type="dcterms:W3CDTF">2002-11-26T02:58:27Z</dcterms:modified>
  <cp:revision>109</cp:revision>
  <dc:subject/>
  <dc:title>自我介紹</dc:title>
</cp:coreProperties>
</file>