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56A7-5118-44FC-ADE0-1B1A5FA8A0CC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041120" y="721800"/>
            <a:ext cx="4808520" cy="36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903840" y="914040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42E2-9FA6-422F-846B-80A8BC013708}" type="slidenum"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414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先簡介一下整個簡報的大綱，也可以從這裡點選直接到那個主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EDCF-0B15-400A-9672-D74D626A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1AD-A2EC-4322-8819-FC2F2570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912-0110-4FDB-9EA0-C67D5235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086-7B69-4847-9BAD-74B78613B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65A2-7BC0-4A63-A107-23776CC8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BB37-4380-4F80-B8B7-F04554E7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D9C5-71A3-43F7-B059-17755268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E0B4-CF77-4BA5-8A5C-76D4AD787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01B9-C060-48A0-9768-190730F6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19C4-644D-4819-A3D3-F3507E8F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E0B4-764F-44AA-8CB7-DE2F49D6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7E65-9606-4F8F-933C-E1C7D173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E311-B0D7-4914-85DC-E258704F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E86F-9B43-4933-8C6B-90AAFDEF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32E1-3D8C-4B48-9460-0C817CEE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E12B-AA82-4E2E-8D03-49839243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06D6-DF0E-46EF-8A95-3637F86E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F28-03AD-4C35-A222-D24B68B5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EE5-5257-427C-8288-DA69480D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FA5-D847-4D65-88E2-09E3B4A7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442-38B1-4D03-9020-0EAC15A4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2C1-2DDC-41CB-AC36-BA899594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70DE-BCE0-48A3-A422-500CF927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9B73-F905-4AFD-94FE-42E6EE81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179F-4EC7-4A25-BBCF-4D80D95F38FF}" type="datetime3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二〇二六年七月二十八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10F1-4CD1-4613-A3B3-6767B1052183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2781-EA31-43DF-B2A7-B5AA97FDF584}" type="datetime3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二〇二六年七月二十八日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7622-E284-4269-9AE6-1F9803E3D2D2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390680" y="387144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畢上中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三年忠班</a:t>
            </a: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13</a:t>
            </a: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曾詠欣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258920" y="836640"/>
            <a:ext cx="66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華康超明體"/>
              </a:rPr>
              <a:t>自我介紹</a:t>
            </a:r>
            <a:endParaRPr b="0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華康超明體"/>
              <a:ea typeface="華康超明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自我介紹內容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1320" y="2468520"/>
            <a:ext cx="2962080" cy="27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Comic Sans MS"/>
                <a:ea typeface="華康細圓體"/>
              </a:rPr>
              <a:t>基本資料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Comic Sans MS"/>
                <a:ea typeface="華康細圓體"/>
              </a:rPr>
              <a:t>專長與興趣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Comic Sans MS"/>
                <a:ea typeface="華康細圓體"/>
              </a:rPr>
              <a:t>社團經驗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29120" y="2468520"/>
            <a:ext cx="302760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Comic Sans MS"/>
                <a:ea typeface="華康細圓體"/>
              </a:rPr>
              <a:t>才藝比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5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Comic Sans MS"/>
                <a:ea typeface="華康細圓體"/>
              </a:rPr>
              <a:t>我的座右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5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Comic Sans MS"/>
                <a:ea typeface="華康細圓體"/>
              </a:rPr>
              <a:t>生活點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234C-0556-4F1F-98AA-AAAFC18BC48A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F0B25-2F4C-47E1-B746-98CAB694129B}" type="datetime3">
              <a:rPr lang="en-US"/>
              <a:t>July 28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秘密檔案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----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基本資料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38280" y="1873080"/>
            <a:ext cx="478008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生日：民國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79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年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2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月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30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身高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152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體重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40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斤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家中成員</a:t>
            </a:r>
            <a:r>
              <a:rPr b="1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媽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哥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小花（狗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A689-74B8-4731-A8A4-1D5B1172CE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04D38-F9CC-4FD8-ADE2-179DF45CC9EF}" type="datetime3">
              <a:rPr lang="en-US"/>
              <a:t>July 28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0200" y="-1098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Comic Sans MS"/>
                <a:ea typeface="華康細圓體"/>
              </a:rPr>
              <a:t>專長與興趣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20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Comic Sans MS"/>
              </a:rPr>
              <a:t>專長：長笛、素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Comic Sans MS"/>
              </a:rPr>
              <a:t>興趣：打桌球、看小說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05480" y="2025720"/>
            <a:ext cx="3776400" cy="32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557C-0EBC-49FC-BDB5-1288261178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63E61-1E3F-4DCA-BDFF-32298848AC0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65600" y="253800"/>
            <a:ext cx="35049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社團經驗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92200" y="1857240"/>
          <a:ext cx="6194520" cy="3625920"/>
        </p:xfrm>
        <a:graphic>
          <a:graphicData uri="http://schemas.openxmlformats.org/drawingml/2006/table">
            <a:tbl>
              <a:tblPr/>
              <a:tblGrid>
                <a:gridCol w="1567440"/>
                <a:gridCol w="4627080"/>
              </a:tblGrid>
              <a:tr h="78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階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0099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社團（職稱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99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小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樂隊（長笛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000099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67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國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桌球社（社員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國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桌球社（學藝股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c8c300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國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桌球社（副社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41D8-AD4A-4311-9467-C096460E6F3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503DB-58A2-4F01-BFB7-7FD58B4A31A9}" type="datetime3">
              <a:rPr lang="en-US"/>
              <a:t>July 28, 20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一：全校美術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優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二：台北市長笛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第三名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三：校際桌球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亞軍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5075280" y="4411800"/>
            <a:ext cx="3744720" cy="1609560"/>
          </a:xfrm>
          <a:custGeom>
            <a:avLst/>
            <a:gdLst>
              <a:gd name="textAreaLeft" fmla="*/ 936000 w 3744720"/>
              <a:gd name="textAreaRight" fmla="*/ 2808720 w 3744720"/>
              <a:gd name="textAreaTop" fmla="*/ 0 h 1609560"/>
              <a:gd name="textAreaBottom" fmla="*/ 1408680 h 1609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92920" y="4132440"/>
            <a:ext cx="1985760" cy="1915920"/>
          </a:xfrm>
          <a:custGeom>
            <a:avLst/>
            <a:gdLst>
              <a:gd name="textAreaLeft" fmla="*/ 453240 w 1985760"/>
              <a:gd name="textAreaRight" fmla="*/ 1532520 w 1985760"/>
              <a:gd name="textAreaTop" fmla="*/ 437400 h 1915920"/>
              <a:gd name="textAreaBottom" fmla="*/ 1478520 h 1915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d97"/>
          </a:solidFill>
          <a:ln w="38160">
            <a:solidFill>
              <a:srgbClr val="aaa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ff"/>
                </a:solidFill>
                <a:latin typeface="標楷體"/>
                <a:ea typeface="標楷體"/>
              </a:rPr>
              <a:t>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67960" y="-576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才藝比賽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654E-6BD4-47C4-93ED-7CFA89E419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77E7C8-54EA-4611-89A4-3A6A4E92F5C8}" type="datetime3">
              <a:rPr lang="en-US"/>
              <a:t>July 28, 20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7200" y="150840"/>
            <a:ext cx="4545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座右銘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628640"/>
            <a:ext cx="75614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今日事、今日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3875040"/>
            <a:ext cx="75596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敬人者人恆敬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FA1-06A7-4DD9-96D0-27999057230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71119-3F32-4478-B7BE-8FB5A8B26131}" type="datetime3">
              <a:rPr lang="en-US"/>
              <a:t>July 28, 20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2720" y="-186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生活點滴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73160" y="1828800"/>
            <a:ext cx="3051000" cy="1766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073160" y="3718080"/>
            <a:ext cx="3051000" cy="1766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940280" y="1828800"/>
            <a:ext cx="3054240" cy="1768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940280" y="3718080"/>
            <a:ext cx="3054240" cy="176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AB1-C446-4F22-86F9-C2FCDC0B0B3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40DF8-CB98-41A2-AA78-CDAAB9AA08C4}" type="datetime3">
              <a:rPr lang="en-US"/>
              <a:t>July 28, 20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050920" y="2349360"/>
            <a:ext cx="5042160" cy="236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ataneo BT"/>
              </a:rPr>
              <a:t>The End</a:t>
            </a:r>
            <a:endParaRPr b="0" lang="en-US" sz="44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ataneo BT"/>
              <a:ea typeface="Cataneo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謝謝您的參與和鼓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曾詠欣自我介紹簡報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6BE-6BC5-4834-A3E2-2E8A8CF5C0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138DC-B513-4E6C-A2A0-FCF4C86C13A8}" type="datetime3">
              <a:rPr lang="en-US"/>
              <a:t>July 28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08:05:50Z</dcterms:created>
  <dc:creator>user</dc:creator>
  <dc:description/>
  <dc:language>en-US</dc:language>
  <cp:lastModifiedBy>e048</cp:lastModifiedBy>
  <dcterms:modified xsi:type="dcterms:W3CDTF">2002-11-26T03:57:39Z</dcterms:modified>
  <cp:revision>113</cp:revision>
  <dc:subject/>
  <dc:title>自我介紹</dc:title>
</cp:coreProperties>
</file>