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0D90-527E-4BE1-A91C-989F7A1A44A6}" type="datetime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0411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903840" y="914040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5758-E6E2-4CA6-85A0-04D32D731290}" type="slidenum"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簡介一下整個簡報的大綱，也可以從這裡點選直接到那個主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D47-9F3E-49DC-9C40-DEA18554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5D83-1591-49AA-B25A-B8AB68AB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7CB9-FC18-4A99-B779-37F55713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7EB-229A-4D5E-93CB-7A94563F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2EF2-EAFD-4BC8-89CB-8474B94E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7BD3-EFA5-4F22-B65F-5771A9BF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C836-5FBE-4D94-9C63-6B1B12EA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B2C1-FAC0-4297-8A00-69F765EA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59A1-F3BA-4469-84D2-11DEA5CC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BC75-EEE0-493D-9C63-EFFF0DF7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5A73-71D3-4F56-9E48-7BB68662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80B-98CF-4132-B10A-929C5200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ECDF-70B7-4388-B2D3-2A55193A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9869-8C30-454C-BD1B-ED1E06ED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0F3E-1050-4C18-86AF-9121E494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7907-DEA2-4876-AB2C-980F5A32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F56E-33CA-442A-8C02-81B14BB8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08C-CC5D-457F-8BC6-2E1E4266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DCC-7896-41A7-81A5-F5EEE515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011-EB2B-4449-8EB1-34D8740E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0F5-17B4-409D-81C0-184E0803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2CE-E31C-4620-B99E-53D0D02D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6BC-C948-4A90-97EE-3B651A3B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76B-6B16-4109-AD67-4DC853EF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11E4-DB7C-4801-B051-81CA6895E0A8}" type="datetime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8CB7-83E4-4333-9C59-8AC8D2BAFCEF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CC3A-7C78-4DD0-A790-D9B500BFE158}" type="datetime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34A0-213A-45E5-B717-52D2979319C1}" type="slidenum">
              <a:rPr b="0" lang="zh-TW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90680" y="38714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畢上中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三年忠班</a:t>
            </a: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13</a:t>
            </a: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曾詠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58920" y="836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華康超明體"/>
              </a:rPr>
              <a:t>自我介紹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自我介紹內容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1320" y="2468520"/>
            <a:ext cx="2962080" cy="27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Comic Sans MS"/>
                <a:ea typeface="華康細圓體"/>
              </a:rPr>
              <a:t>基本資料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Comic Sans MS"/>
                <a:ea typeface="華康細圓體"/>
              </a:rPr>
              <a:t>專長與興趣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501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Comic Sans MS"/>
                <a:ea typeface="華康細圓體"/>
              </a:rPr>
              <a:t>社團經驗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29120" y="2468520"/>
            <a:ext cx="30276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Comic Sans MS"/>
                <a:ea typeface="華康細圓體"/>
              </a:rPr>
              <a:t>才藝比賽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Comic Sans MS"/>
                <a:ea typeface="華康細圓體"/>
              </a:rPr>
              <a:t>我的座右銘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5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Comic Sans MS"/>
                <a:ea typeface="華康細圓體"/>
              </a:rPr>
              <a:t>生活點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秘密檔案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----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基本資料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38280" y="1873080"/>
            <a:ext cx="478008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生日：民國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79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年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月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30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身高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152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體重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40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家中成員</a:t>
            </a:r>
            <a:r>
              <a:rPr b="1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媽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小花（狗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0200" y="-1098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Comic Sans MS"/>
                <a:ea typeface="華康細圓體"/>
              </a:rPr>
              <a:t>專長與興趣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2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Comic Sans MS"/>
              </a:rPr>
              <a:t>專長：長笛、素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Comic Sans MS"/>
              </a:rPr>
              <a:t>興趣：打桌球、看小說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05480" y="2025720"/>
            <a:ext cx="37764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65600" y="253800"/>
            <a:ext cx="350496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社團經驗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492200" y="1857240"/>
          <a:ext cx="6194520" cy="3625920"/>
        </p:xfrm>
        <a:graphic>
          <a:graphicData uri="http://schemas.openxmlformats.org/drawingml/2006/table">
            <a:tbl>
              <a:tblPr/>
              <a:tblGrid>
                <a:gridCol w="1567440"/>
                <a:gridCol w="4627080"/>
              </a:tblGrid>
              <a:tr h="78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0099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99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小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樂隊（長笛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67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學藝股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c8c300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7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Comic Sans MS"/>
                          <a:ea typeface="華康細圓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Comic Sans MS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Comic Sans MS"/>
                          <a:ea typeface="華康細圓體"/>
                        </a:rPr>
                        <a:t>桌球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一：全校美術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優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二：台北市長笛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第三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三：校際桌球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亞軍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5075280" y="4411800"/>
            <a:ext cx="3744720" cy="160956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0 h 1609560"/>
              <a:gd name="textAreaBottom" fmla="*/ 1408680 h 1609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92920" y="4132440"/>
            <a:ext cx="1985760" cy="1915920"/>
          </a:xfrm>
          <a:custGeom>
            <a:avLst/>
            <a:gdLst>
              <a:gd name="textAreaLeft" fmla="*/ 453240 w 1985760"/>
              <a:gd name="textAreaRight" fmla="*/ 1532520 w 1985760"/>
              <a:gd name="textAreaTop" fmla="*/ 437400 h 1915920"/>
              <a:gd name="textAreaBottom" fmla="*/ 147852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d97"/>
          </a:solidFill>
          <a:ln w="38160">
            <a:solidFill>
              <a:srgbClr val="a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ff"/>
                </a:solidFill>
                <a:latin typeface="標楷體"/>
                <a:ea typeface="標楷體"/>
              </a:rPr>
              <a:t>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67960" y="-576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才藝比賽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7200" y="150840"/>
            <a:ext cx="4545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座右銘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1628640"/>
            <a:ext cx="75614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今日事、今日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3875040"/>
            <a:ext cx="75596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敬人者人恆敬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2720" y="-186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生活點滴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73160" y="1828800"/>
            <a:ext cx="3051000" cy="1766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073160" y="3718080"/>
            <a:ext cx="3051000" cy="1766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940280" y="1828800"/>
            <a:ext cx="3054240" cy="17683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4940280" y="3718080"/>
            <a:ext cx="30542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050920" y="2349360"/>
            <a:ext cx="50421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taneo BT"/>
              </a:rPr>
              <a:t>The End</a:t>
            </a:r>
            <a:endParaRPr b="0" lang="en-US" sz="4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taneo BT"/>
              <a:ea typeface="Cataneo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謝謝您的參與和鼓勵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05:50Z</dcterms:created>
  <dc:creator>user</dc:creator>
  <dc:description/>
  <dc:language>en-US</dc:language>
  <cp:lastModifiedBy>e048</cp:lastModifiedBy>
  <dcterms:modified xsi:type="dcterms:W3CDTF">2002-11-26T03:44:18Z</dcterms:modified>
  <cp:revision>111</cp:revision>
  <dc:subject/>
  <dc:title>自我介紹</dc:title>
</cp:coreProperties>
</file>