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6EDDC-85D4-4671-9165-C3A3D3FD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E697D-8093-4BA0-995D-DB80120C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B60BE-D2B5-4142-ACEF-5D190F78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2DB00-7512-4263-830A-13731F95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6346-5926-4B18-94C3-875C6C94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1780-6348-401C-8D5D-737D845D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F7B4-3E48-47E9-B4E2-F8C33D06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DF35-01AF-45CF-A3DD-EB1D60C1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5B97-93AC-4356-BC82-A1D57D5A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3258-0C12-407C-AC2E-08B79030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2E42-ED5D-499C-BE88-F5B6E31C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ED4D4-DE6E-405A-BC19-AE7E75F4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EFD9-F3B3-4535-8949-E382D853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F3BB-3A48-42A8-B617-3595F4F5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A7C6-D0CB-4012-8B8A-D334214E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290E-8BE2-4583-8BDA-D371BA4F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2FB7-03F3-4EE9-B162-E8A8F9F2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39915-4984-4AA7-92A9-F259A11C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A63E9-665C-4FE9-A32C-D9547521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7AB35-7ADE-4392-B7CF-224CF1C4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78DE6-2A26-46D4-820E-E146DDBC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18B3F-4BE5-46AD-89AA-A3DF6392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11F6F-FF17-4CB0-BB31-E0241781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32BA1-4106-4497-869E-AF254428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C2D6-5862-42C1-8EB6-FF4853D7ADD9}" type="slidenum">
              <a:rPr b="0" lang="zh-TW" sz="2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36360" y="-27000"/>
            <a:ext cx="9144000" cy="546120"/>
            <a:chOff x="-36360" y="-2700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-36360" y="-2700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76560" y="108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73320" y="108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11200" y="-2700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1200" y="108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38320" y="247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5400" y="109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3320" y="244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8320" y="382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-27000"/>
            <a:ext cx="9144000" cy="6858000"/>
            <a:chOff x="0" y="-2700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-2700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63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39680"/>
              <a:ext cx="2867040" cy="3157560"/>
              <a:chOff x="0" y="1039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56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63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39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56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63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297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297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297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21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21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4805-9F1F-4494-AB3E-7073CB200F71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140000" y="5084640"/>
            <a:ext cx="4537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00cc"/>
                </a:solidFill>
                <a:latin typeface="Arial"/>
                <a:ea typeface="華康中黑體(P)"/>
              </a:rPr>
              <a:t>學生姓名：曾詠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00cc"/>
                </a:solidFill>
                <a:latin typeface="Arial"/>
                <a:ea typeface="華康中黑體(P)"/>
              </a:rPr>
              <a:t>班　　級：三年三班３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360" y="1197000"/>
            <a:ext cx="7920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2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華康細圓體"/>
              </a:rPr>
              <a:t>食物與健康的關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華康細圓體"/>
              <a:ea typeface="華康細圓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68360" y="1700280"/>
          <a:ext cx="8137440" cy="4176720"/>
        </p:xfrm>
        <a:graphic>
          <a:graphicData uri="http://schemas.openxmlformats.org/drawingml/2006/table">
            <a:tbl>
              <a:tblPr/>
              <a:tblGrid>
                <a:gridCol w="574560"/>
                <a:gridCol w="601560"/>
                <a:gridCol w="535320"/>
                <a:gridCol w="534960"/>
                <a:gridCol w="531720"/>
                <a:gridCol w="538200"/>
                <a:gridCol w="534960"/>
                <a:gridCol w="538200"/>
                <a:gridCol w="533160"/>
                <a:gridCol w="528840"/>
                <a:gridCol w="542880"/>
                <a:gridCol w="538200"/>
                <a:gridCol w="534960"/>
                <a:gridCol w="536400"/>
                <a:gridCol w="533520"/>
              </a:tblGrid>
              <a:tr h="3988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7d"/>
                      </a:solidFill>
                    </a:lnR>
                    <a:lnT>
                      <a:noFill/>
                    </a:lnT>
                    <a:lnB w="18720">
                      <a:solidFill>
                        <a:srgbClr val="00007d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華康中黑體"/>
                        </a:rPr>
                        <a:t>早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華康中黑體"/>
                        </a:rPr>
                        <a:t>午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華康中黑體"/>
                        </a:rPr>
                        <a:t>晚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00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412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中黑體"/>
                        </a:rPr>
                        <a:t>食物類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五穀根莖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蛋豆魚肉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蔬菜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五穀根莖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蛋豆魚肉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蔬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五穀根莖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蛋豆魚肉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蔬菜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水果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33316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中黑體"/>
                        </a:rPr>
                        <a:t>食譜舉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雜糧饅頭　一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炒蛋　　　一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生菜沙拉　一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乾飯一至　二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糖醋排骨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鮭魚　　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洋蔥胡蘿蔔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炒菠菜　　二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白飯　一至二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蝦仁豆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蔥油雞　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炒青椒　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魯白菜　　二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蕃石榴　　一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青少年適用之營養食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878A6-96E4-4853-9C1F-1500A7D0FB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03640" y="2421000"/>
            <a:ext cx="5267160" cy="3951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食 物 的 功 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61952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供給熱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建造或修補體內組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調節生理機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A8F4C-3122-4046-AB8C-B6E0E24DBF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食物中的營養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71640" y="1557360"/>
          <a:ext cx="7127640" cy="4335480"/>
        </p:xfrm>
        <a:graphic>
          <a:graphicData uri="http://schemas.openxmlformats.org/drawingml/2006/table">
            <a:tbl>
              <a:tblPr/>
              <a:tblGrid>
                <a:gridCol w="3166920"/>
                <a:gridCol w="3960720"/>
              </a:tblGrid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食   物   類   別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供  給  的  營 養  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五穀根莖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醣類、蛋白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奶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鈣質及蛋白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蛋、豆、魚、肉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蛋白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蔬果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維生素、礦物質與纖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油脂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脂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91807-9054-4209-82EE-E55F095BEE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營 養 素 的 種 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1640" y="2606760"/>
            <a:ext cx="8208720" cy="1143000"/>
            <a:chOff x="431640" y="2606760"/>
            <a:chExt cx="8208720" cy="1143000"/>
          </a:xfrm>
        </p:grpSpPr>
        <p:cxnSp>
          <p:nvCxnSpPr>
            <p:cNvPr id="115" name="_s147481"/>
            <p:cNvCxnSpPr>
              <a:stCxn id="116" idx="0"/>
              <a:endCxn id="117" idx="5"/>
            </p:cNvCxnSpPr>
            <p:nvPr/>
          </p:nvCxnSpPr>
          <p:spPr>
            <a:xfrm flipV="1" rot="16200000">
              <a:off x="6174000" y="1425960"/>
              <a:ext cx="229320" cy="3503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8" name="_s147477"/>
            <p:cNvCxnSpPr>
              <a:stCxn id="119" idx="0"/>
              <a:endCxn id="117" idx="4"/>
            </p:cNvCxnSpPr>
            <p:nvPr/>
          </p:nvCxnSpPr>
          <p:spPr>
            <a:xfrm flipV="1" rot="16200000">
              <a:off x="4772880" y="2827800"/>
              <a:ext cx="229320" cy="7002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" name="_s147475"/>
            <p:cNvCxnSpPr>
              <a:stCxn id="121" idx="0"/>
              <a:endCxn id="117" idx="3"/>
            </p:cNvCxnSpPr>
            <p:nvPr/>
          </p:nvCxnSpPr>
          <p:spPr>
            <a:xfrm flipV="1" rot="16200000">
              <a:off x="5473800" y="2126880"/>
              <a:ext cx="229320" cy="2102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2" name="_s147469"/>
            <p:cNvCxnSpPr>
              <a:stCxn id="123" idx="0"/>
              <a:endCxn id="117" idx="2"/>
            </p:cNvCxnSpPr>
            <p:nvPr/>
          </p:nvCxnSpPr>
          <p:spPr>
            <a:xfrm flipH="1" flipV="1" rot="5400000">
              <a:off x="4071600" y="2826360"/>
              <a:ext cx="229320" cy="703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4" name="_s147468"/>
            <p:cNvCxnSpPr>
              <a:stCxn id="125" idx="0"/>
              <a:endCxn id="117" idx="1"/>
            </p:cNvCxnSpPr>
            <p:nvPr/>
          </p:nvCxnSpPr>
          <p:spPr>
            <a:xfrm flipH="1" flipV="1" rot="5400000">
              <a:off x="3370680" y="2125440"/>
              <a:ext cx="229320" cy="21049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6" name="_s147467"/>
            <p:cNvCxnSpPr>
              <a:stCxn id="127" idx="0"/>
              <a:endCxn id="117" idx="0"/>
            </p:cNvCxnSpPr>
            <p:nvPr/>
          </p:nvCxnSpPr>
          <p:spPr>
            <a:xfrm flipH="1" flipV="1" rot="5400000">
              <a:off x="2670480" y="1425240"/>
              <a:ext cx="229320" cy="3505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7" name="_s147463"/>
            <p:cNvSpPr/>
            <p:nvPr/>
          </p:nvSpPr>
          <p:spPr>
            <a:xfrm>
              <a:off x="3931920" y="2606760"/>
              <a:ext cx="120816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000000"/>
                  </a:solidFill>
                  <a:latin typeface="Arial"/>
                </a:rPr>
                <a:t>六大營養素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47464"/>
            <p:cNvSpPr/>
            <p:nvPr/>
          </p:nvSpPr>
          <p:spPr>
            <a:xfrm>
              <a:off x="431640" y="3292560"/>
              <a:ext cx="120096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000000"/>
                  </a:solidFill>
                  <a:latin typeface="Arial"/>
                </a:rPr>
                <a:t>醣類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47465"/>
            <p:cNvSpPr/>
            <p:nvPr/>
          </p:nvSpPr>
          <p:spPr>
            <a:xfrm>
              <a:off x="1833120" y="3292560"/>
              <a:ext cx="120096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000000"/>
                  </a:solidFill>
                  <a:latin typeface="Arial"/>
                </a:rPr>
                <a:t>脂肪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47466"/>
            <p:cNvSpPr/>
            <p:nvPr/>
          </p:nvSpPr>
          <p:spPr>
            <a:xfrm>
              <a:off x="3234960" y="3292560"/>
              <a:ext cx="120060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000000"/>
                  </a:solidFill>
                  <a:latin typeface="Arial"/>
                </a:rPr>
                <a:t>蛋白質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47474"/>
            <p:cNvSpPr/>
            <p:nvPr/>
          </p:nvSpPr>
          <p:spPr>
            <a:xfrm>
              <a:off x="6037920" y="3292560"/>
              <a:ext cx="120060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000000"/>
                  </a:solidFill>
                  <a:latin typeface="Arial"/>
                </a:rPr>
                <a:t>維生素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47476"/>
            <p:cNvSpPr/>
            <p:nvPr/>
          </p:nvSpPr>
          <p:spPr>
            <a:xfrm>
              <a:off x="4636080" y="3292560"/>
              <a:ext cx="120096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000000"/>
                  </a:solidFill>
                  <a:latin typeface="Arial"/>
                </a:rPr>
                <a:t>礦物質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47480"/>
            <p:cNvSpPr/>
            <p:nvPr/>
          </p:nvSpPr>
          <p:spPr>
            <a:xfrm>
              <a:off x="7439400" y="3292560"/>
              <a:ext cx="120096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000000"/>
                  </a:solidFill>
                  <a:latin typeface="Arial"/>
                </a:rPr>
                <a:t>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50969-6CE9-44D7-B468-B9DB3DCC8F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營養素對健康的影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11280" y="1773360"/>
          <a:ext cx="7848360" cy="4589280"/>
        </p:xfrm>
        <a:graphic>
          <a:graphicData uri="http://schemas.openxmlformats.org/drawingml/2006/table">
            <a:tbl>
              <a:tblPr/>
              <a:tblGrid>
                <a:gridCol w="1584360"/>
                <a:gridCol w="3384360"/>
                <a:gridCol w="2879640"/>
              </a:tblGrid>
              <a:tr h="53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華康中黑體"/>
                          <a:ea typeface="華康中黑體"/>
                        </a:rPr>
                        <a:t>營養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華康中黑體"/>
                          <a:ea typeface="華康中黑體"/>
                        </a:rPr>
                        <a:t>營養素的功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華康中黑體"/>
                          <a:ea typeface="華康中黑體"/>
                        </a:rPr>
                        <a:t>營養不良易得之疾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保護上皮組織和眼睛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乾眼症、夜盲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B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群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促進熱量與蛋白質的新陳代謝與安定神經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腳氣病、神經發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口角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構成軟骨、結締組織和細胞組織間的膠原物質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壞血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  <a:tr h="75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幫助人體吸收及利用鈣與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軟骨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鈣、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骨骼與牙齒主要的成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骨質疏鬆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甲狀腺素的重要元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甲狀腺腫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血紅素的主要成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貧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6CA3B-41FA-48B8-995E-2EA64016CE2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食 物 與 記 憶 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00000" y="1844640"/>
          <a:ext cx="7344000" cy="4176720"/>
        </p:xfrm>
        <a:graphic>
          <a:graphicData uri="http://schemas.openxmlformats.org/drawingml/2006/table">
            <a:tbl>
              <a:tblPr/>
              <a:tblGrid>
                <a:gridCol w="2473560"/>
                <a:gridCol w="4870440"/>
              </a:tblGrid>
              <a:tr h="12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Arial"/>
                          <a:ea typeface="華康粗圓體"/>
                        </a:rPr>
                        <a:t>提升記憶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Arial"/>
                          <a:ea typeface="華康粗圓體"/>
                        </a:rPr>
                        <a:t>銀杏、迷佚香、卵磷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2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Arial"/>
                          <a:ea typeface="華康粗圓體"/>
                        </a:rPr>
                        <a:t>破壞記憶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Arial"/>
                          <a:ea typeface="華康粗圓體"/>
                        </a:rPr>
                        <a:t>咖啡、酒精、白麵粉、火雞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68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華康粗圓體"/>
                          <a:ea typeface="華康粗圓體"/>
                        </a:rPr>
                        <a:t>增加學習效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葡萄糖、維生素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B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群﹑蛋白質﹑鐵質﹑葉﹑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DHA﹑EPA﹑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卵磷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4E8AE-78AE-46BC-AD2B-8AE467D5FE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青 少 年 飲 食 須 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497844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多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多喝水，少喝飲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定時定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少吃速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70863-CDBB-440F-ABAB-951B3BB8C7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1700280"/>
            <a:ext cx="7632720" cy="1657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cc"/>
                </a:solidFill>
                <a:latin typeface="華康細圓體"/>
                <a:ea typeface="華康細圓體"/>
              </a:rPr>
              <a:t>身體質量指數（</a:t>
            </a:r>
            <a:r>
              <a:rPr b="1" lang="zh-TW" sz="3200" spc="-1" strike="noStrike">
                <a:solidFill>
                  <a:srgbClr val="0033cc"/>
                </a:solidFill>
                <a:latin typeface="華康細圓體"/>
                <a:ea typeface="華康細圓體"/>
              </a:rPr>
              <a:t>BMI</a:t>
            </a:r>
            <a:r>
              <a:rPr b="1" lang="zh-TW" sz="3200" spc="-1" strike="noStrike">
                <a:solidFill>
                  <a:srgbClr val="0033cc"/>
                </a:solidFill>
                <a:latin typeface="華康細圓體"/>
                <a:ea typeface="華康細圓體"/>
              </a:rPr>
              <a:t>）＝體重</a:t>
            </a:r>
            <a:r>
              <a:rPr b="1" lang="zh-TW" sz="3200" spc="-1" strike="noStrike">
                <a:solidFill>
                  <a:srgbClr val="0033cc"/>
                </a:solidFill>
                <a:latin typeface="Arial"/>
                <a:ea typeface="華康細圓體"/>
              </a:rPr>
              <a:t>÷</a:t>
            </a:r>
            <a:r>
              <a:rPr b="1" lang="zh-TW" sz="3200" spc="-1" strike="noStrike">
                <a:solidFill>
                  <a:srgbClr val="0033cc"/>
                </a:solidFill>
                <a:latin typeface="Arial"/>
                <a:ea typeface="華康細圓體"/>
              </a:rPr>
              <a:t>身高</a:t>
            </a:r>
            <a:r>
              <a:rPr b="1" lang="zh-TW" sz="3200" spc="-1" strike="noStrike" baseline="60000">
                <a:solidFill>
                  <a:srgbClr val="0033cc"/>
                </a:solidFill>
                <a:latin typeface="Arial"/>
                <a:ea typeface="華康細圓體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（單位：體重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-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公斤，身高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-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公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理 想 的體 重 標 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50600" y="3860640"/>
            <a:ext cx="60166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&lt;18.5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ff9933"/>
                </a:solidFill>
                <a:latin typeface="Arial"/>
                <a:ea typeface="華康中明體"/>
              </a:rPr>
              <a:t>體重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=18.5~22.9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006600"/>
                </a:solidFill>
                <a:latin typeface="Arial"/>
                <a:ea typeface="華康中明體"/>
              </a:rPr>
              <a:t>標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=23~24.9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cc66ff"/>
                </a:solidFill>
                <a:latin typeface="Arial"/>
                <a:ea typeface="華康中明體"/>
              </a:rPr>
              <a:t>過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&gt;25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  <a:ea typeface="華康中明體"/>
              </a:rPr>
              <a:t>肥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80862-E7B1-4168-A14B-5E0CB2BC0C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熱 量 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-855720" y="1200240"/>
          <a:ext cx="9053640" cy="56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5720" y="1200240"/>
                    <a:ext cx="9053640" cy="56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6582E-0CB1-4ED6-A1B7-8ED0CC1530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21:36Z</dcterms:created>
  <dc:creator>黛琳</dc:creator>
  <dc:description/>
  <dc:language>en-US</dc:language>
  <cp:lastModifiedBy>e048</cp:lastModifiedBy>
  <dcterms:modified xsi:type="dcterms:W3CDTF">2002-11-26T10:43:55Z</dcterms:modified>
  <cp:revision>84</cp:revision>
  <dc:subject/>
  <dc:title>投影片 1</dc:title>
</cp:coreProperties>
</file>