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4E5-5E10-44C3-AB73-F3E8FCF72DFF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337-AFE5-46F5-9DEF-AA52F6B0DB7B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018-3AB4-4D77-96F2-BDE44AB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051-3627-4F8C-95DC-F0F89B44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24C-E48B-478E-A4D3-02F9BCBC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902-86EF-4650-AA17-8455ACF5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9F8-4AE5-440F-9C90-FC94448C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67D-65B1-4A5F-84B7-7797EBEA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247-2D88-4348-82E7-AC0526E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7D6-C4C0-4FE7-B15F-E4AE48E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389-81BD-4770-AA3C-5D95015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395-6E83-4EE7-BB86-A72C171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F30-53DC-49B4-B5E2-1C685D6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524-24BA-47DC-B99A-50E95694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2F0-08B8-4050-B7D8-625F4D935C9F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D6E-5F72-4D24-B3DB-CFEF9BB37A5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32:03Z</dcterms:modified>
  <cp:revision>110</cp:revision>
  <dc:subject/>
  <dc:title>自我介紹</dc:title>
</cp:coreProperties>
</file>