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982-8949-434F-B738-E930E716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776-12B1-4543-BDB7-8D689817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30E-171A-4D23-84F0-AF598D10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694-8849-4EEF-B176-9694120C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031-B690-44B1-B6E2-A3D1C86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96C-1B21-49C4-91DE-2CC7552A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F4E-A37F-48CB-AFC7-E7BEE6DD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7E1-BB26-459D-99A6-95E33B1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1AB-9FC2-46C2-B939-F5AEED9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8E7-ED27-4A1F-B995-97BC385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31B-123E-4F57-BE69-6BD4C2F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2A9-C689-4179-B835-6ABBE78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AD58-A25E-4CC6-A20A-D702707CA54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6600" spc="-1" strike="noStrike">
              <a:solidFill>
                <a:srgbClr val="ff3300"/>
              </a:solidFill>
              <a:latin typeface="Arial"/>
              <a:ea typeface="華康POP1體W5(P)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主辦者：曾  郝  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時    間：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92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年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8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詳細行程安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桃園中正機場 → 直飛夏威夷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希羅－柯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－小環島－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PCC(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遊園、晚餐、呼拉秀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（自由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五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台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27492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費用明細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01880" y="1599840"/>
            <a:ext cx="4586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來回機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$20000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（含機場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住宿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US$180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 /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每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其餘一律計在團費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行前注意事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必備物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護照、身份證、個人藥品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集合時間：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7/28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上午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8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集合地點：桃園機場第一航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1:57:14Z</dcterms:created>
  <dc:creator>e048</dc:creator>
  <dc:description/>
  <dc:language>en-US</dc:language>
  <cp:lastModifiedBy>e048</cp:lastModifiedBy>
  <dcterms:modified xsi:type="dcterms:W3CDTF">2002-12-31T03:28:27Z</dcterms:modified>
  <cp:revision>4</cp:revision>
  <dc:subject/>
  <dc:title>夏威夷五天四夜 熱情逍遙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3</vt:r8>
  </property>
</Properties>
</file>