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E68-45F6-406F-A334-07F94A93665F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A29-5484-4F30-9EF9-C5B860E85649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17A-2DFF-4FE9-B653-975B7A34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F15-7129-42DC-BB3A-2B87BFC6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E8A-A59B-43B5-845D-5131024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44A-CF1C-44CF-BC07-15C5D10D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DBE8-D714-4C93-AE55-E0704981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46A4-7ACD-4E90-A3EA-D98DB9E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846-EA75-464B-BEA7-811C1EB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C43-B388-4ADC-8159-C5858E16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ED7-11FD-43F3-BE19-D6D3991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0BF-EBA5-46C0-BBB3-6BF0089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24C-8F43-48B6-A5F7-C6FDFB4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1F2-8E4E-4011-9192-CC3C8E95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FA6E-E124-4E63-96B5-921428E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032-8870-4009-B0D1-175E335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D96-CAB7-4A67-A4F2-5F18A94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FBF7-8020-4EF7-B57E-32E725D3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58C-42D9-46BE-B02B-29F79FE8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90E-52E3-406E-985D-7C7EAB24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43D-C077-40F8-A7DF-06E40B4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DD2-76DC-46E9-B743-E440166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FD2-623D-44CA-AF7D-5A5E716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82F-8363-4993-8EF8-11826B6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BD1-35BD-4310-9029-77CBBE6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7ED-44D2-47D5-9369-6AFFD33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F01-5A29-4FC0-874F-6A702E7BED27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三十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13D9-3B4E-416D-815C-25B97AE91748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458A-FD9D-46DF-90C7-BF2D42DF5C29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三十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E26-335E-45C5-AF83-8EF408EA412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A58-9DE2-453A-8D58-6E0D7D08072D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9F95D-E611-4863-80D2-348B8F6F9CB7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3BD-776C-43FB-B438-1B72132A8F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C58B2-80BD-4E48-AE8A-741A800BC117}" type="datetime3">
              <a:rPr lang="en-US"/>
              <a:t>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E62-59AD-46DC-A165-D23D37CE3F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324E4-4D59-4794-8C89-13A336DAD2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166-41C6-41B1-BD6D-95F3E2B7B7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2E2AC-81CD-40B8-9C95-A4DA6CA35CBC}" type="datetime3">
              <a:rPr lang="en-US"/>
              <a:t>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188-E09F-4A96-BC4D-73B7BBF35B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37194-0324-40A5-8155-B57D40D83D7D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A69-800D-4777-87CD-9FB02760DE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B176A-7A75-4E1A-8C20-8BF8329EEECD}" type="datetime3">
              <a:rPr lang="en-US"/>
              <a:t>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0BA-50A0-4739-842B-96C67306B4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B61F1-F907-4B15-9479-0DCD7CDB36FD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729-19A3-4436-A3BC-236E144B4A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1ADCA-010C-4D83-BB80-31193D4C3AF7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57:39Z</dcterms:modified>
  <cp:revision>113</cp:revision>
  <dc:subject/>
  <dc:title>自我介紹</dc:title>
</cp:coreProperties>
</file>