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DE23-764D-4D16-98B2-366B9BD4CD41}" type="datetime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041120" y="721800"/>
            <a:ext cx="4808520" cy="360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9040" y="4568760"/>
            <a:ext cx="551016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903840" y="9140400"/>
            <a:ext cx="29844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376D-EA29-40E1-A975-F3BC76180E1B}" type="slidenum"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041480" y="722160"/>
            <a:ext cx="4808520" cy="36068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9040" y="4568760"/>
            <a:ext cx="551016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先簡介一下整個簡報的大綱，也可以從這裡點選直接到那個主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5D1A-4DCF-45AA-A117-31F1F0A2C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7F4C-6AB9-41BC-B7D5-BB6590FF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BFB9-3EDB-4C03-A735-D3D5780C6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7970-8AB2-4A32-A7E1-F02A001B7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DF9D-5F9C-4E4E-8536-7F68901D4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6043F-9284-40FD-858C-5A593DEB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AB97-A2B4-4ED0-B12C-C0252048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138AE-4653-460F-AD35-26D4E264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DC95-057F-4B33-9BB0-810630EA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0C67E-7E81-4A85-BA63-915C3E83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0008-8B07-4E7D-B633-509118A2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D955-35F7-4D97-8014-04B77A27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9428D-0031-4DF4-939C-EDC98571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67A52-D90C-40FF-A5A5-B33649E3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1AE5-6773-4A2F-8DCE-8C174099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ECE86-2C03-46E9-9A6B-7A8526DB6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39F1-3294-429A-A85C-C1485CD75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19C2-BC93-49B0-90CE-7D2C7857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C35A-2D2C-45BA-8984-D87D0B69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0FD8-5438-4665-8AA2-7F2C96E3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7204-C12F-43E7-A272-4CB05E73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69D3-E0FA-40BC-9ED5-6255E7DD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127E-7B3F-479D-8253-FF8D51E4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ECB3-7626-438E-BDA4-E362EAFD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4099-B185-4B6B-B375-0DBC420EE749}" type="datetime">
              <a:rPr b="0" lang="zh-TW" sz="1400" spc="-1" strike="noStrike">
                <a:solidFill>
                  <a:srgbClr val="000000"/>
                </a:solidFill>
                <a:latin typeface="Comic Sans MS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1F73-B8B3-4596-9FDE-CCAAEA85DC20}" type="slidenum"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649E-B02D-4C4F-A489-85E9D9BCCBA0}" type="datetime">
              <a:rPr b="0" lang="zh-TW" sz="1400" spc="-1" strike="noStrike">
                <a:solidFill>
                  <a:srgbClr val="000000"/>
                </a:solidFill>
                <a:latin typeface="Comic Sans MS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AD3F-826E-400E-9ABA-560B46F0E9F4}" type="slidenum"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390680" y="3871440"/>
            <a:ext cx="6400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ff"/>
                </a:solidFill>
                <a:latin typeface="華康隸書體W3"/>
                <a:ea typeface="華康隸書體W3"/>
              </a:rPr>
              <a:t>畢上中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ff"/>
                </a:solidFill>
                <a:latin typeface="華康隸書體W3"/>
                <a:ea typeface="華康隸書體W3"/>
              </a:rPr>
              <a:t>三年忠班</a:t>
            </a:r>
            <a:r>
              <a:rPr b="0" lang="zh-TW" sz="3600" spc="-1" strike="noStrike">
                <a:solidFill>
                  <a:srgbClr val="3333ff"/>
                </a:solidFill>
                <a:latin typeface="華康隸書體W3"/>
                <a:ea typeface="華康隸書體W3"/>
              </a:rPr>
              <a:t>13</a:t>
            </a:r>
            <a:r>
              <a:rPr b="0" lang="zh-TW" sz="3600" spc="-1" strike="noStrike">
                <a:solidFill>
                  <a:srgbClr val="3333ff"/>
                </a:solidFill>
                <a:latin typeface="華康隸書體W3"/>
                <a:ea typeface="華康隸書體W3"/>
              </a:rPr>
              <a:t>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ff"/>
                </a:solidFill>
                <a:latin typeface="華康隸書體W3"/>
                <a:ea typeface="華康隸書體W3"/>
              </a:rPr>
              <a:t>曾詠欣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258920" y="836640"/>
            <a:ext cx="6624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華康超明體"/>
              </a:rPr>
              <a:t>自我介紹</a:t>
            </a:r>
            <a:endParaRPr b="0" lang="en-US" sz="6000" spc="1" strike="noStrike">
              <a:ln w="0">
                <a:noFill/>
              </a:ln>
              <a:solidFill>
                <a:srgbClr val="ff0000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華康超明體"/>
              <a:ea typeface="華康超明體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自我介紹內容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1320" y="2468520"/>
            <a:ext cx="2962080" cy="27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ff"/>
                </a:solidFill>
                <a:latin typeface="Comic Sans MS"/>
                <a:ea typeface="華康細圓體"/>
              </a:rPr>
              <a:t>基本資料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501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9900"/>
                </a:solidFill>
                <a:latin typeface="Comic Sans MS"/>
                <a:ea typeface="華康細圓體"/>
              </a:rPr>
              <a:t>專長與興趣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5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ff"/>
                </a:solidFill>
                <a:latin typeface="Comic Sans MS"/>
                <a:ea typeface="華康細圓體"/>
              </a:rPr>
              <a:t>社團經驗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29120" y="2468520"/>
            <a:ext cx="3027600" cy="26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5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Comic Sans MS"/>
                <a:ea typeface="華康細圓體"/>
              </a:rPr>
              <a:t>才藝比賽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4501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9900"/>
                </a:solidFill>
                <a:latin typeface="Comic Sans MS"/>
                <a:ea typeface="華康細圓體"/>
              </a:rPr>
              <a:t>我的座右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45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Comic Sans MS"/>
                <a:ea typeface="華康細圓體"/>
              </a:rPr>
              <a:t>生活點滴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秘密檔案</a:t>
            </a:r>
            <a:r>
              <a:rPr b="0" lang="zh-TW" sz="4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----</a:t>
            </a:r>
            <a:r>
              <a:rPr b="0" lang="zh-TW" sz="4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我的基本資料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38280" y="1873080"/>
            <a:ext cx="4780080" cy="36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10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生日：民國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79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年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2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月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30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100000"/>
              </a:lnSpc>
              <a:spcBef>
                <a:spcPts val="10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身高：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152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公分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10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體重：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40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公斤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100000"/>
              </a:lnSpc>
              <a:spcBef>
                <a:spcPts val="10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家中成員</a:t>
            </a:r>
            <a:r>
              <a:rPr b="1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891360" indent="-17820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華康細圓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華康細圓體"/>
                <a:ea typeface="華康細圓體"/>
              </a:rPr>
              <a:t>爸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91360" indent="-17820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華康細圓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華康細圓體"/>
                <a:ea typeface="華康細圓體"/>
              </a:rPr>
              <a:t>媽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91360" indent="-17820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華康細圓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華康細圓體"/>
                <a:ea typeface="華康細圓體"/>
              </a:rPr>
              <a:t>哥哥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91360" indent="-17820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華康細圓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華康細圓體"/>
                <a:ea typeface="華康細圓體"/>
              </a:rPr>
              <a:t>我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91360" indent="-17820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華康細圓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華康細圓體"/>
                <a:ea typeface="華康細圓體"/>
              </a:rPr>
              <a:t>小花（狗）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90200" y="-1098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Comic Sans MS"/>
                <a:ea typeface="華康細圓體"/>
              </a:rPr>
              <a:t>專長與興趣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420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Comic Sans MS"/>
              </a:rPr>
              <a:t>專長：長笛、素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4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Comic Sans MS"/>
              </a:rPr>
              <a:t>興趣：打桌球、看小說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05480" y="2025720"/>
            <a:ext cx="377640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65600" y="253800"/>
            <a:ext cx="35049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社團經驗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492200" y="1857240"/>
          <a:ext cx="6194520" cy="3625920"/>
        </p:xfrm>
        <a:graphic>
          <a:graphicData uri="http://schemas.openxmlformats.org/drawingml/2006/table">
            <a:tbl>
              <a:tblPr/>
              <a:tblGrid>
                <a:gridCol w="1567440"/>
                <a:gridCol w="4627080"/>
              </a:tblGrid>
              <a:tr h="78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Comic Sans MS"/>
                          <a:ea typeface="華康細圓體"/>
                        </a:rPr>
                        <a:t>階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66ff"/>
                      </a:solidFill>
                    </a:lnL>
                    <a:lnR w="1440">
                      <a:solidFill>
                        <a:srgbClr val="000099"/>
                      </a:solidFill>
                    </a:lnR>
                    <a:lnT w="1440">
                      <a:solidFill>
                        <a:srgbClr val="0066ff"/>
                      </a:solidFill>
                    </a:lnT>
                    <a:lnB w="144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Comic Sans MS"/>
                          <a:ea typeface="華康細圓體"/>
                        </a:rPr>
                        <a:t>社團（職稱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99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440">
                      <a:solidFill>
                        <a:srgbClr val="0066ff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72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Comic Sans MS"/>
                          <a:ea typeface="華康細圓體"/>
                        </a:rPr>
                        <a:t>小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66ff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1440">
                      <a:solidFill>
                        <a:srgbClr val="000099"/>
                      </a:solidFill>
                    </a:lnT>
                    <a:lnB w="144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  </a:t>
                      </a:r>
                      <a:r>
                        <a:rPr b="1" lang="zh-TW" sz="3200" spc="-1" strike="noStrike">
                          <a:solidFill>
                            <a:srgbClr val="3333ff"/>
                          </a:solidFill>
                          <a:latin typeface="Comic Sans MS"/>
                          <a:ea typeface="華康細圓體"/>
                        </a:rPr>
                        <a:t>樂隊（長笛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99"/>
                      </a:solidFill>
                    </a:lnL>
                    <a:lnR>
                      <a:noFill/>
                    </a:lnR>
                    <a:lnT w="38160">
                      <a:solidFill>
                        <a:srgbClr val="000099"/>
                      </a:solidFill>
                    </a:lnT>
                    <a:lnB w="1440">
                      <a:solidFill>
                        <a:srgbClr val="fffec9"/>
                      </a:solidFill>
                    </a:lnB>
                    <a:solidFill>
                      <a:srgbClr val="fffd97"/>
                    </a:solidFill>
                  </a:tcPr>
                </a:tc>
              </a:tr>
              <a:tr h="673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Comic Sans MS"/>
                          <a:ea typeface="華康細圓體"/>
                        </a:rPr>
                        <a:t>國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66ff"/>
                      </a:solidFill>
                    </a:lnL>
                    <a:lnR w="1440">
                      <a:solidFill>
                        <a:srgbClr val="0033cc"/>
                      </a:solidFill>
                    </a:lnR>
                    <a:lnT w="1440">
                      <a:solidFill>
                        <a:srgbClr val="000099"/>
                      </a:solidFill>
                    </a:lnT>
                    <a:lnB w="144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  </a:t>
                      </a:r>
                      <a:r>
                        <a:rPr b="1" lang="zh-TW" sz="3200" spc="-1" strike="noStrike">
                          <a:solidFill>
                            <a:srgbClr val="3333ff"/>
                          </a:solidFill>
                          <a:latin typeface="Comic Sans MS"/>
                          <a:ea typeface="華康細圓體"/>
                        </a:rPr>
                        <a:t>桌球社（社員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33cc"/>
                      </a:solidFill>
                    </a:lnL>
                    <a:lnR w="18720">
                      <a:solidFill>
                        <a:srgbClr val="fffdb1"/>
                      </a:solidFill>
                    </a:lnR>
                    <a:lnT w="1440">
                      <a:solidFill>
                        <a:srgbClr val="fffec9"/>
                      </a:solidFill>
                    </a:lnT>
                    <a:lnB w="38160">
                      <a:solidFill>
                        <a:srgbClr val="c8c300"/>
                      </a:solidFill>
                    </a:lnB>
                    <a:solidFill>
                      <a:srgbClr val="fffdb1"/>
                    </a:solidFill>
                  </a:tcPr>
                </a:tc>
              </a:tr>
              <a:tr h="70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Comic Sans MS"/>
                          <a:ea typeface="華康細圓體"/>
                        </a:rPr>
                        <a:t>國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66ff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1440">
                      <a:solidFill>
                        <a:srgbClr val="000099"/>
                      </a:solidFill>
                    </a:lnT>
                    <a:lnB w="144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  </a:t>
                      </a:r>
                      <a:r>
                        <a:rPr b="1" lang="zh-TW" sz="3200" spc="-1" strike="noStrike">
                          <a:solidFill>
                            <a:srgbClr val="3333ff"/>
                          </a:solidFill>
                          <a:latin typeface="Comic Sans MS"/>
                          <a:ea typeface="華康細圓體"/>
                        </a:rPr>
                        <a:t>桌球社（學藝股長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99"/>
                      </a:solidFill>
                    </a:lnL>
                    <a:lnR>
                      <a:noFill/>
                    </a:lnR>
                    <a:lnT w="38160">
                      <a:solidFill>
                        <a:srgbClr val="c8c300"/>
                      </a:solidFill>
                    </a:lnT>
                    <a:lnB w="1440">
                      <a:solidFill>
                        <a:srgbClr val="fffec9"/>
                      </a:solidFill>
                    </a:lnB>
                    <a:solidFill>
                      <a:srgbClr val="fffd97"/>
                    </a:solidFill>
                  </a:tcPr>
                </a:tc>
              </a:tr>
              <a:tr h="72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Comic Sans MS"/>
                          <a:ea typeface="華康細圓體"/>
                        </a:rPr>
                        <a:t>國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66ff"/>
                      </a:solidFill>
                    </a:lnL>
                    <a:lnR w="1440">
                      <a:solidFill>
                        <a:srgbClr val="0033cc"/>
                      </a:solidFill>
                    </a:lnR>
                    <a:lnT w="144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  </a:t>
                      </a:r>
                      <a:r>
                        <a:rPr b="1" lang="zh-TW" sz="3200" spc="-1" strike="noStrike">
                          <a:solidFill>
                            <a:srgbClr val="3333ff"/>
                          </a:solidFill>
                          <a:latin typeface="Comic Sans MS"/>
                          <a:ea typeface="華康細圓體"/>
                        </a:rPr>
                        <a:t>桌球社（副社長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33cc"/>
                      </a:solidFill>
                    </a:lnL>
                    <a:lnR w="18720">
                      <a:solidFill>
                        <a:srgbClr val="fffdb1"/>
                      </a:solidFill>
                    </a:lnR>
                    <a:lnT w="1440">
                      <a:solidFill>
                        <a:srgbClr val="fffec9"/>
                      </a:solidFill>
                    </a:lnT>
                    <a:lnB w="38160">
                      <a:solidFill>
                        <a:srgbClr val="c8c300"/>
                      </a:solidFill>
                    </a:lnB>
                    <a:solidFill>
                      <a:srgbClr val="fffdb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 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國一：全校美術比賽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	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優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 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國二：台北市長笛比賽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	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第三名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 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國三：校際桌球賽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	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	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亞軍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5075280" y="4411800"/>
            <a:ext cx="3744720" cy="1609560"/>
          </a:xfrm>
          <a:custGeom>
            <a:avLst/>
            <a:gdLst>
              <a:gd name="textAreaLeft" fmla="*/ 936000 w 3744720"/>
              <a:gd name="textAreaRight" fmla="*/ 2808720 w 3744720"/>
              <a:gd name="textAreaTop" fmla="*/ 0 h 1609560"/>
              <a:gd name="textAreaBottom" fmla="*/ 1408680 h 1609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992920" y="4132440"/>
            <a:ext cx="1985760" cy="1915920"/>
          </a:xfrm>
          <a:custGeom>
            <a:avLst/>
            <a:gdLst>
              <a:gd name="textAreaLeft" fmla="*/ 453240 w 1985760"/>
              <a:gd name="textAreaRight" fmla="*/ 1532520 w 1985760"/>
              <a:gd name="textAreaTop" fmla="*/ 437400 h 1915920"/>
              <a:gd name="textAreaBottom" fmla="*/ 1478520 h 1915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d97"/>
          </a:solidFill>
          <a:ln w="38160">
            <a:solidFill>
              <a:srgbClr val="aaa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3333ff"/>
                </a:solidFill>
                <a:latin typeface="標楷體"/>
                <a:ea typeface="標楷體"/>
              </a:rPr>
              <a:t>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867960" y="-576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才藝比賽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17200" y="150840"/>
            <a:ext cx="4545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我的座右銘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1628640"/>
            <a:ext cx="7561440" cy="22179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50000">
                <a:srgbClr val="fffdb1"/>
              </a:gs>
              <a:gs pos="100000">
                <a:srgbClr val="ffff00"/>
              </a:gs>
            </a:gsLst>
            <a:lin ang="10800000"/>
          </a:gra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3333ff"/>
                </a:solidFill>
                <a:latin typeface="Arial"/>
                <a:ea typeface="華康行書體"/>
              </a:rPr>
              <a:t>今日事、今日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8720" y="3875040"/>
            <a:ext cx="7559640" cy="22179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50000">
                <a:srgbClr val="fffdb1"/>
              </a:gs>
              <a:gs pos="100000">
                <a:srgbClr val="ffff00"/>
              </a:gs>
            </a:gsLst>
            <a:lin ang="10800000"/>
          </a:gra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3333ff"/>
                </a:solidFill>
                <a:latin typeface="Arial"/>
                <a:ea typeface="華康行書體"/>
              </a:rPr>
              <a:t>敬人者人恆敬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72720" y="-1861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生活點滴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073160" y="1828800"/>
            <a:ext cx="3051000" cy="17668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073160" y="3718080"/>
            <a:ext cx="3051000" cy="17668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4940280" y="1828800"/>
            <a:ext cx="3054240" cy="17683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4940280" y="3718080"/>
            <a:ext cx="3054240" cy="176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050920" y="2349360"/>
            <a:ext cx="5042160" cy="236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ataneo BT"/>
              </a:rPr>
              <a:t>The End</a:t>
            </a:r>
            <a:endParaRPr b="0" lang="en-US" sz="4400" spc="1" strike="noStrike">
              <a:ln w="2844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ataneo BT"/>
              <a:ea typeface="Cataneo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謝謝您的參與和鼓勵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3T08:05:50Z</dcterms:created>
  <dc:creator>user</dc:creator>
  <dc:description/>
  <dc:language>en-US</dc:language>
  <cp:lastModifiedBy>e048</cp:lastModifiedBy>
  <dcterms:modified xsi:type="dcterms:W3CDTF">2002-11-26T03:44:18Z</dcterms:modified>
  <cp:revision>111</cp:revision>
  <dc:subject/>
  <dc:title>自我介紹</dc:title>
</cp:coreProperties>
</file>