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B18-2A1E-49BC-873E-0BE8A7DC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E16-2ADA-4B67-B043-EF8F7F0E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D3C-A525-403B-B30F-BD540772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CE2-7B0C-4AF9-90A2-BC257661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FB24-DBA2-4C8A-A384-B9CB80A6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40FF-3791-4ACA-AE8C-A6C6578A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8035-99F0-4A9F-9F50-3B6A171F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DB01-7C83-4D33-83A0-D8F5EECB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2C36-9C64-4727-AFC9-69B84526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5DA1-99C5-4081-B6BA-9AE27B54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D08B-6CF6-4473-9763-55A88AAE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B24-EDED-46BA-991A-5E25F62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368-DA58-4B9E-B552-DF506DE2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F781-DD70-4FAD-A65D-C887653A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88A5-4FC4-424F-90DD-636A9C4A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0E8D-D842-4CDF-A104-5B7C94B9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11DA-852B-4D2A-AACF-0A2A8337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403B-0714-4F51-8FBC-63E3C5E5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2A7B-2C7B-4307-9B22-CF27B186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9D28-3E34-4B96-B1CB-D57C8355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81D9-F42E-4E2F-B235-254BA3AB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DCB2-BFA3-4910-A69B-6F9E5924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12D-954D-4D56-829A-1DAB1AC3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1901-0C65-40B6-9770-D5DD1547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8EF8-7D63-4079-82B3-4AA60F85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AF71-E84A-458B-8902-D5CBE94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46DE-3192-46E4-96B4-67AEB0CF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4EF8-0FBD-4B7E-B27E-816BF8B9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459C0-776E-4364-AB9B-612D5159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077D-A2B6-4E39-9C4F-F8E3CC73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A9A2-E281-4870-A769-7CAF28E2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A31E7-5AE4-46C7-A940-F1EF63E5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DCB47-80D3-45E6-A82F-8AF00C58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186-4110-4C6A-B45A-73492741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116E-85C4-4F88-AFBB-C88D228F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970B-AA7F-42AF-A4D4-22487819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E19B-F8F2-4B45-9FC6-8AFBF105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42401-F9BB-4906-A1B4-642C69D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E05D5-1BB8-4C12-B0FF-F6F4A673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C18A-2592-461A-8310-0CD83B8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C8152-0F97-4CE9-A836-3B64A5EA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8D34-23B2-4871-9CA5-A3C64982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A26E-E817-4D42-B6A5-8CF944A4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CC59F-3330-49DB-A227-984E7EAB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74D-29C9-4C3C-B9DB-D69289A5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99B1-C464-43E6-9765-B569545B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6F0C-D74D-48C9-A889-30E8A394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D8F1F-314E-4690-93FF-8E2B0F6F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0727B-2D06-46CB-AB7E-4E524EB5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A8B9-ADE8-4ADB-98E5-AFB04A39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BBD8-A7E5-4FF4-B4D3-B48EF134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49CF-8989-4075-885C-6629516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3819-612F-440A-874A-03BC2693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AC45-210B-4067-B7EA-7A99C428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85EB-72BB-4A20-A665-4E3FE1A8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869-8A82-4C44-93BF-04F935DB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B676-C6F4-426A-8DD3-FD3C1F1E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176-6B64-4A8B-8A3F-B5DA89D7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ECF-7E33-4E29-868A-344C5772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093-A2F8-4050-94D4-E591E9E7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9C72-D51B-4693-AE96-4B56984F3F1F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E237-822B-4F2E-9B7E-B8F6F7D0EFD0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D00D-2B99-4F29-AE7A-90C4565BF2B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27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4A0E-BABB-498E-89BD-EBECC139994E}" type="slidenum"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200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30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9" name="PlaceHolder 3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540E-7CEF-4406-B3D2-9313052692A4}" type="slidenum"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w.org.tw/index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wow.org.tw/index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980640"/>
            <a:ext cx="6046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500" spc="-1" strike="noStrike">
                <a:solidFill>
                  <a:srgbClr val="006633"/>
                </a:solidFill>
                <a:latin typeface="Garamond"/>
                <a:ea typeface="華康流隸體W5"/>
              </a:rPr>
              <a:t>地球上的生物</a:t>
            </a:r>
            <a:endParaRPr b="0" lang="en-US" sz="7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066920" y="4436640"/>
            <a:ext cx="4529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學生姓名：曾詠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班　　級：三年三班３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172360" y="-1035000"/>
            <a:ext cx="916200" cy="915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880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生 物 的 演 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66560" y="1268280"/>
          <a:ext cx="8137800" cy="4961160"/>
        </p:xfrm>
        <a:graphic>
          <a:graphicData uri="http://schemas.openxmlformats.org/drawingml/2006/table">
            <a:tbl>
              <a:tblPr/>
              <a:tblGrid>
                <a:gridCol w="2027520"/>
                <a:gridCol w="1511280"/>
                <a:gridCol w="2232000"/>
                <a:gridCol w="236700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地球歷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時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當時主要生物類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代表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3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單細胞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藍綠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年前之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古生代初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多細胞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陸上無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三葉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海洋生物開始向陸地發展，依序是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蕨類→昆蟲→兩棲類→脊椎動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陸上植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維管束植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動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兩棲類及昆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多年前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~650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萬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中生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植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裸子植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動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爬蟲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恐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650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萬年前至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恐龍滅絕後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新生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鳥類、哺乳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百多萬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人類崛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巧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cap="rnd" w="63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95280" y="1341360"/>
            <a:ext cx="8280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Arial"/>
                <a:ea typeface="華康細圓體"/>
              </a:rPr>
              <a:t>地球曾經歷數次大變動，造成生物群集的改變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Arial"/>
                <a:ea typeface="華康細圓體"/>
              </a:rPr>
              <a:t>演化原則：由低等而高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Arial"/>
                <a:ea typeface="華康細圓體"/>
              </a:rPr>
              <a:t>　　　　　　由簡單而複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生物群集的演化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 rot="20049000">
            <a:off x="7020000" y="3016080"/>
            <a:ext cx="647640" cy="1962360"/>
          </a:xfrm>
          <a:custGeom>
            <a:avLst/>
            <a:gdLst>
              <a:gd name="textAreaLeft" fmla="*/ 86760 w 647640"/>
              <a:gd name="textAreaRight" fmla="*/ 560880 w 647640"/>
              <a:gd name="textAreaTop" fmla="*/ 343440 h 1962360"/>
              <a:gd name="textAreaBottom" fmla="*/ 1422720 h 196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278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</a:rPr>
              <a:t>生物群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48942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</a:rPr>
              <a:t>大滅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95640" y="4965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</a:rPr>
              <a:t>大繁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5529600" y="4786920"/>
            <a:ext cx="600120" cy="1947960"/>
          </a:xfrm>
          <a:custGeom>
            <a:avLst/>
            <a:gdLst>
              <a:gd name="textAreaLeft" fmla="*/ 80280 w 600120"/>
              <a:gd name="textAreaRight" fmla="*/ 519840 w 600120"/>
              <a:gd name="textAreaTop" fmla="*/ 340920 h 1947960"/>
              <a:gd name="textAreaBottom" fmla="*/ 1412280 h 19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rot="7107000">
            <a:off x="3583440" y="3616920"/>
            <a:ext cx="1977840" cy="576000"/>
          </a:xfrm>
          <a:custGeom>
            <a:avLst/>
            <a:gdLst>
              <a:gd name="textAreaLeft" fmla="*/ 345960 w 1977840"/>
              <a:gd name="textAreaRight" fmla="*/ 1433880 w 19778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臺灣常見的保育動物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616572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相關連結：</a:t>
            </a:r>
            <a:r>
              <a:rPr b="0" lang="zh-TW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野生動植物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184464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水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360" y="127008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臺灣黑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35280" y="558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台北赤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011560" y="378936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4867200" y="933480"/>
            <a:ext cx="3808440" cy="285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臺灣常見的保育動物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"/>
          <p:cNvSpPr/>
          <p:nvPr/>
        </p:nvSpPr>
        <p:spPr>
          <a:xfrm>
            <a:off x="3852720" y="5661000"/>
            <a:ext cx="1150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梅花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1916280"/>
            <a:ext cx="180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臺灣獼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4590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黑面琵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938840" y="10526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57040" y="25160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938840" y="38847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11280" y="616572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相關連結：</a:t>
            </a:r>
            <a:r>
              <a:rPr b="0" lang="zh-TW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野生動植物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8:49:45Z</dcterms:created>
  <dc:creator>黛琳</dc:creator>
  <dc:description/>
  <dc:language>en-US</dc:language>
  <cp:lastModifiedBy>e048</cp:lastModifiedBy>
  <dcterms:modified xsi:type="dcterms:W3CDTF">2002-12-31T03:42:09Z</dcterms:modified>
  <cp:revision>24</cp:revision>
  <dc:subject/>
  <dc:title>地球上的生物</dc:title>
</cp:coreProperties>
</file>