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DE15-9B1A-4816-A20D-5385FC71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C4D7-E6B1-4561-BB60-32C7C4A9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65A3-F0F1-486E-8381-33A3FDB8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AC85-6982-45B3-B033-E06A9663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EB94-DE71-4FA4-B0DB-DD9B6560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5BBA-CD94-4A72-AC7C-DD5C71E3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A857-F6E2-4B6E-B302-5679545C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AA2F-4FDC-4C30-84A9-79D1DDBC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F44A-B5E9-483C-8DFC-D1A0EB4B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2AC7-1814-426D-A26D-279EB6E9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278F-2F66-418E-B136-97C67F3A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6588-8522-403D-A012-35E001BA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A58D-D771-4D70-900D-78AE3896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DBDC-5CF7-44BF-A4A2-FBDD2349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9827-6DB7-43C9-89D3-1F63DF67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ED3A-85A7-44BE-8171-F11B15BC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CFF4-4C1C-4DEC-B414-60066E62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BC46-F94B-4891-90D9-EEF663C4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5E55-B437-4734-9D8A-DD81D72B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5BD2-E722-4640-819A-3AEC05EA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DB5B-D6C0-4B4A-AAA3-53B7B599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A602-8BA2-4503-8E1D-929F6411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9595-8BB1-456C-8421-9EB1A307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6F49-8ACB-4249-9090-49430677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49B4-CFFA-4CBA-8AB2-CF7B34F63E11}" type="slidenum">
              <a:rPr b="0" lang="zh-TW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1711-AEF9-45BF-99E6-405DE1488D4F}" type="slidenum">
              <a:rPr b="0" lang="zh-TW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3062160" y="2744640"/>
            <a:ext cx="5705640" cy="3591000"/>
            <a:chOff x="3062160" y="2744640"/>
            <a:chExt cx="5705640" cy="3591000"/>
          </a:xfrm>
        </p:grpSpPr>
        <p:sp>
          <p:nvSpPr>
            <p:cNvPr id="102" name=""/>
            <p:cNvSpPr/>
            <p:nvPr/>
          </p:nvSpPr>
          <p:spPr>
            <a:xfrm>
              <a:off x="3886200" y="5089680"/>
              <a:ext cx="3303720" cy="541080"/>
            </a:xfrm>
            <a:custGeom>
              <a:avLst/>
              <a:gdLst/>
              <a:ahLst/>
              <a:rect l="l" t="t" r="r" b="b"/>
              <a:pathLst>
                <a:path w="4163" h="683">
                  <a:moveTo>
                    <a:pt x="4" y="442"/>
                  </a:moveTo>
                  <a:lnTo>
                    <a:pt x="34" y="455"/>
                  </a:lnTo>
                  <a:lnTo>
                    <a:pt x="62" y="467"/>
                  </a:lnTo>
                  <a:lnTo>
                    <a:pt x="92" y="480"/>
                  </a:lnTo>
                  <a:lnTo>
                    <a:pt x="122" y="491"/>
                  </a:lnTo>
                  <a:lnTo>
                    <a:pt x="152" y="502"/>
                  </a:lnTo>
                  <a:lnTo>
                    <a:pt x="182" y="512"/>
                  </a:lnTo>
                  <a:lnTo>
                    <a:pt x="213" y="523"/>
                  </a:lnTo>
                  <a:lnTo>
                    <a:pt x="243" y="532"/>
                  </a:lnTo>
                  <a:lnTo>
                    <a:pt x="273" y="542"/>
                  </a:lnTo>
                  <a:lnTo>
                    <a:pt x="304" y="550"/>
                  </a:lnTo>
                  <a:lnTo>
                    <a:pt x="336" y="559"/>
                  </a:lnTo>
                  <a:lnTo>
                    <a:pt x="365" y="567"/>
                  </a:lnTo>
                  <a:lnTo>
                    <a:pt x="397" y="574"/>
                  </a:lnTo>
                  <a:lnTo>
                    <a:pt x="428" y="582"/>
                  </a:lnTo>
                  <a:lnTo>
                    <a:pt x="459" y="589"/>
                  </a:lnTo>
                  <a:lnTo>
                    <a:pt x="490" y="595"/>
                  </a:lnTo>
                  <a:lnTo>
                    <a:pt x="521" y="602"/>
                  </a:lnTo>
                  <a:lnTo>
                    <a:pt x="552" y="608"/>
                  </a:lnTo>
                  <a:lnTo>
                    <a:pt x="583" y="614"/>
                  </a:lnTo>
                  <a:lnTo>
                    <a:pt x="615" y="619"/>
                  </a:lnTo>
                  <a:lnTo>
                    <a:pt x="647" y="625"/>
                  </a:lnTo>
                  <a:lnTo>
                    <a:pt x="678" y="630"/>
                  </a:lnTo>
                  <a:lnTo>
                    <a:pt x="710" y="634"/>
                  </a:lnTo>
                  <a:lnTo>
                    <a:pt x="741" y="639"/>
                  </a:lnTo>
                  <a:lnTo>
                    <a:pt x="773" y="643"/>
                  </a:lnTo>
                  <a:lnTo>
                    <a:pt x="806" y="648"/>
                  </a:lnTo>
                  <a:lnTo>
                    <a:pt x="837" y="652"/>
                  </a:lnTo>
                  <a:lnTo>
                    <a:pt x="869" y="656"/>
                  </a:lnTo>
                  <a:lnTo>
                    <a:pt x="901" y="660"/>
                  </a:lnTo>
                  <a:lnTo>
                    <a:pt x="933" y="663"/>
                  </a:lnTo>
                  <a:lnTo>
                    <a:pt x="966" y="667"/>
                  </a:lnTo>
                  <a:lnTo>
                    <a:pt x="998" y="670"/>
                  </a:lnTo>
                  <a:lnTo>
                    <a:pt x="1038" y="673"/>
                  </a:lnTo>
                  <a:lnTo>
                    <a:pt x="1080" y="677"/>
                  </a:lnTo>
                  <a:lnTo>
                    <a:pt x="1120" y="679"/>
                  </a:lnTo>
                  <a:lnTo>
                    <a:pt x="1160" y="681"/>
                  </a:lnTo>
                  <a:lnTo>
                    <a:pt x="1201" y="683"/>
                  </a:lnTo>
                  <a:lnTo>
                    <a:pt x="1241" y="683"/>
                  </a:lnTo>
                  <a:lnTo>
                    <a:pt x="1281" y="683"/>
                  </a:lnTo>
                  <a:lnTo>
                    <a:pt x="1321" y="683"/>
                  </a:lnTo>
                  <a:lnTo>
                    <a:pt x="1361" y="681"/>
                  </a:lnTo>
                  <a:lnTo>
                    <a:pt x="1401" y="680"/>
                  </a:lnTo>
                  <a:lnTo>
                    <a:pt x="1440" y="679"/>
                  </a:lnTo>
                  <a:lnTo>
                    <a:pt x="1481" y="677"/>
                  </a:lnTo>
                  <a:lnTo>
                    <a:pt x="1521" y="675"/>
                  </a:lnTo>
                  <a:lnTo>
                    <a:pt x="1560" y="671"/>
                  </a:lnTo>
                  <a:lnTo>
                    <a:pt x="1600" y="668"/>
                  </a:lnTo>
                  <a:lnTo>
                    <a:pt x="1640" y="664"/>
                  </a:lnTo>
                  <a:lnTo>
                    <a:pt x="1680" y="661"/>
                  </a:lnTo>
                  <a:lnTo>
                    <a:pt x="1719" y="657"/>
                  </a:lnTo>
                  <a:lnTo>
                    <a:pt x="1759" y="653"/>
                  </a:lnTo>
                  <a:lnTo>
                    <a:pt x="1799" y="648"/>
                  </a:lnTo>
                  <a:lnTo>
                    <a:pt x="1839" y="643"/>
                  </a:lnTo>
                  <a:lnTo>
                    <a:pt x="1878" y="639"/>
                  </a:lnTo>
                  <a:lnTo>
                    <a:pt x="1918" y="634"/>
                  </a:lnTo>
                  <a:lnTo>
                    <a:pt x="1958" y="629"/>
                  </a:lnTo>
                  <a:lnTo>
                    <a:pt x="1998" y="624"/>
                  </a:lnTo>
                  <a:lnTo>
                    <a:pt x="2038" y="619"/>
                  </a:lnTo>
                  <a:lnTo>
                    <a:pt x="2077" y="614"/>
                  </a:lnTo>
                  <a:lnTo>
                    <a:pt x="2118" y="609"/>
                  </a:lnTo>
                  <a:lnTo>
                    <a:pt x="2158" y="604"/>
                  </a:lnTo>
                  <a:lnTo>
                    <a:pt x="2197" y="599"/>
                  </a:lnTo>
                  <a:lnTo>
                    <a:pt x="2238" y="594"/>
                  </a:lnTo>
                  <a:lnTo>
                    <a:pt x="2278" y="589"/>
                  </a:lnTo>
                  <a:lnTo>
                    <a:pt x="2339" y="582"/>
                  </a:lnTo>
                  <a:lnTo>
                    <a:pt x="2401" y="574"/>
                  </a:lnTo>
                  <a:lnTo>
                    <a:pt x="2462" y="565"/>
                  </a:lnTo>
                  <a:lnTo>
                    <a:pt x="2523" y="556"/>
                  </a:lnTo>
                  <a:lnTo>
                    <a:pt x="2584" y="547"/>
                  </a:lnTo>
                  <a:lnTo>
                    <a:pt x="2645" y="536"/>
                  </a:lnTo>
                  <a:lnTo>
                    <a:pt x="2705" y="525"/>
                  </a:lnTo>
                  <a:lnTo>
                    <a:pt x="2765" y="513"/>
                  </a:lnTo>
                  <a:lnTo>
                    <a:pt x="2826" y="501"/>
                  </a:lnTo>
                  <a:lnTo>
                    <a:pt x="2886" y="488"/>
                  </a:lnTo>
                  <a:lnTo>
                    <a:pt x="2946" y="474"/>
                  </a:lnTo>
                  <a:lnTo>
                    <a:pt x="3005" y="460"/>
                  </a:lnTo>
                  <a:lnTo>
                    <a:pt x="3065" y="445"/>
                  </a:lnTo>
                  <a:lnTo>
                    <a:pt x="3123" y="430"/>
                  </a:lnTo>
                  <a:lnTo>
                    <a:pt x="3182" y="414"/>
                  </a:lnTo>
                  <a:lnTo>
                    <a:pt x="3241" y="397"/>
                  </a:lnTo>
                  <a:lnTo>
                    <a:pt x="3300" y="380"/>
                  </a:lnTo>
                  <a:lnTo>
                    <a:pt x="3358" y="361"/>
                  </a:lnTo>
                  <a:lnTo>
                    <a:pt x="3416" y="343"/>
                  </a:lnTo>
                  <a:lnTo>
                    <a:pt x="3474" y="323"/>
                  </a:lnTo>
                  <a:lnTo>
                    <a:pt x="3531" y="303"/>
                  </a:lnTo>
                  <a:lnTo>
                    <a:pt x="3589" y="282"/>
                  </a:lnTo>
                  <a:lnTo>
                    <a:pt x="3645" y="261"/>
                  </a:lnTo>
                  <a:lnTo>
                    <a:pt x="3703" y="238"/>
                  </a:lnTo>
                  <a:lnTo>
                    <a:pt x="3759" y="216"/>
                  </a:lnTo>
                  <a:lnTo>
                    <a:pt x="3816" y="192"/>
                  </a:lnTo>
                  <a:lnTo>
                    <a:pt x="3871" y="168"/>
                  </a:lnTo>
                  <a:lnTo>
                    <a:pt x="3928" y="142"/>
                  </a:lnTo>
                  <a:lnTo>
                    <a:pt x="3983" y="117"/>
                  </a:lnTo>
                  <a:lnTo>
                    <a:pt x="4038" y="91"/>
                  </a:lnTo>
                  <a:lnTo>
                    <a:pt x="4093" y="63"/>
                  </a:lnTo>
                  <a:lnTo>
                    <a:pt x="4148" y="35"/>
                  </a:lnTo>
                  <a:lnTo>
                    <a:pt x="4155" y="32"/>
                  </a:lnTo>
                  <a:lnTo>
                    <a:pt x="4160" y="27"/>
                  </a:lnTo>
                  <a:lnTo>
                    <a:pt x="4163" y="20"/>
                  </a:lnTo>
                  <a:lnTo>
                    <a:pt x="4161" y="12"/>
                  </a:lnTo>
                  <a:lnTo>
                    <a:pt x="4158" y="7"/>
                  </a:lnTo>
                  <a:lnTo>
                    <a:pt x="4153" y="2"/>
                  </a:lnTo>
                  <a:lnTo>
                    <a:pt x="4146" y="0"/>
                  </a:lnTo>
                  <a:lnTo>
                    <a:pt x="4140" y="0"/>
                  </a:lnTo>
                  <a:lnTo>
                    <a:pt x="4104" y="12"/>
                  </a:lnTo>
                  <a:lnTo>
                    <a:pt x="4069" y="25"/>
                  </a:lnTo>
                  <a:lnTo>
                    <a:pt x="4035" y="38"/>
                  </a:lnTo>
                  <a:lnTo>
                    <a:pt x="3999" y="50"/>
                  </a:lnTo>
                  <a:lnTo>
                    <a:pt x="3964" y="63"/>
                  </a:lnTo>
                  <a:lnTo>
                    <a:pt x="3930" y="76"/>
                  </a:lnTo>
                  <a:lnTo>
                    <a:pt x="3895" y="89"/>
                  </a:lnTo>
                  <a:lnTo>
                    <a:pt x="3861" y="102"/>
                  </a:lnTo>
                  <a:lnTo>
                    <a:pt x="3826" y="116"/>
                  </a:lnTo>
                  <a:lnTo>
                    <a:pt x="3792" y="129"/>
                  </a:lnTo>
                  <a:lnTo>
                    <a:pt x="3757" y="141"/>
                  </a:lnTo>
                  <a:lnTo>
                    <a:pt x="3723" y="155"/>
                  </a:lnTo>
                  <a:lnTo>
                    <a:pt x="3688" y="168"/>
                  </a:lnTo>
                  <a:lnTo>
                    <a:pt x="3653" y="182"/>
                  </a:lnTo>
                  <a:lnTo>
                    <a:pt x="3619" y="194"/>
                  </a:lnTo>
                  <a:lnTo>
                    <a:pt x="3583" y="207"/>
                  </a:lnTo>
                  <a:lnTo>
                    <a:pt x="3549" y="220"/>
                  </a:lnTo>
                  <a:lnTo>
                    <a:pt x="3514" y="232"/>
                  </a:lnTo>
                  <a:lnTo>
                    <a:pt x="3478" y="245"/>
                  </a:lnTo>
                  <a:lnTo>
                    <a:pt x="3444" y="256"/>
                  </a:lnTo>
                  <a:lnTo>
                    <a:pt x="3408" y="269"/>
                  </a:lnTo>
                  <a:lnTo>
                    <a:pt x="3372" y="281"/>
                  </a:lnTo>
                  <a:lnTo>
                    <a:pt x="3337" y="292"/>
                  </a:lnTo>
                  <a:lnTo>
                    <a:pt x="3301" y="304"/>
                  </a:lnTo>
                  <a:lnTo>
                    <a:pt x="3265" y="315"/>
                  </a:lnTo>
                  <a:lnTo>
                    <a:pt x="3228" y="326"/>
                  </a:lnTo>
                  <a:lnTo>
                    <a:pt x="3193" y="336"/>
                  </a:lnTo>
                  <a:lnTo>
                    <a:pt x="3156" y="346"/>
                  </a:lnTo>
                  <a:lnTo>
                    <a:pt x="3119" y="356"/>
                  </a:lnTo>
                  <a:lnTo>
                    <a:pt x="3081" y="366"/>
                  </a:lnTo>
                  <a:lnTo>
                    <a:pt x="3044" y="375"/>
                  </a:lnTo>
                  <a:lnTo>
                    <a:pt x="3006" y="383"/>
                  </a:lnTo>
                  <a:lnTo>
                    <a:pt x="2959" y="394"/>
                  </a:lnTo>
                  <a:lnTo>
                    <a:pt x="2913" y="404"/>
                  </a:lnTo>
                  <a:lnTo>
                    <a:pt x="2865" y="414"/>
                  </a:lnTo>
                  <a:lnTo>
                    <a:pt x="2819" y="423"/>
                  </a:lnTo>
                  <a:lnTo>
                    <a:pt x="2774" y="434"/>
                  </a:lnTo>
                  <a:lnTo>
                    <a:pt x="2728" y="443"/>
                  </a:lnTo>
                  <a:lnTo>
                    <a:pt x="2683" y="452"/>
                  </a:lnTo>
                  <a:lnTo>
                    <a:pt x="2637" y="461"/>
                  </a:lnTo>
                  <a:lnTo>
                    <a:pt x="2592" y="470"/>
                  </a:lnTo>
                  <a:lnTo>
                    <a:pt x="2546" y="479"/>
                  </a:lnTo>
                  <a:lnTo>
                    <a:pt x="2501" y="486"/>
                  </a:lnTo>
                  <a:lnTo>
                    <a:pt x="2455" y="494"/>
                  </a:lnTo>
                  <a:lnTo>
                    <a:pt x="2410" y="501"/>
                  </a:lnTo>
                  <a:lnTo>
                    <a:pt x="2364" y="506"/>
                  </a:lnTo>
                  <a:lnTo>
                    <a:pt x="2318" y="512"/>
                  </a:lnTo>
                  <a:lnTo>
                    <a:pt x="2271" y="518"/>
                  </a:lnTo>
                  <a:lnTo>
                    <a:pt x="2231" y="523"/>
                  </a:lnTo>
                  <a:lnTo>
                    <a:pt x="2191" y="527"/>
                  </a:lnTo>
                  <a:lnTo>
                    <a:pt x="2151" y="532"/>
                  </a:lnTo>
                  <a:lnTo>
                    <a:pt x="2112" y="536"/>
                  </a:lnTo>
                  <a:lnTo>
                    <a:pt x="2073" y="541"/>
                  </a:lnTo>
                  <a:lnTo>
                    <a:pt x="2032" y="547"/>
                  </a:lnTo>
                  <a:lnTo>
                    <a:pt x="1993" y="551"/>
                  </a:lnTo>
                  <a:lnTo>
                    <a:pt x="1954" y="557"/>
                  </a:lnTo>
                  <a:lnTo>
                    <a:pt x="1915" y="562"/>
                  </a:lnTo>
                  <a:lnTo>
                    <a:pt x="1876" y="567"/>
                  </a:lnTo>
                  <a:lnTo>
                    <a:pt x="1835" y="572"/>
                  </a:lnTo>
                  <a:lnTo>
                    <a:pt x="1796" y="577"/>
                  </a:lnTo>
                  <a:lnTo>
                    <a:pt x="1757" y="582"/>
                  </a:lnTo>
                  <a:lnTo>
                    <a:pt x="1718" y="587"/>
                  </a:lnTo>
                  <a:lnTo>
                    <a:pt x="1679" y="592"/>
                  </a:lnTo>
                  <a:lnTo>
                    <a:pt x="1640" y="595"/>
                  </a:lnTo>
                  <a:lnTo>
                    <a:pt x="1599" y="600"/>
                  </a:lnTo>
                  <a:lnTo>
                    <a:pt x="1560" y="603"/>
                  </a:lnTo>
                  <a:lnTo>
                    <a:pt x="1521" y="607"/>
                  </a:lnTo>
                  <a:lnTo>
                    <a:pt x="1482" y="610"/>
                  </a:lnTo>
                  <a:lnTo>
                    <a:pt x="1443" y="614"/>
                  </a:lnTo>
                  <a:lnTo>
                    <a:pt x="1402" y="616"/>
                  </a:lnTo>
                  <a:lnTo>
                    <a:pt x="1363" y="618"/>
                  </a:lnTo>
                  <a:lnTo>
                    <a:pt x="1324" y="619"/>
                  </a:lnTo>
                  <a:lnTo>
                    <a:pt x="1284" y="620"/>
                  </a:lnTo>
                  <a:lnTo>
                    <a:pt x="1244" y="622"/>
                  </a:lnTo>
                  <a:lnTo>
                    <a:pt x="1204" y="622"/>
                  </a:lnTo>
                  <a:lnTo>
                    <a:pt x="1165" y="622"/>
                  </a:lnTo>
                  <a:lnTo>
                    <a:pt x="1125" y="620"/>
                  </a:lnTo>
                  <a:lnTo>
                    <a:pt x="1085" y="618"/>
                  </a:lnTo>
                  <a:lnTo>
                    <a:pt x="1045" y="617"/>
                  </a:lnTo>
                  <a:lnTo>
                    <a:pt x="1005" y="614"/>
                  </a:lnTo>
                  <a:lnTo>
                    <a:pt x="973" y="611"/>
                  </a:lnTo>
                  <a:lnTo>
                    <a:pt x="941" y="608"/>
                  </a:lnTo>
                  <a:lnTo>
                    <a:pt x="909" y="605"/>
                  </a:lnTo>
                  <a:lnTo>
                    <a:pt x="878" y="602"/>
                  </a:lnTo>
                  <a:lnTo>
                    <a:pt x="846" y="600"/>
                  </a:lnTo>
                  <a:lnTo>
                    <a:pt x="814" y="596"/>
                  </a:lnTo>
                  <a:lnTo>
                    <a:pt x="783" y="593"/>
                  </a:lnTo>
                  <a:lnTo>
                    <a:pt x="750" y="589"/>
                  </a:lnTo>
                  <a:lnTo>
                    <a:pt x="719" y="586"/>
                  </a:lnTo>
                  <a:lnTo>
                    <a:pt x="688" y="582"/>
                  </a:lnTo>
                  <a:lnTo>
                    <a:pt x="656" y="578"/>
                  </a:lnTo>
                  <a:lnTo>
                    <a:pt x="625" y="574"/>
                  </a:lnTo>
                  <a:lnTo>
                    <a:pt x="594" y="570"/>
                  </a:lnTo>
                  <a:lnTo>
                    <a:pt x="561" y="565"/>
                  </a:lnTo>
                  <a:lnTo>
                    <a:pt x="530" y="561"/>
                  </a:lnTo>
                  <a:lnTo>
                    <a:pt x="499" y="555"/>
                  </a:lnTo>
                  <a:lnTo>
                    <a:pt x="468" y="550"/>
                  </a:lnTo>
                  <a:lnTo>
                    <a:pt x="437" y="544"/>
                  </a:lnTo>
                  <a:lnTo>
                    <a:pt x="406" y="539"/>
                  </a:lnTo>
                  <a:lnTo>
                    <a:pt x="375" y="533"/>
                  </a:lnTo>
                  <a:lnTo>
                    <a:pt x="344" y="526"/>
                  </a:lnTo>
                  <a:lnTo>
                    <a:pt x="312" y="519"/>
                  </a:lnTo>
                  <a:lnTo>
                    <a:pt x="281" y="512"/>
                  </a:lnTo>
                  <a:lnTo>
                    <a:pt x="251" y="504"/>
                  </a:lnTo>
                  <a:lnTo>
                    <a:pt x="220" y="497"/>
                  </a:lnTo>
                  <a:lnTo>
                    <a:pt x="189" y="489"/>
                  </a:lnTo>
                  <a:lnTo>
                    <a:pt x="159" y="480"/>
                  </a:lnTo>
                  <a:lnTo>
                    <a:pt x="128" y="472"/>
                  </a:lnTo>
                  <a:lnTo>
                    <a:pt x="98" y="461"/>
                  </a:lnTo>
                  <a:lnTo>
                    <a:pt x="67" y="452"/>
                  </a:lnTo>
                  <a:lnTo>
                    <a:pt x="37" y="442"/>
                  </a:lnTo>
                  <a:lnTo>
                    <a:pt x="7" y="432"/>
                  </a:lnTo>
                  <a:lnTo>
                    <a:pt x="7" y="432"/>
                  </a:lnTo>
                  <a:lnTo>
                    <a:pt x="5" y="432"/>
                  </a:lnTo>
                  <a:lnTo>
                    <a:pt x="3" y="433"/>
                  </a:lnTo>
                  <a:lnTo>
                    <a:pt x="1" y="435"/>
                  </a:lnTo>
                  <a:lnTo>
                    <a:pt x="0" y="436"/>
                  </a:lnTo>
                  <a:lnTo>
                    <a:pt x="0" y="438"/>
                  </a:lnTo>
                  <a:lnTo>
                    <a:pt x="1" y="440"/>
                  </a:lnTo>
                  <a:lnTo>
                    <a:pt x="3" y="441"/>
                  </a:lnTo>
                  <a:lnTo>
                    <a:pt x="4" y="442"/>
                  </a:lnTo>
                  <a:lnTo>
                    <a:pt x="4" y="44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49840" y="5191200"/>
              <a:ext cx="3106440" cy="884160"/>
            </a:xfrm>
            <a:custGeom>
              <a:avLst/>
              <a:gdLst/>
              <a:ahLst/>
              <a:rect l="l" t="t" r="r" b="b"/>
              <a:pathLst>
                <a:path w="3916" h="1113">
                  <a:moveTo>
                    <a:pt x="4" y="308"/>
                  </a:moveTo>
                  <a:lnTo>
                    <a:pt x="36" y="337"/>
                  </a:lnTo>
                  <a:lnTo>
                    <a:pt x="67" y="368"/>
                  </a:lnTo>
                  <a:lnTo>
                    <a:pt x="97" y="400"/>
                  </a:lnTo>
                  <a:lnTo>
                    <a:pt x="127" y="434"/>
                  </a:lnTo>
                  <a:lnTo>
                    <a:pt x="155" y="467"/>
                  </a:lnTo>
                  <a:lnTo>
                    <a:pt x="183" y="501"/>
                  </a:lnTo>
                  <a:lnTo>
                    <a:pt x="211" y="535"/>
                  </a:lnTo>
                  <a:lnTo>
                    <a:pt x="239" y="570"/>
                  </a:lnTo>
                  <a:lnTo>
                    <a:pt x="267" y="604"/>
                  </a:lnTo>
                  <a:lnTo>
                    <a:pt x="296" y="638"/>
                  </a:lnTo>
                  <a:lnTo>
                    <a:pt x="326" y="671"/>
                  </a:lnTo>
                  <a:lnTo>
                    <a:pt x="356" y="703"/>
                  </a:lnTo>
                  <a:lnTo>
                    <a:pt x="388" y="733"/>
                  </a:lnTo>
                  <a:lnTo>
                    <a:pt x="423" y="763"/>
                  </a:lnTo>
                  <a:lnTo>
                    <a:pt x="458" y="791"/>
                  </a:lnTo>
                  <a:lnTo>
                    <a:pt x="496" y="816"/>
                  </a:lnTo>
                  <a:lnTo>
                    <a:pt x="530" y="838"/>
                  </a:lnTo>
                  <a:lnTo>
                    <a:pt x="564" y="860"/>
                  </a:lnTo>
                  <a:lnTo>
                    <a:pt x="597" y="883"/>
                  </a:lnTo>
                  <a:lnTo>
                    <a:pt x="630" y="905"/>
                  </a:lnTo>
                  <a:lnTo>
                    <a:pt x="664" y="927"/>
                  </a:lnTo>
                  <a:lnTo>
                    <a:pt x="696" y="949"/>
                  </a:lnTo>
                  <a:lnTo>
                    <a:pt x="729" y="969"/>
                  </a:lnTo>
                  <a:lnTo>
                    <a:pt x="763" y="989"/>
                  </a:lnTo>
                  <a:lnTo>
                    <a:pt x="796" y="1009"/>
                  </a:lnTo>
                  <a:lnTo>
                    <a:pt x="831" y="1026"/>
                  </a:lnTo>
                  <a:lnTo>
                    <a:pt x="865" y="1042"/>
                  </a:lnTo>
                  <a:lnTo>
                    <a:pt x="901" y="1058"/>
                  </a:lnTo>
                  <a:lnTo>
                    <a:pt x="937" y="1071"/>
                  </a:lnTo>
                  <a:lnTo>
                    <a:pt x="975" y="1082"/>
                  </a:lnTo>
                  <a:lnTo>
                    <a:pt x="1013" y="1093"/>
                  </a:lnTo>
                  <a:lnTo>
                    <a:pt x="1052" y="1100"/>
                  </a:lnTo>
                  <a:lnTo>
                    <a:pt x="1076" y="1103"/>
                  </a:lnTo>
                  <a:lnTo>
                    <a:pt x="1102" y="1107"/>
                  </a:lnTo>
                  <a:lnTo>
                    <a:pt x="1126" y="1109"/>
                  </a:lnTo>
                  <a:lnTo>
                    <a:pt x="1150" y="1111"/>
                  </a:lnTo>
                  <a:lnTo>
                    <a:pt x="1174" y="1112"/>
                  </a:lnTo>
                  <a:lnTo>
                    <a:pt x="1198" y="1112"/>
                  </a:lnTo>
                  <a:lnTo>
                    <a:pt x="1222" y="1113"/>
                  </a:lnTo>
                  <a:lnTo>
                    <a:pt x="1247" y="1113"/>
                  </a:lnTo>
                  <a:lnTo>
                    <a:pt x="1271" y="1112"/>
                  </a:lnTo>
                  <a:lnTo>
                    <a:pt x="1295" y="1111"/>
                  </a:lnTo>
                  <a:lnTo>
                    <a:pt x="1318" y="1110"/>
                  </a:lnTo>
                  <a:lnTo>
                    <a:pt x="1342" y="1108"/>
                  </a:lnTo>
                  <a:lnTo>
                    <a:pt x="1367" y="1105"/>
                  </a:lnTo>
                  <a:lnTo>
                    <a:pt x="1390" y="1102"/>
                  </a:lnTo>
                  <a:lnTo>
                    <a:pt x="1414" y="1100"/>
                  </a:lnTo>
                  <a:lnTo>
                    <a:pt x="1437" y="1095"/>
                  </a:lnTo>
                  <a:lnTo>
                    <a:pt x="1461" y="1092"/>
                  </a:lnTo>
                  <a:lnTo>
                    <a:pt x="1484" y="1087"/>
                  </a:lnTo>
                  <a:lnTo>
                    <a:pt x="1507" y="1082"/>
                  </a:lnTo>
                  <a:lnTo>
                    <a:pt x="1531" y="1078"/>
                  </a:lnTo>
                  <a:lnTo>
                    <a:pt x="1554" y="1072"/>
                  </a:lnTo>
                  <a:lnTo>
                    <a:pt x="1577" y="1066"/>
                  </a:lnTo>
                  <a:lnTo>
                    <a:pt x="1600" y="1060"/>
                  </a:lnTo>
                  <a:lnTo>
                    <a:pt x="1625" y="1054"/>
                  </a:lnTo>
                  <a:lnTo>
                    <a:pt x="1648" y="1048"/>
                  </a:lnTo>
                  <a:lnTo>
                    <a:pt x="1671" y="1041"/>
                  </a:lnTo>
                  <a:lnTo>
                    <a:pt x="1694" y="1034"/>
                  </a:lnTo>
                  <a:lnTo>
                    <a:pt x="1717" y="1026"/>
                  </a:lnTo>
                  <a:lnTo>
                    <a:pt x="1740" y="1019"/>
                  </a:lnTo>
                  <a:lnTo>
                    <a:pt x="1763" y="1011"/>
                  </a:lnTo>
                  <a:lnTo>
                    <a:pt x="1786" y="1003"/>
                  </a:lnTo>
                  <a:lnTo>
                    <a:pt x="1809" y="995"/>
                  </a:lnTo>
                  <a:lnTo>
                    <a:pt x="1839" y="984"/>
                  </a:lnTo>
                  <a:lnTo>
                    <a:pt x="1868" y="974"/>
                  </a:lnTo>
                  <a:lnTo>
                    <a:pt x="1898" y="965"/>
                  </a:lnTo>
                  <a:lnTo>
                    <a:pt x="1928" y="956"/>
                  </a:lnTo>
                  <a:lnTo>
                    <a:pt x="1957" y="945"/>
                  </a:lnTo>
                  <a:lnTo>
                    <a:pt x="1987" y="937"/>
                  </a:lnTo>
                  <a:lnTo>
                    <a:pt x="2017" y="928"/>
                  </a:lnTo>
                  <a:lnTo>
                    <a:pt x="2047" y="920"/>
                  </a:lnTo>
                  <a:lnTo>
                    <a:pt x="2077" y="912"/>
                  </a:lnTo>
                  <a:lnTo>
                    <a:pt x="2107" y="904"/>
                  </a:lnTo>
                  <a:lnTo>
                    <a:pt x="2137" y="897"/>
                  </a:lnTo>
                  <a:lnTo>
                    <a:pt x="2168" y="890"/>
                  </a:lnTo>
                  <a:lnTo>
                    <a:pt x="2198" y="883"/>
                  </a:lnTo>
                  <a:lnTo>
                    <a:pt x="2228" y="876"/>
                  </a:lnTo>
                  <a:lnTo>
                    <a:pt x="2259" y="870"/>
                  </a:lnTo>
                  <a:lnTo>
                    <a:pt x="2289" y="865"/>
                  </a:lnTo>
                  <a:lnTo>
                    <a:pt x="2320" y="860"/>
                  </a:lnTo>
                  <a:lnTo>
                    <a:pt x="2350" y="854"/>
                  </a:lnTo>
                  <a:lnTo>
                    <a:pt x="2381" y="850"/>
                  </a:lnTo>
                  <a:lnTo>
                    <a:pt x="2413" y="846"/>
                  </a:lnTo>
                  <a:lnTo>
                    <a:pt x="2444" y="842"/>
                  </a:lnTo>
                  <a:lnTo>
                    <a:pt x="2474" y="838"/>
                  </a:lnTo>
                  <a:lnTo>
                    <a:pt x="2505" y="836"/>
                  </a:lnTo>
                  <a:lnTo>
                    <a:pt x="2536" y="832"/>
                  </a:lnTo>
                  <a:lnTo>
                    <a:pt x="2567" y="830"/>
                  </a:lnTo>
                  <a:lnTo>
                    <a:pt x="2598" y="829"/>
                  </a:lnTo>
                  <a:lnTo>
                    <a:pt x="2629" y="828"/>
                  </a:lnTo>
                  <a:lnTo>
                    <a:pt x="2660" y="827"/>
                  </a:lnTo>
                  <a:lnTo>
                    <a:pt x="2691" y="825"/>
                  </a:lnTo>
                  <a:lnTo>
                    <a:pt x="2724" y="825"/>
                  </a:lnTo>
                  <a:lnTo>
                    <a:pt x="2755" y="825"/>
                  </a:lnTo>
                  <a:lnTo>
                    <a:pt x="2786" y="827"/>
                  </a:lnTo>
                  <a:lnTo>
                    <a:pt x="2802" y="827"/>
                  </a:lnTo>
                  <a:lnTo>
                    <a:pt x="2818" y="825"/>
                  </a:lnTo>
                  <a:lnTo>
                    <a:pt x="2833" y="823"/>
                  </a:lnTo>
                  <a:lnTo>
                    <a:pt x="2849" y="820"/>
                  </a:lnTo>
                  <a:lnTo>
                    <a:pt x="2864" y="815"/>
                  </a:lnTo>
                  <a:lnTo>
                    <a:pt x="2880" y="809"/>
                  </a:lnTo>
                  <a:lnTo>
                    <a:pt x="2894" y="802"/>
                  </a:lnTo>
                  <a:lnTo>
                    <a:pt x="2909" y="794"/>
                  </a:lnTo>
                  <a:lnTo>
                    <a:pt x="2959" y="764"/>
                  </a:lnTo>
                  <a:lnTo>
                    <a:pt x="3005" y="732"/>
                  </a:lnTo>
                  <a:lnTo>
                    <a:pt x="3050" y="698"/>
                  </a:lnTo>
                  <a:lnTo>
                    <a:pt x="3093" y="663"/>
                  </a:lnTo>
                  <a:lnTo>
                    <a:pt x="3136" y="627"/>
                  </a:lnTo>
                  <a:lnTo>
                    <a:pt x="3176" y="589"/>
                  </a:lnTo>
                  <a:lnTo>
                    <a:pt x="3217" y="552"/>
                  </a:lnTo>
                  <a:lnTo>
                    <a:pt x="3257" y="513"/>
                  </a:lnTo>
                  <a:lnTo>
                    <a:pt x="3297" y="475"/>
                  </a:lnTo>
                  <a:lnTo>
                    <a:pt x="3338" y="437"/>
                  </a:lnTo>
                  <a:lnTo>
                    <a:pt x="3378" y="398"/>
                  </a:lnTo>
                  <a:lnTo>
                    <a:pt x="3419" y="361"/>
                  </a:lnTo>
                  <a:lnTo>
                    <a:pt x="3462" y="323"/>
                  </a:lnTo>
                  <a:lnTo>
                    <a:pt x="3507" y="288"/>
                  </a:lnTo>
                  <a:lnTo>
                    <a:pt x="3553" y="252"/>
                  </a:lnTo>
                  <a:lnTo>
                    <a:pt x="3601" y="218"/>
                  </a:lnTo>
                  <a:lnTo>
                    <a:pt x="3620" y="207"/>
                  </a:lnTo>
                  <a:lnTo>
                    <a:pt x="3638" y="194"/>
                  </a:lnTo>
                  <a:lnTo>
                    <a:pt x="3657" y="183"/>
                  </a:lnTo>
                  <a:lnTo>
                    <a:pt x="3675" y="171"/>
                  </a:lnTo>
                  <a:lnTo>
                    <a:pt x="3694" y="160"/>
                  </a:lnTo>
                  <a:lnTo>
                    <a:pt x="3712" y="149"/>
                  </a:lnTo>
                  <a:lnTo>
                    <a:pt x="3730" y="138"/>
                  </a:lnTo>
                  <a:lnTo>
                    <a:pt x="3750" y="127"/>
                  </a:lnTo>
                  <a:lnTo>
                    <a:pt x="3769" y="116"/>
                  </a:lnTo>
                  <a:lnTo>
                    <a:pt x="3787" y="106"/>
                  </a:lnTo>
                  <a:lnTo>
                    <a:pt x="3805" y="95"/>
                  </a:lnTo>
                  <a:lnTo>
                    <a:pt x="3824" y="85"/>
                  </a:lnTo>
                  <a:lnTo>
                    <a:pt x="3842" y="74"/>
                  </a:lnTo>
                  <a:lnTo>
                    <a:pt x="3861" y="64"/>
                  </a:lnTo>
                  <a:lnTo>
                    <a:pt x="3879" y="54"/>
                  </a:lnTo>
                  <a:lnTo>
                    <a:pt x="3898" y="43"/>
                  </a:lnTo>
                  <a:lnTo>
                    <a:pt x="3908" y="39"/>
                  </a:lnTo>
                  <a:lnTo>
                    <a:pt x="3915" y="34"/>
                  </a:lnTo>
                  <a:lnTo>
                    <a:pt x="3916" y="27"/>
                  </a:lnTo>
                  <a:lnTo>
                    <a:pt x="3914" y="18"/>
                  </a:lnTo>
                  <a:lnTo>
                    <a:pt x="3910" y="12"/>
                  </a:lnTo>
                  <a:lnTo>
                    <a:pt x="3906" y="8"/>
                  </a:lnTo>
                  <a:lnTo>
                    <a:pt x="3901" y="4"/>
                  </a:lnTo>
                  <a:lnTo>
                    <a:pt x="3896" y="2"/>
                  </a:lnTo>
                  <a:lnTo>
                    <a:pt x="3891" y="0"/>
                  </a:lnTo>
                  <a:lnTo>
                    <a:pt x="3885" y="0"/>
                  </a:lnTo>
                  <a:lnTo>
                    <a:pt x="3878" y="1"/>
                  </a:lnTo>
                  <a:lnTo>
                    <a:pt x="3872" y="3"/>
                  </a:lnTo>
                  <a:lnTo>
                    <a:pt x="3817" y="20"/>
                  </a:lnTo>
                  <a:lnTo>
                    <a:pt x="3763" y="41"/>
                  </a:lnTo>
                  <a:lnTo>
                    <a:pt x="3712" y="64"/>
                  </a:lnTo>
                  <a:lnTo>
                    <a:pt x="3661" y="89"/>
                  </a:lnTo>
                  <a:lnTo>
                    <a:pt x="3613" y="118"/>
                  </a:lnTo>
                  <a:lnTo>
                    <a:pt x="3566" y="149"/>
                  </a:lnTo>
                  <a:lnTo>
                    <a:pt x="3520" y="182"/>
                  </a:lnTo>
                  <a:lnTo>
                    <a:pt x="3475" y="215"/>
                  </a:lnTo>
                  <a:lnTo>
                    <a:pt x="3431" y="251"/>
                  </a:lnTo>
                  <a:lnTo>
                    <a:pt x="3387" y="288"/>
                  </a:lnTo>
                  <a:lnTo>
                    <a:pt x="3345" y="326"/>
                  </a:lnTo>
                  <a:lnTo>
                    <a:pt x="3302" y="365"/>
                  </a:lnTo>
                  <a:lnTo>
                    <a:pt x="3259" y="404"/>
                  </a:lnTo>
                  <a:lnTo>
                    <a:pt x="3217" y="443"/>
                  </a:lnTo>
                  <a:lnTo>
                    <a:pt x="3173" y="482"/>
                  </a:lnTo>
                  <a:lnTo>
                    <a:pt x="3130" y="521"/>
                  </a:lnTo>
                  <a:lnTo>
                    <a:pt x="3111" y="539"/>
                  </a:lnTo>
                  <a:lnTo>
                    <a:pt x="3091" y="556"/>
                  </a:lnTo>
                  <a:lnTo>
                    <a:pt x="3072" y="574"/>
                  </a:lnTo>
                  <a:lnTo>
                    <a:pt x="3052" y="592"/>
                  </a:lnTo>
                  <a:lnTo>
                    <a:pt x="3032" y="609"/>
                  </a:lnTo>
                  <a:lnTo>
                    <a:pt x="3013" y="626"/>
                  </a:lnTo>
                  <a:lnTo>
                    <a:pt x="2992" y="642"/>
                  </a:lnTo>
                  <a:lnTo>
                    <a:pt x="2972" y="658"/>
                  </a:lnTo>
                  <a:lnTo>
                    <a:pt x="2951" y="673"/>
                  </a:lnTo>
                  <a:lnTo>
                    <a:pt x="2930" y="687"/>
                  </a:lnTo>
                  <a:lnTo>
                    <a:pt x="2908" y="700"/>
                  </a:lnTo>
                  <a:lnTo>
                    <a:pt x="2885" y="713"/>
                  </a:lnTo>
                  <a:lnTo>
                    <a:pt x="2862" y="723"/>
                  </a:lnTo>
                  <a:lnTo>
                    <a:pt x="2838" y="731"/>
                  </a:lnTo>
                  <a:lnTo>
                    <a:pt x="2812" y="738"/>
                  </a:lnTo>
                  <a:lnTo>
                    <a:pt x="2787" y="744"/>
                  </a:lnTo>
                  <a:lnTo>
                    <a:pt x="2747" y="741"/>
                  </a:lnTo>
                  <a:lnTo>
                    <a:pt x="2706" y="740"/>
                  </a:lnTo>
                  <a:lnTo>
                    <a:pt x="2666" y="740"/>
                  </a:lnTo>
                  <a:lnTo>
                    <a:pt x="2626" y="741"/>
                  </a:lnTo>
                  <a:lnTo>
                    <a:pt x="2585" y="743"/>
                  </a:lnTo>
                  <a:lnTo>
                    <a:pt x="2545" y="746"/>
                  </a:lnTo>
                  <a:lnTo>
                    <a:pt x="2506" y="748"/>
                  </a:lnTo>
                  <a:lnTo>
                    <a:pt x="2466" y="753"/>
                  </a:lnTo>
                  <a:lnTo>
                    <a:pt x="2426" y="758"/>
                  </a:lnTo>
                  <a:lnTo>
                    <a:pt x="2386" y="763"/>
                  </a:lnTo>
                  <a:lnTo>
                    <a:pt x="2347" y="769"/>
                  </a:lnTo>
                  <a:lnTo>
                    <a:pt x="2308" y="776"/>
                  </a:lnTo>
                  <a:lnTo>
                    <a:pt x="2269" y="783"/>
                  </a:lnTo>
                  <a:lnTo>
                    <a:pt x="2229" y="791"/>
                  </a:lnTo>
                  <a:lnTo>
                    <a:pt x="2190" y="799"/>
                  </a:lnTo>
                  <a:lnTo>
                    <a:pt x="2151" y="808"/>
                  </a:lnTo>
                  <a:lnTo>
                    <a:pt x="2112" y="817"/>
                  </a:lnTo>
                  <a:lnTo>
                    <a:pt x="2073" y="828"/>
                  </a:lnTo>
                  <a:lnTo>
                    <a:pt x="2034" y="837"/>
                  </a:lnTo>
                  <a:lnTo>
                    <a:pt x="1994" y="849"/>
                  </a:lnTo>
                  <a:lnTo>
                    <a:pt x="1955" y="859"/>
                  </a:lnTo>
                  <a:lnTo>
                    <a:pt x="1917" y="870"/>
                  </a:lnTo>
                  <a:lnTo>
                    <a:pt x="1878" y="882"/>
                  </a:lnTo>
                  <a:lnTo>
                    <a:pt x="1839" y="893"/>
                  </a:lnTo>
                  <a:lnTo>
                    <a:pt x="1801" y="905"/>
                  </a:lnTo>
                  <a:lnTo>
                    <a:pt x="1762" y="916"/>
                  </a:lnTo>
                  <a:lnTo>
                    <a:pt x="1722" y="929"/>
                  </a:lnTo>
                  <a:lnTo>
                    <a:pt x="1684" y="941"/>
                  </a:lnTo>
                  <a:lnTo>
                    <a:pt x="1645" y="953"/>
                  </a:lnTo>
                  <a:lnTo>
                    <a:pt x="1606" y="966"/>
                  </a:lnTo>
                  <a:lnTo>
                    <a:pt x="1568" y="978"/>
                  </a:lnTo>
                  <a:lnTo>
                    <a:pt x="1529" y="990"/>
                  </a:lnTo>
                  <a:lnTo>
                    <a:pt x="1501" y="998"/>
                  </a:lnTo>
                  <a:lnTo>
                    <a:pt x="1474" y="1005"/>
                  </a:lnTo>
                  <a:lnTo>
                    <a:pt x="1445" y="1012"/>
                  </a:lnTo>
                  <a:lnTo>
                    <a:pt x="1417" y="1018"/>
                  </a:lnTo>
                  <a:lnTo>
                    <a:pt x="1388" y="1022"/>
                  </a:lnTo>
                  <a:lnTo>
                    <a:pt x="1361" y="1026"/>
                  </a:lnTo>
                  <a:lnTo>
                    <a:pt x="1332" y="1029"/>
                  </a:lnTo>
                  <a:lnTo>
                    <a:pt x="1303" y="1032"/>
                  </a:lnTo>
                  <a:lnTo>
                    <a:pt x="1275" y="1034"/>
                  </a:lnTo>
                  <a:lnTo>
                    <a:pt x="1247" y="1035"/>
                  </a:lnTo>
                  <a:lnTo>
                    <a:pt x="1218" y="1035"/>
                  </a:lnTo>
                  <a:lnTo>
                    <a:pt x="1189" y="1035"/>
                  </a:lnTo>
                  <a:lnTo>
                    <a:pt x="1160" y="1034"/>
                  </a:lnTo>
                  <a:lnTo>
                    <a:pt x="1131" y="1033"/>
                  </a:lnTo>
                  <a:lnTo>
                    <a:pt x="1103" y="1032"/>
                  </a:lnTo>
                  <a:lnTo>
                    <a:pt x="1074" y="1029"/>
                  </a:lnTo>
                  <a:lnTo>
                    <a:pt x="1042" y="1026"/>
                  </a:lnTo>
                  <a:lnTo>
                    <a:pt x="1011" y="1020"/>
                  </a:lnTo>
                  <a:lnTo>
                    <a:pt x="979" y="1013"/>
                  </a:lnTo>
                  <a:lnTo>
                    <a:pt x="949" y="1004"/>
                  </a:lnTo>
                  <a:lnTo>
                    <a:pt x="921" y="994"/>
                  </a:lnTo>
                  <a:lnTo>
                    <a:pt x="891" y="981"/>
                  </a:lnTo>
                  <a:lnTo>
                    <a:pt x="863" y="968"/>
                  </a:lnTo>
                  <a:lnTo>
                    <a:pt x="834" y="954"/>
                  </a:lnTo>
                  <a:lnTo>
                    <a:pt x="807" y="940"/>
                  </a:lnTo>
                  <a:lnTo>
                    <a:pt x="778" y="923"/>
                  </a:lnTo>
                  <a:lnTo>
                    <a:pt x="750" y="907"/>
                  </a:lnTo>
                  <a:lnTo>
                    <a:pt x="723" y="891"/>
                  </a:lnTo>
                  <a:lnTo>
                    <a:pt x="695" y="874"/>
                  </a:lnTo>
                  <a:lnTo>
                    <a:pt x="667" y="858"/>
                  </a:lnTo>
                  <a:lnTo>
                    <a:pt x="640" y="840"/>
                  </a:lnTo>
                  <a:lnTo>
                    <a:pt x="612" y="824"/>
                  </a:lnTo>
                  <a:lnTo>
                    <a:pt x="572" y="800"/>
                  </a:lnTo>
                  <a:lnTo>
                    <a:pt x="534" y="775"/>
                  </a:lnTo>
                  <a:lnTo>
                    <a:pt x="497" y="747"/>
                  </a:lnTo>
                  <a:lnTo>
                    <a:pt x="462" y="718"/>
                  </a:lnTo>
                  <a:lnTo>
                    <a:pt x="428" y="688"/>
                  </a:lnTo>
                  <a:lnTo>
                    <a:pt x="394" y="657"/>
                  </a:lnTo>
                  <a:lnTo>
                    <a:pt x="362" y="626"/>
                  </a:lnTo>
                  <a:lnTo>
                    <a:pt x="330" y="594"/>
                  </a:lnTo>
                  <a:lnTo>
                    <a:pt x="299" y="561"/>
                  </a:lnTo>
                  <a:lnTo>
                    <a:pt x="267" y="528"/>
                  </a:lnTo>
                  <a:lnTo>
                    <a:pt x="235" y="495"/>
                  </a:lnTo>
                  <a:lnTo>
                    <a:pt x="204" y="462"/>
                  </a:lnTo>
                  <a:lnTo>
                    <a:pt x="172" y="428"/>
                  </a:lnTo>
                  <a:lnTo>
                    <a:pt x="140" y="396"/>
                  </a:lnTo>
                  <a:lnTo>
                    <a:pt x="106" y="364"/>
                  </a:lnTo>
                  <a:lnTo>
                    <a:pt x="72" y="331"/>
                  </a:lnTo>
                  <a:lnTo>
                    <a:pt x="65" y="326"/>
                  </a:lnTo>
                  <a:lnTo>
                    <a:pt x="57" y="321"/>
                  </a:lnTo>
                  <a:lnTo>
                    <a:pt x="50" y="316"/>
                  </a:lnTo>
                  <a:lnTo>
                    <a:pt x="42" y="312"/>
                  </a:lnTo>
                  <a:lnTo>
                    <a:pt x="32" y="308"/>
                  </a:lnTo>
                  <a:lnTo>
                    <a:pt x="24" y="305"/>
                  </a:lnTo>
                  <a:lnTo>
                    <a:pt x="15" y="303"/>
                  </a:lnTo>
                  <a:lnTo>
                    <a:pt x="7" y="299"/>
                  </a:lnTo>
                  <a:lnTo>
                    <a:pt x="6" y="299"/>
                  </a:lnTo>
                  <a:lnTo>
                    <a:pt x="5" y="299"/>
                  </a:lnTo>
                  <a:lnTo>
                    <a:pt x="2" y="300"/>
                  </a:lnTo>
                  <a:lnTo>
                    <a:pt x="1" y="301"/>
                  </a:lnTo>
                  <a:lnTo>
                    <a:pt x="0" y="304"/>
                  </a:lnTo>
                  <a:lnTo>
                    <a:pt x="1" y="305"/>
                  </a:lnTo>
                  <a:lnTo>
                    <a:pt x="2" y="307"/>
                  </a:lnTo>
                  <a:lnTo>
                    <a:pt x="4" y="308"/>
                  </a:lnTo>
                  <a:lnTo>
                    <a:pt x="4" y="30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83160" y="2744640"/>
              <a:ext cx="1979640" cy="2324160"/>
            </a:xfrm>
            <a:custGeom>
              <a:avLst/>
              <a:gdLst/>
              <a:ahLst/>
              <a:rect l="l" t="t" r="r" b="b"/>
              <a:pathLst>
                <a:path w="2495" h="2928">
                  <a:moveTo>
                    <a:pt x="15" y="2801"/>
                  </a:moveTo>
                  <a:lnTo>
                    <a:pt x="66" y="2710"/>
                  </a:lnTo>
                  <a:lnTo>
                    <a:pt x="112" y="2617"/>
                  </a:lnTo>
                  <a:lnTo>
                    <a:pt x="152" y="2523"/>
                  </a:lnTo>
                  <a:lnTo>
                    <a:pt x="188" y="2427"/>
                  </a:lnTo>
                  <a:lnTo>
                    <a:pt x="219" y="2329"/>
                  </a:lnTo>
                  <a:lnTo>
                    <a:pt x="247" y="2230"/>
                  </a:lnTo>
                  <a:lnTo>
                    <a:pt x="270" y="2130"/>
                  </a:lnTo>
                  <a:lnTo>
                    <a:pt x="290" y="2029"/>
                  </a:lnTo>
                  <a:lnTo>
                    <a:pt x="309" y="1927"/>
                  </a:lnTo>
                  <a:lnTo>
                    <a:pt x="325" y="1825"/>
                  </a:lnTo>
                  <a:lnTo>
                    <a:pt x="340" y="1721"/>
                  </a:lnTo>
                  <a:lnTo>
                    <a:pt x="353" y="1617"/>
                  </a:lnTo>
                  <a:lnTo>
                    <a:pt x="365" y="1514"/>
                  </a:lnTo>
                  <a:lnTo>
                    <a:pt x="378" y="1410"/>
                  </a:lnTo>
                  <a:lnTo>
                    <a:pt x="391" y="1306"/>
                  </a:lnTo>
                  <a:lnTo>
                    <a:pt x="403" y="1203"/>
                  </a:lnTo>
                  <a:lnTo>
                    <a:pt x="414" y="1129"/>
                  </a:lnTo>
                  <a:lnTo>
                    <a:pt x="425" y="1055"/>
                  </a:lnTo>
                  <a:lnTo>
                    <a:pt x="438" y="982"/>
                  </a:lnTo>
                  <a:lnTo>
                    <a:pt x="451" y="909"/>
                  </a:lnTo>
                  <a:lnTo>
                    <a:pt x="464" y="838"/>
                  </a:lnTo>
                  <a:lnTo>
                    <a:pt x="479" y="765"/>
                  </a:lnTo>
                  <a:lnTo>
                    <a:pt x="493" y="692"/>
                  </a:lnTo>
                  <a:lnTo>
                    <a:pt x="508" y="621"/>
                  </a:lnTo>
                  <a:lnTo>
                    <a:pt x="522" y="550"/>
                  </a:lnTo>
                  <a:lnTo>
                    <a:pt x="536" y="478"/>
                  </a:lnTo>
                  <a:lnTo>
                    <a:pt x="548" y="406"/>
                  </a:lnTo>
                  <a:lnTo>
                    <a:pt x="561" y="334"/>
                  </a:lnTo>
                  <a:lnTo>
                    <a:pt x="573" y="262"/>
                  </a:lnTo>
                  <a:lnTo>
                    <a:pt x="583" y="189"/>
                  </a:lnTo>
                  <a:lnTo>
                    <a:pt x="592" y="116"/>
                  </a:lnTo>
                  <a:lnTo>
                    <a:pt x="599" y="44"/>
                  </a:lnTo>
                  <a:lnTo>
                    <a:pt x="599" y="42"/>
                  </a:lnTo>
                  <a:lnTo>
                    <a:pt x="600" y="37"/>
                  </a:lnTo>
                  <a:lnTo>
                    <a:pt x="601" y="34"/>
                  </a:lnTo>
                  <a:lnTo>
                    <a:pt x="604" y="31"/>
                  </a:lnTo>
                  <a:lnTo>
                    <a:pt x="607" y="31"/>
                  </a:lnTo>
                  <a:lnTo>
                    <a:pt x="610" y="34"/>
                  </a:lnTo>
                  <a:lnTo>
                    <a:pt x="611" y="35"/>
                  </a:lnTo>
                  <a:lnTo>
                    <a:pt x="611" y="36"/>
                  </a:lnTo>
                  <a:lnTo>
                    <a:pt x="626" y="96"/>
                  </a:lnTo>
                  <a:lnTo>
                    <a:pt x="641" y="156"/>
                  </a:lnTo>
                  <a:lnTo>
                    <a:pt x="658" y="214"/>
                  </a:lnTo>
                  <a:lnTo>
                    <a:pt x="675" y="273"/>
                  </a:lnTo>
                  <a:lnTo>
                    <a:pt x="694" y="331"/>
                  </a:lnTo>
                  <a:lnTo>
                    <a:pt x="714" y="388"/>
                  </a:lnTo>
                  <a:lnTo>
                    <a:pt x="735" y="446"/>
                  </a:lnTo>
                  <a:lnTo>
                    <a:pt x="758" y="502"/>
                  </a:lnTo>
                  <a:lnTo>
                    <a:pt x="781" y="560"/>
                  </a:lnTo>
                  <a:lnTo>
                    <a:pt x="807" y="615"/>
                  </a:lnTo>
                  <a:lnTo>
                    <a:pt x="832" y="672"/>
                  </a:lnTo>
                  <a:lnTo>
                    <a:pt x="860" y="727"/>
                  </a:lnTo>
                  <a:lnTo>
                    <a:pt x="888" y="782"/>
                  </a:lnTo>
                  <a:lnTo>
                    <a:pt x="918" y="836"/>
                  </a:lnTo>
                  <a:lnTo>
                    <a:pt x="949" y="892"/>
                  </a:lnTo>
                  <a:lnTo>
                    <a:pt x="982" y="946"/>
                  </a:lnTo>
                  <a:lnTo>
                    <a:pt x="1006" y="985"/>
                  </a:lnTo>
                  <a:lnTo>
                    <a:pt x="1031" y="1022"/>
                  </a:lnTo>
                  <a:lnTo>
                    <a:pt x="1058" y="1058"/>
                  </a:lnTo>
                  <a:lnTo>
                    <a:pt x="1084" y="1092"/>
                  </a:lnTo>
                  <a:lnTo>
                    <a:pt x="1112" y="1127"/>
                  </a:lnTo>
                  <a:lnTo>
                    <a:pt x="1141" y="1160"/>
                  </a:lnTo>
                  <a:lnTo>
                    <a:pt x="1169" y="1192"/>
                  </a:lnTo>
                  <a:lnTo>
                    <a:pt x="1198" y="1225"/>
                  </a:lnTo>
                  <a:lnTo>
                    <a:pt x="1228" y="1257"/>
                  </a:lnTo>
                  <a:lnTo>
                    <a:pt x="1258" y="1288"/>
                  </a:lnTo>
                  <a:lnTo>
                    <a:pt x="1288" y="1320"/>
                  </a:lnTo>
                  <a:lnTo>
                    <a:pt x="1319" y="1351"/>
                  </a:lnTo>
                  <a:lnTo>
                    <a:pt x="1349" y="1384"/>
                  </a:lnTo>
                  <a:lnTo>
                    <a:pt x="1380" y="1416"/>
                  </a:lnTo>
                  <a:lnTo>
                    <a:pt x="1410" y="1448"/>
                  </a:lnTo>
                  <a:lnTo>
                    <a:pt x="1440" y="1481"/>
                  </a:lnTo>
                  <a:lnTo>
                    <a:pt x="1469" y="1515"/>
                  </a:lnTo>
                  <a:lnTo>
                    <a:pt x="1499" y="1547"/>
                  </a:lnTo>
                  <a:lnTo>
                    <a:pt x="1528" y="1579"/>
                  </a:lnTo>
                  <a:lnTo>
                    <a:pt x="1557" y="1613"/>
                  </a:lnTo>
                  <a:lnTo>
                    <a:pt x="1585" y="1645"/>
                  </a:lnTo>
                  <a:lnTo>
                    <a:pt x="1613" y="1677"/>
                  </a:lnTo>
                  <a:lnTo>
                    <a:pt x="1642" y="1709"/>
                  </a:lnTo>
                  <a:lnTo>
                    <a:pt x="1671" y="1742"/>
                  </a:lnTo>
                  <a:lnTo>
                    <a:pt x="1698" y="1774"/>
                  </a:lnTo>
                  <a:lnTo>
                    <a:pt x="1727" y="1805"/>
                  </a:lnTo>
                  <a:lnTo>
                    <a:pt x="1755" y="1837"/>
                  </a:lnTo>
                  <a:lnTo>
                    <a:pt x="1782" y="1870"/>
                  </a:lnTo>
                  <a:lnTo>
                    <a:pt x="1811" y="1902"/>
                  </a:lnTo>
                  <a:lnTo>
                    <a:pt x="1839" y="1934"/>
                  </a:lnTo>
                  <a:lnTo>
                    <a:pt x="1866" y="1965"/>
                  </a:lnTo>
                  <a:lnTo>
                    <a:pt x="1894" y="1997"/>
                  </a:lnTo>
                  <a:lnTo>
                    <a:pt x="1923" y="2030"/>
                  </a:lnTo>
                  <a:lnTo>
                    <a:pt x="1951" y="2062"/>
                  </a:lnTo>
                  <a:lnTo>
                    <a:pt x="1978" y="2094"/>
                  </a:lnTo>
                  <a:lnTo>
                    <a:pt x="2006" y="2125"/>
                  </a:lnTo>
                  <a:lnTo>
                    <a:pt x="2033" y="2158"/>
                  </a:lnTo>
                  <a:lnTo>
                    <a:pt x="2062" y="2190"/>
                  </a:lnTo>
                  <a:lnTo>
                    <a:pt x="2090" y="2222"/>
                  </a:lnTo>
                  <a:lnTo>
                    <a:pt x="2118" y="2254"/>
                  </a:lnTo>
                  <a:lnTo>
                    <a:pt x="2146" y="2288"/>
                  </a:lnTo>
                  <a:lnTo>
                    <a:pt x="2174" y="2320"/>
                  </a:lnTo>
                  <a:lnTo>
                    <a:pt x="2202" y="2352"/>
                  </a:lnTo>
                  <a:lnTo>
                    <a:pt x="2230" y="2386"/>
                  </a:lnTo>
                  <a:lnTo>
                    <a:pt x="2259" y="2418"/>
                  </a:lnTo>
                  <a:lnTo>
                    <a:pt x="2287" y="2451"/>
                  </a:lnTo>
                  <a:lnTo>
                    <a:pt x="2316" y="2485"/>
                  </a:lnTo>
                  <a:lnTo>
                    <a:pt x="2345" y="2518"/>
                  </a:lnTo>
                  <a:lnTo>
                    <a:pt x="2353" y="2527"/>
                  </a:lnTo>
                  <a:lnTo>
                    <a:pt x="2362" y="2538"/>
                  </a:lnTo>
                  <a:lnTo>
                    <a:pt x="2371" y="2547"/>
                  </a:lnTo>
                  <a:lnTo>
                    <a:pt x="2379" y="2556"/>
                  </a:lnTo>
                  <a:lnTo>
                    <a:pt x="2386" y="2564"/>
                  </a:lnTo>
                  <a:lnTo>
                    <a:pt x="2392" y="2572"/>
                  </a:lnTo>
                  <a:lnTo>
                    <a:pt x="2395" y="2578"/>
                  </a:lnTo>
                  <a:lnTo>
                    <a:pt x="2396" y="2584"/>
                  </a:lnTo>
                  <a:lnTo>
                    <a:pt x="2393" y="2594"/>
                  </a:lnTo>
                  <a:lnTo>
                    <a:pt x="2381" y="2604"/>
                  </a:lnTo>
                  <a:lnTo>
                    <a:pt x="2365" y="2615"/>
                  </a:lnTo>
                  <a:lnTo>
                    <a:pt x="2343" y="2625"/>
                  </a:lnTo>
                  <a:lnTo>
                    <a:pt x="2316" y="2637"/>
                  </a:lnTo>
                  <a:lnTo>
                    <a:pt x="2285" y="2647"/>
                  </a:lnTo>
                  <a:lnTo>
                    <a:pt x="2251" y="2657"/>
                  </a:lnTo>
                  <a:lnTo>
                    <a:pt x="2214" y="2668"/>
                  </a:lnTo>
                  <a:lnTo>
                    <a:pt x="2175" y="2678"/>
                  </a:lnTo>
                  <a:lnTo>
                    <a:pt x="2135" y="2687"/>
                  </a:lnTo>
                  <a:lnTo>
                    <a:pt x="2093" y="2697"/>
                  </a:lnTo>
                  <a:lnTo>
                    <a:pt x="2053" y="2705"/>
                  </a:lnTo>
                  <a:lnTo>
                    <a:pt x="2013" y="2713"/>
                  </a:lnTo>
                  <a:lnTo>
                    <a:pt x="1974" y="2720"/>
                  </a:lnTo>
                  <a:lnTo>
                    <a:pt x="1937" y="2725"/>
                  </a:lnTo>
                  <a:lnTo>
                    <a:pt x="1903" y="2731"/>
                  </a:lnTo>
                  <a:lnTo>
                    <a:pt x="1871" y="2736"/>
                  </a:lnTo>
                  <a:lnTo>
                    <a:pt x="1839" y="2740"/>
                  </a:lnTo>
                  <a:lnTo>
                    <a:pt x="1807" y="2745"/>
                  </a:lnTo>
                  <a:lnTo>
                    <a:pt x="1775" y="2750"/>
                  </a:lnTo>
                  <a:lnTo>
                    <a:pt x="1743" y="2753"/>
                  </a:lnTo>
                  <a:lnTo>
                    <a:pt x="1711" y="2758"/>
                  </a:lnTo>
                  <a:lnTo>
                    <a:pt x="1680" y="2761"/>
                  </a:lnTo>
                  <a:lnTo>
                    <a:pt x="1648" y="2765"/>
                  </a:lnTo>
                  <a:lnTo>
                    <a:pt x="1616" y="2768"/>
                  </a:lnTo>
                  <a:lnTo>
                    <a:pt x="1584" y="2771"/>
                  </a:lnTo>
                  <a:lnTo>
                    <a:pt x="1553" y="2775"/>
                  </a:lnTo>
                  <a:lnTo>
                    <a:pt x="1521" y="2777"/>
                  </a:lnTo>
                  <a:lnTo>
                    <a:pt x="1490" y="2781"/>
                  </a:lnTo>
                  <a:lnTo>
                    <a:pt x="1459" y="2784"/>
                  </a:lnTo>
                  <a:lnTo>
                    <a:pt x="1426" y="2786"/>
                  </a:lnTo>
                  <a:lnTo>
                    <a:pt x="1395" y="2789"/>
                  </a:lnTo>
                  <a:lnTo>
                    <a:pt x="1364" y="2791"/>
                  </a:lnTo>
                  <a:lnTo>
                    <a:pt x="1332" y="2795"/>
                  </a:lnTo>
                  <a:lnTo>
                    <a:pt x="1301" y="2797"/>
                  </a:lnTo>
                  <a:lnTo>
                    <a:pt x="1270" y="2799"/>
                  </a:lnTo>
                  <a:lnTo>
                    <a:pt x="1237" y="2800"/>
                  </a:lnTo>
                  <a:lnTo>
                    <a:pt x="1206" y="2803"/>
                  </a:lnTo>
                  <a:lnTo>
                    <a:pt x="1174" y="2805"/>
                  </a:lnTo>
                  <a:lnTo>
                    <a:pt x="1143" y="2807"/>
                  </a:lnTo>
                  <a:lnTo>
                    <a:pt x="1112" y="2808"/>
                  </a:lnTo>
                  <a:lnTo>
                    <a:pt x="1080" y="2811"/>
                  </a:lnTo>
                  <a:lnTo>
                    <a:pt x="1048" y="2813"/>
                  </a:lnTo>
                  <a:lnTo>
                    <a:pt x="1016" y="2814"/>
                  </a:lnTo>
                  <a:lnTo>
                    <a:pt x="985" y="2816"/>
                  </a:lnTo>
                  <a:lnTo>
                    <a:pt x="953" y="2818"/>
                  </a:lnTo>
                  <a:lnTo>
                    <a:pt x="922" y="2820"/>
                  </a:lnTo>
                  <a:lnTo>
                    <a:pt x="889" y="2821"/>
                  </a:lnTo>
                  <a:lnTo>
                    <a:pt x="880" y="2821"/>
                  </a:lnTo>
                  <a:lnTo>
                    <a:pt x="871" y="2824"/>
                  </a:lnTo>
                  <a:lnTo>
                    <a:pt x="862" y="2828"/>
                  </a:lnTo>
                  <a:lnTo>
                    <a:pt x="855" y="2834"/>
                  </a:lnTo>
                  <a:lnTo>
                    <a:pt x="848" y="2841"/>
                  </a:lnTo>
                  <a:lnTo>
                    <a:pt x="843" y="2849"/>
                  </a:lnTo>
                  <a:lnTo>
                    <a:pt x="840" y="2858"/>
                  </a:lnTo>
                  <a:lnTo>
                    <a:pt x="839" y="2867"/>
                  </a:lnTo>
                  <a:lnTo>
                    <a:pt x="839" y="2876"/>
                  </a:lnTo>
                  <a:lnTo>
                    <a:pt x="842" y="2885"/>
                  </a:lnTo>
                  <a:lnTo>
                    <a:pt x="846" y="2895"/>
                  </a:lnTo>
                  <a:lnTo>
                    <a:pt x="851" y="2902"/>
                  </a:lnTo>
                  <a:lnTo>
                    <a:pt x="858" y="2909"/>
                  </a:lnTo>
                  <a:lnTo>
                    <a:pt x="866" y="2913"/>
                  </a:lnTo>
                  <a:lnTo>
                    <a:pt x="876" y="2917"/>
                  </a:lnTo>
                  <a:lnTo>
                    <a:pt x="885" y="2918"/>
                  </a:lnTo>
                  <a:lnTo>
                    <a:pt x="917" y="2921"/>
                  </a:lnTo>
                  <a:lnTo>
                    <a:pt x="951" y="2924"/>
                  </a:lnTo>
                  <a:lnTo>
                    <a:pt x="983" y="2926"/>
                  </a:lnTo>
                  <a:lnTo>
                    <a:pt x="1015" y="2927"/>
                  </a:lnTo>
                  <a:lnTo>
                    <a:pt x="1047" y="2928"/>
                  </a:lnTo>
                  <a:lnTo>
                    <a:pt x="1080" y="2928"/>
                  </a:lnTo>
                  <a:lnTo>
                    <a:pt x="1112" y="2928"/>
                  </a:lnTo>
                  <a:lnTo>
                    <a:pt x="1145" y="2928"/>
                  </a:lnTo>
                  <a:lnTo>
                    <a:pt x="1178" y="2927"/>
                  </a:lnTo>
                  <a:lnTo>
                    <a:pt x="1210" y="2926"/>
                  </a:lnTo>
                  <a:lnTo>
                    <a:pt x="1242" y="2924"/>
                  </a:lnTo>
                  <a:lnTo>
                    <a:pt x="1274" y="2922"/>
                  </a:lnTo>
                  <a:lnTo>
                    <a:pt x="1307" y="2919"/>
                  </a:lnTo>
                  <a:lnTo>
                    <a:pt x="1339" y="2917"/>
                  </a:lnTo>
                  <a:lnTo>
                    <a:pt x="1371" y="2913"/>
                  </a:lnTo>
                  <a:lnTo>
                    <a:pt x="1403" y="2910"/>
                  </a:lnTo>
                  <a:lnTo>
                    <a:pt x="1436" y="2906"/>
                  </a:lnTo>
                  <a:lnTo>
                    <a:pt x="1469" y="2903"/>
                  </a:lnTo>
                  <a:lnTo>
                    <a:pt x="1501" y="2898"/>
                  </a:lnTo>
                  <a:lnTo>
                    <a:pt x="1533" y="2894"/>
                  </a:lnTo>
                  <a:lnTo>
                    <a:pt x="1566" y="2889"/>
                  </a:lnTo>
                  <a:lnTo>
                    <a:pt x="1598" y="2884"/>
                  </a:lnTo>
                  <a:lnTo>
                    <a:pt x="1630" y="2880"/>
                  </a:lnTo>
                  <a:lnTo>
                    <a:pt x="1664" y="2875"/>
                  </a:lnTo>
                  <a:lnTo>
                    <a:pt x="1696" y="2871"/>
                  </a:lnTo>
                  <a:lnTo>
                    <a:pt x="1728" y="2865"/>
                  </a:lnTo>
                  <a:lnTo>
                    <a:pt x="1762" y="2860"/>
                  </a:lnTo>
                  <a:lnTo>
                    <a:pt x="1794" y="2854"/>
                  </a:lnTo>
                  <a:lnTo>
                    <a:pt x="1826" y="2850"/>
                  </a:lnTo>
                  <a:lnTo>
                    <a:pt x="1860" y="2845"/>
                  </a:lnTo>
                  <a:lnTo>
                    <a:pt x="1892" y="2839"/>
                  </a:lnTo>
                  <a:lnTo>
                    <a:pt x="1925" y="2835"/>
                  </a:lnTo>
                  <a:lnTo>
                    <a:pt x="1959" y="2830"/>
                  </a:lnTo>
                  <a:lnTo>
                    <a:pt x="1992" y="2824"/>
                  </a:lnTo>
                  <a:lnTo>
                    <a:pt x="2024" y="2818"/>
                  </a:lnTo>
                  <a:lnTo>
                    <a:pt x="2058" y="2812"/>
                  </a:lnTo>
                  <a:lnTo>
                    <a:pt x="2090" y="2805"/>
                  </a:lnTo>
                  <a:lnTo>
                    <a:pt x="2122" y="2797"/>
                  </a:lnTo>
                  <a:lnTo>
                    <a:pt x="2154" y="2789"/>
                  </a:lnTo>
                  <a:lnTo>
                    <a:pt x="2187" y="2780"/>
                  </a:lnTo>
                  <a:lnTo>
                    <a:pt x="2219" y="2770"/>
                  </a:lnTo>
                  <a:lnTo>
                    <a:pt x="2250" y="2760"/>
                  </a:lnTo>
                  <a:lnTo>
                    <a:pt x="2281" y="2750"/>
                  </a:lnTo>
                  <a:lnTo>
                    <a:pt x="2312" y="2737"/>
                  </a:lnTo>
                  <a:lnTo>
                    <a:pt x="2343" y="2724"/>
                  </a:lnTo>
                  <a:lnTo>
                    <a:pt x="2373" y="2712"/>
                  </a:lnTo>
                  <a:lnTo>
                    <a:pt x="2403" y="2697"/>
                  </a:lnTo>
                  <a:lnTo>
                    <a:pt x="2433" y="2682"/>
                  </a:lnTo>
                  <a:lnTo>
                    <a:pt x="2436" y="2680"/>
                  </a:lnTo>
                  <a:lnTo>
                    <a:pt x="2442" y="2676"/>
                  </a:lnTo>
                  <a:lnTo>
                    <a:pt x="2453" y="2668"/>
                  </a:lnTo>
                  <a:lnTo>
                    <a:pt x="2464" y="2657"/>
                  </a:lnTo>
                  <a:lnTo>
                    <a:pt x="2475" y="2644"/>
                  </a:lnTo>
                  <a:lnTo>
                    <a:pt x="2485" y="2629"/>
                  </a:lnTo>
                  <a:lnTo>
                    <a:pt x="2492" y="2610"/>
                  </a:lnTo>
                  <a:lnTo>
                    <a:pt x="2495" y="2589"/>
                  </a:lnTo>
                  <a:lnTo>
                    <a:pt x="2494" y="2576"/>
                  </a:lnTo>
                  <a:lnTo>
                    <a:pt x="2491" y="2558"/>
                  </a:lnTo>
                  <a:lnTo>
                    <a:pt x="2485" y="2540"/>
                  </a:lnTo>
                  <a:lnTo>
                    <a:pt x="2477" y="2520"/>
                  </a:lnTo>
                  <a:lnTo>
                    <a:pt x="2469" y="2501"/>
                  </a:lnTo>
                  <a:lnTo>
                    <a:pt x="2459" y="2482"/>
                  </a:lnTo>
                  <a:lnTo>
                    <a:pt x="2449" y="2465"/>
                  </a:lnTo>
                  <a:lnTo>
                    <a:pt x="2439" y="2450"/>
                  </a:lnTo>
                  <a:lnTo>
                    <a:pt x="2416" y="2420"/>
                  </a:lnTo>
                  <a:lnTo>
                    <a:pt x="2392" y="2391"/>
                  </a:lnTo>
                  <a:lnTo>
                    <a:pt x="2369" y="2361"/>
                  </a:lnTo>
                  <a:lnTo>
                    <a:pt x="2345" y="2334"/>
                  </a:lnTo>
                  <a:lnTo>
                    <a:pt x="2321" y="2305"/>
                  </a:lnTo>
                  <a:lnTo>
                    <a:pt x="2297" y="2276"/>
                  </a:lnTo>
                  <a:lnTo>
                    <a:pt x="2274" y="2249"/>
                  </a:lnTo>
                  <a:lnTo>
                    <a:pt x="2250" y="2221"/>
                  </a:lnTo>
                  <a:lnTo>
                    <a:pt x="2226" y="2193"/>
                  </a:lnTo>
                  <a:lnTo>
                    <a:pt x="2202" y="2166"/>
                  </a:lnTo>
                  <a:lnTo>
                    <a:pt x="2179" y="2139"/>
                  </a:lnTo>
                  <a:lnTo>
                    <a:pt x="2154" y="2111"/>
                  </a:lnTo>
                  <a:lnTo>
                    <a:pt x="2130" y="2085"/>
                  </a:lnTo>
                  <a:lnTo>
                    <a:pt x="2106" y="2058"/>
                  </a:lnTo>
                  <a:lnTo>
                    <a:pt x="2082" y="2032"/>
                  </a:lnTo>
                  <a:lnTo>
                    <a:pt x="2058" y="2004"/>
                  </a:lnTo>
                  <a:lnTo>
                    <a:pt x="2033" y="1978"/>
                  </a:lnTo>
                  <a:lnTo>
                    <a:pt x="2009" y="1951"/>
                  </a:lnTo>
                  <a:lnTo>
                    <a:pt x="1984" y="1925"/>
                  </a:lnTo>
                  <a:lnTo>
                    <a:pt x="1960" y="1898"/>
                  </a:lnTo>
                  <a:lnTo>
                    <a:pt x="1936" y="1872"/>
                  </a:lnTo>
                  <a:lnTo>
                    <a:pt x="1911" y="1845"/>
                  </a:lnTo>
                  <a:lnTo>
                    <a:pt x="1887" y="1819"/>
                  </a:lnTo>
                  <a:lnTo>
                    <a:pt x="1863" y="1791"/>
                  </a:lnTo>
                  <a:lnTo>
                    <a:pt x="1838" y="1765"/>
                  </a:lnTo>
                  <a:lnTo>
                    <a:pt x="1813" y="1737"/>
                  </a:lnTo>
                  <a:lnTo>
                    <a:pt x="1789" y="1709"/>
                  </a:lnTo>
                  <a:lnTo>
                    <a:pt x="1765" y="1683"/>
                  </a:lnTo>
                  <a:lnTo>
                    <a:pt x="1741" y="1654"/>
                  </a:lnTo>
                  <a:lnTo>
                    <a:pt x="1716" y="1627"/>
                  </a:lnTo>
                  <a:lnTo>
                    <a:pt x="1691" y="1599"/>
                  </a:lnTo>
                  <a:lnTo>
                    <a:pt x="1667" y="1570"/>
                  </a:lnTo>
                  <a:lnTo>
                    <a:pt x="1629" y="1526"/>
                  </a:lnTo>
                  <a:lnTo>
                    <a:pt x="1590" y="1484"/>
                  </a:lnTo>
                  <a:lnTo>
                    <a:pt x="1551" y="1443"/>
                  </a:lnTo>
                  <a:lnTo>
                    <a:pt x="1512" y="1403"/>
                  </a:lnTo>
                  <a:lnTo>
                    <a:pt x="1471" y="1363"/>
                  </a:lnTo>
                  <a:lnTo>
                    <a:pt x="1432" y="1324"/>
                  </a:lnTo>
                  <a:lnTo>
                    <a:pt x="1392" y="1284"/>
                  </a:lnTo>
                  <a:lnTo>
                    <a:pt x="1353" y="1245"/>
                  </a:lnTo>
                  <a:lnTo>
                    <a:pt x="1313" y="1206"/>
                  </a:lnTo>
                  <a:lnTo>
                    <a:pt x="1274" y="1167"/>
                  </a:lnTo>
                  <a:lnTo>
                    <a:pt x="1235" y="1125"/>
                  </a:lnTo>
                  <a:lnTo>
                    <a:pt x="1198" y="1084"/>
                  </a:lnTo>
                  <a:lnTo>
                    <a:pt x="1161" y="1040"/>
                  </a:lnTo>
                  <a:lnTo>
                    <a:pt x="1126" y="996"/>
                  </a:lnTo>
                  <a:lnTo>
                    <a:pt x="1090" y="949"/>
                  </a:lnTo>
                  <a:lnTo>
                    <a:pt x="1057" y="901"/>
                  </a:lnTo>
                  <a:lnTo>
                    <a:pt x="1023" y="849"/>
                  </a:lnTo>
                  <a:lnTo>
                    <a:pt x="991" y="797"/>
                  </a:lnTo>
                  <a:lnTo>
                    <a:pt x="959" y="747"/>
                  </a:lnTo>
                  <a:lnTo>
                    <a:pt x="929" y="695"/>
                  </a:lnTo>
                  <a:lnTo>
                    <a:pt x="900" y="643"/>
                  </a:lnTo>
                  <a:lnTo>
                    <a:pt x="871" y="591"/>
                  </a:lnTo>
                  <a:lnTo>
                    <a:pt x="845" y="538"/>
                  </a:lnTo>
                  <a:lnTo>
                    <a:pt x="819" y="486"/>
                  </a:lnTo>
                  <a:lnTo>
                    <a:pt x="794" y="433"/>
                  </a:lnTo>
                  <a:lnTo>
                    <a:pt x="771" y="380"/>
                  </a:lnTo>
                  <a:lnTo>
                    <a:pt x="748" y="326"/>
                  </a:lnTo>
                  <a:lnTo>
                    <a:pt x="727" y="272"/>
                  </a:lnTo>
                  <a:lnTo>
                    <a:pt x="707" y="217"/>
                  </a:lnTo>
                  <a:lnTo>
                    <a:pt x="688" y="161"/>
                  </a:lnTo>
                  <a:lnTo>
                    <a:pt x="671" y="105"/>
                  </a:lnTo>
                  <a:lnTo>
                    <a:pt x="654" y="49"/>
                  </a:lnTo>
                  <a:lnTo>
                    <a:pt x="653" y="43"/>
                  </a:lnTo>
                  <a:lnTo>
                    <a:pt x="648" y="30"/>
                  </a:lnTo>
                  <a:lnTo>
                    <a:pt x="640" y="16"/>
                  </a:lnTo>
                  <a:lnTo>
                    <a:pt x="629" y="6"/>
                  </a:lnTo>
                  <a:lnTo>
                    <a:pt x="625" y="5"/>
                  </a:lnTo>
                  <a:lnTo>
                    <a:pt x="619" y="4"/>
                  </a:lnTo>
                  <a:lnTo>
                    <a:pt x="614" y="2"/>
                  </a:lnTo>
                  <a:lnTo>
                    <a:pt x="610" y="1"/>
                  </a:lnTo>
                  <a:lnTo>
                    <a:pt x="605" y="1"/>
                  </a:lnTo>
                  <a:lnTo>
                    <a:pt x="600" y="0"/>
                  </a:lnTo>
                  <a:lnTo>
                    <a:pt x="596" y="1"/>
                  </a:lnTo>
                  <a:lnTo>
                    <a:pt x="592" y="1"/>
                  </a:lnTo>
                  <a:lnTo>
                    <a:pt x="581" y="5"/>
                  </a:lnTo>
                  <a:lnTo>
                    <a:pt x="573" y="9"/>
                  </a:lnTo>
                  <a:lnTo>
                    <a:pt x="568" y="16"/>
                  </a:lnTo>
                  <a:lnTo>
                    <a:pt x="565" y="24"/>
                  </a:lnTo>
                  <a:lnTo>
                    <a:pt x="542" y="125"/>
                  </a:lnTo>
                  <a:lnTo>
                    <a:pt x="520" y="224"/>
                  </a:lnTo>
                  <a:lnTo>
                    <a:pt x="499" y="322"/>
                  </a:lnTo>
                  <a:lnTo>
                    <a:pt x="477" y="418"/>
                  </a:lnTo>
                  <a:lnTo>
                    <a:pt x="456" y="515"/>
                  </a:lnTo>
                  <a:lnTo>
                    <a:pt x="434" y="613"/>
                  </a:lnTo>
                  <a:lnTo>
                    <a:pt x="413" y="712"/>
                  </a:lnTo>
                  <a:lnTo>
                    <a:pt x="391" y="813"/>
                  </a:lnTo>
                  <a:lnTo>
                    <a:pt x="380" y="862"/>
                  </a:lnTo>
                  <a:lnTo>
                    <a:pt x="371" y="910"/>
                  </a:lnTo>
                  <a:lnTo>
                    <a:pt x="363" y="957"/>
                  </a:lnTo>
                  <a:lnTo>
                    <a:pt x="355" y="1003"/>
                  </a:lnTo>
                  <a:lnTo>
                    <a:pt x="347" y="1051"/>
                  </a:lnTo>
                  <a:lnTo>
                    <a:pt x="340" y="1097"/>
                  </a:lnTo>
                  <a:lnTo>
                    <a:pt x="333" y="1144"/>
                  </a:lnTo>
                  <a:lnTo>
                    <a:pt x="326" y="1192"/>
                  </a:lnTo>
                  <a:lnTo>
                    <a:pt x="312" y="1295"/>
                  </a:lnTo>
                  <a:lnTo>
                    <a:pt x="301" y="1398"/>
                  </a:lnTo>
                  <a:lnTo>
                    <a:pt x="288" y="1501"/>
                  </a:lnTo>
                  <a:lnTo>
                    <a:pt x="277" y="1604"/>
                  </a:lnTo>
                  <a:lnTo>
                    <a:pt x="264" y="1706"/>
                  </a:lnTo>
                  <a:lnTo>
                    <a:pt x="251" y="1809"/>
                  </a:lnTo>
                  <a:lnTo>
                    <a:pt x="239" y="1910"/>
                  </a:lnTo>
                  <a:lnTo>
                    <a:pt x="222" y="2011"/>
                  </a:lnTo>
                  <a:lnTo>
                    <a:pt x="206" y="2111"/>
                  </a:lnTo>
                  <a:lnTo>
                    <a:pt x="187" y="2212"/>
                  </a:lnTo>
                  <a:lnTo>
                    <a:pt x="165" y="2311"/>
                  </a:lnTo>
                  <a:lnTo>
                    <a:pt x="140" y="2410"/>
                  </a:lnTo>
                  <a:lnTo>
                    <a:pt x="111" y="2507"/>
                  </a:lnTo>
                  <a:lnTo>
                    <a:pt x="78" y="2603"/>
                  </a:lnTo>
                  <a:lnTo>
                    <a:pt x="43" y="2699"/>
                  </a:lnTo>
                  <a:lnTo>
                    <a:pt x="1" y="2793"/>
                  </a:lnTo>
                  <a:lnTo>
                    <a:pt x="1" y="2793"/>
                  </a:lnTo>
                  <a:lnTo>
                    <a:pt x="0" y="2796"/>
                  </a:lnTo>
                  <a:lnTo>
                    <a:pt x="0" y="2799"/>
                  </a:lnTo>
                  <a:lnTo>
                    <a:pt x="1" y="2801"/>
                  </a:lnTo>
                  <a:lnTo>
                    <a:pt x="4" y="2804"/>
                  </a:lnTo>
                  <a:lnTo>
                    <a:pt x="7" y="2805"/>
                  </a:lnTo>
                  <a:lnTo>
                    <a:pt x="10" y="2805"/>
                  </a:lnTo>
                  <a:lnTo>
                    <a:pt x="13" y="2804"/>
                  </a:lnTo>
                  <a:lnTo>
                    <a:pt x="15" y="2801"/>
                  </a:lnTo>
                  <a:lnTo>
                    <a:pt x="15" y="280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ab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6680" y="4954680"/>
              <a:ext cx="449280" cy="600120"/>
            </a:xfrm>
            <a:custGeom>
              <a:avLst/>
              <a:gdLst/>
              <a:ahLst/>
              <a:rect l="l" t="t" r="r" b="b"/>
              <a:pathLst>
                <a:path w="567" h="756">
                  <a:moveTo>
                    <a:pt x="304" y="752"/>
                  </a:moveTo>
                  <a:lnTo>
                    <a:pt x="321" y="709"/>
                  </a:lnTo>
                  <a:lnTo>
                    <a:pt x="341" y="663"/>
                  </a:lnTo>
                  <a:lnTo>
                    <a:pt x="361" y="612"/>
                  </a:lnTo>
                  <a:lnTo>
                    <a:pt x="380" y="560"/>
                  </a:lnTo>
                  <a:lnTo>
                    <a:pt x="401" y="507"/>
                  </a:lnTo>
                  <a:lnTo>
                    <a:pt x="422" y="454"/>
                  </a:lnTo>
                  <a:lnTo>
                    <a:pt x="442" y="401"/>
                  </a:lnTo>
                  <a:lnTo>
                    <a:pt x="462" y="350"/>
                  </a:lnTo>
                  <a:lnTo>
                    <a:pt x="482" y="301"/>
                  </a:lnTo>
                  <a:lnTo>
                    <a:pt x="499" y="255"/>
                  </a:lnTo>
                  <a:lnTo>
                    <a:pt x="515" y="212"/>
                  </a:lnTo>
                  <a:lnTo>
                    <a:pt x="529" y="174"/>
                  </a:lnTo>
                  <a:lnTo>
                    <a:pt x="542" y="142"/>
                  </a:lnTo>
                  <a:lnTo>
                    <a:pt x="551" y="117"/>
                  </a:lnTo>
                  <a:lnTo>
                    <a:pt x="559" y="97"/>
                  </a:lnTo>
                  <a:lnTo>
                    <a:pt x="562" y="87"/>
                  </a:lnTo>
                  <a:lnTo>
                    <a:pt x="566" y="74"/>
                  </a:lnTo>
                  <a:lnTo>
                    <a:pt x="567" y="62"/>
                  </a:lnTo>
                  <a:lnTo>
                    <a:pt x="566" y="53"/>
                  </a:lnTo>
                  <a:lnTo>
                    <a:pt x="562" y="44"/>
                  </a:lnTo>
                  <a:lnTo>
                    <a:pt x="556" y="36"/>
                  </a:lnTo>
                  <a:lnTo>
                    <a:pt x="547" y="30"/>
                  </a:lnTo>
                  <a:lnTo>
                    <a:pt x="536" y="26"/>
                  </a:lnTo>
                  <a:lnTo>
                    <a:pt x="521" y="22"/>
                  </a:lnTo>
                  <a:lnTo>
                    <a:pt x="509" y="21"/>
                  </a:lnTo>
                  <a:lnTo>
                    <a:pt x="492" y="19"/>
                  </a:lnTo>
                  <a:lnTo>
                    <a:pt x="469" y="16"/>
                  </a:lnTo>
                  <a:lnTo>
                    <a:pt x="440" y="13"/>
                  </a:lnTo>
                  <a:lnTo>
                    <a:pt x="409" y="11"/>
                  </a:lnTo>
                  <a:lnTo>
                    <a:pt x="373" y="8"/>
                  </a:lnTo>
                  <a:lnTo>
                    <a:pt x="336" y="5"/>
                  </a:lnTo>
                  <a:lnTo>
                    <a:pt x="297" y="4"/>
                  </a:lnTo>
                  <a:lnTo>
                    <a:pt x="257" y="1"/>
                  </a:lnTo>
                  <a:lnTo>
                    <a:pt x="218" y="0"/>
                  </a:lnTo>
                  <a:lnTo>
                    <a:pt x="179" y="0"/>
                  </a:lnTo>
                  <a:lnTo>
                    <a:pt x="141" y="1"/>
                  </a:lnTo>
                  <a:lnTo>
                    <a:pt x="106" y="3"/>
                  </a:lnTo>
                  <a:lnTo>
                    <a:pt x="74" y="6"/>
                  </a:lnTo>
                  <a:lnTo>
                    <a:pt x="46" y="11"/>
                  </a:lnTo>
                  <a:lnTo>
                    <a:pt x="23" y="16"/>
                  </a:lnTo>
                  <a:lnTo>
                    <a:pt x="12" y="23"/>
                  </a:lnTo>
                  <a:lnTo>
                    <a:pt x="4" y="34"/>
                  </a:lnTo>
                  <a:lnTo>
                    <a:pt x="0" y="46"/>
                  </a:lnTo>
                  <a:lnTo>
                    <a:pt x="2" y="60"/>
                  </a:lnTo>
                  <a:lnTo>
                    <a:pt x="5" y="67"/>
                  </a:lnTo>
                  <a:lnTo>
                    <a:pt x="9" y="72"/>
                  </a:lnTo>
                  <a:lnTo>
                    <a:pt x="14" y="76"/>
                  </a:lnTo>
                  <a:lnTo>
                    <a:pt x="20" y="80"/>
                  </a:lnTo>
                  <a:lnTo>
                    <a:pt x="27" y="82"/>
                  </a:lnTo>
                  <a:lnTo>
                    <a:pt x="32" y="83"/>
                  </a:lnTo>
                  <a:lnTo>
                    <a:pt x="39" y="83"/>
                  </a:lnTo>
                  <a:lnTo>
                    <a:pt x="46" y="81"/>
                  </a:lnTo>
                  <a:lnTo>
                    <a:pt x="67" y="75"/>
                  </a:lnTo>
                  <a:lnTo>
                    <a:pt x="93" y="69"/>
                  </a:lnTo>
                  <a:lnTo>
                    <a:pt x="123" y="66"/>
                  </a:lnTo>
                  <a:lnTo>
                    <a:pt x="158" y="62"/>
                  </a:lnTo>
                  <a:lnTo>
                    <a:pt x="195" y="59"/>
                  </a:lnTo>
                  <a:lnTo>
                    <a:pt x="234" y="58"/>
                  </a:lnTo>
                  <a:lnTo>
                    <a:pt x="273" y="57"/>
                  </a:lnTo>
                  <a:lnTo>
                    <a:pt x="313" y="57"/>
                  </a:lnTo>
                  <a:lnTo>
                    <a:pt x="351" y="58"/>
                  </a:lnTo>
                  <a:lnTo>
                    <a:pt x="387" y="59"/>
                  </a:lnTo>
                  <a:lnTo>
                    <a:pt x="419" y="61"/>
                  </a:lnTo>
                  <a:lnTo>
                    <a:pt x="448" y="66"/>
                  </a:lnTo>
                  <a:lnTo>
                    <a:pt x="472" y="71"/>
                  </a:lnTo>
                  <a:lnTo>
                    <a:pt x="490" y="76"/>
                  </a:lnTo>
                  <a:lnTo>
                    <a:pt x="501" y="82"/>
                  </a:lnTo>
                  <a:lnTo>
                    <a:pt x="503" y="90"/>
                  </a:lnTo>
                  <a:lnTo>
                    <a:pt x="501" y="102"/>
                  </a:lnTo>
                  <a:lnTo>
                    <a:pt x="495" y="121"/>
                  </a:lnTo>
                  <a:lnTo>
                    <a:pt x="486" y="148"/>
                  </a:lnTo>
                  <a:lnTo>
                    <a:pt x="476" y="180"/>
                  </a:lnTo>
                  <a:lnTo>
                    <a:pt x="464" y="217"/>
                  </a:lnTo>
                  <a:lnTo>
                    <a:pt x="451" y="258"/>
                  </a:lnTo>
                  <a:lnTo>
                    <a:pt x="434" y="304"/>
                  </a:lnTo>
                  <a:lnTo>
                    <a:pt x="418" y="353"/>
                  </a:lnTo>
                  <a:lnTo>
                    <a:pt x="402" y="402"/>
                  </a:lnTo>
                  <a:lnTo>
                    <a:pt x="385" y="454"/>
                  </a:lnTo>
                  <a:lnTo>
                    <a:pt x="368" y="507"/>
                  </a:lnTo>
                  <a:lnTo>
                    <a:pt x="351" y="559"/>
                  </a:lnTo>
                  <a:lnTo>
                    <a:pt x="335" y="610"/>
                  </a:lnTo>
                  <a:lnTo>
                    <a:pt x="320" y="659"/>
                  </a:lnTo>
                  <a:lnTo>
                    <a:pt x="306" y="706"/>
                  </a:lnTo>
                  <a:lnTo>
                    <a:pt x="295" y="750"/>
                  </a:lnTo>
                  <a:lnTo>
                    <a:pt x="295" y="750"/>
                  </a:lnTo>
                  <a:lnTo>
                    <a:pt x="295" y="751"/>
                  </a:lnTo>
                  <a:lnTo>
                    <a:pt x="295" y="752"/>
                  </a:lnTo>
                  <a:lnTo>
                    <a:pt x="296" y="755"/>
                  </a:lnTo>
                  <a:lnTo>
                    <a:pt x="297" y="756"/>
                  </a:lnTo>
                  <a:lnTo>
                    <a:pt x="300" y="756"/>
                  </a:lnTo>
                  <a:lnTo>
                    <a:pt x="301" y="755"/>
                  </a:lnTo>
                  <a:lnTo>
                    <a:pt x="303" y="754"/>
                  </a:lnTo>
                  <a:lnTo>
                    <a:pt x="304" y="752"/>
                  </a:lnTo>
                  <a:lnTo>
                    <a:pt x="304" y="75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45200" y="5149800"/>
              <a:ext cx="293760" cy="270000"/>
            </a:xfrm>
            <a:custGeom>
              <a:avLst/>
              <a:gdLst/>
              <a:ahLst/>
              <a:rect l="l" t="t" r="r" b="b"/>
              <a:pathLst>
                <a:path w="369" h="340">
                  <a:moveTo>
                    <a:pt x="345" y="0"/>
                  </a:moveTo>
                  <a:lnTo>
                    <a:pt x="318" y="8"/>
                  </a:lnTo>
                  <a:lnTo>
                    <a:pt x="290" y="17"/>
                  </a:lnTo>
                  <a:lnTo>
                    <a:pt x="262" y="29"/>
                  </a:lnTo>
                  <a:lnTo>
                    <a:pt x="233" y="42"/>
                  </a:lnTo>
                  <a:lnTo>
                    <a:pt x="203" y="57"/>
                  </a:lnTo>
                  <a:lnTo>
                    <a:pt x="175" y="73"/>
                  </a:lnTo>
                  <a:lnTo>
                    <a:pt x="148" y="91"/>
                  </a:lnTo>
                  <a:lnTo>
                    <a:pt x="121" y="108"/>
                  </a:lnTo>
                  <a:lnTo>
                    <a:pt x="96" y="125"/>
                  </a:lnTo>
                  <a:lnTo>
                    <a:pt x="74" y="144"/>
                  </a:lnTo>
                  <a:lnTo>
                    <a:pt x="53" y="162"/>
                  </a:lnTo>
                  <a:lnTo>
                    <a:pt x="36" y="179"/>
                  </a:lnTo>
                  <a:lnTo>
                    <a:pt x="21" y="196"/>
                  </a:lnTo>
                  <a:lnTo>
                    <a:pt x="10" y="212"/>
                  </a:lnTo>
                  <a:lnTo>
                    <a:pt x="3" y="227"/>
                  </a:lnTo>
                  <a:lnTo>
                    <a:pt x="0" y="239"/>
                  </a:lnTo>
                  <a:lnTo>
                    <a:pt x="0" y="258"/>
                  </a:lnTo>
                  <a:lnTo>
                    <a:pt x="4" y="274"/>
                  </a:lnTo>
                  <a:lnTo>
                    <a:pt x="8" y="288"/>
                  </a:lnTo>
                  <a:lnTo>
                    <a:pt x="15" y="300"/>
                  </a:lnTo>
                  <a:lnTo>
                    <a:pt x="26" y="310"/>
                  </a:lnTo>
                  <a:lnTo>
                    <a:pt x="38" y="319"/>
                  </a:lnTo>
                  <a:lnTo>
                    <a:pt x="53" y="326"/>
                  </a:lnTo>
                  <a:lnTo>
                    <a:pt x="72" y="330"/>
                  </a:lnTo>
                  <a:lnTo>
                    <a:pt x="81" y="333"/>
                  </a:lnTo>
                  <a:lnTo>
                    <a:pt x="91" y="335"/>
                  </a:lnTo>
                  <a:lnTo>
                    <a:pt x="102" y="336"/>
                  </a:lnTo>
                  <a:lnTo>
                    <a:pt x="112" y="338"/>
                  </a:lnTo>
                  <a:lnTo>
                    <a:pt x="122" y="340"/>
                  </a:lnTo>
                  <a:lnTo>
                    <a:pt x="133" y="340"/>
                  </a:lnTo>
                  <a:lnTo>
                    <a:pt x="144" y="340"/>
                  </a:lnTo>
                  <a:lnTo>
                    <a:pt x="156" y="338"/>
                  </a:lnTo>
                  <a:lnTo>
                    <a:pt x="169" y="337"/>
                  </a:lnTo>
                  <a:lnTo>
                    <a:pt x="180" y="334"/>
                  </a:lnTo>
                  <a:lnTo>
                    <a:pt x="193" y="330"/>
                  </a:lnTo>
                  <a:lnTo>
                    <a:pt x="207" y="325"/>
                  </a:lnTo>
                  <a:lnTo>
                    <a:pt x="219" y="317"/>
                  </a:lnTo>
                  <a:lnTo>
                    <a:pt x="234" y="308"/>
                  </a:lnTo>
                  <a:lnTo>
                    <a:pt x="248" y="298"/>
                  </a:lnTo>
                  <a:lnTo>
                    <a:pt x="263" y="285"/>
                  </a:lnTo>
                  <a:lnTo>
                    <a:pt x="293" y="258"/>
                  </a:lnTo>
                  <a:lnTo>
                    <a:pt x="321" y="229"/>
                  </a:lnTo>
                  <a:lnTo>
                    <a:pt x="345" y="198"/>
                  </a:lnTo>
                  <a:lnTo>
                    <a:pt x="361" y="167"/>
                  </a:lnTo>
                  <a:lnTo>
                    <a:pt x="369" y="136"/>
                  </a:lnTo>
                  <a:lnTo>
                    <a:pt x="367" y="103"/>
                  </a:lnTo>
                  <a:lnTo>
                    <a:pt x="351" y="71"/>
                  </a:lnTo>
                  <a:lnTo>
                    <a:pt x="319" y="40"/>
                  </a:lnTo>
                  <a:lnTo>
                    <a:pt x="313" y="39"/>
                  </a:lnTo>
                  <a:lnTo>
                    <a:pt x="306" y="39"/>
                  </a:lnTo>
                  <a:lnTo>
                    <a:pt x="299" y="42"/>
                  </a:lnTo>
                  <a:lnTo>
                    <a:pt x="295" y="48"/>
                  </a:lnTo>
                  <a:lnTo>
                    <a:pt x="293" y="55"/>
                  </a:lnTo>
                  <a:lnTo>
                    <a:pt x="294" y="62"/>
                  </a:lnTo>
                  <a:lnTo>
                    <a:pt x="296" y="68"/>
                  </a:lnTo>
                  <a:lnTo>
                    <a:pt x="302" y="72"/>
                  </a:lnTo>
                  <a:lnTo>
                    <a:pt x="314" y="94"/>
                  </a:lnTo>
                  <a:lnTo>
                    <a:pt x="316" y="116"/>
                  </a:lnTo>
                  <a:lnTo>
                    <a:pt x="311" y="139"/>
                  </a:lnTo>
                  <a:lnTo>
                    <a:pt x="301" y="161"/>
                  </a:lnTo>
                  <a:lnTo>
                    <a:pt x="287" y="182"/>
                  </a:lnTo>
                  <a:lnTo>
                    <a:pt x="270" y="203"/>
                  </a:lnTo>
                  <a:lnTo>
                    <a:pt x="253" y="221"/>
                  </a:lnTo>
                  <a:lnTo>
                    <a:pt x="237" y="237"/>
                  </a:lnTo>
                  <a:lnTo>
                    <a:pt x="222" y="249"/>
                  </a:lnTo>
                  <a:lnTo>
                    <a:pt x="202" y="260"/>
                  </a:lnTo>
                  <a:lnTo>
                    <a:pt x="179" y="272"/>
                  </a:lnTo>
                  <a:lnTo>
                    <a:pt x="154" y="281"/>
                  </a:lnTo>
                  <a:lnTo>
                    <a:pt x="128" y="289"/>
                  </a:lnTo>
                  <a:lnTo>
                    <a:pt x="104" y="293"/>
                  </a:lnTo>
                  <a:lnTo>
                    <a:pt x="82" y="295"/>
                  </a:lnTo>
                  <a:lnTo>
                    <a:pt x="64" y="291"/>
                  </a:lnTo>
                  <a:lnTo>
                    <a:pt x="51" y="284"/>
                  </a:lnTo>
                  <a:lnTo>
                    <a:pt x="43" y="276"/>
                  </a:lnTo>
                  <a:lnTo>
                    <a:pt x="38" y="267"/>
                  </a:lnTo>
                  <a:lnTo>
                    <a:pt x="36" y="258"/>
                  </a:lnTo>
                  <a:lnTo>
                    <a:pt x="37" y="250"/>
                  </a:lnTo>
                  <a:lnTo>
                    <a:pt x="38" y="242"/>
                  </a:lnTo>
                  <a:lnTo>
                    <a:pt x="41" y="236"/>
                  </a:lnTo>
                  <a:lnTo>
                    <a:pt x="43" y="232"/>
                  </a:lnTo>
                  <a:lnTo>
                    <a:pt x="58" y="213"/>
                  </a:lnTo>
                  <a:lnTo>
                    <a:pt x="74" y="194"/>
                  </a:lnTo>
                  <a:lnTo>
                    <a:pt x="90" y="176"/>
                  </a:lnTo>
                  <a:lnTo>
                    <a:pt x="107" y="159"/>
                  </a:lnTo>
                  <a:lnTo>
                    <a:pt x="125" y="141"/>
                  </a:lnTo>
                  <a:lnTo>
                    <a:pt x="142" y="125"/>
                  </a:lnTo>
                  <a:lnTo>
                    <a:pt x="160" y="110"/>
                  </a:lnTo>
                  <a:lnTo>
                    <a:pt x="179" y="95"/>
                  </a:lnTo>
                  <a:lnTo>
                    <a:pt x="198" y="82"/>
                  </a:lnTo>
                  <a:lnTo>
                    <a:pt x="218" y="69"/>
                  </a:lnTo>
                  <a:lnTo>
                    <a:pt x="239" y="56"/>
                  </a:lnTo>
                  <a:lnTo>
                    <a:pt x="260" y="46"/>
                  </a:lnTo>
                  <a:lnTo>
                    <a:pt x="280" y="35"/>
                  </a:lnTo>
                  <a:lnTo>
                    <a:pt x="302" y="26"/>
                  </a:lnTo>
                  <a:lnTo>
                    <a:pt x="325" y="17"/>
                  </a:lnTo>
                  <a:lnTo>
                    <a:pt x="348" y="10"/>
                  </a:lnTo>
                  <a:lnTo>
                    <a:pt x="349" y="9"/>
                  </a:lnTo>
                  <a:lnTo>
                    <a:pt x="352" y="8"/>
                  </a:lnTo>
                  <a:lnTo>
                    <a:pt x="352" y="6"/>
                  </a:lnTo>
                  <a:lnTo>
                    <a:pt x="352" y="3"/>
                  </a:lnTo>
                  <a:lnTo>
                    <a:pt x="351" y="1"/>
                  </a:lnTo>
                  <a:lnTo>
                    <a:pt x="348" y="0"/>
                  </a:lnTo>
                  <a:lnTo>
                    <a:pt x="347" y="0"/>
                  </a:lnTo>
                  <a:lnTo>
                    <a:pt x="345" y="0"/>
                  </a:lnTo>
                  <a:lnTo>
                    <a:pt x="3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94360" y="5388120"/>
              <a:ext cx="417600" cy="182520"/>
            </a:xfrm>
            <a:custGeom>
              <a:avLst/>
              <a:gdLst/>
              <a:ahLst/>
              <a:rect l="l" t="t" r="r" b="b"/>
              <a:pathLst>
                <a:path w="526" h="229">
                  <a:moveTo>
                    <a:pt x="16" y="221"/>
                  </a:moveTo>
                  <a:lnTo>
                    <a:pt x="24" y="220"/>
                  </a:lnTo>
                  <a:lnTo>
                    <a:pt x="33" y="219"/>
                  </a:lnTo>
                  <a:lnTo>
                    <a:pt x="42" y="218"/>
                  </a:lnTo>
                  <a:lnTo>
                    <a:pt x="49" y="216"/>
                  </a:lnTo>
                  <a:lnTo>
                    <a:pt x="68" y="204"/>
                  </a:lnTo>
                  <a:lnTo>
                    <a:pt x="89" y="193"/>
                  </a:lnTo>
                  <a:lnTo>
                    <a:pt x="109" y="180"/>
                  </a:lnTo>
                  <a:lnTo>
                    <a:pt x="128" y="167"/>
                  </a:lnTo>
                  <a:lnTo>
                    <a:pt x="148" y="155"/>
                  </a:lnTo>
                  <a:lnTo>
                    <a:pt x="167" y="142"/>
                  </a:lnTo>
                  <a:lnTo>
                    <a:pt x="187" y="130"/>
                  </a:lnTo>
                  <a:lnTo>
                    <a:pt x="206" y="119"/>
                  </a:lnTo>
                  <a:lnTo>
                    <a:pt x="226" y="109"/>
                  </a:lnTo>
                  <a:lnTo>
                    <a:pt x="247" y="99"/>
                  </a:lnTo>
                  <a:lnTo>
                    <a:pt x="268" y="91"/>
                  </a:lnTo>
                  <a:lnTo>
                    <a:pt x="289" y="84"/>
                  </a:lnTo>
                  <a:lnTo>
                    <a:pt x="311" y="81"/>
                  </a:lnTo>
                  <a:lnTo>
                    <a:pt x="334" y="79"/>
                  </a:lnTo>
                  <a:lnTo>
                    <a:pt x="357" y="79"/>
                  </a:lnTo>
                  <a:lnTo>
                    <a:pt x="382" y="81"/>
                  </a:lnTo>
                  <a:lnTo>
                    <a:pt x="405" y="83"/>
                  </a:lnTo>
                  <a:lnTo>
                    <a:pt x="382" y="72"/>
                  </a:lnTo>
                  <a:lnTo>
                    <a:pt x="401" y="92"/>
                  </a:lnTo>
                  <a:lnTo>
                    <a:pt x="408" y="102"/>
                  </a:lnTo>
                  <a:lnTo>
                    <a:pt x="417" y="109"/>
                  </a:lnTo>
                  <a:lnTo>
                    <a:pt x="425" y="115"/>
                  </a:lnTo>
                  <a:lnTo>
                    <a:pt x="436" y="122"/>
                  </a:lnTo>
                  <a:lnTo>
                    <a:pt x="445" y="128"/>
                  </a:lnTo>
                  <a:lnTo>
                    <a:pt x="453" y="135"/>
                  </a:lnTo>
                  <a:lnTo>
                    <a:pt x="462" y="142"/>
                  </a:lnTo>
                  <a:lnTo>
                    <a:pt x="469" y="150"/>
                  </a:lnTo>
                  <a:lnTo>
                    <a:pt x="474" y="155"/>
                  </a:lnTo>
                  <a:lnTo>
                    <a:pt x="480" y="158"/>
                  </a:lnTo>
                  <a:lnTo>
                    <a:pt x="485" y="160"/>
                  </a:lnTo>
                  <a:lnTo>
                    <a:pt x="491" y="162"/>
                  </a:lnTo>
                  <a:lnTo>
                    <a:pt x="498" y="162"/>
                  </a:lnTo>
                  <a:lnTo>
                    <a:pt x="504" y="159"/>
                  </a:lnTo>
                  <a:lnTo>
                    <a:pt x="509" y="157"/>
                  </a:lnTo>
                  <a:lnTo>
                    <a:pt x="515" y="153"/>
                  </a:lnTo>
                  <a:lnTo>
                    <a:pt x="522" y="143"/>
                  </a:lnTo>
                  <a:lnTo>
                    <a:pt x="526" y="132"/>
                  </a:lnTo>
                  <a:lnTo>
                    <a:pt x="523" y="120"/>
                  </a:lnTo>
                  <a:lnTo>
                    <a:pt x="518" y="109"/>
                  </a:lnTo>
                  <a:lnTo>
                    <a:pt x="514" y="100"/>
                  </a:lnTo>
                  <a:lnTo>
                    <a:pt x="509" y="92"/>
                  </a:lnTo>
                  <a:lnTo>
                    <a:pt x="504" y="87"/>
                  </a:lnTo>
                  <a:lnTo>
                    <a:pt x="498" y="80"/>
                  </a:lnTo>
                  <a:lnTo>
                    <a:pt x="492" y="75"/>
                  </a:lnTo>
                  <a:lnTo>
                    <a:pt x="484" y="69"/>
                  </a:lnTo>
                  <a:lnTo>
                    <a:pt x="477" y="66"/>
                  </a:lnTo>
                  <a:lnTo>
                    <a:pt x="469" y="61"/>
                  </a:lnTo>
                  <a:lnTo>
                    <a:pt x="433" y="26"/>
                  </a:lnTo>
                  <a:lnTo>
                    <a:pt x="429" y="21"/>
                  </a:lnTo>
                  <a:lnTo>
                    <a:pt x="423" y="18"/>
                  </a:lnTo>
                  <a:lnTo>
                    <a:pt x="417" y="14"/>
                  </a:lnTo>
                  <a:lnTo>
                    <a:pt x="410" y="13"/>
                  </a:lnTo>
                  <a:lnTo>
                    <a:pt x="369" y="1"/>
                  </a:lnTo>
                  <a:lnTo>
                    <a:pt x="340" y="0"/>
                  </a:lnTo>
                  <a:lnTo>
                    <a:pt x="312" y="3"/>
                  </a:lnTo>
                  <a:lnTo>
                    <a:pt x="285" y="6"/>
                  </a:lnTo>
                  <a:lnTo>
                    <a:pt x="259" y="13"/>
                  </a:lnTo>
                  <a:lnTo>
                    <a:pt x="234" y="21"/>
                  </a:lnTo>
                  <a:lnTo>
                    <a:pt x="210" y="33"/>
                  </a:lnTo>
                  <a:lnTo>
                    <a:pt x="187" y="44"/>
                  </a:lnTo>
                  <a:lnTo>
                    <a:pt x="164" y="59"/>
                  </a:lnTo>
                  <a:lnTo>
                    <a:pt x="142" y="74"/>
                  </a:lnTo>
                  <a:lnTo>
                    <a:pt x="121" y="90"/>
                  </a:lnTo>
                  <a:lnTo>
                    <a:pt x="100" y="109"/>
                  </a:lnTo>
                  <a:lnTo>
                    <a:pt x="81" y="127"/>
                  </a:lnTo>
                  <a:lnTo>
                    <a:pt x="61" y="147"/>
                  </a:lnTo>
                  <a:lnTo>
                    <a:pt x="43" y="166"/>
                  </a:lnTo>
                  <a:lnTo>
                    <a:pt x="24" y="186"/>
                  </a:lnTo>
                  <a:lnTo>
                    <a:pt x="6" y="206"/>
                  </a:lnTo>
                  <a:lnTo>
                    <a:pt x="6" y="206"/>
                  </a:lnTo>
                  <a:lnTo>
                    <a:pt x="1" y="210"/>
                  </a:lnTo>
                  <a:lnTo>
                    <a:pt x="0" y="215"/>
                  </a:lnTo>
                  <a:lnTo>
                    <a:pt x="0" y="219"/>
                  </a:lnTo>
                  <a:lnTo>
                    <a:pt x="1" y="224"/>
                  </a:lnTo>
                  <a:lnTo>
                    <a:pt x="5" y="227"/>
                  </a:lnTo>
                  <a:lnTo>
                    <a:pt x="9" y="229"/>
                  </a:lnTo>
                  <a:lnTo>
                    <a:pt x="14" y="229"/>
                  </a:lnTo>
                  <a:lnTo>
                    <a:pt x="19" y="227"/>
                  </a:lnTo>
                  <a:lnTo>
                    <a:pt x="16" y="2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56320" y="5137200"/>
              <a:ext cx="264960" cy="285840"/>
            </a:xfrm>
            <a:custGeom>
              <a:avLst/>
              <a:gdLst/>
              <a:ahLst/>
              <a:rect l="l" t="t" r="r" b="b"/>
              <a:pathLst>
                <a:path w="334" h="359">
                  <a:moveTo>
                    <a:pt x="318" y="0"/>
                  </a:moveTo>
                  <a:lnTo>
                    <a:pt x="291" y="5"/>
                  </a:lnTo>
                  <a:lnTo>
                    <a:pt x="262" y="15"/>
                  </a:lnTo>
                  <a:lnTo>
                    <a:pt x="234" y="26"/>
                  </a:lnTo>
                  <a:lnTo>
                    <a:pt x="205" y="40"/>
                  </a:lnTo>
                  <a:lnTo>
                    <a:pt x="176" y="55"/>
                  </a:lnTo>
                  <a:lnTo>
                    <a:pt x="148" y="73"/>
                  </a:lnTo>
                  <a:lnTo>
                    <a:pt x="122" y="92"/>
                  </a:lnTo>
                  <a:lnTo>
                    <a:pt x="97" y="111"/>
                  </a:lnTo>
                  <a:lnTo>
                    <a:pt x="73" y="132"/>
                  </a:lnTo>
                  <a:lnTo>
                    <a:pt x="53" y="153"/>
                  </a:lnTo>
                  <a:lnTo>
                    <a:pt x="34" y="174"/>
                  </a:lnTo>
                  <a:lnTo>
                    <a:pt x="19" y="194"/>
                  </a:lnTo>
                  <a:lnTo>
                    <a:pt x="9" y="214"/>
                  </a:lnTo>
                  <a:lnTo>
                    <a:pt x="2" y="233"/>
                  </a:lnTo>
                  <a:lnTo>
                    <a:pt x="0" y="252"/>
                  </a:lnTo>
                  <a:lnTo>
                    <a:pt x="2" y="268"/>
                  </a:lnTo>
                  <a:lnTo>
                    <a:pt x="12" y="293"/>
                  </a:lnTo>
                  <a:lnTo>
                    <a:pt x="24" y="312"/>
                  </a:lnTo>
                  <a:lnTo>
                    <a:pt x="38" y="327"/>
                  </a:lnTo>
                  <a:lnTo>
                    <a:pt x="53" y="338"/>
                  </a:lnTo>
                  <a:lnTo>
                    <a:pt x="69" y="346"/>
                  </a:lnTo>
                  <a:lnTo>
                    <a:pt x="86" y="352"/>
                  </a:lnTo>
                  <a:lnTo>
                    <a:pt x="103" y="356"/>
                  </a:lnTo>
                  <a:lnTo>
                    <a:pt x="122" y="358"/>
                  </a:lnTo>
                  <a:lnTo>
                    <a:pt x="143" y="359"/>
                  </a:lnTo>
                  <a:lnTo>
                    <a:pt x="163" y="357"/>
                  </a:lnTo>
                  <a:lnTo>
                    <a:pt x="183" y="352"/>
                  </a:lnTo>
                  <a:lnTo>
                    <a:pt x="201" y="345"/>
                  </a:lnTo>
                  <a:lnTo>
                    <a:pt x="219" y="335"/>
                  </a:lnTo>
                  <a:lnTo>
                    <a:pt x="235" y="323"/>
                  </a:lnTo>
                  <a:lnTo>
                    <a:pt x="250" y="309"/>
                  </a:lnTo>
                  <a:lnTo>
                    <a:pt x="265" y="295"/>
                  </a:lnTo>
                  <a:lnTo>
                    <a:pt x="277" y="277"/>
                  </a:lnTo>
                  <a:lnTo>
                    <a:pt x="289" y="260"/>
                  </a:lnTo>
                  <a:lnTo>
                    <a:pt x="299" y="240"/>
                  </a:lnTo>
                  <a:lnTo>
                    <a:pt x="310" y="221"/>
                  </a:lnTo>
                  <a:lnTo>
                    <a:pt x="317" y="200"/>
                  </a:lnTo>
                  <a:lnTo>
                    <a:pt x="323" y="180"/>
                  </a:lnTo>
                  <a:lnTo>
                    <a:pt x="329" y="160"/>
                  </a:lnTo>
                  <a:lnTo>
                    <a:pt x="333" y="139"/>
                  </a:lnTo>
                  <a:lnTo>
                    <a:pt x="334" y="126"/>
                  </a:lnTo>
                  <a:lnTo>
                    <a:pt x="330" y="116"/>
                  </a:lnTo>
                  <a:lnTo>
                    <a:pt x="323" y="106"/>
                  </a:lnTo>
                  <a:lnTo>
                    <a:pt x="313" y="100"/>
                  </a:lnTo>
                  <a:lnTo>
                    <a:pt x="307" y="99"/>
                  </a:lnTo>
                  <a:lnTo>
                    <a:pt x="300" y="99"/>
                  </a:lnTo>
                  <a:lnTo>
                    <a:pt x="295" y="100"/>
                  </a:lnTo>
                  <a:lnTo>
                    <a:pt x="290" y="102"/>
                  </a:lnTo>
                  <a:lnTo>
                    <a:pt x="284" y="106"/>
                  </a:lnTo>
                  <a:lnTo>
                    <a:pt x="280" y="110"/>
                  </a:lnTo>
                  <a:lnTo>
                    <a:pt x="276" y="115"/>
                  </a:lnTo>
                  <a:lnTo>
                    <a:pt x="274" y="121"/>
                  </a:lnTo>
                  <a:lnTo>
                    <a:pt x="268" y="137"/>
                  </a:lnTo>
                  <a:lnTo>
                    <a:pt x="260" y="154"/>
                  </a:lnTo>
                  <a:lnTo>
                    <a:pt x="251" y="172"/>
                  </a:lnTo>
                  <a:lnTo>
                    <a:pt x="241" y="192"/>
                  </a:lnTo>
                  <a:lnTo>
                    <a:pt x="229" y="210"/>
                  </a:lnTo>
                  <a:lnTo>
                    <a:pt x="215" y="230"/>
                  </a:lnTo>
                  <a:lnTo>
                    <a:pt x="201" y="247"/>
                  </a:lnTo>
                  <a:lnTo>
                    <a:pt x="188" y="265"/>
                  </a:lnTo>
                  <a:lnTo>
                    <a:pt x="171" y="278"/>
                  </a:lnTo>
                  <a:lnTo>
                    <a:pt x="155" y="290"/>
                  </a:lnTo>
                  <a:lnTo>
                    <a:pt x="139" y="299"/>
                  </a:lnTo>
                  <a:lnTo>
                    <a:pt x="123" y="304"/>
                  </a:lnTo>
                  <a:lnTo>
                    <a:pt x="107" y="305"/>
                  </a:lnTo>
                  <a:lnTo>
                    <a:pt x="90" y="301"/>
                  </a:lnTo>
                  <a:lnTo>
                    <a:pt x="75" y="292"/>
                  </a:lnTo>
                  <a:lnTo>
                    <a:pt x="59" y="277"/>
                  </a:lnTo>
                  <a:lnTo>
                    <a:pt x="52" y="265"/>
                  </a:lnTo>
                  <a:lnTo>
                    <a:pt x="50" y="251"/>
                  </a:lnTo>
                  <a:lnTo>
                    <a:pt x="54" y="233"/>
                  </a:lnTo>
                  <a:lnTo>
                    <a:pt x="62" y="215"/>
                  </a:lnTo>
                  <a:lnTo>
                    <a:pt x="73" y="195"/>
                  </a:lnTo>
                  <a:lnTo>
                    <a:pt x="88" y="176"/>
                  </a:lnTo>
                  <a:lnTo>
                    <a:pt x="106" y="154"/>
                  </a:lnTo>
                  <a:lnTo>
                    <a:pt x="126" y="133"/>
                  </a:lnTo>
                  <a:lnTo>
                    <a:pt x="148" y="113"/>
                  </a:lnTo>
                  <a:lnTo>
                    <a:pt x="173" y="93"/>
                  </a:lnTo>
                  <a:lnTo>
                    <a:pt x="197" y="75"/>
                  </a:lnTo>
                  <a:lnTo>
                    <a:pt x="222" y="56"/>
                  </a:lnTo>
                  <a:lnTo>
                    <a:pt x="247" y="41"/>
                  </a:lnTo>
                  <a:lnTo>
                    <a:pt x="273" y="27"/>
                  </a:lnTo>
                  <a:lnTo>
                    <a:pt x="297" y="17"/>
                  </a:lnTo>
                  <a:lnTo>
                    <a:pt x="320" y="9"/>
                  </a:lnTo>
                  <a:lnTo>
                    <a:pt x="321" y="8"/>
                  </a:lnTo>
                  <a:lnTo>
                    <a:pt x="322" y="7"/>
                  </a:lnTo>
                  <a:lnTo>
                    <a:pt x="322" y="4"/>
                  </a:lnTo>
                  <a:lnTo>
                    <a:pt x="322" y="3"/>
                  </a:lnTo>
                  <a:lnTo>
                    <a:pt x="322" y="2"/>
                  </a:lnTo>
                  <a:lnTo>
                    <a:pt x="321" y="0"/>
                  </a:lnTo>
                  <a:lnTo>
                    <a:pt x="319" y="0"/>
                  </a:lnTo>
                  <a:lnTo>
                    <a:pt x="318" y="0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08680" y="5102280"/>
              <a:ext cx="338040" cy="101520"/>
            </a:xfrm>
            <a:custGeom>
              <a:avLst/>
              <a:gdLst/>
              <a:ahLst/>
              <a:rect l="l" t="t" r="r" b="b"/>
              <a:pathLst>
                <a:path w="426" h="127">
                  <a:moveTo>
                    <a:pt x="8" y="94"/>
                  </a:moveTo>
                  <a:lnTo>
                    <a:pt x="26" y="92"/>
                  </a:lnTo>
                  <a:lnTo>
                    <a:pt x="46" y="89"/>
                  </a:lnTo>
                  <a:lnTo>
                    <a:pt x="65" y="83"/>
                  </a:lnTo>
                  <a:lnTo>
                    <a:pt x="85" y="76"/>
                  </a:lnTo>
                  <a:lnTo>
                    <a:pt x="102" y="69"/>
                  </a:lnTo>
                  <a:lnTo>
                    <a:pt x="116" y="61"/>
                  </a:lnTo>
                  <a:lnTo>
                    <a:pt x="125" y="54"/>
                  </a:lnTo>
                  <a:lnTo>
                    <a:pt x="130" y="46"/>
                  </a:lnTo>
                  <a:lnTo>
                    <a:pt x="135" y="36"/>
                  </a:lnTo>
                  <a:lnTo>
                    <a:pt x="140" y="32"/>
                  </a:lnTo>
                  <a:lnTo>
                    <a:pt x="146" y="34"/>
                  </a:lnTo>
                  <a:lnTo>
                    <a:pt x="151" y="43"/>
                  </a:lnTo>
                  <a:lnTo>
                    <a:pt x="153" y="53"/>
                  </a:lnTo>
                  <a:lnTo>
                    <a:pt x="152" y="66"/>
                  </a:lnTo>
                  <a:lnTo>
                    <a:pt x="148" y="77"/>
                  </a:lnTo>
                  <a:lnTo>
                    <a:pt x="148" y="90"/>
                  </a:lnTo>
                  <a:lnTo>
                    <a:pt x="149" y="95"/>
                  </a:lnTo>
                  <a:lnTo>
                    <a:pt x="153" y="104"/>
                  </a:lnTo>
                  <a:lnTo>
                    <a:pt x="156" y="110"/>
                  </a:lnTo>
                  <a:lnTo>
                    <a:pt x="161" y="116"/>
                  </a:lnTo>
                  <a:lnTo>
                    <a:pt x="168" y="121"/>
                  </a:lnTo>
                  <a:lnTo>
                    <a:pt x="175" y="123"/>
                  </a:lnTo>
                  <a:lnTo>
                    <a:pt x="184" y="122"/>
                  </a:lnTo>
                  <a:lnTo>
                    <a:pt x="194" y="116"/>
                  </a:lnTo>
                  <a:lnTo>
                    <a:pt x="205" y="109"/>
                  </a:lnTo>
                  <a:lnTo>
                    <a:pt x="216" y="102"/>
                  </a:lnTo>
                  <a:lnTo>
                    <a:pt x="228" y="98"/>
                  </a:lnTo>
                  <a:lnTo>
                    <a:pt x="239" y="94"/>
                  </a:lnTo>
                  <a:lnTo>
                    <a:pt x="249" y="92"/>
                  </a:lnTo>
                  <a:lnTo>
                    <a:pt x="258" y="92"/>
                  </a:lnTo>
                  <a:lnTo>
                    <a:pt x="265" y="94"/>
                  </a:lnTo>
                  <a:lnTo>
                    <a:pt x="269" y="99"/>
                  </a:lnTo>
                  <a:lnTo>
                    <a:pt x="274" y="109"/>
                  </a:lnTo>
                  <a:lnTo>
                    <a:pt x="277" y="119"/>
                  </a:lnTo>
                  <a:lnTo>
                    <a:pt x="281" y="124"/>
                  </a:lnTo>
                  <a:lnTo>
                    <a:pt x="291" y="127"/>
                  </a:lnTo>
                  <a:lnTo>
                    <a:pt x="298" y="125"/>
                  </a:lnTo>
                  <a:lnTo>
                    <a:pt x="305" y="122"/>
                  </a:lnTo>
                  <a:lnTo>
                    <a:pt x="311" y="116"/>
                  </a:lnTo>
                  <a:lnTo>
                    <a:pt x="317" y="112"/>
                  </a:lnTo>
                  <a:lnTo>
                    <a:pt x="321" y="107"/>
                  </a:lnTo>
                  <a:lnTo>
                    <a:pt x="326" y="105"/>
                  </a:lnTo>
                  <a:lnTo>
                    <a:pt x="329" y="106"/>
                  </a:lnTo>
                  <a:lnTo>
                    <a:pt x="333" y="112"/>
                  </a:lnTo>
                  <a:lnTo>
                    <a:pt x="337" y="115"/>
                  </a:lnTo>
                  <a:lnTo>
                    <a:pt x="346" y="114"/>
                  </a:lnTo>
                  <a:lnTo>
                    <a:pt x="359" y="110"/>
                  </a:lnTo>
                  <a:lnTo>
                    <a:pt x="373" y="105"/>
                  </a:lnTo>
                  <a:lnTo>
                    <a:pt x="386" y="98"/>
                  </a:lnTo>
                  <a:lnTo>
                    <a:pt x="398" y="92"/>
                  </a:lnTo>
                  <a:lnTo>
                    <a:pt x="408" y="89"/>
                  </a:lnTo>
                  <a:lnTo>
                    <a:pt x="412" y="89"/>
                  </a:lnTo>
                  <a:lnTo>
                    <a:pt x="417" y="91"/>
                  </a:lnTo>
                  <a:lnTo>
                    <a:pt x="423" y="92"/>
                  </a:lnTo>
                  <a:lnTo>
                    <a:pt x="426" y="91"/>
                  </a:lnTo>
                  <a:lnTo>
                    <a:pt x="426" y="84"/>
                  </a:lnTo>
                  <a:lnTo>
                    <a:pt x="423" y="76"/>
                  </a:lnTo>
                  <a:lnTo>
                    <a:pt x="418" y="69"/>
                  </a:lnTo>
                  <a:lnTo>
                    <a:pt x="410" y="64"/>
                  </a:lnTo>
                  <a:lnTo>
                    <a:pt x="395" y="62"/>
                  </a:lnTo>
                  <a:lnTo>
                    <a:pt x="386" y="61"/>
                  </a:lnTo>
                  <a:lnTo>
                    <a:pt x="374" y="62"/>
                  </a:lnTo>
                  <a:lnTo>
                    <a:pt x="364" y="62"/>
                  </a:lnTo>
                  <a:lnTo>
                    <a:pt x="352" y="64"/>
                  </a:lnTo>
                  <a:lnTo>
                    <a:pt x="342" y="66"/>
                  </a:lnTo>
                  <a:lnTo>
                    <a:pt x="332" y="67"/>
                  </a:lnTo>
                  <a:lnTo>
                    <a:pt x="323" y="67"/>
                  </a:lnTo>
                  <a:lnTo>
                    <a:pt x="317" y="67"/>
                  </a:lnTo>
                  <a:lnTo>
                    <a:pt x="308" y="64"/>
                  </a:lnTo>
                  <a:lnTo>
                    <a:pt x="304" y="57"/>
                  </a:lnTo>
                  <a:lnTo>
                    <a:pt x="302" y="48"/>
                  </a:lnTo>
                  <a:lnTo>
                    <a:pt x="302" y="37"/>
                  </a:lnTo>
                  <a:lnTo>
                    <a:pt x="300" y="28"/>
                  </a:lnTo>
                  <a:lnTo>
                    <a:pt x="295" y="23"/>
                  </a:lnTo>
                  <a:lnTo>
                    <a:pt x="285" y="21"/>
                  </a:lnTo>
                  <a:lnTo>
                    <a:pt x="275" y="22"/>
                  </a:lnTo>
                  <a:lnTo>
                    <a:pt x="262" y="24"/>
                  </a:lnTo>
                  <a:lnTo>
                    <a:pt x="251" y="28"/>
                  </a:lnTo>
                  <a:lnTo>
                    <a:pt x="239" y="32"/>
                  </a:lnTo>
                  <a:lnTo>
                    <a:pt x="231" y="36"/>
                  </a:lnTo>
                  <a:lnTo>
                    <a:pt x="219" y="41"/>
                  </a:lnTo>
                  <a:lnTo>
                    <a:pt x="211" y="47"/>
                  </a:lnTo>
                  <a:lnTo>
                    <a:pt x="206" y="52"/>
                  </a:lnTo>
                  <a:lnTo>
                    <a:pt x="205" y="53"/>
                  </a:lnTo>
                  <a:lnTo>
                    <a:pt x="204" y="53"/>
                  </a:lnTo>
                  <a:lnTo>
                    <a:pt x="200" y="52"/>
                  </a:lnTo>
                  <a:lnTo>
                    <a:pt x="199" y="47"/>
                  </a:lnTo>
                  <a:lnTo>
                    <a:pt x="201" y="34"/>
                  </a:lnTo>
                  <a:lnTo>
                    <a:pt x="202" y="26"/>
                  </a:lnTo>
                  <a:lnTo>
                    <a:pt x="200" y="19"/>
                  </a:lnTo>
                  <a:lnTo>
                    <a:pt x="194" y="14"/>
                  </a:lnTo>
                  <a:lnTo>
                    <a:pt x="188" y="8"/>
                  </a:lnTo>
                  <a:lnTo>
                    <a:pt x="179" y="4"/>
                  </a:lnTo>
                  <a:lnTo>
                    <a:pt x="173" y="2"/>
                  </a:lnTo>
                  <a:lnTo>
                    <a:pt x="167" y="0"/>
                  </a:lnTo>
                  <a:lnTo>
                    <a:pt x="163" y="0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52" y="0"/>
                  </a:lnTo>
                  <a:lnTo>
                    <a:pt x="145" y="0"/>
                  </a:lnTo>
                  <a:lnTo>
                    <a:pt x="137" y="1"/>
                  </a:lnTo>
                  <a:lnTo>
                    <a:pt x="128" y="2"/>
                  </a:lnTo>
                  <a:lnTo>
                    <a:pt x="120" y="3"/>
                  </a:lnTo>
                  <a:lnTo>
                    <a:pt x="111" y="7"/>
                  </a:lnTo>
                  <a:lnTo>
                    <a:pt x="101" y="13"/>
                  </a:lnTo>
                  <a:lnTo>
                    <a:pt x="86" y="23"/>
                  </a:lnTo>
                  <a:lnTo>
                    <a:pt x="68" y="36"/>
                  </a:lnTo>
                  <a:lnTo>
                    <a:pt x="49" y="49"/>
                  </a:lnTo>
                  <a:lnTo>
                    <a:pt x="31" y="62"/>
                  </a:lnTo>
                  <a:lnTo>
                    <a:pt x="16" y="74"/>
                  </a:lnTo>
                  <a:lnTo>
                    <a:pt x="5" y="82"/>
                  </a:lnTo>
                  <a:lnTo>
                    <a:pt x="2" y="84"/>
                  </a:lnTo>
                  <a:lnTo>
                    <a:pt x="2" y="84"/>
                  </a:lnTo>
                  <a:lnTo>
                    <a:pt x="1" y="85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1" y="92"/>
                  </a:lnTo>
                  <a:lnTo>
                    <a:pt x="2" y="93"/>
                  </a:lnTo>
                  <a:lnTo>
                    <a:pt x="4" y="94"/>
                  </a:lnTo>
                  <a:lnTo>
                    <a:pt x="5" y="94"/>
                  </a:lnTo>
                  <a:lnTo>
                    <a:pt x="8" y="94"/>
                  </a:lnTo>
                  <a:lnTo>
                    <a:pt x="8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23080" y="5227560"/>
              <a:ext cx="250560" cy="79560"/>
            </a:xfrm>
            <a:custGeom>
              <a:avLst/>
              <a:gdLst/>
              <a:ahLst/>
              <a:rect l="l" t="t" r="r" b="b"/>
              <a:pathLst>
                <a:path w="317" h="101">
                  <a:moveTo>
                    <a:pt x="8" y="51"/>
                  </a:moveTo>
                  <a:lnTo>
                    <a:pt x="12" y="50"/>
                  </a:lnTo>
                  <a:lnTo>
                    <a:pt x="17" y="48"/>
                  </a:lnTo>
                  <a:lnTo>
                    <a:pt x="23" y="44"/>
                  </a:lnTo>
                  <a:lnTo>
                    <a:pt x="30" y="41"/>
                  </a:lnTo>
                  <a:lnTo>
                    <a:pt x="37" y="38"/>
                  </a:lnTo>
                  <a:lnTo>
                    <a:pt x="44" y="35"/>
                  </a:lnTo>
                  <a:lnTo>
                    <a:pt x="50" y="34"/>
                  </a:lnTo>
                  <a:lnTo>
                    <a:pt x="54" y="34"/>
                  </a:lnTo>
                  <a:lnTo>
                    <a:pt x="59" y="38"/>
                  </a:lnTo>
                  <a:lnTo>
                    <a:pt x="56" y="44"/>
                  </a:lnTo>
                  <a:lnTo>
                    <a:pt x="54" y="56"/>
                  </a:lnTo>
                  <a:lnTo>
                    <a:pt x="55" y="70"/>
                  </a:lnTo>
                  <a:lnTo>
                    <a:pt x="59" y="77"/>
                  </a:lnTo>
                  <a:lnTo>
                    <a:pt x="63" y="82"/>
                  </a:lnTo>
                  <a:lnTo>
                    <a:pt x="68" y="87"/>
                  </a:lnTo>
                  <a:lnTo>
                    <a:pt x="75" y="89"/>
                  </a:lnTo>
                  <a:lnTo>
                    <a:pt x="81" y="92"/>
                  </a:lnTo>
                  <a:lnTo>
                    <a:pt x="89" y="92"/>
                  </a:lnTo>
                  <a:lnTo>
                    <a:pt x="96" y="91"/>
                  </a:lnTo>
                  <a:lnTo>
                    <a:pt x="104" y="88"/>
                  </a:lnTo>
                  <a:lnTo>
                    <a:pt x="113" y="85"/>
                  </a:lnTo>
                  <a:lnTo>
                    <a:pt x="127" y="80"/>
                  </a:lnTo>
                  <a:lnTo>
                    <a:pt x="141" y="74"/>
                  </a:lnTo>
                  <a:lnTo>
                    <a:pt x="157" y="70"/>
                  </a:lnTo>
                  <a:lnTo>
                    <a:pt x="172" y="67"/>
                  </a:lnTo>
                  <a:lnTo>
                    <a:pt x="185" y="66"/>
                  </a:lnTo>
                  <a:lnTo>
                    <a:pt x="197" y="69"/>
                  </a:lnTo>
                  <a:lnTo>
                    <a:pt x="205" y="76"/>
                  </a:lnTo>
                  <a:lnTo>
                    <a:pt x="212" y="84"/>
                  </a:lnTo>
                  <a:lnTo>
                    <a:pt x="220" y="91"/>
                  </a:lnTo>
                  <a:lnTo>
                    <a:pt x="228" y="95"/>
                  </a:lnTo>
                  <a:lnTo>
                    <a:pt x="237" y="99"/>
                  </a:lnTo>
                  <a:lnTo>
                    <a:pt x="248" y="101"/>
                  </a:lnTo>
                  <a:lnTo>
                    <a:pt x="258" y="101"/>
                  </a:lnTo>
                  <a:lnTo>
                    <a:pt x="268" y="101"/>
                  </a:lnTo>
                  <a:lnTo>
                    <a:pt x="279" y="99"/>
                  </a:lnTo>
                  <a:lnTo>
                    <a:pt x="289" y="96"/>
                  </a:lnTo>
                  <a:lnTo>
                    <a:pt x="298" y="93"/>
                  </a:lnTo>
                  <a:lnTo>
                    <a:pt x="308" y="89"/>
                  </a:lnTo>
                  <a:lnTo>
                    <a:pt x="313" y="85"/>
                  </a:lnTo>
                  <a:lnTo>
                    <a:pt x="317" y="81"/>
                  </a:lnTo>
                  <a:lnTo>
                    <a:pt x="317" y="78"/>
                  </a:lnTo>
                  <a:lnTo>
                    <a:pt x="313" y="74"/>
                  </a:lnTo>
                  <a:lnTo>
                    <a:pt x="304" y="71"/>
                  </a:lnTo>
                  <a:lnTo>
                    <a:pt x="289" y="67"/>
                  </a:lnTo>
                  <a:lnTo>
                    <a:pt x="285" y="65"/>
                  </a:lnTo>
                  <a:lnTo>
                    <a:pt x="282" y="59"/>
                  </a:lnTo>
                  <a:lnTo>
                    <a:pt x="275" y="44"/>
                  </a:lnTo>
                  <a:lnTo>
                    <a:pt x="259" y="26"/>
                  </a:lnTo>
                  <a:lnTo>
                    <a:pt x="237" y="18"/>
                  </a:lnTo>
                  <a:lnTo>
                    <a:pt x="214" y="19"/>
                  </a:lnTo>
                  <a:lnTo>
                    <a:pt x="190" y="24"/>
                  </a:lnTo>
                  <a:lnTo>
                    <a:pt x="168" y="31"/>
                  </a:lnTo>
                  <a:lnTo>
                    <a:pt x="151" y="36"/>
                  </a:lnTo>
                  <a:lnTo>
                    <a:pt x="141" y="39"/>
                  </a:lnTo>
                  <a:lnTo>
                    <a:pt x="138" y="34"/>
                  </a:lnTo>
                  <a:lnTo>
                    <a:pt x="142" y="21"/>
                  </a:lnTo>
                  <a:lnTo>
                    <a:pt x="139" y="15"/>
                  </a:lnTo>
                  <a:lnTo>
                    <a:pt x="134" y="12"/>
                  </a:lnTo>
                  <a:lnTo>
                    <a:pt x="124" y="15"/>
                  </a:lnTo>
                  <a:lnTo>
                    <a:pt x="114" y="19"/>
                  </a:lnTo>
                  <a:lnTo>
                    <a:pt x="105" y="25"/>
                  </a:lnTo>
                  <a:lnTo>
                    <a:pt x="96" y="31"/>
                  </a:lnTo>
                  <a:lnTo>
                    <a:pt x="90" y="35"/>
                  </a:lnTo>
                  <a:lnTo>
                    <a:pt x="83" y="36"/>
                  </a:lnTo>
                  <a:lnTo>
                    <a:pt x="79" y="31"/>
                  </a:lnTo>
                  <a:lnTo>
                    <a:pt x="79" y="20"/>
                  </a:lnTo>
                  <a:lnTo>
                    <a:pt x="83" y="9"/>
                  </a:lnTo>
                  <a:lnTo>
                    <a:pt x="83" y="2"/>
                  </a:lnTo>
                  <a:lnTo>
                    <a:pt x="77" y="0"/>
                  </a:lnTo>
                  <a:lnTo>
                    <a:pt x="68" y="0"/>
                  </a:lnTo>
                  <a:lnTo>
                    <a:pt x="60" y="2"/>
                  </a:lnTo>
                  <a:lnTo>
                    <a:pt x="58" y="3"/>
                  </a:lnTo>
                  <a:lnTo>
                    <a:pt x="52" y="5"/>
                  </a:lnTo>
                  <a:lnTo>
                    <a:pt x="44" y="10"/>
                  </a:lnTo>
                  <a:lnTo>
                    <a:pt x="35" y="16"/>
                  </a:lnTo>
                  <a:lnTo>
                    <a:pt x="24" y="21"/>
                  </a:lnTo>
                  <a:lnTo>
                    <a:pt x="15" y="28"/>
                  </a:lnTo>
                  <a:lnTo>
                    <a:pt x="7" y="35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3" y="53"/>
                  </a:lnTo>
                  <a:lnTo>
                    <a:pt x="6" y="53"/>
                  </a:lnTo>
                  <a:lnTo>
                    <a:pt x="8" y="51"/>
                  </a:lnTo>
                  <a:lnTo>
                    <a:pt x="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40400" y="5391000"/>
              <a:ext cx="360360" cy="144720"/>
            </a:xfrm>
            <a:custGeom>
              <a:avLst/>
              <a:gdLst/>
              <a:ahLst/>
              <a:rect l="l" t="t" r="r" b="b"/>
              <a:pathLst>
                <a:path w="454" h="181">
                  <a:moveTo>
                    <a:pt x="14" y="178"/>
                  </a:moveTo>
                  <a:lnTo>
                    <a:pt x="34" y="160"/>
                  </a:lnTo>
                  <a:lnTo>
                    <a:pt x="56" y="143"/>
                  </a:lnTo>
                  <a:lnTo>
                    <a:pt x="79" y="127"/>
                  </a:lnTo>
                  <a:lnTo>
                    <a:pt x="103" y="110"/>
                  </a:lnTo>
                  <a:lnTo>
                    <a:pt x="128" y="98"/>
                  </a:lnTo>
                  <a:lnTo>
                    <a:pt x="155" y="86"/>
                  </a:lnTo>
                  <a:lnTo>
                    <a:pt x="181" y="76"/>
                  </a:lnTo>
                  <a:lnTo>
                    <a:pt x="208" y="69"/>
                  </a:lnTo>
                  <a:lnTo>
                    <a:pt x="235" y="64"/>
                  </a:lnTo>
                  <a:lnTo>
                    <a:pt x="262" y="62"/>
                  </a:lnTo>
                  <a:lnTo>
                    <a:pt x="289" y="62"/>
                  </a:lnTo>
                  <a:lnTo>
                    <a:pt x="316" y="67"/>
                  </a:lnTo>
                  <a:lnTo>
                    <a:pt x="341" y="74"/>
                  </a:lnTo>
                  <a:lnTo>
                    <a:pt x="367" y="85"/>
                  </a:lnTo>
                  <a:lnTo>
                    <a:pt x="391" y="100"/>
                  </a:lnTo>
                  <a:lnTo>
                    <a:pt x="414" y="120"/>
                  </a:lnTo>
                  <a:lnTo>
                    <a:pt x="421" y="125"/>
                  </a:lnTo>
                  <a:lnTo>
                    <a:pt x="429" y="128"/>
                  </a:lnTo>
                  <a:lnTo>
                    <a:pt x="437" y="127"/>
                  </a:lnTo>
                  <a:lnTo>
                    <a:pt x="445" y="123"/>
                  </a:lnTo>
                  <a:lnTo>
                    <a:pt x="451" y="116"/>
                  </a:lnTo>
                  <a:lnTo>
                    <a:pt x="454" y="107"/>
                  </a:lnTo>
                  <a:lnTo>
                    <a:pt x="453" y="99"/>
                  </a:lnTo>
                  <a:lnTo>
                    <a:pt x="448" y="91"/>
                  </a:lnTo>
                  <a:lnTo>
                    <a:pt x="438" y="72"/>
                  </a:lnTo>
                  <a:lnTo>
                    <a:pt x="427" y="57"/>
                  </a:lnTo>
                  <a:lnTo>
                    <a:pt x="412" y="44"/>
                  </a:lnTo>
                  <a:lnTo>
                    <a:pt x="395" y="32"/>
                  </a:lnTo>
                  <a:lnTo>
                    <a:pt x="378" y="22"/>
                  </a:lnTo>
                  <a:lnTo>
                    <a:pt x="360" y="15"/>
                  </a:lnTo>
                  <a:lnTo>
                    <a:pt x="341" y="9"/>
                  </a:lnTo>
                  <a:lnTo>
                    <a:pt x="322" y="6"/>
                  </a:lnTo>
                  <a:lnTo>
                    <a:pt x="302" y="2"/>
                  </a:lnTo>
                  <a:lnTo>
                    <a:pt x="284" y="1"/>
                  </a:lnTo>
                  <a:lnTo>
                    <a:pt x="264" y="0"/>
                  </a:lnTo>
                  <a:lnTo>
                    <a:pt x="245" y="0"/>
                  </a:lnTo>
                  <a:lnTo>
                    <a:pt x="225" y="2"/>
                  </a:lnTo>
                  <a:lnTo>
                    <a:pt x="207" y="6"/>
                  </a:lnTo>
                  <a:lnTo>
                    <a:pt x="187" y="11"/>
                  </a:lnTo>
                  <a:lnTo>
                    <a:pt x="169" y="18"/>
                  </a:lnTo>
                  <a:lnTo>
                    <a:pt x="143" y="29"/>
                  </a:lnTo>
                  <a:lnTo>
                    <a:pt x="119" y="41"/>
                  </a:lnTo>
                  <a:lnTo>
                    <a:pt x="95" y="55"/>
                  </a:lnTo>
                  <a:lnTo>
                    <a:pt x="72" y="70"/>
                  </a:lnTo>
                  <a:lnTo>
                    <a:pt x="51" y="87"/>
                  </a:lnTo>
                  <a:lnTo>
                    <a:pt x="31" y="108"/>
                  </a:lnTo>
                  <a:lnTo>
                    <a:pt x="15" y="130"/>
                  </a:lnTo>
                  <a:lnTo>
                    <a:pt x="1" y="155"/>
                  </a:lnTo>
                  <a:lnTo>
                    <a:pt x="0" y="159"/>
                  </a:lnTo>
                  <a:lnTo>
                    <a:pt x="1" y="163"/>
                  </a:lnTo>
                  <a:lnTo>
                    <a:pt x="4" y="169"/>
                  </a:lnTo>
                  <a:lnTo>
                    <a:pt x="5" y="174"/>
                  </a:lnTo>
                  <a:lnTo>
                    <a:pt x="5" y="174"/>
                  </a:lnTo>
                  <a:lnTo>
                    <a:pt x="5" y="176"/>
                  </a:lnTo>
                  <a:lnTo>
                    <a:pt x="5" y="177"/>
                  </a:lnTo>
                  <a:lnTo>
                    <a:pt x="6" y="180"/>
                  </a:lnTo>
                  <a:lnTo>
                    <a:pt x="7" y="181"/>
                  </a:lnTo>
                  <a:lnTo>
                    <a:pt x="10" y="181"/>
                  </a:lnTo>
                  <a:lnTo>
                    <a:pt x="11" y="181"/>
                  </a:lnTo>
                  <a:lnTo>
                    <a:pt x="13" y="180"/>
                  </a:lnTo>
                  <a:lnTo>
                    <a:pt x="14" y="178"/>
                  </a:lnTo>
                  <a:lnTo>
                    <a:pt x="1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86560" y="5491080"/>
              <a:ext cx="2181240" cy="198360"/>
            </a:xfrm>
            <a:custGeom>
              <a:avLst/>
              <a:gdLst/>
              <a:ahLst/>
              <a:rect l="l" t="t" r="r" b="b"/>
              <a:pathLst>
                <a:path w="2749" h="251">
                  <a:moveTo>
                    <a:pt x="4" y="205"/>
                  </a:moveTo>
                  <a:lnTo>
                    <a:pt x="22" y="215"/>
                  </a:lnTo>
                  <a:lnTo>
                    <a:pt x="39" y="223"/>
                  </a:lnTo>
                  <a:lnTo>
                    <a:pt x="58" y="232"/>
                  </a:lnTo>
                  <a:lnTo>
                    <a:pt x="76" y="240"/>
                  </a:lnTo>
                  <a:lnTo>
                    <a:pt x="96" y="247"/>
                  </a:lnTo>
                  <a:lnTo>
                    <a:pt x="117" y="250"/>
                  </a:lnTo>
                  <a:lnTo>
                    <a:pt x="138" y="251"/>
                  </a:lnTo>
                  <a:lnTo>
                    <a:pt x="163" y="248"/>
                  </a:lnTo>
                  <a:lnTo>
                    <a:pt x="210" y="238"/>
                  </a:lnTo>
                  <a:lnTo>
                    <a:pt x="257" y="227"/>
                  </a:lnTo>
                  <a:lnTo>
                    <a:pt x="303" y="216"/>
                  </a:lnTo>
                  <a:lnTo>
                    <a:pt x="349" y="204"/>
                  </a:lnTo>
                  <a:lnTo>
                    <a:pt x="394" y="193"/>
                  </a:lnTo>
                  <a:lnTo>
                    <a:pt x="439" y="180"/>
                  </a:lnTo>
                  <a:lnTo>
                    <a:pt x="484" y="167"/>
                  </a:lnTo>
                  <a:lnTo>
                    <a:pt x="528" y="156"/>
                  </a:lnTo>
                  <a:lnTo>
                    <a:pt x="573" y="143"/>
                  </a:lnTo>
                  <a:lnTo>
                    <a:pt x="618" y="130"/>
                  </a:lnTo>
                  <a:lnTo>
                    <a:pt x="662" y="119"/>
                  </a:lnTo>
                  <a:lnTo>
                    <a:pt x="708" y="106"/>
                  </a:lnTo>
                  <a:lnTo>
                    <a:pt x="753" y="95"/>
                  </a:lnTo>
                  <a:lnTo>
                    <a:pt x="799" y="84"/>
                  </a:lnTo>
                  <a:lnTo>
                    <a:pt x="846" y="74"/>
                  </a:lnTo>
                  <a:lnTo>
                    <a:pt x="893" y="64"/>
                  </a:lnTo>
                  <a:lnTo>
                    <a:pt x="915" y="59"/>
                  </a:lnTo>
                  <a:lnTo>
                    <a:pt x="936" y="57"/>
                  </a:lnTo>
                  <a:lnTo>
                    <a:pt x="958" y="56"/>
                  </a:lnTo>
                  <a:lnTo>
                    <a:pt x="979" y="57"/>
                  </a:lnTo>
                  <a:lnTo>
                    <a:pt x="1000" y="59"/>
                  </a:lnTo>
                  <a:lnTo>
                    <a:pt x="1022" y="62"/>
                  </a:lnTo>
                  <a:lnTo>
                    <a:pt x="1043" y="69"/>
                  </a:lnTo>
                  <a:lnTo>
                    <a:pt x="1064" y="77"/>
                  </a:lnTo>
                  <a:lnTo>
                    <a:pt x="1081" y="89"/>
                  </a:lnTo>
                  <a:lnTo>
                    <a:pt x="1095" y="104"/>
                  </a:lnTo>
                  <a:lnTo>
                    <a:pt x="1106" y="121"/>
                  </a:lnTo>
                  <a:lnTo>
                    <a:pt x="1115" y="140"/>
                  </a:lnTo>
                  <a:lnTo>
                    <a:pt x="1125" y="159"/>
                  </a:lnTo>
                  <a:lnTo>
                    <a:pt x="1135" y="176"/>
                  </a:lnTo>
                  <a:lnTo>
                    <a:pt x="1148" y="191"/>
                  </a:lnTo>
                  <a:lnTo>
                    <a:pt x="1165" y="203"/>
                  </a:lnTo>
                  <a:lnTo>
                    <a:pt x="1209" y="220"/>
                  </a:lnTo>
                  <a:lnTo>
                    <a:pt x="1255" y="232"/>
                  </a:lnTo>
                  <a:lnTo>
                    <a:pt x="1303" y="239"/>
                  </a:lnTo>
                  <a:lnTo>
                    <a:pt x="1354" y="241"/>
                  </a:lnTo>
                  <a:lnTo>
                    <a:pt x="1406" y="239"/>
                  </a:lnTo>
                  <a:lnTo>
                    <a:pt x="1458" y="233"/>
                  </a:lnTo>
                  <a:lnTo>
                    <a:pt x="1508" y="225"/>
                  </a:lnTo>
                  <a:lnTo>
                    <a:pt x="1559" y="215"/>
                  </a:lnTo>
                  <a:lnTo>
                    <a:pt x="1607" y="203"/>
                  </a:lnTo>
                  <a:lnTo>
                    <a:pt x="1653" y="190"/>
                  </a:lnTo>
                  <a:lnTo>
                    <a:pt x="1696" y="178"/>
                  </a:lnTo>
                  <a:lnTo>
                    <a:pt x="1735" y="165"/>
                  </a:lnTo>
                  <a:lnTo>
                    <a:pt x="1770" y="153"/>
                  </a:lnTo>
                  <a:lnTo>
                    <a:pt x="1799" y="144"/>
                  </a:lnTo>
                  <a:lnTo>
                    <a:pt x="1822" y="137"/>
                  </a:lnTo>
                  <a:lnTo>
                    <a:pt x="1838" y="133"/>
                  </a:lnTo>
                  <a:lnTo>
                    <a:pt x="1860" y="129"/>
                  </a:lnTo>
                  <a:lnTo>
                    <a:pt x="1877" y="130"/>
                  </a:lnTo>
                  <a:lnTo>
                    <a:pt x="1890" y="135"/>
                  </a:lnTo>
                  <a:lnTo>
                    <a:pt x="1900" y="143"/>
                  </a:lnTo>
                  <a:lnTo>
                    <a:pt x="1908" y="152"/>
                  </a:lnTo>
                  <a:lnTo>
                    <a:pt x="1917" y="163"/>
                  </a:lnTo>
                  <a:lnTo>
                    <a:pt x="1928" y="173"/>
                  </a:lnTo>
                  <a:lnTo>
                    <a:pt x="1940" y="183"/>
                  </a:lnTo>
                  <a:lnTo>
                    <a:pt x="1956" y="191"/>
                  </a:lnTo>
                  <a:lnTo>
                    <a:pt x="1975" y="197"/>
                  </a:lnTo>
                  <a:lnTo>
                    <a:pt x="1996" y="203"/>
                  </a:lnTo>
                  <a:lnTo>
                    <a:pt x="2017" y="209"/>
                  </a:lnTo>
                  <a:lnTo>
                    <a:pt x="2042" y="213"/>
                  </a:lnTo>
                  <a:lnTo>
                    <a:pt x="2067" y="217"/>
                  </a:lnTo>
                  <a:lnTo>
                    <a:pt x="2093" y="220"/>
                  </a:lnTo>
                  <a:lnTo>
                    <a:pt x="2122" y="223"/>
                  </a:lnTo>
                  <a:lnTo>
                    <a:pt x="2151" y="224"/>
                  </a:lnTo>
                  <a:lnTo>
                    <a:pt x="2181" y="225"/>
                  </a:lnTo>
                  <a:lnTo>
                    <a:pt x="2211" y="226"/>
                  </a:lnTo>
                  <a:lnTo>
                    <a:pt x="2242" y="226"/>
                  </a:lnTo>
                  <a:lnTo>
                    <a:pt x="2274" y="226"/>
                  </a:lnTo>
                  <a:lnTo>
                    <a:pt x="2305" y="226"/>
                  </a:lnTo>
                  <a:lnTo>
                    <a:pt x="2338" y="225"/>
                  </a:lnTo>
                  <a:lnTo>
                    <a:pt x="2369" y="224"/>
                  </a:lnTo>
                  <a:lnTo>
                    <a:pt x="2400" y="221"/>
                  </a:lnTo>
                  <a:lnTo>
                    <a:pt x="2430" y="220"/>
                  </a:lnTo>
                  <a:lnTo>
                    <a:pt x="2460" y="218"/>
                  </a:lnTo>
                  <a:lnTo>
                    <a:pt x="2490" y="216"/>
                  </a:lnTo>
                  <a:lnTo>
                    <a:pt x="2517" y="215"/>
                  </a:lnTo>
                  <a:lnTo>
                    <a:pt x="2544" y="212"/>
                  </a:lnTo>
                  <a:lnTo>
                    <a:pt x="2569" y="210"/>
                  </a:lnTo>
                  <a:lnTo>
                    <a:pt x="2593" y="208"/>
                  </a:lnTo>
                  <a:lnTo>
                    <a:pt x="2615" y="205"/>
                  </a:lnTo>
                  <a:lnTo>
                    <a:pt x="2636" y="203"/>
                  </a:lnTo>
                  <a:lnTo>
                    <a:pt x="2655" y="201"/>
                  </a:lnTo>
                  <a:lnTo>
                    <a:pt x="2671" y="198"/>
                  </a:lnTo>
                  <a:lnTo>
                    <a:pt x="2684" y="196"/>
                  </a:lnTo>
                  <a:lnTo>
                    <a:pt x="2696" y="195"/>
                  </a:lnTo>
                  <a:lnTo>
                    <a:pt x="2704" y="194"/>
                  </a:lnTo>
                  <a:lnTo>
                    <a:pt x="2710" y="193"/>
                  </a:lnTo>
                  <a:lnTo>
                    <a:pt x="2718" y="191"/>
                  </a:lnTo>
                  <a:lnTo>
                    <a:pt x="2726" y="189"/>
                  </a:lnTo>
                  <a:lnTo>
                    <a:pt x="2733" y="185"/>
                  </a:lnTo>
                  <a:lnTo>
                    <a:pt x="2739" y="180"/>
                  </a:lnTo>
                  <a:lnTo>
                    <a:pt x="2743" y="173"/>
                  </a:lnTo>
                  <a:lnTo>
                    <a:pt x="2747" y="166"/>
                  </a:lnTo>
                  <a:lnTo>
                    <a:pt x="2748" y="158"/>
                  </a:lnTo>
                  <a:lnTo>
                    <a:pt x="2749" y="150"/>
                  </a:lnTo>
                  <a:lnTo>
                    <a:pt x="2748" y="142"/>
                  </a:lnTo>
                  <a:lnTo>
                    <a:pt x="2744" y="135"/>
                  </a:lnTo>
                  <a:lnTo>
                    <a:pt x="2740" y="128"/>
                  </a:lnTo>
                  <a:lnTo>
                    <a:pt x="2734" y="122"/>
                  </a:lnTo>
                  <a:lnTo>
                    <a:pt x="2728" y="118"/>
                  </a:lnTo>
                  <a:lnTo>
                    <a:pt x="2721" y="114"/>
                  </a:lnTo>
                  <a:lnTo>
                    <a:pt x="2713" y="113"/>
                  </a:lnTo>
                  <a:lnTo>
                    <a:pt x="2705" y="113"/>
                  </a:lnTo>
                  <a:lnTo>
                    <a:pt x="2659" y="111"/>
                  </a:lnTo>
                  <a:lnTo>
                    <a:pt x="2608" y="111"/>
                  </a:lnTo>
                  <a:lnTo>
                    <a:pt x="2554" y="112"/>
                  </a:lnTo>
                  <a:lnTo>
                    <a:pt x="2499" y="114"/>
                  </a:lnTo>
                  <a:lnTo>
                    <a:pt x="2443" y="118"/>
                  </a:lnTo>
                  <a:lnTo>
                    <a:pt x="2386" y="121"/>
                  </a:lnTo>
                  <a:lnTo>
                    <a:pt x="2330" y="125"/>
                  </a:lnTo>
                  <a:lnTo>
                    <a:pt x="2274" y="128"/>
                  </a:lnTo>
                  <a:lnTo>
                    <a:pt x="2221" y="132"/>
                  </a:lnTo>
                  <a:lnTo>
                    <a:pt x="2173" y="134"/>
                  </a:lnTo>
                  <a:lnTo>
                    <a:pt x="2128" y="134"/>
                  </a:lnTo>
                  <a:lnTo>
                    <a:pt x="2089" y="134"/>
                  </a:lnTo>
                  <a:lnTo>
                    <a:pt x="2054" y="130"/>
                  </a:lnTo>
                  <a:lnTo>
                    <a:pt x="2028" y="126"/>
                  </a:lnTo>
                  <a:lnTo>
                    <a:pt x="2009" y="118"/>
                  </a:lnTo>
                  <a:lnTo>
                    <a:pt x="1999" y="107"/>
                  </a:lnTo>
                  <a:lnTo>
                    <a:pt x="1986" y="86"/>
                  </a:lnTo>
                  <a:lnTo>
                    <a:pt x="1969" y="67"/>
                  </a:lnTo>
                  <a:lnTo>
                    <a:pt x="1948" y="54"/>
                  </a:lnTo>
                  <a:lnTo>
                    <a:pt x="1925" y="45"/>
                  </a:lnTo>
                  <a:lnTo>
                    <a:pt x="1900" y="39"/>
                  </a:lnTo>
                  <a:lnTo>
                    <a:pt x="1873" y="37"/>
                  </a:lnTo>
                  <a:lnTo>
                    <a:pt x="1846" y="38"/>
                  </a:lnTo>
                  <a:lnTo>
                    <a:pt x="1817" y="43"/>
                  </a:lnTo>
                  <a:lnTo>
                    <a:pt x="1787" y="49"/>
                  </a:lnTo>
                  <a:lnTo>
                    <a:pt x="1757" y="56"/>
                  </a:lnTo>
                  <a:lnTo>
                    <a:pt x="1728" y="62"/>
                  </a:lnTo>
                  <a:lnTo>
                    <a:pt x="1698" y="69"/>
                  </a:lnTo>
                  <a:lnTo>
                    <a:pt x="1671" y="76"/>
                  </a:lnTo>
                  <a:lnTo>
                    <a:pt x="1642" y="84"/>
                  </a:lnTo>
                  <a:lnTo>
                    <a:pt x="1613" y="91"/>
                  </a:lnTo>
                  <a:lnTo>
                    <a:pt x="1585" y="99"/>
                  </a:lnTo>
                  <a:lnTo>
                    <a:pt x="1557" y="107"/>
                  </a:lnTo>
                  <a:lnTo>
                    <a:pt x="1529" y="115"/>
                  </a:lnTo>
                  <a:lnTo>
                    <a:pt x="1501" y="122"/>
                  </a:lnTo>
                  <a:lnTo>
                    <a:pt x="1473" y="130"/>
                  </a:lnTo>
                  <a:lnTo>
                    <a:pt x="1444" y="138"/>
                  </a:lnTo>
                  <a:lnTo>
                    <a:pt x="1415" y="145"/>
                  </a:lnTo>
                  <a:lnTo>
                    <a:pt x="1386" y="153"/>
                  </a:lnTo>
                  <a:lnTo>
                    <a:pt x="1356" y="160"/>
                  </a:lnTo>
                  <a:lnTo>
                    <a:pt x="1337" y="164"/>
                  </a:lnTo>
                  <a:lnTo>
                    <a:pt x="1317" y="166"/>
                  </a:lnTo>
                  <a:lnTo>
                    <a:pt x="1300" y="165"/>
                  </a:lnTo>
                  <a:lnTo>
                    <a:pt x="1282" y="163"/>
                  </a:lnTo>
                  <a:lnTo>
                    <a:pt x="1266" y="158"/>
                  </a:lnTo>
                  <a:lnTo>
                    <a:pt x="1251" y="152"/>
                  </a:lnTo>
                  <a:lnTo>
                    <a:pt x="1236" y="145"/>
                  </a:lnTo>
                  <a:lnTo>
                    <a:pt x="1223" y="137"/>
                  </a:lnTo>
                  <a:lnTo>
                    <a:pt x="1209" y="127"/>
                  </a:lnTo>
                  <a:lnTo>
                    <a:pt x="1196" y="117"/>
                  </a:lnTo>
                  <a:lnTo>
                    <a:pt x="1183" y="105"/>
                  </a:lnTo>
                  <a:lnTo>
                    <a:pt x="1171" y="94"/>
                  </a:lnTo>
                  <a:lnTo>
                    <a:pt x="1158" y="81"/>
                  </a:lnTo>
                  <a:lnTo>
                    <a:pt x="1145" y="68"/>
                  </a:lnTo>
                  <a:lnTo>
                    <a:pt x="1133" y="56"/>
                  </a:lnTo>
                  <a:lnTo>
                    <a:pt x="1120" y="43"/>
                  </a:lnTo>
                  <a:lnTo>
                    <a:pt x="1108" y="33"/>
                  </a:lnTo>
                  <a:lnTo>
                    <a:pt x="1096" y="24"/>
                  </a:lnTo>
                  <a:lnTo>
                    <a:pt x="1082" y="16"/>
                  </a:lnTo>
                  <a:lnTo>
                    <a:pt x="1068" y="11"/>
                  </a:lnTo>
                  <a:lnTo>
                    <a:pt x="1054" y="7"/>
                  </a:lnTo>
                  <a:lnTo>
                    <a:pt x="1039" y="4"/>
                  </a:lnTo>
                  <a:lnTo>
                    <a:pt x="1023" y="1"/>
                  </a:lnTo>
                  <a:lnTo>
                    <a:pt x="1008" y="0"/>
                  </a:lnTo>
                  <a:lnTo>
                    <a:pt x="992" y="0"/>
                  </a:lnTo>
                  <a:lnTo>
                    <a:pt x="976" y="0"/>
                  </a:lnTo>
                  <a:lnTo>
                    <a:pt x="960" y="3"/>
                  </a:lnTo>
                  <a:lnTo>
                    <a:pt x="944" y="4"/>
                  </a:lnTo>
                  <a:lnTo>
                    <a:pt x="928" y="6"/>
                  </a:lnTo>
                  <a:lnTo>
                    <a:pt x="911" y="9"/>
                  </a:lnTo>
                  <a:lnTo>
                    <a:pt x="895" y="13"/>
                  </a:lnTo>
                  <a:lnTo>
                    <a:pt x="880" y="16"/>
                  </a:lnTo>
                  <a:lnTo>
                    <a:pt x="834" y="28"/>
                  </a:lnTo>
                  <a:lnTo>
                    <a:pt x="788" y="41"/>
                  </a:lnTo>
                  <a:lnTo>
                    <a:pt x="742" y="54"/>
                  </a:lnTo>
                  <a:lnTo>
                    <a:pt x="697" y="67"/>
                  </a:lnTo>
                  <a:lnTo>
                    <a:pt x="653" y="81"/>
                  </a:lnTo>
                  <a:lnTo>
                    <a:pt x="609" y="96"/>
                  </a:lnTo>
                  <a:lnTo>
                    <a:pt x="565" y="110"/>
                  </a:lnTo>
                  <a:lnTo>
                    <a:pt x="520" y="124"/>
                  </a:lnTo>
                  <a:lnTo>
                    <a:pt x="476" y="138"/>
                  </a:lnTo>
                  <a:lnTo>
                    <a:pt x="431" y="152"/>
                  </a:lnTo>
                  <a:lnTo>
                    <a:pt x="387" y="166"/>
                  </a:lnTo>
                  <a:lnTo>
                    <a:pt x="342" y="180"/>
                  </a:lnTo>
                  <a:lnTo>
                    <a:pt x="297" y="193"/>
                  </a:lnTo>
                  <a:lnTo>
                    <a:pt x="251" y="205"/>
                  </a:lnTo>
                  <a:lnTo>
                    <a:pt x="205" y="218"/>
                  </a:lnTo>
                  <a:lnTo>
                    <a:pt x="158" y="229"/>
                  </a:lnTo>
                  <a:lnTo>
                    <a:pt x="137" y="233"/>
                  </a:lnTo>
                  <a:lnTo>
                    <a:pt x="118" y="233"/>
                  </a:lnTo>
                  <a:lnTo>
                    <a:pt x="99" y="231"/>
                  </a:lnTo>
                  <a:lnTo>
                    <a:pt x="80" y="226"/>
                  </a:lnTo>
                  <a:lnTo>
                    <a:pt x="61" y="220"/>
                  </a:lnTo>
                  <a:lnTo>
                    <a:pt x="43" y="213"/>
                  </a:lnTo>
                  <a:lnTo>
                    <a:pt x="26" y="205"/>
                  </a:lnTo>
                  <a:lnTo>
                    <a:pt x="7" y="197"/>
                  </a:lnTo>
                  <a:lnTo>
                    <a:pt x="7" y="197"/>
                  </a:lnTo>
                  <a:lnTo>
                    <a:pt x="5" y="196"/>
                  </a:lnTo>
                  <a:lnTo>
                    <a:pt x="4" y="196"/>
                  </a:lnTo>
                  <a:lnTo>
                    <a:pt x="3" y="198"/>
                  </a:lnTo>
                  <a:lnTo>
                    <a:pt x="1" y="200"/>
                  </a:lnTo>
                  <a:lnTo>
                    <a:pt x="0" y="201"/>
                  </a:lnTo>
                  <a:lnTo>
                    <a:pt x="1" y="203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4" y="20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80200" y="5780160"/>
              <a:ext cx="1755720" cy="241200"/>
            </a:xfrm>
            <a:custGeom>
              <a:avLst/>
              <a:gdLst/>
              <a:ahLst/>
              <a:rect l="l" t="t" r="r" b="b"/>
              <a:pathLst>
                <a:path w="2213" h="304">
                  <a:moveTo>
                    <a:pt x="3" y="182"/>
                  </a:moveTo>
                  <a:lnTo>
                    <a:pt x="21" y="190"/>
                  </a:lnTo>
                  <a:lnTo>
                    <a:pt x="39" y="196"/>
                  </a:lnTo>
                  <a:lnTo>
                    <a:pt x="58" y="202"/>
                  </a:lnTo>
                  <a:lnTo>
                    <a:pt x="76" y="206"/>
                  </a:lnTo>
                  <a:lnTo>
                    <a:pt x="95" y="210"/>
                  </a:lnTo>
                  <a:lnTo>
                    <a:pt x="114" y="212"/>
                  </a:lnTo>
                  <a:lnTo>
                    <a:pt x="134" y="213"/>
                  </a:lnTo>
                  <a:lnTo>
                    <a:pt x="152" y="214"/>
                  </a:lnTo>
                  <a:lnTo>
                    <a:pt x="172" y="216"/>
                  </a:lnTo>
                  <a:lnTo>
                    <a:pt x="192" y="216"/>
                  </a:lnTo>
                  <a:lnTo>
                    <a:pt x="211" y="214"/>
                  </a:lnTo>
                  <a:lnTo>
                    <a:pt x="231" y="214"/>
                  </a:lnTo>
                  <a:lnTo>
                    <a:pt x="250" y="213"/>
                  </a:lnTo>
                  <a:lnTo>
                    <a:pt x="269" y="212"/>
                  </a:lnTo>
                  <a:lnTo>
                    <a:pt x="288" y="210"/>
                  </a:lnTo>
                  <a:lnTo>
                    <a:pt x="308" y="209"/>
                  </a:lnTo>
                  <a:lnTo>
                    <a:pt x="338" y="206"/>
                  </a:lnTo>
                  <a:lnTo>
                    <a:pt x="368" y="204"/>
                  </a:lnTo>
                  <a:lnTo>
                    <a:pt x="399" y="201"/>
                  </a:lnTo>
                  <a:lnTo>
                    <a:pt x="429" y="197"/>
                  </a:lnTo>
                  <a:lnTo>
                    <a:pt x="461" y="194"/>
                  </a:lnTo>
                  <a:lnTo>
                    <a:pt x="492" y="190"/>
                  </a:lnTo>
                  <a:lnTo>
                    <a:pt x="523" y="186"/>
                  </a:lnTo>
                  <a:lnTo>
                    <a:pt x="556" y="181"/>
                  </a:lnTo>
                  <a:lnTo>
                    <a:pt x="587" y="176"/>
                  </a:lnTo>
                  <a:lnTo>
                    <a:pt x="619" y="172"/>
                  </a:lnTo>
                  <a:lnTo>
                    <a:pt x="650" y="166"/>
                  </a:lnTo>
                  <a:lnTo>
                    <a:pt x="681" y="162"/>
                  </a:lnTo>
                  <a:lnTo>
                    <a:pt x="711" y="156"/>
                  </a:lnTo>
                  <a:lnTo>
                    <a:pt x="742" y="151"/>
                  </a:lnTo>
                  <a:lnTo>
                    <a:pt x="771" y="145"/>
                  </a:lnTo>
                  <a:lnTo>
                    <a:pt x="801" y="141"/>
                  </a:lnTo>
                  <a:lnTo>
                    <a:pt x="829" y="135"/>
                  </a:lnTo>
                  <a:lnTo>
                    <a:pt x="857" y="129"/>
                  </a:lnTo>
                  <a:lnTo>
                    <a:pt x="884" y="125"/>
                  </a:lnTo>
                  <a:lnTo>
                    <a:pt x="910" y="120"/>
                  </a:lnTo>
                  <a:lnTo>
                    <a:pt x="935" y="114"/>
                  </a:lnTo>
                  <a:lnTo>
                    <a:pt x="959" y="110"/>
                  </a:lnTo>
                  <a:lnTo>
                    <a:pt x="982" y="105"/>
                  </a:lnTo>
                  <a:lnTo>
                    <a:pt x="1004" y="100"/>
                  </a:lnTo>
                  <a:lnTo>
                    <a:pt x="1023" y="97"/>
                  </a:lnTo>
                  <a:lnTo>
                    <a:pt x="1043" y="92"/>
                  </a:lnTo>
                  <a:lnTo>
                    <a:pt x="1060" y="89"/>
                  </a:lnTo>
                  <a:lnTo>
                    <a:pt x="1076" y="85"/>
                  </a:lnTo>
                  <a:lnTo>
                    <a:pt x="1090" y="83"/>
                  </a:lnTo>
                  <a:lnTo>
                    <a:pt x="1103" y="80"/>
                  </a:lnTo>
                  <a:lnTo>
                    <a:pt x="1113" y="79"/>
                  </a:lnTo>
                  <a:lnTo>
                    <a:pt x="1122" y="76"/>
                  </a:lnTo>
                  <a:lnTo>
                    <a:pt x="1151" y="71"/>
                  </a:lnTo>
                  <a:lnTo>
                    <a:pt x="1178" y="64"/>
                  </a:lnTo>
                  <a:lnTo>
                    <a:pt x="1202" y="59"/>
                  </a:lnTo>
                  <a:lnTo>
                    <a:pt x="1221" y="56"/>
                  </a:lnTo>
                  <a:lnTo>
                    <a:pt x="1239" y="54"/>
                  </a:lnTo>
                  <a:lnTo>
                    <a:pt x="1251" y="57"/>
                  </a:lnTo>
                  <a:lnTo>
                    <a:pt x="1261" y="62"/>
                  </a:lnTo>
                  <a:lnTo>
                    <a:pt x="1265" y="73"/>
                  </a:lnTo>
                  <a:lnTo>
                    <a:pt x="1269" y="89"/>
                  </a:lnTo>
                  <a:lnTo>
                    <a:pt x="1277" y="113"/>
                  </a:lnTo>
                  <a:lnTo>
                    <a:pt x="1288" y="140"/>
                  </a:lnTo>
                  <a:lnTo>
                    <a:pt x="1304" y="167"/>
                  </a:lnTo>
                  <a:lnTo>
                    <a:pt x="1327" y="195"/>
                  </a:lnTo>
                  <a:lnTo>
                    <a:pt x="1357" y="217"/>
                  </a:lnTo>
                  <a:lnTo>
                    <a:pt x="1395" y="233"/>
                  </a:lnTo>
                  <a:lnTo>
                    <a:pt x="1443" y="239"/>
                  </a:lnTo>
                  <a:lnTo>
                    <a:pt x="1488" y="238"/>
                  </a:lnTo>
                  <a:lnTo>
                    <a:pt x="1529" y="235"/>
                  </a:lnTo>
                  <a:lnTo>
                    <a:pt x="1571" y="232"/>
                  </a:lnTo>
                  <a:lnTo>
                    <a:pt x="1610" y="227"/>
                  </a:lnTo>
                  <a:lnTo>
                    <a:pt x="1649" y="223"/>
                  </a:lnTo>
                  <a:lnTo>
                    <a:pt x="1687" y="218"/>
                  </a:lnTo>
                  <a:lnTo>
                    <a:pt x="1726" y="214"/>
                  </a:lnTo>
                  <a:lnTo>
                    <a:pt x="1765" y="211"/>
                  </a:lnTo>
                  <a:lnTo>
                    <a:pt x="1806" y="211"/>
                  </a:lnTo>
                  <a:lnTo>
                    <a:pt x="1848" y="213"/>
                  </a:lnTo>
                  <a:lnTo>
                    <a:pt x="1892" y="218"/>
                  </a:lnTo>
                  <a:lnTo>
                    <a:pt x="1939" y="226"/>
                  </a:lnTo>
                  <a:lnTo>
                    <a:pt x="1989" y="238"/>
                  </a:lnTo>
                  <a:lnTo>
                    <a:pt x="2042" y="254"/>
                  </a:lnTo>
                  <a:lnTo>
                    <a:pt x="2099" y="276"/>
                  </a:lnTo>
                  <a:lnTo>
                    <a:pt x="2160" y="302"/>
                  </a:lnTo>
                  <a:lnTo>
                    <a:pt x="2168" y="304"/>
                  </a:lnTo>
                  <a:lnTo>
                    <a:pt x="2177" y="304"/>
                  </a:lnTo>
                  <a:lnTo>
                    <a:pt x="2185" y="303"/>
                  </a:lnTo>
                  <a:lnTo>
                    <a:pt x="2191" y="300"/>
                  </a:lnTo>
                  <a:lnTo>
                    <a:pt x="2198" y="294"/>
                  </a:lnTo>
                  <a:lnTo>
                    <a:pt x="2204" y="288"/>
                  </a:lnTo>
                  <a:lnTo>
                    <a:pt x="2209" y="281"/>
                  </a:lnTo>
                  <a:lnTo>
                    <a:pt x="2212" y="273"/>
                  </a:lnTo>
                  <a:lnTo>
                    <a:pt x="2213" y="265"/>
                  </a:lnTo>
                  <a:lnTo>
                    <a:pt x="2213" y="257"/>
                  </a:lnTo>
                  <a:lnTo>
                    <a:pt x="2211" y="249"/>
                  </a:lnTo>
                  <a:lnTo>
                    <a:pt x="2209" y="242"/>
                  </a:lnTo>
                  <a:lnTo>
                    <a:pt x="2204" y="235"/>
                  </a:lnTo>
                  <a:lnTo>
                    <a:pt x="2198" y="229"/>
                  </a:lnTo>
                  <a:lnTo>
                    <a:pt x="2191" y="226"/>
                  </a:lnTo>
                  <a:lnTo>
                    <a:pt x="2183" y="223"/>
                  </a:lnTo>
                  <a:lnTo>
                    <a:pt x="2140" y="204"/>
                  </a:lnTo>
                  <a:lnTo>
                    <a:pt x="2097" y="188"/>
                  </a:lnTo>
                  <a:lnTo>
                    <a:pt x="2053" y="174"/>
                  </a:lnTo>
                  <a:lnTo>
                    <a:pt x="2011" y="162"/>
                  </a:lnTo>
                  <a:lnTo>
                    <a:pt x="1967" y="151"/>
                  </a:lnTo>
                  <a:lnTo>
                    <a:pt x="1923" y="142"/>
                  </a:lnTo>
                  <a:lnTo>
                    <a:pt x="1879" y="135"/>
                  </a:lnTo>
                  <a:lnTo>
                    <a:pt x="1836" y="129"/>
                  </a:lnTo>
                  <a:lnTo>
                    <a:pt x="1791" y="127"/>
                  </a:lnTo>
                  <a:lnTo>
                    <a:pt x="1744" y="126"/>
                  </a:lnTo>
                  <a:lnTo>
                    <a:pt x="1698" y="127"/>
                  </a:lnTo>
                  <a:lnTo>
                    <a:pt x="1652" y="129"/>
                  </a:lnTo>
                  <a:lnTo>
                    <a:pt x="1605" y="134"/>
                  </a:lnTo>
                  <a:lnTo>
                    <a:pt x="1557" y="141"/>
                  </a:lnTo>
                  <a:lnTo>
                    <a:pt x="1507" y="150"/>
                  </a:lnTo>
                  <a:lnTo>
                    <a:pt x="1456" y="162"/>
                  </a:lnTo>
                  <a:lnTo>
                    <a:pt x="1446" y="163"/>
                  </a:lnTo>
                  <a:lnTo>
                    <a:pt x="1436" y="164"/>
                  </a:lnTo>
                  <a:lnTo>
                    <a:pt x="1425" y="164"/>
                  </a:lnTo>
                  <a:lnTo>
                    <a:pt x="1416" y="163"/>
                  </a:lnTo>
                  <a:lnTo>
                    <a:pt x="1406" y="160"/>
                  </a:lnTo>
                  <a:lnTo>
                    <a:pt x="1397" y="157"/>
                  </a:lnTo>
                  <a:lnTo>
                    <a:pt x="1389" y="152"/>
                  </a:lnTo>
                  <a:lnTo>
                    <a:pt x="1380" y="147"/>
                  </a:lnTo>
                  <a:lnTo>
                    <a:pt x="1362" y="126"/>
                  </a:lnTo>
                  <a:lnTo>
                    <a:pt x="1346" y="102"/>
                  </a:lnTo>
                  <a:lnTo>
                    <a:pt x="1333" y="76"/>
                  </a:lnTo>
                  <a:lnTo>
                    <a:pt x="1319" y="52"/>
                  </a:lnTo>
                  <a:lnTo>
                    <a:pt x="1304" y="30"/>
                  </a:lnTo>
                  <a:lnTo>
                    <a:pt x="1285" y="13"/>
                  </a:lnTo>
                  <a:lnTo>
                    <a:pt x="1258" y="3"/>
                  </a:lnTo>
                  <a:lnTo>
                    <a:pt x="1224" y="0"/>
                  </a:lnTo>
                  <a:lnTo>
                    <a:pt x="1186" y="4"/>
                  </a:lnTo>
                  <a:lnTo>
                    <a:pt x="1147" y="8"/>
                  </a:lnTo>
                  <a:lnTo>
                    <a:pt x="1109" y="14"/>
                  </a:lnTo>
                  <a:lnTo>
                    <a:pt x="1071" y="20"/>
                  </a:lnTo>
                  <a:lnTo>
                    <a:pt x="1033" y="27"/>
                  </a:lnTo>
                  <a:lnTo>
                    <a:pt x="995" y="34"/>
                  </a:lnTo>
                  <a:lnTo>
                    <a:pt x="956" y="42"/>
                  </a:lnTo>
                  <a:lnTo>
                    <a:pt x="918" y="51"/>
                  </a:lnTo>
                  <a:lnTo>
                    <a:pt x="880" y="60"/>
                  </a:lnTo>
                  <a:lnTo>
                    <a:pt x="844" y="68"/>
                  </a:lnTo>
                  <a:lnTo>
                    <a:pt x="806" y="79"/>
                  </a:lnTo>
                  <a:lnTo>
                    <a:pt x="768" y="88"/>
                  </a:lnTo>
                  <a:lnTo>
                    <a:pt x="730" y="97"/>
                  </a:lnTo>
                  <a:lnTo>
                    <a:pt x="693" y="106"/>
                  </a:lnTo>
                  <a:lnTo>
                    <a:pt x="655" y="115"/>
                  </a:lnTo>
                  <a:lnTo>
                    <a:pt x="617" y="125"/>
                  </a:lnTo>
                  <a:lnTo>
                    <a:pt x="579" y="134"/>
                  </a:lnTo>
                  <a:lnTo>
                    <a:pt x="542" y="142"/>
                  </a:lnTo>
                  <a:lnTo>
                    <a:pt x="504" y="150"/>
                  </a:lnTo>
                  <a:lnTo>
                    <a:pt x="466" y="158"/>
                  </a:lnTo>
                  <a:lnTo>
                    <a:pt x="428" y="165"/>
                  </a:lnTo>
                  <a:lnTo>
                    <a:pt x="390" y="171"/>
                  </a:lnTo>
                  <a:lnTo>
                    <a:pt x="352" y="175"/>
                  </a:lnTo>
                  <a:lnTo>
                    <a:pt x="314" y="180"/>
                  </a:lnTo>
                  <a:lnTo>
                    <a:pt x="276" y="183"/>
                  </a:lnTo>
                  <a:lnTo>
                    <a:pt x="238" y="186"/>
                  </a:lnTo>
                  <a:lnTo>
                    <a:pt x="200" y="187"/>
                  </a:lnTo>
                  <a:lnTo>
                    <a:pt x="162" y="187"/>
                  </a:lnTo>
                  <a:lnTo>
                    <a:pt x="124" y="186"/>
                  </a:lnTo>
                  <a:lnTo>
                    <a:pt x="84" y="183"/>
                  </a:lnTo>
                  <a:lnTo>
                    <a:pt x="46" y="179"/>
                  </a:lnTo>
                  <a:lnTo>
                    <a:pt x="7" y="173"/>
                  </a:lnTo>
                  <a:lnTo>
                    <a:pt x="7" y="173"/>
                  </a:lnTo>
                  <a:lnTo>
                    <a:pt x="5" y="173"/>
                  </a:lnTo>
                  <a:lnTo>
                    <a:pt x="4" y="173"/>
                  </a:lnTo>
                  <a:lnTo>
                    <a:pt x="1" y="174"/>
                  </a:lnTo>
                  <a:lnTo>
                    <a:pt x="0" y="175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1" y="181"/>
                  </a:lnTo>
                  <a:lnTo>
                    <a:pt x="3" y="182"/>
                  </a:lnTo>
                  <a:lnTo>
                    <a:pt x="3" y="18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06760" y="5721480"/>
              <a:ext cx="547560" cy="442800"/>
            </a:xfrm>
            <a:custGeom>
              <a:avLst/>
              <a:gdLst/>
              <a:ahLst/>
              <a:rect l="l" t="t" r="r" b="b"/>
              <a:pathLst>
                <a:path w="690" h="558">
                  <a:moveTo>
                    <a:pt x="689" y="286"/>
                  </a:moveTo>
                  <a:lnTo>
                    <a:pt x="679" y="261"/>
                  </a:lnTo>
                  <a:lnTo>
                    <a:pt x="668" y="236"/>
                  </a:lnTo>
                  <a:lnTo>
                    <a:pt x="657" y="211"/>
                  </a:lnTo>
                  <a:lnTo>
                    <a:pt x="644" y="187"/>
                  </a:lnTo>
                  <a:lnTo>
                    <a:pt x="630" y="165"/>
                  </a:lnTo>
                  <a:lnTo>
                    <a:pt x="615" y="144"/>
                  </a:lnTo>
                  <a:lnTo>
                    <a:pt x="599" y="124"/>
                  </a:lnTo>
                  <a:lnTo>
                    <a:pt x="581" y="104"/>
                  </a:lnTo>
                  <a:lnTo>
                    <a:pt x="561" y="87"/>
                  </a:lnTo>
                  <a:lnTo>
                    <a:pt x="540" y="70"/>
                  </a:lnTo>
                  <a:lnTo>
                    <a:pt x="516" y="55"/>
                  </a:lnTo>
                  <a:lnTo>
                    <a:pt x="491" y="42"/>
                  </a:lnTo>
                  <a:lnTo>
                    <a:pt x="463" y="29"/>
                  </a:lnTo>
                  <a:lnTo>
                    <a:pt x="433" y="19"/>
                  </a:lnTo>
                  <a:lnTo>
                    <a:pt x="400" y="11"/>
                  </a:lnTo>
                  <a:lnTo>
                    <a:pt x="364" y="4"/>
                  </a:lnTo>
                  <a:lnTo>
                    <a:pt x="327" y="1"/>
                  </a:lnTo>
                  <a:lnTo>
                    <a:pt x="292" y="0"/>
                  </a:lnTo>
                  <a:lnTo>
                    <a:pt x="257" y="2"/>
                  </a:lnTo>
                  <a:lnTo>
                    <a:pt x="225" y="9"/>
                  </a:lnTo>
                  <a:lnTo>
                    <a:pt x="193" y="17"/>
                  </a:lnTo>
                  <a:lnTo>
                    <a:pt x="163" y="29"/>
                  </a:lnTo>
                  <a:lnTo>
                    <a:pt x="135" y="43"/>
                  </a:lnTo>
                  <a:lnTo>
                    <a:pt x="108" y="61"/>
                  </a:lnTo>
                  <a:lnTo>
                    <a:pt x="85" y="79"/>
                  </a:lnTo>
                  <a:lnTo>
                    <a:pt x="64" y="101"/>
                  </a:lnTo>
                  <a:lnTo>
                    <a:pt x="45" y="124"/>
                  </a:lnTo>
                  <a:lnTo>
                    <a:pt x="30" y="149"/>
                  </a:lnTo>
                  <a:lnTo>
                    <a:pt x="17" y="176"/>
                  </a:lnTo>
                  <a:lnTo>
                    <a:pt x="8" y="203"/>
                  </a:lnTo>
                  <a:lnTo>
                    <a:pt x="2" y="233"/>
                  </a:lnTo>
                  <a:lnTo>
                    <a:pt x="0" y="263"/>
                  </a:lnTo>
                  <a:lnTo>
                    <a:pt x="1" y="293"/>
                  </a:lnTo>
                  <a:lnTo>
                    <a:pt x="6" y="323"/>
                  </a:lnTo>
                  <a:lnTo>
                    <a:pt x="12" y="351"/>
                  </a:lnTo>
                  <a:lnTo>
                    <a:pt x="21" y="376"/>
                  </a:lnTo>
                  <a:lnTo>
                    <a:pt x="31" y="402"/>
                  </a:lnTo>
                  <a:lnTo>
                    <a:pt x="45" y="425"/>
                  </a:lnTo>
                  <a:lnTo>
                    <a:pt x="59" y="445"/>
                  </a:lnTo>
                  <a:lnTo>
                    <a:pt x="75" y="465"/>
                  </a:lnTo>
                  <a:lnTo>
                    <a:pt x="92" y="483"/>
                  </a:lnTo>
                  <a:lnTo>
                    <a:pt x="111" y="499"/>
                  </a:lnTo>
                  <a:lnTo>
                    <a:pt x="129" y="513"/>
                  </a:lnTo>
                  <a:lnTo>
                    <a:pt x="149" y="526"/>
                  </a:lnTo>
                  <a:lnTo>
                    <a:pt x="170" y="536"/>
                  </a:lnTo>
                  <a:lnTo>
                    <a:pt x="189" y="545"/>
                  </a:lnTo>
                  <a:lnTo>
                    <a:pt x="210" y="551"/>
                  </a:lnTo>
                  <a:lnTo>
                    <a:pt x="229" y="556"/>
                  </a:lnTo>
                  <a:lnTo>
                    <a:pt x="250" y="558"/>
                  </a:lnTo>
                  <a:lnTo>
                    <a:pt x="271" y="558"/>
                  </a:lnTo>
                  <a:lnTo>
                    <a:pt x="292" y="556"/>
                  </a:lnTo>
                  <a:lnTo>
                    <a:pt x="312" y="551"/>
                  </a:lnTo>
                  <a:lnTo>
                    <a:pt x="333" y="545"/>
                  </a:lnTo>
                  <a:lnTo>
                    <a:pt x="354" y="539"/>
                  </a:lnTo>
                  <a:lnTo>
                    <a:pt x="372" y="529"/>
                  </a:lnTo>
                  <a:lnTo>
                    <a:pt x="390" y="519"/>
                  </a:lnTo>
                  <a:lnTo>
                    <a:pt x="406" y="507"/>
                  </a:lnTo>
                  <a:lnTo>
                    <a:pt x="418" y="495"/>
                  </a:lnTo>
                  <a:lnTo>
                    <a:pt x="430" y="482"/>
                  </a:lnTo>
                  <a:lnTo>
                    <a:pt x="438" y="468"/>
                  </a:lnTo>
                  <a:lnTo>
                    <a:pt x="444" y="453"/>
                  </a:lnTo>
                  <a:lnTo>
                    <a:pt x="445" y="438"/>
                  </a:lnTo>
                  <a:lnTo>
                    <a:pt x="443" y="422"/>
                  </a:lnTo>
                  <a:lnTo>
                    <a:pt x="437" y="407"/>
                  </a:lnTo>
                  <a:lnTo>
                    <a:pt x="422" y="382"/>
                  </a:lnTo>
                  <a:lnTo>
                    <a:pt x="413" y="366"/>
                  </a:lnTo>
                  <a:lnTo>
                    <a:pt x="405" y="358"/>
                  </a:lnTo>
                  <a:lnTo>
                    <a:pt x="400" y="355"/>
                  </a:lnTo>
                  <a:lnTo>
                    <a:pt x="395" y="360"/>
                  </a:lnTo>
                  <a:lnTo>
                    <a:pt x="390" y="368"/>
                  </a:lnTo>
                  <a:lnTo>
                    <a:pt x="380" y="378"/>
                  </a:lnTo>
                  <a:lnTo>
                    <a:pt x="369" y="390"/>
                  </a:lnTo>
                  <a:lnTo>
                    <a:pt x="362" y="396"/>
                  </a:lnTo>
                  <a:lnTo>
                    <a:pt x="353" y="400"/>
                  </a:lnTo>
                  <a:lnTo>
                    <a:pt x="345" y="405"/>
                  </a:lnTo>
                  <a:lnTo>
                    <a:pt x="335" y="410"/>
                  </a:lnTo>
                  <a:lnTo>
                    <a:pt x="325" y="413"/>
                  </a:lnTo>
                  <a:lnTo>
                    <a:pt x="315" y="415"/>
                  </a:lnTo>
                  <a:lnTo>
                    <a:pt x="303" y="418"/>
                  </a:lnTo>
                  <a:lnTo>
                    <a:pt x="292" y="419"/>
                  </a:lnTo>
                  <a:lnTo>
                    <a:pt x="279" y="419"/>
                  </a:lnTo>
                  <a:lnTo>
                    <a:pt x="267" y="418"/>
                  </a:lnTo>
                  <a:lnTo>
                    <a:pt x="254" y="415"/>
                  </a:lnTo>
                  <a:lnTo>
                    <a:pt x="241" y="412"/>
                  </a:lnTo>
                  <a:lnTo>
                    <a:pt x="227" y="408"/>
                  </a:lnTo>
                  <a:lnTo>
                    <a:pt x="212" y="403"/>
                  </a:lnTo>
                  <a:lnTo>
                    <a:pt x="198" y="395"/>
                  </a:lnTo>
                  <a:lnTo>
                    <a:pt x="183" y="387"/>
                  </a:lnTo>
                  <a:lnTo>
                    <a:pt x="155" y="366"/>
                  </a:lnTo>
                  <a:lnTo>
                    <a:pt x="129" y="340"/>
                  </a:lnTo>
                  <a:lnTo>
                    <a:pt x="111" y="312"/>
                  </a:lnTo>
                  <a:lnTo>
                    <a:pt x="102" y="281"/>
                  </a:lnTo>
                  <a:lnTo>
                    <a:pt x="104" y="246"/>
                  </a:lnTo>
                  <a:lnTo>
                    <a:pt x="121" y="209"/>
                  </a:lnTo>
                  <a:lnTo>
                    <a:pt x="156" y="172"/>
                  </a:lnTo>
                  <a:lnTo>
                    <a:pt x="210" y="133"/>
                  </a:lnTo>
                  <a:lnTo>
                    <a:pt x="242" y="116"/>
                  </a:lnTo>
                  <a:lnTo>
                    <a:pt x="276" y="104"/>
                  </a:lnTo>
                  <a:lnTo>
                    <a:pt x="309" y="96"/>
                  </a:lnTo>
                  <a:lnTo>
                    <a:pt x="343" y="93"/>
                  </a:lnTo>
                  <a:lnTo>
                    <a:pt x="377" y="94"/>
                  </a:lnTo>
                  <a:lnTo>
                    <a:pt x="409" y="99"/>
                  </a:lnTo>
                  <a:lnTo>
                    <a:pt x="441" y="105"/>
                  </a:lnTo>
                  <a:lnTo>
                    <a:pt x="474" y="117"/>
                  </a:lnTo>
                  <a:lnTo>
                    <a:pt x="505" y="132"/>
                  </a:lnTo>
                  <a:lnTo>
                    <a:pt x="534" y="149"/>
                  </a:lnTo>
                  <a:lnTo>
                    <a:pt x="561" y="169"/>
                  </a:lnTo>
                  <a:lnTo>
                    <a:pt x="588" y="191"/>
                  </a:lnTo>
                  <a:lnTo>
                    <a:pt x="612" y="215"/>
                  </a:lnTo>
                  <a:lnTo>
                    <a:pt x="635" y="240"/>
                  </a:lnTo>
                  <a:lnTo>
                    <a:pt x="655" y="268"/>
                  </a:lnTo>
                  <a:lnTo>
                    <a:pt x="672" y="297"/>
                  </a:lnTo>
                  <a:lnTo>
                    <a:pt x="675" y="299"/>
                  </a:lnTo>
                  <a:lnTo>
                    <a:pt x="679" y="301"/>
                  </a:lnTo>
                  <a:lnTo>
                    <a:pt x="682" y="301"/>
                  </a:lnTo>
                  <a:lnTo>
                    <a:pt x="686" y="299"/>
                  </a:lnTo>
                  <a:lnTo>
                    <a:pt x="688" y="297"/>
                  </a:lnTo>
                  <a:lnTo>
                    <a:pt x="690" y="293"/>
                  </a:lnTo>
                  <a:lnTo>
                    <a:pt x="690" y="290"/>
                  </a:lnTo>
                  <a:lnTo>
                    <a:pt x="689" y="286"/>
                  </a:lnTo>
                  <a:lnTo>
                    <a:pt x="689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86280" y="5973840"/>
              <a:ext cx="487440" cy="361800"/>
            </a:xfrm>
            <a:custGeom>
              <a:avLst/>
              <a:gdLst/>
              <a:ahLst/>
              <a:rect l="l" t="t" r="r" b="b"/>
              <a:pathLst>
                <a:path w="614" h="456">
                  <a:moveTo>
                    <a:pt x="613" y="250"/>
                  </a:moveTo>
                  <a:lnTo>
                    <a:pt x="600" y="222"/>
                  </a:lnTo>
                  <a:lnTo>
                    <a:pt x="585" y="194"/>
                  </a:lnTo>
                  <a:lnTo>
                    <a:pt x="568" y="169"/>
                  </a:lnTo>
                  <a:lnTo>
                    <a:pt x="548" y="145"/>
                  </a:lnTo>
                  <a:lnTo>
                    <a:pt x="529" y="122"/>
                  </a:lnTo>
                  <a:lnTo>
                    <a:pt x="506" y="100"/>
                  </a:lnTo>
                  <a:lnTo>
                    <a:pt x="483" y="80"/>
                  </a:lnTo>
                  <a:lnTo>
                    <a:pt x="459" y="62"/>
                  </a:lnTo>
                  <a:lnTo>
                    <a:pt x="433" y="46"/>
                  </a:lnTo>
                  <a:lnTo>
                    <a:pt x="407" y="32"/>
                  </a:lnTo>
                  <a:lnTo>
                    <a:pt x="379" y="20"/>
                  </a:lnTo>
                  <a:lnTo>
                    <a:pt x="351" y="11"/>
                  </a:lnTo>
                  <a:lnTo>
                    <a:pt x="323" y="4"/>
                  </a:lnTo>
                  <a:lnTo>
                    <a:pt x="295" y="1"/>
                  </a:lnTo>
                  <a:lnTo>
                    <a:pt x="266" y="0"/>
                  </a:lnTo>
                  <a:lnTo>
                    <a:pt x="237" y="1"/>
                  </a:lnTo>
                  <a:lnTo>
                    <a:pt x="189" y="8"/>
                  </a:lnTo>
                  <a:lnTo>
                    <a:pt x="154" y="13"/>
                  </a:lnTo>
                  <a:lnTo>
                    <a:pt x="131" y="18"/>
                  </a:lnTo>
                  <a:lnTo>
                    <a:pt x="117" y="24"/>
                  </a:lnTo>
                  <a:lnTo>
                    <a:pt x="111" y="27"/>
                  </a:lnTo>
                  <a:lnTo>
                    <a:pt x="109" y="31"/>
                  </a:lnTo>
                  <a:lnTo>
                    <a:pt x="109" y="32"/>
                  </a:lnTo>
                  <a:lnTo>
                    <a:pt x="111" y="33"/>
                  </a:lnTo>
                  <a:lnTo>
                    <a:pt x="83" y="51"/>
                  </a:lnTo>
                  <a:lnTo>
                    <a:pt x="59" y="72"/>
                  </a:lnTo>
                  <a:lnTo>
                    <a:pt x="38" y="95"/>
                  </a:lnTo>
                  <a:lnTo>
                    <a:pt x="22" y="122"/>
                  </a:lnTo>
                  <a:lnTo>
                    <a:pt x="10" y="149"/>
                  </a:lnTo>
                  <a:lnTo>
                    <a:pt x="2" y="180"/>
                  </a:lnTo>
                  <a:lnTo>
                    <a:pt x="0" y="213"/>
                  </a:lnTo>
                  <a:lnTo>
                    <a:pt x="3" y="248"/>
                  </a:lnTo>
                  <a:lnTo>
                    <a:pt x="9" y="274"/>
                  </a:lnTo>
                  <a:lnTo>
                    <a:pt x="18" y="298"/>
                  </a:lnTo>
                  <a:lnTo>
                    <a:pt x="30" y="322"/>
                  </a:lnTo>
                  <a:lnTo>
                    <a:pt x="44" y="344"/>
                  </a:lnTo>
                  <a:lnTo>
                    <a:pt x="60" y="366"/>
                  </a:lnTo>
                  <a:lnTo>
                    <a:pt x="78" y="387"/>
                  </a:lnTo>
                  <a:lnTo>
                    <a:pt x="98" y="404"/>
                  </a:lnTo>
                  <a:lnTo>
                    <a:pt x="120" y="420"/>
                  </a:lnTo>
                  <a:lnTo>
                    <a:pt x="142" y="434"/>
                  </a:lnTo>
                  <a:lnTo>
                    <a:pt x="166" y="444"/>
                  </a:lnTo>
                  <a:lnTo>
                    <a:pt x="190" y="451"/>
                  </a:lnTo>
                  <a:lnTo>
                    <a:pt x="215" y="456"/>
                  </a:lnTo>
                  <a:lnTo>
                    <a:pt x="241" y="456"/>
                  </a:lnTo>
                  <a:lnTo>
                    <a:pt x="266" y="452"/>
                  </a:lnTo>
                  <a:lnTo>
                    <a:pt x="291" y="445"/>
                  </a:lnTo>
                  <a:lnTo>
                    <a:pt x="317" y="433"/>
                  </a:lnTo>
                  <a:lnTo>
                    <a:pt x="326" y="429"/>
                  </a:lnTo>
                  <a:lnTo>
                    <a:pt x="334" y="425"/>
                  </a:lnTo>
                  <a:lnTo>
                    <a:pt x="340" y="419"/>
                  </a:lnTo>
                  <a:lnTo>
                    <a:pt x="346" y="412"/>
                  </a:lnTo>
                  <a:lnTo>
                    <a:pt x="349" y="404"/>
                  </a:lnTo>
                  <a:lnTo>
                    <a:pt x="351" y="396"/>
                  </a:lnTo>
                  <a:lnTo>
                    <a:pt x="351" y="387"/>
                  </a:lnTo>
                  <a:lnTo>
                    <a:pt x="350" y="377"/>
                  </a:lnTo>
                  <a:lnTo>
                    <a:pt x="347" y="369"/>
                  </a:lnTo>
                  <a:lnTo>
                    <a:pt x="341" y="361"/>
                  </a:lnTo>
                  <a:lnTo>
                    <a:pt x="335" y="354"/>
                  </a:lnTo>
                  <a:lnTo>
                    <a:pt x="327" y="350"/>
                  </a:lnTo>
                  <a:lnTo>
                    <a:pt x="319" y="346"/>
                  </a:lnTo>
                  <a:lnTo>
                    <a:pt x="311" y="344"/>
                  </a:lnTo>
                  <a:lnTo>
                    <a:pt x="302" y="344"/>
                  </a:lnTo>
                  <a:lnTo>
                    <a:pt x="293" y="346"/>
                  </a:lnTo>
                  <a:lnTo>
                    <a:pt x="278" y="350"/>
                  </a:lnTo>
                  <a:lnTo>
                    <a:pt x="263" y="351"/>
                  </a:lnTo>
                  <a:lnTo>
                    <a:pt x="247" y="350"/>
                  </a:lnTo>
                  <a:lnTo>
                    <a:pt x="230" y="349"/>
                  </a:lnTo>
                  <a:lnTo>
                    <a:pt x="214" y="345"/>
                  </a:lnTo>
                  <a:lnTo>
                    <a:pt x="199" y="339"/>
                  </a:lnTo>
                  <a:lnTo>
                    <a:pt x="184" y="334"/>
                  </a:lnTo>
                  <a:lnTo>
                    <a:pt x="169" y="326"/>
                  </a:lnTo>
                  <a:lnTo>
                    <a:pt x="157" y="317"/>
                  </a:lnTo>
                  <a:lnTo>
                    <a:pt x="144" y="307"/>
                  </a:lnTo>
                  <a:lnTo>
                    <a:pt x="134" y="297"/>
                  </a:lnTo>
                  <a:lnTo>
                    <a:pt x="123" y="285"/>
                  </a:lnTo>
                  <a:lnTo>
                    <a:pt x="116" y="273"/>
                  </a:lnTo>
                  <a:lnTo>
                    <a:pt x="111" y="259"/>
                  </a:lnTo>
                  <a:lnTo>
                    <a:pt x="108" y="245"/>
                  </a:lnTo>
                  <a:lnTo>
                    <a:pt x="107" y="230"/>
                  </a:lnTo>
                  <a:lnTo>
                    <a:pt x="114" y="201"/>
                  </a:lnTo>
                  <a:lnTo>
                    <a:pt x="129" y="177"/>
                  </a:lnTo>
                  <a:lnTo>
                    <a:pt x="149" y="155"/>
                  </a:lnTo>
                  <a:lnTo>
                    <a:pt x="173" y="137"/>
                  </a:lnTo>
                  <a:lnTo>
                    <a:pt x="196" y="123"/>
                  </a:lnTo>
                  <a:lnTo>
                    <a:pt x="215" y="111"/>
                  </a:lnTo>
                  <a:lnTo>
                    <a:pt x="229" y="106"/>
                  </a:lnTo>
                  <a:lnTo>
                    <a:pt x="235" y="103"/>
                  </a:lnTo>
                  <a:lnTo>
                    <a:pt x="235" y="102"/>
                  </a:lnTo>
                  <a:lnTo>
                    <a:pt x="234" y="101"/>
                  </a:lnTo>
                  <a:lnTo>
                    <a:pt x="233" y="101"/>
                  </a:lnTo>
                  <a:lnTo>
                    <a:pt x="233" y="100"/>
                  </a:lnTo>
                  <a:lnTo>
                    <a:pt x="259" y="97"/>
                  </a:lnTo>
                  <a:lnTo>
                    <a:pt x="286" y="97"/>
                  </a:lnTo>
                  <a:lnTo>
                    <a:pt x="312" y="99"/>
                  </a:lnTo>
                  <a:lnTo>
                    <a:pt x="338" y="102"/>
                  </a:lnTo>
                  <a:lnTo>
                    <a:pt x="363" y="107"/>
                  </a:lnTo>
                  <a:lnTo>
                    <a:pt x="388" y="114"/>
                  </a:lnTo>
                  <a:lnTo>
                    <a:pt x="412" y="122"/>
                  </a:lnTo>
                  <a:lnTo>
                    <a:pt x="437" y="132"/>
                  </a:lnTo>
                  <a:lnTo>
                    <a:pt x="460" y="144"/>
                  </a:lnTo>
                  <a:lnTo>
                    <a:pt x="482" y="156"/>
                  </a:lnTo>
                  <a:lnTo>
                    <a:pt x="503" y="171"/>
                  </a:lnTo>
                  <a:lnTo>
                    <a:pt x="524" y="186"/>
                  </a:lnTo>
                  <a:lnTo>
                    <a:pt x="544" y="203"/>
                  </a:lnTo>
                  <a:lnTo>
                    <a:pt x="563" y="222"/>
                  </a:lnTo>
                  <a:lnTo>
                    <a:pt x="581" y="240"/>
                  </a:lnTo>
                  <a:lnTo>
                    <a:pt x="598" y="261"/>
                  </a:lnTo>
                  <a:lnTo>
                    <a:pt x="600" y="263"/>
                  </a:lnTo>
                  <a:lnTo>
                    <a:pt x="604" y="265"/>
                  </a:lnTo>
                  <a:lnTo>
                    <a:pt x="607" y="265"/>
                  </a:lnTo>
                  <a:lnTo>
                    <a:pt x="609" y="263"/>
                  </a:lnTo>
                  <a:lnTo>
                    <a:pt x="612" y="261"/>
                  </a:lnTo>
                  <a:lnTo>
                    <a:pt x="614" y="258"/>
                  </a:lnTo>
                  <a:lnTo>
                    <a:pt x="614" y="253"/>
                  </a:lnTo>
                  <a:lnTo>
                    <a:pt x="613" y="250"/>
                  </a:lnTo>
                  <a:lnTo>
                    <a:pt x="613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62160" y="5484960"/>
              <a:ext cx="551160" cy="406080"/>
            </a:xfrm>
            <a:custGeom>
              <a:avLst/>
              <a:gdLst/>
              <a:ahLst/>
              <a:rect l="l" t="t" r="r" b="b"/>
              <a:pathLst>
                <a:path w="694" h="513">
                  <a:moveTo>
                    <a:pt x="692" y="148"/>
                  </a:moveTo>
                  <a:lnTo>
                    <a:pt x="662" y="117"/>
                  </a:lnTo>
                  <a:lnTo>
                    <a:pt x="627" y="89"/>
                  </a:lnTo>
                  <a:lnTo>
                    <a:pt x="590" y="64"/>
                  </a:lnTo>
                  <a:lnTo>
                    <a:pt x="551" y="44"/>
                  </a:lnTo>
                  <a:lnTo>
                    <a:pt x="510" y="27"/>
                  </a:lnTo>
                  <a:lnTo>
                    <a:pt x="466" y="14"/>
                  </a:lnTo>
                  <a:lnTo>
                    <a:pt x="422" y="5"/>
                  </a:lnTo>
                  <a:lnTo>
                    <a:pt x="377" y="0"/>
                  </a:lnTo>
                  <a:lnTo>
                    <a:pt x="332" y="0"/>
                  </a:lnTo>
                  <a:lnTo>
                    <a:pt x="288" y="5"/>
                  </a:lnTo>
                  <a:lnTo>
                    <a:pt x="245" y="14"/>
                  </a:lnTo>
                  <a:lnTo>
                    <a:pt x="203" y="27"/>
                  </a:lnTo>
                  <a:lnTo>
                    <a:pt x="163" y="45"/>
                  </a:lnTo>
                  <a:lnTo>
                    <a:pt x="125" y="68"/>
                  </a:lnTo>
                  <a:lnTo>
                    <a:pt x="90" y="97"/>
                  </a:lnTo>
                  <a:lnTo>
                    <a:pt x="59" y="130"/>
                  </a:lnTo>
                  <a:lnTo>
                    <a:pt x="41" y="156"/>
                  </a:lnTo>
                  <a:lnTo>
                    <a:pt x="26" y="181"/>
                  </a:lnTo>
                  <a:lnTo>
                    <a:pt x="13" y="209"/>
                  </a:lnTo>
                  <a:lnTo>
                    <a:pt x="5" y="237"/>
                  </a:lnTo>
                  <a:lnTo>
                    <a:pt x="0" y="269"/>
                  </a:lnTo>
                  <a:lnTo>
                    <a:pt x="2" y="301"/>
                  </a:lnTo>
                  <a:lnTo>
                    <a:pt x="6" y="335"/>
                  </a:lnTo>
                  <a:lnTo>
                    <a:pt x="17" y="373"/>
                  </a:lnTo>
                  <a:lnTo>
                    <a:pt x="23" y="392"/>
                  </a:lnTo>
                  <a:lnTo>
                    <a:pt x="33" y="409"/>
                  </a:lnTo>
                  <a:lnTo>
                    <a:pt x="44" y="424"/>
                  </a:lnTo>
                  <a:lnTo>
                    <a:pt x="57" y="438"/>
                  </a:lnTo>
                  <a:lnTo>
                    <a:pt x="71" y="451"/>
                  </a:lnTo>
                  <a:lnTo>
                    <a:pt x="87" y="462"/>
                  </a:lnTo>
                  <a:lnTo>
                    <a:pt x="103" y="472"/>
                  </a:lnTo>
                  <a:lnTo>
                    <a:pt x="120" y="481"/>
                  </a:lnTo>
                  <a:lnTo>
                    <a:pt x="139" y="489"/>
                  </a:lnTo>
                  <a:lnTo>
                    <a:pt x="157" y="495"/>
                  </a:lnTo>
                  <a:lnTo>
                    <a:pt x="177" y="500"/>
                  </a:lnTo>
                  <a:lnTo>
                    <a:pt x="196" y="505"/>
                  </a:lnTo>
                  <a:lnTo>
                    <a:pt x="215" y="508"/>
                  </a:lnTo>
                  <a:lnTo>
                    <a:pt x="234" y="510"/>
                  </a:lnTo>
                  <a:lnTo>
                    <a:pt x="254" y="512"/>
                  </a:lnTo>
                  <a:lnTo>
                    <a:pt x="272" y="513"/>
                  </a:lnTo>
                  <a:lnTo>
                    <a:pt x="292" y="512"/>
                  </a:lnTo>
                  <a:lnTo>
                    <a:pt x="311" y="508"/>
                  </a:lnTo>
                  <a:lnTo>
                    <a:pt x="331" y="504"/>
                  </a:lnTo>
                  <a:lnTo>
                    <a:pt x="350" y="495"/>
                  </a:lnTo>
                  <a:lnTo>
                    <a:pt x="368" y="486"/>
                  </a:lnTo>
                  <a:lnTo>
                    <a:pt x="386" y="476"/>
                  </a:lnTo>
                  <a:lnTo>
                    <a:pt x="402" y="463"/>
                  </a:lnTo>
                  <a:lnTo>
                    <a:pt x="417" y="449"/>
                  </a:lnTo>
                  <a:lnTo>
                    <a:pt x="431" y="434"/>
                  </a:lnTo>
                  <a:lnTo>
                    <a:pt x="443" y="418"/>
                  </a:lnTo>
                  <a:lnTo>
                    <a:pt x="452" y="401"/>
                  </a:lnTo>
                  <a:lnTo>
                    <a:pt x="460" y="383"/>
                  </a:lnTo>
                  <a:lnTo>
                    <a:pt x="465" y="363"/>
                  </a:lnTo>
                  <a:lnTo>
                    <a:pt x="466" y="342"/>
                  </a:lnTo>
                  <a:lnTo>
                    <a:pt x="465" y="322"/>
                  </a:lnTo>
                  <a:lnTo>
                    <a:pt x="460" y="300"/>
                  </a:lnTo>
                  <a:lnTo>
                    <a:pt x="458" y="292"/>
                  </a:lnTo>
                  <a:lnTo>
                    <a:pt x="454" y="284"/>
                  </a:lnTo>
                  <a:lnTo>
                    <a:pt x="451" y="277"/>
                  </a:lnTo>
                  <a:lnTo>
                    <a:pt x="447" y="271"/>
                  </a:lnTo>
                  <a:lnTo>
                    <a:pt x="443" y="265"/>
                  </a:lnTo>
                  <a:lnTo>
                    <a:pt x="438" y="261"/>
                  </a:lnTo>
                  <a:lnTo>
                    <a:pt x="432" y="258"/>
                  </a:lnTo>
                  <a:lnTo>
                    <a:pt x="426" y="256"/>
                  </a:lnTo>
                  <a:lnTo>
                    <a:pt x="420" y="256"/>
                  </a:lnTo>
                  <a:lnTo>
                    <a:pt x="413" y="257"/>
                  </a:lnTo>
                  <a:lnTo>
                    <a:pt x="407" y="259"/>
                  </a:lnTo>
                  <a:lnTo>
                    <a:pt x="400" y="263"/>
                  </a:lnTo>
                  <a:lnTo>
                    <a:pt x="394" y="267"/>
                  </a:lnTo>
                  <a:lnTo>
                    <a:pt x="389" y="273"/>
                  </a:lnTo>
                  <a:lnTo>
                    <a:pt x="384" y="281"/>
                  </a:lnTo>
                  <a:lnTo>
                    <a:pt x="381" y="290"/>
                  </a:lnTo>
                  <a:lnTo>
                    <a:pt x="374" y="307"/>
                  </a:lnTo>
                  <a:lnTo>
                    <a:pt x="364" y="323"/>
                  </a:lnTo>
                  <a:lnTo>
                    <a:pt x="352" y="338"/>
                  </a:lnTo>
                  <a:lnTo>
                    <a:pt x="337" y="352"/>
                  </a:lnTo>
                  <a:lnTo>
                    <a:pt x="321" y="363"/>
                  </a:lnTo>
                  <a:lnTo>
                    <a:pt x="302" y="373"/>
                  </a:lnTo>
                  <a:lnTo>
                    <a:pt x="283" y="381"/>
                  </a:lnTo>
                  <a:lnTo>
                    <a:pt x="262" y="387"/>
                  </a:lnTo>
                  <a:lnTo>
                    <a:pt x="241" y="391"/>
                  </a:lnTo>
                  <a:lnTo>
                    <a:pt x="220" y="391"/>
                  </a:lnTo>
                  <a:lnTo>
                    <a:pt x="200" y="388"/>
                  </a:lnTo>
                  <a:lnTo>
                    <a:pt x="180" y="381"/>
                  </a:lnTo>
                  <a:lnTo>
                    <a:pt x="162" y="371"/>
                  </a:lnTo>
                  <a:lnTo>
                    <a:pt x="146" y="357"/>
                  </a:lnTo>
                  <a:lnTo>
                    <a:pt x="131" y="339"/>
                  </a:lnTo>
                  <a:lnTo>
                    <a:pt x="118" y="316"/>
                  </a:lnTo>
                  <a:lnTo>
                    <a:pt x="111" y="293"/>
                  </a:lnTo>
                  <a:lnTo>
                    <a:pt x="111" y="271"/>
                  </a:lnTo>
                  <a:lnTo>
                    <a:pt x="117" y="248"/>
                  </a:lnTo>
                  <a:lnTo>
                    <a:pt x="127" y="225"/>
                  </a:lnTo>
                  <a:lnTo>
                    <a:pt x="142" y="203"/>
                  </a:lnTo>
                  <a:lnTo>
                    <a:pt x="162" y="182"/>
                  </a:lnTo>
                  <a:lnTo>
                    <a:pt x="184" y="163"/>
                  </a:lnTo>
                  <a:lnTo>
                    <a:pt x="209" y="144"/>
                  </a:lnTo>
                  <a:lnTo>
                    <a:pt x="237" y="127"/>
                  </a:lnTo>
                  <a:lnTo>
                    <a:pt x="267" y="112"/>
                  </a:lnTo>
                  <a:lnTo>
                    <a:pt x="297" y="99"/>
                  </a:lnTo>
                  <a:lnTo>
                    <a:pt x="328" y="90"/>
                  </a:lnTo>
                  <a:lnTo>
                    <a:pt x="359" y="82"/>
                  </a:lnTo>
                  <a:lnTo>
                    <a:pt x="389" y="77"/>
                  </a:lnTo>
                  <a:lnTo>
                    <a:pt x="417" y="76"/>
                  </a:lnTo>
                  <a:lnTo>
                    <a:pt x="445" y="79"/>
                  </a:lnTo>
                  <a:lnTo>
                    <a:pt x="460" y="81"/>
                  </a:lnTo>
                  <a:lnTo>
                    <a:pt x="475" y="83"/>
                  </a:lnTo>
                  <a:lnTo>
                    <a:pt x="491" y="87"/>
                  </a:lnTo>
                  <a:lnTo>
                    <a:pt x="506" y="89"/>
                  </a:lnTo>
                  <a:lnTo>
                    <a:pt x="522" y="91"/>
                  </a:lnTo>
                  <a:lnTo>
                    <a:pt x="537" y="95"/>
                  </a:lnTo>
                  <a:lnTo>
                    <a:pt x="552" y="98"/>
                  </a:lnTo>
                  <a:lnTo>
                    <a:pt x="567" y="103"/>
                  </a:lnTo>
                  <a:lnTo>
                    <a:pt x="582" y="107"/>
                  </a:lnTo>
                  <a:lnTo>
                    <a:pt x="597" y="112"/>
                  </a:lnTo>
                  <a:lnTo>
                    <a:pt x="612" y="118"/>
                  </a:lnTo>
                  <a:lnTo>
                    <a:pt x="626" y="125"/>
                  </a:lnTo>
                  <a:lnTo>
                    <a:pt x="640" y="133"/>
                  </a:lnTo>
                  <a:lnTo>
                    <a:pt x="654" y="141"/>
                  </a:lnTo>
                  <a:lnTo>
                    <a:pt x="666" y="151"/>
                  </a:lnTo>
                  <a:lnTo>
                    <a:pt x="679" y="161"/>
                  </a:lnTo>
                  <a:lnTo>
                    <a:pt x="682" y="164"/>
                  </a:lnTo>
                  <a:lnTo>
                    <a:pt x="686" y="164"/>
                  </a:lnTo>
                  <a:lnTo>
                    <a:pt x="688" y="164"/>
                  </a:lnTo>
                  <a:lnTo>
                    <a:pt x="692" y="161"/>
                  </a:lnTo>
                  <a:lnTo>
                    <a:pt x="694" y="158"/>
                  </a:lnTo>
                  <a:lnTo>
                    <a:pt x="694" y="155"/>
                  </a:lnTo>
                  <a:lnTo>
                    <a:pt x="694" y="151"/>
                  </a:lnTo>
                  <a:lnTo>
                    <a:pt x="692" y="148"/>
                  </a:lnTo>
                  <a:lnTo>
                    <a:pt x="692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ebd189"/>
                </a:solidFill>
                <a:latin typeface="Arial"/>
                <a:ea typeface="華康超明體(P)"/>
              </a:rPr>
              <a:t>南台灣之旅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6600"/>
                </a:solidFill>
                <a:latin typeface="Arial"/>
              </a:rPr>
              <a:t>~.</a:t>
            </a:r>
            <a:r>
              <a:rPr b="1" lang="zh-TW" sz="3200" spc="-1" strike="noStrike">
                <a:solidFill>
                  <a:srgbClr val="ff6600"/>
                </a:solidFill>
                <a:latin typeface="Arial"/>
              </a:rPr>
              <a:t>與陽光、沙灘、海相約</a:t>
            </a:r>
            <a:r>
              <a:rPr b="1" lang="zh-TW" sz="3200" spc="-1" strike="noStrike">
                <a:solidFill>
                  <a:srgbClr val="ff6600"/>
                </a:solidFill>
                <a:latin typeface="Arial"/>
              </a:rPr>
              <a:t>~.~.~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ebd189"/>
                </a:solidFill>
                <a:latin typeface="Arial"/>
                <a:ea typeface="華康超明體(P)"/>
              </a:rPr>
              <a:t>大綱概要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行程簡介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預估費用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景點介紹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注意事項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105520" y="2286000"/>
          <a:ext cx="1922400" cy="36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286000"/>
                    <a:ext cx="1922400" cy="36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ebd189"/>
                </a:solidFill>
                <a:latin typeface="Arial"/>
                <a:ea typeface="華康超明體(P)"/>
              </a:rPr>
              <a:t>行程簡介</a:t>
            </a:r>
            <a:r>
              <a:rPr b="0" lang="zh-TW" sz="5400" spc="-1" strike="noStrike">
                <a:solidFill>
                  <a:srgbClr val="ebd189"/>
                </a:solidFill>
                <a:latin typeface="Arial"/>
                <a:ea typeface="華康超明體(P)"/>
              </a:rPr>
              <a:t>(I)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活動期間：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6/1~6/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第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天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(6/1)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行程：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6:50~7:10a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集合，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7:20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出發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10:30a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到西螺休息站暫作休息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20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分鐘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12:20a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扺達屏東楓港，享受海鮮料理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01:50p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扺達墾丁下榻飯店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02:20p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健行至墾丁國家公園遊玩（</a:t>
            </a:r>
            <a:r>
              <a:rPr b="0" lang="zh-TW" sz="2000" spc="-1" strike="noStrike">
                <a:solidFill>
                  <a:srgbClr val="eaeaea"/>
                </a:solidFill>
                <a:latin typeface="Arial"/>
              </a:rPr>
              <a:t>自由活動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04:45p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集合至關山賞日落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05:50p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出發至餐廳享受歐式自助晚餐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ebd189"/>
                </a:solidFill>
                <a:latin typeface="Arial"/>
                <a:ea typeface="華康超明體(P)"/>
              </a:rPr>
              <a:t>行程簡介</a:t>
            </a:r>
            <a:r>
              <a:rPr b="0" lang="zh-TW" sz="5400" spc="-1" strike="noStrike">
                <a:solidFill>
                  <a:srgbClr val="ebd189"/>
                </a:solidFill>
                <a:latin typeface="Arial"/>
                <a:ea typeface="華康超明體(P)"/>
              </a:rPr>
              <a:t>(II)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第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天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(6/2)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行程：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7:20~8:10a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至飯店餐廳用早餐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8:25a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集合，出發至海生館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9:00~11:00a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參館館內生物（自由活動）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11:10a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出發至知名麵館享受美食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02:20p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扺達台東知本下榻飯店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02:40p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出發至知本森林遊樂區遊玩（</a:t>
            </a:r>
            <a:r>
              <a:rPr b="0" lang="zh-TW" sz="1800" spc="-1" strike="noStrike">
                <a:solidFill>
                  <a:srgbClr val="eaeaea"/>
                </a:solidFill>
                <a:latin typeface="Arial"/>
              </a:rPr>
              <a:t>自由活動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05:00p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步行至飯店享受燒烤晚餐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ebd189"/>
                </a:solidFill>
                <a:latin typeface="Arial"/>
                <a:ea typeface="華康超明體(P)"/>
              </a:rPr>
              <a:t>行程簡介</a:t>
            </a:r>
            <a:r>
              <a:rPr b="0" lang="zh-TW" sz="5400" spc="-1" strike="noStrike">
                <a:solidFill>
                  <a:srgbClr val="ebd189"/>
                </a:solidFill>
                <a:latin typeface="Arial"/>
                <a:ea typeface="華康超明體(P)"/>
              </a:rPr>
              <a:t>(III)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第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天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(6/3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7:50~8:50a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至飯店餐廳用早餐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9:00a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出發至名產店採購當地名產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10:20a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租腳踏車沿東海岸自行車區騎行，欣賞美麗的海岸線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11:40a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出發至餐廳用餐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01:30p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出發至台東機場，準備搭機返家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03:30p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回到學校，各自返回甜蜜的家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ebd189"/>
                </a:solidFill>
                <a:latin typeface="Arial"/>
                <a:ea typeface="華康超明體(P)"/>
              </a:rPr>
              <a:t>預估費用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兩天住宿：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1600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三天餐飲：  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800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參觀門票：  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180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國內機票：  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820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遊 覽 車 ： 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1000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eaeaea"/>
                </a:solidFill>
                <a:latin typeface="Arial"/>
              </a:rPr>
              <a:t>（含司機小費）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導遊小費：  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250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總計費用： </a:t>
            </a:r>
            <a:r>
              <a:rPr b="1" lang="zh-TW" sz="3200" spc="-1" strike="noStrike" u="sng">
                <a:solidFill>
                  <a:srgbClr val="b97c01"/>
                </a:solidFill>
                <a:uFillTx/>
                <a:latin typeface="Arial"/>
              </a:rPr>
              <a:t>4650</a:t>
            </a:r>
            <a:r>
              <a:rPr b="1" lang="zh-TW" sz="3200" spc="-1" strike="noStrike" u="sng">
                <a:solidFill>
                  <a:srgbClr val="b97c01"/>
                </a:solidFill>
                <a:uFillTx/>
                <a:latin typeface="Arial"/>
              </a:rPr>
              <a:t>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bd189"/>
                </a:solidFill>
                <a:latin typeface="Arial"/>
                <a:ea typeface="華康超明體(P)"/>
              </a:rPr>
              <a:t>景點介紹－知本溫泉浴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74840" y="4229280"/>
            <a:ext cx="5069880" cy="2628360"/>
            <a:chOff x="474840" y="4229280"/>
            <a:chExt cx="5069880" cy="2628360"/>
          </a:xfrm>
        </p:grpSpPr>
        <p:sp>
          <p:nvSpPr>
            <p:cNvPr id="133" name=""/>
            <p:cNvSpPr/>
            <p:nvPr/>
          </p:nvSpPr>
          <p:spPr>
            <a:xfrm>
              <a:off x="953280" y="4258440"/>
              <a:ext cx="4591440" cy="2576160"/>
            </a:xfrm>
            <a:custGeom>
              <a:avLst/>
              <a:gdLst/>
              <a:ahLst/>
              <a:rect l="l" t="t" r="r" b="b"/>
              <a:pathLst>
                <a:path w="2963" h="2023">
                  <a:moveTo>
                    <a:pt x="0" y="755"/>
                  </a:moveTo>
                  <a:lnTo>
                    <a:pt x="443" y="459"/>
                  </a:lnTo>
                  <a:lnTo>
                    <a:pt x="589" y="392"/>
                  </a:lnTo>
                  <a:lnTo>
                    <a:pt x="715" y="344"/>
                  </a:lnTo>
                  <a:lnTo>
                    <a:pt x="982" y="239"/>
                  </a:lnTo>
                  <a:lnTo>
                    <a:pt x="1040" y="220"/>
                  </a:lnTo>
                  <a:lnTo>
                    <a:pt x="1134" y="209"/>
                  </a:lnTo>
                  <a:lnTo>
                    <a:pt x="1155" y="209"/>
                  </a:lnTo>
                  <a:lnTo>
                    <a:pt x="1187" y="220"/>
                  </a:lnTo>
                  <a:lnTo>
                    <a:pt x="1197" y="228"/>
                  </a:lnTo>
                  <a:lnTo>
                    <a:pt x="1224" y="306"/>
                  </a:lnTo>
                  <a:lnTo>
                    <a:pt x="1260" y="381"/>
                  </a:lnTo>
                  <a:lnTo>
                    <a:pt x="1275" y="392"/>
                  </a:lnTo>
                  <a:lnTo>
                    <a:pt x="1286" y="401"/>
                  </a:lnTo>
                  <a:lnTo>
                    <a:pt x="1302" y="401"/>
                  </a:lnTo>
                  <a:lnTo>
                    <a:pt x="1323" y="401"/>
                  </a:lnTo>
                  <a:lnTo>
                    <a:pt x="1506" y="373"/>
                  </a:lnTo>
                  <a:lnTo>
                    <a:pt x="1595" y="325"/>
                  </a:lnTo>
                  <a:lnTo>
                    <a:pt x="1689" y="277"/>
                  </a:lnTo>
                  <a:lnTo>
                    <a:pt x="1831" y="162"/>
                  </a:lnTo>
                  <a:lnTo>
                    <a:pt x="1883" y="133"/>
                  </a:lnTo>
                  <a:lnTo>
                    <a:pt x="2108" y="8"/>
                  </a:lnTo>
                  <a:lnTo>
                    <a:pt x="2181" y="0"/>
                  </a:lnTo>
                  <a:lnTo>
                    <a:pt x="2266" y="8"/>
                  </a:lnTo>
                  <a:lnTo>
                    <a:pt x="2307" y="37"/>
                  </a:lnTo>
                  <a:lnTo>
                    <a:pt x="2323" y="48"/>
                  </a:lnTo>
                  <a:lnTo>
                    <a:pt x="2334" y="48"/>
                  </a:lnTo>
                  <a:lnTo>
                    <a:pt x="2349" y="66"/>
                  </a:lnTo>
                  <a:lnTo>
                    <a:pt x="2370" y="85"/>
                  </a:lnTo>
                  <a:lnTo>
                    <a:pt x="2386" y="133"/>
                  </a:lnTo>
                  <a:lnTo>
                    <a:pt x="2386" y="306"/>
                  </a:lnTo>
                  <a:lnTo>
                    <a:pt x="2386" y="334"/>
                  </a:lnTo>
                  <a:lnTo>
                    <a:pt x="2423" y="412"/>
                  </a:lnTo>
                  <a:lnTo>
                    <a:pt x="2517" y="412"/>
                  </a:lnTo>
                  <a:lnTo>
                    <a:pt x="2611" y="392"/>
                  </a:lnTo>
                  <a:lnTo>
                    <a:pt x="2690" y="362"/>
                  </a:lnTo>
                  <a:lnTo>
                    <a:pt x="2763" y="362"/>
                  </a:lnTo>
                  <a:lnTo>
                    <a:pt x="2848" y="401"/>
                  </a:lnTo>
                  <a:lnTo>
                    <a:pt x="2921" y="516"/>
                  </a:lnTo>
                  <a:lnTo>
                    <a:pt x="2931" y="651"/>
                  </a:lnTo>
                  <a:lnTo>
                    <a:pt x="2910" y="745"/>
                  </a:lnTo>
                  <a:lnTo>
                    <a:pt x="2848" y="833"/>
                  </a:lnTo>
                  <a:lnTo>
                    <a:pt x="2763" y="872"/>
                  </a:lnTo>
                  <a:lnTo>
                    <a:pt x="2685" y="939"/>
                  </a:lnTo>
                  <a:lnTo>
                    <a:pt x="2679" y="1014"/>
                  </a:lnTo>
                  <a:lnTo>
                    <a:pt x="2706" y="1101"/>
                  </a:lnTo>
                  <a:lnTo>
                    <a:pt x="2831" y="1160"/>
                  </a:lnTo>
                  <a:lnTo>
                    <a:pt x="2888" y="1197"/>
                  </a:lnTo>
                  <a:lnTo>
                    <a:pt x="2915" y="1226"/>
                  </a:lnTo>
                  <a:lnTo>
                    <a:pt x="2936" y="1265"/>
                  </a:lnTo>
                  <a:lnTo>
                    <a:pt x="2957" y="1341"/>
                  </a:lnTo>
                  <a:lnTo>
                    <a:pt x="2962" y="1370"/>
                  </a:lnTo>
                  <a:lnTo>
                    <a:pt x="2962" y="1427"/>
                  </a:lnTo>
                  <a:lnTo>
                    <a:pt x="2936" y="1476"/>
                  </a:lnTo>
                  <a:lnTo>
                    <a:pt x="2884" y="1543"/>
                  </a:lnTo>
                  <a:lnTo>
                    <a:pt x="2721" y="1629"/>
                  </a:lnTo>
                  <a:lnTo>
                    <a:pt x="2103" y="1906"/>
                  </a:lnTo>
                  <a:lnTo>
                    <a:pt x="1899" y="1973"/>
                  </a:lnTo>
                  <a:lnTo>
                    <a:pt x="1809" y="1984"/>
                  </a:lnTo>
                  <a:lnTo>
                    <a:pt x="1794" y="1993"/>
                  </a:lnTo>
                  <a:lnTo>
                    <a:pt x="1779" y="1993"/>
                  </a:lnTo>
                  <a:lnTo>
                    <a:pt x="1768" y="1993"/>
                  </a:lnTo>
                  <a:lnTo>
                    <a:pt x="1762" y="2022"/>
                  </a:lnTo>
                  <a:lnTo>
                    <a:pt x="1689" y="1993"/>
                  </a:lnTo>
                  <a:lnTo>
                    <a:pt x="1679" y="1993"/>
                  </a:lnTo>
                  <a:lnTo>
                    <a:pt x="1669" y="1993"/>
                  </a:lnTo>
                  <a:lnTo>
                    <a:pt x="1658" y="1993"/>
                  </a:lnTo>
                  <a:lnTo>
                    <a:pt x="0" y="755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3705480" y="5567760"/>
              <a:ext cx="430200" cy="225000"/>
              <a:chOff x="3705480" y="5567760"/>
              <a:chExt cx="430200" cy="225000"/>
            </a:xfrm>
          </p:grpSpPr>
          <p:sp>
            <p:nvSpPr>
              <p:cNvPr id="135" name=""/>
              <p:cNvSpPr/>
              <p:nvPr/>
            </p:nvSpPr>
            <p:spPr>
              <a:xfrm>
                <a:off x="3705480" y="5567760"/>
                <a:ext cx="430200" cy="22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03" y="5477"/>
                    </a:moveTo>
                    <a:arcTo wR="10800" hR="10800" stAng="-9028228" swAng="898938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03" y="5477"/>
                    </a:moveTo>
                    <a:arcTo wR="10800" hR="10800" stAng="-9028228" swAng="8989384"/>
                  </a:path>
                </a:pathLst>
              </a:custGeom>
              <a:noFill/>
              <a:ln cap="rnd"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745800" y="5595480"/>
                <a:ext cx="325800" cy="17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13" y="5827"/>
                    </a:moveTo>
                    <a:arcTo wR="10800" hR="10800" stAng="-9154821" swAng="91043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13" y="5827"/>
                    </a:moveTo>
                    <a:arcTo wR="10800" hR="10800" stAng="-9154821" swAng="9104399"/>
                  </a:path>
                </a:pathLst>
              </a:custGeom>
              <a:noFill/>
              <a:ln cap="rnd"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640680" y="5559120"/>
              <a:ext cx="482040" cy="225720"/>
              <a:chOff x="3640680" y="5559120"/>
              <a:chExt cx="482040" cy="225720"/>
            </a:xfrm>
          </p:grpSpPr>
          <p:sp>
            <p:nvSpPr>
              <p:cNvPr id="138" name=""/>
              <p:cNvSpPr/>
              <p:nvPr/>
            </p:nvSpPr>
            <p:spPr>
              <a:xfrm>
                <a:off x="3640680" y="5559120"/>
                <a:ext cx="482040" cy="22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181" y="16152"/>
                    </a:moveTo>
                    <a:arcTo wR="10800" hR="10800" stAng="1782284" swAng="905600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181" y="16152"/>
                    </a:moveTo>
                    <a:arcTo wR="10800" hR="10800" stAng="1782284" swAng="9056002"/>
                  </a:path>
                </a:pathLst>
              </a:custGeom>
              <a:noFill/>
              <a:ln cap="rnd"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710160" y="5580720"/>
                <a:ext cx="366120" cy="17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7" y="16017"/>
                    </a:moveTo>
                    <a:arcTo wR="10800" hR="10800" stAng="1732945" swAng="91655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7" y="16017"/>
                    </a:moveTo>
                    <a:arcTo wR="10800" hR="10800" stAng="1732945" swAng="9165540"/>
                  </a:path>
                </a:pathLst>
              </a:custGeom>
              <a:noFill/>
              <a:ln cap="rnd"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2795760" y="5747400"/>
              <a:ext cx="424440" cy="222840"/>
              <a:chOff x="2795760" y="5747400"/>
              <a:chExt cx="424440" cy="222840"/>
            </a:xfrm>
          </p:grpSpPr>
          <p:sp>
            <p:nvSpPr>
              <p:cNvPr id="141" name=""/>
              <p:cNvSpPr/>
              <p:nvPr/>
            </p:nvSpPr>
            <p:spPr>
              <a:xfrm>
                <a:off x="2795760" y="5747400"/>
                <a:ext cx="424440" cy="22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07" y="5298"/>
                    </a:moveTo>
                    <a:arcTo wR="10800" hR="10800" stAng="-8962272" swAng="8922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07" y="5298"/>
                    </a:moveTo>
                    <a:arcTo wR="10800" hR="10800" stAng="-8962272" swAng="8922985"/>
                  </a:path>
                </a:pathLst>
              </a:custGeom>
              <a:noFill/>
              <a:ln cap="rnd"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837160" y="5775120"/>
                <a:ext cx="322200" cy="16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79" y="6307"/>
                    </a:moveTo>
                    <a:arcTo wR="10800" hR="10800" stAng="-9324949" swAng="93767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79" y="6307"/>
                    </a:moveTo>
                    <a:arcTo wR="10800" hR="10800" stAng="-9324949" swAng="9376753"/>
                  </a:path>
                </a:pathLst>
              </a:custGeom>
              <a:noFill/>
              <a:ln cap="rnd"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2718360" y="5759280"/>
              <a:ext cx="472320" cy="225000"/>
              <a:chOff x="2718360" y="5759280"/>
              <a:chExt cx="472320" cy="225000"/>
            </a:xfrm>
          </p:grpSpPr>
          <p:sp>
            <p:nvSpPr>
              <p:cNvPr id="144" name=""/>
              <p:cNvSpPr/>
              <p:nvPr/>
            </p:nvSpPr>
            <p:spPr>
              <a:xfrm>
                <a:off x="2718360" y="5759280"/>
                <a:ext cx="472320" cy="22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23" y="16077"/>
                    </a:moveTo>
                    <a:arcTo wR="10800" hR="10800" stAng="1754956" swAng="90450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23" y="16077"/>
                    </a:moveTo>
                    <a:arcTo wR="10800" hR="10800" stAng="1754956" swAng="9045044"/>
                  </a:path>
                </a:pathLst>
              </a:custGeom>
              <a:noFill/>
              <a:ln cap="rnd"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784600" y="5787360"/>
                <a:ext cx="360360" cy="169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500" y="15549"/>
                    </a:moveTo>
                    <a:arcTo wR="10800" hR="10800" stAng="1565090" swAng="93370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500" y="15549"/>
                    </a:moveTo>
                    <a:arcTo wR="10800" hR="10800" stAng="1565090" swAng="9337061"/>
                  </a:path>
                </a:pathLst>
              </a:custGeom>
              <a:noFill/>
              <a:ln cap="rnd"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732680" y="4836600"/>
              <a:ext cx="2854080" cy="972720"/>
              <a:chOff x="1732680" y="4836600"/>
              <a:chExt cx="2854080" cy="972720"/>
            </a:xfrm>
          </p:grpSpPr>
          <p:sp>
            <p:nvSpPr>
              <p:cNvPr id="147" name=""/>
              <p:cNvSpPr/>
              <p:nvPr/>
            </p:nvSpPr>
            <p:spPr>
              <a:xfrm>
                <a:off x="2250000" y="5128200"/>
                <a:ext cx="2336760" cy="681120"/>
              </a:xfrm>
              <a:custGeom>
                <a:avLst/>
                <a:gdLst/>
                <a:ahLst/>
                <a:rect l="l" t="t" r="r" b="b"/>
                <a:pathLst>
                  <a:path w="1508" h="535">
                    <a:moveTo>
                      <a:pt x="1507" y="0"/>
                    </a:moveTo>
                    <a:lnTo>
                      <a:pt x="1507" y="39"/>
                    </a:lnTo>
                    <a:lnTo>
                      <a:pt x="1" y="534"/>
                    </a:lnTo>
                    <a:lnTo>
                      <a:pt x="0" y="497"/>
                    </a:lnTo>
                    <a:lnTo>
                      <a:pt x="1507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732680" y="4836600"/>
                <a:ext cx="2845080" cy="926640"/>
                <a:chOff x="1732680" y="4836600"/>
                <a:chExt cx="2845080" cy="926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732680" y="4836600"/>
                  <a:ext cx="2845080" cy="926640"/>
                </a:xfrm>
                <a:custGeom>
                  <a:avLst/>
                  <a:gdLst/>
                  <a:ahLst/>
                  <a:rect l="l" t="t" r="r" b="b"/>
                  <a:pathLst>
                    <a:path w="1836" h="728">
                      <a:moveTo>
                        <a:pt x="1385" y="0"/>
                      </a:moveTo>
                      <a:lnTo>
                        <a:pt x="1835" y="229"/>
                      </a:lnTo>
                      <a:lnTo>
                        <a:pt x="339" y="727"/>
                      </a:lnTo>
                      <a:lnTo>
                        <a:pt x="0" y="450"/>
                      </a:lnTo>
                      <a:lnTo>
                        <a:pt x="1385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753360" y="4871880"/>
                  <a:ext cx="713880" cy="29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4461120" y="5171040"/>
                  <a:ext cx="0" cy="60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616920" y="4899960"/>
                  <a:ext cx="712440" cy="29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4325040" y="5199120"/>
                  <a:ext cx="0" cy="60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491280" y="4945680"/>
                  <a:ext cx="714240" cy="295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4199400" y="5240880"/>
                  <a:ext cx="0" cy="6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346920" y="4983840"/>
                  <a:ext cx="711000" cy="291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4055040" y="5279040"/>
                  <a:ext cx="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209400" y="5013360"/>
                  <a:ext cx="712440" cy="295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3918600" y="5308200"/>
                  <a:ext cx="0" cy="6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054240" y="5050440"/>
                  <a:ext cx="712440" cy="29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3762360" y="5349600"/>
                  <a:ext cx="0" cy="61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899440" y="5094720"/>
                  <a:ext cx="712440" cy="295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V="1">
                  <a:off x="3607560" y="5393520"/>
                  <a:ext cx="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725920" y="5144400"/>
                  <a:ext cx="712440" cy="29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V="1">
                  <a:off x="3434040" y="5442480"/>
                  <a:ext cx="0" cy="5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563200" y="5192640"/>
                  <a:ext cx="712440" cy="29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V="1">
                  <a:off x="3269880" y="5487840"/>
                  <a:ext cx="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389680" y="5237280"/>
                  <a:ext cx="711000" cy="292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V="1">
                  <a:off x="3097440" y="5536080"/>
                  <a:ext cx="0" cy="57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106000" y="5329080"/>
                  <a:ext cx="645840" cy="292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V="1">
                  <a:off x="2747520" y="5625360"/>
                  <a:ext cx="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940040" y="5367240"/>
                  <a:ext cx="624240" cy="30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2558520" y="5675400"/>
                  <a:ext cx="0" cy="6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251800" y="5277960"/>
                  <a:ext cx="673920" cy="297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V="1">
                  <a:off x="2919600" y="5569560"/>
                  <a:ext cx="0" cy="64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3347640" y="4474800"/>
              <a:ext cx="632880" cy="1884600"/>
              <a:chOff x="3347640" y="4474800"/>
              <a:chExt cx="632880" cy="188460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3447720" y="6080400"/>
                <a:ext cx="532800" cy="279000"/>
                <a:chOff x="3447720" y="6080400"/>
                <a:chExt cx="532800" cy="2790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3447720" y="6080400"/>
                  <a:ext cx="53280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39" y="5244"/>
                      </a:moveTo>
                      <a:arcTo wR="10800" hR="10800" stAng="-8942406" swAng="88793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39" y="5244"/>
                      </a:moveTo>
                      <a:arcTo wR="10800" hR="10800" stAng="-8942406" swAng="8879360"/>
                    </a:path>
                  </a:pathLst>
                </a:custGeom>
                <a:noFill/>
                <a:ln cap="rnd"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497040" y="6116040"/>
                  <a:ext cx="401040" cy="214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66" y="5368"/>
                      </a:moveTo>
                      <a:arcTo wR="10800" hR="10800" stAng="-8988065" swAng="90695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66" y="5368"/>
                      </a:moveTo>
                      <a:arcTo wR="10800" hR="10800" stAng="-8988065" swAng="9069565"/>
                    </a:path>
                  </a:pathLst>
                </a:custGeom>
                <a:noFill/>
                <a:ln cap="rnd"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347640" y="6070680"/>
                <a:ext cx="596160" cy="281520"/>
                <a:chOff x="3347640" y="6070680"/>
                <a:chExt cx="596160" cy="2815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347640" y="6070680"/>
                  <a:ext cx="596160" cy="281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118" y="16260"/>
                      </a:moveTo>
                      <a:arcTo wR="10800" hR="10800" stAng="1822088" swAng="903940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118" y="16260"/>
                      </a:moveTo>
                      <a:arcTo wR="10800" hR="10800" stAng="1822088" swAng="9039409"/>
                    </a:path>
                  </a:pathLst>
                </a:custGeom>
                <a:noFill/>
                <a:ln cap="rnd"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32960" y="6097680"/>
                  <a:ext cx="45468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276" y="15982"/>
                      </a:moveTo>
                      <a:arcTo wR="10800" hR="10800" stAng="1720388" swAng="90796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276" y="15982"/>
                      </a:moveTo>
                      <a:arcTo wR="10800" hR="10800" stAng="1720388" swAng="9079612"/>
                    </a:path>
                  </a:pathLst>
                </a:custGeom>
                <a:noFill/>
                <a:ln cap="rnd"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603240" y="4474800"/>
                <a:ext cx="91080" cy="1788840"/>
                <a:chOff x="3603240" y="4474800"/>
                <a:chExt cx="91080" cy="17888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603240" y="4491360"/>
                  <a:ext cx="91080" cy="1752120"/>
                </a:xfrm>
                <a:prstGeom prst="rect">
                  <a:avLst/>
                </a:prstGeom>
                <a:solidFill>
                  <a:srgbClr val="c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603240" y="4474800"/>
                  <a:ext cx="91080" cy="36720"/>
                </a:xfrm>
                <a:prstGeom prst="ellipse">
                  <a:avLst/>
                </a:pr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603240" y="6228360"/>
                  <a:ext cx="91080" cy="35280"/>
                </a:xfrm>
                <a:prstGeom prst="ellipse">
                  <a:avLst/>
                </a:prstGeom>
                <a:solidFill>
                  <a:srgbClr val="c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7" name=""/>
            <p:cNvGrpSpPr/>
            <p:nvPr/>
          </p:nvGrpSpPr>
          <p:grpSpPr>
            <a:xfrm>
              <a:off x="4303800" y="4229280"/>
              <a:ext cx="631440" cy="1880280"/>
              <a:chOff x="4303800" y="4229280"/>
              <a:chExt cx="631440" cy="188028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4403160" y="5825880"/>
                <a:ext cx="532080" cy="283680"/>
                <a:chOff x="4403160" y="5825880"/>
                <a:chExt cx="532080" cy="2836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4403160" y="5825880"/>
                  <a:ext cx="532080" cy="283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99" y="5311"/>
                      </a:moveTo>
                      <a:arcTo wR="10800" hR="10800" stAng="-8967252" swAng="902926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99" y="5311"/>
                      </a:moveTo>
                      <a:arcTo wR="10800" hR="10800" stAng="-8967252" swAng="9029269"/>
                    </a:path>
                  </a:pathLst>
                </a:custGeom>
                <a:noFill/>
                <a:ln cap="rnd"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455360" y="5866200"/>
                  <a:ext cx="40248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08" y="5295"/>
                      </a:moveTo>
                      <a:arcTo wR="10800" hR="10800" stAng="-8961339" swAng="896133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08" y="5295"/>
                      </a:moveTo>
                      <a:arcTo wR="10800" hR="10800" stAng="-8961339" swAng="8961339"/>
                    </a:path>
                  </a:pathLst>
                </a:custGeom>
                <a:noFill/>
                <a:ln cap="rnd"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4303800" y="5815800"/>
                <a:ext cx="596880" cy="281880"/>
                <a:chOff x="4303800" y="5815800"/>
                <a:chExt cx="596880" cy="28188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4303800" y="5815800"/>
                  <a:ext cx="596880" cy="281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058" y="16361"/>
                      </a:moveTo>
                      <a:arcTo wR="10800" hR="10800" stAng="1859481" swAng="89405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058" y="16361"/>
                      </a:moveTo>
                      <a:arcTo wR="10800" hR="10800" stAng="1859481" swAng="8940519"/>
                    </a:path>
                  </a:pathLst>
                </a:custGeom>
                <a:noFill/>
                <a:ln cap="rnd"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391640" y="5845320"/>
                  <a:ext cx="45396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165" y="16180"/>
                      </a:moveTo>
                      <a:arcTo wR="10800" hR="10800" stAng="1792668" swAng="9007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165" y="16180"/>
                      </a:moveTo>
                      <a:arcTo wR="10800" hR="10800" stAng="1792668" swAng="9007332"/>
                    </a:path>
                  </a:pathLst>
                </a:custGeom>
                <a:noFill/>
                <a:ln cap="rnd"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4579560" y="4229280"/>
                <a:ext cx="92880" cy="1788840"/>
                <a:chOff x="4579560" y="4229280"/>
                <a:chExt cx="92880" cy="17888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579560" y="4246920"/>
                  <a:ext cx="92880" cy="1753200"/>
                </a:xfrm>
                <a:prstGeom prst="rect">
                  <a:avLst/>
                </a:prstGeom>
                <a:solidFill>
                  <a:srgbClr val="c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579560" y="4229280"/>
                  <a:ext cx="92880" cy="38160"/>
                </a:xfrm>
                <a:prstGeom prst="ellipse">
                  <a:avLst/>
                </a:pr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579560" y="5982840"/>
                  <a:ext cx="92880" cy="35280"/>
                </a:xfrm>
                <a:prstGeom prst="ellipse">
                  <a:avLst/>
                </a:prstGeom>
                <a:solidFill>
                  <a:srgbClr val="c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"/>
            <p:cNvSpPr/>
            <p:nvPr/>
          </p:nvSpPr>
          <p:spPr>
            <a:xfrm>
              <a:off x="474840" y="5068440"/>
              <a:ext cx="3216600" cy="1789200"/>
            </a:xfrm>
            <a:custGeom>
              <a:avLst/>
              <a:gdLst/>
              <a:ahLst/>
              <a:rect l="l" t="t" r="r" b="b"/>
              <a:pathLst>
                <a:path w="2076" h="1405">
                  <a:moveTo>
                    <a:pt x="121" y="220"/>
                  </a:moveTo>
                  <a:lnTo>
                    <a:pt x="198" y="89"/>
                  </a:lnTo>
                  <a:lnTo>
                    <a:pt x="266" y="34"/>
                  </a:lnTo>
                  <a:lnTo>
                    <a:pt x="339" y="0"/>
                  </a:lnTo>
                  <a:lnTo>
                    <a:pt x="352" y="0"/>
                  </a:lnTo>
                  <a:lnTo>
                    <a:pt x="425" y="0"/>
                  </a:lnTo>
                  <a:lnTo>
                    <a:pt x="479" y="15"/>
                  </a:lnTo>
                  <a:lnTo>
                    <a:pt x="653" y="34"/>
                  </a:lnTo>
                  <a:lnTo>
                    <a:pt x="663" y="34"/>
                  </a:lnTo>
                  <a:lnTo>
                    <a:pt x="677" y="34"/>
                  </a:lnTo>
                  <a:lnTo>
                    <a:pt x="774" y="100"/>
                  </a:lnTo>
                  <a:lnTo>
                    <a:pt x="827" y="147"/>
                  </a:lnTo>
                  <a:lnTo>
                    <a:pt x="875" y="181"/>
                  </a:lnTo>
                  <a:lnTo>
                    <a:pt x="890" y="191"/>
                  </a:lnTo>
                  <a:lnTo>
                    <a:pt x="918" y="210"/>
                  </a:lnTo>
                  <a:lnTo>
                    <a:pt x="929" y="220"/>
                  </a:lnTo>
                  <a:lnTo>
                    <a:pt x="952" y="239"/>
                  </a:lnTo>
                  <a:lnTo>
                    <a:pt x="962" y="239"/>
                  </a:lnTo>
                  <a:lnTo>
                    <a:pt x="996" y="274"/>
                  </a:lnTo>
                  <a:lnTo>
                    <a:pt x="1002" y="294"/>
                  </a:lnTo>
                  <a:lnTo>
                    <a:pt x="1044" y="366"/>
                  </a:lnTo>
                  <a:lnTo>
                    <a:pt x="1078" y="406"/>
                  </a:lnTo>
                  <a:lnTo>
                    <a:pt x="1088" y="406"/>
                  </a:lnTo>
                  <a:lnTo>
                    <a:pt x="1098" y="413"/>
                  </a:lnTo>
                  <a:lnTo>
                    <a:pt x="1112" y="424"/>
                  </a:lnTo>
                  <a:lnTo>
                    <a:pt x="1122" y="424"/>
                  </a:lnTo>
                  <a:lnTo>
                    <a:pt x="1145" y="441"/>
                  </a:lnTo>
                  <a:lnTo>
                    <a:pt x="1156" y="451"/>
                  </a:lnTo>
                  <a:lnTo>
                    <a:pt x="1223" y="497"/>
                  </a:lnTo>
                  <a:lnTo>
                    <a:pt x="1247" y="543"/>
                  </a:lnTo>
                  <a:lnTo>
                    <a:pt x="1257" y="560"/>
                  </a:lnTo>
                  <a:lnTo>
                    <a:pt x="1267" y="571"/>
                  </a:lnTo>
                  <a:lnTo>
                    <a:pt x="1320" y="664"/>
                  </a:lnTo>
                  <a:lnTo>
                    <a:pt x="1329" y="672"/>
                  </a:lnTo>
                  <a:lnTo>
                    <a:pt x="1369" y="691"/>
                  </a:lnTo>
                  <a:lnTo>
                    <a:pt x="1416" y="711"/>
                  </a:lnTo>
                  <a:lnTo>
                    <a:pt x="1426" y="711"/>
                  </a:lnTo>
                  <a:lnTo>
                    <a:pt x="1436" y="711"/>
                  </a:lnTo>
                  <a:lnTo>
                    <a:pt x="1451" y="711"/>
                  </a:lnTo>
                  <a:lnTo>
                    <a:pt x="1460" y="711"/>
                  </a:lnTo>
                  <a:lnTo>
                    <a:pt x="1470" y="719"/>
                  </a:lnTo>
                  <a:lnTo>
                    <a:pt x="1484" y="729"/>
                  </a:lnTo>
                  <a:lnTo>
                    <a:pt x="1499" y="737"/>
                  </a:lnTo>
                  <a:lnTo>
                    <a:pt x="1556" y="802"/>
                  </a:lnTo>
                  <a:lnTo>
                    <a:pt x="1605" y="876"/>
                  </a:lnTo>
                  <a:lnTo>
                    <a:pt x="1688" y="959"/>
                  </a:lnTo>
                  <a:lnTo>
                    <a:pt x="1736" y="1014"/>
                  </a:lnTo>
                  <a:lnTo>
                    <a:pt x="1750" y="1023"/>
                  </a:lnTo>
                  <a:lnTo>
                    <a:pt x="1822" y="1034"/>
                  </a:lnTo>
                  <a:lnTo>
                    <a:pt x="1842" y="1042"/>
                  </a:lnTo>
                  <a:lnTo>
                    <a:pt x="1851" y="1042"/>
                  </a:lnTo>
                  <a:lnTo>
                    <a:pt x="1910" y="1081"/>
                  </a:lnTo>
                  <a:lnTo>
                    <a:pt x="1919" y="1088"/>
                  </a:lnTo>
                  <a:lnTo>
                    <a:pt x="1929" y="1088"/>
                  </a:lnTo>
                  <a:lnTo>
                    <a:pt x="1953" y="1125"/>
                  </a:lnTo>
                  <a:lnTo>
                    <a:pt x="1982" y="1189"/>
                  </a:lnTo>
                  <a:lnTo>
                    <a:pt x="2035" y="1254"/>
                  </a:lnTo>
                  <a:lnTo>
                    <a:pt x="2065" y="1301"/>
                  </a:lnTo>
                  <a:lnTo>
                    <a:pt x="2069" y="1319"/>
                  </a:lnTo>
                  <a:lnTo>
                    <a:pt x="2069" y="1338"/>
                  </a:lnTo>
                  <a:lnTo>
                    <a:pt x="2073" y="1356"/>
                  </a:lnTo>
                  <a:lnTo>
                    <a:pt x="2075" y="1404"/>
                  </a:lnTo>
                  <a:lnTo>
                    <a:pt x="4" y="1404"/>
                  </a:lnTo>
                  <a:lnTo>
                    <a:pt x="0" y="856"/>
                  </a:lnTo>
                  <a:lnTo>
                    <a:pt x="0" y="838"/>
                  </a:lnTo>
                  <a:lnTo>
                    <a:pt x="10" y="672"/>
                  </a:lnTo>
                  <a:lnTo>
                    <a:pt x="10" y="654"/>
                  </a:lnTo>
                  <a:lnTo>
                    <a:pt x="10" y="635"/>
                  </a:lnTo>
                  <a:lnTo>
                    <a:pt x="14" y="618"/>
                  </a:lnTo>
                  <a:lnTo>
                    <a:pt x="28" y="560"/>
                  </a:lnTo>
                  <a:lnTo>
                    <a:pt x="58" y="470"/>
                  </a:lnTo>
                  <a:lnTo>
                    <a:pt x="72" y="413"/>
                  </a:lnTo>
                  <a:lnTo>
                    <a:pt x="121" y="220"/>
                  </a:lnTo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aphicFrame>
        <p:nvGraphicFramePr>
          <p:cNvPr id="199" name=""/>
          <p:cNvGraphicFramePr/>
          <p:nvPr/>
        </p:nvGraphicFramePr>
        <p:xfrm>
          <a:off x="260280" y="2414520"/>
          <a:ext cx="2527200" cy="23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2414520"/>
                    <a:ext cx="2527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747800" y="3957480"/>
          <a:ext cx="762120" cy="139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7800" y="3957480"/>
                    <a:ext cx="76212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2286000" y="5299200"/>
          <a:ext cx="365040" cy="34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5299200"/>
                    <a:ext cx="3650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2666880" y="5187960"/>
          <a:ext cx="704880" cy="41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5187960"/>
                    <a:ext cx="7048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1828800" y="2338560"/>
          <a:ext cx="2527200" cy="2381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28800" y="2338560"/>
                    <a:ext cx="2527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5334120" y="2438280"/>
            <a:ext cx="32763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ahoma"/>
              </a:rPr>
              <a:t>振奮神經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ahoma"/>
              </a:rPr>
              <a:t>消除疲勞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ahoma"/>
              </a:rPr>
              <a:t>美容養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ahoma"/>
              </a:rPr>
              <a:t>促進新陳代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ahoma"/>
              </a:rPr>
              <a:t>增進人體健康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bd189"/>
                </a:solidFill>
                <a:latin typeface="Arial"/>
                <a:ea typeface="華康超明體(P)"/>
              </a:rPr>
              <a:t>注意事項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集合地點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學校正門前，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6:50~7:10a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集合完畢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攜帶物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換洗衣物（含薄外套禦寒）、盥洗用具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泳裝、泳褲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暈車藥、腸胃藥、蚊蟲叮咬消炎藥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相機、底片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陽傘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543800" y="5029200"/>
          <a:ext cx="87624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5029200"/>
                    <a:ext cx="87624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3T01:03:44Z</dcterms:created>
  <dc:creator>ChiaYiLu</dc:creator>
  <dc:description/>
  <dc:language>en-US</dc:language>
  <cp:lastModifiedBy>ChiaYiLu</cp:lastModifiedBy>
  <dcterms:modified xsi:type="dcterms:W3CDTF">2003-05-07T09:11:30Z</dcterms:modified>
  <cp:revision>12</cp:revision>
  <dc:subject/>
  <dc:title>南台灣之旅</dc:title>
</cp:coreProperties>
</file>