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06C01B-47B4-485F-AE5F-DF05ED809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F1A076-BDB7-40DA-AE6D-87B163386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0B27BE-A50F-4926-BF8D-FFED29DBD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1CF065-1830-4AF7-9841-B7BD23D42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A92A6-3C8D-4425-B8BE-233861484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73AB4-BB9A-4451-B119-447C410E8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34294-85D5-4371-B0F8-449FEAE80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29B4C-70EB-4BB7-A01C-EE8D9B9D9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9E6FF-76F2-42B1-97E3-A74E671CD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234DB-AFA2-4CA1-AC1E-D14DF4043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3659E-BA09-4DA8-AB88-3F5087C0C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37285A-7275-4035-9C3F-DD3EF05BF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99918-70E7-4B3F-B068-2827A718F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5326B-4886-4419-AF9D-FE13EC8D0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23778-1C69-4BF0-8FF3-F91823DC5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AD1CE-E32A-4309-A090-5370EF167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BFC1D-7BE1-435B-9726-BCA1891E6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3F080B-DF62-4408-B0E2-A57CBEAA0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35C1AB-D64E-41B6-B5A0-3D5FAA015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1BB0A3-5479-4A12-A379-8BCF42E12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2096E2-C8FA-418A-9664-640E436EF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32531E-E26F-44F3-8592-9A748F62E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32290E-D900-474A-8C1C-94BBE7292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59FFCE-959F-44FD-943E-D0413A801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2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7FF70-7B2D-4EB9-ACC6-83BC8A0753D9}" type="slidenum">
              <a:rPr b="0" lang="zh-TW" sz="2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-36360" y="-27000"/>
            <a:ext cx="9144000" cy="546120"/>
            <a:chOff x="-36360" y="-2700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-36360" y="-2700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76560" y="108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73320" y="108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11200" y="-2700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11200" y="108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38320" y="247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5400" y="109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73320" y="244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38320" y="382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-27000"/>
            <a:ext cx="9144000" cy="6858000"/>
            <a:chOff x="0" y="-2700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-2700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63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39680"/>
              <a:ext cx="2867040" cy="3157560"/>
              <a:chOff x="0" y="1039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56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63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39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56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63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297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297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297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21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21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A6511-9058-4C6B-A43F-F2B26675D317}" type="slidenum">
              <a:rPr b="0" lang="zh-TW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4140000" y="5084640"/>
            <a:ext cx="453708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6600cc"/>
                </a:solidFill>
                <a:latin typeface="Arial"/>
                <a:ea typeface="華康中黑體(P)"/>
              </a:rPr>
              <a:t>學生姓名：曾詠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6600cc"/>
                </a:solidFill>
                <a:latin typeface="Arial"/>
                <a:ea typeface="華康中黑體(P)"/>
              </a:rPr>
              <a:t>班　　級：三年三班３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84360" y="1197000"/>
            <a:ext cx="7920000" cy="23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1203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華康細圓體"/>
              </a:rPr>
              <a:t>食物與健康的關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華康細圓體"/>
              <a:ea typeface="華康細圓體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6" name=""/>
          <p:cNvGraphicFramePr/>
          <p:nvPr/>
        </p:nvGraphicFramePr>
        <p:xfrm>
          <a:off x="468360" y="1700280"/>
          <a:ext cx="8137440" cy="4176720"/>
        </p:xfrm>
        <a:graphic>
          <a:graphicData uri="http://schemas.openxmlformats.org/drawingml/2006/table">
            <a:tbl>
              <a:tblPr/>
              <a:tblGrid>
                <a:gridCol w="574560"/>
                <a:gridCol w="601560"/>
                <a:gridCol w="535320"/>
                <a:gridCol w="534960"/>
                <a:gridCol w="531720"/>
                <a:gridCol w="538200"/>
                <a:gridCol w="534960"/>
                <a:gridCol w="538200"/>
                <a:gridCol w="533160"/>
                <a:gridCol w="528840"/>
                <a:gridCol w="542880"/>
                <a:gridCol w="538200"/>
                <a:gridCol w="534960"/>
                <a:gridCol w="536400"/>
                <a:gridCol w="533520"/>
              </a:tblGrid>
              <a:tr h="398880">
                <a:tc>
                  <a:txBody>
                    <a:bodyPr lIns="90000" rIns="90000" tIns="46800" bIns="46800" anchor="t" anchorCtr="1" vert="eaVer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00007d"/>
                      </a:solidFill>
                    </a:lnR>
                    <a:lnT>
                      <a:noFill/>
                    </a:lnT>
                    <a:lnB w="18720">
                      <a:solidFill>
                        <a:srgbClr val="00007d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ffffff"/>
                          </a:solidFill>
                          <a:latin typeface="Arial"/>
                          <a:ea typeface="華康中黑體"/>
                        </a:rPr>
                        <a:t>早餐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7d"/>
                      </a:solidFill>
                    </a:lnL>
                    <a:lnR w="18720">
                      <a:solidFill>
                        <a:srgbClr val="00007d"/>
                      </a:solidFill>
                    </a:lnR>
                    <a:lnT w="18720">
                      <a:solidFill>
                        <a:srgbClr val="00007d"/>
                      </a:solidFill>
                    </a:lnT>
                    <a:lnB w="18720">
                      <a:solidFill>
                        <a:srgbClr val="00007d"/>
                      </a:solidFill>
                    </a:lnB>
                    <a:solidFill>
                      <a:srgbClr val="3399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ffffff"/>
                          </a:solidFill>
                          <a:latin typeface="Arial"/>
                          <a:ea typeface="華康中黑體"/>
                        </a:rPr>
                        <a:t>午餐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7d"/>
                      </a:solidFill>
                    </a:lnL>
                    <a:lnR w="18720">
                      <a:solidFill>
                        <a:srgbClr val="00007d"/>
                      </a:solidFill>
                    </a:lnR>
                    <a:lnT w="18720">
                      <a:solidFill>
                        <a:srgbClr val="00007d"/>
                      </a:solidFill>
                    </a:lnT>
                    <a:lnB w="18720">
                      <a:solidFill>
                        <a:srgbClr val="00007d"/>
                      </a:solidFill>
                    </a:lnB>
                    <a:solidFill>
                      <a:srgbClr val="ff993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6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ffffff"/>
                          </a:solidFill>
                          <a:latin typeface="Arial"/>
                          <a:ea typeface="華康中黑體"/>
                        </a:rPr>
                        <a:t>晚餐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7d"/>
                      </a:solidFill>
                    </a:lnL>
                    <a:lnR w="18720">
                      <a:solidFill>
                        <a:srgbClr val="00007d"/>
                      </a:solidFill>
                    </a:lnR>
                    <a:lnT w="18720">
                      <a:solidFill>
                        <a:srgbClr val="00007d"/>
                      </a:solidFill>
                    </a:lnT>
                    <a:lnB w="18720">
                      <a:solidFill>
                        <a:srgbClr val="00007d"/>
                      </a:solidFill>
                    </a:lnB>
                    <a:solidFill>
                      <a:srgbClr val="0066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4120">
                <a:tc>
                  <a:txBody>
                    <a:bodyPr lIns="90000" rIns="90000" tIns="46800" bIns="46800" anchor="t" anchorCtr="1" vert="eaVer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華康中黑體"/>
                        </a:rPr>
                        <a:t>食物類別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7d"/>
                      </a:solidFill>
                    </a:lnL>
                    <a:lnR w="18720">
                      <a:solidFill>
                        <a:srgbClr val="00007d"/>
                      </a:solidFill>
                    </a:lnR>
                    <a:lnT w="18720">
                      <a:solidFill>
                        <a:srgbClr val="00007d"/>
                      </a:solidFill>
                    </a:lnT>
                    <a:lnB w="18720">
                      <a:solidFill>
                        <a:srgbClr val="00007d"/>
                      </a:solidFill>
                    </a:lnB>
                    <a:solidFill>
                      <a:srgbClr val="6600cc"/>
                    </a:solidFill>
                  </a:tcPr>
                </a:tc>
                <a:tc>
                  <a:txBody>
                    <a:bodyPr lIns="90000" rIns="90000" tIns="46800" bIns="46800" anchor="t" anchorCtr="1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7d"/>
                          </a:solidFill>
                          <a:latin typeface="Times New Roman"/>
                          <a:ea typeface="新細明體"/>
                        </a:rPr>
                        <a:t>五穀根莖類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7d"/>
                      </a:solidFill>
                    </a:lnL>
                    <a:lnR w="1440">
                      <a:solidFill>
                        <a:srgbClr val="00007d"/>
                      </a:solidFill>
                    </a:lnR>
                    <a:lnT w="18720">
                      <a:solidFill>
                        <a:srgbClr val="00007d"/>
                      </a:solidFill>
                    </a:lnT>
                    <a:lnB w="1440">
                      <a:solidFill>
                        <a:srgbClr val="00007d"/>
                      </a:solidFill>
                    </a:lnB>
                    <a:solidFill>
                      <a:srgbClr val="e1ffff"/>
                    </a:solidFill>
                  </a:tcPr>
                </a:tc>
                <a:tc>
                  <a:txBody>
                    <a:bodyPr lIns="90000" rIns="90000" tIns="46800" bIns="46800" anchor="t" anchorCtr="1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7d"/>
                          </a:solidFill>
                          <a:latin typeface="Times New Roman"/>
                          <a:ea typeface="新細明體"/>
                        </a:rPr>
                        <a:t>蛋豆魚肉類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7d"/>
                      </a:solidFill>
                    </a:lnL>
                    <a:lnR w="1440">
                      <a:solidFill>
                        <a:srgbClr val="00007d"/>
                      </a:solidFill>
                    </a:lnR>
                    <a:lnT w="18720">
                      <a:solidFill>
                        <a:srgbClr val="00007d"/>
                      </a:solidFill>
                    </a:lnT>
                    <a:lnB w="1440">
                      <a:solidFill>
                        <a:srgbClr val="00007d"/>
                      </a:solidFill>
                    </a:lnB>
                    <a:solidFill>
                      <a:srgbClr val="e1ffff"/>
                    </a:solidFill>
                  </a:tcPr>
                </a:tc>
                <a:tc>
                  <a:txBody>
                    <a:bodyPr lIns="90000" rIns="90000" tIns="46800" bIns="46800" anchor="t" anchorCtr="1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7d"/>
                          </a:solidFill>
                          <a:latin typeface="Times New Roman"/>
                          <a:ea typeface="新細明體"/>
                        </a:rPr>
                        <a:t>蔬菜類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7d"/>
                      </a:solidFill>
                    </a:lnL>
                    <a:lnR w="18720">
                      <a:solidFill>
                        <a:srgbClr val="00007d"/>
                      </a:solidFill>
                    </a:lnR>
                    <a:lnT w="18720">
                      <a:solidFill>
                        <a:srgbClr val="00007d"/>
                      </a:solidFill>
                    </a:lnT>
                    <a:lnB w="1440">
                      <a:solidFill>
                        <a:srgbClr val="00007d"/>
                      </a:solidFill>
                    </a:lnB>
                    <a:solidFill>
                      <a:srgbClr val="e1ffff"/>
                    </a:solidFill>
                  </a:tcPr>
                </a:tc>
                <a:tc>
                  <a:txBody>
                    <a:bodyPr lIns="90000" rIns="90000" tIns="46800" bIns="46800" anchor="t" anchorCtr="1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cc6600"/>
                          </a:solidFill>
                          <a:latin typeface="Times New Roman"/>
                          <a:ea typeface="新細明體"/>
                        </a:rPr>
                        <a:t>五穀根莖類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7d"/>
                      </a:solidFill>
                    </a:lnL>
                    <a:lnR w="1440">
                      <a:solidFill>
                        <a:srgbClr val="00007d"/>
                      </a:solidFill>
                    </a:lnR>
                    <a:lnT w="18720">
                      <a:solidFill>
                        <a:srgbClr val="00007d"/>
                      </a:solidFill>
                    </a:lnT>
                    <a:lnB w="1440">
                      <a:solidFill>
                        <a:srgbClr val="00007d"/>
                      </a:solidFill>
                    </a:lnB>
                    <a:solidFill>
                      <a:srgbClr val="ffff99"/>
                    </a:solidFill>
                  </a:tcPr>
                </a:tc>
                <a:tc gridSpan="2">
                  <a:txBody>
                    <a:bodyPr lIns="90000" rIns="90000" tIns="46800" bIns="46800" anchor="t" anchorCtr="1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cc6600"/>
                          </a:solidFill>
                          <a:latin typeface="Times New Roman"/>
                          <a:ea typeface="新細明體"/>
                        </a:rPr>
                        <a:t>蛋豆魚肉類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7d"/>
                      </a:solidFill>
                    </a:lnL>
                    <a:lnR w="1440">
                      <a:solidFill>
                        <a:srgbClr val="00007d"/>
                      </a:solidFill>
                    </a:lnR>
                    <a:lnT w="18720">
                      <a:solidFill>
                        <a:srgbClr val="00007d"/>
                      </a:solidFill>
                    </a:lnT>
                    <a:lnB w="1440">
                      <a:solidFill>
                        <a:srgbClr val="00007d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 anchorCtr="1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cc6600"/>
                          </a:solidFill>
                          <a:latin typeface="Times New Roman"/>
                          <a:ea typeface="新細明體"/>
                        </a:rPr>
                        <a:t>蔬菜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7d"/>
                      </a:solidFill>
                    </a:lnL>
                    <a:lnR w="18720">
                      <a:solidFill>
                        <a:srgbClr val="00007d"/>
                      </a:solidFill>
                    </a:lnR>
                    <a:lnT w="18720">
                      <a:solidFill>
                        <a:srgbClr val="00007d"/>
                      </a:solidFill>
                    </a:lnT>
                    <a:lnB w="1440">
                      <a:solidFill>
                        <a:srgbClr val="00007d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 anchorCtr="1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6600"/>
                          </a:solidFill>
                          <a:latin typeface="Times New Roman"/>
                          <a:ea typeface="新細明體"/>
                        </a:rPr>
                        <a:t>五穀根莖類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7d"/>
                      </a:solidFill>
                    </a:lnL>
                    <a:lnR w="1440">
                      <a:solidFill>
                        <a:srgbClr val="00007d"/>
                      </a:solidFill>
                    </a:lnR>
                    <a:lnT w="18720">
                      <a:solidFill>
                        <a:srgbClr val="00007d"/>
                      </a:solidFill>
                    </a:lnT>
                    <a:lnB w="1440">
                      <a:solidFill>
                        <a:srgbClr val="00007d"/>
                      </a:solidFill>
                    </a:lnB>
                    <a:solidFill>
                      <a:srgbClr val="ccffcc"/>
                    </a:solidFill>
                  </a:tcPr>
                </a:tc>
                <a:tc gridSpan="2">
                  <a:txBody>
                    <a:bodyPr lIns="90000" rIns="90000" tIns="46800" bIns="46800" anchor="t" anchorCtr="1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6600"/>
                          </a:solidFill>
                          <a:latin typeface="Times New Roman"/>
                          <a:ea typeface="新細明體"/>
                        </a:rPr>
                        <a:t>蛋豆魚肉類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7d"/>
                      </a:solidFill>
                    </a:lnL>
                    <a:lnR w="1440">
                      <a:solidFill>
                        <a:srgbClr val="00007d"/>
                      </a:solidFill>
                    </a:lnR>
                    <a:lnT w="18720">
                      <a:solidFill>
                        <a:srgbClr val="00007d"/>
                      </a:solidFill>
                    </a:lnT>
                    <a:lnB w="1440">
                      <a:solidFill>
                        <a:srgbClr val="00007d"/>
                      </a:solidFill>
                    </a:lnB>
                    <a:solidFill>
                      <a:srgbClr val="cc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 anchorCtr="1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6600"/>
                          </a:solidFill>
                          <a:latin typeface="Times New Roman"/>
                          <a:ea typeface="新細明體"/>
                        </a:rPr>
                        <a:t>蔬菜類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7d"/>
                      </a:solidFill>
                    </a:lnL>
                    <a:lnR w="1440">
                      <a:solidFill>
                        <a:srgbClr val="00007d"/>
                      </a:solidFill>
                    </a:lnR>
                    <a:lnT w="18720">
                      <a:solidFill>
                        <a:srgbClr val="00007d"/>
                      </a:solidFill>
                    </a:lnT>
                    <a:lnB w="1440">
                      <a:solidFill>
                        <a:srgbClr val="00007d"/>
                      </a:solidFill>
                    </a:lnB>
                    <a:solidFill>
                      <a:srgbClr val="cc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 anchorCtr="1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6600"/>
                          </a:solidFill>
                          <a:latin typeface="Times New Roman"/>
                          <a:ea typeface="新細明體"/>
                        </a:rPr>
                        <a:t>水果類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7d"/>
                      </a:solidFill>
                    </a:lnL>
                    <a:lnR w="18720">
                      <a:solidFill>
                        <a:srgbClr val="00007d"/>
                      </a:solidFill>
                    </a:lnR>
                    <a:lnT w="18720">
                      <a:solidFill>
                        <a:srgbClr val="00007d"/>
                      </a:solidFill>
                    </a:lnT>
                    <a:lnB w="1440">
                      <a:solidFill>
                        <a:srgbClr val="00007d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333160">
                <a:tc>
                  <a:txBody>
                    <a:bodyPr lIns="90000" rIns="90000" tIns="46800" bIns="46800" anchor="t" anchorCtr="1" vert="eaVer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華康中黑體"/>
                        </a:rPr>
                        <a:t>食譜舉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7d"/>
                      </a:solidFill>
                    </a:lnL>
                    <a:lnR w="18720">
                      <a:solidFill>
                        <a:srgbClr val="00007d"/>
                      </a:solidFill>
                    </a:lnR>
                    <a:lnT w="18720">
                      <a:solidFill>
                        <a:srgbClr val="00007d"/>
                      </a:solidFill>
                    </a:lnT>
                    <a:lnB w="18720">
                      <a:solidFill>
                        <a:srgbClr val="00007d"/>
                      </a:solidFill>
                    </a:lnB>
                    <a:solidFill>
                      <a:srgbClr val="6600cc"/>
                    </a:solidFill>
                  </a:tcPr>
                </a:tc>
                <a:tc>
                  <a:txBody>
                    <a:bodyPr lIns="90000" rIns="90000" tIns="46800" bIns="46800" anchor="t" anchorCtr="1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7d"/>
                          </a:solidFill>
                          <a:latin typeface="Times New Roman"/>
                          <a:ea typeface="新細明體"/>
                        </a:rPr>
                        <a:t>雜糧饅頭　一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7d"/>
                      </a:solidFill>
                    </a:lnL>
                    <a:lnR w="1440">
                      <a:solidFill>
                        <a:srgbClr val="00007d"/>
                      </a:solidFill>
                    </a:lnR>
                    <a:lnT w="1440">
                      <a:solidFill>
                        <a:srgbClr val="00007d"/>
                      </a:solidFill>
                    </a:lnT>
                    <a:lnB w="18720">
                      <a:solidFill>
                        <a:srgbClr val="00007d"/>
                      </a:solidFill>
                    </a:lnB>
                    <a:solidFill>
                      <a:srgbClr val="e1ffff"/>
                    </a:solidFill>
                  </a:tcPr>
                </a:tc>
                <a:tc>
                  <a:txBody>
                    <a:bodyPr lIns="90000" rIns="90000" tIns="46800" bIns="46800" anchor="t" anchorCtr="1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7d"/>
                          </a:solidFill>
                          <a:latin typeface="Times New Roman"/>
                          <a:ea typeface="新細明體"/>
                        </a:rPr>
                        <a:t>炒蛋　　　一碟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7d"/>
                      </a:solidFill>
                    </a:lnL>
                    <a:lnR w="1440">
                      <a:solidFill>
                        <a:srgbClr val="00007d"/>
                      </a:solidFill>
                    </a:lnR>
                    <a:lnT w="1440">
                      <a:solidFill>
                        <a:srgbClr val="00007d"/>
                      </a:solidFill>
                    </a:lnT>
                    <a:lnB w="18720">
                      <a:solidFill>
                        <a:srgbClr val="00007d"/>
                      </a:solidFill>
                    </a:lnB>
                    <a:solidFill>
                      <a:srgbClr val="e1ffff"/>
                    </a:solidFill>
                  </a:tcPr>
                </a:tc>
                <a:tc>
                  <a:txBody>
                    <a:bodyPr lIns="90000" rIns="90000" tIns="46800" bIns="46800" anchor="t" anchorCtr="1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7d"/>
                          </a:solidFill>
                          <a:latin typeface="Times New Roman"/>
                          <a:ea typeface="新細明體"/>
                        </a:rPr>
                        <a:t>生菜沙拉　一碟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7d"/>
                      </a:solidFill>
                    </a:lnL>
                    <a:lnR w="18720">
                      <a:solidFill>
                        <a:srgbClr val="00007d"/>
                      </a:solidFill>
                    </a:lnR>
                    <a:lnT w="1440">
                      <a:solidFill>
                        <a:srgbClr val="00007d"/>
                      </a:solidFill>
                    </a:lnT>
                    <a:lnB w="18720">
                      <a:solidFill>
                        <a:srgbClr val="00007d"/>
                      </a:solidFill>
                    </a:lnB>
                    <a:solidFill>
                      <a:srgbClr val="e1ffff"/>
                    </a:solidFill>
                  </a:tcPr>
                </a:tc>
                <a:tc>
                  <a:txBody>
                    <a:bodyPr lIns="90000" rIns="90000" tIns="46800" bIns="46800" anchor="t" anchorCtr="1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cc6600"/>
                          </a:solidFill>
                          <a:latin typeface="Times New Roman"/>
                          <a:ea typeface="新細明體"/>
                        </a:rPr>
                        <a:t>乾飯一至　二碗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7d"/>
                      </a:solidFill>
                    </a:lnL>
                    <a:lnR w="1440">
                      <a:solidFill>
                        <a:srgbClr val="00007d"/>
                      </a:solidFill>
                    </a:lnR>
                    <a:lnT w="1440">
                      <a:solidFill>
                        <a:srgbClr val="00007d"/>
                      </a:solidFill>
                    </a:lnT>
                    <a:lnB w="18720">
                      <a:solidFill>
                        <a:srgbClr val="00007d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 anchorCtr="1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cc6600"/>
                          </a:solidFill>
                          <a:latin typeface="Times New Roman"/>
                          <a:ea typeface="新細明體"/>
                        </a:rPr>
                        <a:t>糖醋排骨　一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7d"/>
                      </a:solidFill>
                    </a:lnL>
                    <a:lnR w="1440">
                      <a:solidFill>
                        <a:srgbClr val="00007d"/>
                      </a:solidFill>
                    </a:lnR>
                    <a:lnT w="1440">
                      <a:solidFill>
                        <a:srgbClr val="00007d"/>
                      </a:solidFill>
                    </a:lnT>
                    <a:lnB w="18720">
                      <a:solidFill>
                        <a:srgbClr val="00007d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 anchorCtr="1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cc6600"/>
                          </a:solidFill>
                          <a:latin typeface="Times New Roman"/>
                          <a:ea typeface="新細明體"/>
                        </a:rPr>
                        <a:t>鮭魚　　　一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7d"/>
                      </a:solidFill>
                    </a:lnL>
                    <a:lnR w="1440">
                      <a:solidFill>
                        <a:srgbClr val="00007d"/>
                      </a:solidFill>
                    </a:lnR>
                    <a:lnT w="1440">
                      <a:solidFill>
                        <a:srgbClr val="00007d"/>
                      </a:solidFill>
                    </a:lnT>
                    <a:lnB w="18720">
                      <a:solidFill>
                        <a:srgbClr val="00007d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 anchorCtr="1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cc6600"/>
                          </a:solidFill>
                          <a:latin typeface="Times New Roman"/>
                          <a:ea typeface="新細明體"/>
                        </a:rPr>
                        <a:t>洋蔥胡蘿蔔一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7d"/>
                      </a:solidFill>
                    </a:lnL>
                    <a:lnR w="1440">
                      <a:solidFill>
                        <a:srgbClr val="00007d"/>
                      </a:solidFill>
                    </a:lnR>
                    <a:lnT w="1440">
                      <a:solidFill>
                        <a:srgbClr val="00007d"/>
                      </a:solidFill>
                    </a:lnT>
                    <a:lnB w="18720">
                      <a:solidFill>
                        <a:srgbClr val="00007d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 anchorCtr="1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cc6600"/>
                          </a:solidFill>
                          <a:latin typeface="Times New Roman"/>
                          <a:ea typeface="新細明體"/>
                        </a:rPr>
                        <a:t>炒菠菜　　二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7d"/>
                      </a:solidFill>
                    </a:lnL>
                    <a:lnR w="18720">
                      <a:solidFill>
                        <a:srgbClr val="00007d"/>
                      </a:solidFill>
                    </a:lnR>
                    <a:lnT w="1440">
                      <a:solidFill>
                        <a:srgbClr val="00007d"/>
                      </a:solidFill>
                    </a:lnT>
                    <a:lnB w="18720">
                      <a:solidFill>
                        <a:srgbClr val="00007d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 anchorCtr="1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6600"/>
                          </a:solidFill>
                          <a:latin typeface="Times New Roman"/>
                          <a:ea typeface="新細明體"/>
                        </a:rPr>
                        <a:t>白飯　一至二碗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7d"/>
                      </a:solidFill>
                    </a:lnL>
                    <a:lnR w="1440">
                      <a:solidFill>
                        <a:srgbClr val="00007d"/>
                      </a:solidFill>
                    </a:lnR>
                    <a:lnT w="1440">
                      <a:solidFill>
                        <a:srgbClr val="00007d"/>
                      </a:solidFill>
                    </a:lnT>
                    <a:lnB w="18720">
                      <a:solidFill>
                        <a:srgbClr val="00007d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 anchorCtr="1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6600"/>
                          </a:solidFill>
                          <a:latin typeface="Times New Roman"/>
                          <a:ea typeface="新細明體"/>
                        </a:rPr>
                        <a:t>蝦仁豆腐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7d"/>
                      </a:solidFill>
                    </a:lnL>
                    <a:lnR w="1440">
                      <a:solidFill>
                        <a:srgbClr val="00007d"/>
                      </a:solidFill>
                    </a:lnR>
                    <a:lnT w="1440">
                      <a:solidFill>
                        <a:srgbClr val="00007d"/>
                      </a:solidFill>
                    </a:lnT>
                    <a:lnB w="18720">
                      <a:solidFill>
                        <a:srgbClr val="00007d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 anchorCtr="1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6600"/>
                          </a:solidFill>
                          <a:latin typeface="Times New Roman"/>
                          <a:ea typeface="新細明體"/>
                        </a:rPr>
                        <a:t>蔥油雞　　一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7d"/>
                      </a:solidFill>
                    </a:lnL>
                    <a:lnR w="1440">
                      <a:solidFill>
                        <a:srgbClr val="00007d"/>
                      </a:solidFill>
                    </a:lnR>
                    <a:lnT w="1440">
                      <a:solidFill>
                        <a:srgbClr val="00007d"/>
                      </a:solidFill>
                    </a:lnT>
                    <a:lnB w="18720">
                      <a:solidFill>
                        <a:srgbClr val="00007d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 anchorCtr="1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6600"/>
                          </a:solidFill>
                          <a:latin typeface="Times New Roman"/>
                          <a:ea typeface="新細明體"/>
                        </a:rPr>
                        <a:t>炒青椒　　一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7d"/>
                      </a:solidFill>
                    </a:lnL>
                    <a:lnR w="1440">
                      <a:solidFill>
                        <a:srgbClr val="00007d"/>
                      </a:solidFill>
                    </a:lnR>
                    <a:lnT w="1440">
                      <a:solidFill>
                        <a:srgbClr val="00007d"/>
                      </a:solidFill>
                    </a:lnT>
                    <a:lnB w="18720">
                      <a:solidFill>
                        <a:srgbClr val="00007d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 anchorCtr="1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6600"/>
                          </a:solidFill>
                          <a:latin typeface="Times New Roman"/>
                          <a:ea typeface="新細明體"/>
                        </a:rPr>
                        <a:t>魯白菜　　二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7d"/>
                      </a:solidFill>
                    </a:lnL>
                    <a:lnR w="1440">
                      <a:solidFill>
                        <a:srgbClr val="00007d"/>
                      </a:solidFill>
                    </a:lnR>
                    <a:lnT w="1440">
                      <a:solidFill>
                        <a:srgbClr val="00007d"/>
                      </a:solidFill>
                    </a:lnT>
                    <a:lnB w="18720">
                      <a:solidFill>
                        <a:srgbClr val="00007d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 anchorCtr="1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6600"/>
                          </a:solidFill>
                          <a:latin typeface="Times New Roman"/>
                          <a:ea typeface="新細明體"/>
                        </a:rPr>
                        <a:t>蕃石榴　　一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7d"/>
                      </a:solidFill>
                    </a:lnL>
                    <a:lnR w="18720">
                      <a:solidFill>
                        <a:srgbClr val="00007d"/>
                      </a:solidFill>
                    </a:lnR>
                    <a:lnT w="1440">
                      <a:solidFill>
                        <a:srgbClr val="00007d"/>
                      </a:solidFill>
                    </a:lnT>
                    <a:lnB w="18720">
                      <a:solidFill>
                        <a:srgbClr val="00007d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ff9900"/>
                </a:solidFill>
                <a:latin typeface="Arial"/>
                <a:ea typeface="標楷體"/>
              </a:rPr>
              <a:t>青少年適用之營養食譜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食物與健康的關係報告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D90284-41CF-422C-B656-42074AF4DFE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203640" y="2421000"/>
            <a:ext cx="5267160" cy="395136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ff9900"/>
                </a:solidFill>
                <a:latin typeface="Arial"/>
                <a:ea typeface="標楷體"/>
              </a:rPr>
              <a:t>食 物 的 功 能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619520" cy="19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666699"/>
                </a:solidFill>
                <a:latin typeface="Arial"/>
              </a:rPr>
              <a:t>供給熱能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666699"/>
                </a:solidFill>
                <a:latin typeface="Arial"/>
              </a:rPr>
              <a:t>建造或修補體內組織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666699"/>
                </a:solidFill>
                <a:latin typeface="Arial"/>
              </a:rPr>
              <a:t>調節生理機能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食物與健康的關係報告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4C90BA-B628-4136-BD22-162CEE1811D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95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ff9900"/>
                </a:solidFill>
                <a:latin typeface="Arial"/>
                <a:ea typeface="標楷體"/>
              </a:rPr>
              <a:t>食物中的營養素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971640" y="1557360"/>
          <a:ext cx="7127640" cy="4335480"/>
        </p:xfrm>
        <a:graphic>
          <a:graphicData uri="http://schemas.openxmlformats.org/drawingml/2006/table">
            <a:tbl>
              <a:tblPr/>
              <a:tblGrid>
                <a:gridCol w="3166920"/>
                <a:gridCol w="3960720"/>
              </a:tblGrid>
              <a:tr h="72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3600" spc="-1" strike="noStrike">
                          <a:solidFill>
                            <a:srgbClr val="00007d"/>
                          </a:solidFill>
                          <a:latin typeface="華康楷書體W7(P)"/>
                          <a:ea typeface="華康楷書體W7(P)"/>
                        </a:rPr>
                        <a:t>食   物   類   別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7d"/>
                      </a:solidFill>
                    </a:lnL>
                    <a:lnR w="5760">
                      <a:solidFill>
                        <a:srgbClr val="00007d"/>
                      </a:solidFill>
                    </a:lnR>
                    <a:lnT w="13680">
                      <a:solidFill>
                        <a:srgbClr val="00007d"/>
                      </a:solidFill>
                    </a:lnT>
                    <a:lnB w="9360">
                      <a:solidFill>
                        <a:srgbClr val="6600cc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3600" spc="-1" strike="noStrike">
                          <a:solidFill>
                            <a:srgbClr val="00007d"/>
                          </a:solidFill>
                          <a:latin typeface="華康楷書體W7(P)"/>
                          <a:ea typeface="華康楷書體W7(P)"/>
                        </a:rPr>
                        <a:t>供  給  的  營 養  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7d"/>
                      </a:solidFill>
                    </a:lnL>
                    <a:lnR w="13680">
                      <a:solidFill>
                        <a:srgbClr val="00007d"/>
                      </a:solidFill>
                    </a:lnR>
                    <a:lnT w="13680">
                      <a:solidFill>
                        <a:srgbClr val="00007d"/>
                      </a:solidFill>
                    </a:lnT>
                    <a:lnB w="9360">
                      <a:solidFill>
                        <a:srgbClr val="6600cc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</a:tr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7d"/>
                          </a:solidFill>
                          <a:latin typeface="華康楷書體W7(P)"/>
                          <a:ea typeface="華康楷書體W7(P)"/>
                        </a:rPr>
                        <a:t>五穀根莖類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7d"/>
                      </a:solidFill>
                    </a:lnL>
                    <a:lnR w="5760">
                      <a:solidFill>
                        <a:srgbClr val="00007d"/>
                      </a:solidFill>
                    </a:lnR>
                    <a:lnT w="9360">
                      <a:solidFill>
                        <a:srgbClr val="6600cc"/>
                      </a:solidFill>
                    </a:lnT>
                    <a:lnB w="9360">
                      <a:solidFill>
                        <a:srgbClr val="6600cc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7d"/>
                          </a:solidFill>
                          <a:latin typeface="華康楷書體W7(P)"/>
                          <a:ea typeface="華康楷書體W7(P)"/>
                        </a:rPr>
                        <a:t>醣類、蛋白質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7d"/>
                      </a:solidFill>
                    </a:lnL>
                    <a:lnR w="13680">
                      <a:solidFill>
                        <a:srgbClr val="00007d"/>
                      </a:solidFill>
                    </a:lnR>
                    <a:lnT w="9360">
                      <a:solidFill>
                        <a:srgbClr val="6600cc"/>
                      </a:solidFill>
                    </a:lnT>
                    <a:lnB w="9360">
                      <a:solidFill>
                        <a:srgbClr val="6600cc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</a:tr>
              <a:tr h="72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7d"/>
                          </a:solidFill>
                          <a:latin typeface="華康楷書體W7(P)"/>
                          <a:ea typeface="華康楷書體W7(P)"/>
                        </a:rPr>
                        <a:t>奶類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7d"/>
                      </a:solidFill>
                    </a:lnL>
                    <a:lnR w="5760">
                      <a:solidFill>
                        <a:srgbClr val="00007d"/>
                      </a:solidFill>
                    </a:lnR>
                    <a:lnT w="9360">
                      <a:solidFill>
                        <a:srgbClr val="6600cc"/>
                      </a:solidFill>
                    </a:lnT>
                    <a:lnB w="9360">
                      <a:solidFill>
                        <a:srgbClr val="6600cc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7d"/>
                          </a:solidFill>
                          <a:latin typeface="華康楷書體W7(P)"/>
                          <a:ea typeface="華康楷書體W7(P)"/>
                        </a:rPr>
                        <a:t>鈣質及蛋白質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7d"/>
                      </a:solidFill>
                    </a:lnL>
                    <a:lnR w="13680">
                      <a:solidFill>
                        <a:srgbClr val="00007d"/>
                      </a:solidFill>
                    </a:lnR>
                    <a:lnT w="9360">
                      <a:solidFill>
                        <a:srgbClr val="6600cc"/>
                      </a:solidFill>
                    </a:lnT>
                    <a:lnB w="9360">
                      <a:solidFill>
                        <a:srgbClr val="6600cc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</a:tr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7d"/>
                          </a:solidFill>
                          <a:latin typeface="華康楷書體W7(P)"/>
                          <a:ea typeface="華康楷書體W7(P)"/>
                        </a:rPr>
                        <a:t>蛋、豆、魚、肉類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7d"/>
                      </a:solidFill>
                    </a:lnL>
                    <a:lnR w="5760">
                      <a:solidFill>
                        <a:srgbClr val="00007d"/>
                      </a:solidFill>
                    </a:lnR>
                    <a:lnT w="9360">
                      <a:solidFill>
                        <a:srgbClr val="6600cc"/>
                      </a:solidFill>
                    </a:lnT>
                    <a:lnB w="9360">
                      <a:solidFill>
                        <a:srgbClr val="6600cc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7d"/>
                          </a:solidFill>
                          <a:latin typeface="華康楷書體W7(P)"/>
                          <a:ea typeface="華康楷書體W7(P)"/>
                        </a:rPr>
                        <a:t>蛋白質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7d"/>
                      </a:solidFill>
                    </a:lnL>
                    <a:lnR w="13680">
                      <a:solidFill>
                        <a:srgbClr val="00007d"/>
                      </a:solidFill>
                    </a:lnR>
                    <a:lnT w="9360">
                      <a:solidFill>
                        <a:srgbClr val="6600cc"/>
                      </a:solidFill>
                    </a:lnT>
                    <a:lnB w="9360">
                      <a:solidFill>
                        <a:srgbClr val="6600cc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</a:tr>
              <a:tr h="72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7d"/>
                          </a:solidFill>
                          <a:latin typeface="華康楷書體W7(P)"/>
                          <a:ea typeface="華康楷書體W7(P)"/>
                        </a:rPr>
                        <a:t>蔬果類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7d"/>
                      </a:solidFill>
                    </a:lnL>
                    <a:lnR w="5760">
                      <a:solidFill>
                        <a:srgbClr val="00007d"/>
                      </a:solidFill>
                    </a:lnR>
                    <a:lnT w="9360">
                      <a:solidFill>
                        <a:srgbClr val="6600cc"/>
                      </a:solidFill>
                    </a:lnT>
                    <a:lnB w="9360">
                      <a:solidFill>
                        <a:srgbClr val="6600cc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7d"/>
                          </a:solidFill>
                          <a:latin typeface="華康楷書體W7(P)"/>
                          <a:ea typeface="華康楷書體W7(P)"/>
                        </a:rPr>
                        <a:t>維生素、礦物質與纖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7d"/>
                      </a:solidFill>
                    </a:lnL>
                    <a:lnR w="13680">
                      <a:solidFill>
                        <a:srgbClr val="00007d"/>
                      </a:solidFill>
                    </a:lnR>
                    <a:lnT w="9360">
                      <a:solidFill>
                        <a:srgbClr val="6600cc"/>
                      </a:solidFill>
                    </a:lnT>
                    <a:lnB w="9360">
                      <a:solidFill>
                        <a:srgbClr val="6600cc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</a:tr>
              <a:tr h="72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7d"/>
                          </a:solidFill>
                          <a:latin typeface="華康楷書體W7(P)"/>
                          <a:ea typeface="華康楷書體W7(P)"/>
                        </a:rPr>
                        <a:t>油脂類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7d"/>
                      </a:solidFill>
                    </a:lnL>
                    <a:lnR w="5760">
                      <a:solidFill>
                        <a:srgbClr val="00007d"/>
                      </a:solidFill>
                    </a:lnR>
                    <a:lnT w="9360">
                      <a:solidFill>
                        <a:srgbClr val="6600cc"/>
                      </a:solidFill>
                    </a:lnT>
                    <a:lnB w="13680">
                      <a:solidFill>
                        <a:srgbClr val="00007d"/>
                      </a:solidFill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7d"/>
                          </a:solidFill>
                          <a:latin typeface="華康楷書體W7(P)"/>
                          <a:ea typeface="華康楷書體W7(P)"/>
                        </a:rPr>
                        <a:t>脂肪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7d"/>
                      </a:solidFill>
                    </a:lnL>
                    <a:lnR w="13680">
                      <a:solidFill>
                        <a:srgbClr val="00007d"/>
                      </a:solidFill>
                    </a:lnR>
                    <a:lnT w="9360">
                      <a:solidFill>
                        <a:srgbClr val="6600cc"/>
                      </a:solidFill>
                    </a:lnT>
                    <a:lnB w="13680">
                      <a:solidFill>
                        <a:srgbClr val="00007d"/>
                      </a:solidFill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食物與健康的關係報告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F3F471-74BC-40B4-A534-F3E318F290D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ff9900"/>
                </a:solidFill>
                <a:latin typeface="Arial"/>
                <a:ea typeface="標楷體"/>
              </a:rPr>
              <a:t>營 養 素 的 種 類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食物與健康的關係報告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5F6F70-27D7-4CBB-B7FB-E97206D554B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ff9900"/>
                </a:solidFill>
                <a:latin typeface="Arial"/>
                <a:ea typeface="標楷體"/>
              </a:rPr>
              <a:t>營養素對健康的影響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611280" y="1773360"/>
          <a:ext cx="7848360" cy="4589280"/>
        </p:xfrm>
        <a:graphic>
          <a:graphicData uri="http://schemas.openxmlformats.org/drawingml/2006/table">
            <a:tbl>
              <a:tblPr/>
              <a:tblGrid>
                <a:gridCol w="1584360"/>
                <a:gridCol w="3384360"/>
                <a:gridCol w="2879640"/>
              </a:tblGrid>
              <a:tr h="534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200" spc="-1" strike="noStrike">
                          <a:solidFill>
                            <a:srgbClr val="ffffff"/>
                          </a:solidFill>
                          <a:latin typeface="華康中黑體"/>
                          <a:ea typeface="華康中黑體"/>
                        </a:rPr>
                        <a:t>營養素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872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33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200" spc="-1" strike="noStrike">
                          <a:solidFill>
                            <a:srgbClr val="ffffff"/>
                          </a:solidFill>
                          <a:latin typeface="華康中黑體"/>
                          <a:ea typeface="華康中黑體"/>
                        </a:rPr>
                        <a:t>營養素的功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33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200" spc="-1" strike="noStrike">
                          <a:solidFill>
                            <a:srgbClr val="ffffff"/>
                          </a:solidFill>
                          <a:latin typeface="華康中黑體"/>
                          <a:ea typeface="華康中黑體"/>
                        </a:rPr>
                        <a:t>營養不良易得之疾病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33cc"/>
                    </a:solidFill>
                  </a:tcPr>
                </a:tc>
              </a:tr>
              <a:tr h="429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華康中明體"/>
                        </a:rPr>
                        <a:t>維生素</a:t>
                      </a: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華康中明體"/>
                        </a:rPr>
                        <a:t>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872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華康中明體"/>
                        </a:rPr>
                        <a:t>保護上皮組織和眼睛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華康中明體"/>
                        </a:rPr>
                        <a:t>乾眼症、夜盲症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ffff"/>
                    </a:solidFill>
                  </a:tcPr>
                </a:tc>
              </a:tr>
              <a:tr h="834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華康中明體"/>
                        </a:rPr>
                        <a:t>維生素</a:t>
                      </a: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華康中明體"/>
                        </a:rPr>
                        <a:t>B</a:t>
                      </a: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華康中明體"/>
                        </a:rPr>
                        <a:t>群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872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b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華康中明體"/>
                        </a:rPr>
                        <a:t>促進熱量與蛋白質的新陳代謝與安定神經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b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華康中明體"/>
                        </a:rPr>
                        <a:t>腳氣病、神經發炎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華康中明體"/>
                        </a:rPr>
                        <a:t>口角炎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bffff"/>
                    </a:solidFill>
                  </a:tcPr>
                </a:tc>
              </a:tr>
              <a:tr h="75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華康中明體"/>
                        </a:rPr>
                        <a:t>維生素</a:t>
                      </a: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華康中明體"/>
                        </a:rPr>
                        <a:t>C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872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華康中明體"/>
                        </a:rPr>
                        <a:t>構成軟骨、結締組織和細胞組織間的膠原物質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華康中明體"/>
                        </a:rPr>
                        <a:t>壞血病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ffff"/>
                    </a:solidFill>
                  </a:tcPr>
                </a:tc>
              </a:tr>
              <a:tr h="752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華康中明體"/>
                        </a:rPr>
                        <a:t>維生素</a:t>
                      </a: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華康中明體"/>
                        </a:rPr>
                        <a:t>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872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b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華康中明體"/>
                        </a:rPr>
                        <a:t>幫助人體吸收及利用鈣與磷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b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華康中明體"/>
                        </a:rPr>
                        <a:t>軟骨症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bffff"/>
                    </a:solidFill>
                  </a:tcPr>
                </a:tc>
              </a:tr>
              <a:tr h="429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華康中明體"/>
                        </a:rPr>
                        <a:t>鈣、磷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872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華康中明體"/>
                        </a:rPr>
                        <a:t>骨骼與牙齒主要的成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華康中明體"/>
                        </a:rPr>
                        <a:t>骨質疏鬆症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ffff"/>
                    </a:solidFill>
                  </a:tcPr>
                </a:tc>
              </a:tr>
              <a:tr h="429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華康中明體"/>
                        </a:rPr>
                        <a:t>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872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b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華康中明體"/>
                        </a:rPr>
                        <a:t>甲狀腺素的重要元素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b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華康中明體"/>
                        </a:rPr>
                        <a:t>甲狀腺腫大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bffff"/>
                    </a:solidFill>
                  </a:tcPr>
                </a:tc>
              </a:tr>
              <a:tr h="429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華康中明體"/>
                        </a:rPr>
                        <a:t>鐵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872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華康中明體"/>
                        </a:rPr>
                        <a:t>血紅素的主要成分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華康中明體"/>
                        </a:rPr>
                        <a:t>貧血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fff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食物與健康的關係報告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F1414C-FCF7-46C4-9B62-00F571DEDB33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ff9900"/>
                </a:solidFill>
                <a:latin typeface="Arial"/>
                <a:ea typeface="標楷體"/>
              </a:rPr>
              <a:t>食 物 與 記 憶 力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900000" y="1844640"/>
          <a:ext cx="7344000" cy="4176720"/>
        </p:xfrm>
        <a:graphic>
          <a:graphicData uri="http://schemas.openxmlformats.org/drawingml/2006/table">
            <a:tbl>
              <a:tblPr/>
              <a:tblGrid>
                <a:gridCol w="2473560"/>
                <a:gridCol w="4870440"/>
              </a:tblGrid>
              <a:tr h="1249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ff00"/>
                          </a:solidFill>
                          <a:latin typeface="Arial"/>
                          <a:ea typeface="華康粗圓體"/>
                        </a:rPr>
                        <a:t>提升記憶力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33cc"/>
                          </a:solidFill>
                          <a:latin typeface="Arial"/>
                          <a:ea typeface="華康粗圓體"/>
                        </a:rPr>
                        <a:t>銀杏、迷佚香、卵磷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</a:tr>
              <a:tr h="1239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ff00"/>
                          </a:solidFill>
                          <a:latin typeface="Arial"/>
                          <a:ea typeface="華康粗圓體"/>
                        </a:rPr>
                        <a:t>破壞記憶力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33cc"/>
                          </a:solidFill>
                          <a:latin typeface="Arial"/>
                          <a:ea typeface="華康粗圓體"/>
                        </a:rPr>
                        <a:t>咖啡、酒精、白麵粉、火雞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</a:tr>
              <a:tr h="168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ff00"/>
                          </a:solidFill>
                          <a:latin typeface="華康粗圓體"/>
                          <a:ea typeface="華康粗圓體"/>
                        </a:rPr>
                        <a:t>增加學習效率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33cc"/>
                          </a:solidFill>
                          <a:latin typeface="華康粗圓體"/>
                          <a:ea typeface="華康粗圓體"/>
                        </a:rPr>
                        <a:t>葡萄糖、維生素</a:t>
                      </a:r>
                      <a:r>
                        <a:rPr b="0" lang="zh-TW" sz="2800" spc="-1" strike="noStrike">
                          <a:solidFill>
                            <a:srgbClr val="0033cc"/>
                          </a:solidFill>
                          <a:latin typeface="華康粗圓體"/>
                          <a:ea typeface="華康粗圓體"/>
                        </a:rPr>
                        <a:t>B</a:t>
                      </a:r>
                      <a:r>
                        <a:rPr b="0" lang="zh-TW" sz="2800" spc="-1" strike="noStrike">
                          <a:solidFill>
                            <a:srgbClr val="0033cc"/>
                          </a:solidFill>
                          <a:latin typeface="華康粗圓體"/>
                          <a:ea typeface="華康粗圓體"/>
                        </a:rPr>
                        <a:t>群﹑蛋白質﹑鐵質﹑葉﹑</a:t>
                      </a:r>
                      <a:r>
                        <a:rPr b="0" lang="zh-TW" sz="2800" spc="-1" strike="noStrike">
                          <a:solidFill>
                            <a:srgbClr val="0033cc"/>
                          </a:solidFill>
                          <a:latin typeface="華康粗圓體"/>
                          <a:ea typeface="華康粗圓體"/>
                        </a:rPr>
                        <a:t>DHA﹑EPA﹑</a:t>
                      </a:r>
                      <a:r>
                        <a:rPr b="0" lang="zh-TW" sz="2800" spc="-1" strike="noStrike">
                          <a:solidFill>
                            <a:srgbClr val="0033cc"/>
                          </a:solidFill>
                          <a:latin typeface="華康粗圓體"/>
                          <a:ea typeface="華康粗圓體"/>
                        </a:rPr>
                        <a:t>卵磷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食物與健康的關係報告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06267A-65A1-4B5E-B691-16A3CC61375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ff9900"/>
                </a:solidFill>
                <a:latin typeface="Arial"/>
                <a:ea typeface="標楷體"/>
              </a:rPr>
              <a:t>青 少 年 飲 食 須 知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10920" y="1699920"/>
            <a:ext cx="4978440" cy="40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1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7d"/>
                </a:solidFill>
                <a:latin typeface="華康細圓體"/>
              </a:rPr>
              <a:t>多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1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7d"/>
                </a:solidFill>
                <a:latin typeface="華康細圓體"/>
              </a:rPr>
              <a:t>多喝水，少喝飲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1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7d"/>
                </a:solidFill>
                <a:latin typeface="華康細圓體"/>
              </a:rPr>
              <a:t>定時定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1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7d"/>
                </a:solidFill>
                <a:latin typeface="華康細圓體"/>
              </a:rPr>
              <a:t>少吃速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食物與健康的關係報告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4B7038-DA63-4C2E-81E8-D2E7A4C02FD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755640" y="1700280"/>
            <a:ext cx="7632720" cy="16574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33cc"/>
                </a:solidFill>
                <a:latin typeface="華康細圓體"/>
                <a:ea typeface="華康細圓體"/>
              </a:rPr>
              <a:t>身體質量指數（</a:t>
            </a:r>
            <a:r>
              <a:rPr b="1" lang="zh-TW" sz="3200" spc="-1" strike="noStrike">
                <a:solidFill>
                  <a:srgbClr val="0033cc"/>
                </a:solidFill>
                <a:latin typeface="華康細圓體"/>
                <a:ea typeface="華康細圓體"/>
              </a:rPr>
              <a:t>BMI</a:t>
            </a:r>
            <a:r>
              <a:rPr b="1" lang="zh-TW" sz="3200" spc="-1" strike="noStrike">
                <a:solidFill>
                  <a:srgbClr val="0033cc"/>
                </a:solidFill>
                <a:latin typeface="華康細圓體"/>
                <a:ea typeface="華康細圓體"/>
              </a:rPr>
              <a:t>）＝體重</a:t>
            </a:r>
            <a:r>
              <a:rPr b="1" lang="zh-TW" sz="3200" spc="-1" strike="noStrike">
                <a:solidFill>
                  <a:srgbClr val="0033cc"/>
                </a:solidFill>
                <a:latin typeface="Arial"/>
                <a:ea typeface="華康細圓體"/>
              </a:rPr>
              <a:t>÷</a:t>
            </a:r>
            <a:r>
              <a:rPr b="1" lang="zh-TW" sz="3200" spc="-1" strike="noStrike">
                <a:solidFill>
                  <a:srgbClr val="0033cc"/>
                </a:solidFill>
                <a:latin typeface="Arial"/>
                <a:ea typeface="華康細圓體"/>
              </a:rPr>
              <a:t>身高</a:t>
            </a:r>
            <a:r>
              <a:rPr b="1" lang="zh-TW" sz="3200" spc="-1" strike="noStrike" baseline="60000">
                <a:solidFill>
                  <a:srgbClr val="0033cc"/>
                </a:solidFill>
                <a:latin typeface="Arial"/>
                <a:ea typeface="華康細圓體"/>
              </a:rPr>
              <a:t>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666699"/>
                </a:solidFill>
                <a:latin typeface="Arial"/>
                <a:ea typeface="華康細圓體"/>
              </a:rPr>
              <a:t>（單位：體重</a:t>
            </a:r>
            <a:r>
              <a:rPr b="0" lang="zh-TW" sz="2000" spc="-1" strike="noStrike">
                <a:solidFill>
                  <a:srgbClr val="666699"/>
                </a:solidFill>
                <a:latin typeface="Arial"/>
                <a:ea typeface="華康細圓體"/>
              </a:rPr>
              <a:t>-</a:t>
            </a:r>
            <a:r>
              <a:rPr b="0" lang="zh-TW" sz="2000" spc="-1" strike="noStrike">
                <a:solidFill>
                  <a:srgbClr val="666699"/>
                </a:solidFill>
                <a:latin typeface="Arial"/>
                <a:ea typeface="華康細圓體"/>
              </a:rPr>
              <a:t>公斤，身高</a:t>
            </a:r>
            <a:r>
              <a:rPr b="0" lang="zh-TW" sz="2000" spc="-1" strike="noStrike">
                <a:solidFill>
                  <a:srgbClr val="666699"/>
                </a:solidFill>
                <a:latin typeface="Arial"/>
                <a:ea typeface="華康細圓體"/>
              </a:rPr>
              <a:t>-</a:t>
            </a:r>
            <a:r>
              <a:rPr b="0" lang="zh-TW" sz="2000" spc="-1" strike="noStrike">
                <a:solidFill>
                  <a:srgbClr val="666699"/>
                </a:solidFill>
                <a:latin typeface="Arial"/>
                <a:ea typeface="華康細圓體"/>
              </a:rPr>
              <a:t>公尺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ff9900"/>
                </a:solidFill>
                <a:latin typeface="Arial"/>
                <a:ea typeface="標楷體"/>
              </a:rPr>
              <a:t>理 想 的體 重 標 準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650600" y="3860640"/>
            <a:ext cx="601668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BMI&lt;18.5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TW" sz="2800" spc="-1" strike="noStrike">
                <a:solidFill>
                  <a:srgbClr val="ff9933"/>
                </a:solidFill>
                <a:latin typeface="Arial"/>
                <a:ea typeface="華康中明體"/>
              </a:rPr>
              <a:t>體重不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BMI=18.5~22.9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TW" sz="2800" spc="-1" strike="noStrike">
                <a:solidFill>
                  <a:srgbClr val="006600"/>
                </a:solidFill>
                <a:latin typeface="Arial"/>
                <a:ea typeface="華康中明體"/>
              </a:rPr>
              <a:t>標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BMI=23~24.9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TW" sz="2800" spc="-1" strike="noStrike">
                <a:solidFill>
                  <a:srgbClr val="cc66ff"/>
                </a:solidFill>
                <a:latin typeface="Arial"/>
                <a:ea typeface="華康中明體"/>
              </a:rPr>
              <a:t>過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BMI&gt;25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　　　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TW" sz="2800" spc="-1" strike="noStrike">
                <a:solidFill>
                  <a:srgbClr val="ff0000"/>
                </a:solidFill>
                <a:latin typeface="Arial"/>
                <a:ea typeface="華康中明體"/>
              </a:rPr>
              <a:t>肥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食物與健康的關係報告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3FF7B2-2CA6-40EB-B23D-7D7AFBA5FF1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ff9900"/>
                </a:solidFill>
                <a:latin typeface="Arial"/>
                <a:ea typeface="標楷體"/>
              </a:rPr>
              <a:t>熱 量 表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食物與健康的關係報告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9EC3A8-A979-4AB0-B031-1DD1C9F6E97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0T07:21:36Z</dcterms:created>
  <dc:creator>黛琳</dc:creator>
  <dc:description/>
  <dc:language>en-US</dc:language>
  <cp:lastModifiedBy>e048</cp:lastModifiedBy>
  <dcterms:modified xsi:type="dcterms:W3CDTF">2002-11-26T10:06:05Z</dcterms:modified>
  <cp:revision>82</cp:revision>
  <dc:subject/>
  <dc:title>投影片 1</dc:title>
</cp:coreProperties>
</file>