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82E5-26B3-4DB2-B937-54F087BC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51D2-C5AD-4E83-BF91-310BB4B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ED53-6C58-4985-9C62-94F6E71F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724A-CDAB-4466-B303-4582E9F6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517E-B009-423C-A9CA-EFC39487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FEA6-C0BF-451D-9F9A-BDE63FB8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F15-0300-455D-AF1F-5DC7A31F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96C-9465-4166-844D-E3F54FE8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43D-C800-4E39-BEFB-512310D3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0A7D-5CA6-4968-9F62-61B3EBA8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4D06-214C-4FD6-81E4-B19CBF00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F406-D448-4FC1-B5C1-093EF13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84FB-7A12-4F90-930B-12C9579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3D3A-5D9E-4F31-87BE-0DD4720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AFF-D32B-48D2-B2D6-3E002FFD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8CC5-A265-478A-BD6D-7367177F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C0FF-C9C7-4645-9710-20CCA6DC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DD59-B628-459A-91D8-51520BDA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711A-0F63-42F6-AE42-C9C4A90D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F880-9CE6-4C21-A1CF-7384865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B6E9-1AEA-4858-BD50-F6422AF3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956E-CCC4-40C9-A32F-67FCE0C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DA44-7F39-4671-B356-32160F7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1F1B-B9B0-4B8F-BB69-DC59D2C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0B08-FA07-4805-897D-468739453284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42D2-53B3-4D1B-98BF-303502FCC64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41CC-009A-4613-9C8B-C1EC71558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0F10-AC4C-40A1-A49A-1374D7782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9967-88EA-4A54-8E77-14C2E0322D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A5AE-27CF-48C1-90F4-4BECBDF11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1EE7-FD09-4F05-A0CF-9680906921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4F3C-8F39-4B84-8C81-35DAAC6AD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2374-2C15-4885-9535-641893DA6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C390-7528-4132-9236-859E2F76A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855720" y="1200240"/>
          <a:ext cx="9053640" cy="56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5720" y="1200240"/>
                    <a:ext cx="9053640" cy="56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3FE2-F284-4DCB-B1E7-98D187FD6A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48</cp:lastModifiedBy>
  <dcterms:modified xsi:type="dcterms:W3CDTF">2002-11-26T10:21:12Z</dcterms:modified>
  <cp:revision>83</cp:revision>
  <dc:subject/>
  <dc:title>投影片 1</dc:title>
</cp:coreProperties>
</file>