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36F-F380-4397-807A-6096833E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5545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63280" y="4264200"/>
            <a:ext cx="5545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7C1-8199-4824-A44A-CCAABADC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476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63280" y="426420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4760" y="426420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3B3-7A5D-43C5-93EA-7699D563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8160" y="242064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13040" y="242064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63280" y="426420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8160" y="426420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13040" y="426420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E03-7CB1-4493-B40E-FA81827B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7EE3-A250-4FD4-A49F-3E96E8FA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63280" y="2420640"/>
            <a:ext cx="554508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6C56-95F2-4B57-9FCB-ED7F54DB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5545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7655-2433-4FF9-9CB7-1FA049C8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27057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4760" y="2420640"/>
            <a:ext cx="27057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66FF-8F09-4194-8467-972216A0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A0C0-3149-4A75-98E6-A458466F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7B2B-3F4F-43F0-B795-932D1CA2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4760" y="2420640"/>
            <a:ext cx="27057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63280" y="426420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FD5F-E086-419D-A10A-420D388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63280" y="2420640"/>
            <a:ext cx="554508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345-A5CC-47E1-B051-4A6A7CD7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27057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476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4760" y="426420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945F-BF97-4CB5-9C47-3D9E34BE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476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4264200"/>
            <a:ext cx="5545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851D-40B3-42D6-8BC0-C71F665D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5545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63280" y="4264200"/>
            <a:ext cx="5545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C2B4-ACEE-491D-ABFC-BDC7DC8D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476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63280" y="426420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4760" y="426420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8D83-6E9D-446E-9BC2-98FB93DE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38160" y="242064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13040" y="242064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63280" y="426420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38160" y="426420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513040" y="4264200"/>
            <a:ext cx="17852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C3FA-7675-4DEC-8BB9-5AE229E6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5545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FBF-0B9A-4E8E-B95F-06B75B3E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27057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4760" y="2420640"/>
            <a:ext cx="27057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9E5-F615-4628-8B16-8AF4BFC2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1E8-4F22-41F0-9A39-E8B53C9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3CC-C04A-4DEE-9CB2-B7B236B7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4760" y="2420640"/>
            <a:ext cx="27057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63280" y="426420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659-F9E7-4F12-B887-4CD15823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27057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476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4760" y="426420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BFE-8127-408D-BF5F-DC06421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4760" y="2420640"/>
            <a:ext cx="27057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63280" y="4264200"/>
            <a:ext cx="5545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F47-C002-4BD8-ABD8-A8CFD2F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47880"/>
            <a:ext cx="9144000" cy="1008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4410000" y="2124000"/>
            <a:ext cx="324000" cy="914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63280" y="2420640"/>
            <a:ext cx="5545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490320" indent="-18864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754200" indent="-15084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055880" indent="-15084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1357560" indent="-15084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1357560" indent="-15084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1357560" indent="-15084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44CA-8603-482A-B707-48BBD14443B9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164360" y="5127480"/>
            <a:ext cx="1644840" cy="110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24360" y="3009960"/>
            <a:ext cx="3851280" cy="3848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6200000">
            <a:off x="4410000" y="2124000"/>
            <a:ext cx="324000" cy="91440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2924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95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944A-6FD6-468C-82A1-5B8415ADFF1E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371400">
            <a:off x="1079280" y="3341520"/>
            <a:ext cx="4209840" cy="1892520"/>
          </a:xfrm>
          <a:custGeom>
            <a:avLst/>
            <a:gdLst/>
            <a:ahLst/>
            <a:rect l="l" t="t" r="r" b="b"/>
            <a:pathLst>
              <a:path w="3069" h="1339">
                <a:moveTo>
                  <a:pt x="75" y="0"/>
                </a:moveTo>
                <a:cubicBezTo>
                  <a:pt x="37" y="219"/>
                  <a:pt x="0" y="439"/>
                  <a:pt x="166" y="545"/>
                </a:cubicBezTo>
                <a:cubicBezTo>
                  <a:pt x="332" y="651"/>
                  <a:pt x="846" y="552"/>
                  <a:pt x="1073" y="635"/>
                </a:cubicBezTo>
                <a:cubicBezTo>
                  <a:pt x="1300" y="718"/>
                  <a:pt x="1308" y="983"/>
                  <a:pt x="1527" y="1044"/>
                </a:cubicBezTo>
                <a:cubicBezTo>
                  <a:pt x="1746" y="1105"/>
                  <a:pt x="2237" y="960"/>
                  <a:pt x="2388" y="998"/>
                </a:cubicBezTo>
                <a:cubicBezTo>
                  <a:pt x="2539" y="1036"/>
                  <a:pt x="2373" y="1247"/>
                  <a:pt x="2434" y="1270"/>
                </a:cubicBezTo>
                <a:cubicBezTo>
                  <a:pt x="2495" y="1293"/>
                  <a:pt x="2691" y="1126"/>
                  <a:pt x="2751" y="1134"/>
                </a:cubicBezTo>
                <a:cubicBezTo>
                  <a:pt x="2811" y="1142"/>
                  <a:pt x="2767" y="1293"/>
                  <a:pt x="2797" y="1316"/>
                </a:cubicBezTo>
                <a:cubicBezTo>
                  <a:pt x="2827" y="1339"/>
                  <a:pt x="2888" y="1278"/>
                  <a:pt x="2933" y="1270"/>
                </a:cubicBezTo>
                <a:cubicBezTo>
                  <a:pt x="2978" y="1262"/>
                  <a:pt x="3031" y="1270"/>
                  <a:pt x="3069" y="127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708280"/>
            <a:ext cx="287280" cy="433440"/>
          </a:xfrm>
          <a:custGeom>
            <a:avLst/>
            <a:gdLst/>
            <a:ahLst/>
            <a:rect l="l" t="t" r="r" b="b"/>
            <a:pathLst>
              <a:path w="272" h="363">
                <a:moveTo>
                  <a:pt x="0" y="363"/>
                </a:moveTo>
                <a:cubicBezTo>
                  <a:pt x="45" y="256"/>
                  <a:pt x="91" y="150"/>
                  <a:pt x="136" y="90"/>
                </a:cubicBezTo>
                <a:cubicBezTo>
                  <a:pt x="181" y="30"/>
                  <a:pt x="249" y="15"/>
                  <a:pt x="272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306828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47640" y="981000"/>
            <a:ext cx="612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ffffff"/>
                  </a:outerShdw>
                </a:effectLst>
                <a:latin typeface="華康超圓體"/>
              </a:rPr>
              <a:t>美術研習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07932" dir="18900000" blurRad="0" rotWithShape="0">
                  <a:srgbClr val="ffffff"/>
                </a:outerShdw>
              </a:effectLst>
              <a:latin typeface="華康超圓體"/>
              <a:ea typeface="華康超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200" spc="-1" strike="noStrike">
                <a:solidFill>
                  <a:srgbClr val="ff0000"/>
                </a:solidFill>
                <a:latin typeface="Comic Sans MS"/>
              </a:rPr>
              <a:t>社團介紹</a:t>
            </a: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5545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成立時間：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1992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年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創立人：林文立老師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社團理念：培育學生對藝術創作的熱情，並引起學生對文藝活動的關心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200" spc="-1" strike="noStrike">
                <a:solidFill>
                  <a:srgbClr val="ff0000"/>
                </a:solidFill>
                <a:latin typeface="Comic Sans MS"/>
              </a:rPr>
              <a:t>社團組織圖</a:t>
            </a: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200" spc="-1" strike="noStrike">
                <a:solidFill>
                  <a:srgbClr val="ff0000"/>
                </a:solidFill>
                <a:latin typeface="Comic Sans MS"/>
              </a:rPr>
              <a:t>社團活動</a:t>
            </a:r>
            <a:endParaRPr b="0" lang="en-US" sz="5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2420640"/>
            <a:ext cx="5545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10/20-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迎新晚會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11/22-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靜物素描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12/12-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畫展參觀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12/24-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耶誕晚會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1:18:05Z</dcterms:created>
  <dc:creator>SuperXP</dc:creator>
  <dc:description/>
  <dc:language>en-US</dc:language>
  <cp:lastModifiedBy>Administrator</cp:lastModifiedBy>
  <dcterms:modified xsi:type="dcterms:W3CDTF">2010-10-01T10:08:35Z</dcterms:modified>
  <cp:revision>31</cp:revision>
  <dc:subject/>
  <dc:title>投影片 1</dc:title>
</cp:coreProperties>
</file>