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98AF-7973-441E-ADB5-BC2C9521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20072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71640" y="4183920"/>
            <a:ext cx="720072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1057-E403-4A5D-85F8-76FE92DE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3513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1280" y="2060280"/>
            <a:ext cx="3513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71640" y="4183920"/>
            <a:ext cx="3513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1280" y="4183920"/>
            <a:ext cx="3513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3FA-B7F7-4FD1-9C7C-FB630349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23184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6320" y="2060280"/>
            <a:ext cx="23184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41000" y="2060280"/>
            <a:ext cx="23184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71640" y="4183920"/>
            <a:ext cx="23184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6320" y="4183920"/>
            <a:ext cx="23184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41000" y="4183920"/>
            <a:ext cx="23184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2832-EEFF-4D00-B249-89F534A3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640" y="2060280"/>
            <a:ext cx="72007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2007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3513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280" y="2060280"/>
            <a:ext cx="3513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3513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1280" y="2060280"/>
            <a:ext cx="3513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640" y="4183920"/>
            <a:ext cx="3513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71640" y="2060280"/>
            <a:ext cx="72007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60CE-4FCF-4AC8-AA42-4FE0D059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3513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2060280"/>
            <a:ext cx="3513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1280" y="4183920"/>
            <a:ext cx="3513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3513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1280" y="2060280"/>
            <a:ext cx="3513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640" y="4183920"/>
            <a:ext cx="720072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20072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640" y="4183920"/>
            <a:ext cx="720072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3513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1280" y="2060280"/>
            <a:ext cx="3513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640" y="4183920"/>
            <a:ext cx="3513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1280" y="4183920"/>
            <a:ext cx="3513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23184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6320" y="2060280"/>
            <a:ext cx="23184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41000" y="2060280"/>
            <a:ext cx="23184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640" y="4183920"/>
            <a:ext cx="23184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6320" y="4183920"/>
            <a:ext cx="23184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41000" y="4183920"/>
            <a:ext cx="23184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2007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644B-5252-4735-A691-B51B8084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3513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2060280"/>
            <a:ext cx="3513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DBD7-C917-4699-92F0-D4C695E9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0EB8-1704-4D6B-BC41-BB36FB61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8A9F-5C2B-4381-8845-3D01C26D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3513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2060280"/>
            <a:ext cx="3513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71640" y="4183920"/>
            <a:ext cx="3513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DD1-697D-4A03-96E3-9E15E138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3513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2060280"/>
            <a:ext cx="3513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1280" y="4183920"/>
            <a:ext cx="3513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6D3-36E8-4DFC-B23C-6B0F246C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3513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1280" y="2060280"/>
            <a:ext cx="3513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71640" y="4183920"/>
            <a:ext cx="720072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D5A3-2243-4CB7-9F29-4959706B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2060280"/>
            <a:ext cx="72007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5968-3B33-4783-A121-610B6EECDE1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37600" y="317520"/>
            <a:ext cx="1971360" cy="992160"/>
            <a:chOff x="237600" y="317520"/>
            <a:chExt cx="1971360" cy="992160"/>
          </a:xfrm>
        </p:grpSpPr>
        <p:sp>
          <p:nvSpPr>
            <p:cNvPr id="6" name=""/>
            <p:cNvSpPr/>
            <p:nvPr/>
          </p:nvSpPr>
          <p:spPr>
            <a:xfrm>
              <a:off x="764280" y="317520"/>
              <a:ext cx="627840" cy="360360"/>
            </a:xfrm>
            <a:custGeom>
              <a:avLst/>
              <a:gdLst/>
              <a:ahLst/>
              <a:rect l="l" t="t" r="r" b="b"/>
              <a:pathLst>
                <a:path w="590" h="279">
                  <a:moveTo>
                    <a:pt x="0" y="279"/>
                  </a:moveTo>
                  <a:cubicBezTo>
                    <a:pt x="60" y="146"/>
                    <a:pt x="121" y="14"/>
                    <a:pt x="182" y="7"/>
                  </a:cubicBezTo>
                  <a:cubicBezTo>
                    <a:pt x="243" y="0"/>
                    <a:pt x="318" y="219"/>
                    <a:pt x="363" y="234"/>
                  </a:cubicBezTo>
                  <a:cubicBezTo>
                    <a:pt x="408" y="249"/>
                    <a:pt x="416" y="91"/>
                    <a:pt x="454" y="98"/>
                  </a:cubicBezTo>
                  <a:cubicBezTo>
                    <a:pt x="492" y="105"/>
                    <a:pt x="552" y="256"/>
                    <a:pt x="590" y="279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1452400">
              <a:off x="250920" y="603360"/>
              <a:ext cx="1944720" cy="664920"/>
            </a:xfrm>
            <a:custGeom>
              <a:avLst/>
              <a:gdLst/>
              <a:ahLst/>
              <a:rect l="l" t="t" r="r" b="b"/>
              <a:pathLst>
                <a:path w="1315" h="514">
                  <a:moveTo>
                    <a:pt x="0" y="514"/>
                  </a:moveTo>
                  <a:cubicBezTo>
                    <a:pt x="76" y="272"/>
                    <a:pt x="152" y="30"/>
                    <a:pt x="227" y="15"/>
                  </a:cubicBezTo>
                  <a:cubicBezTo>
                    <a:pt x="302" y="0"/>
                    <a:pt x="393" y="393"/>
                    <a:pt x="453" y="423"/>
                  </a:cubicBezTo>
                  <a:cubicBezTo>
                    <a:pt x="513" y="453"/>
                    <a:pt x="544" y="196"/>
                    <a:pt x="589" y="196"/>
                  </a:cubicBezTo>
                  <a:cubicBezTo>
                    <a:pt x="634" y="196"/>
                    <a:pt x="681" y="446"/>
                    <a:pt x="726" y="423"/>
                  </a:cubicBezTo>
                  <a:cubicBezTo>
                    <a:pt x="771" y="400"/>
                    <a:pt x="809" y="60"/>
                    <a:pt x="862" y="60"/>
                  </a:cubicBezTo>
                  <a:cubicBezTo>
                    <a:pt x="915" y="60"/>
                    <a:pt x="998" y="393"/>
                    <a:pt x="1043" y="423"/>
                  </a:cubicBezTo>
                  <a:cubicBezTo>
                    <a:pt x="1088" y="453"/>
                    <a:pt x="1089" y="242"/>
                    <a:pt x="1134" y="242"/>
                  </a:cubicBezTo>
                  <a:cubicBezTo>
                    <a:pt x="1179" y="242"/>
                    <a:pt x="1277" y="385"/>
                    <a:pt x="1315" y="423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2000" y="1095480"/>
            <a:ext cx="676728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0" lang="en-US" sz="7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2000" y="1095480"/>
            <a:ext cx="676728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0" spc="-1" strike="noStrike">
                <a:solidFill>
                  <a:srgbClr val="006600"/>
                </a:solidFill>
                <a:latin typeface="Arial"/>
              </a:rPr>
              <a:t>認識臺灣的</a:t>
            </a:r>
            <a:br>
              <a:rPr sz="7000"/>
            </a:br>
            <a:r>
              <a:rPr b="0" lang="zh-TW" sz="7000" spc="-1" strike="noStrike">
                <a:solidFill>
                  <a:srgbClr val="006600"/>
                </a:solidFill>
                <a:latin typeface="Arial"/>
              </a:rPr>
              <a:t>　　　自然環境</a:t>
            </a:r>
            <a:endParaRPr b="0" lang="en-US" sz="7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788000" y="4723920"/>
            <a:ext cx="4176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班　　級：資二甲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學生姓名：曾詠欣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>
            <a:lum bright="-18000"/>
          </a:blip>
          <a:stretch/>
        </p:blipFill>
        <p:spPr>
          <a:xfrm rot="3153000">
            <a:off x="-1622520" y="2997360"/>
            <a:ext cx="812520" cy="665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330200" y="549360"/>
            <a:ext cx="2737080" cy="576000"/>
          </a:xfrm>
          <a:prstGeom prst="roundRect">
            <a:avLst>
              <a:gd name="adj" fmla="val 39338"/>
            </a:avLst>
          </a:prstGeom>
          <a:gradFill rotWithShape="0">
            <a:gsLst>
              <a:gs pos="0">
                <a:srgbClr val="daeca5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細黑體"/>
              </a:rPr>
              <a:t>地球日宣導活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10040" y="1270080"/>
            <a:ext cx="3046680" cy="4967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臺灣的地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35352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山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丘陵、台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平原、盆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臺灣的地形特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35352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山高水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四周環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山多平原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627280" y="1778040"/>
          <a:ext cx="7561440" cy="485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1778040"/>
                    <a:ext cx="7561440" cy="48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3:11:10Z</dcterms:created>
  <dc:creator>user</dc:creator>
  <dc:description/>
  <dc:language>en-US</dc:language>
  <cp:lastModifiedBy>Administrator</cp:lastModifiedBy>
  <dcterms:modified xsi:type="dcterms:W3CDTF">2010-11-30T10:16:09Z</dcterms:modified>
  <cp:revision>18</cp:revision>
  <dc:subject/>
  <dc:title>投影片 1</dc:title>
</cp:coreProperties>
</file>