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AED-2E81-4A1A-8267-F7467413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0728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4183920"/>
            <a:ext cx="820728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4F7-1CE7-4BEA-894F-0280CB97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418392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880" y="418392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800-C49D-40E4-82BB-6882ADBA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3240" y="206028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8120" y="206028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418392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3240" y="418392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8120" y="418392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5F3-7DEB-4FDB-8084-F13ADB95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5012-4A4A-47F4-B446-32B91E91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0728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F2DD-6141-40E7-9641-BFA14E13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E61E-80EB-44DC-8AB7-59371C7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5660-8D60-4450-83FA-8F007A10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DFFE-4EA5-4B80-8178-8105E0D6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E2B7-22CF-4402-865E-F246019F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8392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E9EF-1566-4888-93BE-EB1A950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0728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FF3-236B-4F4A-9375-F29A3063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880" y="418392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8E5F-039C-44CA-92FB-FD99797B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83920"/>
            <a:ext cx="820728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CA40-F347-4929-B841-A87A90E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0728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" y="4183920"/>
            <a:ext cx="820728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46D9-4159-4E9B-8346-9581370A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418392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880" y="418392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3264-F37C-4F1B-9040-E4F287C0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3240" y="206028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8120" y="206028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" y="418392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3240" y="418392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8120" y="4183920"/>
            <a:ext cx="26424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2BD6-F528-4926-9B86-40D1BC57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385-2CE2-46AD-A0CA-B1C9D392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D5C-0EE4-49C6-83BF-151B11AF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CC8-929D-427F-8F39-EF0752FB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B20-ECAB-4A59-9701-408B4DF1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18392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AC7-80AA-4F68-996D-B5C8A32D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880" y="418392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EF9-313E-48F5-B3D1-7C9DED2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2060280"/>
            <a:ext cx="40050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83920"/>
            <a:ext cx="820728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CE2-B1C2-4BF5-8459-E6785D4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1520" y="4235040"/>
            <a:ext cx="3073320" cy="2226240"/>
            <a:chOff x="371520" y="4235040"/>
            <a:chExt cx="3073320" cy="2226240"/>
          </a:xfrm>
        </p:grpSpPr>
        <p:sp>
          <p:nvSpPr>
            <p:cNvPr id="1" name=""/>
            <p:cNvSpPr/>
            <p:nvPr/>
          </p:nvSpPr>
          <p:spPr>
            <a:xfrm rot="379200">
              <a:off x="468000" y="4387680"/>
              <a:ext cx="2879640" cy="192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 rot="379200">
              <a:off x="581400" y="4496040"/>
              <a:ext cx="265644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072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400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spcAft>
                <a:spcPts val="400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spcAft>
                <a:spcPts val="400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spcAft>
                <a:spcPts val="400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spcAft>
                <a:spcPts val="400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FC44-4F57-4233-87CC-3345625ADBF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37600" y="317520"/>
            <a:ext cx="1971360" cy="992160"/>
            <a:chOff x="237600" y="317520"/>
            <a:chExt cx="1971360" cy="992160"/>
          </a:xfrm>
        </p:grpSpPr>
        <p:sp>
          <p:nvSpPr>
            <p:cNvPr id="9" name=""/>
            <p:cNvSpPr/>
            <p:nvPr/>
          </p:nvSpPr>
          <p:spPr>
            <a:xfrm>
              <a:off x="764280" y="317520"/>
              <a:ext cx="627840" cy="360360"/>
            </a:xfrm>
            <a:custGeom>
              <a:avLst/>
              <a:gdLst/>
              <a:ahLst/>
              <a:rect l="l" t="t" r="r" b="b"/>
              <a:pathLst>
                <a:path w="590" h="279">
                  <a:moveTo>
                    <a:pt x="0" y="279"/>
                  </a:moveTo>
                  <a:cubicBezTo>
                    <a:pt x="60" y="146"/>
                    <a:pt x="121" y="14"/>
                    <a:pt x="182" y="7"/>
                  </a:cubicBezTo>
                  <a:cubicBezTo>
                    <a:pt x="243" y="0"/>
                    <a:pt x="318" y="219"/>
                    <a:pt x="363" y="234"/>
                  </a:cubicBezTo>
                  <a:cubicBezTo>
                    <a:pt x="408" y="249"/>
                    <a:pt x="416" y="91"/>
                    <a:pt x="454" y="98"/>
                  </a:cubicBezTo>
                  <a:cubicBezTo>
                    <a:pt x="492" y="105"/>
                    <a:pt x="552" y="256"/>
                    <a:pt x="590" y="27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1452400">
              <a:off x="250920" y="603360"/>
              <a:ext cx="1944720" cy="664920"/>
            </a:xfrm>
            <a:custGeom>
              <a:avLst/>
              <a:gdLst/>
              <a:ahLst/>
              <a:rect l="l" t="t" r="r" b="b"/>
              <a:pathLst>
                <a:path w="1315" h="514">
                  <a:moveTo>
                    <a:pt x="0" y="514"/>
                  </a:moveTo>
                  <a:cubicBezTo>
                    <a:pt x="76" y="272"/>
                    <a:pt x="152" y="30"/>
                    <a:pt x="227" y="15"/>
                  </a:cubicBezTo>
                  <a:cubicBezTo>
                    <a:pt x="302" y="0"/>
                    <a:pt x="393" y="393"/>
                    <a:pt x="453" y="423"/>
                  </a:cubicBezTo>
                  <a:cubicBezTo>
                    <a:pt x="513" y="453"/>
                    <a:pt x="544" y="196"/>
                    <a:pt x="589" y="196"/>
                  </a:cubicBezTo>
                  <a:cubicBezTo>
                    <a:pt x="634" y="196"/>
                    <a:pt x="681" y="446"/>
                    <a:pt x="726" y="423"/>
                  </a:cubicBezTo>
                  <a:cubicBezTo>
                    <a:pt x="771" y="400"/>
                    <a:pt x="809" y="60"/>
                    <a:pt x="862" y="60"/>
                  </a:cubicBezTo>
                  <a:cubicBezTo>
                    <a:pt x="915" y="60"/>
                    <a:pt x="998" y="393"/>
                    <a:pt x="1043" y="423"/>
                  </a:cubicBezTo>
                  <a:cubicBezTo>
                    <a:pt x="1088" y="453"/>
                    <a:pt x="1089" y="242"/>
                    <a:pt x="1134" y="242"/>
                  </a:cubicBezTo>
                  <a:cubicBezTo>
                    <a:pt x="1179" y="242"/>
                    <a:pt x="1277" y="385"/>
                    <a:pt x="1315" y="423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DF9D-AC3D-48CA-9E7F-6A39BB5B120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1332000" y="1095480"/>
            <a:ext cx="67672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1095480"/>
            <a:ext cx="67672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800" spc="-1" strike="noStrike">
                <a:solidFill>
                  <a:srgbClr val="006600"/>
                </a:solidFill>
                <a:latin typeface="Arial"/>
              </a:rPr>
              <a:t>認識臺灣的</a:t>
            </a:r>
            <a:br>
              <a:rPr sz="6800"/>
            </a:br>
            <a:r>
              <a:rPr b="0" lang="zh-TW" sz="6800" spc="-1" strike="noStrike">
                <a:solidFill>
                  <a:srgbClr val="006600"/>
                </a:solidFill>
                <a:latin typeface="Arial"/>
              </a:rPr>
              <a:t>　　　自然環境</a:t>
            </a:r>
            <a:endParaRPr b="0" lang="en-US" sz="6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88000" y="472392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50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班　　級：資二甲</a:t>
            </a:r>
            <a:br>
              <a:rPr sz="3800"/>
            </a:b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學生姓名：曾詠欣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-18000"/>
          </a:blip>
          <a:stretch/>
        </p:blipFill>
        <p:spPr>
          <a:xfrm rot="3153000">
            <a:off x="7593480" y="1918440"/>
            <a:ext cx="812880" cy="665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30200" y="549360"/>
            <a:ext cx="2737080" cy="576000"/>
          </a:xfrm>
          <a:prstGeom prst="roundRect">
            <a:avLst>
              <a:gd name="adj" fmla="val 39338"/>
            </a:avLst>
          </a:prstGeom>
          <a:gradFill rotWithShape="0">
            <a:gsLst>
              <a:gs pos="0">
                <a:srgbClr val="daeca5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細黑體"/>
              </a:rPr>
              <a:t>地球日宣導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10040" y="1270080"/>
            <a:ext cx="3046680" cy="4967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臺灣的地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291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山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丘陵、台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平原、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臺灣的地形特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291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山高水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四週環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山多平原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08240" y="1792440"/>
          <a:ext cx="5832720" cy="482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08240" y="1792440"/>
                    <a:ext cx="583272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3:11:10Z</dcterms:created>
  <dc:creator>user</dc:creator>
  <dc:description/>
  <dc:language>en-US</dc:language>
  <cp:lastModifiedBy>Administrator</cp:lastModifiedBy>
  <dcterms:modified xsi:type="dcterms:W3CDTF">2011-03-04T03:51:02Z</dcterms:modified>
  <cp:revision>33</cp:revision>
  <dc:subject/>
  <dc:title>投影片 1</dc:title>
</cp:coreProperties>
</file>