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572-36E6-4F0E-8B3C-6EEA7F94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5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B62-2BE0-49A9-BBEF-76AA0623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5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5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711-092C-4652-8C1D-F2CB9F8E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3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3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5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5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5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745-AEF7-4D10-9AD5-DFF1D01C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802-5556-42B5-AB37-3C91AAD4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0F32-8DAC-4FC3-A2BF-4916B9A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E3D2-E355-4588-8868-F268BDA6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A988-637C-453C-AEA8-3851B488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668C-283A-4FFA-ABA6-268B1E3F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33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223-DA7B-457F-8F1C-AAEF5B6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05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AF1B-98A2-4D09-847B-93A3296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AB4-9362-4F02-8B11-A00AABC7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05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504A-102C-4DE9-AA69-77DE605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05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3C00-C464-47EA-959A-66CF455B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05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FEF4-E1FC-49A8-A158-81DD0DCF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05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05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DDAF-7605-4367-9D1F-6150A814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73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73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05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05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05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313E-BD2F-445B-A806-ED834943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6F0-7B58-43B2-A60A-9443B7E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9DF-F4BB-4B09-9C00-C053769D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A39-C334-42E8-AEB3-2DCF223A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33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FFD-A732-40DA-B8EB-41A9B1DA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5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60C-C056-40BE-B50C-1766CE8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5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12C-748E-4DB1-A33F-CA21E54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5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738-8CC1-4E7E-A665-CACCBF7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13560" indent="-313560">
              <a:lnSpc>
                <a:spcPct val="120000"/>
              </a:lnSpc>
              <a:spcBef>
                <a:spcPts val="3325"/>
              </a:spcBef>
              <a:buSzPct val="1028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579600" indent="-159840">
              <a:lnSpc>
                <a:spcPct val="120000"/>
              </a:lnSpc>
              <a:spcBef>
                <a:spcPts val="3325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981360" indent="-134640">
              <a:lnSpc>
                <a:spcPct val="120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222200" indent="-134640">
              <a:lnSpc>
                <a:spcPct val="120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1462680" indent="-134640">
              <a:lnSpc>
                <a:spcPct val="120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1462680" indent="-134640">
              <a:lnSpc>
                <a:spcPct val="120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1462680" indent="-134640">
              <a:lnSpc>
                <a:spcPct val="120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D5CB-77F4-4A18-9B57-E12BFABE227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366920"/>
            <a:ext cx="5905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57C-A95E-476A-811B-DA556459AF5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3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5205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4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4222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422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422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366920"/>
            <a:ext cx="5905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Arial"/>
              </a:rPr>
              <a:t>認識導盲犬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0000" y="763200"/>
            <a:ext cx="5905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Rounded MT Bold"/>
              </a:rPr>
              <a:t>Love and Trust</a:t>
            </a:r>
            <a:endParaRPr b="0" lang="en-US" sz="3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00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輔導股長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429000"/>
            <a:ext cx="3529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f2d"/>
              </a:gs>
              <a:gs pos="100000">
                <a:srgbClr val="a0c12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1280" y="3645000"/>
            <a:ext cx="310824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華康中圓體"/>
              </a:rPr>
              <a:t>視障體驗活動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華康中圓體"/>
              <a:ea typeface="華康中圓體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140360" y="3533760"/>
            <a:ext cx="10080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如何辨識導盲犬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3149"/>
              </a:spcBef>
              <a:buSzPct val="1028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Arial"/>
              </a:rPr>
              <a:t>身著紅色背心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＜訓練中犬隻及幼犬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3325"/>
              </a:spcBef>
              <a:buSzPct val="1028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Arial"/>
              </a:rPr>
              <a:t>配戴導盲鞍＜工作中犬隻＞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導盲犬的工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3325"/>
              </a:spcBef>
              <a:buSzPct val="1028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Arial"/>
              </a:rPr>
              <a:t>代替盲胞的雙眼，為他們領路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3325"/>
              </a:spcBef>
              <a:buSzPct val="1028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Arial"/>
              </a:rPr>
              <a:t>幫助盲胞去學校、醫院等場所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3325"/>
              </a:spcBef>
              <a:buSzPct val="1028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Arial"/>
              </a:rPr>
              <a:t>遇到障礙或轉彎，會停下提醒主人，避免發生危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對待導盲犬的正確觀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6320" indent="-526320">
              <a:lnSpc>
                <a:spcPct val="100000"/>
              </a:lnSpc>
              <a:spcBef>
                <a:spcPts val="2625"/>
              </a:spcBef>
              <a:buSzPct val="1303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遇到導盲犬時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100000"/>
              </a:lnSpc>
              <a:spcBef>
                <a:spcPts val="2625"/>
              </a:spcBef>
              <a:buSzPct val="1303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不可任意餵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100000"/>
              </a:lnSpc>
              <a:spcBef>
                <a:spcPts val="2625"/>
              </a:spcBef>
              <a:buSzPct val="1303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盡量避免鳴按喇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100000"/>
              </a:lnSpc>
              <a:spcBef>
                <a:spcPts val="2625"/>
              </a:spcBef>
              <a:buSzPct val="1303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導盲犬在工作時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100000"/>
              </a:lnSpc>
              <a:spcBef>
                <a:spcPts val="2625"/>
              </a:spcBef>
              <a:buSzPct val="1303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不可呼喚牠或摸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100000"/>
              </a:lnSpc>
              <a:spcBef>
                <a:spcPts val="2625"/>
              </a:spcBef>
              <a:buSzPct val="1303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不可跟牠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導盲犬三不一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4000" y="2133720"/>
            <a:ext cx="3960720" cy="1512720"/>
            <a:chOff x="324000" y="2133720"/>
            <a:chExt cx="3960720" cy="1512720"/>
          </a:xfrm>
        </p:grpSpPr>
        <p:sp>
          <p:nvSpPr>
            <p:cNvPr id="97" name=""/>
            <p:cNvSpPr/>
            <p:nvPr/>
          </p:nvSpPr>
          <p:spPr>
            <a:xfrm>
              <a:off x="1332000" y="2276640"/>
              <a:ext cx="2952720" cy="122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9df2d">
                    <a:alpha val="88235"/>
                  </a:srgbClr>
                </a:gs>
                <a:gs pos="100000">
                  <a:srgbClr val="7f9a1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6e851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03280" y="2349360"/>
              <a:ext cx="280836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000" y="2133720"/>
              <a:ext cx="1512720" cy="1512720"/>
            </a:xfrm>
            <a:prstGeom prst="ellipse">
              <a:avLst/>
            </a:prstGeom>
            <a:blipFill rotWithShape="0">
              <a:blip r:embed="rId2">
                <a:alphaModFix amt="90000"/>
              </a:blip>
              <a:srcRect/>
              <a:stretch/>
            </a:blipFill>
            <a:ln w="10152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050920" y="2637000"/>
              <a:ext cx="1828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華康中圓體"/>
                </a:rPr>
                <a:t>不餵食</a:t>
              </a:r>
              <a:endParaRPr b="1" lang="en-US" sz="4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華康中圓體"/>
                <a:ea typeface="華康中圓體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643280" y="4292640"/>
            <a:ext cx="4032360" cy="1512720"/>
            <a:chOff x="4643280" y="4292640"/>
            <a:chExt cx="4032360" cy="1512720"/>
          </a:xfrm>
        </p:grpSpPr>
        <p:sp>
          <p:nvSpPr>
            <p:cNvPr id="102" name=""/>
            <p:cNvSpPr/>
            <p:nvPr/>
          </p:nvSpPr>
          <p:spPr>
            <a:xfrm>
              <a:off x="5651640" y="4435560"/>
              <a:ext cx="3024000" cy="122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de4f">
                    <a:alpha val="88235"/>
                  </a:srgbClr>
                </a:gs>
                <a:gs pos="100000">
                  <a:srgbClr val="c8b13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684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24360" y="4508640"/>
              <a:ext cx="288000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3280" y="4292640"/>
              <a:ext cx="1513080" cy="1512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0152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6372360" y="4797360"/>
              <a:ext cx="20397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華康中圓體"/>
                </a:rPr>
                <a:t>主動詢問</a:t>
              </a:r>
              <a:endParaRPr b="1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華康中圓體"/>
                <a:ea typeface="華康中圓體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643280" y="2133720"/>
            <a:ext cx="4032360" cy="1512720"/>
            <a:chOff x="4643280" y="2133720"/>
            <a:chExt cx="4032360" cy="1512720"/>
          </a:xfrm>
        </p:grpSpPr>
        <p:sp>
          <p:nvSpPr>
            <p:cNvPr id="107" name=""/>
            <p:cNvSpPr/>
            <p:nvPr/>
          </p:nvSpPr>
          <p:spPr>
            <a:xfrm>
              <a:off x="5651640" y="2276640"/>
              <a:ext cx="3024000" cy="122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ff">
                    <a:alpha val="88235"/>
                  </a:srgbClr>
                </a:gs>
                <a:gs pos="100000">
                  <a:srgbClr val="238db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1e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2920" y="2349360"/>
              <a:ext cx="28796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3280" y="2133720"/>
              <a:ext cx="1513080" cy="1512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0152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6415200" y="2637000"/>
              <a:ext cx="1828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華康中圓體"/>
                </a:rPr>
                <a:t>不干擾</a:t>
              </a:r>
              <a:endParaRPr b="1" lang="en-US" sz="4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華康中圓體"/>
                <a:ea typeface="華康中圓體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24000" y="4292640"/>
            <a:ext cx="3960720" cy="1512720"/>
            <a:chOff x="324000" y="4292640"/>
            <a:chExt cx="3960720" cy="1512720"/>
          </a:xfrm>
        </p:grpSpPr>
        <p:sp>
          <p:nvSpPr>
            <p:cNvPr id="112" name=""/>
            <p:cNvSpPr/>
            <p:nvPr/>
          </p:nvSpPr>
          <p:spPr>
            <a:xfrm>
              <a:off x="1332000" y="4435560"/>
              <a:ext cx="2952720" cy="122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3d9">
                    <a:alpha val="88235"/>
                  </a:srgbClr>
                </a:gs>
                <a:gs pos="100000">
                  <a:srgbClr val="bb839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86a8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050920" y="4764240"/>
              <a:ext cx="1828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華康中圓體"/>
                </a:rPr>
                <a:t>不拒絕</a:t>
              </a:r>
              <a:endParaRPr b="1" lang="en-US" sz="4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華康中圓體"/>
                <a:ea typeface="華康中圓體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03280" y="4508640"/>
              <a:ext cx="280836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4000" y="4292640"/>
              <a:ext cx="1512720" cy="1512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0152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9:40:46Z</dcterms:created>
  <dc:creator>Administrator</dc:creator>
  <dc:description/>
  <dc:language>en-US</dc:language>
  <cp:lastModifiedBy>user</cp:lastModifiedBy>
  <dcterms:modified xsi:type="dcterms:W3CDTF">2010-12-03T01:46:14Z</dcterms:modified>
  <cp:revision>12</cp:revision>
  <dc:subject/>
  <dc:title>認識導盲犬</dc:title>
</cp:coreProperties>
</file>