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86BA-2D03-4DAB-848B-27432EC2C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460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21844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" y="4115520"/>
            <a:ext cx="821844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2056-0BBA-4A63-91CF-9BB112743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460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40104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9280" y="1916280"/>
            <a:ext cx="40104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000" y="4115520"/>
            <a:ext cx="40104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9280" y="4115520"/>
            <a:ext cx="40104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A627-47D3-4408-8563-AC85133DB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460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26460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38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6840" y="1916280"/>
            <a:ext cx="26460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38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5320" y="1916280"/>
            <a:ext cx="26460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38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" y="4115520"/>
            <a:ext cx="26460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38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6840" y="4115520"/>
            <a:ext cx="26460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38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5320" y="4115520"/>
            <a:ext cx="26460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38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1796-5E3E-4203-AEC5-33E267E7B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460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000" y="1916280"/>
            <a:ext cx="821844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7314-9509-4BB2-8EEB-709B06551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460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21844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1C6F-3107-4668-9E0D-DB520BC36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460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40104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9280" y="1916280"/>
            <a:ext cx="40104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40EE-C9EE-4FAC-BCAA-923E015AF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460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1377-4602-4655-B073-49EDC64C4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4604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38F5-505B-44FD-8BD5-643E51DDD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460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40104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9280" y="1916280"/>
            <a:ext cx="40104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000" y="4115520"/>
            <a:ext cx="40104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03F9-D9FB-404E-AF99-7D039943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460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40104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9280" y="1916280"/>
            <a:ext cx="40104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9280" y="4115520"/>
            <a:ext cx="40104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7C0C-88AA-4078-B6D1-F4F007ED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460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40104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9280" y="1916280"/>
            <a:ext cx="40104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000" y="4115520"/>
            <a:ext cx="821844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8877-7887-43B0-A5A5-8AB4D927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460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000" y="1916280"/>
            <a:ext cx="821844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marL="383400" indent="-383400">
              <a:spcBef>
                <a:spcPts val="3849"/>
              </a:spcBef>
              <a:buClr>
                <a:srgbClr val="ff0000"/>
              </a:buClr>
              <a:buFont typeface="Web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630000" indent="-151200">
              <a:spcBef>
                <a:spcPts val="38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2" marL="846360" indent="-120960">
              <a:spcBef>
                <a:spcPts val="38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3" marL="1062360" indent="-120960">
              <a:spcBef>
                <a:spcPts val="38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4" marL="1278720" indent="-12096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5" marL="1278720" indent="-12096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6" marL="1278720" indent="-12096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A2285-E233-4AD2-8161-5FE524F4375A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46040" y="274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6699"/>
                </a:solidFill>
                <a:latin typeface="Arial"/>
              </a:rPr>
              <a:t>生活中的聲音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21844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716400" indent="-716400">
              <a:spcBef>
                <a:spcPts val="3849"/>
              </a:spcBef>
              <a:buClr>
                <a:srgbClr val="ff0000"/>
              </a:buClr>
              <a:buFont typeface="Web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華康正顏楷體W7(P)"/>
              </a:rPr>
              <a:t>鐘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16400" indent="-716400">
              <a:spcBef>
                <a:spcPts val="3849"/>
              </a:spcBef>
              <a:buClr>
                <a:srgbClr val="ff0000"/>
              </a:buClr>
              <a:buFont typeface="Web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華康正顏楷體W7(P)"/>
              </a:rPr>
              <a:t>鼓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16400" indent="-716400">
              <a:spcBef>
                <a:spcPts val="3849"/>
              </a:spcBef>
              <a:buClr>
                <a:srgbClr val="ff0000"/>
              </a:buClr>
              <a:buFont typeface="Web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華康正顏楷體W7(P)"/>
              </a:rPr>
              <a:t>相機快門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16400" indent="-716400">
              <a:spcBef>
                <a:spcPts val="3849"/>
              </a:spcBef>
              <a:buClr>
                <a:srgbClr val="ff0000"/>
              </a:buClr>
              <a:buFont typeface="Web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華康正顏楷體W7(P)"/>
              </a:rPr>
              <a:t>鼓掌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460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6699"/>
                </a:solidFill>
                <a:latin typeface="Arial"/>
              </a:rPr>
              <a:t>鐘聲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525636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60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6699"/>
                </a:solidFill>
                <a:latin typeface="Arial"/>
              </a:rPr>
              <a:t>鼓聲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35928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60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6699"/>
                </a:solidFill>
                <a:latin typeface="Arial"/>
              </a:rPr>
              <a:t>相機快門聲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895640" cy="47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60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6699"/>
                </a:solidFill>
                <a:latin typeface="Arial"/>
              </a:rPr>
              <a:t>鼓掌聲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406404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09:50:47Z</dcterms:created>
  <dc:creator>user</dc:creator>
  <dc:description/>
  <dc:language>en-US</dc:language>
  <cp:lastModifiedBy>Administrator</cp:lastModifiedBy>
  <dcterms:modified xsi:type="dcterms:W3CDTF">2011-03-01T03:52:48Z</dcterms:modified>
  <cp:revision>12</cp:revision>
  <dc:subject/>
  <dc:title>生活中的聲音</dc:title>
</cp:coreProperties>
</file>