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196-0981-4C24-B9AA-4CBC0CBF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83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5EE-172F-427A-8A14-659A8BA9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C88-FD45-4D08-ABC2-37FAFFCC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83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83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83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751-4DC2-409F-8568-24995E7A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1FDB-D78B-4D03-A4DC-19702DF2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449-B28E-40A8-B1AB-1F9937A7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E5CA-AB2C-4751-B6D9-9F6228D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4FA-C47E-4B68-A9C3-1AA0194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2BF-8FBC-4170-975C-533D0E0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CD3E-3D13-417A-8254-5388B85B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F88D-1BF0-453F-A27E-72C3583B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C79-7CEC-4BC2-8FD2-853C55A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EEF1-8559-4DB2-B2C7-88F7DD0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83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7281-542D-4A00-A2E6-969D95C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183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97B7-B991-4DC7-9A60-9D235C36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3D87-7A69-47DC-90EE-D6B4B1EA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183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183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183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C029-3502-4CC2-A64C-6ABD6F51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0EB-335D-489D-A1EE-DAF443CD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0BF-1354-46FE-9DCD-B1824440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BE4-EBD6-4ABE-A34C-590CA197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615-8165-4D71-A3EF-F2C01DA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9C3-6624-4AC4-B57C-A80BA308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83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055-6726-4D61-964D-A512EB9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83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E17-A096-4523-BB76-74544C44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99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453-17FA-4D12-B3D8-AD3F4100B83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9144000" cy="15264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2AA4-789B-47B9-B63F-C29B91E8146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ffffff"/>
                </a:solidFill>
                <a:latin typeface="Arial"/>
              </a:rPr>
              <a:t>如何準備</a:t>
            </a:r>
            <a:br>
              <a:rPr sz="7000"/>
            </a:br>
            <a:r>
              <a:rPr b="0" lang="zh-TW" sz="7000" spc="-1" strike="noStrike">
                <a:solidFill>
                  <a:srgbClr val="ffffff"/>
                </a:solidFill>
                <a:latin typeface="Arial"/>
              </a:rPr>
              <a:t>　　推甄備審資料？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28195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000000"/>
                </a:solidFill>
                <a:latin typeface="Arial"/>
              </a:rPr>
              <a:t>演講人：林建華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備審資料內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自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師長推薦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讀書計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社團參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競賽成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校成績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班級或社團幹部證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76920" y="4475160"/>
            <a:ext cx="2590560" cy="184932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自傳內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家庭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嗜好及休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社團活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未來目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27440" y="2057400"/>
            <a:ext cx="2916360" cy="388620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撰寫自傳注意事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內容不宜太冗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用加粗或套色，來突顯重點內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除非要求親筆撰寫，否則應以電腦打字為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適度「包裝」自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讀書計畫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近程計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進入大學前的準備與計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中程計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學四年中的學習目標與計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遠程計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畢業後的生涯規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11-19T06:46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