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5AF2-1FFF-4AD1-8AF7-FF423E66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000" y="880560"/>
            <a:ext cx="6048360" cy="24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000" y="3645000"/>
            <a:ext cx="482436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4000" y="4358880"/>
            <a:ext cx="482436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9C8A-DA96-43B2-B58B-3320BCBC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880560"/>
            <a:ext cx="6048360" cy="24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3645000"/>
            <a:ext cx="235404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6120" y="3645000"/>
            <a:ext cx="235404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4000" y="4358880"/>
            <a:ext cx="235404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56120" y="4358880"/>
            <a:ext cx="235404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9F55-0C45-4A61-AE2C-FDC4CE95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4000" y="880560"/>
            <a:ext cx="6048360" cy="24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4000" y="3645000"/>
            <a:ext cx="155304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315160" y="3645000"/>
            <a:ext cx="155304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946320" y="3645000"/>
            <a:ext cx="155304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4000" y="4358880"/>
            <a:ext cx="155304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315160" y="4358880"/>
            <a:ext cx="155304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3946320" y="4358880"/>
            <a:ext cx="155304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E2C9-C005-4E81-ACAA-A55AA7BF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5BDDB-F323-4FF4-A137-A0BFA963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880560"/>
            <a:ext cx="6048360" cy="24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4000" y="3645000"/>
            <a:ext cx="482436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7B6B7-23B7-46ED-A309-61412EDD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880560"/>
            <a:ext cx="6048360" cy="24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000" y="3645000"/>
            <a:ext cx="4824360" cy="13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B3787-CCF0-4C7F-AE41-79D5B881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880560"/>
            <a:ext cx="6048360" cy="24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3645000"/>
            <a:ext cx="2354040" cy="13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156120" y="3645000"/>
            <a:ext cx="2354040" cy="13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67CAA-49E9-4433-8BDE-9EA51430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880560"/>
            <a:ext cx="6048360" cy="24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E0395-B02B-494E-A130-273FAF62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4000" y="880560"/>
            <a:ext cx="6048360" cy="11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56BB6-9D77-47D1-869B-A7ABCC6B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880560"/>
            <a:ext cx="6048360" cy="24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000" y="3645000"/>
            <a:ext cx="235404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156120" y="3645000"/>
            <a:ext cx="2354040" cy="13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4000" y="4358880"/>
            <a:ext cx="235404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C3D03-FD40-43F5-A1DC-1DBD2F11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880560"/>
            <a:ext cx="6048360" cy="24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4000" y="3645000"/>
            <a:ext cx="482436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ECEB-F1AA-421F-A9B9-0FE95B41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000" y="880560"/>
            <a:ext cx="6048360" cy="24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3645000"/>
            <a:ext cx="2354040" cy="13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56120" y="3645000"/>
            <a:ext cx="235404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156120" y="4358880"/>
            <a:ext cx="235404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51C46-6D9C-4E42-BC3F-399FA354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000" y="880560"/>
            <a:ext cx="6048360" cy="24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000" y="3645000"/>
            <a:ext cx="235404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56120" y="3645000"/>
            <a:ext cx="235404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4000" y="4358880"/>
            <a:ext cx="482436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13F35-42F8-4054-B381-8FEB90BE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880560"/>
            <a:ext cx="6048360" cy="24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000" y="3645000"/>
            <a:ext cx="482436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4000" y="4358880"/>
            <a:ext cx="482436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2EDB6-ABB7-48AA-AD79-2DB4CFC5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000" y="880560"/>
            <a:ext cx="6048360" cy="24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3645000"/>
            <a:ext cx="235404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56120" y="3645000"/>
            <a:ext cx="235404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4000" y="4358880"/>
            <a:ext cx="235404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156120" y="4358880"/>
            <a:ext cx="235404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2A75D-A315-43E4-A56B-635D6969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880560"/>
            <a:ext cx="6048360" cy="24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000" y="3645000"/>
            <a:ext cx="155304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315160" y="3645000"/>
            <a:ext cx="155304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946320" y="3645000"/>
            <a:ext cx="155304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4000" y="4358880"/>
            <a:ext cx="155304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315160" y="4358880"/>
            <a:ext cx="155304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3946320" y="4358880"/>
            <a:ext cx="155304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3B052-9F2C-4580-8039-33702B40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880560"/>
            <a:ext cx="6048360" cy="24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000" y="3645000"/>
            <a:ext cx="4824360" cy="13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272B-B3E4-40DE-BBBB-E7AC255A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880560"/>
            <a:ext cx="6048360" cy="24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3645000"/>
            <a:ext cx="2354040" cy="13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56120" y="3645000"/>
            <a:ext cx="2354040" cy="13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DF04-3968-44AF-8875-03132DE9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880560"/>
            <a:ext cx="6048360" cy="24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314F-36FF-4E79-9FEA-9A3874C3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4000" y="880560"/>
            <a:ext cx="6048360" cy="11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0493-B86C-4A0D-AE81-DD56DD30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880560"/>
            <a:ext cx="6048360" cy="24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3645000"/>
            <a:ext cx="235404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156120" y="3645000"/>
            <a:ext cx="2354040" cy="13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4000" y="4358880"/>
            <a:ext cx="235404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68AC-34FF-4F56-AC6D-F80EE006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880560"/>
            <a:ext cx="6048360" cy="24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3645000"/>
            <a:ext cx="2354040" cy="13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156120" y="3645000"/>
            <a:ext cx="235404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156120" y="4358880"/>
            <a:ext cx="235404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8D15-E71B-42C5-89E1-05875296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000" y="880560"/>
            <a:ext cx="6048360" cy="24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3645000"/>
            <a:ext cx="235404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56120" y="3645000"/>
            <a:ext cx="235404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4000" y="4358880"/>
            <a:ext cx="4824360" cy="6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5687-0F86-4D68-868F-9190EF9B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129960"/>
            <a:ext cx="7489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252360" y="1052640"/>
            <a:ext cx="3562200" cy="144360"/>
          </a:xfrm>
          <a:prstGeom prst="parallelogram">
            <a:avLst>
              <a:gd name="adj" fmla="val 10007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843280" y="993600"/>
            <a:ext cx="358560" cy="217800"/>
          </a:xfrm>
          <a:prstGeom prst="parallelogram">
            <a:avLst>
              <a:gd name="adj" fmla="val 968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557440" y="981000"/>
            <a:ext cx="358920" cy="230400"/>
          </a:xfrm>
          <a:prstGeom prst="parallelogram">
            <a:avLst>
              <a:gd name="adj" fmla="val 9168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5131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52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27D8-55E4-4B17-A6D9-29DDC36394AA}" type="slidenum">
              <a:rPr b="0" lang="zh-TW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596360" y="189000"/>
            <a:ext cx="129528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96360" y="5656320"/>
            <a:ext cx="1295280" cy="1017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5DE1-5D7B-42DA-A3EE-AC0F88FEB0CC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-9972000" y="-6003000"/>
            <a:ext cx="19944720" cy="1267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4000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400001"/>
              </a:path>
            </a:pathLst>
          </a:custGeom>
          <a:solidFill>
            <a:srgbClr val="ff0000">
              <a:alpha val="90000"/>
            </a:srgbClr>
          </a:solidFill>
          <a:ln w="38160">
            <a:solidFill>
              <a:srgbClr val="ffffff"/>
            </a:solidFill>
            <a:miter/>
          </a:ln>
          <a:effectLst>
            <a:outerShdw dist="89808" dir="58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-10043280" y="-6363360"/>
            <a:ext cx="20087280" cy="1267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cc00">
              <a:alpha val="9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-10116360" y="-6723720"/>
            <a:ext cx="20233440" cy="1267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6" y="0"/>
                </a:moveTo>
                <a:arcTo wR="10800" hR="10800" stAng="-5404310" swAng="5404310"/>
                <a:lnTo>
                  <a:pt x="10800" y="10800"/>
                </a:lnTo>
                <a:close/>
              </a:path>
              <a:path fill="none" w="21600" h="21600">
                <a:moveTo>
                  <a:pt x="10786" y="0"/>
                </a:moveTo>
                <a:arcTo wR="10800" hR="10800" stAng="-5404310" swAng="5404310"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4000" y="880560"/>
            <a:ext cx="6048360" cy="24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7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880560"/>
            <a:ext cx="6048360" cy="24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600" spc="-1" strike="noStrike">
                <a:solidFill>
                  <a:srgbClr val="ff0000"/>
                </a:solidFill>
                <a:latin typeface="Arial"/>
                <a:ea typeface="華康粗黑體"/>
              </a:rPr>
              <a:t>統一企業</a:t>
            </a:r>
            <a:endParaRPr b="0" lang="en-US" sz="7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4000" y="3645000"/>
            <a:ext cx="482436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600" spc="-1" strike="noStrike">
                <a:solidFill>
                  <a:srgbClr val="000000"/>
                </a:solidFill>
                <a:latin typeface="Arial"/>
              </a:rPr>
              <a:t>行銷企劃書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2532240"/>
            <a:ext cx="309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P r e s i d e n 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36360" y="307800"/>
            <a:ext cx="46400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華康粗黑體"/>
              </a:rPr>
              <a:t>開 創 健 康 快 樂 的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華康粗黑體"/>
              </a:rPr>
              <a:t>2 1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華康粗黑體"/>
              </a:rPr>
              <a:t>世 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2108160" y="1697040"/>
            <a:ext cx="3924360" cy="3838680"/>
            <a:chOff x="2108160" y="1697040"/>
            <a:chExt cx="3924360" cy="3838680"/>
          </a:xfrm>
        </p:grpSpPr>
        <p:sp>
          <p:nvSpPr>
            <p:cNvPr id="96" name=""/>
            <p:cNvSpPr/>
            <p:nvPr/>
          </p:nvSpPr>
          <p:spPr>
            <a:xfrm>
              <a:off x="2216160" y="1719360"/>
              <a:ext cx="3816360" cy="3816360"/>
            </a:xfrm>
            <a:prstGeom prst="ellipse">
              <a:avLst/>
            </a:prstGeom>
            <a:gradFill rotWithShape="0">
              <a:gsLst>
                <a:gs pos="0">
                  <a:srgbClr val="ff0000">
                    <a:alpha val="87058"/>
                  </a:srgbClr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  <a:effectLst>
              <a:outerShdw dist="77353" dir="5962478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08160" y="1697040"/>
              <a:ext cx="3816360" cy="3743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129960"/>
            <a:ext cx="7489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華康粗黑體"/>
              </a:rPr>
              <a:t>目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221440" y="2084400"/>
            <a:ext cx="2552760" cy="795960"/>
            <a:chOff x="5221440" y="2084400"/>
            <a:chExt cx="2552760" cy="795960"/>
          </a:xfrm>
        </p:grpSpPr>
        <p:sp>
          <p:nvSpPr>
            <p:cNvPr id="100" name=""/>
            <p:cNvSpPr/>
            <p:nvPr/>
          </p:nvSpPr>
          <p:spPr>
            <a:xfrm>
              <a:off x="6618240" y="20844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Arial"/>
                  <a:ea typeface="華康中圓體"/>
                </a:rPr>
                <a:t>企業簡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5221440" y="2084400"/>
              <a:ext cx="794160" cy="795960"/>
              <a:chOff x="5221440" y="2084400"/>
              <a:chExt cx="794160" cy="795960"/>
            </a:xfrm>
          </p:grpSpPr>
          <p:sp>
            <p:nvSpPr>
              <p:cNvPr id="102" name=""/>
              <p:cNvSpPr/>
              <p:nvPr/>
            </p:nvSpPr>
            <p:spPr>
              <a:xfrm>
                <a:off x="5221440" y="2084400"/>
                <a:ext cx="719280" cy="719280"/>
              </a:xfrm>
              <a:prstGeom prst="ellipse">
                <a:avLst/>
              </a:prstGeom>
              <a:solidFill>
                <a:srgbClr val="333399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3134600">
                <a:off x="5549760" y="2236680"/>
                <a:ext cx="306360" cy="615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416" y="2374"/>
                      <a:pt x="13232" y="5080"/>
                      <a:pt x="13232" y="10800"/>
                    </a:cubicBezTo>
                    <a:cubicBezTo>
                      <a:pt x="13232" y="16520"/>
                      <a:pt x="17416" y="1922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lin ang="1386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" name=""/>
          <p:cNvGrpSpPr/>
          <p:nvPr/>
        </p:nvGrpSpPr>
        <p:grpSpPr>
          <a:xfrm>
            <a:off x="5508720" y="3573360"/>
            <a:ext cx="2569680" cy="804960"/>
            <a:chOff x="5508720" y="3573360"/>
            <a:chExt cx="2569680" cy="804960"/>
          </a:xfrm>
        </p:grpSpPr>
        <p:sp>
          <p:nvSpPr>
            <p:cNvPr id="105" name=""/>
            <p:cNvSpPr/>
            <p:nvPr/>
          </p:nvSpPr>
          <p:spPr>
            <a:xfrm>
              <a:off x="6922440" y="367344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Arial"/>
                  <a:ea typeface="華康中圓體"/>
                </a:rPr>
                <a:t>經營概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5508720" y="3573360"/>
              <a:ext cx="795600" cy="804960"/>
              <a:chOff x="5508720" y="3573360"/>
              <a:chExt cx="795600" cy="804960"/>
            </a:xfrm>
          </p:grpSpPr>
          <p:sp>
            <p:nvSpPr>
              <p:cNvPr id="107" name=""/>
              <p:cNvSpPr/>
              <p:nvPr/>
            </p:nvSpPr>
            <p:spPr>
              <a:xfrm>
                <a:off x="5508720" y="3573360"/>
                <a:ext cx="718920" cy="718560"/>
              </a:xfrm>
              <a:prstGeom prst="ellipse">
                <a:avLst/>
              </a:prstGeom>
              <a:solidFill>
                <a:srgbClr val="ffcc00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3134600">
                <a:off x="5838480" y="3734640"/>
                <a:ext cx="306360" cy="615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416" y="2374"/>
                      <a:pt x="13232" y="5080"/>
                      <a:pt x="13232" y="10800"/>
                    </a:cubicBezTo>
                    <a:cubicBezTo>
                      <a:pt x="13232" y="16520"/>
                      <a:pt x="17416" y="1922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lin ang="1386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4427640" y="4959360"/>
            <a:ext cx="2563920" cy="802080"/>
            <a:chOff x="4427640" y="4959360"/>
            <a:chExt cx="2563920" cy="802080"/>
          </a:xfrm>
        </p:grpSpPr>
        <p:sp>
          <p:nvSpPr>
            <p:cNvPr id="110" name=""/>
            <p:cNvSpPr/>
            <p:nvPr/>
          </p:nvSpPr>
          <p:spPr>
            <a:xfrm>
              <a:off x="5835600" y="50562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Arial"/>
                  <a:ea typeface="華康中圓體"/>
                </a:rPr>
                <a:t>產品介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4427640" y="4959360"/>
              <a:ext cx="800640" cy="802080"/>
              <a:chOff x="4427640" y="4959360"/>
              <a:chExt cx="800640" cy="802080"/>
            </a:xfrm>
          </p:grpSpPr>
          <p:sp>
            <p:nvSpPr>
              <p:cNvPr id="112" name=""/>
              <p:cNvSpPr/>
              <p:nvPr/>
            </p:nvSpPr>
            <p:spPr>
              <a:xfrm>
                <a:off x="4427640" y="4959360"/>
                <a:ext cx="718920" cy="7189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3134600">
                <a:off x="4762440" y="5117400"/>
                <a:ext cx="306000" cy="615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416" y="2374"/>
                      <a:pt x="13232" y="5080"/>
                      <a:pt x="13232" y="10800"/>
                    </a:cubicBezTo>
                    <a:cubicBezTo>
                      <a:pt x="13232" y="16520"/>
                      <a:pt x="17416" y="1922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lin ang="1386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3959280" cy="270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統一企業．行銷企劃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6BFA-C99C-41D7-9CBF-DDF76C22C555}" type="slidenum">
              <a:t>2</a:t>
            </a:fld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129960"/>
            <a:ext cx="7489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華康粗黑體"/>
              </a:rPr>
              <a:t>公司簡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909800" y="3284640"/>
            <a:ext cx="6765840" cy="1368360"/>
            <a:chOff x="1909800" y="3284640"/>
            <a:chExt cx="6765840" cy="1368360"/>
          </a:xfrm>
        </p:grpSpPr>
        <p:sp>
          <p:nvSpPr>
            <p:cNvPr id="117" name=""/>
            <p:cNvSpPr/>
            <p:nvPr/>
          </p:nvSpPr>
          <p:spPr>
            <a:xfrm>
              <a:off x="3029040" y="3379680"/>
              <a:ext cx="5646600" cy="118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86280" y="3284640"/>
              <a:ext cx="5553000" cy="76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ff99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09800" y="3284640"/>
              <a:ext cx="1368360" cy="13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494160" y="3427560"/>
              <a:ext cx="165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Arial"/>
                  <a:ea typeface="華康中圓體"/>
                </a:rPr>
                <a:t>創始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48360" y="4006800"/>
              <a:ext cx="15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Arial"/>
                  <a:ea typeface="華康中圓體"/>
                </a:rPr>
                <a:t>吳修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2023920" y="3427560"/>
              <a:ext cx="1132200" cy="115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553680" y="1501560"/>
            <a:ext cx="6929640" cy="1915200"/>
            <a:chOff x="553680" y="1501560"/>
            <a:chExt cx="6929640" cy="1915200"/>
          </a:xfrm>
        </p:grpSpPr>
        <p:sp>
          <p:nvSpPr>
            <p:cNvPr id="124" name=""/>
            <p:cNvSpPr/>
            <p:nvPr/>
          </p:nvSpPr>
          <p:spPr>
            <a:xfrm>
              <a:off x="1836720" y="1739880"/>
              <a:ext cx="5646600" cy="118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11240" y="1627200"/>
              <a:ext cx="5524560" cy="78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71640" y="2414520"/>
              <a:ext cx="5532480" cy="47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>
                    <a:alpha val="0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41440" y="1771560"/>
              <a:ext cx="215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Arial"/>
                  <a:ea typeface="華康中圓體"/>
                </a:rPr>
                <a:t>創立時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25800" y="2347920"/>
              <a:ext cx="1492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華康中圓體"/>
                  <a:ea typeface="華康中圓體"/>
                </a:rPr>
                <a:t>1969</a:t>
              </a:r>
              <a:r>
                <a:rPr b="0" lang="zh-TW" sz="3200" spc="-1" strike="noStrike">
                  <a:solidFill>
                    <a:srgbClr val="000000"/>
                  </a:solidFill>
                  <a:latin typeface="華康中圓體"/>
                  <a:ea typeface="華康中圓體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553680" y="1501560"/>
              <a:ext cx="1823400" cy="1823400"/>
              <a:chOff x="553680" y="1501560"/>
              <a:chExt cx="1823400" cy="182340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553680" y="1501560"/>
                <a:ext cx="1823400" cy="1823400"/>
                <a:chOff x="553680" y="1501560"/>
                <a:chExt cx="1823400" cy="1823400"/>
              </a:xfrm>
            </p:grpSpPr>
            <p:sp>
              <p:nvSpPr>
                <p:cNvPr id="131" name=""/>
                <p:cNvSpPr/>
                <p:nvPr/>
              </p:nvSpPr>
              <p:spPr>
                <a:xfrm rot="19218000">
                  <a:off x="817560" y="1765800"/>
                  <a:ext cx="1294920" cy="1294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10800000"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50196"/>
                      </a:srgbClr>
                    </a:gs>
                    <a:gs pos="100000">
                      <a:srgbClr val="75757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9218000">
                  <a:off x="921240" y="1767960"/>
                  <a:ext cx="1097640" cy="1294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10800000"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50196"/>
                      </a:srgbClr>
                    </a:gs>
                    <a:gs pos="100000">
                      <a:srgbClr val="75757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 rot="19218000">
                <a:off x="870840" y="2133000"/>
                <a:ext cx="287280" cy="286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846000" y="1668600"/>
              <a:ext cx="1368720" cy="13683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971640" y="4867200"/>
            <a:ext cx="6696000" cy="1441440"/>
            <a:chOff x="971640" y="4867200"/>
            <a:chExt cx="6696000" cy="1441440"/>
          </a:xfrm>
        </p:grpSpPr>
        <p:sp>
          <p:nvSpPr>
            <p:cNvPr id="136" name=""/>
            <p:cNvSpPr/>
            <p:nvPr/>
          </p:nvSpPr>
          <p:spPr>
            <a:xfrm>
              <a:off x="2021040" y="4975200"/>
              <a:ext cx="5646600" cy="118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77920" y="4867200"/>
              <a:ext cx="5540400" cy="758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35400" y="5587920"/>
              <a:ext cx="148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Arial"/>
                  <a:ea typeface="華康中圓體"/>
                </a:rPr>
                <a:t>林蒼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56000" y="5011920"/>
              <a:ext cx="201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Arial"/>
                  <a:ea typeface="華康中圓體"/>
                </a:rPr>
                <a:t>現任總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71640" y="4940280"/>
              <a:ext cx="1368360" cy="13683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統一企業．行銷企劃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763C-EEDD-442D-92C0-CBF9D4C4D677}" type="slidenum">
              <a:t>3</a:t>
            </a:fld>
          </a:p>
        </p:txBody>
      </p:sp>
    </p:spTree>
  </p:cSld>
  <p:transition>
    <p:split dir="out" orient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560" y="129960"/>
            <a:ext cx="7489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華康粗黑體"/>
              </a:rPr>
              <a:t>成長歷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79280" y="2205000"/>
            <a:ext cx="2735280" cy="1584360"/>
            <a:chOff x="179280" y="2205000"/>
            <a:chExt cx="2735280" cy="1584360"/>
          </a:xfrm>
        </p:grpSpPr>
        <p:sp>
          <p:nvSpPr>
            <p:cNvPr id="143" name=""/>
            <p:cNvSpPr/>
            <p:nvPr/>
          </p:nvSpPr>
          <p:spPr>
            <a:xfrm>
              <a:off x="179280" y="2205000"/>
              <a:ext cx="2735280" cy="1584360"/>
            </a:xfrm>
            <a:custGeom>
              <a:avLst/>
              <a:gdLst>
                <a:gd name="textAreaLeft" fmla="*/ 0 w 2735280"/>
                <a:gd name="textAreaRight" fmla="*/ 2735640 w 273528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  <a:effectLst>
              <a:outerShdw dist="73964" dir="3536435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9320" y="2492640"/>
              <a:ext cx="212004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000" spc="-1" strike="noStrike">
                  <a:solidFill>
                    <a:srgbClr val="000000"/>
                  </a:solidFill>
                  <a:latin typeface="華康中圓體"/>
                  <a:ea typeface="華康中圓體"/>
                </a:rPr>
                <a:t>創業期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華康中圓體"/>
                  <a:ea typeface="華康中圓體"/>
                </a:rPr>
                <a:t>1967</a:t>
              </a:r>
              <a:r>
                <a:rPr b="0" lang="zh-TW" sz="2200" spc="-1" strike="noStrike">
                  <a:solidFill>
                    <a:srgbClr val="000000"/>
                  </a:solidFill>
                  <a:latin typeface="華康中圓體"/>
                  <a:ea typeface="華康中圓體"/>
                </a:rPr>
                <a:t>～</a:t>
              </a:r>
              <a:r>
                <a:rPr b="0" lang="zh-TW" sz="2200" spc="-1" strike="noStrike">
                  <a:solidFill>
                    <a:srgbClr val="000000"/>
                  </a:solidFill>
                  <a:latin typeface="華康中圓體"/>
                  <a:ea typeface="華康中圓體"/>
                </a:rPr>
                <a:t>197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197080" y="2205000"/>
            <a:ext cx="2735280" cy="1584360"/>
            <a:chOff x="2197080" y="2205000"/>
            <a:chExt cx="2735280" cy="1584360"/>
          </a:xfrm>
        </p:grpSpPr>
        <p:sp>
          <p:nvSpPr>
            <p:cNvPr id="146" name=""/>
            <p:cNvSpPr/>
            <p:nvPr/>
          </p:nvSpPr>
          <p:spPr>
            <a:xfrm>
              <a:off x="2197080" y="2205000"/>
              <a:ext cx="2735280" cy="1584360"/>
            </a:xfrm>
            <a:custGeom>
              <a:avLst/>
              <a:gdLst>
                <a:gd name="textAreaLeft" fmla="*/ 0 w 2735280"/>
                <a:gd name="textAreaRight" fmla="*/ 2735640 w 273528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ffffff"/>
              </a:solidFill>
              <a:miter/>
            </a:ln>
            <a:effectLst>
              <a:outerShdw dist="73964" dir="3536435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07120" y="2492640"/>
              <a:ext cx="212004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000" spc="-1" strike="noStrike">
                  <a:solidFill>
                    <a:srgbClr val="000000"/>
                  </a:solidFill>
                  <a:latin typeface="華康中圓體"/>
                  <a:ea typeface="華康中圓體"/>
                </a:rPr>
                <a:t>茁壯期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華康中圓體"/>
                  <a:ea typeface="華康中圓體"/>
                </a:rPr>
                <a:t>1974</a:t>
              </a:r>
              <a:r>
                <a:rPr b="0" lang="zh-TW" sz="2200" spc="-1" strike="noStrike">
                  <a:solidFill>
                    <a:srgbClr val="000000"/>
                  </a:solidFill>
                  <a:latin typeface="華康中圓體"/>
                  <a:ea typeface="華康中圓體"/>
                </a:rPr>
                <a:t>～</a:t>
              </a:r>
              <a:r>
                <a:rPr b="0" lang="zh-TW" sz="2200" spc="-1" strike="noStrike">
                  <a:solidFill>
                    <a:srgbClr val="000000"/>
                  </a:solidFill>
                  <a:latin typeface="華康中圓體"/>
                  <a:ea typeface="華康中圓體"/>
                </a:rPr>
                <a:t>198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211640" y="2205000"/>
            <a:ext cx="2735280" cy="1584360"/>
            <a:chOff x="4211640" y="2205000"/>
            <a:chExt cx="2735280" cy="1584360"/>
          </a:xfrm>
        </p:grpSpPr>
        <p:sp>
          <p:nvSpPr>
            <p:cNvPr id="149" name=""/>
            <p:cNvSpPr/>
            <p:nvPr/>
          </p:nvSpPr>
          <p:spPr>
            <a:xfrm>
              <a:off x="4211640" y="2205000"/>
              <a:ext cx="2735280" cy="1584360"/>
            </a:xfrm>
            <a:custGeom>
              <a:avLst/>
              <a:gdLst>
                <a:gd name="textAreaLeft" fmla="*/ 0 w 2735280"/>
                <a:gd name="textAreaRight" fmla="*/ 2735640 w 273528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33"/>
            </a:solidFill>
            <a:ln w="38160">
              <a:solidFill>
                <a:srgbClr val="ffffff"/>
              </a:solidFill>
              <a:miter/>
            </a:ln>
            <a:effectLst>
              <a:outerShdw dist="73964" dir="3536435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21680" y="2492640"/>
              <a:ext cx="212004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000" spc="-1" strike="noStrike">
                  <a:solidFill>
                    <a:srgbClr val="000000"/>
                  </a:solidFill>
                  <a:latin typeface="華康中圓體"/>
                  <a:ea typeface="華康中圓體"/>
                </a:rPr>
                <a:t>集團化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華康中圓體"/>
                  <a:ea typeface="華康中圓體"/>
                </a:rPr>
                <a:t>1983</a:t>
              </a:r>
              <a:r>
                <a:rPr b="0" lang="zh-TW" sz="2200" spc="-1" strike="noStrike">
                  <a:solidFill>
                    <a:srgbClr val="000000"/>
                  </a:solidFill>
                  <a:latin typeface="華康中圓體"/>
                  <a:ea typeface="華康中圓體"/>
                </a:rPr>
                <a:t>～</a:t>
              </a:r>
              <a:r>
                <a:rPr b="0" lang="zh-TW" sz="2200" spc="-1" strike="noStrike">
                  <a:solidFill>
                    <a:srgbClr val="000000"/>
                  </a:solidFill>
                  <a:latin typeface="華康中圓體"/>
                  <a:ea typeface="華康中圓體"/>
                </a:rPr>
                <a:t>198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227640" y="2205000"/>
            <a:ext cx="2735280" cy="1584360"/>
            <a:chOff x="6227640" y="2205000"/>
            <a:chExt cx="2735280" cy="1584360"/>
          </a:xfrm>
        </p:grpSpPr>
        <p:sp>
          <p:nvSpPr>
            <p:cNvPr id="152" name=""/>
            <p:cNvSpPr/>
            <p:nvPr/>
          </p:nvSpPr>
          <p:spPr>
            <a:xfrm>
              <a:off x="6227640" y="2205000"/>
              <a:ext cx="2735280" cy="1584360"/>
            </a:xfrm>
            <a:custGeom>
              <a:avLst/>
              <a:gdLst>
                <a:gd name="textAreaLeft" fmla="*/ 0 w 2735280"/>
                <a:gd name="textAreaRight" fmla="*/ 2735640 w 273528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  <a:effectLst>
              <a:outerShdw dist="73964" dir="3536435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37680" y="2492640"/>
              <a:ext cx="212004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000" spc="-1" strike="noStrike">
                  <a:solidFill>
                    <a:srgbClr val="000000"/>
                  </a:solidFill>
                  <a:latin typeface="華康中圓體"/>
                  <a:ea typeface="華康中圓體"/>
                </a:rPr>
                <a:t>國際化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華康中圓體"/>
                  <a:ea typeface="華康中圓體"/>
                </a:rPr>
                <a:t>1900</a:t>
              </a:r>
              <a:r>
                <a:rPr b="0" lang="zh-TW" sz="2200" spc="-1" strike="noStrike">
                  <a:solidFill>
                    <a:srgbClr val="000000"/>
                  </a:solidFill>
                  <a:latin typeface="華康中圓體"/>
                  <a:ea typeface="華康中圓體"/>
                </a:rPr>
                <a:t>～至今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22200" y="4076640"/>
            <a:ext cx="2017800" cy="1366920"/>
            <a:chOff x="322200" y="4076640"/>
            <a:chExt cx="2017800" cy="1366920"/>
          </a:xfrm>
        </p:grpSpPr>
        <p:sp>
          <p:nvSpPr>
            <p:cNvPr id="155" name=""/>
            <p:cNvSpPr/>
            <p:nvPr/>
          </p:nvSpPr>
          <p:spPr>
            <a:xfrm>
              <a:off x="322200" y="4363920"/>
              <a:ext cx="2017800" cy="107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808080"/>
                </a:gs>
              </a:gsLst>
              <a:lin ang="5400000"/>
            </a:gra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無缺點高效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擴大經濟規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400000">
              <a:off x="1173600" y="3991680"/>
              <a:ext cx="142920" cy="312840"/>
            </a:xfrm>
            <a:prstGeom prst="rightArrow">
              <a:avLst>
                <a:gd name="adj1" fmla="val 49676"/>
                <a:gd name="adj2" fmla="val 100000"/>
              </a:avLst>
            </a:prstGeom>
            <a:solidFill>
              <a:srgbClr val="96969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482920" y="4076640"/>
            <a:ext cx="2017800" cy="1366920"/>
            <a:chOff x="2482920" y="4076640"/>
            <a:chExt cx="2017800" cy="1366920"/>
          </a:xfrm>
        </p:grpSpPr>
        <p:sp>
          <p:nvSpPr>
            <p:cNvPr id="158" name=""/>
            <p:cNvSpPr/>
            <p:nvPr/>
          </p:nvSpPr>
          <p:spPr>
            <a:xfrm>
              <a:off x="2482920" y="4363920"/>
              <a:ext cx="2017800" cy="107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lin ang="5400000"/>
            </a:gra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引進設備技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高質經營策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5400000">
              <a:off x="3334320" y="3991680"/>
              <a:ext cx="142920" cy="312480"/>
            </a:xfrm>
            <a:prstGeom prst="rightArrow">
              <a:avLst>
                <a:gd name="adj1" fmla="val 49676"/>
                <a:gd name="adj2" fmla="val 100000"/>
              </a:avLst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641840" y="4076640"/>
            <a:ext cx="2017800" cy="1366920"/>
            <a:chOff x="4641840" y="4076640"/>
            <a:chExt cx="2017800" cy="1366920"/>
          </a:xfrm>
        </p:grpSpPr>
        <p:sp>
          <p:nvSpPr>
            <p:cNvPr id="161" name=""/>
            <p:cNvSpPr/>
            <p:nvPr/>
          </p:nvSpPr>
          <p:spPr>
            <a:xfrm>
              <a:off x="4641840" y="4363920"/>
              <a:ext cx="2017800" cy="107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lin ang="5400000"/>
            </a:gradFill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多角化的經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結合社會需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5400000">
              <a:off x="5493240" y="3991680"/>
              <a:ext cx="142920" cy="312840"/>
            </a:xfrm>
            <a:prstGeom prst="rightArrow">
              <a:avLst>
                <a:gd name="adj1" fmla="val 49676"/>
                <a:gd name="adj2" fmla="val 100000"/>
              </a:avLst>
            </a:prstGeom>
            <a:solidFill>
              <a:srgbClr val="ff9933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802560" y="4076640"/>
            <a:ext cx="2017440" cy="1366920"/>
            <a:chOff x="6802560" y="4076640"/>
            <a:chExt cx="2017440" cy="1366920"/>
          </a:xfrm>
        </p:grpSpPr>
        <p:sp>
          <p:nvSpPr>
            <p:cNvPr id="164" name=""/>
            <p:cNvSpPr/>
            <p:nvPr/>
          </p:nvSpPr>
          <p:spPr>
            <a:xfrm>
              <a:off x="6802560" y="4363920"/>
              <a:ext cx="2017440" cy="107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0000"/>
                </a:gs>
              </a:gsLst>
              <a:lin ang="5400000"/>
            </a:gra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朝國際化發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突破成長障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7653960" y="3991680"/>
              <a:ext cx="142920" cy="312480"/>
            </a:xfrm>
            <a:prstGeom prst="rightArrow">
              <a:avLst>
                <a:gd name="adj1" fmla="val 49676"/>
                <a:gd name="adj2" fmla="val 100000"/>
              </a:avLst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統一企業．行銷企劃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AC77-2C92-4832-83FE-8755C6FBE944}" type="slidenum">
              <a:t>4</a:t>
            </a:fld>
          </a:p>
        </p:txBody>
      </p:sp>
    </p:spTree>
  </p:cSld>
  <p:transition>
    <p:split dir="out" orient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560" y="129960"/>
            <a:ext cx="7489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華康粗黑體"/>
              </a:rPr>
              <a:t>品牌精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38440" y="3527280"/>
            <a:ext cx="218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華康中圓體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華康中圓體"/>
              </a:rPr>
              <a:t>好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華康中圓體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華康中圓體"/>
              </a:rPr>
              <a:t>公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20960" y="1441440"/>
            <a:ext cx="1700280" cy="1700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華康中圓體"/>
              </a:rPr>
              <a:t>品質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華康中圓體"/>
              </a:rPr>
              <a:t>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 rot="12682800">
            <a:off x="4858920" y="2923560"/>
            <a:ext cx="1727280" cy="21564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8917200">
            <a:off x="2484000" y="2925720"/>
            <a:ext cx="1727280" cy="21600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87280" y="2909880"/>
            <a:ext cx="1700280" cy="1700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華康中圓體"/>
              </a:rPr>
              <a:t>價錢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華康中圓體"/>
              </a:rPr>
              <a:t>公道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56440" y="2909880"/>
            <a:ext cx="1700280" cy="1700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華康中圓體"/>
              </a:rPr>
              <a:t>服務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華康中圓體"/>
              </a:rPr>
              <a:t>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8917200">
            <a:off x="5076360" y="4437000"/>
            <a:ext cx="1727280" cy="21600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 rot="12682800">
            <a:off x="2339640" y="4437000"/>
            <a:ext cx="1727280" cy="21600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20960" y="4465800"/>
            <a:ext cx="1700280" cy="16999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華康中圓體"/>
              </a:rPr>
              <a:t>信用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華康中圓體"/>
              </a:rPr>
              <a:t>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統一企業．行銷企劃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8D0A-29DF-4138-91CA-A9BD3FDEDAAE}" type="slidenum">
              <a:t>5</a:t>
            </a:fld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560" y="129960"/>
            <a:ext cx="7489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華康粗黑體"/>
              </a:rPr>
              <a:t>年度損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2039760"/>
          <a:ext cx="8228160" cy="3549960"/>
        </p:xfrm>
        <a:graphic>
          <a:graphicData uri="http://schemas.openxmlformats.org/drawingml/2006/table">
            <a:tbl>
              <a:tblPr/>
              <a:tblGrid>
                <a:gridCol w="1306440"/>
                <a:gridCol w="1730520"/>
                <a:gridCol w="1730160"/>
                <a:gridCol w="1730520"/>
                <a:gridCol w="1730520"/>
              </a:tblGrid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Arial"/>
                          <a:ea typeface="華康中圓體"/>
                        </a:rPr>
                        <a:t>項目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Arial"/>
                          <a:ea typeface="華康中圓體"/>
                        </a:rPr>
                        <a:t>合併總損益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Arial"/>
                          <a:ea typeface="華康中圓體"/>
                        </a:rPr>
                        <a:t>營業毛利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Arial"/>
                          <a:ea typeface="華康中圓體"/>
                        </a:rPr>
                        <a:t>稅前淨利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Arial"/>
                          <a:ea typeface="華康中圓體"/>
                        </a:rPr>
                        <a:t>稅後淨利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97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Arial"/>
                          <a:ea typeface="華康中圓體"/>
                        </a:rPr>
                        <a:t>年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5,76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9,655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3,61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3,6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96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Arial"/>
                          <a:ea typeface="華康中圓體"/>
                        </a:rPr>
                        <a:t>年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5,03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0,165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1,022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1,0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7128000" y="5589720"/>
            <a:ext cx="16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細黑體"/>
              </a:rPr>
              <a:t>單位：新台幣仟元</a:t>
            </a:r>
            <a:r>
              <a:rPr b="0" lang="zh-TW" sz="1300" spc="-1" strike="noStrike">
                <a:solidFill>
                  <a:srgbClr val="000000"/>
                </a:solidFill>
                <a:latin typeface="華康細黑體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統一企業．行銷企劃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3CAF-8250-4A0E-AC71-23670BC33B17}" type="slidenum">
              <a:t>6</a:t>
            </a:fld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880560"/>
            <a:ext cx="6048360" cy="24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0" spc="-1" strike="noStrike">
                <a:solidFill>
                  <a:srgbClr val="ff0000"/>
                </a:solidFill>
                <a:latin typeface="Arial"/>
                <a:ea typeface="華康粗黑體"/>
              </a:rPr>
              <a:t>感謝您的觀賞</a:t>
            </a:r>
            <a:br>
              <a:rPr sz="7000"/>
            </a:br>
            <a:r>
              <a:rPr b="0" lang="zh-TW" sz="7000" spc="-1" strike="noStrike">
                <a:solidFill>
                  <a:srgbClr val="ff0000"/>
                </a:solidFill>
                <a:latin typeface="Arial"/>
                <a:ea typeface="華康粗黑體"/>
              </a:rPr>
              <a:t>與指教</a:t>
            </a:r>
            <a:endParaRPr b="0" lang="en-US" sz="7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4000" y="3645000"/>
            <a:ext cx="482436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 Rounded MT Bold"/>
              </a:rPr>
              <a:t>THANK YOU !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2:16:12Z</dcterms:created>
  <dc:creator>user</dc:creator>
  <dc:description/>
  <dc:language>en-US</dc:language>
  <cp:lastModifiedBy>Administrator</cp:lastModifiedBy>
  <dcterms:modified xsi:type="dcterms:W3CDTF">2010-12-07T02:54:37Z</dcterms:modified>
  <cp:revision>88</cp:revision>
  <dc:subject/>
  <dc:title>投影片 1</dc:title>
</cp:coreProperties>
</file>