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TYPE.WAV" ContentType="audio/x-wav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EE4-D817-4F18-8B00-D991F5E2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A32-D66F-429A-A66E-7DDA7A33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EBC-7441-4374-8299-1FFD8571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D0A-BF1C-4E57-92DA-CAA75B0D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40F6-A361-4BBC-AD03-9950CBD2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E094-ACEE-46D7-9DCB-286C56D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FFC-AD14-4077-8B96-1EA0A096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05D6-C1C3-49DE-BC78-80CC0DA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D9D-0A52-4CAF-8695-2DBDDC7E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E23D-7C1F-4630-844F-EC1AE4C1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B96A-613A-44E9-9B4C-37FB8FB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36C-4071-4129-A7B1-390F5997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A819-AC5E-4966-BEB5-023FCC6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616-7F6B-408A-B2BE-BBCEE3B3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C39E-A00C-49BE-9CBE-F810F12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3973-8305-4891-B0CF-0ACF3840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B251-E138-4FC4-ABE7-D9EC38A7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A78-DF1D-418A-8FCC-F1F418B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3DD-D4E5-4EDD-90FE-A64E141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B84-F18D-4DD9-812C-E50574D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831-A9D9-49BA-AB67-5E64E1B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C09-3AD0-4311-B47F-89D0E1F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631-5B4E-4D52-91DC-D1EB6A1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EC4-48F3-4B00-A16B-933EEE2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4670-619C-49F8-95CA-27DD3955079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F57-215D-4530-A014-5F5F9C446B0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2040" t="0" r="2792" b="0"/>
          <a:stretch/>
        </p:blipFill>
        <p:spPr>
          <a:xfrm>
            <a:off x="1033560" y="2268360"/>
            <a:ext cx="4797360" cy="349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57160" y="7416720"/>
            <a:ext cx="5143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M E R R Y   C H R I S T M A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15600" y="330120"/>
            <a:ext cx="3636000" cy="8345520"/>
            <a:chOff x="1515600" y="330120"/>
            <a:chExt cx="3636000" cy="83455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11440" y="330120"/>
              <a:ext cx="3440160" cy="834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15600" y="2394000"/>
              <a:ext cx="2618280" cy="53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聖誕節快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076640" y="6399360"/>
            <a:ext cx="278136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3:38:25Z</dcterms:created>
  <dc:creator>user</dc:creator>
  <dc:description/>
  <dc:language>en-US</dc:language>
  <cp:lastModifiedBy>Administrator</cp:lastModifiedBy>
  <dcterms:modified xsi:type="dcterms:W3CDTF">2010-12-08T04:02:47Z</dcterms:modified>
  <cp:revision>2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