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59B3-BA86-4BB0-AED7-B6A0A53A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7154-2BF2-43A1-85E3-69C3FD9D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B8B9-E561-4C86-8D13-364E8F96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06FA-7FCB-481F-81E1-F6DC133E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573D-59CC-4EA1-8490-8DFE7BA6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0ACF-CB8E-45C5-9C86-013F3C5A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3C5F-05E5-46AD-8D24-475B16D2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C004-2C9C-47CE-B539-2A79D3EB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6ED1-426F-4C38-8926-F09642BD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50920" y="277920"/>
            <a:ext cx="8642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9A03-683D-492B-90FB-5B0ADC93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D5EA-FD10-4264-BBFA-A732831D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61C6-3C39-47B4-9570-80349D43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2A7B-C07B-4FD1-908F-26708253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3ADF-D4FB-4859-800D-37271BFF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EC14-CD7B-44CB-BBF5-F6FFAB44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BA89-FDE8-47E2-BD6E-F66B6CC9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1DF7-33EB-4CFA-8C38-C0A9F95F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8154-9638-493D-BEF4-8ECEDEFD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A7A4-947A-4F6B-890A-04BC159C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B937-1973-4468-BC40-C6A44CC1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50920" y="277920"/>
            <a:ext cx="8642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B7CC-4AC0-47CC-919A-2E9B6434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D85A-B0C1-4F72-9AD5-87DA2869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4AE1-5E16-4E45-B21C-04AF8070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B3B-92F3-4F99-86AA-C46D64AD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F83F-F05F-4090-AA0A-AEC7A658E27D}" type="slidenum">
              <a:rPr b="0" lang="zh-TW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30000"/>
              </a:lnSpc>
              <a:spcBef>
                <a:spcPts val="14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lvl="1" marL="512640" indent="-196920">
              <a:lnSpc>
                <a:spcPct val="130000"/>
              </a:lnSpc>
              <a:spcBef>
                <a:spcPts val="1426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lvl="2" marL="788400" indent="-157680">
              <a:lnSpc>
                <a:spcPct val="130000"/>
              </a:lnSpc>
              <a:spcBef>
                <a:spcPts val="1426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lvl="3" marL="1104120" indent="-157680">
              <a:lnSpc>
                <a:spcPct val="130000"/>
              </a:lnSpc>
              <a:spcBef>
                <a:spcPts val="1426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lvl="4" marL="1419480" indent="-157680">
              <a:lnSpc>
                <a:spcPct val="130000"/>
              </a:lnSpc>
              <a:spcBef>
                <a:spcPts val="1426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lvl="5" marL="1419480" indent="-157680">
              <a:lnSpc>
                <a:spcPct val="130000"/>
              </a:lnSpc>
              <a:spcBef>
                <a:spcPts val="1426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lvl="6" marL="1419480" indent="-157680">
              <a:lnSpc>
                <a:spcPct val="130000"/>
              </a:lnSpc>
              <a:spcBef>
                <a:spcPts val="1426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6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AFB1-AECD-4435-9E4D-1E25B91515C9}" type="slidenum">
              <a:rPr b="0" lang="zh-TW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hyperlink" Target="http://kids.yam.com/mindgame/game1_index.php?cid=4&amp;qid=88" TargetMode="External"/><Relationship Id="rId6" Type="http://schemas.openxmlformats.org/officeDocument/2006/relationships/hyperlink" Target="http://kids.yam.com/mindgame/game1_index.php?cid=4&amp;qid=88" TargetMode="External"/><Relationship Id="rId7" Type="http://schemas.openxmlformats.org/officeDocument/2006/relationships/hyperlink" Target="http://kids.yam.com/mindgame/game1_index.php?cid=4&amp;qid=88" TargetMode="External"/><Relationship Id="rId8" Type="http://schemas.openxmlformats.org/officeDocument/2006/relationships/hyperlink" Target="http://kids.yam.com/mindgame/game1_index.php?cid=4&amp;qid=88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700" spc="-1" strike="noStrike">
                <a:solidFill>
                  <a:srgbClr val="ffffff"/>
                </a:solidFill>
                <a:latin typeface="Arial"/>
              </a:rPr>
              <a:t>三角難題，你選擇愛情或友情？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4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ffffff"/>
                </a:solidFill>
                <a:latin typeface="Verdana"/>
              </a:rPr>
              <a:t>Ｑ：和好朋友共同選購一對象徵友情的戒指，你會選下列哪一種？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1893960" y="3429000"/>
            <a:ext cx="2519280" cy="1295280"/>
          </a:xfrm>
          <a:custGeom>
            <a:avLst/>
            <a:gdLst>
              <a:gd name="textAreaLeft" fmla="*/ 83880 w 2519280"/>
              <a:gd name="textAreaRight" fmla="*/ 2435400 w 25192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42006" h="21600">
                <a:moveTo>
                  <a:pt x="0" y="0"/>
                </a:moveTo>
                <a:lnTo>
                  <a:pt x="42006" y="0"/>
                </a:lnTo>
                <a:lnTo>
                  <a:pt x="42006" y="21600"/>
                </a:lnTo>
                <a:lnTo>
                  <a:pt x="0" y="21600"/>
                </a:lnTo>
                <a:close/>
              </a:path>
              <a:path fill="lightenLess" w="42006" h="21600">
                <a:moveTo>
                  <a:pt x="0" y="0"/>
                </a:moveTo>
                <a:lnTo>
                  <a:pt x="42006" y="0"/>
                </a:lnTo>
                <a:lnTo>
                  <a:pt x="40606" y="1400"/>
                </a:lnTo>
                <a:lnTo>
                  <a:pt x="1400" y="1400"/>
                </a:lnTo>
                <a:close/>
              </a:path>
              <a:path fill="darken" w="42006" h="21600">
                <a:moveTo>
                  <a:pt x="42006" y="0"/>
                </a:moveTo>
                <a:lnTo>
                  <a:pt x="42006" y="21600"/>
                </a:lnTo>
                <a:lnTo>
                  <a:pt x="40606" y="20200"/>
                </a:lnTo>
                <a:lnTo>
                  <a:pt x="40606" y="1400"/>
                </a:lnTo>
                <a:close/>
              </a:path>
              <a:path fill="darkenLess" w="42006" h="21600">
                <a:moveTo>
                  <a:pt x="42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606" y="20200"/>
                </a:lnTo>
                <a:close/>
              </a:path>
              <a:path fill="lighten" w="42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eaeaea"/>
                </a:solidFill>
                <a:latin typeface="Arial"/>
                <a:ea typeface="華康中黑體"/>
              </a:rPr>
              <a:t>華麗且昂貴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eaeaea"/>
                </a:solidFill>
                <a:latin typeface="Arial"/>
                <a:ea typeface="華康中黑體"/>
              </a:rPr>
              <a:t>的戒指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4730760" y="3429000"/>
            <a:ext cx="2519280" cy="1295280"/>
          </a:xfrm>
          <a:custGeom>
            <a:avLst/>
            <a:gdLst>
              <a:gd name="textAreaLeft" fmla="*/ 83880 w 2519280"/>
              <a:gd name="textAreaRight" fmla="*/ 2435400 w 25192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42006" h="21600">
                <a:moveTo>
                  <a:pt x="0" y="0"/>
                </a:moveTo>
                <a:lnTo>
                  <a:pt x="42006" y="0"/>
                </a:lnTo>
                <a:lnTo>
                  <a:pt x="42006" y="21600"/>
                </a:lnTo>
                <a:lnTo>
                  <a:pt x="0" y="21600"/>
                </a:lnTo>
                <a:close/>
              </a:path>
              <a:path fill="lightenLess" w="42006" h="21600">
                <a:moveTo>
                  <a:pt x="0" y="0"/>
                </a:moveTo>
                <a:lnTo>
                  <a:pt x="42006" y="0"/>
                </a:lnTo>
                <a:lnTo>
                  <a:pt x="40606" y="1400"/>
                </a:lnTo>
                <a:lnTo>
                  <a:pt x="1400" y="1400"/>
                </a:lnTo>
                <a:close/>
              </a:path>
              <a:path fill="darken" w="42006" h="21600">
                <a:moveTo>
                  <a:pt x="42006" y="0"/>
                </a:moveTo>
                <a:lnTo>
                  <a:pt x="42006" y="21600"/>
                </a:lnTo>
                <a:lnTo>
                  <a:pt x="40606" y="20200"/>
                </a:lnTo>
                <a:lnTo>
                  <a:pt x="40606" y="1400"/>
                </a:lnTo>
                <a:close/>
              </a:path>
              <a:path fill="darkenLess" w="42006" h="21600">
                <a:moveTo>
                  <a:pt x="42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606" y="20200"/>
                </a:lnTo>
                <a:close/>
              </a:path>
              <a:path fill="lighten" w="42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eaeaea"/>
                </a:solidFill>
                <a:latin typeface="Arial"/>
                <a:ea typeface="華康中黑體"/>
              </a:rPr>
              <a:t>精巧型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eaeaea"/>
                </a:solidFill>
                <a:latin typeface="Arial"/>
                <a:ea typeface="華康中黑體"/>
              </a:rPr>
              <a:t>戒指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1893960" y="5014800"/>
            <a:ext cx="2519280" cy="1295640"/>
          </a:xfrm>
          <a:custGeom>
            <a:avLst/>
            <a:gdLst>
              <a:gd name="textAreaLeft" fmla="*/ 83880 w 2519280"/>
              <a:gd name="textAreaRight" fmla="*/ 2435400 w 251928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41994" h="21600">
                <a:moveTo>
                  <a:pt x="0" y="0"/>
                </a:moveTo>
                <a:lnTo>
                  <a:pt x="41994" y="0"/>
                </a:lnTo>
                <a:lnTo>
                  <a:pt x="41994" y="21600"/>
                </a:lnTo>
                <a:lnTo>
                  <a:pt x="0" y="21600"/>
                </a:lnTo>
                <a:close/>
              </a:path>
              <a:path fill="lightenLess" w="41994" h="21600">
                <a:moveTo>
                  <a:pt x="0" y="0"/>
                </a:moveTo>
                <a:lnTo>
                  <a:pt x="41994" y="0"/>
                </a:lnTo>
                <a:lnTo>
                  <a:pt x="40594" y="1400"/>
                </a:lnTo>
                <a:lnTo>
                  <a:pt x="1400" y="1400"/>
                </a:lnTo>
                <a:close/>
              </a:path>
              <a:path fill="darken" w="41994" h="21600">
                <a:moveTo>
                  <a:pt x="41994" y="0"/>
                </a:moveTo>
                <a:lnTo>
                  <a:pt x="41994" y="21600"/>
                </a:lnTo>
                <a:lnTo>
                  <a:pt x="40594" y="20200"/>
                </a:lnTo>
                <a:lnTo>
                  <a:pt x="40594" y="1400"/>
                </a:lnTo>
                <a:close/>
              </a:path>
              <a:path fill="darkenLess" w="41994" h="21600">
                <a:moveTo>
                  <a:pt x="41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94" y="20200"/>
                </a:lnTo>
                <a:close/>
              </a:path>
              <a:path fill="lighten" w="41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eaeaea"/>
                </a:solidFill>
                <a:latin typeface="Arial"/>
                <a:ea typeface="華康中黑體"/>
              </a:rPr>
              <a:t>豪華的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eaeaea"/>
                </a:solidFill>
                <a:latin typeface="Arial"/>
                <a:ea typeface="華康中黑體"/>
              </a:rPr>
              <a:t>大戒指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>
            <a:hlinkClick r:id="rId4" action="ppaction://hlinksldjump"/>
          </p:cNvPr>
          <p:cNvSpPr/>
          <p:nvPr/>
        </p:nvSpPr>
        <p:spPr>
          <a:xfrm>
            <a:off x="4730760" y="5014800"/>
            <a:ext cx="2519280" cy="1295640"/>
          </a:xfrm>
          <a:custGeom>
            <a:avLst/>
            <a:gdLst>
              <a:gd name="textAreaLeft" fmla="*/ 83880 w 2519280"/>
              <a:gd name="textAreaRight" fmla="*/ 2435400 w 251928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41994" h="21600">
                <a:moveTo>
                  <a:pt x="0" y="0"/>
                </a:moveTo>
                <a:lnTo>
                  <a:pt x="41994" y="0"/>
                </a:lnTo>
                <a:lnTo>
                  <a:pt x="41994" y="21600"/>
                </a:lnTo>
                <a:lnTo>
                  <a:pt x="0" y="21600"/>
                </a:lnTo>
                <a:close/>
              </a:path>
              <a:path fill="lightenLess" w="41994" h="21600">
                <a:moveTo>
                  <a:pt x="0" y="0"/>
                </a:moveTo>
                <a:lnTo>
                  <a:pt x="41994" y="0"/>
                </a:lnTo>
                <a:lnTo>
                  <a:pt x="40594" y="1400"/>
                </a:lnTo>
                <a:lnTo>
                  <a:pt x="1400" y="1400"/>
                </a:lnTo>
                <a:close/>
              </a:path>
              <a:path fill="darken" w="41994" h="21600">
                <a:moveTo>
                  <a:pt x="41994" y="0"/>
                </a:moveTo>
                <a:lnTo>
                  <a:pt x="41994" y="21600"/>
                </a:lnTo>
                <a:lnTo>
                  <a:pt x="40594" y="20200"/>
                </a:lnTo>
                <a:lnTo>
                  <a:pt x="40594" y="1400"/>
                </a:lnTo>
                <a:close/>
              </a:path>
              <a:path fill="darkenLess" w="41994" h="21600">
                <a:moveTo>
                  <a:pt x="41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94" y="20200"/>
                </a:lnTo>
                <a:close/>
              </a:path>
              <a:path fill="lighten" w="41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eaeaea"/>
                </a:solidFill>
                <a:latin typeface="Arial"/>
                <a:ea typeface="華康中黑體"/>
              </a:rPr>
              <a:t>可愛型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eaeaea"/>
                </a:solidFill>
                <a:latin typeface="Arial"/>
                <a:ea typeface="華康中黑體"/>
              </a:rPr>
              <a:t>戒指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06680" y="6494400"/>
            <a:ext cx="2305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eaeaea"/>
                </a:solidFill>
                <a:latin typeface="Arial"/>
                <a:ea typeface="華康細黑體"/>
              </a:rPr>
              <a:t>資料來源：</a:t>
            </a:r>
            <a:r>
              <a:rPr b="0" lang="zh-TW" sz="1800" spc="-1" strike="noStrike" u="sng">
                <a:solidFill>
                  <a:srgbClr val="eec85e"/>
                </a:solidFill>
                <a:uFillTx/>
                <a:latin typeface="Arial"/>
                <a:ea typeface="華康細黑體"/>
                <a:hlinkClick r:id="rId5"/>
              </a:rPr>
              <a:t>『</a:t>
            </a:r>
            <a:r>
              <a:rPr b="0" lang="zh-TW" sz="1800" spc="-1" strike="noStrike" u="sng">
                <a:solidFill>
                  <a:srgbClr val="eec85e"/>
                </a:solidFill>
                <a:uFillTx/>
                <a:latin typeface="Arial"/>
                <a:ea typeface="華康細黑體"/>
                <a:hlinkClick r:id="rId6"/>
              </a:rPr>
              <a:t>小蕃薯心理測驗</a:t>
            </a:r>
            <a:r>
              <a:rPr b="0" lang="zh-TW" sz="1800" spc="-1" strike="noStrike" u="sng">
                <a:solidFill>
                  <a:srgbClr val="eec85e"/>
                </a:solidFill>
                <a:uFillTx/>
                <a:latin typeface="Arial"/>
                <a:ea typeface="華康細黑體"/>
                <a:hlinkClick r:id="rId7"/>
              </a:rPr>
              <a:t>』</a:t>
            </a:r>
            <a:r>
              <a:rPr b="0" lang="zh-TW" sz="1800" spc="-1" strike="noStrike" u="sng">
                <a:solidFill>
                  <a:srgbClr val="eec85e"/>
                </a:solidFill>
                <a:uFillTx/>
                <a:latin typeface="Arial"/>
                <a:ea typeface="華康細黑體"/>
                <a:hlinkClick r:id="rId8"/>
              </a:rPr>
              <a:t>網站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700" spc="-1" strike="noStrike">
                <a:solidFill>
                  <a:srgbClr val="ffffff"/>
                </a:solidFill>
                <a:latin typeface="Arial"/>
              </a:rPr>
              <a:t>華麗且昂貴的戒指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4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ffffff"/>
                </a:solidFill>
                <a:latin typeface="Verdana"/>
              </a:rPr>
              <a:t>你是標準的有異性沒人性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4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ffffff"/>
                </a:solidFill>
                <a:latin typeface="Verdana"/>
              </a:rPr>
              <a:t>愛情和友情兩個讓你選，最終你選的一定是愛情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700" spc="-1" strike="noStrike">
                <a:solidFill>
                  <a:srgbClr val="ffffff"/>
                </a:solidFill>
                <a:latin typeface="Arial"/>
              </a:rPr>
              <a:t>精巧型戒指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4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ffffff"/>
                </a:solidFill>
                <a:latin typeface="Verdana"/>
              </a:rPr>
              <a:t>你重視愛情較友情多那麼一點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4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ffffff"/>
                </a:solidFill>
                <a:latin typeface="Verdana"/>
              </a:rPr>
              <a:t>雖不見得有了愛人忘了朋友，但你的心始終偏向愛人那邊的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700" spc="-1" strike="noStrike">
                <a:solidFill>
                  <a:srgbClr val="ffffff"/>
                </a:solidFill>
                <a:latin typeface="Arial"/>
              </a:rPr>
              <a:t>豪華的大戒指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4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ffffff"/>
                </a:solidFill>
                <a:latin typeface="Verdana"/>
              </a:rPr>
              <a:t>唯我獨尊型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4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ffffff"/>
                </a:solidFill>
                <a:latin typeface="Verdana"/>
              </a:rPr>
              <a:t>你是依照自己心思走的人，愛情、友情都沒有你個人重要，其實你最愛的是自己，所以一旦愛上了，就算對方是朋友的情人，也不會放棄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700" spc="-1" strike="noStrike">
                <a:solidFill>
                  <a:srgbClr val="ffffff"/>
                </a:solidFill>
                <a:latin typeface="Arial"/>
              </a:rPr>
              <a:t>可愛型戒指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4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ffffff"/>
                </a:solidFill>
                <a:latin typeface="Verdana"/>
              </a:rPr>
              <a:t>愛情、友情一樣重要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4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ffffff"/>
                </a:solidFill>
                <a:latin typeface="Verdana"/>
              </a:rPr>
              <a:t>你是那種就算有了情人，還是會在朋友需要時，適時出現。對你而言，朋友、愛人一樣重要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02:42:37Z</dcterms:created>
  <dc:creator>E052</dc:creator>
  <dc:description/>
  <dc:language>en-US</dc:language>
  <cp:lastModifiedBy>Administrator</cp:lastModifiedBy>
  <dcterms:modified xsi:type="dcterms:W3CDTF">2010-12-10T01:24:22Z</dcterms:modified>
  <cp:revision>7</cp:revision>
  <dc:subject/>
  <dc:title>投影片 1</dc:title>
</cp:coreProperties>
</file>