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E174-8B78-4B0D-8324-AA4070A4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5F40-ED12-4282-B3DF-14A4A331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8962-BEFB-4F3C-8224-D1CBB45B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3A29-21D2-431C-A608-EA1ECAD6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DA12-D5E2-41CC-AF10-28333ADE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spcAft>
                <a:spcPts val="31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7129-78FE-47B8-9308-30A03741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86E3-8D2C-410D-9F3E-AD3FB5E7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EE06-1F30-4694-B3A7-B1C315FF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C704-0468-4FEE-A7DA-C831D147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89000"/>
            <a:ext cx="822960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spcAft>
                <a:spcPts val="31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8BEA-E4AC-450D-877F-5EDB26A5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17AC-9048-4C78-B0D1-156942A8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spcAft>
                <a:spcPts val="31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AEE9-7B8D-4F35-9859-B2B85B37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D277-1090-44BA-8A6C-C3B5B5AB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A2E6-1E8B-43AF-B78C-974F3FDC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7C62-394E-499A-A107-F21B958D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18C0-1107-44DC-ADEC-30F2D046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2E71-1B8A-46CE-9237-B45D2829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BD3E-C8FA-4138-928D-467BA18D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7A6-AF77-446C-A931-01C00449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F31E-5A99-4714-8D79-F3464550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89000"/>
            <a:ext cx="822960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spcAft>
                <a:spcPts val="31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683F-F1C8-4F4D-9641-41308A5B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2279-309E-4D3F-B024-BAD0CE5F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5000-2831-4FE9-8AA2-FEDA7D6D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66B-B8B9-4F8F-ADE5-F1CA6C89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356040" indent="-356040">
              <a:spcBef>
                <a:spcPts val="901"/>
              </a:spcBef>
              <a:spcAft>
                <a:spcPts val="2251"/>
              </a:spcAft>
              <a:buClr>
                <a:srgbClr val="cc33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7800" indent="-191160">
              <a:spcBef>
                <a:spcPts val="9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53000">
              <a:spcBef>
                <a:spcPts val="9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214640" indent="-153000">
              <a:spcBef>
                <a:spcPts val="9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487880" indent="-153000">
              <a:spcBef>
                <a:spcPts val="9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487880" indent="-153000">
              <a:spcBef>
                <a:spcPts val="9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487880" indent="-153000">
              <a:spcBef>
                <a:spcPts val="9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08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8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8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7D80-BACC-4CA5-A2B8-0C748590F2CA}" type="slidenum"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268280"/>
            <a:ext cx="8207280" cy="73080"/>
          </a:xfrm>
          <a:prstGeom prst="rect">
            <a:avLst/>
          </a:prstGeom>
          <a:gradFill rotWithShape="0">
            <a:gsLst>
              <a:gs pos="0">
                <a:srgbClr val="f5dad2"/>
              </a:gs>
              <a:gs pos="100000">
                <a:srgbClr val="cc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1844640"/>
            <a:ext cx="5977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BA8F-9B86-45E9-A789-CE3E15A74A4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1250"/>
              </a:spcBef>
              <a:spcAft>
                <a:spcPts val="31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0"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04600" indent="230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6720" indent="1872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9200" indent="14364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9200" indent="1436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9200" indent="1436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1844640"/>
            <a:ext cx="5977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400" spc="-1" strike="noStrike">
                <a:solidFill>
                  <a:srgbClr val="cc3300"/>
                </a:solidFill>
                <a:latin typeface="Arial"/>
              </a:rPr>
              <a:t>海洋公園之旅</a:t>
            </a:r>
            <a:endParaRPr b="0" lang="en-US" sz="7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78920" y="3343320"/>
            <a:ext cx="5977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250"/>
              </a:spcBef>
              <a:spcAft>
                <a:spcPts val="31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0000"/>
                </a:solidFill>
                <a:latin typeface="Arial"/>
              </a:rPr>
              <a:t>畢旅記趣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443640" y="1413000"/>
            <a:ext cx="2119320" cy="1589040"/>
          </a:xfrm>
          <a:prstGeom prst="rect">
            <a:avLst/>
          </a:prstGeom>
          <a:ln w="63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443640" y="3562200"/>
            <a:ext cx="2124000" cy="1594080"/>
          </a:xfrm>
          <a:prstGeom prst="rect">
            <a:avLst/>
          </a:prstGeom>
          <a:ln w="63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cc3300"/>
                </a:solidFill>
                <a:latin typeface="Arial"/>
              </a:rPr>
              <a:t>旅遊紀錄</a:t>
            </a: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901"/>
              </a:spcBef>
              <a:spcAft>
                <a:spcPts val="2251"/>
              </a:spcAft>
              <a:buClr>
                <a:srgbClr val="cc33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時間：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／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（日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spcBef>
                <a:spcPts val="901"/>
              </a:spcBef>
              <a:spcAft>
                <a:spcPts val="2251"/>
              </a:spcAft>
              <a:buClr>
                <a:srgbClr val="cc33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地點：海洋公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spcBef>
                <a:spcPts val="901"/>
              </a:spcBef>
              <a:spcAft>
                <a:spcPts val="2251"/>
              </a:spcAft>
              <a:buClr>
                <a:srgbClr val="cc33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我們這次以一天的時間玩遍八大主題區，雖然很累，但也很盡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spcBef>
                <a:spcPts val="901"/>
              </a:spcBef>
              <a:spcAft>
                <a:spcPts val="2251"/>
              </a:spcAft>
              <a:buClr>
                <a:srgbClr val="cc33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接著就來看看這次的旅遊紀錄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cc3300"/>
                </a:solidFill>
                <a:latin typeface="Arial"/>
              </a:rPr>
              <a:t>海洋公園吉祥物</a:t>
            </a: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4392720" cy="3294000"/>
          </a:xfrm>
          <a:prstGeom prst="rect">
            <a:avLst/>
          </a:prstGeom>
          <a:ln w="1015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1" name=""/>
          <p:cNvSpPr/>
          <p:nvPr/>
        </p:nvSpPr>
        <p:spPr>
          <a:xfrm>
            <a:off x="5364000" y="1773360"/>
            <a:ext cx="252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華康細圓體"/>
              </a:rPr>
              <a:t>海洋公園招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282920" y="2798640"/>
            <a:ext cx="4391280" cy="3294360"/>
          </a:xfrm>
          <a:prstGeom prst="rect">
            <a:avLst/>
          </a:prstGeom>
          <a:ln w="1015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93" name=""/>
          <p:cNvSpPr/>
          <p:nvPr/>
        </p:nvSpPr>
        <p:spPr>
          <a:xfrm>
            <a:off x="2338560" y="558972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吉祥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742560" y="5769720"/>
            <a:ext cx="288720" cy="217440"/>
          </a:xfrm>
          <a:prstGeom prst="triangle">
            <a:avLst>
              <a:gd name="adj" fmla="val 500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5112720" y="1951920"/>
            <a:ext cx="288720" cy="217440"/>
          </a:xfrm>
          <a:prstGeom prst="triangle">
            <a:avLst>
              <a:gd name="adj" fmla="val 500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cc3300"/>
                </a:solidFill>
                <a:latin typeface="Arial"/>
              </a:rPr>
              <a:t>海洋劇場的表演</a:t>
            </a: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0" t="0" r="10726" b="10768"/>
          <a:stretch/>
        </p:blipFill>
        <p:spPr>
          <a:xfrm>
            <a:off x="468360" y="1844640"/>
            <a:ext cx="4179960" cy="3133800"/>
          </a:xfrm>
          <a:prstGeom prst="rect">
            <a:avLst/>
          </a:prstGeom>
          <a:ln w="1015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272120" y="2790720"/>
            <a:ext cx="4402080" cy="3302280"/>
          </a:xfrm>
          <a:prstGeom prst="rect">
            <a:avLst/>
          </a:prstGeom>
          <a:ln w="1015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9" name=""/>
          <p:cNvSpPr/>
          <p:nvPr/>
        </p:nvSpPr>
        <p:spPr>
          <a:xfrm>
            <a:off x="1979640" y="5589720"/>
            <a:ext cx="18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華康細圓體"/>
              </a:rPr>
              <a:t>海獅表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8360" y="1700280"/>
            <a:ext cx="2879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華康細圓體"/>
              </a:rPr>
              <a:t>海豚秀是園區最吸引人的表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742560" y="5769720"/>
            <a:ext cx="288720" cy="217440"/>
          </a:xfrm>
          <a:prstGeom prst="triangle">
            <a:avLst>
              <a:gd name="adj" fmla="val 500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4823280" y="1879920"/>
            <a:ext cx="289080" cy="217440"/>
          </a:xfrm>
          <a:prstGeom prst="triangle">
            <a:avLst>
              <a:gd name="adj" fmla="val 500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cc3300"/>
                </a:solidFill>
                <a:latin typeface="Arial"/>
              </a:rPr>
              <a:t>中場休息</a:t>
            </a: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901"/>
              </a:spcBef>
              <a:spcAft>
                <a:spcPts val="2251"/>
              </a:spcAft>
              <a:buClr>
                <a:srgbClr val="cc33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上午的行程就在觀賞海洋劇場後結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spcBef>
                <a:spcPts val="901"/>
              </a:spcBef>
              <a:spcAft>
                <a:spcPts val="2251"/>
              </a:spcAft>
              <a:buClr>
                <a:srgbClr val="cc33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我的午餐，看起來很好吃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849400" y="3649680"/>
            <a:ext cx="3445200" cy="2587680"/>
          </a:xfrm>
          <a:prstGeom prst="rect">
            <a:avLst/>
          </a:prstGeom>
          <a:ln w="1015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cc3300"/>
                </a:solidFill>
                <a:latin typeface="Arial"/>
              </a:rPr>
              <a:t>美麗的天花板裝飾</a:t>
            </a: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901"/>
              </a:spcBef>
              <a:spcAft>
                <a:spcPts val="2251"/>
              </a:spcAft>
              <a:buClr>
                <a:srgbClr val="cc33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主題館中設置許多海底生物吊飾，抬起頭就可以看到海底世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3278160"/>
            <a:ext cx="3749760" cy="2814840"/>
          </a:xfrm>
          <a:prstGeom prst="rect">
            <a:avLst/>
          </a:prstGeom>
          <a:ln w="1015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924440" y="3278160"/>
            <a:ext cx="3749760" cy="2814840"/>
          </a:xfrm>
          <a:prstGeom prst="rect">
            <a:avLst/>
          </a:prstGeom>
          <a:ln w="1015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cc3300"/>
                </a:solidFill>
                <a:latin typeface="Arial"/>
              </a:rPr>
              <a:t>別具特色的招牌</a:t>
            </a: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901"/>
              </a:spcBef>
              <a:spcAft>
                <a:spcPts val="2251"/>
              </a:spcAft>
              <a:buClr>
                <a:srgbClr val="cc33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在逛園區時，發現每一間商店的招牌設計都具有中世紀海港的風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3429000" cy="257328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245200" y="3284640"/>
            <a:ext cx="3429000" cy="257328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843280" y="3879720"/>
            <a:ext cx="3429000" cy="257364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cc3300"/>
                </a:solidFill>
                <a:latin typeface="Arial"/>
              </a:rPr>
              <a:t>熱鬧的遊行活動</a:t>
            </a: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901"/>
              </a:spcBef>
              <a:spcAft>
                <a:spcPts val="2251"/>
              </a:spcAft>
              <a:buClr>
                <a:srgbClr val="cc33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這是公園內定時舉辦的海洋生物大遊行，我個人最喜歡海馬拉的 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馬車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3429000" cy="257328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45200" y="3284640"/>
            <a:ext cx="3429000" cy="257328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771640" y="3879720"/>
            <a:ext cx="3429000" cy="257364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cc3300"/>
                </a:solidFill>
                <a:latin typeface="Arial"/>
              </a:rPr>
              <a:t>感想</a:t>
            </a:r>
            <a:endParaRPr b="0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901"/>
              </a:spcBef>
              <a:spcAft>
                <a:spcPts val="2251"/>
              </a:spcAft>
              <a:buClr>
                <a:srgbClr val="cc33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這次的海洋公園之旅實在是太好玩了，不論是風景、遊樂器材或是表演，每一項都讓我回味無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spcBef>
                <a:spcPts val="901"/>
              </a:spcBef>
              <a:spcAft>
                <a:spcPts val="2251"/>
              </a:spcAft>
              <a:buClr>
                <a:srgbClr val="cc33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雖然我很努力得玩，但是只有一天實在不夠用，下次找機會大家再去一次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6:21:49Z</dcterms:created>
  <dc:creator>user</dc:creator>
  <dc:description/>
  <dc:language>en-US</dc:language>
  <cp:lastModifiedBy>Administrator</cp:lastModifiedBy>
  <dcterms:modified xsi:type="dcterms:W3CDTF">2010-10-21T09:29:17Z</dcterms:modified>
  <cp:revision>36</cp:revision>
  <dc:subject/>
  <dc:title>海洋公園之旅</dc:title>
</cp:coreProperties>
</file>