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F14-D8E3-4FC5-AD2E-C010A76E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771516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4356360"/>
            <a:ext cx="771516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5B3-0206-4ACF-BBCA-D70F8328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242100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435636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435636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D75-52E2-41A3-8509-3FF56F67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24840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2421000"/>
            <a:ext cx="24840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421000"/>
            <a:ext cx="24840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4356360"/>
            <a:ext cx="24840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4356360"/>
            <a:ext cx="24840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356360"/>
            <a:ext cx="24840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0E8-5DDB-4C3B-9008-39645A21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71516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238-2C88-4C03-9FAD-C3A8E1DD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7715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E9E-C6CC-457D-91CA-B1C54EB6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3764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2421000"/>
            <a:ext cx="3764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2A1-45E6-47A0-8C47-E0D3083B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6BC-A333-4289-A711-41F184EF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5C9-B83E-4C22-9D93-B91C3183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2421000"/>
            <a:ext cx="3764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435636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F51-F171-442F-892E-F1DE326D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3764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242100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435636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E1D-DF29-49A8-8BB8-CA9273E0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2421000"/>
            <a:ext cx="376488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4356360"/>
            <a:ext cx="771516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7E4-D9F7-4C66-929F-4B80CCD8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2421000"/>
            <a:ext cx="7715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302760" indent="-302760">
              <a:spcBef>
                <a:spcPts val="901"/>
              </a:spcBef>
              <a:spcAft>
                <a:spcPts val="2251"/>
              </a:spcAft>
              <a:buClr>
                <a:srgbClr val="008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16272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800640" indent="-12996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033200" indent="-12996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65760" indent="-12996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265760" indent="-12996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265760" indent="-12996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7CA2-56F0-4D1B-B750-ABDC19B3DB7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8000"/>
                </a:solidFill>
                <a:latin typeface="Arial"/>
              </a:rPr>
              <a:t>四葉幸運草</a:t>
            </a:r>
            <a:endParaRPr b="0" lang="en-US" sz="7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421000"/>
            <a:ext cx="4790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008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片葉子代表真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008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片葉子代表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008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片葉子代表名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008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片葉子代表財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7:46:11Z</dcterms:created>
  <dc:creator>Administrator</dc:creator>
  <dc:description/>
  <dc:language>en-US</dc:language>
  <cp:lastModifiedBy>Administrator</cp:lastModifiedBy>
  <dcterms:modified xsi:type="dcterms:W3CDTF">2010-12-09T09:50:35Z</dcterms:modified>
  <cp:revision>7</cp:revision>
  <dc:subject/>
  <dc:title>四片幸運草</dc:title>
</cp:coreProperties>
</file>