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zh-TW" sz="13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022400" y="4849920"/>
            <a:ext cx="511344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6980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zh-TW" sz="13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1436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zh-TW" sz="13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5F063EA-CAF2-4AE8-AA52-9D6B75D99286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22400" y="4849920"/>
            <a:ext cx="511344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絃樂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小提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in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中提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大提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oncello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低音提琴 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ss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木管樂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長笛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雙簧管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oe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單簧管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net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低音管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soon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銅管樂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小號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mpet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長號（伸縮喇叭） 、法國號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nch Horn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低音號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a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鍵盤樂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大鍵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sichord / Cembalo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鋼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、管風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4CB-EA2E-4573-974F-6E03421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8D1-9A6E-4795-A536-530D6AEE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7B-8684-4239-AAF0-622FBFF6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038-E595-4550-8260-C4B0DA0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359-DBC8-4AB4-A9FB-D32DA2A7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2B6-BF41-4413-B8DA-2886FEA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640-29F2-4C57-83D7-F08F557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704-41C5-4895-BC0F-DDB0307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9A3-8A70-476C-ABA0-2D6E75FD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9B0-FDBF-49D4-B0C4-2D3C5E29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33F-FC19-4E4B-B918-5C1E269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A16-3B8D-4351-9EE5-78CAF74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FD0-53CE-4492-BBA9-454593F8B24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8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87640" y="551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95280" y="551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781440" y="5516640"/>
            <a:ext cx="151452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5473800" y="5518080"/>
            <a:ext cx="1511280" cy="1006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" name="" descr=""/>
          <p:cNvPicPr/>
          <p:nvPr/>
        </p:nvPicPr>
        <p:blipFill>
          <a:blip r:embed="rId6"/>
          <a:srcRect l="0" t="0" r="0" b="7717"/>
          <a:stretch/>
        </p:blipFill>
        <p:spPr>
          <a:xfrm>
            <a:off x="7164360" y="5516640"/>
            <a:ext cx="1525680" cy="100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認識樂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班 級：二年五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姓 名：莫 雜 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8366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華康細圓體"/>
              </a:rPr>
              <a:t>音樂課期末報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音樂的魔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使人放鬆心情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523200">
            <a:off x="5959080" y="2346480"/>
            <a:ext cx="2497320" cy="17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896-2A3B-43F1-86E1-9EF490379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奏樂器（又稱敲擊樂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40400" y="2071800"/>
            <a:ext cx="305424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BB0-1F84-4EB3-ADC5-AFF18D105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73840" y="2421000"/>
            <a:ext cx="2630520" cy="179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09840" y="2421000"/>
            <a:ext cx="255924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70E-D41A-4C99-BCF3-D67809C3D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09840" y="2421000"/>
            <a:ext cx="255924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973840" y="2421000"/>
            <a:ext cx="2630520" cy="180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酒瓶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925-4CD0-4226-ABFC-1A11A7950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基本樂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85000" y="2003400"/>
            <a:ext cx="26985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8F7-56B2-4C0B-9B4B-7770B8CE8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3:53:50Z</dcterms:created>
  <dc:creator>sea</dc:creator>
  <dc:description/>
  <cp:keywords/>
  <dc:language>en-US</dc:language>
  <cp:lastModifiedBy>Administrator</cp:lastModifiedBy>
  <dcterms:modified xsi:type="dcterms:W3CDTF">2010-11-19T10:09:26Z</dcterms:modified>
  <cp:revision>33</cp:revision>
  <dc:subject/>
  <dc:title>認識樂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81028</vt:lpwstr>
  </property>
</Properties>
</file>