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456-4DF6-423A-8659-8A8259C0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5614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4171680"/>
            <a:ext cx="75614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129-DE3F-4418-A517-D3FA9BC4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60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1B5-10DB-48B9-B56A-EE57F7CC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34900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360" y="234900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417168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7168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360" y="417168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3A9-8ABB-4B2F-9FD0-EB675BFF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AD11-52B2-4EAA-B9FC-5BA69454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920" y="2349000"/>
            <a:ext cx="7561440" cy="34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46A-14DD-47C2-B571-87D4871B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561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121E-27A9-48A9-AC35-17B6C246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F0A4-A37F-451A-9B7B-BAD29506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DACC-4FC0-4C6B-B879-724B43B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620280"/>
            <a:ext cx="493236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3681-93E8-453C-88D8-E3CCA0F3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692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68C8-2A50-4F47-90EA-B044A92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2349000"/>
            <a:ext cx="7561440" cy="34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343-E95C-47E1-BE55-C2CB67FB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60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3941-D823-4D2B-B147-25099E7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6920" y="4171680"/>
            <a:ext cx="75614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3591-A2AF-416B-A7FB-4FCDCDA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5614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6920" y="4171680"/>
            <a:ext cx="75614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1F81-F9FC-4316-A603-DE7C7EAB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692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60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428-5EB0-4E74-8CE7-C677594B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3640" y="234900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360" y="234900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6920" y="417168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3640" y="417168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360" y="4171680"/>
            <a:ext cx="243468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DD43-CDAA-42D3-8FFE-23C1300E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561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99C-BCBB-4DBA-9A6E-61D6A6D4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001-5255-43B5-8963-6118C5AB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8B5-3FC1-4FF8-82C0-D5143174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620280"/>
            <a:ext cx="493236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87E-96B7-4B1B-8BD6-8A8E0162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110-A760-47F8-A543-A39BB491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600" y="417168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AE1-E1E7-4C95-812B-A7DE195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526320"/>
            <a:ext cx="4932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600" y="2349000"/>
            <a:ext cx="36896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4171680"/>
            <a:ext cx="7561440" cy="16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ED4-BD72-4DCD-A2D4-E16F7D9F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3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華康中特圓體"/>
              </a:rPr>
              <a:t>Click to edit the title text format</a:t>
            </a: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2349000"/>
            <a:ext cx="7561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  <a:p>
            <a:pPr lvl="1" marL="623880" indent="-2397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  <a:p>
            <a:pPr lvl="2" marL="960120" indent="-19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  <a:p>
            <a:pPr lvl="3" marL="1343880" indent="-19188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  <a:p>
            <a:pPr lvl="4" marL="1728000" indent="-19188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128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733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3840" y="6244920"/>
            <a:ext cx="1722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FECB-BED6-4305-B0EA-B110EAD50ED7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華康中特圓體"/>
              </a:rPr>
              <a:t>Click to edit the title text format</a:t>
            </a:r>
            <a:endParaRPr b="0" lang="en-US" sz="8000" spc="-1" strike="noStrike">
              <a:solidFill>
                <a:srgbClr val="663300"/>
              </a:solidFill>
              <a:latin typeface="華康中特圓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84B0-FD47-4428-97A7-4C1B9965F4DF}" type="slidenum">
              <a:rPr b="0" lang="ja-JP" sz="1400" spc="-1" strike="noStrike">
                <a:solidFill>
                  <a:srgbClr val="000066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圓體(P)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中圓體(P)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華康中圓體(P)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華康中圓體(P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華康中圓體(P)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華康中圓體(P)"/>
            </a:endParaRPr>
          </a:p>
          <a:p>
            <a:pPr lvl="3" marL="1371600" algn="ctr">
              <a:spcBef>
                <a:spcPts val="499"/>
              </a:spcBef>
              <a:buClr>
                <a:srgbClr val="6699ff"/>
              </a:buClr>
              <a:buFont typeface="Arial"/>
              <a:buChar char="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圓體(P)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華康中圓體(P)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圓體(P)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華康中圓體(P)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圓體(P)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華康中圓體(P)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圓體(P)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華康中圓體(P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圓體(P)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663300"/>
                </a:solidFill>
                <a:latin typeface="華康中特圓體"/>
              </a:rPr>
              <a:t>蝴蝶生態觀察</a:t>
            </a:r>
            <a:endParaRPr b="0" lang="en-US" sz="8000" spc="-1" strike="noStrike">
              <a:solidFill>
                <a:srgbClr val="663300"/>
              </a:solidFill>
              <a:latin typeface="華康中特圓體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3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3300"/>
                </a:solidFill>
                <a:latin typeface="華康中特圓體"/>
              </a:rPr>
              <a:t>蝴蝶生態觀察</a:t>
            </a:r>
            <a:endParaRPr b="0" lang="en-US" sz="4800" spc="-1" strike="noStrike">
              <a:solidFill>
                <a:srgbClr val="663300"/>
              </a:solidFill>
              <a:latin typeface="華康中特圓體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8:57:49Z</dcterms:created>
  <dc:creator>E063</dc:creator>
  <dc:description/>
  <dc:language>en-US</dc:language>
  <cp:lastModifiedBy>Administrator</cp:lastModifiedBy>
  <dcterms:modified xsi:type="dcterms:W3CDTF">2010-11-30T09:43:39Z</dcterms:modified>
  <cp:revision>41</cp:revision>
  <dc:subject/>
  <dc:title>蝴蝶生態觀察</dc:title>
</cp:coreProperties>
</file>