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BA8-E141-4EED-9EE0-6F888BE9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7ED-8158-4554-AAF8-E8823E93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2D2-1F7D-4DB9-A814-7089346D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3A8-0E22-492E-B3D2-179033C5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9684-61E6-4541-B9BF-2BAD28A8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B417-6604-4B1E-B225-7AC9F74B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D559-9AA2-4A6E-A4A2-8844F63C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1FA3-3DA6-48D5-BABA-2B3984AE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C833-BB33-4AF2-A9D6-B1FED956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63A4-99F4-4D10-81FB-C8A48D00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BB7F-A940-43F3-8405-727060F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47D-891B-4247-A5BC-C7A3CC4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68A3-0511-45E6-B1B3-B3A6ED50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F1F6-57E9-4789-ACD5-E21408F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8E8F-D496-4FCC-BE66-6A52149F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40FD-9116-4D4D-B15A-F47B8D63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69A2-B577-4A07-852C-511A64AA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16E-AD3E-4C76-AE3C-01D834E2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E2F-7FFF-49C3-9F0D-A44F36A6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874-5F09-4CEF-91B2-36E3F2AA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D52-3C97-4D56-A5DA-29CD0F28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963-3E3B-47B0-BC37-AE76919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35E-F113-4897-BA60-6C4C85C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2E1-8AF8-4AE9-B2E4-183B2B4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4959-F206-41F1-A6C5-457A99E81822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3E2-9C0D-44F4-B14B-82C1FA0E1C43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260280"/>
            <a:ext cx="446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Arial"/>
                <a:ea typeface="華康細圓體"/>
              </a:rPr>
              <a:t>小論文作品簡報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報告人：林志誠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目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勘亭流"/>
              </a:rPr>
              <a:t>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研究動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研究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勘亭流"/>
              </a:rPr>
              <a:t>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雲端運算的起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雲端運算的簡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雲端的定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雲端的應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雲端運算的優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勘亭流"/>
              </a:rPr>
              <a:t>結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勘亭流"/>
              </a:rPr>
              <a:t>引註資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3640" y="422100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3:29:49Z</dcterms:created>
  <dc:creator>Administrator</dc:creator>
  <dc:description/>
  <dc:language>en-US</dc:language>
  <cp:lastModifiedBy>Administrator</cp:lastModifiedBy>
  <dcterms:modified xsi:type="dcterms:W3CDTF">2010-12-01T02:43:43Z</dcterms:modified>
  <cp:revision>17</cp:revision>
  <dc:subject/>
  <dc:title>迎接雲端新生活</dc:title>
</cp:coreProperties>
</file>