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F818-767A-4431-A483-55EB36F9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76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7280" y="3971880"/>
            <a:ext cx="76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1FB1-5667-4449-87E6-4FDE155A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832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397188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8320" y="397188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12A7-E63A-4979-A5B8-59C8FCFC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7760" y="137592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8600" y="137592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7280" y="397188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7760" y="397188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8600" y="397188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75A2-2D49-4D73-955C-3A2E06A6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07AA-D9A4-48DB-AE42-421677E2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87280" y="1375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448A5-1D4F-4F48-9386-CB9E96EE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AE9ED-E182-4769-A690-EEE2E2AF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3724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8320" y="1375920"/>
            <a:ext cx="3724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3919-C612-4532-88D6-0E445FFA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95325-B6F4-43E6-AC05-193FFC67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23640" y="115560"/>
            <a:ext cx="756108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46FDD-F362-4AB5-AD2D-0633EC09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8320" y="1375920"/>
            <a:ext cx="3724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87280" y="397188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14F49-EE9A-4192-90B8-5A5E47B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7280" y="1375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1B4A-288A-4D12-9409-20CFAC3D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3724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832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98320" y="397188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983CF-24B0-48A8-B003-F5AC6D41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832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7280" y="3971880"/>
            <a:ext cx="76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2DAEE-A99D-434F-BABD-C6312B1C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76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87280" y="3971880"/>
            <a:ext cx="76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F2F6A-274C-4640-8ECC-1883BED2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9832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7280" y="397188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98320" y="397188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C577B-8515-4215-8702-B50A57C0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7760" y="137592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48600" y="137592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87280" y="397188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7760" y="397188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48600" y="3971880"/>
            <a:ext cx="2457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38AFA-56DF-49DB-A625-16F81990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68E7-5BEB-43B4-9CB3-95C0BE0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3724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8320" y="1375920"/>
            <a:ext cx="3724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EEED-17AE-4D7D-B1AD-161205EF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CE4D-F0DA-4DCB-A264-D1B14020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23640" y="115560"/>
            <a:ext cx="756108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AFF8-1051-4D9C-A306-8192F2F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8320" y="1375920"/>
            <a:ext cx="3724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7280" y="397188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DB0F-B35A-4940-BE31-2D3A80D0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3724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832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8320" y="397188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242F-9E35-4BEE-9B76-5BB0DE19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8320" y="1375920"/>
            <a:ext cx="3724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7280" y="3971880"/>
            <a:ext cx="7632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D751-4C9D-4B74-A358-2908B50D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375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0560" indent="-43056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1" marL="910080" indent="-334080">
              <a:lnSpc>
                <a:spcPct val="120000"/>
              </a:lnSpc>
              <a:spcBef>
                <a:spcPts val="2126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2" marL="1240560" indent="-185040">
              <a:lnSpc>
                <a:spcPct val="120000"/>
              </a:lnSpc>
              <a:spcBef>
                <a:spcPts val="2126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3" marL="1571400" indent="-185040">
              <a:lnSpc>
                <a:spcPct val="120000"/>
              </a:lnSpc>
              <a:spcBef>
                <a:spcPts val="2126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4" marL="1901520" indent="-185040">
              <a:lnSpc>
                <a:spcPct val="120000"/>
              </a:lnSpc>
              <a:spcBef>
                <a:spcPts val="2126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5" marL="1901520" indent="-185040">
              <a:lnSpc>
                <a:spcPct val="120000"/>
              </a:lnSpc>
              <a:spcBef>
                <a:spcPts val="2126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6" marL="1901520" indent="-185040">
              <a:lnSpc>
                <a:spcPct val="120000"/>
              </a:lnSpc>
              <a:spcBef>
                <a:spcPts val="2126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7000" y="6489360"/>
            <a:ext cx="22762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94640" y="648936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ide-</a:t>
            </a:r>
            <a:fld id="{F09CF2CD-59A1-431C-B0A1-5EF8CC6A8FBA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1645920" y="6489360"/>
            <a:ext cx="2133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24000" y="836640"/>
            <a:ext cx="507960" cy="515880"/>
          </a:xfrm>
          <a:custGeom>
            <a:avLst/>
            <a:gdLst>
              <a:gd name="textAreaLeft" fmla="*/ 178200 w 507960"/>
              <a:gd name="textAreaRight" fmla="*/ 329760 w 507960"/>
              <a:gd name="textAreaTop" fmla="*/ 180720 h 515880"/>
              <a:gd name="textAreaBottom" fmla="*/ 335160 h 51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74" y="7574"/>
                </a:lnTo>
                <a:lnTo>
                  <a:pt x="10800" y="0"/>
                </a:lnTo>
                <a:lnTo>
                  <a:pt x="14026" y="7574"/>
                </a:lnTo>
                <a:lnTo>
                  <a:pt x="21600" y="10800"/>
                </a:lnTo>
                <a:lnTo>
                  <a:pt x="14026" y="14026"/>
                </a:lnTo>
                <a:lnTo>
                  <a:pt x="10800" y="21600"/>
                </a:lnTo>
                <a:lnTo>
                  <a:pt x="7574" y="1402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66">
                  <a:alpha val="19215"/>
                </a:srgbClr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9144000" cy="1665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DA6D-2D52-47EB-8398-5B46A4715551}" type="slidenum"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3984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9052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90520"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90520"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9144000" cy="1665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ffffff"/>
                </a:solidFill>
                <a:latin typeface="Arial"/>
              </a:rPr>
              <a:t>墾丁之旅說明會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24360" y="3931920"/>
            <a:ext cx="543528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星光中學校外教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00"/>
                </a:solidFill>
                <a:latin typeface="Arial"/>
              </a:rPr>
              <a:t>墾．丁．概．況</a:t>
            </a: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墾丁位於台灣的最南端，三面環海，東面太平洋，西鄰台灣海峽，南瀕巴士海峽 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陸地範圍包括龜山向南至鵝鑾鼻、東沿太平洋岸經佳樂水，北至南仁山區，共計</a:t>
            </a: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18083.50</a:t>
            </a: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公頃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AD06-A656-49A0-81EF-AEC4E2E78B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11年7月21日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00"/>
                </a:solidFill>
                <a:latin typeface="Arial"/>
              </a:rPr>
              <a:t>景．點．介．紹</a:t>
            </a: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6920" y="1375920"/>
            <a:ext cx="3738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自然景觀類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南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船帆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尖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砂島貝殼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0" y="1341000"/>
            <a:ext cx="424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建築物類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海洋生物博物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恆春古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茶山吊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青年活動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08000" y="4761000"/>
            <a:ext cx="6155640" cy="1422000"/>
            <a:chOff x="1908000" y="4761000"/>
            <a:chExt cx="6155640" cy="1422000"/>
          </a:xfrm>
        </p:grpSpPr>
        <p:pic>
          <p:nvPicPr>
            <p:cNvPr id="91" name="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1908000" y="4761000"/>
              <a:ext cx="1896480" cy="1414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92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6169320" y="4761000"/>
              <a:ext cx="1894320" cy="14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4038480" y="4761000"/>
              <a:ext cx="1896480" cy="1422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0259-8F84-43A3-9A56-1D2D7617A3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11年7月21日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00"/>
                </a:solidFill>
                <a:latin typeface="Arial"/>
              </a:rPr>
              <a:t>景．點．欣．賞</a:t>
            </a: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68360" y="1844640"/>
            <a:ext cx="7307280" cy="3527640"/>
            <a:chOff x="1368360" y="1844640"/>
            <a:chExt cx="7307280" cy="352764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1434960" y="2708280"/>
              <a:ext cx="3540240" cy="26640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7" name=""/>
            <p:cNvSpPr/>
            <p:nvPr/>
          </p:nvSpPr>
          <p:spPr>
            <a:xfrm>
              <a:off x="1368360" y="1844640"/>
              <a:ext cx="36734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400" spc="-1" strike="noStrike">
                  <a:solidFill>
                    <a:srgbClr val="333399"/>
                  </a:solidFill>
                  <a:latin typeface="Arial"/>
                  <a:ea typeface="華康中黑體"/>
                </a:rPr>
                <a:t>墾丁青年活動中心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5310360" y="2708280"/>
              <a:ext cx="3348000" cy="26640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9" name=""/>
            <p:cNvSpPr/>
            <p:nvPr/>
          </p:nvSpPr>
          <p:spPr>
            <a:xfrm>
              <a:off x="5291280" y="1844640"/>
              <a:ext cx="3384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400" spc="-1" strike="noStrike">
                  <a:solidFill>
                    <a:srgbClr val="333399"/>
                  </a:solidFill>
                  <a:latin typeface="Arial"/>
                  <a:ea typeface="華康中黑體"/>
                </a:rPr>
                <a:t>船帆石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A0FC-3483-4841-9672-B6973FAF460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11年7月21日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00"/>
                </a:solidFill>
                <a:latin typeface="Arial"/>
              </a:rPr>
              <a:t>古．蹟．參．訪</a:t>
            </a: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6920" y="1375920"/>
            <a:ext cx="509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恆春古城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古稱「琅嶠」，因四季如春，故更名為恆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茶山吊橋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原是漁村對外交通的重要管道，後來興建了穩固的鋼筋水泥大穚，便走入歷史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92720" y="4184640"/>
            <a:ext cx="243864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92720" y="1852560"/>
            <a:ext cx="243864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46EA-108F-4551-A8A9-6446226AF5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11年7月21日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00"/>
                </a:solidFill>
                <a:latin typeface="Arial"/>
              </a:rPr>
              <a:t>教．學．目．標 </a:t>
            </a: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生態研習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海生館全區分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主題館，同學可在此了解海洋生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文化欣賞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lvl="1" marL="1123920" indent="-412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留有許多古老的建築與人文建設，同學可在此緬懷舊時的歷史與人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AFBC-F71F-4045-9C78-D1F09363E1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11年7月21日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00"/>
                </a:solidFill>
                <a:latin typeface="Arial"/>
              </a:rPr>
              <a:t>注．意．事．項</a:t>
            </a: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請參加的同學於</a:t>
            </a: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7:50</a:t>
            </a: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前到校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同學可自行攜帶點心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請穿短袖、長褲運動服及運動外套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請攜帶雨具及防曬用品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5ED5-E87C-4046-BF62-16E9592807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11年7月21日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3640" y="11556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00"/>
                </a:solidFill>
                <a:latin typeface="Arial"/>
              </a:rPr>
              <a:t>相．關．網．站</a:t>
            </a:r>
            <a:endParaRPr b="0" lang="en-US" sz="5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1375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悠遊墾丁</a:t>
            </a:r>
            <a:br>
              <a:rPr sz="3400"/>
            </a:b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http://uukt.idv.tw/ 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墾丁旅遊網</a:t>
            </a:r>
            <a:br>
              <a:rPr sz="3400"/>
            </a:b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http://kenting.network.com.tw/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  <a:p>
            <a:pPr marL="531720" indent="-531720">
              <a:lnSpc>
                <a:spcPct val="120000"/>
              </a:lnSpc>
              <a:spcBef>
                <a:spcPts val="2126"/>
              </a:spcBef>
              <a:buClr>
                <a:srgbClr val="333399"/>
              </a:buClr>
              <a:buFont typeface="Web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墾丁旅遊達人網</a:t>
            </a:r>
            <a:br>
              <a:rPr sz="3400"/>
            </a:br>
            <a:r>
              <a:rPr b="0" lang="zh-TW" sz="3400" spc="-1" strike="noStrike">
                <a:solidFill>
                  <a:srgbClr val="333399"/>
                </a:solidFill>
                <a:latin typeface="Arial"/>
              </a:rPr>
              <a:t>http://www.dotzing.com.tw/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148E-B6A8-436A-BAEE-419F0652EA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11年7月21日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04:31:21Z</dcterms:created>
  <dc:creator/>
  <dc:description/>
  <dc:language>en-US</dc:language>
  <cp:lastModifiedBy>Administrator</cp:lastModifiedBy>
  <dcterms:modified xsi:type="dcterms:W3CDTF">2010-11-10T04:17:14Z</dcterms:modified>
  <cp:revision>140</cp:revision>
  <dc:subject/>
  <dc:title>墾丁之旅說明會</dc:title>
</cp:coreProperties>
</file>