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58000" cy="9144000"/>
  <p:custShowLst>
    <p:custShow name="員工旅遊行程說明" id="0">
      <p:sldLst>
        <p:sld r:id="rId4"/>
        <p:sld r:id="rId5"/>
        <p:sld r:id="rId6"/>
        <p:sld r:id="rId10"/>
        <p:sld r:id="rId11"/>
        <p:sld r:id="rId9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7331-2328-4A22-9AE1-BCC0E2DC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89280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880" y="4208040"/>
            <a:ext cx="89280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DDFE3-BDAC-46FC-B03C-461F0907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760" y="19886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8880" y="42080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760" y="42080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1E2F6-EB13-4F56-8F85-C28C4ED3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28746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7480" y="1988640"/>
            <a:ext cx="28746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440" y="1988640"/>
            <a:ext cx="28746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8880" y="4208040"/>
            <a:ext cx="28746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7480" y="4208040"/>
            <a:ext cx="28746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440" y="4208040"/>
            <a:ext cx="28746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1C55D-9721-450F-8E17-3239CF36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93303-7738-4B6E-96BC-3E2ECF75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8880" y="1988640"/>
            <a:ext cx="8928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4BCD9-8245-452B-961C-B7926C54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89280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01454-4633-467F-8794-40AF6EEA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435672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760" y="1988640"/>
            <a:ext cx="435672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0CB13-E3EA-4027-9FC1-AEB9A515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80B8A-699F-4060-95B6-0E613E9B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8520" y="259920"/>
            <a:ext cx="90010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A5C67-B6F0-40F1-94C4-5ACD366E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760" y="1988640"/>
            <a:ext cx="435672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8880" y="42080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F007C-CB19-495A-8DE4-F3C1ED04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8880" y="1988640"/>
            <a:ext cx="8928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89A35-620D-4767-85AD-9BD8DDF7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435672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760" y="19886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760" y="42080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A1A28-652C-41AC-8E38-4162A1E9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760" y="19886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880" y="4208040"/>
            <a:ext cx="89280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D4C7B-18B1-455B-8180-4ED4E96A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89280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880" y="4208040"/>
            <a:ext cx="89280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893BC-0202-4B2E-81DC-26D66328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760" y="19886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880" y="42080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760" y="42080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671D5-FEE2-40F7-BD06-73D3CC8F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28746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7480" y="1988640"/>
            <a:ext cx="28746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6440" y="1988640"/>
            <a:ext cx="28746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8880" y="4208040"/>
            <a:ext cx="28746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7480" y="4208040"/>
            <a:ext cx="28746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6440" y="4208040"/>
            <a:ext cx="28746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1E71D-8BF7-41BD-9D7C-DFE060B7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89280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8C71E-92C6-4054-AA88-0C585FE9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435672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760" y="1988640"/>
            <a:ext cx="435672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4125C-1D7E-4614-957B-4DE25FD9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78CE-1970-45AB-B015-195AD5A8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8520" y="259920"/>
            <a:ext cx="90010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C3DDC-789D-4957-9829-788922A0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760" y="1988640"/>
            <a:ext cx="435672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8880" y="42080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D6363-5DC4-4874-831E-0D016926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435672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760" y="19886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760" y="42080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4CE4B-A405-4C5E-AFC9-A841A3D6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760" y="1988640"/>
            <a:ext cx="435672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880" y="4208040"/>
            <a:ext cx="89280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4A93B-BECC-4B8C-8F22-B0CC5D24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8880" y="1988640"/>
            <a:ext cx="89280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8840" indent="-446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2248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4303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83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83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83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1657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FB58-54F5-4A8E-AB8D-154EDA0E0FF2}" type="datetime"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98840" y="61657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00BB-52A3-4EBB-8CE0-A45E0CF65184}" type="slidenum"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384360" y="61657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  <a:ea typeface="華康細黑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華康細黑體"/>
              </a:rPr>
              <a:t>&lt;footer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AF28-620A-4B10-BCC2-E83A18C6C1F1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DE61-B3ED-4496-B6A9-B2C2C1DA45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87948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83016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7812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781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781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00080" y="260280"/>
            <a:ext cx="6869160" cy="5029200"/>
          </a:xfrm>
          <a:custGeom>
            <a:avLst/>
            <a:gdLst/>
            <a:ahLst/>
            <a:rect l="l" t="t" r="r" b="b"/>
            <a:pathLst>
              <a:path w="4327" h="3122">
                <a:moveTo>
                  <a:pt x="1188" y="2730"/>
                </a:moveTo>
                <a:cubicBezTo>
                  <a:pt x="1317" y="3122"/>
                  <a:pt x="1048" y="2424"/>
                  <a:pt x="757" y="2223"/>
                </a:cubicBezTo>
                <a:cubicBezTo>
                  <a:pt x="465" y="2022"/>
                  <a:pt x="162" y="1775"/>
                  <a:pt x="89" y="1491"/>
                </a:cubicBezTo>
                <a:cubicBezTo>
                  <a:pt x="16" y="1207"/>
                  <a:pt x="0" y="767"/>
                  <a:pt x="320" y="521"/>
                </a:cubicBezTo>
                <a:cubicBezTo>
                  <a:pt x="640" y="275"/>
                  <a:pt x="1423" y="32"/>
                  <a:pt x="2010" y="13"/>
                </a:cubicBezTo>
                <a:cubicBezTo>
                  <a:pt x="2647" y="0"/>
                  <a:pt x="3464" y="161"/>
                  <a:pt x="3842" y="406"/>
                </a:cubicBezTo>
                <a:cubicBezTo>
                  <a:pt x="4224" y="627"/>
                  <a:pt x="4327" y="1039"/>
                  <a:pt x="4307" y="1337"/>
                </a:cubicBezTo>
                <a:cubicBezTo>
                  <a:pt x="4286" y="1635"/>
                  <a:pt x="4031" y="2005"/>
                  <a:pt x="3721" y="2192"/>
                </a:cubicBezTo>
                <a:cubicBezTo>
                  <a:pt x="3411" y="2379"/>
                  <a:pt x="2853" y="2452"/>
                  <a:pt x="2445" y="2461"/>
                </a:cubicBezTo>
                <a:cubicBezTo>
                  <a:pt x="2037" y="2470"/>
                  <a:pt x="1485" y="2204"/>
                  <a:pt x="1275" y="2249"/>
                </a:cubicBezTo>
                <a:cubicBezTo>
                  <a:pt x="967" y="2312"/>
                  <a:pt x="1058" y="2338"/>
                  <a:pt x="1188" y="2730"/>
                </a:cubicBezTo>
                <a:close/>
              </a:path>
            </a:pathLst>
          </a:custGeom>
          <a:solidFill>
            <a:srgbClr val="ffffff">
              <a:alpha val="75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589720" y="5933880"/>
            <a:ext cx="4116240" cy="7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99"/>
                </a:solidFill>
                <a:latin typeface="華康POP1體W7"/>
                <a:ea typeface="華康POP1體W7"/>
              </a:rPr>
              <a:t>康樂股長製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60520" y="836640"/>
            <a:ext cx="5905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84b5cd"/>
                    </a:gs>
                    <a:gs pos="100000">
                      <a:srgbClr val="006699"/>
                    </a:gs>
                  </a:gsLst>
                  <a:lin ang="8100000"/>
                </a:gradFill>
                <a:latin typeface="王漢宗中隸書繁"/>
              </a:rPr>
              <a:t>旅遊說明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84b5cd"/>
                  </a:gs>
                  <a:gs pos="100000">
                    <a:srgbClr val="006699"/>
                  </a:gs>
                </a:gsLst>
                <a:lin ang="8100000"/>
              </a:gradFill>
              <a:latin typeface="王漢宗中隸書繁"/>
              <a:ea typeface="王漢宗中隸書繁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84b5cd"/>
                    </a:gs>
                    <a:gs pos="100000">
                      <a:srgbClr val="006699"/>
                    </a:gs>
                  </a:gsLst>
                  <a:lin ang="8100000"/>
                </a:gradFill>
                <a:latin typeface="王漢宗中隸書繁"/>
              </a:rPr>
              <a:t>花東之旅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84b5cd"/>
                  </a:gs>
                  <a:gs pos="100000">
                    <a:srgbClr val="006699"/>
                  </a:gs>
                </a:gsLst>
                <a:lin ang="8100000"/>
              </a:gradFill>
              <a:latin typeface="王漢宗中隸書繁"/>
              <a:ea typeface="王漢宗中隸書繁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141720" y="3860640"/>
            <a:ext cx="3827520" cy="29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Times New Roman"/>
              </a:rPr>
              <a:t>舉辦事由</a:t>
            </a: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89280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聯絡同學間的情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留下美好的回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提倡正當的休閒娛樂活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Times New Roman"/>
              </a:rPr>
              <a:t>行程安排</a:t>
            </a: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89280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第一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8840" indent="-446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太魯閣、天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第二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8840" indent="-446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八仙洞、三仙台、初鹿牧場、知本溫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Times New Roman"/>
              </a:rPr>
              <a:t>秀姑巒溪泛舟</a:t>
            </a: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89280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驚險刺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冒險犯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發揮同舟共濟精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Times New Roman"/>
              </a:rPr>
              <a:t>初鹿牧場</a:t>
            </a: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89280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集合時間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月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:30 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集合地點：學校正門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到達目的地，請依照班長指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Times New Roman"/>
              </a:rPr>
              <a:t>知本溫泉浴</a:t>
            </a: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89280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振奮精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消除疲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美容養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促進新陳代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Times New Roman"/>
              </a:rPr>
              <a:t>攜帶物品</a:t>
            </a: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89280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個人換洗衣物、盥洗用具、保養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禦寒的厚毛衣、或外套一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個人隨身必備的醫藥用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相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Times New Roman"/>
              </a:rPr>
              <a:t>須知事項</a:t>
            </a: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8880" y="1988640"/>
            <a:ext cx="89280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集合時間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月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:30 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集合地點：學校正門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66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到達目的地，請依照班長指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Yolanda Chiang</dc:creator>
  <dc:description/>
  <dc:language>en-US</dc:language>
  <cp:lastModifiedBy>Administrator</cp:lastModifiedBy>
  <dcterms:modified xsi:type="dcterms:W3CDTF">2011-03-11T04:20:51Z</dcterms:modified>
  <cp:revision>38</cp:revision>
  <dc:subject/>
  <dc:title>沒有投影片標題</dc:title>
</cp:coreProperties>
</file>