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CE44-FD20-4429-9D64-9C5ED4D70D5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青年活動中心 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建築以三合院、四合院為主，還有仿照台灣傳統書院的建築，可說是雕樑畫棟，古色古香，很有特色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Arial"/>
              </a:rPr>
              <a:t>船帆石是一座隆起的珊瑚礁岩，位於墾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Arial"/>
              </a:rPr>
              <a:t>與鵝鑾鼻之間，高約</a:t>
            </a:r>
            <a:r>
              <a:rPr b="0" lang="zh-TW" sz="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800" spc="-1" strike="noStrike">
                <a:solidFill>
                  <a:srgbClr val="000000"/>
                </a:solidFill>
                <a:latin typeface="Arial"/>
              </a:rPr>
              <a:t>公尺，因形狀像一艘船隻，故而得名。是墾丁地標之一。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Arial"/>
              </a:rPr>
              <a:t>恆春舊名琅喬，位在恆春半島最南端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Arial"/>
              </a:rPr>
              <a:t>東城外「出火」的景觀，終年不滅，殊為奇觀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6E0-903A-40DC-979D-1BD29C02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020-8004-43E2-BA65-2D9B9E61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B34-D751-4D3C-8BC8-B4DD6E8F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ED4-F740-466D-999F-E2B87B03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14C6-05A9-4E1B-841D-DFA65A03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A95F-96DE-4DDB-9E2C-97B33ABA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AAC7-B879-419D-BF2C-1F93DED7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94F8-9F2A-41E9-9E25-D2E8AEF4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A66E-181D-4413-A0DD-0360ECA0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3198-5574-44EE-B4EE-C0F9AF01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39A5-F096-4C4F-8F6F-8111C960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687-FCAA-47F4-AAD7-0992CAE1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DE50-6315-4B48-9A94-A36F389E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149F-3BE0-4092-9B67-D6A441B7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F47E-69E5-4F5B-8FFE-303FF082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3561-5444-43C3-808A-B105FC45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E256-9EAD-42C3-AAB2-BC455BD4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923-19AC-4792-BDD1-15BAAB8E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918-422B-48E6-A3D2-6D362ADA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007-E5F8-4352-8C8C-AE1E193E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C00-3E32-49F6-9720-455345CC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FD9-F5AD-40E5-B104-E3F1ACA0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E0B1-B125-48D3-B098-E25F2D08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7DC-FEA2-4484-8050-CA9F49FE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2A1D-F26C-4DEA-BA3B-3C684646413C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673A-C07E-4B7D-829E-CC2C777AC676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6633"/>
                </a:solidFill>
                <a:latin typeface="Garamond"/>
                <a:ea typeface="華康新綜藝體W9"/>
              </a:rPr>
              <a:t>墾丁風光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平冬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青年活動中心-太原門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419280" cy="424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33"/>
                </a:solidFill>
                <a:latin typeface="Garamond"/>
              </a:rPr>
              <a:t>墾丁行腳…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292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粗圓體"/>
              </a:rPr>
              <a:t>青年活動中心</a:t>
            </a:r>
            <a:br>
              <a:rPr sz="3600"/>
            </a:b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華康細圓體"/>
              </a:rPr>
              <a:t>建築以三合院、四合院為主，為仿照台灣傳統書院的建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33"/>
                </a:solidFill>
                <a:latin typeface="Garamond"/>
              </a:rPr>
              <a:t>墾丁行腳…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3284640"/>
            <a:ext cx="3097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粗圓體"/>
              </a:rPr>
              <a:t>船帆石</a:t>
            </a:r>
            <a:br>
              <a:rPr sz="3000"/>
            </a:b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華康細圓體"/>
              </a:rPr>
              <a:t>位於墾丁與鵝鑾鼻之間，高約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華康細圓體"/>
              </a:rPr>
              <a:t>50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華康細圓體"/>
              </a:rPr>
              <a:t>公尺，因形狀像一艘船隻而得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船帆石-邊" descr=""/>
          <p:cNvPicPr/>
          <p:nvPr/>
        </p:nvPicPr>
        <p:blipFill>
          <a:blip r:embed="rId1"/>
          <a:srcRect l="0" t="0" r="2621" b="3569"/>
          <a:stretch/>
        </p:blipFill>
        <p:spPr>
          <a:xfrm>
            <a:off x="611280" y="2205000"/>
            <a:ext cx="48974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東門上堡牆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641760" cy="2736720"/>
          </a:xfrm>
          <a:prstGeom prst="rect">
            <a:avLst/>
          </a:prstGeom>
          <a:ln w="0">
            <a:noFill/>
          </a:ln>
        </p:spPr>
      </p:pic>
      <p:pic>
        <p:nvPicPr>
          <p:cNvPr id="102" name="東門2-邊" descr=""/>
          <p:cNvPicPr/>
          <p:nvPr/>
        </p:nvPicPr>
        <p:blipFill>
          <a:blip r:embed="rId2"/>
          <a:srcRect l="0" t="10048" r="1271" b="1640"/>
          <a:stretch/>
        </p:blipFill>
        <p:spPr>
          <a:xfrm>
            <a:off x="611280" y="1413000"/>
            <a:ext cx="4052880" cy="2736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33"/>
                </a:solidFill>
                <a:latin typeface="Garamond"/>
              </a:rPr>
              <a:t>墾丁行腳…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4437000"/>
            <a:ext cx="7345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粗圓體"/>
              </a:rPr>
              <a:t>恆春古城</a:t>
            </a:r>
            <a:br>
              <a:rPr sz="3600"/>
            </a:b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華康細圓體"/>
              </a:rPr>
              <a:t>恆春於清光緒元年開始建城，如今留下東、西、南、北四座城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06:05:25Z</dcterms:created>
  <dc:creator>E063</dc:creator>
  <dc:description/>
  <dc:language>en-US</dc:language>
  <cp:lastModifiedBy>Administrator</cp:lastModifiedBy>
  <dcterms:modified xsi:type="dcterms:W3CDTF">2011-03-11T04:10:42Z</dcterms:modified>
  <cp:revision>4</cp:revision>
  <dc:subject/>
  <dc:title>墾丁風光</dc:title>
</cp:coreProperties>
</file>