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8BA-C246-4B70-B406-2DDCBD07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895-6CEE-4446-83DB-7025EF95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17B-D590-4CDA-98A6-63EA5759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0FF-294B-4967-851F-74E15E85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A74-F817-4ECC-B305-F41D3A81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076-6141-46F2-B9EC-67315FF9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9FF-87A7-4998-A3FC-6962A59A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9A6-D057-4BD7-8F58-FD804E59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BDB-9B04-4BAB-975A-479BDA2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8B1-892E-45FB-B77C-C315D654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182-9DE4-4FBD-BA3F-29DC8E33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5B7-181B-4C06-B06F-A25B4BF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9C92-C3A2-4B00-AB36-D8D1FAE0CF7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Arial"/>
              </a:rPr>
              <a:t>吉他社社團組織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Arial"/>
              </a:rPr>
              <a:t>社團費用支出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3:35:01Z</dcterms:created>
  <dc:creator>Administrator</dc:creator>
  <dc:description/>
  <dc:language>en-US</dc:language>
  <cp:lastModifiedBy>Administrator</cp:lastModifiedBy>
  <dcterms:modified xsi:type="dcterms:W3CDTF">2010-12-07T11:00:11Z</dcterms:modified>
  <cp:revision>3</cp:revision>
  <dc:subject/>
  <dc:title>投影片 1</dc:title>
</cp:coreProperties>
</file>