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ED1-9775-457D-B604-A100A78D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640080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5424120"/>
            <a:ext cx="640080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39B-3C6A-4569-B290-BBEA2FDD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42412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542412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3C2-6401-47AA-A44A-FE42B166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453528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453528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542412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542412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542412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1D9-9452-4780-AC45-E84BC215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692-17AC-421E-81D5-82DFCEC8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453528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0DAD-43FD-4387-B332-2D0395E2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AF67-3D5D-493A-8FDD-7C40F1AB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C943-7B17-4437-8CF4-234313C6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6AC7-4823-445F-8E80-0E2FA1D7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27507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84A1-945B-4B64-ABE2-8BA59284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42412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A1C8-3DD2-44DE-82E2-1B1CB9AC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453528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CD0-29EC-4259-9C99-08B84046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542412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B448-2F4A-4154-9527-0A4D6CA0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5424120"/>
            <a:ext cx="640080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387B-6AD7-4441-B1D3-7323478F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640080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5424120"/>
            <a:ext cx="640080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8CF2-16A9-4AD0-BD03-41391A4C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542412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542412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A1D1-BF19-4887-9E7C-90B6ECC8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453528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453528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542412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542412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5424120"/>
            <a:ext cx="206064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353A-9A6D-4D9C-B29D-85035F00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B84-1273-408B-9085-EF417C61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040-74C4-4722-A693-CDA3D4F6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A01-5FB3-477D-B3D5-DD048CC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507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A7B-2753-4A10-B975-0F69E91E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542412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021-C0BD-4307-9B25-6C41C7B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542412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BF4-D9D2-420C-B897-4B25CF4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535280"/>
            <a:ext cx="312336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5424120"/>
            <a:ext cx="640080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185-C196-42AC-89C1-A5A781D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A1EF-8727-4175-BE13-D0CA2673BBF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56" r="5705" b="7311"/>
          <a:stretch/>
        </p:blipFill>
        <p:spPr>
          <a:xfrm>
            <a:off x="1619280" y="0"/>
            <a:ext cx="4032360" cy="220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9941" t="11989" r="-2774" b="-216"/>
          <a:stretch/>
        </p:blipFill>
        <p:spPr>
          <a:xfrm>
            <a:off x="0" y="0"/>
            <a:ext cx="2340000" cy="2203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268360" y="-360"/>
            <a:ext cx="0" cy="220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52428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524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46FA-BA53-4A6A-A52B-F1B9E8D7B9D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0"/>
            <a:ext cx="2916360" cy="22050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227640" y="0"/>
            <a:ext cx="0" cy="1628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89000"/>
            <a:ext cx="4788000" cy="216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rcRect l="2300" t="0" r="0" b="1725"/>
          <a:stretch/>
        </p:blipFill>
        <p:spPr>
          <a:xfrm>
            <a:off x="5003640" y="0"/>
            <a:ext cx="2190960" cy="220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5003640" y="-360"/>
            <a:ext cx="0" cy="220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1989000"/>
            <a:ext cx="478800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</a:rPr>
              <a:t>認識數位相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53528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班　　級：資二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學生姓名：李明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421000"/>
            <a:ext cx="237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Arial"/>
                <a:ea typeface="華康中黑體"/>
              </a:rPr>
              <a:t>攝影社教學活動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Arial"/>
              </a:rPr>
              <a:t>認識數位相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相機是利用</a:t>
            </a:r>
            <a:r>
              <a:rPr b="0" lang="zh-TW" sz="3200" spc="-1" strike="noStrike">
                <a:solidFill>
                  <a:srgbClr val="cc0000"/>
                </a:solidFill>
                <a:latin typeface="Arial"/>
              </a:rPr>
              <a:t>感光元件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將鏡頭聚焦的光線轉換成數位訊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照片儲存在</a:t>
            </a:r>
            <a:r>
              <a:rPr b="0" lang="zh-TW" sz="3200" spc="-1" strike="noStrike">
                <a:solidFill>
                  <a:srgbClr val="cc0000"/>
                </a:solidFill>
                <a:latin typeface="Arial"/>
              </a:rPr>
              <a:t>記憶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41633" t="12011" r="0" b="0"/>
          <a:stretch/>
        </p:blipFill>
        <p:spPr>
          <a:xfrm>
            <a:off x="5823000" y="3524400"/>
            <a:ext cx="3321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Arial"/>
              </a:rPr>
              <a:t>傳統相機 </a:t>
            </a:r>
            <a:r>
              <a:rPr b="0" lang="zh-TW" sz="45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zh-TW" sz="4500" spc="-1" strike="noStrike">
                <a:solidFill>
                  <a:srgbClr val="000000"/>
                </a:solidFill>
                <a:latin typeface="Arial"/>
              </a:rPr>
              <a:t>數位相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Arial"/>
              </a:rPr>
              <a:t>數位相機的優點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體積小、易於攜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即拍即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須底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照片可長久保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照片易於後製編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91440" y="3192120"/>
            <a:ext cx="4280760" cy="3280320"/>
            <a:chOff x="4591440" y="3192120"/>
            <a:chExt cx="4280760" cy="3280320"/>
          </a:xfrm>
        </p:grpSpPr>
        <p:sp>
          <p:nvSpPr>
            <p:cNvPr id="106" name=""/>
            <p:cNvSpPr/>
            <p:nvPr/>
          </p:nvSpPr>
          <p:spPr>
            <a:xfrm rot="581400">
              <a:off x="4788000" y="3500280"/>
              <a:ext cx="388764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 rot="581400">
              <a:off x="4946400" y="3643200"/>
              <a:ext cx="3582720" cy="23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</a:rPr>
              <a:t>感謝您的參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53528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51:00Z</dcterms:created>
  <dc:creator>Administrator</dc:creator>
  <dc:description/>
  <dc:language>en-US</dc:language>
  <cp:lastModifiedBy>Administrator</cp:lastModifiedBy>
  <dcterms:modified xsi:type="dcterms:W3CDTF">2010-12-01T10:27:56Z</dcterms:modified>
  <cp:revision>39</cp:revision>
  <dc:subject/>
  <dc:title>投影片 1</dc:title>
</cp:coreProperties>
</file>