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722-BF77-4AAF-9FF5-8F1502E3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14240"/>
            <a:ext cx="822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39C-4B03-48CA-B840-B7276C72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1424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1424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B78-905C-4B3A-A4F6-2D4D5BAC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14240"/>
            <a:ext cx="264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14240"/>
            <a:ext cx="264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14240"/>
            <a:ext cx="264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EFF-A4DC-4210-9AF8-DC094C7A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4B6-EF07-4040-BCCC-1CD0792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2DE-7E73-461D-981D-89AC44D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8A2-AC21-47CC-98D5-2926F786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E3B-CFC3-4724-A03D-3A81257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6D6-3B3D-4FB0-9FD0-EF027BB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1424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B6A-325C-4EE8-9809-623709F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1424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59B-9E12-4F1D-AE90-CB790DA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14240"/>
            <a:ext cx="8229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2A2-C868-4EE0-8035-58E9546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31120" y="3357720"/>
            <a:ext cx="229212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92320" indent="-292320">
              <a:spcBef>
                <a:spcPts val="4000"/>
              </a:spcBef>
              <a:buClr>
                <a:srgbClr val="000000"/>
              </a:buClr>
              <a:buSzPct val="80000"/>
              <a:buFont typeface="Web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3040" indent="-225000">
              <a:spcBef>
                <a:spcPts val="40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862560" indent="-12564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086840" indent="-125640">
              <a:spcBef>
                <a:spcPts val="40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311120" indent="-125640">
              <a:spcBef>
                <a:spcPts val="40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1311120" indent="-125640">
              <a:spcBef>
                <a:spcPts val="40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1311120" indent="-125640">
              <a:spcBef>
                <a:spcPts val="40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1421-8EE2-45A8-9731-BABDA68E315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800" spc="-1" strike="noStrike">
                <a:solidFill>
                  <a:srgbClr val="000000"/>
                </a:solidFill>
                <a:latin typeface="Arial"/>
              </a:rPr>
              <a:t>校外教學行前注意事項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1001"/>
              </a:spcBef>
              <a:buClr>
                <a:srgbClr val="000000"/>
              </a:buClr>
              <a:buSzPct val="80000"/>
              <a:buFont typeface="Web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「平溪鐵道之旅」即將出發，煤鄉風景等我們去探險尋奇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09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集合時間：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7/12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09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集合地點：學校正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09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必備物品：午餐、雨具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4:16:51Z</dcterms:created>
  <dc:creator>E063</dc:creator>
  <dc:description/>
  <dc:language>en-US</dc:language>
  <cp:lastModifiedBy>Administrator</cp:lastModifiedBy>
  <dcterms:modified xsi:type="dcterms:W3CDTF">2010-11-29T02:16:36Z</dcterms:modified>
  <cp:revision>14</cp:revision>
  <dc:subject/>
  <dc:title>校外教學行前注意事項</dc:title>
</cp:coreProperties>
</file>