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622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451480" y="-3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092040" y="517680"/>
            <a:ext cx="344340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451480" y="65415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B145-59EA-4388-B4B0-F57869589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451480" y="65415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CD3A-7F39-40FF-B1D4-15382CE9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65415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-3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51480" y="-3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095640" y="520560"/>
            <a:ext cx="3433680" cy="2575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82680" y="3271320"/>
            <a:ext cx="705816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451480" y="65415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F408-D292-47A1-BE2F-9CA9FC69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65415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-3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51480" y="-3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095640" y="520560"/>
            <a:ext cx="3433680" cy="2575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82680" y="3271320"/>
            <a:ext cx="705816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602-C293-4058-BE77-E62A171A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640080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444640"/>
            <a:ext cx="640080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233-4545-44FA-BBAC-8931FB4C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44464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44464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C59-C8A4-4C6D-8B84-8056780B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89240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89240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44464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44464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44464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84F-3BEE-44BC-B89C-5352E86B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AAE4-BBFC-4528-9B5A-1F0D07FE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8924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DAEC-F19C-4AC6-ABB0-07B6E922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F984-4857-4838-946B-4C5A0BEF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ABD0-35D7-4EB7-AB55-81F7DEA0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BE0B-A8A7-4ADA-B90A-C39B3EAF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4920" y="2565000"/>
            <a:ext cx="8280360" cy="86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BB88-F84F-4D34-8397-C2D829EB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544464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9A34-1497-4EBE-A83D-51BE297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8924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89C-FF97-46C4-85EA-CB9BBA98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544464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63F7-13C3-47DD-BBDF-3680709D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5444640"/>
            <a:ext cx="640080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A625-DC5A-41EF-BD9C-44D6848A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640080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5444640"/>
            <a:ext cx="640080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B001-3882-44EF-9C90-B68128F8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44464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544464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77E2-2894-476C-8ACC-1B25DFE1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489240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489240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544464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544464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5444640"/>
            <a:ext cx="206064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330F-93CC-476E-82CD-2375DB41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654-D9C8-4BD0-AE47-511ED92B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7EA-A99E-4E17-B616-5FCD1E61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922-F0D3-4436-8971-258740E6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2565000"/>
            <a:ext cx="8280360" cy="86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5B9-B603-42E5-9B97-EF1E7ACB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44464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A24-DFE8-449A-9DDE-4625A89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44464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E27-1A9F-4864-8EC9-2888D3D4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892400"/>
            <a:ext cx="312336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444640"/>
            <a:ext cx="640080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BB2-7A30-4315-BB1A-8B11B1F1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698920" y="836640"/>
            <a:ext cx="3744720" cy="358920"/>
          </a:xfrm>
          <a:prstGeom prst="roundRect">
            <a:avLst>
              <a:gd name="adj" fmla="val 50000"/>
            </a:avLst>
          </a:prstGeom>
          <a:solidFill>
            <a:srgbClr val="00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-14832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337040" indent="-14832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337040" indent="-14832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337040" indent="-14832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5496-B736-4C14-8C91-8B1A6B9CE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39C9-B931-4D17-A5D5-2E6694AC0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行程介紹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　　火車快飛到墾丁</a:t>
            </a:r>
            <a:r>
              <a:rPr b="0" lang="en-US" sz="3600" spc="-1" strike="noStrike">
                <a:solidFill>
                  <a:srgbClr val="304ed0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營火晚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　　魚兒水中游</a:t>
            </a:r>
            <a:r>
              <a:rPr b="0" lang="en-US" sz="3600" spc="-1" strike="noStrike">
                <a:solidFill>
                  <a:srgbClr val="304ed0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曬月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　　望海的日子</a:t>
            </a:r>
            <a:r>
              <a:rPr b="0" lang="en-US" sz="3600" spc="-1" strike="noStrike">
                <a:solidFill>
                  <a:srgbClr val="304ed0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壓馬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　　依依不捨說再見</a:t>
            </a:r>
            <a:r>
              <a:rPr b="0" lang="en-US" sz="3600" spc="-1" strike="noStrike">
                <a:solidFill>
                  <a:srgbClr val="304ed0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溫暖的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844640"/>
            <a:ext cx="1297080" cy="503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DAY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720" y="2781360"/>
            <a:ext cx="1295640" cy="503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DAY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720" y="3718080"/>
            <a:ext cx="1295640" cy="5029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DAY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720" y="4654440"/>
            <a:ext cx="1295640" cy="503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DAY 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013360"/>
            <a:ext cx="9144000" cy="100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48924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行程介紹 ＆ 墾丁行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11280" y="2276640"/>
            <a:ext cx="612000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efefe">
                        <a:alpha val="0"/>
                      </a:srgbClr>
                    </a:gs>
                  </a:gsLst>
                  <a:lin ang="5400000"/>
                </a:gradFill>
                <a:latin typeface="華康新特圓體"/>
              </a:rPr>
              <a:t>墾丁之旅</a:t>
            </a:r>
            <a:endParaRPr b="0" lang="en-US" sz="5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atin typeface="華康新特圓體"/>
              <a:ea typeface="華康新特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攜帶物品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個人換洗衣物、盥洗用具、保養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泳衣、泳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個人隨身必備的醫藥用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相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須知事項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集合時間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日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:30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集合地點：學校正門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到達目的地，請依照班長指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013360"/>
            <a:ext cx="9144000" cy="100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48924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歡迎大家提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1280" y="2637000"/>
            <a:ext cx="612000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efefe">
                        <a:alpha val="0"/>
                      </a:srgbClr>
                    </a:gs>
                  </a:gsLst>
                  <a:lin ang="5400000"/>
                </a:gradFill>
                <a:latin typeface="華康新特圓體"/>
              </a:rPr>
              <a:t>Q &amp; A</a:t>
            </a:r>
            <a:endParaRPr b="0" lang="en-US" sz="5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atin typeface="華康新特圓體"/>
              <a:ea typeface="華康新特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07:00:32Z</dcterms:created>
  <dc:creator>黛琳</dc:creator>
  <dc:description/>
  <dc:language>en-US</dc:language>
  <cp:lastModifiedBy>user</cp:lastModifiedBy>
  <dcterms:modified xsi:type="dcterms:W3CDTF">2011-03-08T02:15:59Z</dcterms:modified>
  <cp:revision>68</cp:revision>
  <dc:subject/>
  <dc:title>墾丁之旅</dc:title>
</cp:coreProperties>
</file>