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0760-8C06-4F6D-BB49-2D162BB3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0399-91A3-4C0F-AA93-C0082DC6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66B-A21F-43CC-9847-C912322F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CE7-0830-4C74-8DAB-B9AB3BC2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82AB-0E2C-438E-8BB3-D1830FE9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1F44-A783-4D50-9BD3-8FD87DAE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6237-834D-4BD0-BACB-8F3CE7AC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C1FC-4D6A-45C1-9141-86DAA713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197C-F86C-4BC3-99C6-9010859C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B290-D250-4112-8CEA-48395E11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54D1-A165-4842-BF12-7ABBBD86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99C1-7ABC-4E84-BB31-F06C3D41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AAE3-AB89-457C-B43D-0EC2CAB2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47C3-9DD2-4537-AA36-63D519FE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B6D1-B132-4804-9AFE-ACAA1BBD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15C9-2407-498E-8B5C-CADF6A7F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ACFF-CE35-44FA-A4AA-D887A51D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D39E-6DCD-40BE-B669-B200A479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1327-D6B6-42D2-BDA6-DD3DBD2D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0907-0841-4B7E-B01D-E7DC3E3F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341-2016-4D3F-BB9A-77DD446F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DAE1-0559-4A59-9963-C784FAE4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E959-CF1D-4D03-89B6-8A5958E3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406-DF8C-412B-B83D-872B5E09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04D8-6903-4B0C-B0E6-9AE312A13104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DB6A-B06D-4231-9298-41BD007EE85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從悠遊卡看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RFID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應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報告人：林欣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189920" y="4726080"/>
            <a:ext cx="1954080" cy="2131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167440" y="4726080"/>
            <a:ext cx="2044440" cy="2131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4724280"/>
            <a:ext cx="3108240" cy="2133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108240" y="4726080"/>
            <a:ext cx="2067120" cy="2131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18900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  <a:ea typeface="華康細圓體"/>
              </a:rPr>
              <a:t>計概期末報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目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前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RFI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運作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RFI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標籤的分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RFI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常見的應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Q &amp;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前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91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RFI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技術使用的範圍愈來愈廣泛，本簡報將說明其運作原理與相關應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RFI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是以讀取器來接收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RFI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標籤所發出的無線訊號，以達成物件識別、追踨、查核等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RFID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運作原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6920" y="3049560"/>
            <a:ext cx="7537680" cy="1911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6920" y="2060640"/>
            <a:ext cx="22179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1. </a:t>
            </a:r>
            <a:r>
              <a:rPr b="1" lang="zh-TW" sz="18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發送無線電波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   </a:t>
            </a:r>
            <a:r>
              <a:rPr b="1" lang="zh-TW" sz="18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號給</a:t>
            </a:r>
            <a:r>
              <a:rPr b="1" lang="zh-TW" sz="18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RFID</a:t>
            </a:r>
            <a:r>
              <a:rPr b="1" lang="zh-TW" sz="18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標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060640"/>
            <a:ext cx="31971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2. </a:t>
            </a:r>
            <a:r>
              <a:rPr b="1" lang="zh-TW" sz="18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接收到訊號後，將晶片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   </a:t>
            </a:r>
            <a:r>
              <a:rPr b="1" lang="zh-TW" sz="18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儲存的資料回傳給讀取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4880" y="5297400"/>
            <a:ext cx="31827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3. </a:t>
            </a:r>
            <a:r>
              <a:rPr b="1" lang="zh-TW" sz="18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讀取器收到資料後，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   </a:t>
            </a:r>
            <a:r>
              <a:rPr b="1" lang="zh-TW" sz="18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將資料傳給應用系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71680" y="483696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應用系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16120" y="4241880"/>
            <a:ext cx="10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讀取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81840" y="4836960"/>
            <a:ext cx="13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RFID</a:t>
            </a:r>
            <a:r>
              <a:rPr b="1" lang="zh-TW" sz="18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標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522520" y="2741760"/>
            <a:ext cx="308160" cy="7063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43000" y="4241880"/>
            <a:ext cx="1043280" cy="12128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338960" y="2730240"/>
            <a:ext cx="993960" cy="11811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RFID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標籤的分類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9640" y="2133720"/>
          <a:ext cx="8147160" cy="2842920"/>
        </p:xfrm>
        <a:graphic>
          <a:graphicData uri="http://schemas.openxmlformats.org/drawingml/2006/table">
            <a:tbl>
              <a:tblPr/>
              <a:tblGrid>
                <a:gridCol w="1976400"/>
                <a:gridCol w="2057400"/>
                <a:gridCol w="2054520"/>
                <a:gridCol w="2058840"/>
              </a:tblGrid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ID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標籤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內建電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感應距離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使用期限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被動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長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動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常見的應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貨物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電子票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門禁管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動物監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圖書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3671640" cy="2289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356000" y="3860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華康細圓體"/>
              </a:rPr>
              <a:t>搭車扣款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04000" y="3860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華康細圓體"/>
              </a:rPr>
              <a:t>消費付款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708360" y="4508640"/>
            <a:ext cx="2292480" cy="1617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300720" y="4508640"/>
            <a:ext cx="2144880" cy="1609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140360" y="6165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華康細圓體"/>
              </a:rPr>
              <a:t>智慧圖書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0240" y="6165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華康細圓體"/>
              </a:rPr>
              <a:t>自助借還書機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歡迎大家提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33640" y="4538520"/>
            <a:ext cx="13860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您的參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35280" y="445140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6:00:18Z</dcterms:created>
  <dc:creator>Administrator</dc:creator>
  <dc:description/>
  <dc:language>en-US</dc:language>
  <cp:lastModifiedBy>Administrator</cp:lastModifiedBy>
  <dcterms:modified xsi:type="dcterms:W3CDTF">2010-11-19T10:14:16Z</dcterms:modified>
  <cp:revision>31</cp:revision>
  <dc:subject/>
  <dc:title>從悠遊卡看RFID應用</dc:title>
</cp:coreProperties>
</file>