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47F9-675D-4D53-8758-DE220B9F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488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3923280"/>
            <a:ext cx="7488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E479-D1A8-49D0-8806-03873E24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416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410D-40FF-4F62-8322-C5332FDA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800" y="162864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0680" y="162864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392328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800" y="392328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0680" y="392328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B623-57E4-42C5-BD0F-540B05EB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F446D-5707-4CCA-A31A-52DE9E30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62864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83B08-F24D-4DC8-A253-CA14352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80CD2-CCF8-4469-88C8-C1C05B10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89BD0-4BF0-41BB-B352-3A66CE68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5ECA-3EBF-40D8-8294-E9611B99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6920" y="188640"/>
            <a:ext cx="748836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FD2D5-3D06-4F41-BE32-12F40E8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B0270-8A2B-42D6-B64F-A288EC0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62864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3EAA-0153-4CE9-88C3-444764D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416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1FAD1-82D7-4A0B-8A06-8C79049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3923280"/>
            <a:ext cx="7488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9CA0C-26CC-4E2C-9E9E-758C7118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488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3923280"/>
            <a:ext cx="7488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FB63B-A187-49F6-8CA9-06FECD5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416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EB2C4-4F02-443F-B59E-C1E56C3A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800" y="162864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62864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392328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800" y="392328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3923280"/>
            <a:ext cx="2410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A004-2CBD-43D4-B358-82FE20F4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C2E8-C217-4CAF-9B3B-01AFC611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31BB-EBA2-469D-AFCA-41CD768C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1DF9-197F-458B-8021-F330F2CD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6920" y="188640"/>
            <a:ext cx="748836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C03E-553E-40FA-A81B-968DBF4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C8C4-9B8A-40E4-B53D-700E7E8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4160" y="392328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7E54-BB11-4803-9E8B-4EA36D8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4160" y="1628640"/>
            <a:ext cx="3654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3923280"/>
            <a:ext cx="7488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0C83-053F-45A3-A43C-1F5FA9E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華康中圓體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華康中圓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62864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4BFF-EDE4-4215-9511-AE77978F83EE}" type="datetime"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14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6428-3C2F-4F1A-B2E7-49AEA0B9E4C5}" type="slidenum"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547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390400"/>
            <a:ext cx="763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華康中圓體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華康中圓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F2C-93AD-4757-9255-774557BB64B3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B181-F81A-4BA1-83B4-97492D76897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Wingdings" charset="2"/>
              <a:buChar char="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63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57960" y="2771640"/>
            <a:ext cx="1417680" cy="1809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331640" y="2390400"/>
            <a:ext cx="611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華康中圓體"/>
                <a:ea typeface="華康儷粗黑"/>
              </a:rPr>
              <a:t>我的攝影作品</a:t>
            </a:r>
            <a:endParaRPr b="0" lang="en-US" sz="7200" spc="-1" strike="noStrike">
              <a:solidFill>
                <a:srgbClr val="ffffff"/>
              </a:solidFill>
              <a:latin typeface="華康中圓體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7380000" y="2421000"/>
            <a:ext cx="1443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740720" y="2349000"/>
            <a:ext cx="71280" cy="358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956720" y="2636640"/>
            <a:ext cx="28728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56720" y="2997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58920" y="692280"/>
            <a:ext cx="7200720" cy="53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98680" y="938160"/>
            <a:ext cx="672156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8920" y="692280"/>
            <a:ext cx="7200720" cy="53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723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692280"/>
            <a:ext cx="7200720" cy="53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7104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6:23:50Z</dcterms:created>
  <dc:creator>user</dc:creator>
  <dc:description/>
  <dc:language>en-US</dc:language>
  <cp:lastModifiedBy>Administrator</cp:lastModifiedBy>
  <dcterms:modified xsi:type="dcterms:W3CDTF">2010-12-11T08:51:10Z</dcterms:modified>
  <cp:revision>29</cp:revision>
  <dc:subject/>
  <dc:title>我的攝影作品</dc:title>
</cp:coreProperties>
</file>