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9D0-F7C4-4C7A-A4CD-AA7E89AA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3EA9-6D7A-45E8-930E-10FBC3F6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D03-9E0F-4186-9CD1-A6B51713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F4E-3551-4492-B5CB-95323775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3835-9163-4B85-BBE4-D3999FE0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0A51-F94D-4798-8147-B75C6C32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9618-40BE-4A48-8377-163B713D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DDF1-83C7-4613-9AC8-F156AC87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DD6A-14C4-4420-8770-444A79AD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5CA4-841D-4721-BC80-88A69862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C7A6-B1BA-4C8B-9DCE-79ABA7A8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B393-26A6-4CD4-80F9-FBB62D6B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8AA5-231E-455B-9B33-87E678F7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69DE-307E-45E6-A246-D6BE3488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D2F7-889E-4E1D-A3F7-C8B25EF1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0A9D-82EC-49F7-A7F9-72ECEDC8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34B1-2F3F-4E39-9452-B185A0EE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B41-A6A0-4940-A976-33F82B65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387-82C1-439A-B692-B27FBB52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B4A-55B0-4B23-9666-3EFEEBC4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C1D-95B2-4A3C-9D69-E6EC6512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3A3-AF0E-4141-9D11-AFD23E3F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9A6-DA04-482E-B145-AACB09A9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9A8F-B9DB-4C99-AD7C-D85DEEC5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EC2F-2960-4BDA-A95B-93EAE102068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25F3-C4AA-4C83-BBF7-D6B921CA2F2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0" spc="-1" strike="noStrike">
                <a:solidFill>
                  <a:srgbClr val="000000"/>
                </a:solidFill>
                <a:latin typeface="Arial"/>
                <a:ea typeface="華康粗圓體"/>
              </a:rPr>
              <a:t>迎接雲端新生活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1434960"/>
            <a:ext cx="446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Arial"/>
                <a:ea typeface="華康細圓體"/>
              </a:rPr>
              <a:t>小論文作品簡報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196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報告人：林志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目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華康勘亭流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研究動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研究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華康勘亭流"/>
              </a:rPr>
              <a:t>正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雲端運算的起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雲端運算的簡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雲端的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雲端的應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雲端運算的優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華康勘亭流"/>
              </a:rPr>
              <a:t>結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華康勘亭流"/>
              </a:rPr>
              <a:t>引註資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443640" y="4221000"/>
            <a:ext cx="2048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3:29:49Z</dcterms:created>
  <dc:creator>Administrator</dc:creator>
  <dc:description/>
  <dc:language>en-US</dc:language>
  <cp:lastModifiedBy>Administrator</cp:lastModifiedBy>
  <dcterms:modified xsi:type="dcterms:W3CDTF">2010-11-29T03:13:52Z</dcterms:modified>
  <cp:revision>15</cp:revision>
  <dc:subject/>
  <dc:title>迎接雲端新生活</dc:title>
</cp:coreProperties>
</file>