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165D-C62D-43A6-8607-C707F1DAD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C864-A32F-4318-8A93-6D94617EE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930D-27CD-48ED-8C10-763E454FD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252F-952A-48CF-A922-AB78DED1A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3B4B-E695-42CB-9D35-09B9F6794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B9AA-113D-4C17-A0CF-9F9D0FE99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27D9-9A0F-48FF-B959-EE7251801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BE48-3805-4B6F-AB9B-CC266B181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A851-CF5D-42AD-B090-CA883A023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5435-1120-4833-A398-3E07B554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103C-FB93-4E71-9869-CC4D3CB8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D14B-D2A4-464F-BFF9-B02BFE89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8CC99-A55C-4496-9D2B-6F16F746177F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e6ff"/>
            </a:gs>
            <a:gs pos="100000">
              <a:srgbClr val="fcfd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90680" y="4191120"/>
            <a:ext cx="2587320" cy="2190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71560" y="3062160"/>
            <a:ext cx="1827360" cy="1498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28760" y="3557520"/>
            <a:ext cx="152280" cy="141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013120" y="3557520"/>
            <a:ext cx="152280" cy="141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4505600">
            <a:off x="1455480" y="3708000"/>
            <a:ext cx="212760" cy="380880"/>
          </a:xfrm>
          <a:prstGeom prst="triangle">
            <a:avLst>
              <a:gd name="adj" fmla="val 55884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55760" y="2138400"/>
            <a:ext cx="766800" cy="1015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1172160" y="3459960"/>
            <a:ext cx="1051560" cy="86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27" y="5800"/>
                </a:moveTo>
                <a:arcTo wR="10800" hR="10800" stAng="-9145320" swAng="7351952"/>
                <a:lnTo>
                  <a:pt x="10800" y="10800"/>
                </a:lnTo>
                <a:close/>
              </a:path>
              <a:path fill="none" w="21600" h="21600">
                <a:moveTo>
                  <a:pt x="1227" y="5800"/>
                </a:moveTo>
                <a:arcTo wR="10800" hR="10800" stAng="-9145320" swAng="7351952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060360" y="4509720"/>
            <a:ext cx="403236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000" spc="-1" strike="noStrike">
                <a:solidFill>
                  <a:srgbClr val="000000"/>
                </a:solidFill>
                <a:latin typeface="Arial"/>
                <a:ea typeface="華康中特圓體"/>
              </a:rPr>
              <a:t>三年二班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000" spc="-1" strike="noStrike">
                <a:solidFill>
                  <a:srgbClr val="000000"/>
                </a:solidFill>
                <a:latin typeface="Arial"/>
                <a:ea typeface="華康中特圓體"/>
              </a:rPr>
              <a:t>陳吉漢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6T06:41:03Z</dcterms:created>
  <dc:creator>黛琳</dc:creator>
  <dc:description/>
  <dc:language>en-US</dc:language>
  <cp:lastModifiedBy>Administrator</cp:lastModifiedBy>
  <dcterms:modified xsi:type="dcterms:W3CDTF">2011-02-25T04:19:42Z</dcterms:modified>
  <cp:revision>14</cp:revision>
  <dc:subject/>
  <dc:title>認識企鵝</dc:title>
</cp:coreProperties>
</file>