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F045-18CC-4D6F-9EB1-739248866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1804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1464-0476-49A8-9C9E-651BD46E5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880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C437-018E-45A4-9648-28B04F025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5700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5680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5700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45680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6972-8868-421C-BABD-AAFE4C458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A073C-70EB-4D74-B58F-415AE553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322E0-F601-414B-964A-48CAB8F3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40FC4-FE1C-44CC-BCD2-C073AEDE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E8E44-595F-4AAF-9F4A-11403E90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23E9C-43D3-4A73-889E-16D2AC24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30296-3E0A-456C-A0F8-1208EC24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E06DD-0FC3-4B98-8700-55F1F3C7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07CE-004B-4C43-8EC1-DA10B0CB7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880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25065-5F06-46AB-92D2-098A4A9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84050-C293-4BE9-B592-020C30BE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11804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4C0E0-C6CC-4A9E-8800-A9248E44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880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EAB04-0DD5-418F-8A65-BBE96D8C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5700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5680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5700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5680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D8C93-DAEE-4CD1-89C4-8E9A3F75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9578-70F7-40CF-B8BF-7DD4512C9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29C3-C8B7-46D5-9C67-C096C1A3F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9D3F-2B7E-4CC2-A35E-F162DA35F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366E-A546-47D9-9C4C-1C49B9055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B4E7-F3E1-498D-97DC-A080354CE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880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09C1-6146-4A21-BCD6-F9FB6F3DF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47DC-5A0C-4C14-A703-BE1E1F1B5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. </a:t>
            </a:r>
            <a:fld id="{D7EBFED2-03A9-4038-BBB0-5540090EF385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8720" y="1413000"/>
            <a:ext cx="575784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9"/>
          <a:stretch/>
        </p:blipFill>
        <p:spPr>
          <a:xfrm>
            <a:off x="6794640" y="2205000"/>
            <a:ext cx="2349360" cy="3519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10"/>
          <a:stretch/>
        </p:blipFill>
        <p:spPr>
          <a:xfrm>
            <a:off x="6786720" y="4946760"/>
            <a:ext cx="2879640" cy="1911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1"/>
          <a:stretch/>
        </p:blipFill>
        <p:spPr>
          <a:xfrm>
            <a:off x="6786720" y="-316080"/>
            <a:ext cx="2357280" cy="3519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732720" y="0"/>
            <a:ext cx="2411280" cy="685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1225440" y="-17640"/>
            <a:ext cx="10369440" cy="6893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B35B-48BC-4E25-9816-3AAD6FF6085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12720" y="620640"/>
            <a:ext cx="6118560" cy="1440000"/>
          </a:xfrm>
          <a:custGeom>
            <a:avLst/>
            <a:gdLst>
              <a:gd name="textAreaLeft" fmla="*/ 169560 w 6118560"/>
              <a:gd name="textAreaRight" fmla="*/ 5949000 w 6118560"/>
              <a:gd name="textAreaTop" fmla="*/ 169560 h 1440000"/>
              <a:gd name="textAreaBottom" fmla="*/ 1270440 h 1440000"/>
            </a:gdLst>
            <a:ahLst/>
            <a:rect l="textAreaLeft" t="textAreaTop" r="textAreaRight" b="textAreaBottom"/>
            <a:pathLst>
              <a:path w="9176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8161" y="21600"/>
                </a:lnTo>
                <a:arcTo wR="3600" hR="3600" stAng="10800000" swAng="5400000"/>
                <a:lnTo>
                  <a:pt x="9176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99"/>
              </a:gs>
            </a:gsLst>
            <a:lin ang="13500000"/>
          </a:gra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  <a:ea typeface="華康行書體"/>
              </a:rPr>
              <a:t>新品上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000000"/>
                </a:solidFill>
                <a:latin typeface="Times New Roman"/>
                <a:ea typeface="華康行書體"/>
              </a:rPr>
              <a:t>12</a:t>
            </a:r>
            <a:r>
              <a:rPr b="0" lang="zh-TW" sz="5500" spc="-1" strike="noStrike">
                <a:solidFill>
                  <a:srgbClr val="000000"/>
                </a:solidFill>
                <a:latin typeface="ParkAvenue BT"/>
                <a:ea typeface="華康行書體"/>
              </a:rPr>
              <a:t>A</a:t>
            </a:r>
            <a:r>
              <a:rPr b="0" lang="zh-TW" sz="5500" spc="-1" strike="noStrike">
                <a:solidFill>
                  <a:srgbClr val="000000"/>
                </a:solidFill>
                <a:latin typeface="Times New Roman"/>
                <a:ea typeface="華康行書體"/>
              </a:rPr>
              <a:t>頂級和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aiwan.net.tw/" TargetMode="External"/><Relationship Id="rId3" Type="http://schemas.openxmlformats.org/officeDocument/2006/relationships/hyperlink" Target="http://www.taiwan.net.tw/" TargetMode="External"/><Relationship Id="rId4" Type="http://schemas.openxmlformats.org/officeDocument/2006/relationships/hyperlink" Target="http://www.taiwan.net.tw/" TargetMode="External"/><Relationship Id="rId5" Type="http://schemas.openxmlformats.org/officeDocument/2006/relationships/hyperlink" Target="http://www.taiwan.net.tw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coa.gov.tw/" TargetMode="External"/><Relationship Id="rId8" Type="http://schemas.openxmlformats.org/officeDocument/2006/relationships/hyperlink" Target="http://www.coa.gov.tw/" TargetMode="External"/><Relationship Id="rId9" Type="http://schemas.openxmlformats.org/officeDocument/2006/relationships/hyperlink" Target="http://www.coa.gov.tw/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www.formosacooking.com.tw/" TargetMode="External"/><Relationship Id="rId12" Type="http://schemas.openxmlformats.org/officeDocument/2006/relationships/hyperlink" Target="http://www.formosacooking.com.tw/" TargetMode="External"/><Relationship Id="rId13" Type="http://schemas.openxmlformats.org/officeDocument/2006/relationships/hyperlink" Target="http://www.formosacooking.com.tw/" TargetMode="External"/><Relationship Id="rId14" Type="http://schemas.openxmlformats.org/officeDocument/2006/relationships/hyperlink" Target="http://www.formosacooking.com.tw/" TargetMode="External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294160" y="4611600"/>
            <a:ext cx="3670560" cy="21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九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邀請您一起來品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日期：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12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月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10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43863-43F6-4B0E-A54A-E379095CF7FF}" type="slidenum">
              <a:t>1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新細明體"/>
              </a:rPr>
              <a:t>新品上市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以最自然的烹調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讓喜愛美食的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品嚐到最鮮嫩多汁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日本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A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頂級和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滿足你挑剔的味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FB6B-7B67-4686-912F-AB699B383A81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Arial"/>
              </a:rPr>
              <a:t>嚴選食材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由日本空運來台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A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頂級和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油脂分布細緻均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搭配產地直送的新鮮時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佐以松露鵝肝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C78C-2FD4-464E-89BE-B5A00052D6D0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Arial"/>
              </a:rPr>
              <a:t>主廚料理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24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歡迎來自日本的大廚</a:t>
            </a:r>
            <a:br>
              <a:rPr sz="3200"/>
            </a:br>
            <a:r>
              <a:rPr b="0" lang="zh-TW" sz="9000" spc="-1" strike="noStrike">
                <a:solidFill>
                  <a:srgbClr val="000000"/>
                </a:solidFill>
                <a:latin typeface="新細明體"/>
              </a:rPr>
              <a:t>須赫洋介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4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現場示範</a:t>
            </a:r>
            <a:br>
              <a:rPr sz="3200"/>
            </a:br>
            <a:r>
              <a:rPr b="0" lang="zh-TW" sz="5000" spc="-1" strike="noStrike">
                <a:solidFill>
                  <a:srgbClr val="000000"/>
                </a:solidFill>
                <a:latin typeface="Times New Roman"/>
              </a:rPr>
              <a:t>碳烤</a:t>
            </a:r>
            <a:r>
              <a:rPr b="1" i="1" lang="zh-TW" sz="5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TW" sz="5000" spc="-1" strike="noStrike">
                <a:solidFill>
                  <a:srgbClr val="000000"/>
                </a:solidFill>
                <a:latin typeface="ParkAvenue BT"/>
              </a:rPr>
              <a:t>A</a:t>
            </a:r>
            <a:r>
              <a:rPr b="0" lang="zh-TW" sz="5000" spc="-1" strike="noStrike">
                <a:solidFill>
                  <a:srgbClr val="000000"/>
                </a:solidFill>
                <a:latin typeface="Times New Roman"/>
              </a:rPr>
              <a:t>頂級和牛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691A-A2DB-4C4E-B3CD-7AF284345B8A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Arial"/>
              </a:rPr>
              <a:t>優惠活動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促銷期間：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/24 ~ 12/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地點：九井餐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售價：每客 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$ 3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份數：每日限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20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F1E4-7222-4B7C-98B7-D327C63E794B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Arial"/>
              </a:rPr>
              <a:t>贊助單位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交通部觀光局</a:t>
            </a:r>
            <a:br>
              <a:rPr sz="3200"/>
            </a:b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2"/>
              </a:rPr>
              <a:t>http://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3"/>
              </a:rPr>
              <a:t>www.taiwan.net.tw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4"/>
              </a:rPr>
              <a:t>/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行政院農委會</a:t>
            </a:r>
            <a:br>
              <a:rPr sz="3200"/>
            </a:b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7"/>
              </a:rPr>
              <a:t>http://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8"/>
              </a:rPr>
              <a:t>www.coa.gov.tw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9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台灣福爾摩莎廚藝美食協會</a:t>
            </a:r>
            <a:br>
              <a:rPr sz="3200"/>
            </a:b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11"/>
              </a:rPr>
              <a:t>http://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12"/>
              </a:rPr>
              <a:t>www.formosacooking.com.tw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13"/>
              </a:rPr>
              <a:t>/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1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B160-8CAB-494E-9A08-0DE9281415B8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Arial"/>
              </a:rPr>
              <a:t>誠摯感謝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感謝各位蒞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新細明體"/>
                <a:ea typeface="華康行書體"/>
              </a:rPr>
              <a:t>九井</a:t>
            </a:r>
            <a:r>
              <a:rPr b="0" lang="zh-TW" sz="5600" spc="-1" strike="noStrike">
                <a:solidFill>
                  <a:srgbClr val="000000"/>
                </a:solidFill>
                <a:latin typeface="新細明體"/>
              </a:rPr>
              <a:t>  </a:t>
            </a:r>
            <a:r>
              <a:rPr b="0" lang="zh-TW" sz="5000" spc="-1" strike="noStrike">
                <a:solidFill>
                  <a:srgbClr val="000000"/>
                </a:solidFill>
                <a:latin typeface="新細明體"/>
              </a:rPr>
              <a:t>新品發表會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~Thank you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1021-68B0-4983-B62C-3A8D7B7182DA}" type="slidenum">
              <a:t>7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1:09:42Z</dcterms:created>
  <dc:creator>USER</dc:creator>
  <dc:description/>
  <dc:language>en-US</dc:language>
  <cp:lastModifiedBy>USER</cp:lastModifiedBy>
  <dcterms:modified xsi:type="dcterms:W3CDTF">2009-12-11T07:05:27Z</dcterms:modified>
  <cp:revision>43</cp:revision>
  <dc:subject/>
  <dc:title>投影片 1</dc:title>
</cp:coreProperties>
</file>