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CA50-1BE4-486A-A4FB-2A1A738B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7800-3DBE-4FBF-89BC-BBA5B4E3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0F7F-0BF6-4CF4-B13C-A0CEBF90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7F49-1403-4B40-8E19-9089FBE8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BEB8-5721-44F8-BBD9-D95B0C9F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B279-18DF-4B02-980D-78418D83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97C1-8A28-40BE-8F54-71CD45A4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4F69-51B4-4ABE-85A3-E825C56D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ABA8-6FBB-4323-AF9D-CD878F8F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0CE3-D027-4EE0-9B5C-34C5C04E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CB5A-7733-4433-ADE8-5E44A4D7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F37B-0FAF-4CFF-B36D-A22B51A1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AC92-19BD-4912-9A3C-FC3F27A2D8C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4000" y="630360"/>
            <a:ext cx="648036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0" spc="-1" strike="noStrike">
                <a:solidFill>
                  <a:srgbClr val="000000"/>
                </a:solidFill>
                <a:latin typeface="新細明體"/>
              </a:rPr>
              <a:t>老師，謝謝您！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x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年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x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班全體同學  敬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143920" y="6138720"/>
            <a:ext cx="1000080" cy="96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flipH="1">
            <a:off x="-108000" y="6184800"/>
            <a:ext cx="1000080" cy="9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02:12:44Z</dcterms:created>
  <dc:creator>user</dc:creator>
  <dc:description/>
  <dc:language>en-US</dc:language>
  <cp:lastModifiedBy>USER</cp:lastModifiedBy>
  <dcterms:modified xsi:type="dcterms:W3CDTF">2010-01-05T08:59:18Z</dcterms:modified>
  <cp:revision>13</cp:revision>
  <dc:subject/>
  <dc:title>投影片 1</dc:title>
</cp:coreProperties>
</file>