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B862-308A-45AC-8784-4FB2774F1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7510-C4E5-436D-9AB6-924700EDF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4D7A-9DE9-46AE-A3FE-AFE915241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352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352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E2D7-8FAD-4B43-8B4D-F0EDA2C2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9ED1F-2865-430C-B5ED-AE7BCCAA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FB776-6FCC-4F78-A43B-8BE7FCFC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5E61-D7CE-4749-8B63-A0838E5B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F1764-B1CC-4F95-A4CF-8EB5623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50081-CDFE-4E1A-BCF9-A75EB3A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4976-B4C8-49A5-9894-7A36783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99651-1696-4F58-AAFA-76B67D67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6635-C7D4-4907-A36C-745604EE9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B9300-AD37-4B00-BB87-1DEFDF1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043EC-630F-4E49-8579-7231D0E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44E10-AF39-417E-83D0-6F686C5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C2F45-55F1-4111-8D6C-F73F2ECC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9323D-4F19-40C3-8128-94F31F06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AB60-BEC7-4209-8273-81B42B229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93F1-6C8F-4ADE-A9EA-10C60A18E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7B33-D08E-487B-A710-A59F91E5F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C588-5C4C-4973-82A7-FA4B93BDC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88CC-B9B8-4514-ABCB-314DE00CA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2432-C74C-43B5-9D97-CBB00E935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7734-1E05-4509-B299-2F2A8354C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D540-8E28-4123-969B-68DD919FA8D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1880" y="1413000"/>
            <a:ext cx="82314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006E-646F-451B-A87B-2095F46C019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4640" y="2600280"/>
            <a:ext cx="6400800" cy="425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94160" y="4611600"/>
            <a:ext cx="367056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九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邀請您一起來品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期：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2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0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新品上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以最自然的烹調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讓喜愛美食的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品嚐到最鮮嫩多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日本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滿足你挑剔的味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嚴選食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由日本空運來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油脂分布細緻均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搭配產地直送的新鮮時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佐以松露鵝肝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廚料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歡迎來自日本的大廚</a:t>
            </a:r>
            <a:br>
              <a:rPr sz="3200"/>
            </a:br>
            <a:r>
              <a:rPr b="0" lang="zh-TW" sz="9000" spc="-1" strike="noStrike">
                <a:solidFill>
                  <a:srgbClr val="000000"/>
                </a:solidFill>
                <a:latin typeface="新細明體"/>
              </a:rPr>
              <a:t>須赫洋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現場示範</a:t>
            </a:r>
            <a:br>
              <a:rPr sz="3200"/>
            </a:br>
            <a:r>
              <a:rPr b="0" lang="zh-TW" sz="5000" spc="-1" strike="noStrike">
                <a:solidFill>
                  <a:srgbClr val="000000"/>
                </a:solidFill>
                <a:latin typeface="新細明體"/>
              </a:rPr>
              <a:t>碳烤</a:t>
            </a:r>
            <a:r>
              <a:rPr b="0" i="1" lang="zh-TW" sz="5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TW" sz="5000" spc="-1" strike="noStrike">
                <a:solidFill>
                  <a:srgbClr val="000000"/>
                </a:solidFill>
                <a:latin typeface="ParkAvenue BT"/>
              </a:rPr>
              <a:t>A</a:t>
            </a:r>
            <a:r>
              <a:rPr b="0" lang="zh-TW" sz="50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優惠活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促銷期間：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/24 ~ 12/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地點：九井餐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售價：每客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$ 3,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數：每日限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贊助單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交通部觀光局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ttp://www.taiwan.net.tw/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行政院農委會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ttp://www.coa.gov.tw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台灣福爾摩莎廚藝美食協會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ttp://www.formosacooking.com.tw/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誠摯感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感謝各位蒞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  <a:ea typeface="華康行書體"/>
              </a:rPr>
              <a:t>九井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  </a:t>
            </a:r>
            <a:r>
              <a:rPr b="0" lang="zh-TW" sz="50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新品發表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~Thank you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1:09:42Z</dcterms:created>
  <dc:creator>USER</dc:creator>
  <dc:description/>
  <dc:language>en-US</dc:language>
  <cp:lastModifiedBy>USER</cp:lastModifiedBy>
  <dcterms:modified xsi:type="dcterms:W3CDTF">2009-12-18T01:50:31Z</dcterms:modified>
  <cp:revision>47</cp:revision>
  <dc:subject/>
  <dc:title>投影片 1</dc:title>
</cp:coreProperties>
</file>