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3CA6-D610-40C3-ABAC-BFB11EBD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26920" y="37368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B6C-A9D2-417D-A4E1-8602A0FB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36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C827-63CE-4ABE-BCD2-6567FFB0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644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4632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2692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644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74632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5455-8B8A-4E61-91C1-2DFD3CDB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0067-688C-4C89-842C-A9F63C0C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082B-B3FC-4E28-A3F9-22C4B7D0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3017-91AD-4C17-86BD-5190850B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3826-88D7-4319-A01D-1F38C7B5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353E-C246-4AB4-9428-B89490B0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38240" y="82080"/>
            <a:ext cx="7067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742B-B81D-43CE-A513-7BE4C71D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5851-33E8-4CC4-B6BA-0784C408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2B0-FB89-455E-8965-469FC107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36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AE30-CCBF-4F53-A115-7702DE66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77B8-F319-4628-9AC0-F736A6D8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26920" y="37368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3618-6940-41AD-B8E7-B040F37D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5436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A947-EDFA-4244-A45A-F1325AC7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8644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4632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2692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8644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4632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AE22-A75D-46F9-915C-C8E1A92E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B427-C0AA-472E-9878-92808FAF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969C-6CAA-4DEA-92EA-1DC39CAC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0C97-3ACB-4136-A28B-BABAE1FB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38240" y="82080"/>
            <a:ext cx="7067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B3F-1C56-447E-890C-02DD0FA2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52A2-3210-4AF7-ADCD-9EF46D38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436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CD62-57A2-4B57-8186-2859CDAF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4CC1-EC8F-42F5-93D7-D01419B7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948360" y="3603600"/>
            <a:ext cx="1944720" cy="2676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5775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40" y="6453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99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7040" indent="-4370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-432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3964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3528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3128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3128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3128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BC4A-1EB3-4AA2-8526-76174F528114}" type="datetime"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481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82A4-1815-4723-844F-BE5A41615478}" type="slidenum"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2438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89cf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0040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0" t="0" r="0" b="31522"/>
          <a:stretch/>
        </p:blipFill>
        <p:spPr>
          <a:xfrm>
            <a:off x="5770440" y="3357720"/>
            <a:ext cx="3373560" cy="347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9192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87BB-A2E0-4794-B06A-4EEA52C48A09}" type="datetime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B571-4345-4806-B91E-8173B15378F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rcRect l="0" t="0" r="0" b="24291"/>
          <a:stretch/>
        </p:blipFill>
        <p:spPr>
          <a:xfrm>
            <a:off x="0" y="0"/>
            <a:ext cx="3200400" cy="2422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36232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41280" algn="ctr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9196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24300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2430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2430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268,2,&#30446;&#37636;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268,2,&#30446;&#37636;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49192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推甄履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星光中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趙子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得獎紀錄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8360" y="1292400"/>
          <a:ext cx="8207280" cy="4224240"/>
        </p:xfrm>
        <a:graphic>
          <a:graphicData uri="http://schemas.openxmlformats.org/drawingml/2006/table">
            <a:tbl>
              <a:tblPr/>
              <a:tblGrid>
                <a:gridCol w="5616360"/>
                <a:gridCol w="2590920"/>
              </a:tblGrid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項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 w="13680">
                      <a:solidFill>
                        <a:srgbClr val="99ccff"/>
                      </a:solidFill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成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 w="13680">
                      <a:solidFill>
                        <a:srgbClr val="99ccff"/>
                      </a:solidFill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國高中職組啦啦隊大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縣反盜版海報設計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際網頁設計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際英文演說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際飲料調酒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際英文作文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 w="13680">
                      <a:solidFill>
                        <a:srgbClr val="99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佳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 w="13680">
                      <a:solidFill>
                        <a:srgbClr val="99cc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未來學習計畫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課業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成績保持班上前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5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語言學習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通過全民英檢中高級檢定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其他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爭取資訊公司工讀機會，預先了解業界實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簡報內容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1125000"/>
            <a:ext cx="3560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人基本資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求學過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幹部經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專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社團經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39960" y="1125000"/>
            <a:ext cx="3560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志工經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檢定與證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得獎紀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未來學習計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個人基本資料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姓名：趙子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學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星光中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仁愛國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仁愛國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推甄科系：資訊管理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求學過程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國小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~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國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從小喜歡玩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電腦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對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資訊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很有興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高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利用空閒時間來研讀各種電腦書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考取多項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證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幹部經歷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一：電腦小老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協助解決同學疑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協助老師整理教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二：體育股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帶領全班同學獲得啦啦隊比賽第一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三：班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帶領同學得到學年精神總錦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專長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文書處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程式設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英文演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美術設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舞蹈表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飲料調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社團經歷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數位影像編修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熱舞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啦啦隊校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飲料調酒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志工經歷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台北市立動物園志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教育部資訊志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內政部消防署鳳凰志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  <a:hlinkClick r:id="rId1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檢定與證照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  <a:hlinkClick r:id="rId1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3:52:41Z</dcterms:created>
  <dc:creator>E063</dc:creator>
  <dc:description/>
  <dc:language>en-US</dc:language>
  <cp:lastModifiedBy>user</cp:lastModifiedBy>
  <dcterms:modified xsi:type="dcterms:W3CDTF">2009-11-03T09:43:52Z</dcterms:modified>
  <cp:revision>31</cp:revision>
  <dc:subject/>
  <dc:title>推</dc:title>
</cp:coreProperties>
</file>