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299-30EE-4F07-8467-BE871D94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E8C-3C00-4661-8704-24E76EA7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45F-0894-482A-84F4-BF323FDD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20D-3599-45D4-8E9E-D8327BC0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62D-08D7-49EF-85BF-1F96BDC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D57-0A63-4DB5-8A99-6134B350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8BB-9721-488A-B0AC-75EDFE0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B03-8B22-4F93-8C47-317A4518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D14-D65E-4E89-927E-96C6AC1E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C62-4FDB-48E0-8B70-1524D0F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107-A93E-4DD8-9223-5EF741A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DB5-7D0D-4BF1-B0C4-886E9A0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428F-8DA8-422C-85EF-0ECEFFDEC89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班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43920" y="6138720"/>
            <a:ext cx="1000080" cy="9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-108000" y="61848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10-01-05T08:59:18Z</dcterms:modified>
  <cp:revision>13</cp:revision>
  <dc:subject/>
  <dc:title>投影片 1</dc:title>
</cp:coreProperties>
</file>