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936A-5DA7-4299-9EBC-9B068C480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23960"/>
            <a:ext cx="82310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F16C-D092-4A8B-A33E-EF3651D36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396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960" y="432396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E24B-F684-4143-83B8-AD342FD73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95912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3520" y="195912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2396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432396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3520" y="432396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DC56-38E1-4008-9A8E-C53936EEC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CDB78-FE71-4A50-AC9E-4B01C126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C6486-6E0E-4E79-88C0-3D35A37A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CA853-85D7-4754-B56E-FE33672B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2305D-0806-4BBF-97A8-6C825D3E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85EE6-CD87-4A87-9ACF-DDDE9553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369B1-6F52-49B4-8BE1-AE626A23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32396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DEB1D-0C13-4BED-ACF5-9BFE0D63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BAC5-28C6-4854-8B83-21EC4EE5F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960" y="432396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19DB3-53F6-4399-9764-F72679DC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23960"/>
            <a:ext cx="82310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44262-B97B-4D66-A6B4-BEB2C898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323960"/>
            <a:ext cx="82310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2C890-36C1-4F1B-8BAA-97239CC8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396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960" y="432396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CE6CF-986D-4A6E-A078-959831DD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360" y="195912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3520" y="195912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32396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360" y="432396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3520" y="4323960"/>
            <a:ext cx="26503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34F5F-0B15-45E0-84AF-F0FB4AB3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8214-08BC-4119-A559-989C9149A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B712-C257-4E1A-8694-FA8626D4F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4D04-7A54-4190-8093-DA060F728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D09F-DB74-43CC-ADDB-C14764713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2396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351D-CB1B-4C10-9C40-35B2DCCF1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960" y="432396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8554-CD44-442E-9978-D7C8DF136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960" y="1959120"/>
            <a:ext cx="4016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23960"/>
            <a:ext cx="82310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D5FE-2FD0-45E3-955A-96F9021AB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0497-398F-40EF-A17C-072997B92E9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1880" y="1413000"/>
            <a:ext cx="823140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A0C4-AD2F-43A6-B625-F54B5A8D782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4640" y="2600280"/>
            <a:ext cx="6400800" cy="4254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294160" y="4611600"/>
            <a:ext cx="3670560" cy="21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九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邀請您一起來品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日期：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12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月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10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華康行書體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新細明體"/>
              </a:rPr>
              <a:t>新品上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以最自然的烹調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讓喜愛美食的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品嚐到最鮮嫩多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日本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12A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頂級和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滿足你挑剔的味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嚴選食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由日本空運來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12A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頂級和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油脂分布細緻均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搭配產地直送的新鮮時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佐以松露鵝肝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廚料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歡迎來自日本的大廚</a:t>
            </a:r>
            <a:br>
              <a:rPr sz="3200"/>
            </a:br>
            <a:r>
              <a:rPr b="0" lang="zh-TW" sz="9000" spc="-1" strike="noStrike">
                <a:solidFill>
                  <a:srgbClr val="000000"/>
                </a:solidFill>
                <a:latin typeface="新細明體"/>
              </a:rPr>
              <a:t>須赫洋介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現場示範</a:t>
            </a:r>
            <a:br>
              <a:rPr sz="3200"/>
            </a:br>
            <a:r>
              <a:rPr b="0" lang="zh-TW" sz="5000" spc="-1" strike="noStrike">
                <a:solidFill>
                  <a:srgbClr val="000000"/>
                </a:solidFill>
                <a:latin typeface="新細明體"/>
              </a:rPr>
              <a:t>碳烤</a:t>
            </a:r>
            <a:r>
              <a:rPr b="0" i="1" lang="zh-TW" sz="5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TW" sz="5000" spc="-1" strike="noStrike">
                <a:solidFill>
                  <a:srgbClr val="000000"/>
                </a:solidFill>
                <a:latin typeface="ParkAvenue BT"/>
              </a:rPr>
              <a:t>A</a:t>
            </a:r>
            <a:r>
              <a:rPr b="0" lang="zh-TW" sz="5000" spc="-1" strike="noStrike">
                <a:solidFill>
                  <a:srgbClr val="000000"/>
                </a:solidFill>
                <a:latin typeface="新細明體"/>
              </a:rPr>
              <a:t>頂級和牛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優惠活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促銷期間：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12/24 ~ 12/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地點：九井餐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售價：每客 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$ 3,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份數：每日限量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20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贊助單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交通部觀光局</a:t>
            </a:r>
            <a:br>
              <a:rPr sz="3200"/>
            </a:b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http://www.taiwan.net.tw/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行政院農委會</a:t>
            </a:r>
            <a:br>
              <a:rPr sz="3200"/>
            </a:b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http://www.coa.gov.tw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台灣福爾摩莎廚藝美食協會</a:t>
            </a:r>
            <a:br>
              <a:rPr sz="3200"/>
            </a:b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http://www.formosacooking.com.tw/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誠摯感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華康中圓體"/>
              </a:rPr>
              <a:t>感謝各位蒞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000000"/>
                </a:solidFill>
                <a:latin typeface="新細明體"/>
                <a:ea typeface="華康行書體"/>
              </a:rPr>
              <a:t>九井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華康中圓體"/>
              </a:rPr>
              <a:t>  </a:t>
            </a:r>
            <a:r>
              <a:rPr b="0" lang="zh-TW" sz="5000" spc="-1" strike="noStrike">
                <a:solidFill>
                  <a:srgbClr val="000000"/>
                </a:solidFill>
                <a:latin typeface="新細明體"/>
                <a:ea typeface="華康中圓體"/>
              </a:rPr>
              <a:t>新品發表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華康中圓體"/>
              </a:rPr>
              <a:t>~Thank you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1:09:42Z</dcterms:created>
  <dc:creator>USER</dc:creator>
  <dc:description/>
  <dc:language>en-US</dc:language>
  <cp:lastModifiedBy>USER</cp:lastModifiedBy>
  <dcterms:modified xsi:type="dcterms:W3CDTF">2009-12-18T01:50:31Z</dcterms:modified>
  <cp:revision>47</cp:revision>
  <dc:subject/>
  <dc:title>投影片 1</dc:title>
</cp:coreProperties>
</file>