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AE6B-E117-4562-BBA2-9027EEBB9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5F4E-B54E-423C-ADC7-E80695067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F853-EB66-47C6-ACFD-227E8CC49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570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568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570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568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7385-973E-4D00-B83D-A9E2F84AC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D70A1-6978-4535-897B-F4BB05B1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D5AD-AB16-489B-AB9B-CB27EBE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1DCD-9B13-4FD1-8016-6EF0A21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93B3B-6EE7-4E3F-BB73-627E1AFE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C5013-7B5A-47F8-9995-472187D1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7340-D3D7-40F8-B185-3BB243D2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AFA7B-201B-427B-A80E-0A478F8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A3F8-A1E3-4F9B-93FD-8C03DA6A6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32EFB-4EA2-428C-BCF1-A859CB5F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815A-C03E-46B0-8775-1308998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0A2F9-6A6F-4454-A59E-DC96D036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7F7BB-604C-4CE3-98E5-E14B929F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570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56800" y="195876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570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56800" y="4118040"/>
            <a:ext cx="1904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081BF-85C7-49F5-9326-B5E406A4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193B-D956-4871-AA1E-E380681BA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7BA8-2298-48EC-BA76-6CE1F5A52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D25C-F72E-4131-80AC-BECBB1656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940C-16D0-4DE1-A386-B5A81E839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9393-DB1F-41D0-8796-7A68F1147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88040" y="411804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A891-61A0-48A7-A533-670AFE403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191520"/>
            <a:ext cx="5986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88040" y="1958760"/>
            <a:ext cx="2886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18040"/>
            <a:ext cx="59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DA7B-098B-471C-80F5-9E88A1225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. </a:t>
            </a:r>
            <a:fld id="{347196DC-B091-4A91-9F9A-B3593508947E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8720" y="1413000"/>
            <a:ext cx="575784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9"/>
          <a:stretch/>
        </p:blipFill>
        <p:spPr>
          <a:xfrm>
            <a:off x="6794640" y="2205000"/>
            <a:ext cx="2349360" cy="3519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786720" y="494676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1"/>
          <a:stretch/>
        </p:blipFill>
        <p:spPr>
          <a:xfrm>
            <a:off x="6786720" y="-316080"/>
            <a:ext cx="2357280" cy="3519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32720" y="0"/>
            <a:ext cx="241128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225440" y="-17640"/>
            <a:ext cx="10369440" cy="689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A8B4-4F9F-4E22-9679-A19EABD039C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12720" y="620640"/>
            <a:ext cx="6118560" cy="1440000"/>
          </a:xfrm>
          <a:custGeom>
            <a:avLst/>
            <a:gdLst>
              <a:gd name="textAreaLeft" fmla="*/ 169560 w 6118560"/>
              <a:gd name="textAreaRight" fmla="*/ 5949000 w 6118560"/>
              <a:gd name="textAreaTop" fmla="*/ 169560 h 1440000"/>
              <a:gd name="textAreaBottom" fmla="*/ 1270440 h 1440000"/>
            </a:gdLst>
            <a:ahLst/>
            <a:rect l="textAreaLeft" t="textAreaTop" r="textAreaRight" b="textAreaBottom"/>
            <a:pathLst>
              <a:path w="917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8161" y="21600"/>
                </a:lnTo>
                <a:arcTo wR="3600" hR="3600" stAng="10800000" swAng="5400000"/>
                <a:lnTo>
                  <a:pt x="9176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lin ang="13500000"/>
          </a:gra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  <a:ea typeface="華康行書體"/>
              </a:rPr>
              <a:t>新品上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華康行書體"/>
              </a:rPr>
              <a:t>12</a:t>
            </a:r>
            <a:r>
              <a:rPr b="0" lang="zh-TW" sz="5500" spc="-1" strike="noStrike">
                <a:solidFill>
                  <a:srgbClr val="000000"/>
                </a:solidFill>
                <a:latin typeface="ParkAvenue BT"/>
                <a:ea typeface="華康行書體"/>
              </a:rPr>
              <a:t>A</a:t>
            </a: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華康行書體"/>
              </a:rPr>
              <a:t>頂級和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iwan.net.tw/" TargetMode="External"/><Relationship Id="rId3" Type="http://schemas.openxmlformats.org/officeDocument/2006/relationships/hyperlink" Target="http://www.taiwan.net.tw/" TargetMode="External"/><Relationship Id="rId4" Type="http://schemas.openxmlformats.org/officeDocument/2006/relationships/hyperlink" Target="http://www.taiwan.net.tw/" TargetMode="External"/><Relationship Id="rId5" Type="http://schemas.openxmlformats.org/officeDocument/2006/relationships/hyperlink" Target="http://www.taiwan.net.tw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coa.gov.tw/" TargetMode="External"/><Relationship Id="rId8" Type="http://schemas.openxmlformats.org/officeDocument/2006/relationships/hyperlink" Target="http://www.coa.gov.tw/" TargetMode="External"/><Relationship Id="rId9" Type="http://schemas.openxmlformats.org/officeDocument/2006/relationships/hyperlink" Target="http://www.coa.gov.tw/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www.formosacooking.com.tw/" TargetMode="External"/><Relationship Id="rId12" Type="http://schemas.openxmlformats.org/officeDocument/2006/relationships/hyperlink" Target="http://www.formosacooking.com.tw/" TargetMode="External"/><Relationship Id="rId13" Type="http://schemas.openxmlformats.org/officeDocument/2006/relationships/hyperlink" Target="http://www.formosacooking.com.tw/" TargetMode="External"/><Relationship Id="rId14" Type="http://schemas.openxmlformats.org/officeDocument/2006/relationships/hyperlink" Target="http://www.formosacooking.com.tw/" TargetMode="External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94160" y="4611600"/>
            <a:ext cx="367056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九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邀請您一起來品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期：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2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0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0A3C2-3B69-4BA0-98B1-79078B9BCE8E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新細明體"/>
              </a:rPr>
              <a:t>新品上市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以最自然的烹調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讓喜愛美食的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品嚐到最鮮嫩多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日本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滿足你挑剔的味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C385-6568-4001-8E10-CB5E7CC2BD32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嚴選食材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由日本空運來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油脂分布細緻均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搭配產地直送的新鮮時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佐以松露鵝肝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DDD8-65F4-403A-93AC-C9DC732B2A78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主廚料理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24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歡迎來自日本的大廚</a:t>
            </a:r>
            <a:br>
              <a:rPr sz="3200"/>
            </a:br>
            <a:r>
              <a:rPr b="0" lang="zh-TW" sz="9000" spc="-1" strike="noStrike">
                <a:solidFill>
                  <a:srgbClr val="000000"/>
                </a:solidFill>
                <a:latin typeface="新細明體"/>
              </a:rPr>
              <a:t>須赫洋介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現場示範</a:t>
            </a:r>
            <a:br>
              <a:rPr sz="3200"/>
            </a:br>
            <a:r>
              <a:rPr b="0" lang="zh-TW" sz="5000" spc="-1" strike="noStrike">
                <a:solidFill>
                  <a:srgbClr val="000000"/>
                </a:solidFill>
                <a:latin typeface="Times New Roman"/>
              </a:rPr>
              <a:t>碳烤</a:t>
            </a:r>
            <a:r>
              <a:rPr b="1" i="1" lang="zh-TW" sz="5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TW" sz="5000" spc="-1" strike="noStrike">
                <a:solidFill>
                  <a:srgbClr val="000000"/>
                </a:solidFill>
                <a:latin typeface="ParkAvenue BT"/>
              </a:rPr>
              <a:t>A</a:t>
            </a:r>
            <a:r>
              <a:rPr b="0" lang="zh-TW" sz="5000" spc="-1" strike="noStrike">
                <a:solidFill>
                  <a:srgbClr val="000000"/>
                </a:solidFill>
                <a:latin typeface="Times New Roman"/>
              </a:rPr>
              <a:t>頂級和牛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638C-F81E-425D-A42C-C6083D686E9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優惠活動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促銷期間：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/24 ~ 12/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地點：九井餐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售價：每客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$ 3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數：每日限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CAB3-8E2E-4337-8CAE-FFEF79CD3E25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贊助單位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交通部觀光局</a:t>
            </a:r>
            <a:br>
              <a:rPr sz="3200"/>
            </a:b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3"/>
              </a:rPr>
              <a:t>www.taiwan.net.tw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4"/>
              </a:rPr>
              <a:t>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行政院農委會</a:t>
            </a:r>
            <a:br>
              <a:rPr sz="3200"/>
            </a:b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7"/>
              </a:rPr>
              <a:t>http:/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8"/>
              </a:rPr>
              <a:t>www.coa.gov.tw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9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台灣福爾摩莎廚藝美食協會</a:t>
            </a:r>
            <a:br>
              <a:rPr sz="3200"/>
            </a:b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1"/>
              </a:rPr>
              <a:t>http:/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2"/>
              </a:rPr>
              <a:t>www.formosacooking.com.tw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3"/>
              </a:rPr>
              <a:t>/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新細明體"/>
                <a:hlinkClick r:id="rId1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FE2E-6B25-430F-9AA6-BE8D368AF02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993300"/>
                </a:solidFill>
                <a:latin typeface="Arial"/>
              </a:rPr>
              <a:t>誠摯感謝</a:t>
            </a:r>
            <a:endParaRPr b="0" lang="en-US" sz="65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58760"/>
            <a:ext cx="5915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感謝各位蒞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  <a:ea typeface="華康行書體"/>
              </a:rPr>
              <a:t>九井</a:t>
            </a:r>
            <a:r>
              <a:rPr b="0" lang="zh-TW" sz="5600" spc="-1" strike="noStrike">
                <a:solidFill>
                  <a:srgbClr val="000000"/>
                </a:solidFill>
                <a:latin typeface="新細明體"/>
              </a:rPr>
              <a:t>  </a:t>
            </a:r>
            <a:r>
              <a:rPr b="0" lang="zh-TW" sz="5000" spc="-1" strike="noStrike">
                <a:solidFill>
                  <a:srgbClr val="000000"/>
                </a:solidFill>
                <a:latin typeface="新細明體"/>
              </a:rPr>
              <a:t>新品發表會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Thank you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9288-EA32-4B1A-B6E7-114B0B6A41D4}" type="slidenum">
              <a:t>7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1:09:42Z</dcterms:created>
  <dc:creator>USER</dc:creator>
  <dc:description/>
  <dc:language>en-US</dc:language>
  <cp:lastModifiedBy>USER</cp:lastModifiedBy>
  <dcterms:modified xsi:type="dcterms:W3CDTF">2009-12-11T07:05:27Z</dcterms:modified>
  <cp:revision>43</cp:revision>
  <dc:subject/>
  <dc:title>投影片 1</dc:title>
</cp:coreProperties>
</file>