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534-DF52-4429-AA4D-D6659FAF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FDD-2563-4D86-B27D-D9E2A6A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F59-A805-48DA-B597-92769087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B79-3762-4E75-8FE9-1A6FF3D3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75E2-4FE3-4D4F-9FF1-FCAB3F66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F760-426D-43F8-A004-BBB2B71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522C-15A4-4D53-AB15-4D83EBD8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997C-8076-42D2-8563-DDA4159C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A0B1-7305-4357-88B3-E0BBD42D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ABC5-3567-41B7-839F-457AD72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EB0B-5E12-4078-A27F-1DE33D48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5F8-EE28-4946-BAF9-08603F90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32DB-6F0C-433D-9625-59A6560F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ADC4-6355-4AD7-9693-C3F66469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C2FF-23C0-4C4B-9C0E-85D35DC8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1C5A-3ECB-4337-AE89-AA0EC743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FCD7-7B5D-4032-8DD1-B510CE1A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C30-5731-4A73-BCB8-B79A2B12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D3E-9289-4F0E-B2FF-097DD2C1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DAF-F8F1-4915-95A5-859DDF6B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F6E-94E7-47DF-B167-0D87B337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53B-5C91-4444-AB70-3F2253C6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441-75CD-485B-97A1-3F749B6E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D0E-66D4-4460-947E-E43ECA97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948360" y="3603600"/>
            <a:ext cx="1944720" cy="2676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5775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6453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99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432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3964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5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00D8-E573-4AC7-BB3A-ED2F82857A1F}" type="datetime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81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E61D-CCCB-415B-9D14-BD79DC408B4C}" type="slidenum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89cf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31522"/>
          <a:stretch/>
        </p:blipFill>
        <p:spPr>
          <a:xfrm>
            <a:off x="5770440" y="3357720"/>
            <a:ext cx="3373560" cy="347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EEF-1EC6-4F30-903E-ACAB5BDF2D16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BFCC-2380-4315-BF84-A2087595C30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rcRect l="0" t="0" r="0" b="24291"/>
          <a:stretch/>
        </p:blipFill>
        <p:spPr>
          <a:xfrm>
            <a:off x="0" y="0"/>
            <a:ext cx="3200400" cy="242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36232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1280" algn="ctr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9196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4300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68,2,&#30446;&#37636;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8,2,&#30446;&#37636;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推甄履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子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得獎紀錄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1292400"/>
          <a:ext cx="8207280" cy="4224240"/>
        </p:xfrm>
        <a:graphic>
          <a:graphicData uri="http://schemas.openxmlformats.org/drawingml/2006/table">
            <a:tbl>
              <a:tblPr/>
              <a:tblGrid>
                <a:gridCol w="5616360"/>
                <a:gridCol w="259092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項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成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國高中職組啦啦隊大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縣反盜版海報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網頁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演說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飲料調酒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作文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佳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未來學習計畫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課業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成績保持班上前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語言學習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通過全民英檢中高級檢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其他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爭取資訊公司工讀機會，預先了解業界實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簡報內容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人基本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求學過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幹部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社團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399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志工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檢定與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得獎紀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未來學習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個人基本資料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姓名：趙子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推甄科系：資訊管理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求學過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~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從小喜歡玩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電腦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資訊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很有興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高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利用空閒時間來研讀各種電腦書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考取多項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證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幹部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一：電腦小老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解決同學疑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老師整理教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二：體育股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全班同學獲得啦啦隊比賽第一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三：班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同學得到學年精神總錦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專長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書處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程式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英文演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美術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舞蹈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社團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影像編修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熱舞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啦啦隊校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志工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北市立動物園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育部資訊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內政部消防署鳳凰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  <a:hlinkClick r:id="rId1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檢定與證照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  <a:hlinkClick r:id="rId1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3:52:41Z</dcterms:created>
  <dc:creator>E063</dc:creator>
  <dc:description/>
  <dc:language>en-US</dc:language>
  <cp:lastModifiedBy>user</cp:lastModifiedBy>
  <dcterms:modified xsi:type="dcterms:W3CDTF">2009-11-03T09:43:52Z</dcterms:modified>
  <cp:revision>31</cp:revision>
  <dc:subject/>
  <dc:title>推</dc:title>
</cp:coreProperties>
</file>