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B14-EA9B-4C0F-A9A0-8FA74996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728-97C5-421E-90D5-319C8E9C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4A4-91E5-41A3-BCCB-AA44B60F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35A-3475-41CC-9D72-7A2E9F83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A50-334A-4319-9D54-5050D6A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840-4FA4-42A3-B265-3FF9A0FF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B7F-7FE5-4EA1-A6FD-605C4D4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CAF-7B7E-4479-B1D7-43F1CC6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95C-5192-4530-8FB4-EC31F48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7BD-9A55-49BE-BD8A-55ACCA8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2DA-1B5A-4425-AA26-C18A4F3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FF5-F34F-4F81-BABD-D9A2F02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5D9-D66E-4C21-A65A-8B5756F0619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10-29T03:50:27Z</dcterms:modified>
  <cp:revision>12</cp:revision>
  <dc:subject/>
  <dc:title>投影片 1</dc:title>
</cp:coreProperties>
</file>