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E8E-7E6C-46AD-A480-138016BF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EEC-58DC-4FD0-8E77-BC81DA6A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406-DB11-4136-9277-1AB0FC5A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644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463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269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644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7463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A39-52DA-488C-A704-BAF56938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6472-EFE2-40C6-B297-F5DCF3BF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796C-C0AD-4575-A7FA-25F3A5F4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E00A-0A1F-4B5A-9E30-AFAF6559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E66F-EB30-401A-964C-281772E0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1C4B-C580-4D64-A7B6-93F62853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38240" y="82080"/>
            <a:ext cx="7067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D4EC-E69F-4965-9DD7-B93F7DE7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6E9D-5FE5-4DB6-B86E-2D18320B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4B9-8ED5-403C-B5F3-24F6DF32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691E-866C-481E-A292-1B1AB92D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9577-A128-4A5E-8884-AAE54409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954A-3DF6-4F0A-8D91-D1B2B2F4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5B88-2DFA-46A0-B317-EB8B7BB4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644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463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269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644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463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393B-7AA6-4D18-9072-D2A0C6D0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B77-289B-4FD5-B940-8E9248A6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174-1A61-466D-984B-56F7D10A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A566-52EF-4C5F-B5F7-A1FC1151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38240" y="82080"/>
            <a:ext cx="7067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1B2-9912-4DB3-971A-D9B6AAA1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47E-A135-4433-824A-CA95C280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00A-995F-4528-AEBD-CFF0892F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201-0D0C-499D-8A77-64C00E23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948360" y="3603600"/>
            <a:ext cx="1944720" cy="2676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5775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40" y="6453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99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7040" indent="-4370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432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3964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35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639D-4A8E-4CFF-A009-C278630B3C95}" type="datetime"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115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81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5410-3068-4DC6-AC85-5BB1F674E81A}" type="slidenum"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89cf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0" t="0" r="0" b="31522"/>
          <a:stretch/>
        </p:blipFill>
        <p:spPr>
          <a:xfrm>
            <a:off x="5770440" y="3357720"/>
            <a:ext cx="3373560" cy="347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4105-3D8C-43FD-B6F4-3BF6C464789E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8164-34CB-4D15-9D91-82CB1905F00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rcRect l="0" t="0" r="0" b="24291"/>
          <a:stretch/>
        </p:blipFill>
        <p:spPr>
          <a:xfrm>
            <a:off x="0" y="0"/>
            <a:ext cx="3200400" cy="2422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36232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41280" algn="ctr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9196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4300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68,2,&#30446;&#37636;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8,2,&#30446;&#37636;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推甄履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光中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趙子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得獎紀錄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1292400"/>
          <a:ext cx="8207280" cy="4224240"/>
        </p:xfrm>
        <a:graphic>
          <a:graphicData uri="http://schemas.openxmlformats.org/drawingml/2006/table">
            <a:tbl>
              <a:tblPr/>
              <a:tblGrid>
                <a:gridCol w="5616360"/>
                <a:gridCol w="2590920"/>
              </a:tblGrid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項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 w="13680">
                      <a:solidFill>
                        <a:srgbClr val="99ccff"/>
                      </a:solidFill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成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 w="13680">
                      <a:solidFill>
                        <a:srgbClr val="99ccff"/>
                      </a:solidFill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國高中職組啦啦隊大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縣反盜版海報設計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網頁設計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英文演說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飲料調酒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英文作文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 w="13680">
                      <a:solidFill>
                        <a:srgbClr val="99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佳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 w="13680">
                      <a:solidFill>
                        <a:srgbClr val="99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未來學習計畫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課業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成績保持班上前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5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語言學習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通過全民英檢中高級檢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其他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爭取資訊公司工讀機會，預先了解業界實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簡報內容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1125000"/>
            <a:ext cx="3560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人基本資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求學過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幹部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專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社團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39960" y="1125000"/>
            <a:ext cx="3560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志工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檢定與證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得獎紀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未來學習計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個人基本資料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姓名：趙子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星光中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仁愛國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仁愛國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推甄科系：資訊管理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求學過程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國小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~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從小喜歡玩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電腦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對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資訊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很有興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高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利用空閒時間來研讀各種電腦書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考取多項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證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幹部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一：電腦小老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協助解決同學疑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協助老師整理教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二：體育股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帶領全班同學獲得啦啦隊比賽第一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三：班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帶領同學得到學年精神總錦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專長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文書處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程式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英文演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美術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舞蹈表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飲料調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社團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影像編修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熱舞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啦啦隊校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飲料調酒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志工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台北市立動物園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育部資訊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內政部消防署鳳凰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  <a:hlinkClick r:id="rId1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檢定與證照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  <a:hlinkClick r:id="rId1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3:52:41Z</dcterms:created>
  <dc:creator>E063</dc:creator>
  <dc:description/>
  <dc:language>en-US</dc:language>
  <cp:lastModifiedBy>user</cp:lastModifiedBy>
  <dcterms:modified xsi:type="dcterms:W3CDTF">2009-11-03T09:43:52Z</dcterms:modified>
  <cp:revision>31</cp:revision>
  <dc:subject/>
  <dc:title>推</dc:title>
</cp:coreProperties>
</file>