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AC92-184B-40A9-8E36-14B49FC9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A059-78ED-4F94-914D-66812028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3465-6753-4A85-B9C4-75F6361F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C648-665A-496B-80AC-2557B2CC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61CD-34DA-4D95-BE7A-DDF546F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8833-B965-486F-9535-88E880E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90E0-090B-4F1C-8808-0BAF1385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FBE6-D61E-4304-BDB4-772EBA3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ED13-2B88-400D-8B42-D3D05FD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8362-E0D4-4619-B96E-F429ADB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62F7-BA00-4149-9324-9753F86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DB51-EC31-4B35-BE22-B51DC23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3378-7FC4-483C-A7C2-89189122F209}" type="slidenum">
              <a:rPr b="0" lang="zh-TW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4319640" y="0"/>
            <a:ext cx="4319640" cy="642960"/>
            <a:chOff x="-4319640" y="0"/>
            <a:chExt cx="4319640" cy="642960"/>
          </a:xfrm>
        </p:grpSpPr>
        <p:grpSp>
          <p:nvGrpSpPr>
            <p:cNvPr id="5" name=""/>
            <p:cNvGrpSpPr/>
            <p:nvPr/>
          </p:nvGrpSpPr>
          <p:grpSpPr>
            <a:xfrm>
              <a:off x="-2448000" y="108000"/>
              <a:ext cx="1081080" cy="466560"/>
              <a:chOff x="-2448000" y="108000"/>
              <a:chExt cx="1081080" cy="466560"/>
            </a:xfrm>
          </p:grpSpPr>
          <p:sp>
            <p:nvSpPr>
              <p:cNvPr id="6" name=""/>
              <p:cNvSpPr/>
              <p:nvPr/>
            </p:nvSpPr>
            <p:spPr>
              <a:xfrm>
                <a:off x="-1551960" y="463320"/>
                <a:ext cx="91440" cy="806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-1883160" y="461160"/>
                <a:ext cx="131040" cy="1105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-2393280" y="541080"/>
                <a:ext cx="151200" cy="2448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-2440800" y="111600"/>
                <a:ext cx="1069200" cy="44604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-2385360" y="111240"/>
                <a:ext cx="302760" cy="2736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-2412000" y="437040"/>
                <a:ext cx="372600" cy="39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-2438640" y="231840"/>
                <a:ext cx="439920" cy="14076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-2431440" y="210600"/>
                <a:ext cx="430560" cy="9144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-2000880" y="128520"/>
                <a:ext cx="588960" cy="42192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-1967400" y="511200"/>
                <a:ext cx="129600" cy="4644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2440800" y="504720"/>
                <a:ext cx="476280" cy="525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-2035080" y="51228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-1957320" y="137880"/>
                <a:ext cx="583560" cy="3628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-2423520" y="477720"/>
                <a:ext cx="428760" cy="277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-1471320" y="491400"/>
                <a:ext cx="97560" cy="309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-1582200" y="499320"/>
                <a:ext cx="64800" cy="38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-1770480" y="507960"/>
                <a:ext cx="101520" cy="424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-1869840" y="167040"/>
                <a:ext cx="91440" cy="9180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77480" y="149760"/>
                <a:ext cx="96840" cy="903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-1761120" y="191520"/>
                <a:ext cx="80640" cy="8208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-1667160" y="206640"/>
                <a:ext cx="70560" cy="7956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-1583280" y="224640"/>
                <a:ext cx="55440" cy="702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-1517400" y="24012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-1453320" y="251640"/>
                <a:ext cx="53640" cy="5868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-1852560" y="34020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-1746720" y="350280"/>
                <a:ext cx="73800" cy="70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1585440" y="364320"/>
                <a:ext cx="42120" cy="6444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-1522080" y="370080"/>
                <a:ext cx="51480" cy="5940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-1449360" y="375480"/>
                <a:ext cx="37440" cy="5472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-2414520" y="323640"/>
                <a:ext cx="430560" cy="11196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2408040" y="350280"/>
                <a:ext cx="174960" cy="7524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2410200" y="325440"/>
                <a:ext cx="206640" cy="9864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2410200" y="130320"/>
                <a:ext cx="174240" cy="10008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-2215800" y="128520"/>
                <a:ext cx="193680" cy="943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-2448000" y="108000"/>
                <a:ext cx="1081080" cy="4665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-1807200" y="502920"/>
                <a:ext cx="14760" cy="370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-1496520" y="49680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-1947240" y="34416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-1928160" y="34488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-1947240" y="443520"/>
                <a:ext cx="10800" cy="7488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-1928160" y="441000"/>
                <a:ext cx="10800" cy="756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-1640880" y="37260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-1627560" y="37368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-1640880" y="44892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1627560" y="44676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2091600" y="48420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2043360" y="484200"/>
                <a:ext cx="38160" cy="183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-2414520" y="480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2365920" y="480960"/>
                <a:ext cx="38880" cy="190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2070360" y="51120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2177640" y="352440"/>
                <a:ext cx="174600" cy="7488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2179080" y="141480"/>
                <a:ext cx="139680" cy="7380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-2373120" y="153000"/>
                <a:ext cx="117720" cy="6804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-2173680" y="336600"/>
                <a:ext cx="102960" cy="6084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-2126160" y="34488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-2177640" y="137880"/>
                <a:ext cx="55440" cy="579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-2140200" y="151920"/>
                <a:ext cx="66240" cy="3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2373120" y="146520"/>
                <a:ext cx="65520" cy="568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-2338560" y="159120"/>
                <a:ext cx="67320" cy="381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-2376000" y="341640"/>
                <a:ext cx="92520" cy="4896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-2333880" y="348480"/>
                <a:ext cx="83520" cy="367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1951560" y="172440"/>
                <a:ext cx="51120" cy="540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1850400" y="192960"/>
                <a:ext cx="50040" cy="5112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-1748520" y="2120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-1647720" y="230040"/>
                <a:ext cx="34200" cy="4356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-1564200" y="246600"/>
                <a:ext cx="23040" cy="38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-1500840" y="258120"/>
                <a:ext cx="26280" cy="338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432080" y="268200"/>
                <a:ext cx="20160" cy="3492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-1835280" y="35568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-1733760" y="365040"/>
                <a:ext cx="47520" cy="4968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-1574280" y="37656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-1502640" y="381960"/>
                <a:ext cx="18720" cy="4104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-1437840" y="386640"/>
                <a:ext cx="14760" cy="3420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-863640" y="179280"/>
              <a:ext cx="863640" cy="360360"/>
              <a:chOff x="-863640" y="179280"/>
              <a:chExt cx="863640" cy="360360"/>
            </a:xfrm>
          </p:grpSpPr>
          <p:sp>
            <p:nvSpPr>
              <p:cNvPr id="80" name=""/>
              <p:cNvSpPr/>
              <p:nvPr/>
            </p:nvSpPr>
            <p:spPr>
              <a:xfrm>
                <a:off x="-147600" y="453960"/>
                <a:ext cx="73080" cy="6228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-412200" y="45180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-819720" y="514080"/>
                <a:ext cx="120960" cy="1872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857880" y="182160"/>
                <a:ext cx="854280" cy="34452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-813600" y="181800"/>
                <a:ext cx="241920" cy="2088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-834840" y="433440"/>
                <a:ext cx="297720" cy="30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-856080" y="275040"/>
                <a:ext cx="351360" cy="10872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-850320" y="258480"/>
                <a:ext cx="343800" cy="7056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-506520" y="195120"/>
                <a:ext cx="470520" cy="3258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-479520" y="490680"/>
                <a:ext cx="103680" cy="3600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-857880" y="485640"/>
                <a:ext cx="380520" cy="4068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-533880" y="4914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-471600" y="202320"/>
                <a:ext cx="466200" cy="2800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-844200" y="465120"/>
                <a:ext cx="342360" cy="2160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-83160" y="4755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-172080" y="4816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-322560" y="488160"/>
                <a:ext cx="81000" cy="3276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-401760" y="224640"/>
                <a:ext cx="73080" cy="7092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-487800" y="211320"/>
                <a:ext cx="77400" cy="6984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-314640" y="243720"/>
                <a:ext cx="64440" cy="6336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-239760" y="255600"/>
                <a:ext cx="56520" cy="6120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-172800" y="2692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-120240" y="28152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-68760" y="290160"/>
                <a:ext cx="42840" cy="4536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-387720" y="358560"/>
                <a:ext cx="67320" cy="61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-303480" y="366480"/>
                <a:ext cx="59040" cy="5472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-174240" y="37728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123840" y="381600"/>
                <a:ext cx="41040" cy="45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-65520" y="385920"/>
                <a:ext cx="29880" cy="4248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-836640" y="345960"/>
                <a:ext cx="343800" cy="8640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-831960" y="366480"/>
                <a:ext cx="139680" cy="5796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-833400" y="347040"/>
                <a:ext cx="165240" cy="7632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-833400" y="196560"/>
                <a:ext cx="138960" cy="7740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-678240" y="195120"/>
                <a:ext cx="154440" cy="727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-863640" y="179280"/>
                <a:ext cx="863640" cy="3603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-351720" y="484200"/>
                <a:ext cx="11880" cy="2880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-103320" y="479880"/>
                <a:ext cx="7920" cy="1836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-463320" y="36144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-448560" y="36216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-463320" y="43848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-448560" y="436320"/>
                <a:ext cx="8640" cy="5832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-218520" y="38376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-208080" y="38448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-218520" y="44244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-208080" y="44100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-578880" y="46980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-540360" y="46980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-836640" y="46728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-798120" y="467280"/>
                <a:ext cx="30960" cy="1440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-561960" y="490680"/>
                <a:ext cx="12960" cy="29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-647640" y="367920"/>
                <a:ext cx="139320" cy="5796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-648720" y="204840"/>
                <a:ext cx="111600" cy="5688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-803880" y="214200"/>
                <a:ext cx="93960" cy="525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-644400" y="356040"/>
                <a:ext cx="82080" cy="4680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-606240" y="362160"/>
                <a:ext cx="72360" cy="3564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-647640" y="20232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-617760" y="213120"/>
                <a:ext cx="52920" cy="29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-803880" y="208800"/>
                <a:ext cx="52200" cy="4392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776160" y="218880"/>
                <a:ext cx="53640" cy="2952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806040" y="35964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-772200" y="365040"/>
                <a:ext cx="66600" cy="2808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-466920" y="22896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-386280" y="24480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304920" y="259560"/>
                <a:ext cx="39240" cy="3528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-224280" y="27360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-157320" y="286200"/>
                <a:ext cx="18360" cy="29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06920" y="295200"/>
                <a:ext cx="20880" cy="2592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-51840" y="303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-374040" y="370800"/>
                <a:ext cx="43560" cy="4464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-293040" y="378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-165600" y="38664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-108360" y="3909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-56520" y="394560"/>
                <a:ext cx="11880" cy="2628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-4319640" y="0"/>
              <a:ext cx="1476360" cy="642960"/>
              <a:chOff x="-4319640" y="0"/>
              <a:chExt cx="1476360" cy="642960"/>
            </a:xfrm>
          </p:grpSpPr>
          <p:sp>
            <p:nvSpPr>
              <p:cNvPr id="154" name=""/>
              <p:cNvSpPr/>
              <p:nvPr/>
            </p:nvSpPr>
            <p:spPr>
              <a:xfrm>
                <a:off x="-3096000" y="489960"/>
                <a:ext cx="124920" cy="1112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-3548160" y="486360"/>
                <a:ext cx="179280" cy="15228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4244760" y="596880"/>
                <a:ext cx="206640" cy="3384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-4309920" y="5400"/>
                <a:ext cx="1460160" cy="61488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-4233960" y="4680"/>
                <a:ext cx="413640" cy="3780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-4270680" y="453240"/>
                <a:ext cx="509040" cy="5472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-4307040" y="170640"/>
                <a:ext cx="600480" cy="19368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4297320" y="141480"/>
                <a:ext cx="587880" cy="12600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-3709080" y="28440"/>
                <a:ext cx="804240" cy="5814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-3663360" y="555840"/>
                <a:ext cx="177120" cy="6408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-4309920" y="546840"/>
                <a:ext cx="650520" cy="723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-3756240" y="556920"/>
                <a:ext cx="59400" cy="576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-3649680" y="41400"/>
                <a:ext cx="797040" cy="50004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-4286520" y="509760"/>
                <a:ext cx="585360" cy="385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-2985840" y="528480"/>
                <a:ext cx="133200" cy="4248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37400" y="539280"/>
                <a:ext cx="88200" cy="532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-3394800" y="550800"/>
                <a:ext cx="138600" cy="586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-3530160" y="81360"/>
                <a:ext cx="124920" cy="12636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-3677400" y="57600"/>
                <a:ext cx="132120" cy="1245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-3381480" y="115200"/>
                <a:ext cx="110520" cy="11304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-3253680" y="136080"/>
                <a:ext cx="96480" cy="10944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-3138840" y="160560"/>
                <a:ext cx="75600" cy="9684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-3049200" y="182160"/>
                <a:ext cx="73800" cy="8784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-2961360" y="1980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-3506760" y="319680"/>
                <a:ext cx="115200" cy="10908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-3362400" y="334080"/>
                <a:ext cx="100800" cy="97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-3141720" y="353160"/>
                <a:ext cx="57600" cy="8856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-3055320" y="361440"/>
                <a:ext cx="70200" cy="81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-2955960" y="368640"/>
                <a:ext cx="51120" cy="7560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-4273920" y="297360"/>
                <a:ext cx="587880" cy="15444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-4265280" y="334080"/>
                <a:ext cx="239040" cy="10368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-4268160" y="299520"/>
                <a:ext cx="282240" cy="13608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-4268160" y="30960"/>
                <a:ext cx="237960" cy="13824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-4002480" y="28440"/>
                <a:ext cx="264240" cy="12996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4319640" y="0"/>
                <a:ext cx="1476360" cy="6429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-3444840" y="544320"/>
                <a:ext cx="20160" cy="514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-3020400" y="536040"/>
                <a:ext cx="13680" cy="33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-3636000" y="32508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-3610080" y="32652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-3636000" y="462240"/>
                <a:ext cx="14760" cy="10332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-3610080" y="458640"/>
                <a:ext cx="14760" cy="1044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-3217320" y="36468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-3199320" y="36576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-3217320" y="469800"/>
                <a:ext cx="9360" cy="788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-3199320" y="46692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3833280" y="518400"/>
                <a:ext cx="51120" cy="255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3767040" y="51840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-4273920" y="513720"/>
                <a:ext cx="52200" cy="262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-4207680" y="513720"/>
                <a:ext cx="53280" cy="262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-3804120" y="555840"/>
                <a:ext cx="21960" cy="529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-3950280" y="336960"/>
                <a:ext cx="238680" cy="10332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-3952800" y="46080"/>
                <a:ext cx="190800" cy="10152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-4217400" y="62280"/>
                <a:ext cx="160920" cy="939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3944880" y="315000"/>
                <a:ext cx="140400" cy="8388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-3880080" y="326520"/>
                <a:ext cx="123840" cy="6372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3950280" y="41400"/>
                <a:ext cx="75600" cy="795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-3899160" y="60480"/>
                <a:ext cx="90720" cy="529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-4217400" y="52920"/>
                <a:ext cx="89280" cy="784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-4170600" y="70560"/>
                <a:ext cx="91800" cy="525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-4221360" y="321840"/>
                <a:ext cx="126720" cy="6768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-4163760" y="331560"/>
                <a:ext cx="114120" cy="5040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-3641760" y="88560"/>
                <a:ext cx="70200" cy="7416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3503520" y="117000"/>
                <a:ext cx="68400" cy="7056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-3364920" y="143640"/>
                <a:ext cx="67320" cy="6300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-3227040" y="168120"/>
                <a:ext cx="46800" cy="6012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-3112920" y="19080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-3026160" y="206640"/>
                <a:ext cx="36000" cy="464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-2932560" y="221040"/>
                <a:ext cx="27360" cy="4788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-3483000" y="341280"/>
                <a:ext cx="74520" cy="7992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-3344400" y="354240"/>
                <a:ext cx="64800" cy="6840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-3126600" y="370080"/>
                <a:ext cx="27360" cy="6012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-3028680" y="377640"/>
                <a:ext cx="25560" cy="568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-2940120" y="384120"/>
                <a:ext cx="20160" cy="4716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2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丁之旅說明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8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校外教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．丁．概．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位於台灣的最南端，三面環海，東面太平洋，西鄰台灣海峽，南瀕巴士海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陸地範圍包括龜山向南至鵝鑾鼻、東沿太平洋岸經佳樂水，北至南仁山區，共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8083.5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公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介．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然景觀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南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船帆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尖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砂島貝殼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建築物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海洋生物博物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青年活動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74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5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6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7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8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欣．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42920" y="2168640"/>
            <a:ext cx="2925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墾丁青年活動中心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00920" y="2168640"/>
            <a:ext cx="1096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船帆石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4720" y="2673360"/>
            <a:ext cx="3811680" cy="2868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824360" y="2673360"/>
            <a:ext cx="381168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古．蹟．參．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恆春古稱「琅嶠」，因四季如春，故更名為「恆春」。恆春古城建立於清朝，目前還保留著四座城門與部分城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原本是漁村對外交通的重要管道，但因後來興建了穩固的鋼筋水泥大穚，茶山吊橋就走入歷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156360" y="18082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教．學．目．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態研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海生館全區分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主題館，同學可在此了解海洋生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化欣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留有許多古老的建築與人文建設，同學可在此緬懷舊時的歷史與人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92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4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5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6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7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注．意．事．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參加的同學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:5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前到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學可自行攜帶點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穿短袖、長褲運動服，加運動服外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攜帶雨具及防曬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校外教學行程有提供中餐，同學不必自行準備便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※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未參加的同學，應到校參加勞動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相．關．網．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悠遊墾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uukt.idv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kenting.network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達人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dotzing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住宿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ktwalker.com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4:31:21Z</dcterms:created>
  <dc:creator/>
  <dc:description/>
  <dc:language>en-US</dc:language>
  <cp:lastModifiedBy>user</cp:lastModifiedBy>
  <dcterms:modified xsi:type="dcterms:W3CDTF">2009-07-22T03:14:24Z</dcterms:modified>
  <cp:revision>83</cp:revision>
  <dc:subject/>
  <dc:title>墾丁之旅說明會</dc:title>
</cp:coreProperties>
</file>