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2DF-D75C-4F66-AAD9-59B97233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6E0-37FA-453C-AC19-21B5323E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28D-4348-4C70-B2C8-D98E6A06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6B8-32E7-4F54-A2F0-FED214A4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D0D-0826-4338-AE54-9571C5D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442-3492-47FB-884B-CC0B9FDC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005-7B0A-4659-B61D-0F5DA69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6E3-BC47-4643-9268-DADA1C8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8F5-C7D2-4B70-8EFC-BCEA8E91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D9D-A30D-4942-A94C-C37964A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1E1-5A1B-40E2-8815-5F7ACF0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489-3768-4663-A346-0E249CE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72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D09B7-B68C-4A61-B9BF-7774D11F5B2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2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3.png"/><Relationship Id="rId5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8640"/>
            <a:ext cx="914544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7800" y="2735280"/>
            <a:ext cx="79898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70920" bIns="7092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 Rounded MT Bold"/>
              </a:rPr>
              <a:t>To My Dear Friend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781280" cy="26449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9145080" cy="6858720"/>
            <a:chOff x="0" y="0"/>
            <a:chExt cx="9145080" cy="6858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4816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3"/>
            <a:stretch/>
          </p:blipFill>
          <p:spPr>
            <a:xfrm>
              <a:off x="9615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4"/>
            <a:stretch/>
          </p:blipFill>
          <p:spPr>
            <a:xfrm>
              <a:off x="1443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5"/>
            <a:stretch/>
          </p:blipFill>
          <p:spPr>
            <a:xfrm>
              <a:off x="19227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6"/>
            <a:stretch/>
          </p:blipFill>
          <p:spPr>
            <a:xfrm>
              <a:off x="28886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7"/>
            <a:stretch/>
          </p:blipFill>
          <p:spPr>
            <a:xfrm>
              <a:off x="3370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8"/>
            <a:stretch/>
          </p:blipFill>
          <p:spPr>
            <a:xfrm>
              <a:off x="38498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9"/>
            <a:stretch/>
          </p:blipFill>
          <p:spPr>
            <a:xfrm>
              <a:off x="4331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0"/>
            <a:stretch/>
          </p:blipFill>
          <p:spPr>
            <a:xfrm>
              <a:off x="4811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1"/>
            <a:stretch/>
          </p:blipFill>
          <p:spPr>
            <a:xfrm>
              <a:off x="24069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2"/>
            <a:stretch/>
          </p:blipFill>
          <p:spPr>
            <a:xfrm>
              <a:off x="5295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3"/>
            <a:stretch/>
          </p:blipFill>
          <p:spPr>
            <a:xfrm>
              <a:off x="57751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4"/>
            <a:stretch/>
          </p:blipFill>
          <p:spPr>
            <a:xfrm>
              <a:off x="62568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5"/>
            <a:stretch/>
          </p:blipFill>
          <p:spPr>
            <a:xfrm>
              <a:off x="6736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6"/>
            <a:stretch/>
          </p:blipFill>
          <p:spPr>
            <a:xfrm>
              <a:off x="77022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81838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8663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7220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866340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866340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866340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866340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866340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866340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866340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866340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866340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479520" y="6172200"/>
              <a:ext cx="7703640" cy="686160"/>
              <a:chOff x="479520" y="6172200"/>
              <a:chExt cx="7703640" cy="686160"/>
            </a:xfrm>
          </p:grpSpPr>
          <p:pic>
            <p:nvPicPr>
              <p:cNvPr id="8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95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9612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4403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4062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28882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3674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8491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290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9245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8128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927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7744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2539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2198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7014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7377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9" name="" descr=""/>
            <p:cNvPicPr/>
            <p:nvPr/>
          </p:nvPicPr>
          <p:blipFill>
            <a:blip r:embed="rId55"/>
            <a:stretch/>
          </p:blipFill>
          <p:spPr>
            <a:xfrm>
              <a:off x="818388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8:56:52Z</dcterms:created>
  <dc:creator>Administrator</dc:creator>
  <dc:description/>
  <dc:language>en-US</dc:language>
  <cp:lastModifiedBy>Administrator</cp:lastModifiedBy>
  <dcterms:modified xsi:type="dcterms:W3CDTF">2011-02-25T09:40:27Z</dcterms:modified>
  <cp:revision>4</cp:revision>
  <dc:subject/>
  <dc:title>投影片 1</dc:title>
</cp:coreProperties>
</file>