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A665-8484-4853-AD7B-5325C329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AABB-3E47-4AE2-A38B-828EB374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425D-D07C-4ED5-85A4-FF444D49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FE2B-435B-4966-894C-F74C679B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C2F1-0655-499A-932D-E20576C9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62AD6-1A71-4A5D-A732-0B01A057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4B7A-5988-4922-B052-DA567848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D36EB-1331-4CBE-9D01-ECF1E9A9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6009-E9C5-454E-84DE-CEC6DBD8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BC53-40EA-4503-98FA-24AFC25C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EEF6-1D71-483F-BBF9-0B35DA32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DA3B-B5B0-4EC0-8730-06D04687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DCCA-22B5-43B8-A367-BDFEAD75307B}" type="slidenum">
              <a:rPr b="0" lang="zh-TW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4319640" y="0"/>
            <a:ext cx="4319640" cy="642960"/>
            <a:chOff x="-4319640" y="0"/>
            <a:chExt cx="4319640" cy="642960"/>
          </a:xfrm>
        </p:grpSpPr>
        <p:grpSp>
          <p:nvGrpSpPr>
            <p:cNvPr id="5" name=""/>
            <p:cNvGrpSpPr/>
            <p:nvPr/>
          </p:nvGrpSpPr>
          <p:grpSpPr>
            <a:xfrm>
              <a:off x="-2448000" y="108000"/>
              <a:ext cx="1081080" cy="466560"/>
              <a:chOff x="-2448000" y="108000"/>
              <a:chExt cx="1081080" cy="466560"/>
            </a:xfrm>
          </p:grpSpPr>
          <p:sp>
            <p:nvSpPr>
              <p:cNvPr id="6" name=""/>
              <p:cNvSpPr/>
              <p:nvPr/>
            </p:nvSpPr>
            <p:spPr>
              <a:xfrm>
                <a:off x="-1551960" y="463320"/>
                <a:ext cx="91440" cy="80640"/>
              </a:xfrm>
              <a:custGeom>
                <a:avLst/>
                <a:gdLst/>
                <a:ahLst/>
                <a:rect l="l" t="t" r="r" b="b"/>
                <a:pathLst>
                  <a:path w="181" h="329">
                    <a:moveTo>
                      <a:pt x="0" y="265"/>
                    </a:moveTo>
                    <a:lnTo>
                      <a:pt x="21" y="324"/>
                    </a:lnTo>
                    <a:lnTo>
                      <a:pt x="119" y="329"/>
                    </a:lnTo>
                    <a:lnTo>
                      <a:pt x="120" y="327"/>
                    </a:lnTo>
                    <a:lnTo>
                      <a:pt x="126" y="324"/>
                    </a:lnTo>
                    <a:lnTo>
                      <a:pt x="134" y="317"/>
                    </a:lnTo>
                    <a:lnTo>
                      <a:pt x="144" y="306"/>
                    </a:lnTo>
                    <a:lnTo>
                      <a:pt x="154" y="290"/>
                    </a:lnTo>
                    <a:lnTo>
                      <a:pt x="164" y="270"/>
                    </a:lnTo>
                    <a:lnTo>
                      <a:pt x="173" y="244"/>
                    </a:lnTo>
                    <a:lnTo>
                      <a:pt x="178" y="211"/>
                    </a:lnTo>
                    <a:lnTo>
                      <a:pt x="181" y="173"/>
                    </a:lnTo>
                    <a:lnTo>
                      <a:pt x="180" y="136"/>
                    </a:lnTo>
                    <a:lnTo>
                      <a:pt x="174" y="99"/>
                    </a:lnTo>
                    <a:lnTo>
                      <a:pt x="166" y="65"/>
                    </a:lnTo>
                    <a:lnTo>
                      <a:pt x="154" y="36"/>
                    </a:lnTo>
                    <a:lnTo>
                      <a:pt x="141" y="15"/>
                    </a:lnTo>
                    <a:lnTo>
                      <a:pt x="126" y="2"/>
                    </a:lnTo>
                    <a:lnTo>
                      <a:pt x="109" y="0"/>
                    </a:lnTo>
                    <a:lnTo>
                      <a:pt x="92" y="14"/>
                    </a:lnTo>
                    <a:lnTo>
                      <a:pt x="72" y="46"/>
                    </a:lnTo>
                    <a:lnTo>
                      <a:pt x="55" y="89"/>
                    </a:lnTo>
                    <a:lnTo>
                      <a:pt x="38" y="136"/>
                    </a:lnTo>
                    <a:lnTo>
                      <a:pt x="22" y="184"/>
                    </a:lnTo>
                    <a:lnTo>
                      <a:pt x="11" y="225"/>
                    </a:lnTo>
                    <a:lnTo>
                      <a:pt x="2" y="25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-1883160" y="461160"/>
                <a:ext cx="131040" cy="110520"/>
              </a:xfrm>
              <a:custGeom>
                <a:avLst/>
                <a:gdLst/>
                <a:ahLst/>
                <a:rect l="l" t="t" r="r" b="b"/>
                <a:pathLst>
                  <a:path w="261" h="449">
                    <a:moveTo>
                      <a:pt x="0" y="347"/>
                    </a:moveTo>
                    <a:lnTo>
                      <a:pt x="1" y="354"/>
                    </a:lnTo>
                    <a:lnTo>
                      <a:pt x="4" y="374"/>
                    </a:lnTo>
                    <a:lnTo>
                      <a:pt x="14" y="401"/>
                    </a:lnTo>
                    <a:lnTo>
                      <a:pt x="33" y="432"/>
                    </a:lnTo>
                    <a:lnTo>
                      <a:pt x="148" y="449"/>
                    </a:lnTo>
                    <a:lnTo>
                      <a:pt x="152" y="446"/>
                    </a:lnTo>
                    <a:lnTo>
                      <a:pt x="162" y="438"/>
                    </a:lnTo>
                    <a:lnTo>
                      <a:pt x="177" y="424"/>
                    </a:lnTo>
                    <a:lnTo>
                      <a:pt x="194" y="407"/>
                    </a:lnTo>
                    <a:lnTo>
                      <a:pt x="213" y="385"/>
                    </a:lnTo>
                    <a:lnTo>
                      <a:pt x="230" y="363"/>
                    </a:lnTo>
                    <a:lnTo>
                      <a:pt x="244" y="339"/>
                    </a:lnTo>
                    <a:lnTo>
                      <a:pt x="254" y="313"/>
                    </a:lnTo>
                    <a:lnTo>
                      <a:pt x="260" y="279"/>
                    </a:lnTo>
                    <a:lnTo>
                      <a:pt x="261" y="234"/>
                    </a:lnTo>
                    <a:lnTo>
                      <a:pt x="260" y="180"/>
                    </a:lnTo>
                    <a:lnTo>
                      <a:pt x="252" y="124"/>
                    </a:lnTo>
                    <a:lnTo>
                      <a:pt x="240" y="73"/>
                    </a:lnTo>
                    <a:lnTo>
                      <a:pt x="220" y="32"/>
                    </a:lnTo>
                    <a:lnTo>
                      <a:pt x="193" y="5"/>
                    </a:lnTo>
                    <a:lnTo>
                      <a:pt x="156" y="0"/>
                    </a:lnTo>
                    <a:lnTo>
                      <a:pt x="118" y="20"/>
                    </a:lnTo>
                    <a:lnTo>
                      <a:pt x="85" y="61"/>
                    </a:lnTo>
                    <a:lnTo>
                      <a:pt x="58" y="117"/>
                    </a:lnTo>
                    <a:lnTo>
                      <a:pt x="37" y="180"/>
                    </a:lnTo>
                    <a:lnTo>
                      <a:pt x="21" y="242"/>
                    </a:lnTo>
                    <a:lnTo>
                      <a:pt x="9" y="295"/>
                    </a:lnTo>
                    <a:lnTo>
                      <a:pt x="3" y="333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-2393280" y="541080"/>
                <a:ext cx="151200" cy="24480"/>
              </a:xfrm>
              <a:custGeom>
                <a:avLst/>
                <a:gdLst/>
                <a:ahLst/>
                <a:rect l="l" t="t" r="r" b="b"/>
                <a:pathLst>
                  <a:path w="300" h="101">
                    <a:moveTo>
                      <a:pt x="0" y="0"/>
                    </a:moveTo>
                    <a:lnTo>
                      <a:pt x="1" y="3"/>
                    </a:lnTo>
                    <a:lnTo>
                      <a:pt x="4" y="11"/>
                    </a:lnTo>
                    <a:lnTo>
                      <a:pt x="10" y="24"/>
                    </a:lnTo>
                    <a:lnTo>
                      <a:pt x="18" y="40"/>
                    </a:lnTo>
                    <a:lnTo>
                      <a:pt x="29" y="55"/>
                    </a:lnTo>
                    <a:lnTo>
                      <a:pt x="45" y="71"/>
                    </a:lnTo>
                    <a:lnTo>
                      <a:pt x="65" y="84"/>
                    </a:lnTo>
                    <a:lnTo>
                      <a:pt x="89" y="93"/>
                    </a:lnTo>
                    <a:lnTo>
                      <a:pt x="116" y="99"/>
                    </a:lnTo>
                    <a:lnTo>
                      <a:pt x="144" y="101"/>
                    </a:lnTo>
                    <a:lnTo>
                      <a:pt x="173" y="99"/>
                    </a:lnTo>
                    <a:lnTo>
                      <a:pt x="201" y="93"/>
                    </a:lnTo>
                    <a:lnTo>
                      <a:pt x="229" y="82"/>
                    </a:lnTo>
                    <a:lnTo>
                      <a:pt x="255" y="65"/>
                    </a:lnTo>
                    <a:lnTo>
                      <a:pt x="279" y="42"/>
                    </a:lnTo>
                    <a:lnTo>
                      <a:pt x="30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-2440800" y="111600"/>
                <a:ext cx="1069200" cy="446040"/>
              </a:xfrm>
              <a:custGeom>
                <a:avLst/>
                <a:gdLst/>
                <a:ahLst/>
                <a:rect l="l" t="t" r="r" b="b"/>
                <a:pathLst>
                  <a:path w="2120" h="1814">
                    <a:moveTo>
                      <a:pt x="136" y="68"/>
                    </a:moveTo>
                    <a:lnTo>
                      <a:pt x="133" y="70"/>
                    </a:lnTo>
                    <a:lnTo>
                      <a:pt x="125" y="71"/>
                    </a:lnTo>
                    <a:lnTo>
                      <a:pt x="113" y="77"/>
                    </a:lnTo>
                    <a:lnTo>
                      <a:pt x="99" y="82"/>
                    </a:lnTo>
                    <a:lnTo>
                      <a:pt x="85" y="92"/>
                    </a:lnTo>
                    <a:lnTo>
                      <a:pt x="71" y="104"/>
                    </a:lnTo>
                    <a:lnTo>
                      <a:pt x="61" y="119"/>
                    </a:lnTo>
                    <a:lnTo>
                      <a:pt x="55" y="136"/>
                    </a:lnTo>
                    <a:lnTo>
                      <a:pt x="51" y="163"/>
                    </a:lnTo>
                    <a:lnTo>
                      <a:pt x="45" y="206"/>
                    </a:lnTo>
                    <a:lnTo>
                      <a:pt x="37" y="267"/>
                    </a:lnTo>
                    <a:lnTo>
                      <a:pt x="30" y="345"/>
                    </a:lnTo>
                    <a:lnTo>
                      <a:pt x="23" y="442"/>
                    </a:lnTo>
                    <a:lnTo>
                      <a:pt x="17" y="562"/>
                    </a:lnTo>
                    <a:lnTo>
                      <a:pt x="13" y="701"/>
                    </a:lnTo>
                    <a:lnTo>
                      <a:pt x="13" y="864"/>
                    </a:lnTo>
                    <a:lnTo>
                      <a:pt x="4" y="1308"/>
                    </a:lnTo>
                    <a:lnTo>
                      <a:pt x="0" y="1763"/>
                    </a:lnTo>
                    <a:lnTo>
                      <a:pt x="966" y="1814"/>
                    </a:lnTo>
                    <a:lnTo>
                      <a:pt x="1183" y="1784"/>
                    </a:lnTo>
                    <a:lnTo>
                      <a:pt x="1183" y="1773"/>
                    </a:lnTo>
                    <a:lnTo>
                      <a:pt x="1184" y="1742"/>
                    </a:lnTo>
                    <a:lnTo>
                      <a:pt x="1187" y="1699"/>
                    </a:lnTo>
                    <a:lnTo>
                      <a:pt x="1191" y="1647"/>
                    </a:lnTo>
                    <a:lnTo>
                      <a:pt x="1197" y="1594"/>
                    </a:lnTo>
                    <a:lnTo>
                      <a:pt x="1205" y="1544"/>
                    </a:lnTo>
                    <a:lnTo>
                      <a:pt x="1215" y="1505"/>
                    </a:lnTo>
                    <a:lnTo>
                      <a:pt x="1229" y="1479"/>
                    </a:lnTo>
                    <a:lnTo>
                      <a:pt x="1245" y="1466"/>
                    </a:lnTo>
                    <a:lnTo>
                      <a:pt x="1261" y="1458"/>
                    </a:lnTo>
                    <a:lnTo>
                      <a:pt x="1278" y="1454"/>
                    </a:lnTo>
                    <a:lnTo>
                      <a:pt x="1293" y="1455"/>
                    </a:lnTo>
                    <a:lnTo>
                      <a:pt x="1307" y="1462"/>
                    </a:lnTo>
                    <a:lnTo>
                      <a:pt x="1319" y="1474"/>
                    </a:lnTo>
                    <a:lnTo>
                      <a:pt x="1326" y="1489"/>
                    </a:lnTo>
                    <a:lnTo>
                      <a:pt x="1330" y="1509"/>
                    </a:lnTo>
                    <a:lnTo>
                      <a:pt x="1337" y="1567"/>
                    </a:lnTo>
                    <a:lnTo>
                      <a:pt x="1344" y="1642"/>
                    </a:lnTo>
                    <a:lnTo>
                      <a:pt x="1346" y="1719"/>
                    </a:lnTo>
                    <a:lnTo>
                      <a:pt x="1330" y="1784"/>
                    </a:lnTo>
                    <a:lnTo>
                      <a:pt x="1809" y="1712"/>
                    </a:lnTo>
                    <a:lnTo>
                      <a:pt x="1811" y="1702"/>
                    </a:lnTo>
                    <a:lnTo>
                      <a:pt x="1814" y="1674"/>
                    </a:lnTo>
                    <a:lnTo>
                      <a:pt x="1818" y="1632"/>
                    </a:lnTo>
                    <a:lnTo>
                      <a:pt x="1825" y="1587"/>
                    </a:lnTo>
                    <a:lnTo>
                      <a:pt x="1834" y="1540"/>
                    </a:lnTo>
                    <a:lnTo>
                      <a:pt x="1845" y="1498"/>
                    </a:lnTo>
                    <a:lnTo>
                      <a:pt x="1859" y="1466"/>
                    </a:lnTo>
                    <a:lnTo>
                      <a:pt x="1875" y="1452"/>
                    </a:lnTo>
                    <a:lnTo>
                      <a:pt x="1877" y="1454"/>
                    </a:lnTo>
                    <a:lnTo>
                      <a:pt x="1885" y="1459"/>
                    </a:lnTo>
                    <a:lnTo>
                      <a:pt x="1895" y="1471"/>
                    </a:lnTo>
                    <a:lnTo>
                      <a:pt x="1904" y="1491"/>
                    </a:lnTo>
                    <a:lnTo>
                      <a:pt x="1916" y="1519"/>
                    </a:lnTo>
                    <a:lnTo>
                      <a:pt x="1924" y="1559"/>
                    </a:lnTo>
                    <a:lnTo>
                      <a:pt x="1929" y="1611"/>
                    </a:lnTo>
                    <a:lnTo>
                      <a:pt x="1929" y="1678"/>
                    </a:lnTo>
                    <a:lnTo>
                      <a:pt x="2120" y="1615"/>
                    </a:lnTo>
                    <a:lnTo>
                      <a:pt x="2111" y="800"/>
                    </a:lnTo>
                    <a:lnTo>
                      <a:pt x="2110" y="789"/>
                    </a:lnTo>
                    <a:lnTo>
                      <a:pt x="2106" y="760"/>
                    </a:lnTo>
                    <a:lnTo>
                      <a:pt x="2100" y="719"/>
                    </a:lnTo>
                    <a:lnTo>
                      <a:pt x="2090" y="671"/>
                    </a:lnTo>
                    <a:lnTo>
                      <a:pt x="2085" y="645"/>
                    </a:lnTo>
                    <a:lnTo>
                      <a:pt x="2077" y="618"/>
                    </a:lnTo>
                    <a:lnTo>
                      <a:pt x="2070" y="594"/>
                    </a:lnTo>
                    <a:lnTo>
                      <a:pt x="2062" y="572"/>
                    </a:lnTo>
                    <a:lnTo>
                      <a:pt x="2052" y="552"/>
                    </a:lnTo>
                    <a:lnTo>
                      <a:pt x="2042" y="535"/>
                    </a:lnTo>
                    <a:lnTo>
                      <a:pt x="2031" y="522"/>
                    </a:lnTo>
                    <a:lnTo>
                      <a:pt x="2018" y="513"/>
                    </a:lnTo>
                    <a:lnTo>
                      <a:pt x="2008" y="509"/>
                    </a:lnTo>
                    <a:lnTo>
                      <a:pt x="1994" y="503"/>
                    </a:lnTo>
                    <a:lnTo>
                      <a:pt x="1972" y="494"/>
                    </a:lnTo>
                    <a:lnTo>
                      <a:pt x="1948" y="484"/>
                    </a:lnTo>
                    <a:lnTo>
                      <a:pt x="1919" y="471"/>
                    </a:lnTo>
                    <a:lnTo>
                      <a:pt x="1885" y="457"/>
                    </a:lnTo>
                    <a:lnTo>
                      <a:pt x="1846" y="440"/>
                    </a:lnTo>
                    <a:lnTo>
                      <a:pt x="1807" y="423"/>
                    </a:lnTo>
                    <a:lnTo>
                      <a:pt x="1763" y="404"/>
                    </a:lnTo>
                    <a:lnTo>
                      <a:pt x="1716" y="384"/>
                    </a:lnTo>
                    <a:lnTo>
                      <a:pt x="1668" y="363"/>
                    </a:lnTo>
                    <a:lnTo>
                      <a:pt x="1618" y="342"/>
                    </a:lnTo>
                    <a:lnTo>
                      <a:pt x="1566" y="321"/>
                    </a:lnTo>
                    <a:lnTo>
                      <a:pt x="1513" y="298"/>
                    </a:lnTo>
                    <a:lnTo>
                      <a:pt x="1461" y="275"/>
                    </a:lnTo>
                    <a:lnTo>
                      <a:pt x="1407" y="252"/>
                    </a:lnTo>
                    <a:lnTo>
                      <a:pt x="1354" y="230"/>
                    </a:lnTo>
                    <a:lnTo>
                      <a:pt x="1300" y="207"/>
                    </a:lnTo>
                    <a:lnTo>
                      <a:pt x="1249" y="184"/>
                    </a:lnTo>
                    <a:lnTo>
                      <a:pt x="1200" y="163"/>
                    </a:lnTo>
                    <a:lnTo>
                      <a:pt x="1151" y="143"/>
                    </a:lnTo>
                    <a:lnTo>
                      <a:pt x="1105" y="123"/>
                    </a:lnTo>
                    <a:lnTo>
                      <a:pt x="1061" y="104"/>
                    </a:lnTo>
                    <a:lnTo>
                      <a:pt x="1020" y="87"/>
                    </a:lnTo>
                    <a:lnTo>
                      <a:pt x="983" y="71"/>
                    </a:lnTo>
                    <a:lnTo>
                      <a:pt x="949" y="57"/>
                    </a:lnTo>
                    <a:lnTo>
                      <a:pt x="919" y="44"/>
                    </a:lnTo>
                    <a:lnTo>
                      <a:pt x="895" y="33"/>
                    </a:lnTo>
                    <a:lnTo>
                      <a:pt x="874" y="24"/>
                    </a:lnTo>
                    <a:lnTo>
                      <a:pt x="859" y="18"/>
                    </a:lnTo>
                    <a:lnTo>
                      <a:pt x="849" y="14"/>
                    </a:lnTo>
                    <a:lnTo>
                      <a:pt x="847" y="13"/>
                    </a:lnTo>
                    <a:lnTo>
                      <a:pt x="844" y="13"/>
                    </a:lnTo>
                    <a:lnTo>
                      <a:pt x="835" y="11"/>
                    </a:lnTo>
                    <a:lnTo>
                      <a:pt x="822" y="11"/>
                    </a:lnTo>
                    <a:lnTo>
                      <a:pt x="805" y="10"/>
                    </a:lnTo>
                    <a:lnTo>
                      <a:pt x="784" y="9"/>
                    </a:lnTo>
                    <a:lnTo>
                      <a:pt x="760" y="7"/>
                    </a:lnTo>
                    <a:lnTo>
                      <a:pt x="733" y="6"/>
                    </a:lnTo>
                    <a:lnTo>
                      <a:pt x="705" y="4"/>
                    </a:lnTo>
                    <a:lnTo>
                      <a:pt x="675" y="3"/>
                    </a:lnTo>
                    <a:lnTo>
                      <a:pt x="644" y="1"/>
                    </a:lnTo>
                    <a:lnTo>
                      <a:pt x="613" y="0"/>
                    </a:lnTo>
                    <a:lnTo>
                      <a:pt x="581" y="0"/>
                    </a:lnTo>
                    <a:lnTo>
                      <a:pt x="552" y="0"/>
                    </a:lnTo>
                    <a:lnTo>
                      <a:pt x="522" y="1"/>
                    </a:lnTo>
                    <a:lnTo>
                      <a:pt x="495" y="3"/>
                    </a:lnTo>
                    <a:lnTo>
                      <a:pt x="471" y="4"/>
                    </a:lnTo>
                    <a:lnTo>
                      <a:pt x="447" y="7"/>
                    </a:lnTo>
                    <a:lnTo>
                      <a:pt x="421" y="11"/>
                    </a:lnTo>
                    <a:lnTo>
                      <a:pt x="394" y="14"/>
                    </a:lnTo>
                    <a:lnTo>
                      <a:pt x="366" y="20"/>
                    </a:lnTo>
                    <a:lnTo>
                      <a:pt x="339" y="24"/>
                    </a:lnTo>
                    <a:lnTo>
                      <a:pt x="311" y="30"/>
                    </a:lnTo>
                    <a:lnTo>
                      <a:pt x="284" y="35"/>
                    </a:lnTo>
                    <a:lnTo>
                      <a:pt x="257" y="41"/>
                    </a:lnTo>
                    <a:lnTo>
                      <a:pt x="233" y="47"/>
                    </a:lnTo>
                    <a:lnTo>
                      <a:pt x="210" y="51"/>
                    </a:lnTo>
                    <a:lnTo>
                      <a:pt x="189" y="55"/>
                    </a:lnTo>
                    <a:lnTo>
                      <a:pt x="172" y="60"/>
                    </a:lnTo>
                    <a:lnTo>
                      <a:pt x="156" y="64"/>
                    </a:lnTo>
                    <a:lnTo>
                      <a:pt x="146" y="65"/>
                    </a:lnTo>
                    <a:lnTo>
                      <a:pt x="139" y="68"/>
                    </a:lnTo>
                    <a:lnTo>
                      <a:pt x="136" y="68"/>
                    </a:lnTo>
                    <a:close/>
                  </a:path>
                </a:pathLst>
              </a:custGeom>
              <a:solidFill>
                <a:srgbClr val="dd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-2385360" y="111240"/>
                <a:ext cx="302760" cy="27360"/>
              </a:xfrm>
              <a:custGeom>
                <a:avLst/>
                <a:gdLst/>
                <a:ahLst/>
                <a:rect l="l" t="t" r="r" b="b"/>
                <a:pathLst>
                  <a:path w="598" h="114">
                    <a:moveTo>
                      <a:pt x="382" y="6"/>
                    </a:moveTo>
                    <a:lnTo>
                      <a:pt x="373" y="6"/>
                    </a:lnTo>
                    <a:lnTo>
                      <a:pt x="361" y="7"/>
                    </a:lnTo>
                    <a:lnTo>
                      <a:pt x="351" y="9"/>
                    </a:lnTo>
                    <a:lnTo>
                      <a:pt x="340" y="9"/>
                    </a:lnTo>
                    <a:lnTo>
                      <a:pt x="330" y="10"/>
                    </a:lnTo>
                    <a:lnTo>
                      <a:pt x="319" y="12"/>
                    </a:lnTo>
                    <a:lnTo>
                      <a:pt x="307" y="13"/>
                    </a:lnTo>
                    <a:lnTo>
                      <a:pt x="296" y="14"/>
                    </a:lnTo>
                    <a:lnTo>
                      <a:pt x="279" y="17"/>
                    </a:lnTo>
                    <a:lnTo>
                      <a:pt x="262" y="20"/>
                    </a:lnTo>
                    <a:lnTo>
                      <a:pt x="245" y="23"/>
                    </a:lnTo>
                    <a:lnTo>
                      <a:pt x="228" y="26"/>
                    </a:lnTo>
                    <a:lnTo>
                      <a:pt x="211" y="29"/>
                    </a:lnTo>
                    <a:lnTo>
                      <a:pt x="192" y="33"/>
                    </a:lnTo>
                    <a:lnTo>
                      <a:pt x="174" y="36"/>
                    </a:lnTo>
                    <a:lnTo>
                      <a:pt x="157" y="40"/>
                    </a:lnTo>
                    <a:lnTo>
                      <a:pt x="139" y="44"/>
                    </a:lnTo>
                    <a:lnTo>
                      <a:pt x="120" y="48"/>
                    </a:lnTo>
                    <a:lnTo>
                      <a:pt x="102" y="54"/>
                    </a:lnTo>
                    <a:lnTo>
                      <a:pt x="83" y="60"/>
                    </a:lnTo>
                    <a:lnTo>
                      <a:pt x="63" y="65"/>
                    </a:lnTo>
                    <a:lnTo>
                      <a:pt x="45" y="71"/>
                    </a:lnTo>
                    <a:lnTo>
                      <a:pt x="27" y="77"/>
                    </a:lnTo>
                    <a:lnTo>
                      <a:pt x="8" y="84"/>
                    </a:lnTo>
                    <a:lnTo>
                      <a:pt x="0" y="114"/>
                    </a:lnTo>
                    <a:lnTo>
                      <a:pt x="1" y="114"/>
                    </a:lnTo>
                    <a:lnTo>
                      <a:pt x="5" y="112"/>
                    </a:lnTo>
                    <a:lnTo>
                      <a:pt x="12" y="109"/>
                    </a:lnTo>
                    <a:lnTo>
                      <a:pt x="22" y="107"/>
                    </a:lnTo>
                    <a:lnTo>
                      <a:pt x="34" y="104"/>
                    </a:lnTo>
                    <a:lnTo>
                      <a:pt x="48" y="99"/>
                    </a:lnTo>
                    <a:lnTo>
                      <a:pt x="65" y="95"/>
                    </a:lnTo>
                    <a:lnTo>
                      <a:pt x="83" y="90"/>
                    </a:lnTo>
                    <a:lnTo>
                      <a:pt x="103" y="84"/>
                    </a:lnTo>
                    <a:lnTo>
                      <a:pt x="126" y="78"/>
                    </a:lnTo>
                    <a:lnTo>
                      <a:pt x="150" y="73"/>
                    </a:lnTo>
                    <a:lnTo>
                      <a:pt x="175" y="67"/>
                    </a:lnTo>
                    <a:lnTo>
                      <a:pt x="202" y="61"/>
                    </a:lnTo>
                    <a:lnTo>
                      <a:pt x="231" y="54"/>
                    </a:lnTo>
                    <a:lnTo>
                      <a:pt x="261" y="48"/>
                    </a:lnTo>
                    <a:lnTo>
                      <a:pt x="292" y="43"/>
                    </a:lnTo>
                    <a:lnTo>
                      <a:pt x="309" y="40"/>
                    </a:lnTo>
                    <a:lnTo>
                      <a:pt x="327" y="36"/>
                    </a:lnTo>
                    <a:lnTo>
                      <a:pt x="346" y="33"/>
                    </a:lnTo>
                    <a:lnTo>
                      <a:pt x="364" y="30"/>
                    </a:lnTo>
                    <a:lnTo>
                      <a:pt x="382" y="27"/>
                    </a:lnTo>
                    <a:lnTo>
                      <a:pt x="402" y="23"/>
                    </a:lnTo>
                    <a:lnTo>
                      <a:pt x="421" y="21"/>
                    </a:lnTo>
                    <a:lnTo>
                      <a:pt x="441" y="19"/>
                    </a:lnTo>
                    <a:lnTo>
                      <a:pt x="459" y="16"/>
                    </a:lnTo>
                    <a:lnTo>
                      <a:pt x="479" y="13"/>
                    </a:lnTo>
                    <a:lnTo>
                      <a:pt x="499" y="12"/>
                    </a:lnTo>
                    <a:lnTo>
                      <a:pt x="519" y="9"/>
                    </a:lnTo>
                    <a:lnTo>
                      <a:pt x="538" y="7"/>
                    </a:lnTo>
                    <a:lnTo>
                      <a:pt x="558" y="6"/>
                    </a:lnTo>
                    <a:lnTo>
                      <a:pt x="578" y="4"/>
                    </a:lnTo>
                    <a:lnTo>
                      <a:pt x="598" y="3"/>
                    </a:lnTo>
                    <a:lnTo>
                      <a:pt x="594" y="3"/>
                    </a:lnTo>
                    <a:lnTo>
                      <a:pt x="582" y="2"/>
                    </a:lnTo>
                    <a:lnTo>
                      <a:pt x="563" y="2"/>
                    </a:lnTo>
                    <a:lnTo>
                      <a:pt x="537" y="0"/>
                    </a:lnTo>
                    <a:lnTo>
                      <a:pt x="506" y="0"/>
                    </a:lnTo>
                    <a:lnTo>
                      <a:pt x="469" y="2"/>
                    </a:lnTo>
                    <a:lnTo>
                      <a:pt x="428" y="3"/>
                    </a:lnTo>
                    <a:lnTo>
                      <a:pt x="382" y="6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-2412000" y="437040"/>
                <a:ext cx="372600" cy="39600"/>
              </a:xfrm>
              <a:custGeom>
                <a:avLst/>
                <a:gdLst/>
                <a:ahLst/>
                <a:rect l="l" t="t" r="r" b="b"/>
                <a:pathLst>
                  <a:path w="741" h="161">
                    <a:moveTo>
                      <a:pt x="708" y="4"/>
                    </a:moveTo>
                    <a:lnTo>
                      <a:pt x="0" y="157"/>
                    </a:lnTo>
                    <a:lnTo>
                      <a:pt x="213" y="161"/>
                    </a:lnTo>
                    <a:lnTo>
                      <a:pt x="741" y="0"/>
                    </a:lnTo>
                    <a:lnTo>
                      <a:pt x="708" y="4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-2438640" y="231840"/>
                <a:ext cx="439920" cy="140760"/>
              </a:xfrm>
              <a:custGeom>
                <a:avLst/>
                <a:gdLst/>
                <a:ahLst/>
                <a:rect l="l" t="t" r="r" b="b"/>
                <a:pathLst>
                  <a:path w="872" h="571">
                    <a:moveTo>
                      <a:pt x="872" y="0"/>
                    </a:moveTo>
                    <a:lnTo>
                      <a:pt x="9" y="427"/>
                    </a:lnTo>
                    <a:lnTo>
                      <a:pt x="0" y="571"/>
                    </a:lnTo>
                    <a:lnTo>
                      <a:pt x="872" y="17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-2431440" y="210600"/>
                <a:ext cx="430560" cy="91440"/>
              </a:xfrm>
              <a:custGeom>
                <a:avLst/>
                <a:gdLst/>
                <a:ahLst/>
                <a:rect l="l" t="t" r="r" b="b"/>
                <a:pathLst>
                  <a:path w="855" h="371">
                    <a:moveTo>
                      <a:pt x="377" y="21"/>
                    </a:moveTo>
                    <a:lnTo>
                      <a:pt x="376" y="24"/>
                    </a:lnTo>
                    <a:lnTo>
                      <a:pt x="373" y="30"/>
                    </a:lnTo>
                    <a:lnTo>
                      <a:pt x="366" y="38"/>
                    </a:lnTo>
                    <a:lnTo>
                      <a:pt x="357" y="47"/>
                    </a:lnTo>
                    <a:lnTo>
                      <a:pt x="345" y="57"/>
                    </a:lnTo>
                    <a:lnTo>
                      <a:pt x="330" y="66"/>
                    </a:lnTo>
                    <a:lnTo>
                      <a:pt x="313" y="72"/>
                    </a:lnTo>
                    <a:lnTo>
                      <a:pt x="292" y="76"/>
                    </a:lnTo>
                    <a:lnTo>
                      <a:pt x="279" y="78"/>
                    </a:lnTo>
                    <a:lnTo>
                      <a:pt x="262" y="82"/>
                    </a:lnTo>
                    <a:lnTo>
                      <a:pt x="244" y="88"/>
                    </a:lnTo>
                    <a:lnTo>
                      <a:pt x="223" y="95"/>
                    </a:lnTo>
                    <a:lnTo>
                      <a:pt x="199" y="103"/>
                    </a:lnTo>
                    <a:lnTo>
                      <a:pt x="174" y="112"/>
                    </a:lnTo>
                    <a:lnTo>
                      <a:pt x="149" y="122"/>
                    </a:lnTo>
                    <a:lnTo>
                      <a:pt x="125" y="132"/>
                    </a:lnTo>
                    <a:lnTo>
                      <a:pt x="101" y="140"/>
                    </a:lnTo>
                    <a:lnTo>
                      <a:pt x="77" y="150"/>
                    </a:lnTo>
                    <a:lnTo>
                      <a:pt x="57" y="159"/>
                    </a:lnTo>
                    <a:lnTo>
                      <a:pt x="37" y="167"/>
                    </a:lnTo>
                    <a:lnTo>
                      <a:pt x="21" y="173"/>
                    </a:lnTo>
                    <a:lnTo>
                      <a:pt x="10" y="178"/>
                    </a:lnTo>
                    <a:lnTo>
                      <a:pt x="3" y="181"/>
                    </a:lnTo>
                    <a:lnTo>
                      <a:pt x="0" y="183"/>
                    </a:lnTo>
                    <a:lnTo>
                      <a:pt x="0" y="371"/>
                    </a:lnTo>
                    <a:lnTo>
                      <a:pt x="855" y="25"/>
                    </a:lnTo>
                    <a:lnTo>
                      <a:pt x="800" y="0"/>
                    </a:lnTo>
                    <a:lnTo>
                      <a:pt x="798" y="3"/>
                    </a:lnTo>
                    <a:lnTo>
                      <a:pt x="796" y="8"/>
                    </a:lnTo>
                    <a:lnTo>
                      <a:pt x="790" y="15"/>
                    </a:lnTo>
                    <a:lnTo>
                      <a:pt x="781" y="25"/>
                    </a:lnTo>
                    <a:lnTo>
                      <a:pt x="771" y="35"/>
                    </a:lnTo>
                    <a:lnTo>
                      <a:pt x="757" y="42"/>
                    </a:lnTo>
                    <a:lnTo>
                      <a:pt x="740" y="48"/>
                    </a:lnTo>
                    <a:lnTo>
                      <a:pt x="720" y="51"/>
                    </a:lnTo>
                    <a:lnTo>
                      <a:pt x="708" y="51"/>
                    </a:lnTo>
                    <a:lnTo>
                      <a:pt x="692" y="51"/>
                    </a:lnTo>
                    <a:lnTo>
                      <a:pt x="674" y="51"/>
                    </a:lnTo>
                    <a:lnTo>
                      <a:pt x="652" y="51"/>
                    </a:lnTo>
                    <a:lnTo>
                      <a:pt x="630" y="51"/>
                    </a:lnTo>
                    <a:lnTo>
                      <a:pt x="607" y="51"/>
                    </a:lnTo>
                    <a:lnTo>
                      <a:pt x="583" y="51"/>
                    </a:lnTo>
                    <a:lnTo>
                      <a:pt x="559" y="51"/>
                    </a:lnTo>
                    <a:lnTo>
                      <a:pt x="536" y="51"/>
                    </a:lnTo>
                    <a:lnTo>
                      <a:pt x="515" y="51"/>
                    </a:lnTo>
                    <a:lnTo>
                      <a:pt x="493" y="51"/>
                    </a:lnTo>
                    <a:lnTo>
                      <a:pt x="476" y="51"/>
                    </a:lnTo>
                    <a:lnTo>
                      <a:pt x="462" y="51"/>
                    </a:lnTo>
                    <a:lnTo>
                      <a:pt x="451" y="51"/>
                    </a:lnTo>
                    <a:lnTo>
                      <a:pt x="444" y="51"/>
                    </a:lnTo>
                    <a:lnTo>
                      <a:pt x="441" y="51"/>
                    </a:lnTo>
                    <a:lnTo>
                      <a:pt x="377" y="21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-2000880" y="128520"/>
                <a:ext cx="588960" cy="421920"/>
              </a:xfrm>
              <a:custGeom>
                <a:avLst/>
                <a:gdLst/>
                <a:ahLst/>
                <a:rect l="l" t="t" r="r" b="b"/>
                <a:pathLst>
                  <a:path w="1167" h="1716">
                    <a:moveTo>
                      <a:pt x="0" y="0"/>
                    </a:moveTo>
                    <a:lnTo>
                      <a:pt x="13" y="715"/>
                    </a:lnTo>
                    <a:lnTo>
                      <a:pt x="14" y="716"/>
                    </a:lnTo>
                    <a:lnTo>
                      <a:pt x="19" y="721"/>
                    </a:lnTo>
                    <a:lnTo>
                      <a:pt x="26" y="728"/>
                    </a:lnTo>
                    <a:lnTo>
                      <a:pt x="33" y="738"/>
                    </a:lnTo>
                    <a:lnTo>
                      <a:pt x="40" y="747"/>
                    </a:lnTo>
                    <a:lnTo>
                      <a:pt x="47" y="757"/>
                    </a:lnTo>
                    <a:lnTo>
                      <a:pt x="53" y="769"/>
                    </a:lnTo>
                    <a:lnTo>
                      <a:pt x="55" y="779"/>
                    </a:lnTo>
                    <a:lnTo>
                      <a:pt x="55" y="1669"/>
                    </a:lnTo>
                    <a:lnTo>
                      <a:pt x="264" y="1716"/>
                    </a:lnTo>
                    <a:lnTo>
                      <a:pt x="315" y="1648"/>
                    </a:lnTo>
                    <a:lnTo>
                      <a:pt x="315" y="1637"/>
                    </a:lnTo>
                    <a:lnTo>
                      <a:pt x="318" y="1606"/>
                    </a:lnTo>
                    <a:lnTo>
                      <a:pt x="322" y="1562"/>
                    </a:lnTo>
                    <a:lnTo>
                      <a:pt x="329" y="1512"/>
                    </a:lnTo>
                    <a:lnTo>
                      <a:pt x="339" y="1462"/>
                    </a:lnTo>
                    <a:lnTo>
                      <a:pt x="353" y="1420"/>
                    </a:lnTo>
                    <a:lnTo>
                      <a:pt x="373" y="1390"/>
                    </a:lnTo>
                    <a:lnTo>
                      <a:pt x="399" y="1381"/>
                    </a:lnTo>
                    <a:lnTo>
                      <a:pt x="424" y="1391"/>
                    </a:lnTo>
                    <a:lnTo>
                      <a:pt x="443" y="1411"/>
                    </a:lnTo>
                    <a:lnTo>
                      <a:pt x="457" y="1440"/>
                    </a:lnTo>
                    <a:lnTo>
                      <a:pt x="465" y="1469"/>
                    </a:lnTo>
                    <a:lnTo>
                      <a:pt x="471" y="1501"/>
                    </a:lnTo>
                    <a:lnTo>
                      <a:pt x="474" y="1526"/>
                    </a:lnTo>
                    <a:lnTo>
                      <a:pt x="475" y="1545"/>
                    </a:lnTo>
                    <a:lnTo>
                      <a:pt x="475" y="1552"/>
                    </a:lnTo>
                    <a:lnTo>
                      <a:pt x="467" y="1703"/>
                    </a:lnTo>
                    <a:lnTo>
                      <a:pt x="637" y="1686"/>
                    </a:lnTo>
                    <a:lnTo>
                      <a:pt x="878" y="1648"/>
                    </a:lnTo>
                    <a:lnTo>
                      <a:pt x="946" y="1547"/>
                    </a:lnTo>
                    <a:lnTo>
                      <a:pt x="947" y="1540"/>
                    </a:lnTo>
                    <a:lnTo>
                      <a:pt x="950" y="1520"/>
                    </a:lnTo>
                    <a:lnTo>
                      <a:pt x="956" y="1492"/>
                    </a:lnTo>
                    <a:lnTo>
                      <a:pt x="963" y="1459"/>
                    </a:lnTo>
                    <a:lnTo>
                      <a:pt x="971" y="1428"/>
                    </a:lnTo>
                    <a:lnTo>
                      <a:pt x="981" y="1400"/>
                    </a:lnTo>
                    <a:lnTo>
                      <a:pt x="993" y="1380"/>
                    </a:lnTo>
                    <a:lnTo>
                      <a:pt x="1005" y="1373"/>
                    </a:lnTo>
                    <a:lnTo>
                      <a:pt x="1018" y="1380"/>
                    </a:lnTo>
                    <a:lnTo>
                      <a:pt x="1028" y="1396"/>
                    </a:lnTo>
                    <a:lnTo>
                      <a:pt x="1038" y="1420"/>
                    </a:lnTo>
                    <a:lnTo>
                      <a:pt x="1047" y="1447"/>
                    </a:lnTo>
                    <a:lnTo>
                      <a:pt x="1052" y="1475"/>
                    </a:lnTo>
                    <a:lnTo>
                      <a:pt x="1057" y="1499"/>
                    </a:lnTo>
                    <a:lnTo>
                      <a:pt x="1059" y="1515"/>
                    </a:lnTo>
                    <a:lnTo>
                      <a:pt x="1061" y="1522"/>
                    </a:lnTo>
                    <a:lnTo>
                      <a:pt x="1167" y="15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-1967400" y="511200"/>
                <a:ext cx="129600" cy="46440"/>
              </a:xfrm>
              <a:custGeom>
                <a:avLst/>
                <a:gdLst/>
                <a:ahLst/>
                <a:rect l="l" t="t" r="r" b="b"/>
                <a:pathLst>
                  <a:path w="258" h="190">
                    <a:moveTo>
                      <a:pt x="135" y="0"/>
                    </a:moveTo>
                    <a:lnTo>
                      <a:pt x="135" y="109"/>
                    </a:lnTo>
                    <a:lnTo>
                      <a:pt x="5" y="126"/>
                    </a:lnTo>
                    <a:lnTo>
                      <a:pt x="3" y="142"/>
                    </a:lnTo>
                    <a:lnTo>
                      <a:pt x="3" y="157"/>
                    </a:lnTo>
                    <a:lnTo>
                      <a:pt x="2" y="173"/>
                    </a:lnTo>
                    <a:lnTo>
                      <a:pt x="0" y="189"/>
                    </a:lnTo>
                    <a:lnTo>
                      <a:pt x="29" y="190"/>
                    </a:lnTo>
                    <a:lnTo>
                      <a:pt x="246" y="173"/>
                    </a:lnTo>
                    <a:lnTo>
                      <a:pt x="247" y="126"/>
                    </a:lnTo>
                    <a:lnTo>
                      <a:pt x="250" y="81"/>
                    </a:lnTo>
                    <a:lnTo>
                      <a:pt x="254" y="38"/>
                    </a:lnTo>
                    <a:lnTo>
                      <a:pt x="258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-2440800" y="504720"/>
                <a:ext cx="476280" cy="52560"/>
              </a:xfrm>
              <a:custGeom>
                <a:avLst/>
                <a:gdLst/>
                <a:ahLst/>
                <a:rect l="l" t="t" r="r" b="b"/>
                <a:pathLst>
                  <a:path w="944" h="215">
                    <a:moveTo>
                      <a:pt x="937" y="152"/>
                    </a:moveTo>
                    <a:lnTo>
                      <a:pt x="940" y="93"/>
                    </a:lnTo>
                    <a:lnTo>
                      <a:pt x="940" y="91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88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91"/>
                    </a:lnTo>
                    <a:lnTo>
                      <a:pt x="940" y="93"/>
                    </a:lnTo>
                    <a:lnTo>
                      <a:pt x="944" y="17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37" y="215"/>
                    </a:lnTo>
                    <a:lnTo>
                      <a:pt x="939" y="199"/>
                    </a:lnTo>
                    <a:lnTo>
                      <a:pt x="940" y="183"/>
                    </a:lnTo>
                    <a:lnTo>
                      <a:pt x="940" y="168"/>
                    </a:lnTo>
                    <a:lnTo>
                      <a:pt x="942" y="152"/>
                    </a:lnTo>
                    <a:lnTo>
                      <a:pt x="937" y="152"/>
                    </a:lnTo>
                    <a:close/>
                  </a:path>
                </a:pathLst>
              </a:custGeom>
              <a:solidFill>
                <a:srgbClr val="14a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-2035080" y="51228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5" y="0"/>
                    </a:moveTo>
                    <a:lnTo>
                      <a:pt x="79" y="165"/>
                    </a:lnTo>
                    <a:lnTo>
                      <a:pt x="1" y="170"/>
                    </a:lnTo>
                    <a:lnTo>
                      <a:pt x="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-1957320" y="137880"/>
                <a:ext cx="583560" cy="362880"/>
              </a:xfrm>
              <a:custGeom>
                <a:avLst/>
                <a:gdLst/>
                <a:ahLst/>
                <a:rect l="l" t="t" r="r" b="b"/>
                <a:pathLst>
                  <a:path w="1159" h="1475">
                    <a:moveTo>
                      <a:pt x="0" y="0"/>
                    </a:moveTo>
                    <a:lnTo>
                      <a:pt x="1159" y="1475"/>
                    </a:lnTo>
                    <a:lnTo>
                      <a:pt x="1159" y="1199"/>
                    </a:lnTo>
                    <a:lnTo>
                      <a:pt x="115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-2423520" y="477720"/>
                <a:ext cx="428760" cy="27720"/>
              </a:xfrm>
              <a:custGeom>
                <a:avLst/>
                <a:gdLst/>
                <a:ahLst/>
                <a:rect l="l" t="t" r="r" b="b"/>
                <a:pathLst>
                  <a:path w="849" h="115">
                    <a:moveTo>
                      <a:pt x="0" y="0"/>
                    </a:moveTo>
                    <a:lnTo>
                      <a:pt x="0" y="93"/>
                    </a:lnTo>
                    <a:lnTo>
                      <a:pt x="847" y="115"/>
                    </a:lnTo>
                    <a:lnTo>
                      <a:pt x="84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-1471320" y="491400"/>
                <a:ext cx="97560" cy="3096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95" y="0"/>
                    </a:moveTo>
                    <a:lnTo>
                      <a:pt x="0" y="21"/>
                    </a:lnTo>
                    <a:lnTo>
                      <a:pt x="3" y="50"/>
                    </a:lnTo>
                    <a:lnTo>
                      <a:pt x="5" y="78"/>
                    </a:lnTo>
                    <a:lnTo>
                      <a:pt x="5" y="104"/>
                    </a:lnTo>
                    <a:lnTo>
                      <a:pt x="3" y="126"/>
                    </a:lnTo>
                    <a:lnTo>
                      <a:pt x="186" y="6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-1582200" y="499320"/>
                <a:ext cx="64800" cy="38880"/>
              </a:xfrm>
              <a:custGeom>
                <a:avLst/>
                <a:gdLst/>
                <a:ahLst/>
                <a:rect l="l" t="t" r="r" b="b"/>
                <a:pathLst>
                  <a:path w="127" h="157">
                    <a:moveTo>
                      <a:pt x="116" y="140"/>
                    </a:moveTo>
                    <a:lnTo>
                      <a:pt x="120" y="139"/>
                    </a:lnTo>
                    <a:lnTo>
                      <a:pt x="120" y="106"/>
                    </a:lnTo>
                    <a:lnTo>
                      <a:pt x="122" y="71"/>
                    </a:lnTo>
                    <a:lnTo>
                      <a:pt x="124" y="35"/>
                    </a:lnTo>
                    <a:lnTo>
                      <a:pt x="127" y="0"/>
                    </a:lnTo>
                    <a:lnTo>
                      <a:pt x="1" y="14"/>
                    </a:lnTo>
                    <a:lnTo>
                      <a:pt x="0" y="157"/>
                    </a:lnTo>
                    <a:lnTo>
                      <a:pt x="116" y="14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-1770480" y="507960"/>
                <a:ext cx="101520" cy="42480"/>
              </a:xfrm>
              <a:custGeom>
                <a:avLst/>
                <a:gdLst/>
                <a:ahLst/>
                <a:rect l="l" t="t" r="r" b="b"/>
                <a:pathLst>
                  <a:path w="203" h="174">
                    <a:moveTo>
                      <a:pt x="0" y="174"/>
                    </a:moveTo>
                    <a:lnTo>
                      <a:pt x="3" y="174"/>
                    </a:lnTo>
                    <a:lnTo>
                      <a:pt x="203" y="147"/>
                    </a:lnTo>
                    <a:lnTo>
                      <a:pt x="195" y="0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4" y="52"/>
                    </a:lnTo>
                    <a:lnTo>
                      <a:pt x="13" y="89"/>
                    </a:lnTo>
                    <a:lnTo>
                      <a:pt x="9" y="13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-1869840" y="167040"/>
                <a:ext cx="91440" cy="91800"/>
              </a:xfrm>
              <a:custGeom>
                <a:avLst/>
                <a:gdLst/>
                <a:ahLst/>
                <a:rect l="l" t="t" r="r" b="b"/>
                <a:pathLst>
                  <a:path w="181" h="375">
                    <a:moveTo>
                      <a:pt x="0" y="0"/>
                    </a:moveTo>
                    <a:lnTo>
                      <a:pt x="8" y="319"/>
                    </a:lnTo>
                    <a:lnTo>
                      <a:pt x="181" y="375"/>
                    </a:lnTo>
                    <a:lnTo>
                      <a:pt x="14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77480" y="149760"/>
                <a:ext cx="96840" cy="90360"/>
              </a:xfrm>
              <a:custGeom>
                <a:avLst/>
                <a:gdLst/>
                <a:ahLst/>
                <a:rect l="l" t="t" r="r" b="b"/>
                <a:pathLst>
                  <a:path w="191" h="369">
                    <a:moveTo>
                      <a:pt x="0" y="0"/>
                    </a:moveTo>
                    <a:lnTo>
                      <a:pt x="1" y="41"/>
                    </a:lnTo>
                    <a:lnTo>
                      <a:pt x="7" y="136"/>
                    </a:lnTo>
                    <a:lnTo>
                      <a:pt x="14" y="241"/>
                    </a:lnTo>
                    <a:lnTo>
                      <a:pt x="25" y="314"/>
                    </a:lnTo>
                    <a:lnTo>
                      <a:pt x="191" y="369"/>
                    </a:lnTo>
                    <a:lnTo>
                      <a:pt x="149" y="46"/>
                    </a:lnTo>
                    <a:lnTo>
                      <a:pt x="143" y="44"/>
                    </a:lnTo>
                    <a:lnTo>
                      <a:pt x="128" y="38"/>
                    </a:lnTo>
                    <a:lnTo>
                      <a:pt x="106" y="30"/>
                    </a:lnTo>
                    <a:lnTo>
                      <a:pt x="81" y="21"/>
                    </a:lnTo>
                    <a:lnTo>
                      <a:pt x="54" y="13"/>
                    </a:lnTo>
                    <a:lnTo>
                      <a:pt x="30" y="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-1761120" y="191520"/>
                <a:ext cx="80640" cy="82080"/>
              </a:xfrm>
              <a:custGeom>
                <a:avLst/>
                <a:gdLst/>
                <a:ahLst/>
                <a:rect l="l" t="t" r="r" b="b"/>
                <a:pathLst>
                  <a:path w="162" h="335">
                    <a:moveTo>
                      <a:pt x="162" y="335"/>
                    </a:moveTo>
                    <a:lnTo>
                      <a:pt x="136" y="41"/>
                    </a:lnTo>
                    <a:lnTo>
                      <a:pt x="4" y="0"/>
                    </a:lnTo>
                    <a:lnTo>
                      <a:pt x="0" y="280"/>
                    </a:lnTo>
                    <a:lnTo>
                      <a:pt x="162" y="335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-1667160" y="206640"/>
                <a:ext cx="70560" cy="79560"/>
              </a:xfrm>
              <a:custGeom>
                <a:avLst/>
                <a:gdLst/>
                <a:ahLst/>
                <a:rect l="l" t="t" r="r" b="b"/>
                <a:pathLst>
                  <a:path w="141" h="325">
                    <a:moveTo>
                      <a:pt x="9" y="281"/>
                    </a:moveTo>
                    <a:lnTo>
                      <a:pt x="0" y="0"/>
                    </a:lnTo>
                    <a:lnTo>
                      <a:pt x="115" y="51"/>
                    </a:lnTo>
                    <a:lnTo>
                      <a:pt x="141" y="325"/>
                    </a:lnTo>
                    <a:lnTo>
                      <a:pt x="9" y="281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-1583280" y="224640"/>
                <a:ext cx="55440" cy="702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17" y="257"/>
                    </a:lnTo>
                    <a:lnTo>
                      <a:pt x="109" y="287"/>
                    </a:lnTo>
                    <a:lnTo>
                      <a:pt x="88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-1517400" y="240120"/>
                <a:ext cx="54000" cy="63720"/>
              </a:xfrm>
              <a:custGeom>
                <a:avLst/>
                <a:gdLst/>
                <a:ahLst/>
                <a:rect l="l" t="t" r="r" b="b"/>
                <a:pathLst>
                  <a:path w="106" h="261">
                    <a:moveTo>
                      <a:pt x="0" y="0"/>
                    </a:moveTo>
                    <a:lnTo>
                      <a:pt x="12" y="240"/>
                    </a:lnTo>
                    <a:lnTo>
                      <a:pt x="106" y="261"/>
                    </a:lnTo>
                    <a:lnTo>
                      <a:pt x="72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-1453320" y="251640"/>
                <a:ext cx="53640" cy="58680"/>
              </a:xfrm>
              <a:custGeom>
                <a:avLst/>
                <a:gdLst/>
                <a:ahLst/>
                <a:rect l="l" t="t" r="r" b="b"/>
                <a:pathLst>
                  <a:path w="107" h="239">
                    <a:moveTo>
                      <a:pt x="0" y="0"/>
                    </a:moveTo>
                    <a:lnTo>
                      <a:pt x="68" y="30"/>
                    </a:lnTo>
                    <a:lnTo>
                      <a:pt x="71" y="38"/>
                    </a:lnTo>
                    <a:lnTo>
                      <a:pt x="77" y="59"/>
                    </a:lnTo>
                    <a:lnTo>
                      <a:pt x="85" y="90"/>
                    </a:lnTo>
                    <a:lnTo>
                      <a:pt x="94" y="126"/>
                    </a:lnTo>
                    <a:lnTo>
                      <a:pt x="101" y="164"/>
                    </a:lnTo>
                    <a:lnTo>
                      <a:pt x="107" y="198"/>
                    </a:lnTo>
                    <a:lnTo>
                      <a:pt x="107" y="224"/>
                    </a:lnTo>
                    <a:lnTo>
                      <a:pt x="102" y="239"/>
                    </a:lnTo>
                    <a:lnTo>
                      <a:pt x="22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-1852560" y="34020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168" h="321">
                    <a:moveTo>
                      <a:pt x="4" y="0"/>
                    </a:moveTo>
                    <a:lnTo>
                      <a:pt x="0" y="317"/>
                    </a:lnTo>
                    <a:lnTo>
                      <a:pt x="168" y="321"/>
                    </a:lnTo>
                    <a:lnTo>
                      <a:pt x="168" y="2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-1746720" y="350280"/>
                <a:ext cx="73800" cy="70560"/>
              </a:xfrm>
              <a:custGeom>
                <a:avLst/>
                <a:gdLst/>
                <a:ahLst/>
                <a:rect l="l" t="t" r="r" b="b"/>
                <a:pathLst>
                  <a:path w="145" h="288">
                    <a:moveTo>
                      <a:pt x="8" y="0"/>
                    </a:moveTo>
                    <a:lnTo>
                      <a:pt x="0" y="284"/>
                    </a:lnTo>
                    <a:lnTo>
                      <a:pt x="140" y="288"/>
                    </a:lnTo>
                    <a:lnTo>
                      <a:pt x="145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1585440" y="364320"/>
                <a:ext cx="42120" cy="64440"/>
              </a:xfrm>
              <a:custGeom>
                <a:avLst/>
                <a:gdLst/>
                <a:ahLst/>
                <a:rect l="l" t="t" r="r" b="b"/>
                <a:pathLst>
                  <a:path w="84" h="263">
                    <a:moveTo>
                      <a:pt x="0" y="0"/>
                    </a:moveTo>
                    <a:lnTo>
                      <a:pt x="0" y="254"/>
                    </a:lnTo>
                    <a:lnTo>
                      <a:pt x="79" y="263"/>
                    </a:lnTo>
                    <a:lnTo>
                      <a:pt x="8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-1522080" y="370080"/>
                <a:ext cx="51480" cy="5940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4" y="0"/>
                    </a:moveTo>
                    <a:lnTo>
                      <a:pt x="0" y="228"/>
                    </a:lnTo>
                    <a:lnTo>
                      <a:pt x="98" y="241"/>
                    </a:lnTo>
                    <a:lnTo>
                      <a:pt x="102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-1449360" y="375480"/>
                <a:ext cx="37440" cy="54720"/>
              </a:xfrm>
              <a:custGeom>
                <a:avLst/>
                <a:gdLst/>
                <a:ahLst/>
                <a:rect l="l" t="t" r="r" b="b"/>
                <a:pathLst>
                  <a:path w="72" h="224">
                    <a:moveTo>
                      <a:pt x="0" y="0"/>
                    </a:moveTo>
                    <a:lnTo>
                      <a:pt x="0" y="224"/>
                    </a:lnTo>
                    <a:lnTo>
                      <a:pt x="72" y="220"/>
                    </a:lnTo>
                    <a:lnTo>
                      <a:pt x="7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-2414520" y="323640"/>
                <a:ext cx="430560" cy="111960"/>
              </a:xfrm>
              <a:custGeom>
                <a:avLst/>
                <a:gdLst/>
                <a:ahLst/>
                <a:rect l="l" t="t" r="r" b="b"/>
                <a:pathLst>
                  <a:path w="855" h="456">
                    <a:moveTo>
                      <a:pt x="68" y="27"/>
                    </a:moveTo>
                    <a:lnTo>
                      <a:pt x="65" y="27"/>
                    </a:lnTo>
                    <a:lnTo>
                      <a:pt x="58" y="30"/>
                    </a:lnTo>
                    <a:lnTo>
                      <a:pt x="50" y="33"/>
                    </a:lnTo>
                    <a:lnTo>
                      <a:pt x="38" y="39"/>
                    </a:lnTo>
                    <a:lnTo>
                      <a:pt x="27" y="47"/>
                    </a:lnTo>
                    <a:lnTo>
                      <a:pt x="16" y="58"/>
                    </a:lnTo>
                    <a:lnTo>
                      <a:pt x="9" y="73"/>
                    </a:lnTo>
                    <a:lnTo>
                      <a:pt x="4" y="91"/>
                    </a:lnTo>
                    <a:lnTo>
                      <a:pt x="1" y="170"/>
                    </a:lnTo>
                    <a:lnTo>
                      <a:pt x="0" y="292"/>
                    </a:lnTo>
                    <a:lnTo>
                      <a:pt x="0" y="403"/>
                    </a:lnTo>
                    <a:lnTo>
                      <a:pt x="0" y="451"/>
                    </a:lnTo>
                    <a:lnTo>
                      <a:pt x="783" y="456"/>
                    </a:lnTo>
                    <a:lnTo>
                      <a:pt x="786" y="454"/>
                    </a:lnTo>
                    <a:lnTo>
                      <a:pt x="794" y="451"/>
                    </a:lnTo>
                    <a:lnTo>
                      <a:pt x="807" y="446"/>
                    </a:lnTo>
                    <a:lnTo>
                      <a:pt x="821" y="436"/>
                    </a:lnTo>
                    <a:lnTo>
                      <a:pt x="834" y="423"/>
                    </a:lnTo>
                    <a:lnTo>
                      <a:pt x="845" y="406"/>
                    </a:lnTo>
                    <a:lnTo>
                      <a:pt x="854" y="382"/>
                    </a:lnTo>
                    <a:lnTo>
                      <a:pt x="855" y="353"/>
                    </a:lnTo>
                    <a:lnTo>
                      <a:pt x="852" y="270"/>
                    </a:lnTo>
                    <a:lnTo>
                      <a:pt x="851" y="165"/>
                    </a:lnTo>
                    <a:lnTo>
                      <a:pt x="851" y="77"/>
                    </a:lnTo>
                    <a:lnTo>
                      <a:pt x="851" y="40"/>
                    </a:lnTo>
                    <a:lnTo>
                      <a:pt x="851" y="39"/>
                    </a:lnTo>
                    <a:lnTo>
                      <a:pt x="849" y="36"/>
                    </a:lnTo>
                    <a:lnTo>
                      <a:pt x="845" y="30"/>
                    </a:lnTo>
                    <a:lnTo>
                      <a:pt x="838" y="24"/>
                    </a:lnTo>
                    <a:lnTo>
                      <a:pt x="828" y="19"/>
                    </a:lnTo>
                    <a:lnTo>
                      <a:pt x="813" y="12"/>
                    </a:lnTo>
                    <a:lnTo>
                      <a:pt x="793" y="6"/>
                    </a:lnTo>
                    <a:lnTo>
                      <a:pt x="766" y="2"/>
                    </a:lnTo>
                    <a:lnTo>
                      <a:pt x="745" y="0"/>
                    </a:lnTo>
                    <a:lnTo>
                      <a:pt x="713" y="0"/>
                    </a:lnTo>
                    <a:lnTo>
                      <a:pt x="672" y="0"/>
                    </a:lnTo>
                    <a:lnTo>
                      <a:pt x="624" y="2"/>
                    </a:lnTo>
                    <a:lnTo>
                      <a:pt x="570" y="5"/>
                    </a:lnTo>
                    <a:lnTo>
                      <a:pt x="511" y="6"/>
                    </a:lnTo>
                    <a:lnTo>
                      <a:pt x="450" y="9"/>
                    </a:lnTo>
                    <a:lnTo>
                      <a:pt x="387" y="12"/>
                    </a:lnTo>
                    <a:lnTo>
                      <a:pt x="326" y="14"/>
                    </a:lnTo>
                    <a:lnTo>
                      <a:pt x="268" y="17"/>
                    </a:lnTo>
                    <a:lnTo>
                      <a:pt x="214" y="20"/>
                    </a:lnTo>
                    <a:lnTo>
                      <a:pt x="166" y="22"/>
                    </a:lnTo>
                    <a:lnTo>
                      <a:pt x="126" y="24"/>
                    </a:lnTo>
                    <a:lnTo>
                      <a:pt x="95" y="26"/>
                    </a:lnTo>
                    <a:lnTo>
                      <a:pt x="75" y="27"/>
                    </a:lnTo>
                    <a:lnTo>
                      <a:pt x="68" y="27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-2408040" y="350280"/>
                <a:ext cx="174960" cy="75240"/>
              </a:xfrm>
              <a:custGeom>
                <a:avLst/>
                <a:gdLst/>
                <a:ahLst/>
                <a:rect l="l" t="t" r="r" b="b"/>
                <a:pathLst>
                  <a:path w="347" h="306">
                    <a:moveTo>
                      <a:pt x="305" y="0"/>
                    </a:moveTo>
                    <a:lnTo>
                      <a:pt x="305" y="30"/>
                    </a:lnTo>
                    <a:lnTo>
                      <a:pt x="305" y="99"/>
                    </a:lnTo>
                    <a:lnTo>
                      <a:pt x="300" y="173"/>
                    </a:lnTo>
                    <a:lnTo>
                      <a:pt x="292" y="220"/>
                    </a:lnTo>
                    <a:lnTo>
                      <a:pt x="286" y="226"/>
                    </a:lnTo>
                    <a:lnTo>
                      <a:pt x="275" y="230"/>
                    </a:lnTo>
                    <a:lnTo>
                      <a:pt x="259" y="234"/>
                    </a:lnTo>
                    <a:lnTo>
                      <a:pt x="239" y="238"/>
                    </a:lnTo>
                    <a:lnTo>
                      <a:pt x="217" y="241"/>
                    </a:lnTo>
                    <a:lnTo>
                      <a:pt x="193" y="244"/>
                    </a:lnTo>
                    <a:lnTo>
                      <a:pt x="166" y="245"/>
                    </a:lnTo>
                    <a:lnTo>
                      <a:pt x="140" y="248"/>
                    </a:lnTo>
                    <a:lnTo>
                      <a:pt x="113" y="250"/>
                    </a:lnTo>
                    <a:lnTo>
                      <a:pt x="88" y="251"/>
                    </a:lnTo>
                    <a:lnTo>
                      <a:pt x="64" y="253"/>
                    </a:lnTo>
                    <a:lnTo>
                      <a:pt x="44" y="253"/>
                    </a:lnTo>
                    <a:lnTo>
                      <a:pt x="25" y="254"/>
                    </a:lnTo>
                    <a:lnTo>
                      <a:pt x="11" y="254"/>
                    </a:lnTo>
                    <a:lnTo>
                      <a:pt x="3" y="254"/>
                    </a:lnTo>
                    <a:lnTo>
                      <a:pt x="0" y="254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71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3" y="306"/>
                    </a:lnTo>
                    <a:lnTo>
                      <a:pt x="181" y="306"/>
                    </a:lnTo>
                    <a:lnTo>
                      <a:pt x="211" y="306"/>
                    </a:lnTo>
                    <a:lnTo>
                      <a:pt x="238" y="306"/>
                    </a:lnTo>
                    <a:lnTo>
                      <a:pt x="262" y="305"/>
                    </a:lnTo>
                    <a:lnTo>
                      <a:pt x="283" y="304"/>
                    </a:lnTo>
                    <a:lnTo>
                      <a:pt x="302" y="302"/>
                    </a:lnTo>
                    <a:lnTo>
                      <a:pt x="315" y="299"/>
                    </a:lnTo>
                    <a:lnTo>
                      <a:pt x="322" y="296"/>
                    </a:lnTo>
                    <a:lnTo>
                      <a:pt x="334" y="244"/>
                    </a:lnTo>
                    <a:lnTo>
                      <a:pt x="343" y="146"/>
                    </a:lnTo>
                    <a:lnTo>
                      <a:pt x="346" y="51"/>
                    </a:lnTo>
                    <a:lnTo>
                      <a:pt x="347" y="9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-2410200" y="325440"/>
                <a:ext cx="206640" cy="98640"/>
              </a:xfrm>
              <a:custGeom>
                <a:avLst/>
                <a:gdLst/>
                <a:ahLst/>
                <a:rect l="l" t="t" r="r" b="b"/>
                <a:pathLst>
                  <a:path w="411" h="403">
                    <a:moveTo>
                      <a:pt x="377" y="7"/>
                    </a:moveTo>
                    <a:lnTo>
                      <a:pt x="364" y="364"/>
                    </a:lnTo>
                    <a:lnTo>
                      <a:pt x="1" y="357"/>
                    </a:lnTo>
                    <a:lnTo>
                      <a:pt x="0" y="403"/>
                    </a:lnTo>
                    <a:lnTo>
                      <a:pt x="398" y="403"/>
                    </a:lnTo>
                    <a:lnTo>
                      <a:pt x="411" y="0"/>
                    </a:lnTo>
                    <a:lnTo>
                      <a:pt x="377" y="7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-2410200" y="130320"/>
                <a:ext cx="174240" cy="100080"/>
              </a:xfrm>
              <a:custGeom>
                <a:avLst/>
                <a:gdLst/>
                <a:ahLst/>
                <a:rect l="l" t="t" r="r" b="b"/>
                <a:pathLst>
                  <a:path w="347" h="407">
                    <a:moveTo>
                      <a:pt x="347" y="0"/>
                    </a:moveTo>
                    <a:lnTo>
                      <a:pt x="324" y="358"/>
                    </a:lnTo>
                    <a:lnTo>
                      <a:pt x="323" y="360"/>
                    </a:lnTo>
                    <a:lnTo>
                      <a:pt x="316" y="365"/>
                    </a:lnTo>
                    <a:lnTo>
                      <a:pt x="304" y="374"/>
                    </a:lnTo>
                    <a:lnTo>
                      <a:pt x="287" y="383"/>
                    </a:lnTo>
                    <a:lnTo>
                      <a:pt x="265" y="391"/>
                    </a:lnTo>
                    <a:lnTo>
                      <a:pt x="235" y="400"/>
                    </a:lnTo>
                    <a:lnTo>
                      <a:pt x="198" y="405"/>
                    </a:lnTo>
                    <a:lnTo>
                      <a:pt x="153" y="407"/>
                    </a:lnTo>
                    <a:lnTo>
                      <a:pt x="109" y="407"/>
                    </a:lnTo>
                    <a:lnTo>
                      <a:pt x="75" y="407"/>
                    </a:lnTo>
                    <a:lnTo>
                      <a:pt x="49" y="407"/>
                    </a:lnTo>
                    <a:lnTo>
                      <a:pt x="29" y="405"/>
                    </a:lnTo>
                    <a:lnTo>
                      <a:pt x="17" y="402"/>
                    </a:lnTo>
                    <a:lnTo>
                      <a:pt x="8" y="398"/>
                    </a:lnTo>
                    <a:lnTo>
                      <a:pt x="4" y="391"/>
                    </a:lnTo>
                    <a:lnTo>
                      <a:pt x="0" y="381"/>
                    </a:lnTo>
                    <a:lnTo>
                      <a:pt x="1" y="322"/>
                    </a:lnTo>
                    <a:lnTo>
                      <a:pt x="11" y="218"/>
                    </a:lnTo>
                    <a:lnTo>
                      <a:pt x="24" y="120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6" y="73"/>
                    </a:lnTo>
                    <a:lnTo>
                      <a:pt x="45" y="72"/>
                    </a:lnTo>
                    <a:lnTo>
                      <a:pt x="56" y="68"/>
                    </a:lnTo>
                    <a:lnTo>
                      <a:pt x="70" y="63"/>
                    </a:lnTo>
                    <a:lnTo>
                      <a:pt x="86" y="59"/>
                    </a:lnTo>
                    <a:lnTo>
                      <a:pt x="106" y="53"/>
                    </a:lnTo>
                    <a:lnTo>
                      <a:pt x="127" y="48"/>
                    </a:lnTo>
                    <a:lnTo>
                      <a:pt x="150" y="41"/>
                    </a:lnTo>
                    <a:lnTo>
                      <a:pt x="174" y="35"/>
                    </a:lnTo>
                    <a:lnTo>
                      <a:pt x="201" y="29"/>
                    </a:lnTo>
                    <a:lnTo>
                      <a:pt x="228" y="22"/>
                    </a:lnTo>
                    <a:lnTo>
                      <a:pt x="256" y="17"/>
                    </a:lnTo>
                    <a:lnTo>
                      <a:pt x="286" y="10"/>
                    </a:lnTo>
                    <a:lnTo>
                      <a:pt x="316" y="5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-2215800" y="128520"/>
                <a:ext cx="193680" cy="94320"/>
              </a:xfrm>
              <a:custGeom>
                <a:avLst/>
                <a:gdLst/>
                <a:ahLst/>
                <a:rect l="l" t="t" r="r" b="b"/>
                <a:pathLst>
                  <a:path w="385" h="383">
                    <a:moveTo>
                      <a:pt x="385" y="0"/>
                    </a:moveTo>
                    <a:lnTo>
                      <a:pt x="385" y="45"/>
                    </a:lnTo>
                    <a:lnTo>
                      <a:pt x="383" y="146"/>
                    </a:lnTo>
                    <a:lnTo>
                      <a:pt x="379" y="254"/>
                    </a:lnTo>
                    <a:lnTo>
                      <a:pt x="372" y="318"/>
                    </a:lnTo>
                    <a:lnTo>
                      <a:pt x="369" y="331"/>
                    </a:lnTo>
                    <a:lnTo>
                      <a:pt x="366" y="340"/>
                    </a:lnTo>
                    <a:lnTo>
                      <a:pt x="365" y="350"/>
                    </a:lnTo>
                    <a:lnTo>
                      <a:pt x="360" y="357"/>
                    </a:lnTo>
                    <a:lnTo>
                      <a:pt x="352" y="365"/>
                    </a:lnTo>
                    <a:lnTo>
                      <a:pt x="336" y="369"/>
                    </a:lnTo>
                    <a:lnTo>
                      <a:pt x="314" y="372"/>
                    </a:lnTo>
                    <a:lnTo>
                      <a:pt x="280" y="373"/>
                    </a:lnTo>
                    <a:lnTo>
                      <a:pt x="277" y="373"/>
                    </a:lnTo>
                    <a:lnTo>
                      <a:pt x="270" y="374"/>
                    </a:lnTo>
                    <a:lnTo>
                      <a:pt x="258" y="374"/>
                    </a:lnTo>
                    <a:lnTo>
                      <a:pt x="243" y="376"/>
                    </a:lnTo>
                    <a:lnTo>
                      <a:pt x="226" y="377"/>
                    </a:lnTo>
                    <a:lnTo>
                      <a:pt x="204" y="379"/>
                    </a:lnTo>
                    <a:lnTo>
                      <a:pt x="183" y="380"/>
                    </a:lnTo>
                    <a:lnTo>
                      <a:pt x="159" y="382"/>
                    </a:lnTo>
                    <a:lnTo>
                      <a:pt x="136" y="382"/>
                    </a:lnTo>
                    <a:lnTo>
                      <a:pt x="112" y="383"/>
                    </a:lnTo>
                    <a:lnTo>
                      <a:pt x="90" y="383"/>
                    </a:lnTo>
                    <a:lnTo>
                      <a:pt x="67" y="382"/>
                    </a:lnTo>
                    <a:lnTo>
                      <a:pt x="47" y="382"/>
                    </a:lnTo>
                    <a:lnTo>
                      <a:pt x="30" y="379"/>
                    </a:lnTo>
                    <a:lnTo>
                      <a:pt x="16" y="376"/>
                    </a:lnTo>
                    <a:lnTo>
                      <a:pt x="5" y="373"/>
                    </a:lnTo>
                    <a:lnTo>
                      <a:pt x="5" y="365"/>
                    </a:lnTo>
                    <a:lnTo>
                      <a:pt x="3" y="345"/>
                    </a:lnTo>
                    <a:lnTo>
                      <a:pt x="0" y="321"/>
                    </a:lnTo>
                    <a:lnTo>
                      <a:pt x="0" y="301"/>
                    </a:lnTo>
                    <a:lnTo>
                      <a:pt x="3" y="245"/>
                    </a:lnTo>
                    <a:lnTo>
                      <a:pt x="12" y="145"/>
                    </a:lnTo>
                    <a:lnTo>
                      <a:pt x="19" y="48"/>
                    </a:lnTo>
                    <a:lnTo>
                      <a:pt x="22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-2448000" y="108000"/>
                <a:ext cx="1081080" cy="466560"/>
              </a:xfrm>
              <a:custGeom>
                <a:avLst/>
                <a:gdLst/>
                <a:ahLst/>
                <a:rect l="l" t="t" r="r" b="b"/>
                <a:pathLst>
                  <a:path w="2144" h="1898">
                    <a:moveTo>
                      <a:pt x="285" y="36"/>
                    </a:moveTo>
                    <a:lnTo>
                      <a:pt x="227" y="50"/>
                    </a:lnTo>
                    <a:lnTo>
                      <a:pt x="180" y="63"/>
                    </a:lnTo>
                    <a:lnTo>
                      <a:pt x="143" y="74"/>
                    </a:lnTo>
                    <a:lnTo>
                      <a:pt x="115" y="86"/>
                    </a:lnTo>
                    <a:lnTo>
                      <a:pt x="95" y="95"/>
                    </a:lnTo>
                    <a:lnTo>
                      <a:pt x="82" y="103"/>
                    </a:lnTo>
                    <a:lnTo>
                      <a:pt x="75" y="108"/>
                    </a:lnTo>
                    <a:lnTo>
                      <a:pt x="72" y="111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51" y="192"/>
                    </a:lnTo>
                    <a:lnTo>
                      <a:pt x="37" y="295"/>
                    </a:lnTo>
                    <a:lnTo>
                      <a:pt x="28" y="415"/>
                    </a:lnTo>
                    <a:lnTo>
                      <a:pt x="21" y="538"/>
                    </a:lnTo>
                    <a:lnTo>
                      <a:pt x="17" y="656"/>
                    </a:lnTo>
                    <a:lnTo>
                      <a:pt x="15" y="755"/>
                    </a:lnTo>
                    <a:lnTo>
                      <a:pt x="14" y="827"/>
                    </a:lnTo>
                    <a:lnTo>
                      <a:pt x="14" y="858"/>
                    </a:lnTo>
                    <a:lnTo>
                      <a:pt x="14" y="873"/>
                    </a:lnTo>
                    <a:lnTo>
                      <a:pt x="27" y="870"/>
                    </a:lnTo>
                    <a:lnTo>
                      <a:pt x="64" y="866"/>
                    </a:lnTo>
                    <a:lnTo>
                      <a:pt x="109" y="861"/>
                    </a:lnTo>
                    <a:lnTo>
                      <a:pt x="161" y="857"/>
                    </a:lnTo>
                    <a:lnTo>
                      <a:pt x="221" y="854"/>
                    </a:lnTo>
                    <a:lnTo>
                      <a:pt x="285" y="850"/>
                    </a:lnTo>
                    <a:lnTo>
                      <a:pt x="350" y="847"/>
                    </a:lnTo>
                    <a:lnTo>
                      <a:pt x="418" y="844"/>
                    </a:lnTo>
                    <a:lnTo>
                      <a:pt x="485" y="841"/>
                    </a:lnTo>
                    <a:lnTo>
                      <a:pt x="550" y="839"/>
                    </a:lnTo>
                    <a:lnTo>
                      <a:pt x="612" y="837"/>
                    </a:lnTo>
                    <a:lnTo>
                      <a:pt x="669" y="834"/>
                    </a:lnTo>
                    <a:lnTo>
                      <a:pt x="720" y="833"/>
                    </a:lnTo>
                    <a:lnTo>
                      <a:pt x="761" y="831"/>
                    </a:lnTo>
                    <a:lnTo>
                      <a:pt x="794" y="831"/>
                    </a:lnTo>
                    <a:lnTo>
                      <a:pt x="815" y="830"/>
                    </a:lnTo>
                    <a:lnTo>
                      <a:pt x="824" y="830"/>
                    </a:lnTo>
                    <a:lnTo>
                      <a:pt x="822" y="807"/>
                    </a:lnTo>
                    <a:lnTo>
                      <a:pt x="815" y="807"/>
                    </a:lnTo>
                    <a:lnTo>
                      <a:pt x="794" y="809"/>
                    </a:lnTo>
                    <a:lnTo>
                      <a:pt x="764" y="809"/>
                    </a:lnTo>
                    <a:lnTo>
                      <a:pt x="723" y="810"/>
                    </a:lnTo>
                    <a:lnTo>
                      <a:pt x="675" y="812"/>
                    </a:lnTo>
                    <a:lnTo>
                      <a:pt x="619" y="813"/>
                    </a:lnTo>
                    <a:lnTo>
                      <a:pt x="560" y="816"/>
                    </a:lnTo>
                    <a:lnTo>
                      <a:pt x="496" y="817"/>
                    </a:lnTo>
                    <a:lnTo>
                      <a:pt x="431" y="820"/>
                    </a:lnTo>
                    <a:lnTo>
                      <a:pt x="364" y="823"/>
                    </a:lnTo>
                    <a:lnTo>
                      <a:pt x="299" y="827"/>
                    </a:lnTo>
                    <a:lnTo>
                      <a:pt x="237" y="830"/>
                    </a:lnTo>
                    <a:lnTo>
                      <a:pt x="177" y="834"/>
                    </a:lnTo>
                    <a:lnTo>
                      <a:pt x="123" y="837"/>
                    </a:lnTo>
                    <a:lnTo>
                      <a:pt x="76" y="841"/>
                    </a:lnTo>
                    <a:lnTo>
                      <a:pt x="37" y="846"/>
                    </a:lnTo>
                    <a:lnTo>
                      <a:pt x="37" y="797"/>
                    </a:lnTo>
                    <a:lnTo>
                      <a:pt x="38" y="719"/>
                    </a:lnTo>
                    <a:lnTo>
                      <a:pt x="41" y="620"/>
                    </a:lnTo>
                    <a:lnTo>
                      <a:pt x="45" y="510"/>
                    </a:lnTo>
                    <a:lnTo>
                      <a:pt x="52" y="396"/>
                    </a:lnTo>
                    <a:lnTo>
                      <a:pt x="61" y="288"/>
                    </a:lnTo>
                    <a:lnTo>
                      <a:pt x="74" y="195"/>
                    </a:lnTo>
                    <a:lnTo>
                      <a:pt x="89" y="125"/>
                    </a:lnTo>
                    <a:lnTo>
                      <a:pt x="95" y="121"/>
                    </a:lnTo>
                    <a:lnTo>
                      <a:pt x="105" y="117"/>
                    </a:lnTo>
                    <a:lnTo>
                      <a:pt x="119" y="110"/>
                    </a:lnTo>
                    <a:lnTo>
                      <a:pt x="139" y="101"/>
                    </a:lnTo>
                    <a:lnTo>
                      <a:pt x="166" y="91"/>
                    </a:lnTo>
                    <a:lnTo>
                      <a:pt x="198" y="81"/>
                    </a:lnTo>
                    <a:lnTo>
                      <a:pt x="239" y="70"/>
                    </a:lnTo>
                    <a:lnTo>
                      <a:pt x="289" y="59"/>
                    </a:lnTo>
                    <a:lnTo>
                      <a:pt x="323" y="51"/>
                    </a:lnTo>
                    <a:lnTo>
                      <a:pt x="360" y="46"/>
                    </a:lnTo>
                    <a:lnTo>
                      <a:pt x="398" y="40"/>
                    </a:lnTo>
                    <a:lnTo>
                      <a:pt x="439" y="36"/>
                    </a:lnTo>
                    <a:lnTo>
                      <a:pt x="482" y="32"/>
                    </a:lnTo>
                    <a:lnTo>
                      <a:pt x="524" y="29"/>
                    </a:lnTo>
                    <a:lnTo>
                      <a:pt x="568" y="26"/>
                    </a:lnTo>
                    <a:lnTo>
                      <a:pt x="611" y="25"/>
                    </a:lnTo>
                    <a:lnTo>
                      <a:pt x="654" y="23"/>
                    </a:lnTo>
                    <a:lnTo>
                      <a:pt x="695" y="23"/>
                    </a:lnTo>
                    <a:lnTo>
                      <a:pt x="733" y="25"/>
                    </a:lnTo>
                    <a:lnTo>
                      <a:pt x="770" y="26"/>
                    </a:lnTo>
                    <a:lnTo>
                      <a:pt x="804" y="29"/>
                    </a:lnTo>
                    <a:lnTo>
                      <a:pt x="834" y="33"/>
                    </a:lnTo>
                    <a:lnTo>
                      <a:pt x="859" y="39"/>
                    </a:lnTo>
                    <a:lnTo>
                      <a:pt x="880" y="44"/>
                    </a:lnTo>
                    <a:lnTo>
                      <a:pt x="880" y="44"/>
                    </a:lnTo>
                    <a:lnTo>
                      <a:pt x="2016" y="534"/>
                    </a:lnTo>
                    <a:lnTo>
                      <a:pt x="2018" y="535"/>
                    </a:lnTo>
                    <a:lnTo>
                      <a:pt x="2023" y="538"/>
                    </a:lnTo>
                    <a:lnTo>
                      <a:pt x="2030" y="542"/>
                    </a:lnTo>
                    <a:lnTo>
                      <a:pt x="2039" y="548"/>
                    </a:lnTo>
                    <a:lnTo>
                      <a:pt x="2047" y="555"/>
                    </a:lnTo>
                    <a:lnTo>
                      <a:pt x="2056" y="563"/>
                    </a:lnTo>
                    <a:lnTo>
                      <a:pt x="2063" y="573"/>
                    </a:lnTo>
                    <a:lnTo>
                      <a:pt x="2067" y="585"/>
                    </a:lnTo>
                    <a:lnTo>
                      <a:pt x="2073" y="612"/>
                    </a:lnTo>
                    <a:lnTo>
                      <a:pt x="2080" y="644"/>
                    </a:lnTo>
                    <a:lnTo>
                      <a:pt x="2087" y="680"/>
                    </a:lnTo>
                    <a:lnTo>
                      <a:pt x="2094" y="715"/>
                    </a:lnTo>
                    <a:lnTo>
                      <a:pt x="2100" y="751"/>
                    </a:lnTo>
                    <a:lnTo>
                      <a:pt x="2106" y="782"/>
                    </a:lnTo>
                    <a:lnTo>
                      <a:pt x="2108" y="807"/>
                    </a:lnTo>
                    <a:lnTo>
                      <a:pt x="2110" y="827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30"/>
                    </a:lnTo>
                    <a:lnTo>
                      <a:pt x="2097" y="827"/>
                    </a:lnTo>
                    <a:lnTo>
                      <a:pt x="2082" y="823"/>
                    </a:lnTo>
                    <a:lnTo>
                      <a:pt x="2059" y="817"/>
                    </a:lnTo>
                    <a:lnTo>
                      <a:pt x="2033" y="812"/>
                    </a:lnTo>
                    <a:lnTo>
                      <a:pt x="2004" y="803"/>
                    </a:lnTo>
                    <a:lnTo>
                      <a:pt x="1971" y="793"/>
                    </a:lnTo>
                    <a:lnTo>
                      <a:pt x="1935" y="783"/>
                    </a:lnTo>
                    <a:lnTo>
                      <a:pt x="1896" y="772"/>
                    </a:lnTo>
                    <a:lnTo>
                      <a:pt x="1855" y="761"/>
                    </a:lnTo>
                    <a:lnTo>
                      <a:pt x="1811" y="746"/>
                    </a:lnTo>
                    <a:lnTo>
                      <a:pt x="1765" y="734"/>
                    </a:lnTo>
                    <a:lnTo>
                      <a:pt x="1717" y="719"/>
                    </a:lnTo>
                    <a:lnTo>
                      <a:pt x="1669" y="705"/>
                    </a:lnTo>
                    <a:lnTo>
                      <a:pt x="1621" y="690"/>
                    </a:lnTo>
                    <a:lnTo>
                      <a:pt x="1571" y="675"/>
                    </a:lnTo>
                    <a:lnTo>
                      <a:pt x="1520" y="660"/>
                    </a:lnTo>
                    <a:lnTo>
                      <a:pt x="1470" y="644"/>
                    </a:lnTo>
                    <a:lnTo>
                      <a:pt x="1422" y="630"/>
                    </a:lnTo>
                    <a:lnTo>
                      <a:pt x="1372" y="615"/>
                    </a:lnTo>
                    <a:lnTo>
                      <a:pt x="1326" y="600"/>
                    </a:lnTo>
                    <a:lnTo>
                      <a:pt x="1280" y="586"/>
                    </a:lnTo>
                    <a:lnTo>
                      <a:pt x="1236" y="572"/>
                    </a:lnTo>
                    <a:lnTo>
                      <a:pt x="1194" y="559"/>
                    </a:lnTo>
                    <a:lnTo>
                      <a:pt x="1154" y="546"/>
                    </a:lnTo>
                    <a:lnTo>
                      <a:pt x="1117" y="535"/>
                    </a:lnTo>
                    <a:lnTo>
                      <a:pt x="1085" y="524"/>
                    </a:lnTo>
                    <a:lnTo>
                      <a:pt x="1055" y="514"/>
                    </a:lnTo>
                    <a:lnTo>
                      <a:pt x="1028" y="505"/>
                    </a:lnTo>
                    <a:lnTo>
                      <a:pt x="1007" y="497"/>
                    </a:lnTo>
                    <a:lnTo>
                      <a:pt x="988" y="491"/>
                    </a:lnTo>
                    <a:lnTo>
                      <a:pt x="975" y="485"/>
                    </a:lnTo>
                    <a:lnTo>
                      <a:pt x="968" y="483"/>
                    </a:lnTo>
                    <a:lnTo>
                      <a:pt x="960" y="437"/>
                    </a:lnTo>
                    <a:lnTo>
                      <a:pt x="953" y="358"/>
                    </a:lnTo>
                    <a:lnTo>
                      <a:pt x="947" y="268"/>
                    </a:lnTo>
                    <a:lnTo>
                      <a:pt x="944" y="196"/>
                    </a:lnTo>
                    <a:lnTo>
                      <a:pt x="944" y="190"/>
                    </a:lnTo>
                    <a:lnTo>
                      <a:pt x="944" y="185"/>
                    </a:lnTo>
                    <a:lnTo>
                      <a:pt x="944" y="179"/>
                    </a:lnTo>
                    <a:lnTo>
                      <a:pt x="944" y="175"/>
                    </a:lnTo>
                    <a:lnTo>
                      <a:pt x="953" y="176"/>
                    </a:lnTo>
                    <a:lnTo>
                      <a:pt x="965" y="181"/>
                    </a:lnTo>
                    <a:lnTo>
                      <a:pt x="980" y="185"/>
                    </a:lnTo>
                    <a:lnTo>
                      <a:pt x="997" y="192"/>
                    </a:lnTo>
                    <a:lnTo>
                      <a:pt x="1014" y="199"/>
                    </a:lnTo>
                    <a:lnTo>
                      <a:pt x="1034" y="206"/>
                    </a:lnTo>
                    <a:lnTo>
                      <a:pt x="1052" y="215"/>
                    </a:lnTo>
                    <a:lnTo>
                      <a:pt x="1072" y="223"/>
                    </a:lnTo>
                    <a:lnTo>
                      <a:pt x="1079" y="276"/>
                    </a:lnTo>
                    <a:lnTo>
                      <a:pt x="1093" y="376"/>
                    </a:lnTo>
                    <a:lnTo>
                      <a:pt x="1107" y="476"/>
                    </a:lnTo>
                    <a:lnTo>
                      <a:pt x="1113" y="521"/>
                    </a:lnTo>
                    <a:lnTo>
                      <a:pt x="1161" y="527"/>
                    </a:lnTo>
                    <a:lnTo>
                      <a:pt x="1160" y="488"/>
                    </a:lnTo>
                    <a:lnTo>
                      <a:pt x="1158" y="400"/>
                    </a:lnTo>
                    <a:lnTo>
                      <a:pt x="1156" y="308"/>
                    </a:lnTo>
                    <a:lnTo>
                      <a:pt x="1154" y="251"/>
                    </a:lnTo>
                    <a:lnTo>
                      <a:pt x="1167" y="257"/>
                    </a:lnTo>
                    <a:lnTo>
                      <a:pt x="1184" y="264"/>
                    </a:lnTo>
                    <a:lnTo>
                      <a:pt x="1204" y="273"/>
                    </a:lnTo>
                    <a:lnTo>
                      <a:pt x="1226" y="281"/>
                    </a:lnTo>
                    <a:lnTo>
                      <a:pt x="1246" y="290"/>
                    </a:lnTo>
                    <a:lnTo>
                      <a:pt x="1265" y="298"/>
                    </a:lnTo>
                    <a:lnTo>
                      <a:pt x="1279" y="304"/>
                    </a:lnTo>
                    <a:lnTo>
                      <a:pt x="1286" y="307"/>
                    </a:lnTo>
                    <a:lnTo>
                      <a:pt x="1292" y="354"/>
                    </a:lnTo>
                    <a:lnTo>
                      <a:pt x="1303" y="447"/>
                    </a:lnTo>
                    <a:lnTo>
                      <a:pt x="1314" y="538"/>
                    </a:lnTo>
                    <a:lnTo>
                      <a:pt x="1320" y="579"/>
                    </a:lnTo>
                    <a:lnTo>
                      <a:pt x="1372" y="603"/>
                    </a:lnTo>
                    <a:lnTo>
                      <a:pt x="1371" y="566"/>
                    </a:lnTo>
                    <a:lnTo>
                      <a:pt x="1370" y="483"/>
                    </a:lnTo>
                    <a:lnTo>
                      <a:pt x="1367" y="393"/>
                    </a:lnTo>
                    <a:lnTo>
                      <a:pt x="1365" y="339"/>
                    </a:lnTo>
                    <a:lnTo>
                      <a:pt x="1377" y="344"/>
                    </a:lnTo>
                    <a:lnTo>
                      <a:pt x="1392" y="351"/>
                    </a:lnTo>
                    <a:lnTo>
                      <a:pt x="1412" y="359"/>
                    </a:lnTo>
                    <a:lnTo>
                      <a:pt x="1431" y="366"/>
                    </a:lnTo>
                    <a:lnTo>
                      <a:pt x="1450" y="375"/>
                    </a:lnTo>
                    <a:lnTo>
                      <a:pt x="1466" y="382"/>
                    </a:lnTo>
                    <a:lnTo>
                      <a:pt x="1479" y="388"/>
                    </a:lnTo>
                    <a:lnTo>
                      <a:pt x="1486" y="390"/>
                    </a:lnTo>
                    <a:lnTo>
                      <a:pt x="1490" y="436"/>
                    </a:lnTo>
                    <a:lnTo>
                      <a:pt x="1500" y="522"/>
                    </a:lnTo>
                    <a:lnTo>
                      <a:pt x="1509" y="606"/>
                    </a:lnTo>
                    <a:lnTo>
                      <a:pt x="1513" y="644"/>
                    </a:lnTo>
                    <a:lnTo>
                      <a:pt x="1567" y="663"/>
                    </a:lnTo>
                    <a:lnTo>
                      <a:pt x="1565" y="629"/>
                    </a:lnTo>
                    <a:lnTo>
                      <a:pt x="1562" y="552"/>
                    </a:lnTo>
                    <a:lnTo>
                      <a:pt x="1560" y="468"/>
                    </a:lnTo>
                    <a:lnTo>
                      <a:pt x="1557" y="417"/>
                    </a:lnTo>
                    <a:lnTo>
                      <a:pt x="1567" y="422"/>
                    </a:lnTo>
                    <a:lnTo>
                      <a:pt x="1580" y="427"/>
                    </a:lnTo>
                    <a:lnTo>
                      <a:pt x="1594" y="433"/>
                    </a:lnTo>
                    <a:lnTo>
                      <a:pt x="1608" y="440"/>
                    </a:lnTo>
                    <a:lnTo>
                      <a:pt x="1622" y="446"/>
                    </a:lnTo>
                    <a:lnTo>
                      <a:pt x="1635" y="451"/>
                    </a:lnTo>
                    <a:lnTo>
                      <a:pt x="1643" y="456"/>
                    </a:lnTo>
                    <a:lnTo>
                      <a:pt x="1649" y="458"/>
                    </a:lnTo>
                    <a:lnTo>
                      <a:pt x="1653" y="501"/>
                    </a:lnTo>
                    <a:lnTo>
                      <a:pt x="1662" y="580"/>
                    </a:lnTo>
                    <a:lnTo>
                      <a:pt x="1669" y="657"/>
                    </a:lnTo>
                    <a:lnTo>
                      <a:pt x="1673" y="693"/>
                    </a:lnTo>
                    <a:lnTo>
                      <a:pt x="1737" y="712"/>
                    </a:lnTo>
                    <a:lnTo>
                      <a:pt x="1736" y="683"/>
                    </a:lnTo>
                    <a:lnTo>
                      <a:pt x="1733" y="613"/>
                    </a:lnTo>
                    <a:lnTo>
                      <a:pt x="1730" y="538"/>
                    </a:lnTo>
                    <a:lnTo>
                      <a:pt x="1727" y="490"/>
                    </a:lnTo>
                    <a:lnTo>
                      <a:pt x="1736" y="494"/>
                    </a:lnTo>
                    <a:lnTo>
                      <a:pt x="1744" y="498"/>
                    </a:lnTo>
                    <a:lnTo>
                      <a:pt x="1754" y="502"/>
                    </a:lnTo>
                    <a:lnTo>
                      <a:pt x="1764" y="507"/>
                    </a:lnTo>
                    <a:lnTo>
                      <a:pt x="1772" y="511"/>
                    </a:lnTo>
                    <a:lnTo>
                      <a:pt x="1781" y="515"/>
                    </a:lnTo>
                    <a:lnTo>
                      <a:pt x="1787" y="518"/>
                    </a:lnTo>
                    <a:lnTo>
                      <a:pt x="1791" y="519"/>
                    </a:lnTo>
                    <a:lnTo>
                      <a:pt x="1795" y="559"/>
                    </a:lnTo>
                    <a:lnTo>
                      <a:pt x="1804" y="633"/>
                    </a:lnTo>
                    <a:lnTo>
                      <a:pt x="1811" y="704"/>
                    </a:lnTo>
                    <a:lnTo>
                      <a:pt x="1815" y="736"/>
                    </a:lnTo>
                    <a:lnTo>
                      <a:pt x="1872" y="759"/>
                    </a:lnTo>
                    <a:lnTo>
                      <a:pt x="1870" y="731"/>
                    </a:lnTo>
                    <a:lnTo>
                      <a:pt x="1865" y="666"/>
                    </a:lnTo>
                    <a:lnTo>
                      <a:pt x="1860" y="595"/>
                    </a:lnTo>
                    <a:lnTo>
                      <a:pt x="1856" y="548"/>
                    </a:lnTo>
                    <a:lnTo>
                      <a:pt x="1865" y="552"/>
                    </a:lnTo>
                    <a:lnTo>
                      <a:pt x="1873" y="556"/>
                    </a:lnTo>
                    <a:lnTo>
                      <a:pt x="1882" y="561"/>
                    </a:lnTo>
                    <a:lnTo>
                      <a:pt x="1891" y="565"/>
                    </a:lnTo>
                    <a:lnTo>
                      <a:pt x="1900" y="569"/>
                    </a:lnTo>
                    <a:lnTo>
                      <a:pt x="1907" y="572"/>
                    </a:lnTo>
                    <a:lnTo>
                      <a:pt x="1913" y="576"/>
                    </a:lnTo>
                    <a:lnTo>
                      <a:pt x="1917" y="578"/>
                    </a:lnTo>
                    <a:lnTo>
                      <a:pt x="1921" y="613"/>
                    </a:lnTo>
                    <a:lnTo>
                      <a:pt x="1927" y="678"/>
                    </a:lnTo>
                    <a:lnTo>
                      <a:pt x="1934" y="742"/>
                    </a:lnTo>
                    <a:lnTo>
                      <a:pt x="1937" y="771"/>
                    </a:lnTo>
                    <a:lnTo>
                      <a:pt x="2002" y="789"/>
                    </a:lnTo>
                    <a:lnTo>
                      <a:pt x="1979" y="538"/>
                    </a:lnTo>
                    <a:lnTo>
                      <a:pt x="880" y="70"/>
                    </a:lnTo>
                    <a:lnTo>
                      <a:pt x="878" y="70"/>
                    </a:lnTo>
                    <a:lnTo>
                      <a:pt x="866" y="70"/>
                    </a:lnTo>
                    <a:lnTo>
                      <a:pt x="848" y="70"/>
                    </a:lnTo>
                    <a:lnTo>
                      <a:pt x="824" y="70"/>
                    </a:lnTo>
                    <a:lnTo>
                      <a:pt x="794" y="70"/>
                    </a:lnTo>
                    <a:lnTo>
                      <a:pt x="761" y="71"/>
                    </a:lnTo>
                    <a:lnTo>
                      <a:pt x="726" y="71"/>
                    </a:lnTo>
                    <a:lnTo>
                      <a:pt x="688" y="71"/>
                    </a:lnTo>
                    <a:lnTo>
                      <a:pt x="649" y="73"/>
                    </a:lnTo>
                    <a:lnTo>
                      <a:pt x="611" y="73"/>
                    </a:lnTo>
                    <a:lnTo>
                      <a:pt x="574" y="74"/>
                    </a:lnTo>
                    <a:lnTo>
                      <a:pt x="540" y="74"/>
                    </a:lnTo>
                    <a:lnTo>
                      <a:pt x="509" y="74"/>
                    </a:lnTo>
                    <a:lnTo>
                      <a:pt x="482" y="76"/>
                    </a:lnTo>
                    <a:lnTo>
                      <a:pt x="459" y="76"/>
                    </a:lnTo>
                    <a:lnTo>
                      <a:pt x="444" y="77"/>
                    </a:lnTo>
                    <a:lnTo>
                      <a:pt x="435" y="77"/>
                    </a:lnTo>
                    <a:lnTo>
                      <a:pt x="431" y="78"/>
                    </a:lnTo>
                    <a:lnTo>
                      <a:pt x="420" y="80"/>
                    </a:lnTo>
                    <a:lnTo>
                      <a:pt x="404" y="83"/>
                    </a:lnTo>
                    <a:lnTo>
                      <a:pt x="383" y="87"/>
                    </a:lnTo>
                    <a:lnTo>
                      <a:pt x="357" y="93"/>
                    </a:lnTo>
                    <a:lnTo>
                      <a:pt x="329" y="98"/>
                    </a:lnTo>
                    <a:lnTo>
                      <a:pt x="299" y="105"/>
                    </a:lnTo>
                    <a:lnTo>
                      <a:pt x="268" y="112"/>
                    </a:lnTo>
                    <a:lnTo>
                      <a:pt x="237" y="120"/>
                    </a:lnTo>
                    <a:lnTo>
                      <a:pt x="207" y="127"/>
                    </a:lnTo>
                    <a:lnTo>
                      <a:pt x="177" y="134"/>
                    </a:lnTo>
                    <a:lnTo>
                      <a:pt x="152" y="141"/>
                    </a:lnTo>
                    <a:lnTo>
                      <a:pt x="129" y="148"/>
                    </a:lnTo>
                    <a:lnTo>
                      <a:pt x="110" y="154"/>
                    </a:lnTo>
                    <a:lnTo>
                      <a:pt x="98" y="159"/>
                    </a:lnTo>
                    <a:lnTo>
                      <a:pt x="91" y="164"/>
                    </a:lnTo>
                    <a:lnTo>
                      <a:pt x="85" y="181"/>
                    </a:lnTo>
                    <a:lnTo>
                      <a:pt x="79" y="216"/>
                    </a:lnTo>
                    <a:lnTo>
                      <a:pt x="72" y="264"/>
                    </a:lnTo>
                    <a:lnTo>
                      <a:pt x="66" y="318"/>
                    </a:lnTo>
                    <a:lnTo>
                      <a:pt x="62" y="373"/>
                    </a:lnTo>
                    <a:lnTo>
                      <a:pt x="59" y="424"/>
                    </a:lnTo>
                    <a:lnTo>
                      <a:pt x="59" y="464"/>
                    </a:lnTo>
                    <a:lnTo>
                      <a:pt x="62" y="490"/>
                    </a:lnTo>
                    <a:lnTo>
                      <a:pt x="68" y="498"/>
                    </a:lnTo>
                    <a:lnTo>
                      <a:pt x="78" y="505"/>
                    </a:lnTo>
                    <a:lnTo>
                      <a:pt x="91" y="510"/>
                    </a:lnTo>
                    <a:lnTo>
                      <a:pt x="106" y="512"/>
                    </a:lnTo>
                    <a:lnTo>
                      <a:pt x="126" y="515"/>
                    </a:lnTo>
                    <a:lnTo>
                      <a:pt x="146" y="517"/>
                    </a:lnTo>
                    <a:lnTo>
                      <a:pt x="167" y="517"/>
                    </a:lnTo>
                    <a:lnTo>
                      <a:pt x="188" y="517"/>
                    </a:lnTo>
                    <a:lnTo>
                      <a:pt x="210" y="515"/>
                    </a:lnTo>
                    <a:lnTo>
                      <a:pt x="231" y="514"/>
                    </a:lnTo>
                    <a:lnTo>
                      <a:pt x="251" y="511"/>
                    </a:lnTo>
                    <a:lnTo>
                      <a:pt x="268" y="510"/>
                    </a:lnTo>
                    <a:lnTo>
                      <a:pt x="282" y="508"/>
                    </a:lnTo>
                    <a:lnTo>
                      <a:pt x="293" y="507"/>
                    </a:lnTo>
                    <a:lnTo>
                      <a:pt x="300" y="505"/>
                    </a:lnTo>
                    <a:lnTo>
                      <a:pt x="303" y="505"/>
                    </a:lnTo>
                    <a:lnTo>
                      <a:pt x="342" y="498"/>
                    </a:lnTo>
                    <a:lnTo>
                      <a:pt x="371" y="490"/>
                    </a:lnTo>
                    <a:lnTo>
                      <a:pt x="393" y="483"/>
                    </a:lnTo>
                    <a:lnTo>
                      <a:pt x="407" y="474"/>
                    </a:lnTo>
                    <a:lnTo>
                      <a:pt x="415" y="468"/>
                    </a:lnTo>
                    <a:lnTo>
                      <a:pt x="420" y="461"/>
                    </a:lnTo>
                    <a:lnTo>
                      <a:pt x="421" y="457"/>
                    </a:lnTo>
                    <a:lnTo>
                      <a:pt x="421" y="453"/>
                    </a:lnTo>
                    <a:lnTo>
                      <a:pt x="424" y="393"/>
                    </a:lnTo>
                    <a:lnTo>
                      <a:pt x="428" y="300"/>
                    </a:lnTo>
                    <a:lnTo>
                      <a:pt x="434" y="203"/>
                    </a:lnTo>
                    <a:lnTo>
                      <a:pt x="438" y="142"/>
                    </a:lnTo>
                    <a:lnTo>
                      <a:pt x="445" y="141"/>
                    </a:lnTo>
                    <a:lnTo>
                      <a:pt x="451" y="139"/>
                    </a:lnTo>
                    <a:lnTo>
                      <a:pt x="458" y="138"/>
                    </a:lnTo>
                    <a:lnTo>
                      <a:pt x="462" y="138"/>
                    </a:lnTo>
                    <a:lnTo>
                      <a:pt x="462" y="141"/>
                    </a:lnTo>
                    <a:lnTo>
                      <a:pt x="462" y="144"/>
                    </a:lnTo>
                    <a:lnTo>
                      <a:pt x="462" y="146"/>
                    </a:lnTo>
                    <a:lnTo>
                      <a:pt x="462" y="151"/>
                    </a:lnTo>
                    <a:lnTo>
                      <a:pt x="461" y="183"/>
                    </a:lnTo>
                    <a:lnTo>
                      <a:pt x="459" y="227"/>
                    </a:lnTo>
                    <a:lnTo>
                      <a:pt x="455" y="274"/>
                    </a:lnTo>
                    <a:lnTo>
                      <a:pt x="452" y="320"/>
                    </a:lnTo>
                    <a:lnTo>
                      <a:pt x="449" y="362"/>
                    </a:lnTo>
                    <a:lnTo>
                      <a:pt x="446" y="396"/>
                    </a:lnTo>
                    <a:lnTo>
                      <a:pt x="445" y="423"/>
                    </a:lnTo>
                    <a:lnTo>
                      <a:pt x="445" y="441"/>
                    </a:lnTo>
                    <a:lnTo>
                      <a:pt x="445" y="444"/>
                    </a:lnTo>
                    <a:lnTo>
                      <a:pt x="445" y="447"/>
                    </a:lnTo>
                    <a:lnTo>
                      <a:pt x="445" y="449"/>
                    </a:lnTo>
                    <a:lnTo>
                      <a:pt x="446" y="450"/>
                    </a:lnTo>
                    <a:lnTo>
                      <a:pt x="449" y="460"/>
                    </a:lnTo>
                    <a:lnTo>
                      <a:pt x="458" y="468"/>
                    </a:lnTo>
                    <a:lnTo>
                      <a:pt x="469" y="474"/>
                    </a:lnTo>
                    <a:lnTo>
                      <a:pt x="486" y="478"/>
                    </a:lnTo>
                    <a:lnTo>
                      <a:pt x="506" y="481"/>
                    </a:lnTo>
                    <a:lnTo>
                      <a:pt x="529" y="484"/>
                    </a:lnTo>
                    <a:lnTo>
                      <a:pt x="556" y="484"/>
                    </a:lnTo>
                    <a:lnTo>
                      <a:pt x="585" y="484"/>
                    </a:lnTo>
                    <a:lnTo>
                      <a:pt x="594" y="484"/>
                    </a:lnTo>
                    <a:lnTo>
                      <a:pt x="602" y="484"/>
                    </a:lnTo>
                    <a:lnTo>
                      <a:pt x="627" y="483"/>
                    </a:lnTo>
                    <a:lnTo>
                      <a:pt x="659" y="483"/>
                    </a:lnTo>
                    <a:lnTo>
                      <a:pt x="696" y="480"/>
                    </a:lnTo>
                    <a:lnTo>
                      <a:pt x="736" y="478"/>
                    </a:lnTo>
                    <a:lnTo>
                      <a:pt x="771" y="474"/>
                    </a:lnTo>
                    <a:lnTo>
                      <a:pt x="800" y="470"/>
                    </a:lnTo>
                    <a:lnTo>
                      <a:pt x="815" y="466"/>
                    </a:lnTo>
                    <a:lnTo>
                      <a:pt x="824" y="460"/>
                    </a:lnTo>
                    <a:lnTo>
                      <a:pt x="831" y="451"/>
                    </a:lnTo>
                    <a:lnTo>
                      <a:pt x="838" y="437"/>
                    </a:lnTo>
                    <a:lnTo>
                      <a:pt x="844" y="412"/>
                    </a:lnTo>
                    <a:lnTo>
                      <a:pt x="849" y="373"/>
                    </a:lnTo>
                    <a:lnTo>
                      <a:pt x="853" y="318"/>
                    </a:lnTo>
                    <a:lnTo>
                      <a:pt x="856" y="243"/>
                    </a:lnTo>
                    <a:lnTo>
                      <a:pt x="858" y="144"/>
                    </a:lnTo>
                    <a:lnTo>
                      <a:pt x="862" y="142"/>
                    </a:lnTo>
                    <a:lnTo>
                      <a:pt x="868" y="142"/>
                    </a:lnTo>
                    <a:lnTo>
                      <a:pt x="872" y="142"/>
                    </a:lnTo>
                    <a:lnTo>
                      <a:pt x="876" y="141"/>
                    </a:lnTo>
                    <a:lnTo>
                      <a:pt x="879" y="256"/>
                    </a:lnTo>
                    <a:lnTo>
                      <a:pt x="882" y="487"/>
                    </a:lnTo>
                    <a:lnTo>
                      <a:pt x="885" y="712"/>
                    </a:lnTo>
                    <a:lnTo>
                      <a:pt x="886" y="814"/>
                    </a:lnTo>
                    <a:lnTo>
                      <a:pt x="893" y="817"/>
                    </a:lnTo>
                    <a:lnTo>
                      <a:pt x="902" y="823"/>
                    </a:lnTo>
                    <a:lnTo>
                      <a:pt x="912" y="831"/>
                    </a:lnTo>
                    <a:lnTo>
                      <a:pt x="920" y="843"/>
                    </a:lnTo>
                    <a:lnTo>
                      <a:pt x="924" y="856"/>
                    </a:lnTo>
                    <a:lnTo>
                      <a:pt x="924" y="866"/>
                    </a:lnTo>
                    <a:lnTo>
                      <a:pt x="927" y="866"/>
                    </a:lnTo>
                    <a:lnTo>
                      <a:pt x="937" y="868"/>
                    </a:lnTo>
                    <a:lnTo>
                      <a:pt x="951" y="871"/>
                    </a:lnTo>
                    <a:lnTo>
                      <a:pt x="971" y="874"/>
                    </a:lnTo>
                    <a:lnTo>
                      <a:pt x="997" y="880"/>
                    </a:lnTo>
                    <a:lnTo>
                      <a:pt x="1026" y="884"/>
                    </a:lnTo>
                    <a:lnTo>
                      <a:pt x="1059" y="891"/>
                    </a:lnTo>
                    <a:lnTo>
                      <a:pt x="1096" y="898"/>
                    </a:lnTo>
                    <a:lnTo>
                      <a:pt x="1137" y="905"/>
                    </a:lnTo>
                    <a:lnTo>
                      <a:pt x="1180" y="914"/>
                    </a:lnTo>
                    <a:lnTo>
                      <a:pt x="1225" y="922"/>
                    </a:lnTo>
                    <a:lnTo>
                      <a:pt x="1273" y="931"/>
                    </a:lnTo>
                    <a:lnTo>
                      <a:pt x="1321" y="941"/>
                    </a:lnTo>
                    <a:lnTo>
                      <a:pt x="1372" y="951"/>
                    </a:lnTo>
                    <a:lnTo>
                      <a:pt x="1424" y="959"/>
                    </a:lnTo>
                    <a:lnTo>
                      <a:pt x="1476" y="969"/>
                    </a:lnTo>
                    <a:lnTo>
                      <a:pt x="1527" y="979"/>
                    </a:lnTo>
                    <a:lnTo>
                      <a:pt x="1578" y="989"/>
                    </a:lnTo>
                    <a:lnTo>
                      <a:pt x="1629" y="999"/>
                    </a:lnTo>
                    <a:lnTo>
                      <a:pt x="1679" y="1007"/>
                    </a:lnTo>
                    <a:lnTo>
                      <a:pt x="1727" y="1017"/>
                    </a:lnTo>
                    <a:lnTo>
                      <a:pt x="1774" y="1026"/>
                    </a:lnTo>
                    <a:lnTo>
                      <a:pt x="1818" y="1034"/>
                    </a:lnTo>
                    <a:lnTo>
                      <a:pt x="1859" y="1041"/>
                    </a:lnTo>
                    <a:lnTo>
                      <a:pt x="1896" y="1048"/>
                    </a:lnTo>
                    <a:lnTo>
                      <a:pt x="1931" y="1056"/>
                    </a:lnTo>
                    <a:lnTo>
                      <a:pt x="1961" y="1061"/>
                    </a:lnTo>
                    <a:lnTo>
                      <a:pt x="1986" y="1065"/>
                    </a:lnTo>
                    <a:lnTo>
                      <a:pt x="2009" y="1070"/>
                    </a:lnTo>
                    <a:lnTo>
                      <a:pt x="2025" y="1073"/>
                    </a:lnTo>
                    <a:lnTo>
                      <a:pt x="2036" y="1074"/>
                    </a:lnTo>
                    <a:lnTo>
                      <a:pt x="2040" y="1075"/>
                    </a:lnTo>
                    <a:lnTo>
                      <a:pt x="2040" y="1115"/>
                    </a:lnTo>
                    <a:lnTo>
                      <a:pt x="2042" y="1189"/>
                    </a:lnTo>
                    <a:lnTo>
                      <a:pt x="2043" y="1264"/>
                    </a:lnTo>
                    <a:lnTo>
                      <a:pt x="2043" y="1307"/>
                    </a:lnTo>
                    <a:lnTo>
                      <a:pt x="2038" y="1307"/>
                    </a:lnTo>
                    <a:lnTo>
                      <a:pt x="2030" y="1305"/>
                    </a:lnTo>
                    <a:lnTo>
                      <a:pt x="2025" y="1305"/>
                    </a:lnTo>
                    <a:lnTo>
                      <a:pt x="2018" y="1305"/>
                    </a:lnTo>
                    <a:lnTo>
                      <a:pt x="2011" y="1304"/>
                    </a:lnTo>
                    <a:lnTo>
                      <a:pt x="2004" y="1304"/>
                    </a:lnTo>
                    <a:lnTo>
                      <a:pt x="1998" y="1304"/>
                    </a:lnTo>
                    <a:lnTo>
                      <a:pt x="1992" y="1304"/>
                    </a:lnTo>
                    <a:lnTo>
                      <a:pt x="1992" y="1260"/>
                    </a:lnTo>
                    <a:lnTo>
                      <a:pt x="1991" y="1183"/>
                    </a:lnTo>
                    <a:lnTo>
                      <a:pt x="1989" y="1111"/>
                    </a:lnTo>
                    <a:lnTo>
                      <a:pt x="1989" y="1078"/>
                    </a:lnTo>
                    <a:lnTo>
                      <a:pt x="1927" y="1068"/>
                    </a:lnTo>
                    <a:lnTo>
                      <a:pt x="1927" y="1101"/>
                    </a:lnTo>
                    <a:lnTo>
                      <a:pt x="1926" y="1176"/>
                    </a:lnTo>
                    <a:lnTo>
                      <a:pt x="1924" y="1254"/>
                    </a:lnTo>
                    <a:lnTo>
                      <a:pt x="1924" y="1300"/>
                    </a:lnTo>
                    <a:lnTo>
                      <a:pt x="1917" y="1300"/>
                    </a:lnTo>
                    <a:lnTo>
                      <a:pt x="1907" y="1298"/>
                    </a:lnTo>
                    <a:lnTo>
                      <a:pt x="1897" y="1298"/>
                    </a:lnTo>
                    <a:lnTo>
                      <a:pt x="1886" y="1297"/>
                    </a:lnTo>
                    <a:lnTo>
                      <a:pt x="1874" y="1295"/>
                    </a:lnTo>
                    <a:lnTo>
                      <a:pt x="1865" y="1295"/>
                    </a:lnTo>
                    <a:lnTo>
                      <a:pt x="1856" y="1294"/>
                    </a:lnTo>
                    <a:lnTo>
                      <a:pt x="1849" y="1294"/>
                    </a:lnTo>
                    <a:lnTo>
                      <a:pt x="1849" y="1250"/>
                    </a:lnTo>
                    <a:lnTo>
                      <a:pt x="1850" y="1170"/>
                    </a:lnTo>
                    <a:lnTo>
                      <a:pt x="1852" y="1095"/>
                    </a:lnTo>
                    <a:lnTo>
                      <a:pt x="1852" y="1063"/>
                    </a:lnTo>
                    <a:lnTo>
                      <a:pt x="1785" y="1040"/>
                    </a:lnTo>
                    <a:lnTo>
                      <a:pt x="1785" y="1077"/>
                    </a:lnTo>
                    <a:lnTo>
                      <a:pt x="1784" y="1158"/>
                    </a:lnTo>
                    <a:lnTo>
                      <a:pt x="1781" y="1244"/>
                    </a:lnTo>
                    <a:lnTo>
                      <a:pt x="1781" y="1292"/>
                    </a:lnTo>
                    <a:lnTo>
                      <a:pt x="1775" y="1292"/>
                    </a:lnTo>
                    <a:lnTo>
                      <a:pt x="1767" y="1292"/>
                    </a:lnTo>
                    <a:lnTo>
                      <a:pt x="1758" y="1292"/>
                    </a:lnTo>
                    <a:lnTo>
                      <a:pt x="1750" y="1291"/>
                    </a:lnTo>
                    <a:lnTo>
                      <a:pt x="1741" y="1291"/>
                    </a:lnTo>
                    <a:lnTo>
                      <a:pt x="1733" y="1291"/>
                    </a:lnTo>
                    <a:lnTo>
                      <a:pt x="1724" y="1290"/>
                    </a:lnTo>
                    <a:lnTo>
                      <a:pt x="1718" y="1290"/>
                    </a:lnTo>
                    <a:lnTo>
                      <a:pt x="1718" y="1243"/>
                    </a:lnTo>
                    <a:lnTo>
                      <a:pt x="1720" y="1158"/>
                    </a:lnTo>
                    <a:lnTo>
                      <a:pt x="1721" y="1077"/>
                    </a:lnTo>
                    <a:lnTo>
                      <a:pt x="1721" y="1041"/>
                    </a:lnTo>
                    <a:lnTo>
                      <a:pt x="1656" y="1022"/>
                    </a:lnTo>
                    <a:lnTo>
                      <a:pt x="1658" y="1122"/>
                    </a:lnTo>
                    <a:lnTo>
                      <a:pt x="1659" y="1346"/>
                    </a:lnTo>
                    <a:lnTo>
                      <a:pt x="1660" y="1573"/>
                    </a:lnTo>
                    <a:lnTo>
                      <a:pt x="1662" y="1685"/>
                    </a:lnTo>
                    <a:lnTo>
                      <a:pt x="1655" y="1685"/>
                    </a:lnTo>
                    <a:lnTo>
                      <a:pt x="1648" y="1687"/>
                    </a:lnTo>
                    <a:lnTo>
                      <a:pt x="1638" y="1688"/>
                    </a:lnTo>
                    <a:lnTo>
                      <a:pt x="1626" y="1690"/>
                    </a:lnTo>
                    <a:lnTo>
                      <a:pt x="1616" y="1690"/>
                    </a:lnTo>
                    <a:lnTo>
                      <a:pt x="1606" y="1691"/>
                    </a:lnTo>
                    <a:lnTo>
                      <a:pt x="1597" y="1692"/>
                    </a:lnTo>
                    <a:lnTo>
                      <a:pt x="1589" y="1694"/>
                    </a:lnTo>
                    <a:lnTo>
                      <a:pt x="1589" y="1576"/>
                    </a:lnTo>
                    <a:lnTo>
                      <a:pt x="1588" y="1343"/>
                    </a:lnTo>
                    <a:lnTo>
                      <a:pt x="1585" y="1115"/>
                    </a:lnTo>
                    <a:lnTo>
                      <a:pt x="1585" y="1012"/>
                    </a:lnTo>
                    <a:lnTo>
                      <a:pt x="1524" y="992"/>
                    </a:lnTo>
                    <a:lnTo>
                      <a:pt x="1524" y="1031"/>
                    </a:lnTo>
                    <a:lnTo>
                      <a:pt x="1524" y="1121"/>
                    </a:lnTo>
                    <a:lnTo>
                      <a:pt x="1523" y="1214"/>
                    </a:lnTo>
                    <a:lnTo>
                      <a:pt x="1523" y="1265"/>
                    </a:lnTo>
                    <a:lnTo>
                      <a:pt x="1513" y="1265"/>
                    </a:lnTo>
                    <a:lnTo>
                      <a:pt x="1499" y="1265"/>
                    </a:lnTo>
                    <a:lnTo>
                      <a:pt x="1482" y="1265"/>
                    </a:lnTo>
                    <a:lnTo>
                      <a:pt x="1463" y="1265"/>
                    </a:lnTo>
                    <a:lnTo>
                      <a:pt x="1443" y="1265"/>
                    </a:lnTo>
                    <a:lnTo>
                      <a:pt x="1426" y="1265"/>
                    </a:lnTo>
                    <a:lnTo>
                      <a:pt x="1412" y="1265"/>
                    </a:lnTo>
                    <a:lnTo>
                      <a:pt x="1402" y="1265"/>
                    </a:lnTo>
                    <a:lnTo>
                      <a:pt x="1404" y="1210"/>
                    </a:lnTo>
                    <a:lnTo>
                      <a:pt x="1407" y="1111"/>
                    </a:lnTo>
                    <a:lnTo>
                      <a:pt x="1408" y="1014"/>
                    </a:lnTo>
                    <a:lnTo>
                      <a:pt x="1409" y="972"/>
                    </a:lnTo>
                    <a:lnTo>
                      <a:pt x="1343" y="962"/>
                    </a:lnTo>
                    <a:lnTo>
                      <a:pt x="1341" y="1006"/>
                    </a:lnTo>
                    <a:lnTo>
                      <a:pt x="1340" y="1102"/>
                    </a:lnTo>
                    <a:lnTo>
                      <a:pt x="1337" y="1203"/>
                    </a:lnTo>
                    <a:lnTo>
                      <a:pt x="1336" y="1258"/>
                    </a:lnTo>
                    <a:lnTo>
                      <a:pt x="1324" y="1258"/>
                    </a:lnTo>
                    <a:lnTo>
                      <a:pt x="1307" y="1258"/>
                    </a:lnTo>
                    <a:lnTo>
                      <a:pt x="1286" y="1258"/>
                    </a:lnTo>
                    <a:lnTo>
                      <a:pt x="1263" y="1258"/>
                    </a:lnTo>
                    <a:lnTo>
                      <a:pt x="1239" y="1258"/>
                    </a:lnTo>
                    <a:lnTo>
                      <a:pt x="1218" y="1258"/>
                    </a:lnTo>
                    <a:lnTo>
                      <a:pt x="1201" y="1258"/>
                    </a:lnTo>
                    <a:lnTo>
                      <a:pt x="1190" y="1258"/>
                    </a:lnTo>
                    <a:lnTo>
                      <a:pt x="1191" y="1199"/>
                    </a:lnTo>
                    <a:lnTo>
                      <a:pt x="1192" y="1088"/>
                    </a:lnTo>
                    <a:lnTo>
                      <a:pt x="1194" y="982"/>
                    </a:lnTo>
                    <a:lnTo>
                      <a:pt x="1194" y="934"/>
                    </a:lnTo>
                    <a:lnTo>
                      <a:pt x="1124" y="919"/>
                    </a:lnTo>
                    <a:lnTo>
                      <a:pt x="1124" y="969"/>
                    </a:lnTo>
                    <a:lnTo>
                      <a:pt x="1124" y="1080"/>
                    </a:lnTo>
                    <a:lnTo>
                      <a:pt x="1124" y="1196"/>
                    </a:lnTo>
                    <a:lnTo>
                      <a:pt x="1124" y="1258"/>
                    </a:lnTo>
                    <a:lnTo>
                      <a:pt x="1116" y="1258"/>
                    </a:lnTo>
                    <a:lnTo>
                      <a:pt x="1107" y="1257"/>
                    </a:lnTo>
                    <a:lnTo>
                      <a:pt x="1099" y="1257"/>
                    </a:lnTo>
                    <a:lnTo>
                      <a:pt x="1090" y="1257"/>
                    </a:lnTo>
                    <a:lnTo>
                      <a:pt x="1090" y="1195"/>
                    </a:lnTo>
                    <a:lnTo>
                      <a:pt x="1090" y="1075"/>
                    </a:lnTo>
                    <a:lnTo>
                      <a:pt x="1090" y="962"/>
                    </a:lnTo>
                    <a:lnTo>
                      <a:pt x="1090" y="911"/>
                    </a:lnTo>
                    <a:lnTo>
                      <a:pt x="954" y="887"/>
                    </a:lnTo>
                    <a:lnTo>
                      <a:pt x="951" y="1766"/>
                    </a:lnTo>
                    <a:lnTo>
                      <a:pt x="1097" y="1752"/>
                    </a:lnTo>
                    <a:lnTo>
                      <a:pt x="1097" y="1690"/>
                    </a:lnTo>
                    <a:lnTo>
                      <a:pt x="1096" y="1551"/>
                    </a:lnTo>
                    <a:lnTo>
                      <a:pt x="1093" y="1407"/>
                    </a:lnTo>
                    <a:lnTo>
                      <a:pt x="1093" y="1332"/>
                    </a:lnTo>
                    <a:lnTo>
                      <a:pt x="1100" y="1332"/>
                    </a:lnTo>
                    <a:lnTo>
                      <a:pt x="1109" y="1332"/>
                    </a:lnTo>
                    <a:lnTo>
                      <a:pt x="1117" y="1332"/>
                    </a:lnTo>
                    <a:lnTo>
                      <a:pt x="1126" y="1332"/>
                    </a:lnTo>
                    <a:lnTo>
                      <a:pt x="1126" y="1407"/>
                    </a:lnTo>
                    <a:lnTo>
                      <a:pt x="1124" y="1548"/>
                    </a:lnTo>
                    <a:lnTo>
                      <a:pt x="1123" y="1685"/>
                    </a:lnTo>
                    <a:lnTo>
                      <a:pt x="1123" y="1748"/>
                    </a:lnTo>
                    <a:lnTo>
                      <a:pt x="1212" y="1738"/>
                    </a:lnTo>
                    <a:lnTo>
                      <a:pt x="1212" y="1728"/>
                    </a:lnTo>
                    <a:lnTo>
                      <a:pt x="1214" y="1702"/>
                    </a:lnTo>
                    <a:lnTo>
                      <a:pt x="1216" y="1671"/>
                    </a:lnTo>
                    <a:lnTo>
                      <a:pt x="1219" y="1636"/>
                    </a:lnTo>
                    <a:lnTo>
                      <a:pt x="1225" y="1597"/>
                    </a:lnTo>
                    <a:lnTo>
                      <a:pt x="1234" y="1560"/>
                    </a:lnTo>
                    <a:lnTo>
                      <a:pt x="1242" y="1528"/>
                    </a:lnTo>
                    <a:lnTo>
                      <a:pt x="1253" y="1501"/>
                    </a:lnTo>
                    <a:lnTo>
                      <a:pt x="1268" y="1482"/>
                    </a:lnTo>
                    <a:lnTo>
                      <a:pt x="1270" y="1480"/>
                    </a:lnTo>
                    <a:lnTo>
                      <a:pt x="1275" y="1477"/>
                    </a:lnTo>
                    <a:lnTo>
                      <a:pt x="1279" y="1475"/>
                    </a:lnTo>
                    <a:lnTo>
                      <a:pt x="1282" y="1475"/>
                    </a:lnTo>
                    <a:lnTo>
                      <a:pt x="1299" y="1481"/>
                    </a:lnTo>
                    <a:lnTo>
                      <a:pt x="1313" y="1494"/>
                    </a:lnTo>
                    <a:lnTo>
                      <a:pt x="1324" y="1512"/>
                    </a:lnTo>
                    <a:lnTo>
                      <a:pt x="1331" y="1535"/>
                    </a:lnTo>
                    <a:lnTo>
                      <a:pt x="1337" y="1558"/>
                    </a:lnTo>
                    <a:lnTo>
                      <a:pt x="1340" y="1582"/>
                    </a:lnTo>
                    <a:lnTo>
                      <a:pt x="1343" y="1603"/>
                    </a:lnTo>
                    <a:lnTo>
                      <a:pt x="1344" y="1620"/>
                    </a:lnTo>
                    <a:lnTo>
                      <a:pt x="1347" y="1647"/>
                    </a:lnTo>
                    <a:lnTo>
                      <a:pt x="1358" y="1646"/>
                    </a:lnTo>
                    <a:lnTo>
                      <a:pt x="1364" y="1646"/>
                    </a:lnTo>
                    <a:lnTo>
                      <a:pt x="1381" y="1644"/>
                    </a:lnTo>
                    <a:lnTo>
                      <a:pt x="1407" y="1643"/>
                    </a:lnTo>
                    <a:lnTo>
                      <a:pt x="1435" y="1641"/>
                    </a:lnTo>
                    <a:lnTo>
                      <a:pt x="1465" y="1640"/>
                    </a:lnTo>
                    <a:lnTo>
                      <a:pt x="1492" y="1638"/>
                    </a:lnTo>
                    <a:lnTo>
                      <a:pt x="1514" y="1637"/>
                    </a:lnTo>
                    <a:lnTo>
                      <a:pt x="1527" y="1636"/>
                    </a:lnTo>
                    <a:lnTo>
                      <a:pt x="1527" y="1663"/>
                    </a:lnTo>
                    <a:lnTo>
                      <a:pt x="1528" y="1705"/>
                    </a:lnTo>
                    <a:lnTo>
                      <a:pt x="1530" y="1742"/>
                    </a:lnTo>
                    <a:lnTo>
                      <a:pt x="1530" y="1759"/>
                    </a:lnTo>
                    <a:lnTo>
                      <a:pt x="1726" y="1736"/>
                    </a:lnTo>
                    <a:lnTo>
                      <a:pt x="1726" y="1721"/>
                    </a:lnTo>
                    <a:lnTo>
                      <a:pt x="1726" y="1685"/>
                    </a:lnTo>
                    <a:lnTo>
                      <a:pt x="1726" y="1647"/>
                    </a:lnTo>
                    <a:lnTo>
                      <a:pt x="1726" y="1621"/>
                    </a:lnTo>
                    <a:lnTo>
                      <a:pt x="1736" y="1620"/>
                    </a:lnTo>
                    <a:lnTo>
                      <a:pt x="1753" y="1619"/>
                    </a:lnTo>
                    <a:lnTo>
                      <a:pt x="1772" y="1617"/>
                    </a:lnTo>
                    <a:lnTo>
                      <a:pt x="1795" y="1616"/>
                    </a:lnTo>
                    <a:lnTo>
                      <a:pt x="1815" y="1614"/>
                    </a:lnTo>
                    <a:lnTo>
                      <a:pt x="1833" y="1613"/>
                    </a:lnTo>
                    <a:lnTo>
                      <a:pt x="1846" y="1612"/>
                    </a:lnTo>
                    <a:lnTo>
                      <a:pt x="1850" y="1612"/>
                    </a:lnTo>
                    <a:lnTo>
                      <a:pt x="1852" y="1602"/>
                    </a:lnTo>
                    <a:lnTo>
                      <a:pt x="1859" y="1553"/>
                    </a:lnTo>
                    <a:lnTo>
                      <a:pt x="1869" y="1512"/>
                    </a:lnTo>
                    <a:lnTo>
                      <a:pt x="1879" y="1481"/>
                    </a:lnTo>
                    <a:lnTo>
                      <a:pt x="1889" y="1468"/>
                    </a:lnTo>
                    <a:lnTo>
                      <a:pt x="1889" y="1468"/>
                    </a:lnTo>
                    <a:lnTo>
                      <a:pt x="1890" y="1470"/>
                    </a:lnTo>
                    <a:lnTo>
                      <a:pt x="1891" y="1470"/>
                    </a:lnTo>
                    <a:lnTo>
                      <a:pt x="1893" y="1471"/>
                    </a:lnTo>
                    <a:lnTo>
                      <a:pt x="1906" y="1494"/>
                    </a:lnTo>
                    <a:lnTo>
                      <a:pt x="1916" y="1528"/>
                    </a:lnTo>
                    <a:lnTo>
                      <a:pt x="1921" y="1562"/>
                    </a:lnTo>
                    <a:lnTo>
                      <a:pt x="1924" y="1587"/>
                    </a:lnTo>
                    <a:lnTo>
                      <a:pt x="1924" y="1589"/>
                    </a:lnTo>
                    <a:lnTo>
                      <a:pt x="1924" y="1589"/>
                    </a:lnTo>
                    <a:lnTo>
                      <a:pt x="1924" y="1590"/>
                    </a:lnTo>
                    <a:lnTo>
                      <a:pt x="1924" y="1592"/>
                    </a:lnTo>
                    <a:lnTo>
                      <a:pt x="1921" y="1607"/>
                    </a:lnTo>
                    <a:lnTo>
                      <a:pt x="2110" y="1572"/>
                    </a:lnTo>
                    <a:lnTo>
                      <a:pt x="2108" y="1470"/>
                    </a:lnTo>
                    <a:lnTo>
                      <a:pt x="2107" y="1241"/>
                    </a:lnTo>
                    <a:lnTo>
                      <a:pt x="2104" y="1009"/>
                    </a:lnTo>
                    <a:lnTo>
                      <a:pt x="2103" y="894"/>
                    </a:lnTo>
                    <a:lnTo>
                      <a:pt x="2107" y="894"/>
                    </a:lnTo>
                    <a:lnTo>
                      <a:pt x="2108" y="894"/>
                    </a:lnTo>
                    <a:lnTo>
                      <a:pt x="2111" y="894"/>
                    </a:lnTo>
                    <a:lnTo>
                      <a:pt x="2114" y="894"/>
                    </a:lnTo>
                    <a:lnTo>
                      <a:pt x="2116" y="1014"/>
                    </a:lnTo>
                    <a:lnTo>
                      <a:pt x="2118" y="1261"/>
                    </a:lnTo>
                    <a:lnTo>
                      <a:pt x="2120" y="1508"/>
                    </a:lnTo>
                    <a:lnTo>
                      <a:pt x="2121" y="1626"/>
                    </a:lnTo>
                    <a:lnTo>
                      <a:pt x="2108" y="1630"/>
                    </a:lnTo>
                    <a:lnTo>
                      <a:pt x="2086" y="1637"/>
                    </a:lnTo>
                    <a:lnTo>
                      <a:pt x="2055" y="1647"/>
                    </a:lnTo>
                    <a:lnTo>
                      <a:pt x="2021" y="1658"/>
                    </a:lnTo>
                    <a:lnTo>
                      <a:pt x="1988" y="1668"/>
                    </a:lnTo>
                    <a:lnTo>
                      <a:pt x="1960" y="1678"/>
                    </a:lnTo>
                    <a:lnTo>
                      <a:pt x="1938" y="1684"/>
                    </a:lnTo>
                    <a:lnTo>
                      <a:pt x="1931" y="1687"/>
                    </a:lnTo>
                    <a:lnTo>
                      <a:pt x="1931" y="1695"/>
                    </a:lnTo>
                    <a:lnTo>
                      <a:pt x="1930" y="1704"/>
                    </a:lnTo>
                    <a:lnTo>
                      <a:pt x="1927" y="1724"/>
                    </a:lnTo>
                    <a:lnTo>
                      <a:pt x="1916" y="1746"/>
                    </a:lnTo>
                    <a:lnTo>
                      <a:pt x="1897" y="1766"/>
                    </a:lnTo>
                    <a:lnTo>
                      <a:pt x="1891" y="1766"/>
                    </a:lnTo>
                    <a:lnTo>
                      <a:pt x="1882" y="1765"/>
                    </a:lnTo>
                    <a:lnTo>
                      <a:pt x="1869" y="1763"/>
                    </a:lnTo>
                    <a:lnTo>
                      <a:pt x="1853" y="1762"/>
                    </a:lnTo>
                    <a:lnTo>
                      <a:pt x="1838" y="1762"/>
                    </a:lnTo>
                    <a:lnTo>
                      <a:pt x="1825" y="1760"/>
                    </a:lnTo>
                    <a:lnTo>
                      <a:pt x="1813" y="1759"/>
                    </a:lnTo>
                    <a:lnTo>
                      <a:pt x="1806" y="1759"/>
                    </a:lnTo>
                    <a:lnTo>
                      <a:pt x="1804" y="1752"/>
                    </a:lnTo>
                    <a:lnTo>
                      <a:pt x="1798" y="1742"/>
                    </a:lnTo>
                    <a:lnTo>
                      <a:pt x="1794" y="1733"/>
                    </a:lnTo>
                    <a:lnTo>
                      <a:pt x="1792" y="1731"/>
                    </a:lnTo>
                    <a:lnTo>
                      <a:pt x="1321" y="1794"/>
                    </a:lnTo>
                    <a:lnTo>
                      <a:pt x="1319" y="1802"/>
                    </a:lnTo>
                    <a:lnTo>
                      <a:pt x="1317" y="1806"/>
                    </a:lnTo>
                    <a:lnTo>
                      <a:pt x="1314" y="1814"/>
                    </a:lnTo>
                    <a:lnTo>
                      <a:pt x="1310" y="1826"/>
                    </a:lnTo>
                    <a:lnTo>
                      <a:pt x="1304" y="1838"/>
                    </a:lnTo>
                    <a:lnTo>
                      <a:pt x="1294" y="1853"/>
                    </a:lnTo>
                    <a:lnTo>
                      <a:pt x="1285" y="1864"/>
                    </a:lnTo>
                    <a:lnTo>
                      <a:pt x="1270" y="1872"/>
                    </a:lnTo>
                    <a:lnTo>
                      <a:pt x="1255" y="1875"/>
                    </a:lnTo>
                    <a:lnTo>
                      <a:pt x="1238" y="1875"/>
                    </a:lnTo>
                    <a:lnTo>
                      <a:pt x="1222" y="1874"/>
                    </a:lnTo>
                    <a:lnTo>
                      <a:pt x="1207" y="1874"/>
                    </a:lnTo>
                    <a:lnTo>
                      <a:pt x="1192" y="1872"/>
                    </a:lnTo>
                    <a:lnTo>
                      <a:pt x="1180" y="1871"/>
                    </a:lnTo>
                    <a:lnTo>
                      <a:pt x="1168" y="1870"/>
                    </a:lnTo>
                    <a:lnTo>
                      <a:pt x="1160" y="1870"/>
                    </a:lnTo>
                    <a:lnTo>
                      <a:pt x="1153" y="1868"/>
                    </a:lnTo>
                    <a:lnTo>
                      <a:pt x="1146" y="1858"/>
                    </a:lnTo>
                    <a:lnTo>
                      <a:pt x="1139" y="1846"/>
                    </a:lnTo>
                    <a:lnTo>
                      <a:pt x="1133" y="1833"/>
                    </a:lnTo>
                    <a:lnTo>
                      <a:pt x="1130" y="1819"/>
                    </a:lnTo>
                    <a:lnTo>
                      <a:pt x="1130" y="1806"/>
                    </a:lnTo>
                    <a:lnTo>
                      <a:pt x="983" y="1817"/>
                    </a:lnTo>
                    <a:lnTo>
                      <a:pt x="975" y="1817"/>
                    </a:lnTo>
                    <a:lnTo>
                      <a:pt x="957" y="1816"/>
                    </a:lnTo>
                    <a:lnTo>
                      <a:pt x="929" y="1814"/>
                    </a:lnTo>
                    <a:lnTo>
                      <a:pt x="890" y="1813"/>
                    </a:lnTo>
                    <a:lnTo>
                      <a:pt x="845" y="1811"/>
                    </a:lnTo>
                    <a:lnTo>
                      <a:pt x="795" y="1809"/>
                    </a:lnTo>
                    <a:lnTo>
                      <a:pt x="741" y="1806"/>
                    </a:lnTo>
                    <a:lnTo>
                      <a:pt x="686" y="1803"/>
                    </a:lnTo>
                    <a:lnTo>
                      <a:pt x="631" y="1802"/>
                    </a:lnTo>
                    <a:lnTo>
                      <a:pt x="578" y="1799"/>
                    </a:lnTo>
                    <a:lnTo>
                      <a:pt x="527" y="1796"/>
                    </a:lnTo>
                    <a:lnTo>
                      <a:pt x="482" y="1794"/>
                    </a:lnTo>
                    <a:lnTo>
                      <a:pt x="445" y="1793"/>
                    </a:lnTo>
                    <a:lnTo>
                      <a:pt x="415" y="1792"/>
                    </a:lnTo>
                    <a:lnTo>
                      <a:pt x="397" y="1790"/>
                    </a:lnTo>
                    <a:lnTo>
                      <a:pt x="390" y="1790"/>
                    </a:lnTo>
                    <a:lnTo>
                      <a:pt x="384" y="1789"/>
                    </a:lnTo>
                    <a:lnTo>
                      <a:pt x="380" y="1794"/>
                    </a:lnTo>
                    <a:lnTo>
                      <a:pt x="378" y="1797"/>
                    </a:lnTo>
                    <a:lnTo>
                      <a:pt x="373" y="1803"/>
                    </a:lnTo>
                    <a:lnTo>
                      <a:pt x="363" y="1813"/>
                    </a:lnTo>
                    <a:lnTo>
                      <a:pt x="350" y="1823"/>
                    </a:lnTo>
                    <a:lnTo>
                      <a:pt x="334" y="1833"/>
                    </a:lnTo>
                    <a:lnTo>
                      <a:pt x="315" y="1843"/>
                    </a:lnTo>
                    <a:lnTo>
                      <a:pt x="292" y="1848"/>
                    </a:lnTo>
                    <a:lnTo>
                      <a:pt x="266" y="1851"/>
                    </a:lnTo>
                    <a:lnTo>
                      <a:pt x="241" y="1850"/>
                    </a:lnTo>
                    <a:lnTo>
                      <a:pt x="215" y="1847"/>
                    </a:lnTo>
                    <a:lnTo>
                      <a:pt x="194" y="1841"/>
                    </a:lnTo>
                    <a:lnTo>
                      <a:pt x="176" y="1834"/>
                    </a:lnTo>
                    <a:lnTo>
                      <a:pt x="159" y="1826"/>
                    </a:lnTo>
                    <a:lnTo>
                      <a:pt x="146" y="1814"/>
                    </a:lnTo>
                    <a:lnTo>
                      <a:pt x="137" y="1803"/>
                    </a:lnTo>
                    <a:lnTo>
                      <a:pt x="132" y="1789"/>
                    </a:lnTo>
                    <a:lnTo>
                      <a:pt x="130" y="1780"/>
                    </a:lnTo>
                    <a:lnTo>
                      <a:pt x="126" y="1780"/>
                    </a:lnTo>
                    <a:lnTo>
                      <a:pt x="116" y="1779"/>
                    </a:lnTo>
                    <a:lnTo>
                      <a:pt x="100" y="1776"/>
                    </a:lnTo>
                    <a:lnTo>
                      <a:pt x="83" y="1775"/>
                    </a:lnTo>
                    <a:lnTo>
                      <a:pt x="64" y="1772"/>
                    </a:lnTo>
                    <a:lnTo>
                      <a:pt x="47" y="1770"/>
                    </a:lnTo>
                    <a:lnTo>
                      <a:pt x="32" y="1769"/>
                    </a:lnTo>
                    <a:lnTo>
                      <a:pt x="22" y="1768"/>
                    </a:lnTo>
                    <a:lnTo>
                      <a:pt x="22" y="1741"/>
                    </a:lnTo>
                    <a:lnTo>
                      <a:pt x="22" y="1695"/>
                    </a:lnTo>
                    <a:lnTo>
                      <a:pt x="22" y="1651"/>
                    </a:lnTo>
                    <a:lnTo>
                      <a:pt x="22" y="1623"/>
                    </a:lnTo>
                    <a:lnTo>
                      <a:pt x="37" y="1623"/>
                    </a:lnTo>
                    <a:lnTo>
                      <a:pt x="68" y="1623"/>
                    </a:lnTo>
                    <a:lnTo>
                      <a:pt x="113" y="1624"/>
                    </a:lnTo>
                    <a:lnTo>
                      <a:pt x="173" y="1624"/>
                    </a:lnTo>
                    <a:lnTo>
                      <a:pt x="241" y="1626"/>
                    </a:lnTo>
                    <a:lnTo>
                      <a:pt x="316" y="1626"/>
                    </a:lnTo>
                    <a:lnTo>
                      <a:pt x="397" y="1627"/>
                    </a:lnTo>
                    <a:lnTo>
                      <a:pt x="481" y="1627"/>
                    </a:lnTo>
                    <a:lnTo>
                      <a:pt x="563" y="1629"/>
                    </a:lnTo>
                    <a:lnTo>
                      <a:pt x="642" y="1630"/>
                    </a:lnTo>
                    <a:lnTo>
                      <a:pt x="716" y="1630"/>
                    </a:lnTo>
                    <a:lnTo>
                      <a:pt x="783" y="1631"/>
                    </a:lnTo>
                    <a:lnTo>
                      <a:pt x="839" y="1631"/>
                    </a:lnTo>
                    <a:lnTo>
                      <a:pt x="882" y="1633"/>
                    </a:lnTo>
                    <a:lnTo>
                      <a:pt x="910" y="1633"/>
                    </a:lnTo>
                    <a:lnTo>
                      <a:pt x="920" y="1633"/>
                    </a:lnTo>
                    <a:lnTo>
                      <a:pt x="920" y="1497"/>
                    </a:lnTo>
                    <a:lnTo>
                      <a:pt x="910" y="1497"/>
                    </a:lnTo>
                    <a:lnTo>
                      <a:pt x="883" y="1497"/>
                    </a:lnTo>
                    <a:lnTo>
                      <a:pt x="839" y="1495"/>
                    </a:lnTo>
                    <a:lnTo>
                      <a:pt x="784" y="1495"/>
                    </a:lnTo>
                    <a:lnTo>
                      <a:pt x="719" y="1494"/>
                    </a:lnTo>
                    <a:lnTo>
                      <a:pt x="645" y="1494"/>
                    </a:lnTo>
                    <a:lnTo>
                      <a:pt x="566" y="1492"/>
                    </a:lnTo>
                    <a:lnTo>
                      <a:pt x="483" y="1491"/>
                    </a:lnTo>
                    <a:lnTo>
                      <a:pt x="401" y="1491"/>
                    </a:lnTo>
                    <a:lnTo>
                      <a:pt x="322" y="1490"/>
                    </a:lnTo>
                    <a:lnTo>
                      <a:pt x="247" y="1490"/>
                    </a:lnTo>
                    <a:lnTo>
                      <a:pt x="178" y="1488"/>
                    </a:lnTo>
                    <a:lnTo>
                      <a:pt x="120" y="1488"/>
                    </a:lnTo>
                    <a:lnTo>
                      <a:pt x="75" y="1487"/>
                    </a:lnTo>
                    <a:lnTo>
                      <a:pt x="44" y="1487"/>
                    </a:lnTo>
                    <a:lnTo>
                      <a:pt x="30" y="1487"/>
                    </a:lnTo>
                    <a:lnTo>
                      <a:pt x="30" y="1460"/>
                    </a:lnTo>
                    <a:lnTo>
                      <a:pt x="30" y="1417"/>
                    </a:lnTo>
                    <a:lnTo>
                      <a:pt x="30" y="1373"/>
                    </a:lnTo>
                    <a:lnTo>
                      <a:pt x="30" y="1346"/>
                    </a:lnTo>
                    <a:lnTo>
                      <a:pt x="42" y="1346"/>
                    </a:lnTo>
                    <a:lnTo>
                      <a:pt x="71" y="1346"/>
                    </a:lnTo>
                    <a:lnTo>
                      <a:pt x="112" y="1346"/>
                    </a:lnTo>
                    <a:lnTo>
                      <a:pt x="164" y="1346"/>
                    </a:lnTo>
                    <a:lnTo>
                      <a:pt x="224" y="1348"/>
                    </a:lnTo>
                    <a:lnTo>
                      <a:pt x="292" y="1348"/>
                    </a:lnTo>
                    <a:lnTo>
                      <a:pt x="363" y="1348"/>
                    </a:lnTo>
                    <a:lnTo>
                      <a:pt x="437" y="1348"/>
                    </a:lnTo>
                    <a:lnTo>
                      <a:pt x="510" y="1349"/>
                    </a:lnTo>
                    <a:lnTo>
                      <a:pt x="580" y="1349"/>
                    </a:lnTo>
                    <a:lnTo>
                      <a:pt x="646" y="1349"/>
                    </a:lnTo>
                    <a:lnTo>
                      <a:pt x="705" y="1351"/>
                    </a:lnTo>
                    <a:lnTo>
                      <a:pt x="756" y="1351"/>
                    </a:lnTo>
                    <a:lnTo>
                      <a:pt x="794" y="1351"/>
                    </a:lnTo>
                    <a:lnTo>
                      <a:pt x="818" y="1351"/>
                    </a:lnTo>
                    <a:lnTo>
                      <a:pt x="827" y="1351"/>
                    </a:lnTo>
                    <a:lnTo>
                      <a:pt x="829" y="1351"/>
                    </a:lnTo>
                    <a:lnTo>
                      <a:pt x="834" y="1351"/>
                    </a:lnTo>
                    <a:lnTo>
                      <a:pt x="842" y="1351"/>
                    </a:lnTo>
                    <a:lnTo>
                      <a:pt x="852" y="1348"/>
                    </a:lnTo>
                    <a:lnTo>
                      <a:pt x="863" y="1345"/>
                    </a:lnTo>
                    <a:lnTo>
                      <a:pt x="875" y="1341"/>
                    </a:lnTo>
                    <a:lnTo>
                      <a:pt x="888" y="1335"/>
                    </a:lnTo>
                    <a:lnTo>
                      <a:pt x="899" y="1325"/>
                    </a:lnTo>
                    <a:lnTo>
                      <a:pt x="913" y="1309"/>
                    </a:lnTo>
                    <a:lnTo>
                      <a:pt x="923" y="1290"/>
                    </a:lnTo>
                    <a:lnTo>
                      <a:pt x="929" y="1268"/>
                    </a:lnTo>
                    <a:lnTo>
                      <a:pt x="930" y="1243"/>
                    </a:lnTo>
                    <a:lnTo>
                      <a:pt x="930" y="931"/>
                    </a:lnTo>
                    <a:lnTo>
                      <a:pt x="930" y="928"/>
                    </a:lnTo>
                    <a:lnTo>
                      <a:pt x="929" y="921"/>
                    </a:lnTo>
                    <a:lnTo>
                      <a:pt x="926" y="911"/>
                    </a:lnTo>
                    <a:lnTo>
                      <a:pt x="919" y="898"/>
                    </a:lnTo>
                    <a:lnTo>
                      <a:pt x="913" y="892"/>
                    </a:lnTo>
                    <a:lnTo>
                      <a:pt x="906" y="887"/>
                    </a:lnTo>
                    <a:lnTo>
                      <a:pt x="897" y="881"/>
                    </a:lnTo>
                    <a:lnTo>
                      <a:pt x="888" y="877"/>
                    </a:lnTo>
                    <a:lnTo>
                      <a:pt x="876" y="874"/>
                    </a:lnTo>
                    <a:lnTo>
                      <a:pt x="865" y="871"/>
                    </a:lnTo>
                    <a:lnTo>
                      <a:pt x="852" y="870"/>
                    </a:lnTo>
                    <a:lnTo>
                      <a:pt x="838" y="868"/>
                    </a:lnTo>
                    <a:lnTo>
                      <a:pt x="817" y="867"/>
                    </a:lnTo>
                    <a:lnTo>
                      <a:pt x="794" y="866"/>
                    </a:lnTo>
                    <a:lnTo>
                      <a:pt x="771" y="866"/>
                    </a:lnTo>
                    <a:lnTo>
                      <a:pt x="747" y="864"/>
                    </a:lnTo>
                    <a:lnTo>
                      <a:pt x="724" y="864"/>
                    </a:lnTo>
                    <a:lnTo>
                      <a:pt x="700" y="864"/>
                    </a:lnTo>
                    <a:lnTo>
                      <a:pt x="676" y="864"/>
                    </a:lnTo>
                    <a:lnTo>
                      <a:pt x="651" y="864"/>
                    </a:lnTo>
                    <a:lnTo>
                      <a:pt x="627" y="864"/>
                    </a:lnTo>
                    <a:lnTo>
                      <a:pt x="601" y="864"/>
                    </a:lnTo>
                    <a:lnTo>
                      <a:pt x="577" y="866"/>
                    </a:lnTo>
                    <a:lnTo>
                      <a:pt x="551" y="866"/>
                    </a:lnTo>
                    <a:lnTo>
                      <a:pt x="526" y="866"/>
                    </a:lnTo>
                    <a:lnTo>
                      <a:pt x="500" y="867"/>
                    </a:lnTo>
                    <a:lnTo>
                      <a:pt x="476" y="867"/>
                    </a:lnTo>
                    <a:lnTo>
                      <a:pt x="451" y="868"/>
                    </a:lnTo>
                    <a:lnTo>
                      <a:pt x="442" y="868"/>
                    </a:lnTo>
                    <a:lnTo>
                      <a:pt x="428" y="870"/>
                    </a:lnTo>
                    <a:lnTo>
                      <a:pt x="408" y="870"/>
                    </a:lnTo>
                    <a:lnTo>
                      <a:pt x="386" y="871"/>
                    </a:lnTo>
                    <a:lnTo>
                      <a:pt x="360" y="873"/>
                    </a:lnTo>
                    <a:lnTo>
                      <a:pt x="333" y="875"/>
                    </a:lnTo>
                    <a:lnTo>
                      <a:pt x="303" y="877"/>
                    </a:lnTo>
                    <a:lnTo>
                      <a:pt x="273" y="880"/>
                    </a:lnTo>
                    <a:lnTo>
                      <a:pt x="242" y="883"/>
                    </a:lnTo>
                    <a:lnTo>
                      <a:pt x="213" y="885"/>
                    </a:lnTo>
                    <a:lnTo>
                      <a:pt x="186" y="890"/>
                    </a:lnTo>
                    <a:lnTo>
                      <a:pt x="160" y="892"/>
                    </a:lnTo>
                    <a:lnTo>
                      <a:pt x="137" y="895"/>
                    </a:lnTo>
                    <a:lnTo>
                      <a:pt x="118" y="900"/>
                    </a:lnTo>
                    <a:lnTo>
                      <a:pt x="103" y="902"/>
                    </a:lnTo>
                    <a:lnTo>
                      <a:pt x="95" y="907"/>
                    </a:lnTo>
                    <a:lnTo>
                      <a:pt x="75" y="925"/>
                    </a:lnTo>
                    <a:lnTo>
                      <a:pt x="62" y="948"/>
                    </a:lnTo>
                    <a:lnTo>
                      <a:pt x="57" y="979"/>
                    </a:lnTo>
                    <a:lnTo>
                      <a:pt x="55" y="1019"/>
                    </a:lnTo>
                    <a:lnTo>
                      <a:pt x="51" y="1265"/>
                    </a:lnTo>
                    <a:lnTo>
                      <a:pt x="64" y="1265"/>
                    </a:lnTo>
                    <a:lnTo>
                      <a:pt x="451" y="1261"/>
                    </a:lnTo>
                    <a:lnTo>
                      <a:pt x="452" y="1213"/>
                    </a:lnTo>
                    <a:lnTo>
                      <a:pt x="456" y="1104"/>
                    </a:lnTo>
                    <a:lnTo>
                      <a:pt x="459" y="992"/>
                    </a:lnTo>
                    <a:lnTo>
                      <a:pt x="462" y="932"/>
                    </a:lnTo>
                    <a:lnTo>
                      <a:pt x="464" y="932"/>
                    </a:lnTo>
                    <a:lnTo>
                      <a:pt x="466" y="932"/>
                    </a:lnTo>
                    <a:lnTo>
                      <a:pt x="468" y="932"/>
                    </a:lnTo>
                    <a:lnTo>
                      <a:pt x="469" y="932"/>
                    </a:lnTo>
                    <a:lnTo>
                      <a:pt x="468" y="992"/>
                    </a:lnTo>
                    <a:lnTo>
                      <a:pt x="466" y="1104"/>
                    </a:lnTo>
                    <a:lnTo>
                      <a:pt x="465" y="1216"/>
                    </a:lnTo>
                    <a:lnTo>
                      <a:pt x="464" y="1275"/>
                    </a:lnTo>
                    <a:lnTo>
                      <a:pt x="455" y="1275"/>
                    </a:lnTo>
                    <a:lnTo>
                      <a:pt x="439" y="1275"/>
                    </a:lnTo>
                    <a:lnTo>
                      <a:pt x="418" y="1275"/>
                    </a:lnTo>
                    <a:lnTo>
                      <a:pt x="391" y="1275"/>
                    </a:lnTo>
                    <a:lnTo>
                      <a:pt x="360" y="1275"/>
                    </a:lnTo>
                    <a:lnTo>
                      <a:pt x="325" y="1275"/>
                    </a:lnTo>
                    <a:lnTo>
                      <a:pt x="288" y="1275"/>
                    </a:lnTo>
                    <a:lnTo>
                      <a:pt x="251" y="1275"/>
                    </a:lnTo>
                    <a:lnTo>
                      <a:pt x="213" y="1275"/>
                    </a:lnTo>
                    <a:lnTo>
                      <a:pt x="176" y="1275"/>
                    </a:lnTo>
                    <a:lnTo>
                      <a:pt x="140" y="1275"/>
                    </a:lnTo>
                    <a:lnTo>
                      <a:pt x="109" y="1275"/>
                    </a:lnTo>
                    <a:lnTo>
                      <a:pt x="82" y="1275"/>
                    </a:lnTo>
                    <a:lnTo>
                      <a:pt x="61" y="1275"/>
                    </a:lnTo>
                    <a:lnTo>
                      <a:pt x="45" y="1275"/>
                    </a:lnTo>
                    <a:lnTo>
                      <a:pt x="37" y="1275"/>
                    </a:lnTo>
                    <a:lnTo>
                      <a:pt x="37" y="1210"/>
                    </a:lnTo>
                    <a:lnTo>
                      <a:pt x="38" y="1087"/>
                    </a:lnTo>
                    <a:lnTo>
                      <a:pt x="40" y="968"/>
                    </a:lnTo>
                    <a:lnTo>
                      <a:pt x="40" y="914"/>
                    </a:lnTo>
                    <a:lnTo>
                      <a:pt x="17" y="914"/>
                    </a:lnTo>
                    <a:lnTo>
                      <a:pt x="14" y="1300"/>
                    </a:lnTo>
                    <a:lnTo>
                      <a:pt x="486" y="1300"/>
                    </a:lnTo>
                    <a:lnTo>
                      <a:pt x="493" y="908"/>
                    </a:lnTo>
                    <a:lnTo>
                      <a:pt x="439" y="908"/>
                    </a:lnTo>
                    <a:lnTo>
                      <a:pt x="438" y="956"/>
                    </a:lnTo>
                    <a:lnTo>
                      <a:pt x="435" y="1065"/>
                    </a:lnTo>
                    <a:lnTo>
                      <a:pt x="431" y="1179"/>
                    </a:lnTo>
                    <a:lnTo>
                      <a:pt x="429" y="1239"/>
                    </a:lnTo>
                    <a:lnTo>
                      <a:pt x="422" y="1239"/>
                    </a:lnTo>
                    <a:lnTo>
                      <a:pt x="410" y="1239"/>
                    </a:lnTo>
                    <a:lnTo>
                      <a:pt x="391" y="1239"/>
                    </a:lnTo>
                    <a:lnTo>
                      <a:pt x="368" y="1239"/>
                    </a:lnTo>
                    <a:lnTo>
                      <a:pt x="343" y="1239"/>
                    </a:lnTo>
                    <a:lnTo>
                      <a:pt x="315" y="1240"/>
                    </a:lnTo>
                    <a:lnTo>
                      <a:pt x="283" y="1240"/>
                    </a:lnTo>
                    <a:lnTo>
                      <a:pt x="252" y="1240"/>
                    </a:lnTo>
                    <a:lnTo>
                      <a:pt x="221" y="1240"/>
                    </a:lnTo>
                    <a:lnTo>
                      <a:pt x="191" y="1240"/>
                    </a:lnTo>
                    <a:lnTo>
                      <a:pt x="163" y="1241"/>
                    </a:lnTo>
                    <a:lnTo>
                      <a:pt x="136" y="1241"/>
                    </a:lnTo>
                    <a:lnTo>
                      <a:pt x="113" y="1241"/>
                    </a:lnTo>
                    <a:lnTo>
                      <a:pt x="95" y="1241"/>
                    </a:lnTo>
                    <a:lnTo>
                      <a:pt x="82" y="1241"/>
                    </a:lnTo>
                    <a:lnTo>
                      <a:pt x="75" y="1241"/>
                    </a:lnTo>
                    <a:lnTo>
                      <a:pt x="75" y="1199"/>
                    </a:lnTo>
                    <a:lnTo>
                      <a:pt x="76" y="1122"/>
                    </a:lnTo>
                    <a:lnTo>
                      <a:pt x="78" y="1051"/>
                    </a:lnTo>
                    <a:lnTo>
                      <a:pt x="78" y="1019"/>
                    </a:lnTo>
                    <a:lnTo>
                      <a:pt x="79" y="979"/>
                    </a:lnTo>
                    <a:lnTo>
                      <a:pt x="83" y="953"/>
                    </a:lnTo>
                    <a:lnTo>
                      <a:pt x="93" y="938"/>
                    </a:lnTo>
                    <a:lnTo>
                      <a:pt x="106" y="927"/>
                    </a:lnTo>
                    <a:lnTo>
                      <a:pt x="113" y="924"/>
                    </a:lnTo>
                    <a:lnTo>
                      <a:pt x="125" y="921"/>
                    </a:lnTo>
                    <a:lnTo>
                      <a:pt x="140" y="918"/>
                    </a:lnTo>
                    <a:lnTo>
                      <a:pt x="160" y="915"/>
                    </a:lnTo>
                    <a:lnTo>
                      <a:pt x="183" y="912"/>
                    </a:lnTo>
                    <a:lnTo>
                      <a:pt x="208" y="909"/>
                    </a:lnTo>
                    <a:lnTo>
                      <a:pt x="235" y="907"/>
                    </a:lnTo>
                    <a:lnTo>
                      <a:pt x="262" y="904"/>
                    </a:lnTo>
                    <a:lnTo>
                      <a:pt x="291" y="901"/>
                    </a:lnTo>
                    <a:lnTo>
                      <a:pt x="319" y="900"/>
                    </a:lnTo>
                    <a:lnTo>
                      <a:pt x="346" y="897"/>
                    </a:lnTo>
                    <a:lnTo>
                      <a:pt x="373" y="895"/>
                    </a:lnTo>
                    <a:lnTo>
                      <a:pt x="397" y="894"/>
                    </a:lnTo>
                    <a:lnTo>
                      <a:pt x="418" y="892"/>
                    </a:lnTo>
                    <a:lnTo>
                      <a:pt x="437" y="891"/>
                    </a:lnTo>
                    <a:lnTo>
                      <a:pt x="451" y="891"/>
                    </a:lnTo>
                    <a:lnTo>
                      <a:pt x="476" y="890"/>
                    </a:lnTo>
                    <a:lnTo>
                      <a:pt x="500" y="890"/>
                    </a:lnTo>
                    <a:lnTo>
                      <a:pt x="526" y="888"/>
                    </a:lnTo>
                    <a:lnTo>
                      <a:pt x="551" y="888"/>
                    </a:lnTo>
                    <a:lnTo>
                      <a:pt x="577" y="888"/>
                    </a:lnTo>
                    <a:lnTo>
                      <a:pt x="601" y="887"/>
                    </a:lnTo>
                    <a:lnTo>
                      <a:pt x="627" y="887"/>
                    </a:lnTo>
                    <a:lnTo>
                      <a:pt x="651" y="887"/>
                    </a:lnTo>
                    <a:lnTo>
                      <a:pt x="676" y="887"/>
                    </a:lnTo>
                    <a:lnTo>
                      <a:pt x="700" y="887"/>
                    </a:lnTo>
                    <a:lnTo>
                      <a:pt x="723" y="887"/>
                    </a:lnTo>
                    <a:lnTo>
                      <a:pt x="747" y="887"/>
                    </a:lnTo>
                    <a:lnTo>
                      <a:pt x="770" y="888"/>
                    </a:lnTo>
                    <a:lnTo>
                      <a:pt x="792" y="888"/>
                    </a:lnTo>
                    <a:lnTo>
                      <a:pt x="815" y="890"/>
                    </a:lnTo>
                    <a:lnTo>
                      <a:pt x="836" y="891"/>
                    </a:lnTo>
                    <a:lnTo>
                      <a:pt x="851" y="892"/>
                    </a:lnTo>
                    <a:lnTo>
                      <a:pt x="862" y="894"/>
                    </a:lnTo>
                    <a:lnTo>
                      <a:pt x="872" y="897"/>
                    </a:lnTo>
                    <a:lnTo>
                      <a:pt x="880" y="900"/>
                    </a:lnTo>
                    <a:lnTo>
                      <a:pt x="888" y="902"/>
                    </a:lnTo>
                    <a:lnTo>
                      <a:pt x="893" y="905"/>
                    </a:lnTo>
                    <a:lnTo>
                      <a:pt x="897" y="909"/>
                    </a:lnTo>
                    <a:lnTo>
                      <a:pt x="900" y="912"/>
                    </a:lnTo>
                    <a:lnTo>
                      <a:pt x="905" y="918"/>
                    </a:lnTo>
                    <a:lnTo>
                      <a:pt x="906" y="924"/>
                    </a:lnTo>
                    <a:lnTo>
                      <a:pt x="907" y="928"/>
                    </a:lnTo>
                    <a:lnTo>
                      <a:pt x="907" y="929"/>
                    </a:lnTo>
                    <a:lnTo>
                      <a:pt x="907" y="1243"/>
                    </a:lnTo>
                    <a:lnTo>
                      <a:pt x="906" y="1263"/>
                    </a:lnTo>
                    <a:lnTo>
                      <a:pt x="902" y="1281"/>
                    </a:lnTo>
                    <a:lnTo>
                      <a:pt x="895" y="1295"/>
                    </a:lnTo>
                    <a:lnTo>
                      <a:pt x="885" y="1308"/>
                    </a:lnTo>
                    <a:lnTo>
                      <a:pt x="875" y="1315"/>
                    </a:lnTo>
                    <a:lnTo>
                      <a:pt x="866" y="1319"/>
                    </a:lnTo>
                    <a:lnTo>
                      <a:pt x="856" y="1324"/>
                    </a:lnTo>
                    <a:lnTo>
                      <a:pt x="848" y="1325"/>
                    </a:lnTo>
                    <a:lnTo>
                      <a:pt x="839" y="1326"/>
                    </a:lnTo>
                    <a:lnTo>
                      <a:pt x="834" y="1326"/>
                    </a:lnTo>
                    <a:lnTo>
                      <a:pt x="829" y="1326"/>
                    </a:lnTo>
                    <a:lnTo>
                      <a:pt x="828" y="1326"/>
                    </a:lnTo>
                    <a:lnTo>
                      <a:pt x="818" y="1326"/>
                    </a:lnTo>
                    <a:lnTo>
                      <a:pt x="792" y="1326"/>
                    </a:lnTo>
                    <a:lnTo>
                      <a:pt x="753" y="1326"/>
                    </a:lnTo>
                    <a:lnTo>
                      <a:pt x="700" y="1326"/>
                    </a:lnTo>
                    <a:lnTo>
                      <a:pt x="639" y="1326"/>
                    </a:lnTo>
                    <a:lnTo>
                      <a:pt x="571" y="1325"/>
                    </a:lnTo>
                    <a:lnTo>
                      <a:pt x="498" y="1325"/>
                    </a:lnTo>
                    <a:lnTo>
                      <a:pt x="422" y="1325"/>
                    </a:lnTo>
                    <a:lnTo>
                      <a:pt x="347" y="1325"/>
                    </a:lnTo>
                    <a:lnTo>
                      <a:pt x="273" y="1325"/>
                    </a:lnTo>
                    <a:lnTo>
                      <a:pt x="205" y="1324"/>
                    </a:lnTo>
                    <a:lnTo>
                      <a:pt x="144" y="1324"/>
                    </a:lnTo>
                    <a:lnTo>
                      <a:pt x="93" y="1324"/>
                    </a:lnTo>
                    <a:lnTo>
                      <a:pt x="52" y="1324"/>
                    </a:lnTo>
                    <a:lnTo>
                      <a:pt x="27" y="1324"/>
                    </a:lnTo>
                    <a:lnTo>
                      <a:pt x="18" y="1324"/>
                    </a:lnTo>
                    <a:lnTo>
                      <a:pt x="7" y="1324"/>
                    </a:lnTo>
                    <a:lnTo>
                      <a:pt x="7" y="1509"/>
                    </a:lnTo>
                    <a:lnTo>
                      <a:pt x="17" y="1509"/>
                    </a:lnTo>
                    <a:lnTo>
                      <a:pt x="44" y="1509"/>
                    </a:lnTo>
                    <a:lnTo>
                      <a:pt x="88" y="1511"/>
                    </a:lnTo>
                    <a:lnTo>
                      <a:pt x="143" y="1511"/>
                    </a:lnTo>
                    <a:lnTo>
                      <a:pt x="208" y="1512"/>
                    </a:lnTo>
                    <a:lnTo>
                      <a:pt x="282" y="1512"/>
                    </a:lnTo>
                    <a:lnTo>
                      <a:pt x="361" y="1514"/>
                    </a:lnTo>
                    <a:lnTo>
                      <a:pt x="444" y="1514"/>
                    </a:lnTo>
                    <a:lnTo>
                      <a:pt x="526" y="1515"/>
                    </a:lnTo>
                    <a:lnTo>
                      <a:pt x="605" y="1516"/>
                    </a:lnTo>
                    <a:lnTo>
                      <a:pt x="680" y="1516"/>
                    </a:lnTo>
                    <a:lnTo>
                      <a:pt x="749" y="1518"/>
                    </a:lnTo>
                    <a:lnTo>
                      <a:pt x="807" y="1518"/>
                    </a:lnTo>
                    <a:lnTo>
                      <a:pt x="852" y="1519"/>
                    </a:lnTo>
                    <a:lnTo>
                      <a:pt x="883" y="1519"/>
                    </a:lnTo>
                    <a:lnTo>
                      <a:pt x="897" y="1519"/>
                    </a:lnTo>
                    <a:lnTo>
                      <a:pt x="897" y="1538"/>
                    </a:lnTo>
                    <a:lnTo>
                      <a:pt x="897" y="1565"/>
                    </a:lnTo>
                    <a:lnTo>
                      <a:pt x="897" y="1590"/>
                    </a:lnTo>
                    <a:lnTo>
                      <a:pt x="897" y="1609"/>
                    </a:lnTo>
                    <a:lnTo>
                      <a:pt x="883" y="1609"/>
                    </a:lnTo>
                    <a:lnTo>
                      <a:pt x="852" y="1609"/>
                    </a:lnTo>
                    <a:lnTo>
                      <a:pt x="807" y="1607"/>
                    </a:lnTo>
                    <a:lnTo>
                      <a:pt x="747" y="1607"/>
                    </a:lnTo>
                    <a:lnTo>
                      <a:pt x="679" y="1606"/>
                    </a:lnTo>
                    <a:lnTo>
                      <a:pt x="604" y="1606"/>
                    </a:lnTo>
                    <a:lnTo>
                      <a:pt x="523" y="1604"/>
                    </a:lnTo>
                    <a:lnTo>
                      <a:pt x="441" y="1603"/>
                    </a:lnTo>
                    <a:lnTo>
                      <a:pt x="357" y="1603"/>
                    </a:lnTo>
                    <a:lnTo>
                      <a:pt x="278" y="1602"/>
                    </a:lnTo>
                    <a:lnTo>
                      <a:pt x="204" y="1602"/>
                    </a:lnTo>
                    <a:lnTo>
                      <a:pt x="137" y="1600"/>
                    </a:lnTo>
                    <a:lnTo>
                      <a:pt x="81" y="1600"/>
                    </a:lnTo>
                    <a:lnTo>
                      <a:pt x="38" y="1599"/>
                    </a:lnTo>
                    <a:lnTo>
                      <a:pt x="10" y="1599"/>
                    </a:lnTo>
                    <a:lnTo>
                      <a:pt x="0" y="1599"/>
                    </a:lnTo>
                    <a:lnTo>
                      <a:pt x="0" y="1787"/>
                    </a:lnTo>
                    <a:lnTo>
                      <a:pt x="4" y="1787"/>
                    </a:lnTo>
                    <a:lnTo>
                      <a:pt x="15" y="1789"/>
                    </a:lnTo>
                    <a:lnTo>
                      <a:pt x="32" y="1792"/>
                    </a:lnTo>
                    <a:lnTo>
                      <a:pt x="52" y="1794"/>
                    </a:lnTo>
                    <a:lnTo>
                      <a:pt x="71" y="1796"/>
                    </a:lnTo>
                    <a:lnTo>
                      <a:pt x="89" y="1799"/>
                    </a:lnTo>
                    <a:lnTo>
                      <a:pt x="103" y="1800"/>
                    </a:lnTo>
                    <a:lnTo>
                      <a:pt x="112" y="1802"/>
                    </a:lnTo>
                    <a:lnTo>
                      <a:pt x="120" y="1817"/>
                    </a:lnTo>
                    <a:lnTo>
                      <a:pt x="132" y="1831"/>
                    </a:lnTo>
                    <a:lnTo>
                      <a:pt x="147" y="1844"/>
                    </a:lnTo>
                    <a:lnTo>
                      <a:pt x="166" y="1854"/>
                    </a:lnTo>
                    <a:lnTo>
                      <a:pt x="187" y="1863"/>
                    </a:lnTo>
                    <a:lnTo>
                      <a:pt x="211" y="1868"/>
                    </a:lnTo>
                    <a:lnTo>
                      <a:pt x="237" y="1872"/>
                    </a:lnTo>
                    <a:lnTo>
                      <a:pt x="266" y="1874"/>
                    </a:lnTo>
                    <a:lnTo>
                      <a:pt x="292" y="1872"/>
                    </a:lnTo>
                    <a:lnTo>
                      <a:pt x="315" y="1867"/>
                    </a:lnTo>
                    <a:lnTo>
                      <a:pt x="334" y="1858"/>
                    </a:lnTo>
                    <a:lnTo>
                      <a:pt x="351" y="1850"/>
                    </a:lnTo>
                    <a:lnTo>
                      <a:pt x="367" y="1838"/>
                    </a:lnTo>
                    <a:lnTo>
                      <a:pt x="378" y="1829"/>
                    </a:lnTo>
                    <a:lnTo>
                      <a:pt x="388" y="1820"/>
                    </a:lnTo>
                    <a:lnTo>
                      <a:pt x="394" y="1813"/>
                    </a:lnTo>
                    <a:lnTo>
                      <a:pt x="403" y="1813"/>
                    </a:lnTo>
                    <a:lnTo>
                      <a:pt x="422" y="1814"/>
                    </a:lnTo>
                    <a:lnTo>
                      <a:pt x="452" y="1816"/>
                    </a:lnTo>
                    <a:lnTo>
                      <a:pt x="490" y="1817"/>
                    </a:lnTo>
                    <a:lnTo>
                      <a:pt x="536" y="1819"/>
                    </a:lnTo>
                    <a:lnTo>
                      <a:pt x="585" y="1821"/>
                    </a:lnTo>
                    <a:lnTo>
                      <a:pt x="638" y="1824"/>
                    </a:lnTo>
                    <a:lnTo>
                      <a:pt x="693" y="1826"/>
                    </a:lnTo>
                    <a:lnTo>
                      <a:pt x="747" y="1829"/>
                    </a:lnTo>
                    <a:lnTo>
                      <a:pt x="800" y="1831"/>
                    </a:lnTo>
                    <a:lnTo>
                      <a:pt x="848" y="1834"/>
                    </a:lnTo>
                    <a:lnTo>
                      <a:pt x="892" y="1836"/>
                    </a:lnTo>
                    <a:lnTo>
                      <a:pt x="929" y="1837"/>
                    </a:lnTo>
                    <a:lnTo>
                      <a:pt x="957" y="1838"/>
                    </a:lnTo>
                    <a:lnTo>
                      <a:pt x="975" y="1840"/>
                    </a:lnTo>
                    <a:lnTo>
                      <a:pt x="983" y="1840"/>
                    </a:lnTo>
                    <a:lnTo>
                      <a:pt x="987" y="1840"/>
                    </a:lnTo>
                    <a:lnTo>
                      <a:pt x="998" y="1838"/>
                    </a:lnTo>
                    <a:lnTo>
                      <a:pt x="1015" y="1837"/>
                    </a:lnTo>
                    <a:lnTo>
                      <a:pt x="1035" y="1836"/>
                    </a:lnTo>
                    <a:lnTo>
                      <a:pt x="1056" y="1834"/>
                    </a:lnTo>
                    <a:lnTo>
                      <a:pt x="1078" y="1833"/>
                    </a:lnTo>
                    <a:lnTo>
                      <a:pt x="1096" y="1831"/>
                    </a:lnTo>
                    <a:lnTo>
                      <a:pt x="1110" y="1830"/>
                    </a:lnTo>
                    <a:lnTo>
                      <a:pt x="1116" y="1850"/>
                    </a:lnTo>
                    <a:lnTo>
                      <a:pt x="1124" y="1867"/>
                    </a:lnTo>
                    <a:lnTo>
                      <a:pt x="1133" y="1881"/>
                    </a:lnTo>
                    <a:lnTo>
                      <a:pt x="1137" y="1887"/>
                    </a:lnTo>
                    <a:lnTo>
                      <a:pt x="1140" y="1889"/>
                    </a:lnTo>
                    <a:lnTo>
                      <a:pt x="1144" y="1891"/>
                    </a:lnTo>
                    <a:lnTo>
                      <a:pt x="1147" y="1891"/>
                    </a:lnTo>
                    <a:lnTo>
                      <a:pt x="1156" y="1892"/>
                    </a:lnTo>
                    <a:lnTo>
                      <a:pt x="1167" y="1894"/>
                    </a:lnTo>
                    <a:lnTo>
                      <a:pt x="1181" y="1894"/>
                    </a:lnTo>
                    <a:lnTo>
                      <a:pt x="1197" y="1895"/>
                    </a:lnTo>
                    <a:lnTo>
                      <a:pt x="1215" y="1897"/>
                    </a:lnTo>
                    <a:lnTo>
                      <a:pt x="1235" y="1898"/>
                    </a:lnTo>
                    <a:lnTo>
                      <a:pt x="1255" y="1898"/>
                    </a:lnTo>
                    <a:lnTo>
                      <a:pt x="1273" y="1895"/>
                    </a:lnTo>
                    <a:lnTo>
                      <a:pt x="1290" y="1888"/>
                    </a:lnTo>
                    <a:lnTo>
                      <a:pt x="1303" y="1877"/>
                    </a:lnTo>
                    <a:lnTo>
                      <a:pt x="1314" y="1864"/>
                    </a:lnTo>
                    <a:lnTo>
                      <a:pt x="1323" y="1850"/>
                    </a:lnTo>
                    <a:lnTo>
                      <a:pt x="1330" y="1837"/>
                    </a:lnTo>
                    <a:lnTo>
                      <a:pt x="1336" y="1824"/>
                    </a:lnTo>
                    <a:lnTo>
                      <a:pt x="1338" y="1814"/>
                    </a:lnTo>
                    <a:lnTo>
                      <a:pt x="1346" y="1813"/>
                    </a:lnTo>
                    <a:lnTo>
                      <a:pt x="1361" y="1811"/>
                    </a:lnTo>
                    <a:lnTo>
                      <a:pt x="1382" y="1809"/>
                    </a:lnTo>
                    <a:lnTo>
                      <a:pt x="1411" y="1804"/>
                    </a:lnTo>
                    <a:lnTo>
                      <a:pt x="1443" y="1800"/>
                    </a:lnTo>
                    <a:lnTo>
                      <a:pt x="1480" y="1796"/>
                    </a:lnTo>
                    <a:lnTo>
                      <a:pt x="1519" y="1790"/>
                    </a:lnTo>
                    <a:lnTo>
                      <a:pt x="1558" y="1785"/>
                    </a:lnTo>
                    <a:lnTo>
                      <a:pt x="1598" y="1780"/>
                    </a:lnTo>
                    <a:lnTo>
                      <a:pt x="1636" y="1775"/>
                    </a:lnTo>
                    <a:lnTo>
                      <a:pt x="1673" y="1770"/>
                    </a:lnTo>
                    <a:lnTo>
                      <a:pt x="1706" y="1766"/>
                    </a:lnTo>
                    <a:lnTo>
                      <a:pt x="1734" y="1762"/>
                    </a:lnTo>
                    <a:lnTo>
                      <a:pt x="1757" y="1759"/>
                    </a:lnTo>
                    <a:lnTo>
                      <a:pt x="1772" y="1758"/>
                    </a:lnTo>
                    <a:lnTo>
                      <a:pt x="1779" y="1756"/>
                    </a:lnTo>
                    <a:lnTo>
                      <a:pt x="1782" y="1763"/>
                    </a:lnTo>
                    <a:lnTo>
                      <a:pt x="1787" y="1772"/>
                    </a:lnTo>
                    <a:lnTo>
                      <a:pt x="1791" y="1779"/>
                    </a:lnTo>
                    <a:lnTo>
                      <a:pt x="1792" y="1782"/>
                    </a:lnTo>
                    <a:lnTo>
                      <a:pt x="1904" y="1789"/>
                    </a:lnTo>
                    <a:lnTo>
                      <a:pt x="1907" y="1787"/>
                    </a:lnTo>
                    <a:lnTo>
                      <a:pt x="1920" y="1779"/>
                    </a:lnTo>
                    <a:lnTo>
                      <a:pt x="1930" y="1768"/>
                    </a:lnTo>
                    <a:lnTo>
                      <a:pt x="1937" y="1756"/>
                    </a:lnTo>
                    <a:lnTo>
                      <a:pt x="1943" y="1745"/>
                    </a:lnTo>
                    <a:lnTo>
                      <a:pt x="1947" y="1732"/>
                    </a:lnTo>
                    <a:lnTo>
                      <a:pt x="1950" y="1722"/>
                    </a:lnTo>
                    <a:lnTo>
                      <a:pt x="1951" y="1712"/>
                    </a:lnTo>
                    <a:lnTo>
                      <a:pt x="1952" y="1704"/>
                    </a:lnTo>
                    <a:lnTo>
                      <a:pt x="1965" y="1699"/>
                    </a:lnTo>
                    <a:lnTo>
                      <a:pt x="1988" y="1692"/>
                    </a:lnTo>
                    <a:lnTo>
                      <a:pt x="2019" y="1682"/>
                    </a:lnTo>
                    <a:lnTo>
                      <a:pt x="2053" y="1671"/>
                    </a:lnTo>
                    <a:lnTo>
                      <a:pt x="2087" y="1661"/>
                    </a:lnTo>
                    <a:lnTo>
                      <a:pt x="2116" y="1651"/>
                    </a:lnTo>
                    <a:lnTo>
                      <a:pt x="2137" y="1646"/>
                    </a:lnTo>
                    <a:lnTo>
                      <a:pt x="2144" y="1643"/>
                    </a:lnTo>
                    <a:lnTo>
                      <a:pt x="2137" y="871"/>
                    </a:lnTo>
                    <a:lnTo>
                      <a:pt x="2080" y="871"/>
                    </a:lnTo>
                    <a:lnTo>
                      <a:pt x="2082" y="975"/>
                    </a:lnTo>
                    <a:lnTo>
                      <a:pt x="2084" y="1206"/>
                    </a:lnTo>
                    <a:lnTo>
                      <a:pt x="2086" y="1438"/>
                    </a:lnTo>
                    <a:lnTo>
                      <a:pt x="2087" y="1553"/>
                    </a:lnTo>
                    <a:lnTo>
                      <a:pt x="2077" y="1555"/>
                    </a:lnTo>
                    <a:lnTo>
                      <a:pt x="2062" y="1558"/>
                    </a:lnTo>
                    <a:lnTo>
                      <a:pt x="2042" y="1562"/>
                    </a:lnTo>
                    <a:lnTo>
                      <a:pt x="2019" y="1566"/>
                    </a:lnTo>
                    <a:lnTo>
                      <a:pt x="1996" y="1570"/>
                    </a:lnTo>
                    <a:lnTo>
                      <a:pt x="1975" y="1575"/>
                    </a:lnTo>
                    <a:lnTo>
                      <a:pt x="1958" y="1577"/>
                    </a:lnTo>
                    <a:lnTo>
                      <a:pt x="1947" y="1580"/>
                    </a:lnTo>
                    <a:lnTo>
                      <a:pt x="1943" y="1551"/>
                    </a:lnTo>
                    <a:lnTo>
                      <a:pt x="1935" y="1514"/>
                    </a:lnTo>
                    <a:lnTo>
                      <a:pt x="1924" y="1481"/>
                    </a:lnTo>
                    <a:lnTo>
                      <a:pt x="1909" y="1456"/>
                    </a:lnTo>
                    <a:lnTo>
                      <a:pt x="1903" y="1450"/>
                    </a:lnTo>
                    <a:lnTo>
                      <a:pt x="1896" y="1447"/>
                    </a:lnTo>
                    <a:lnTo>
                      <a:pt x="1890" y="1446"/>
                    </a:lnTo>
                    <a:lnTo>
                      <a:pt x="1886" y="1446"/>
                    </a:lnTo>
                    <a:lnTo>
                      <a:pt x="1874" y="1451"/>
                    </a:lnTo>
                    <a:lnTo>
                      <a:pt x="1865" y="1463"/>
                    </a:lnTo>
                    <a:lnTo>
                      <a:pt x="1856" y="1478"/>
                    </a:lnTo>
                    <a:lnTo>
                      <a:pt x="1849" y="1498"/>
                    </a:lnTo>
                    <a:lnTo>
                      <a:pt x="1842" y="1521"/>
                    </a:lnTo>
                    <a:lnTo>
                      <a:pt x="1838" y="1545"/>
                    </a:lnTo>
                    <a:lnTo>
                      <a:pt x="1833" y="1568"/>
                    </a:lnTo>
                    <a:lnTo>
                      <a:pt x="1831" y="1590"/>
                    </a:lnTo>
                    <a:lnTo>
                      <a:pt x="1821" y="1592"/>
                    </a:lnTo>
                    <a:lnTo>
                      <a:pt x="1804" y="1593"/>
                    </a:lnTo>
                    <a:lnTo>
                      <a:pt x="1784" y="1594"/>
                    </a:lnTo>
                    <a:lnTo>
                      <a:pt x="1761" y="1596"/>
                    </a:lnTo>
                    <a:lnTo>
                      <a:pt x="1740" y="1597"/>
                    </a:lnTo>
                    <a:lnTo>
                      <a:pt x="1721" y="1599"/>
                    </a:lnTo>
                    <a:lnTo>
                      <a:pt x="1707" y="1600"/>
                    </a:lnTo>
                    <a:lnTo>
                      <a:pt x="1703" y="1600"/>
                    </a:lnTo>
                    <a:lnTo>
                      <a:pt x="1703" y="1616"/>
                    </a:lnTo>
                    <a:lnTo>
                      <a:pt x="1703" y="1651"/>
                    </a:lnTo>
                    <a:lnTo>
                      <a:pt x="1703" y="1691"/>
                    </a:lnTo>
                    <a:lnTo>
                      <a:pt x="1703" y="1716"/>
                    </a:lnTo>
                    <a:lnTo>
                      <a:pt x="1693" y="1718"/>
                    </a:lnTo>
                    <a:lnTo>
                      <a:pt x="1675" y="1719"/>
                    </a:lnTo>
                    <a:lnTo>
                      <a:pt x="1653" y="1722"/>
                    </a:lnTo>
                    <a:lnTo>
                      <a:pt x="1629" y="1725"/>
                    </a:lnTo>
                    <a:lnTo>
                      <a:pt x="1604" y="1728"/>
                    </a:lnTo>
                    <a:lnTo>
                      <a:pt x="1581" y="1731"/>
                    </a:lnTo>
                    <a:lnTo>
                      <a:pt x="1562" y="1732"/>
                    </a:lnTo>
                    <a:lnTo>
                      <a:pt x="1551" y="1733"/>
                    </a:lnTo>
                    <a:lnTo>
                      <a:pt x="1551" y="1707"/>
                    </a:lnTo>
                    <a:lnTo>
                      <a:pt x="1550" y="1665"/>
                    </a:lnTo>
                    <a:lnTo>
                      <a:pt x="1548" y="1629"/>
                    </a:lnTo>
                    <a:lnTo>
                      <a:pt x="1548" y="1613"/>
                    </a:lnTo>
                    <a:lnTo>
                      <a:pt x="1541" y="1613"/>
                    </a:lnTo>
                    <a:lnTo>
                      <a:pt x="1523" y="1614"/>
                    </a:lnTo>
                    <a:lnTo>
                      <a:pt x="1496" y="1616"/>
                    </a:lnTo>
                    <a:lnTo>
                      <a:pt x="1465" y="1617"/>
                    </a:lnTo>
                    <a:lnTo>
                      <a:pt x="1433" y="1619"/>
                    </a:lnTo>
                    <a:lnTo>
                      <a:pt x="1404" y="1620"/>
                    </a:lnTo>
                    <a:lnTo>
                      <a:pt x="1381" y="1621"/>
                    </a:lnTo>
                    <a:lnTo>
                      <a:pt x="1368" y="1623"/>
                    </a:lnTo>
                    <a:lnTo>
                      <a:pt x="1367" y="1621"/>
                    </a:lnTo>
                    <a:lnTo>
                      <a:pt x="1367" y="1620"/>
                    </a:lnTo>
                    <a:lnTo>
                      <a:pt x="1367" y="1619"/>
                    </a:lnTo>
                    <a:lnTo>
                      <a:pt x="1367" y="1619"/>
                    </a:lnTo>
                    <a:lnTo>
                      <a:pt x="1365" y="1597"/>
                    </a:lnTo>
                    <a:lnTo>
                      <a:pt x="1363" y="1573"/>
                    </a:lnTo>
                    <a:lnTo>
                      <a:pt x="1358" y="1546"/>
                    </a:lnTo>
                    <a:lnTo>
                      <a:pt x="1351" y="1519"/>
                    </a:lnTo>
                    <a:lnTo>
                      <a:pt x="1341" y="1494"/>
                    </a:lnTo>
                    <a:lnTo>
                      <a:pt x="1326" y="1474"/>
                    </a:lnTo>
                    <a:lnTo>
                      <a:pt x="1307" y="1458"/>
                    </a:lnTo>
                    <a:lnTo>
                      <a:pt x="1283" y="1453"/>
                    </a:lnTo>
                    <a:lnTo>
                      <a:pt x="1275" y="1454"/>
                    </a:lnTo>
                    <a:lnTo>
                      <a:pt x="1268" y="1456"/>
                    </a:lnTo>
                    <a:lnTo>
                      <a:pt x="1259" y="1460"/>
                    </a:lnTo>
                    <a:lnTo>
                      <a:pt x="1252" y="1465"/>
                    </a:lnTo>
                    <a:lnTo>
                      <a:pt x="1235" y="1487"/>
                    </a:lnTo>
                    <a:lnTo>
                      <a:pt x="1222" y="1516"/>
                    </a:lnTo>
                    <a:lnTo>
                      <a:pt x="1212" y="1553"/>
                    </a:lnTo>
                    <a:lnTo>
                      <a:pt x="1204" y="1592"/>
                    </a:lnTo>
                    <a:lnTo>
                      <a:pt x="1198" y="1630"/>
                    </a:lnTo>
                    <a:lnTo>
                      <a:pt x="1194" y="1665"/>
                    </a:lnTo>
                    <a:lnTo>
                      <a:pt x="1191" y="1695"/>
                    </a:lnTo>
                    <a:lnTo>
                      <a:pt x="1190" y="1718"/>
                    </a:lnTo>
                    <a:lnTo>
                      <a:pt x="1185" y="1718"/>
                    </a:lnTo>
                    <a:lnTo>
                      <a:pt x="1180" y="1719"/>
                    </a:lnTo>
                    <a:lnTo>
                      <a:pt x="1174" y="1719"/>
                    </a:lnTo>
                    <a:lnTo>
                      <a:pt x="1168" y="1719"/>
                    </a:lnTo>
                    <a:lnTo>
                      <a:pt x="1163" y="1721"/>
                    </a:lnTo>
                    <a:lnTo>
                      <a:pt x="1157" y="1721"/>
                    </a:lnTo>
                    <a:lnTo>
                      <a:pt x="1151" y="1722"/>
                    </a:lnTo>
                    <a:lnTo>
                      <a:pt x="1146" y="1722"/>
                    </a:lnTo>
                    <a:lnTo>
                      <a:pt x="1146" y="1647"/>
                    </a:lnTo>
                    <a:lnTo>
                      <a:pt x="1147" y="1507"/>
                    </a:lnTo>
                    <a:lnTo>
                      <a:pt x="1148" y="1370"/>
                    </a:lnTo>
                    <a:lnTo>
                      <a:pt x="1148" y="1309"/>
                    </a:lnTo>
                    <a:lnTo>
                      <a:pt x="1070" y="1309"/>
                    </a:lnTo>
                    <a:lnTo>
                      <a:pt x="1070" y="1372"/>
                    </a:lnTo>
                    <a:lnTo>
                      <a:pt x="1073" y="1512"/>
                    </a:lnTo>
                    <a:lnTo>
                      <a:pt x="1075" y="1657"/>
                    </a:lnTo>
                    <a:lnTo>
                      <a:pt x="1075" y="1731"/>
                    </a:lnTo>
                    <a:lnTo>
                      <a:pt x="1066" y="1732"/>
                    </a:lnTo>
                    <a:lnTo>
                      <a:pt x="1055" y="1732"/>
                    </a:lnTo>
                    <a:lnTo>
                      <a:pt x="1041" y="1733"/>
                    </a:lnTo>
                    <a:lnTo>
                      <a:pt x="1025" y="1735"/>
                    </a:lnTo>
                    <a:lnTo>
                      <a:pt x="1009" y="1738"/>
                    </a:lnTo>
                    <a:lnTo>
                      <a:pt x="995" y="1739"/>
                    </a:lnTo>
                    <a:lnTo>
                      <a:pt x="983" y="1739"/>
                    </a:lnTo>
                    <a:lnTo>
                      <a:pt x="974" y="1741"/>
                    </a:lnTo>
                    <a:lnTo>
                      <a:pt x="974" y="1604"/>
                    </a:lnTo>
                    <a:lnTo>
                      <a:pt x="975" y="1328"/>
                    </a:lnTo>
                    <a:lnTo>
                      <a:pt x="977" y="1050"/>
                    </a:lnTo>
                    <a:lnTo>
                      <a:pt x="977" y="914"/>
                    </a:lnTo>
                    <a:lnTo>
                      <a:pt x="985" y="915"/>
                    </a:lnTo>
                    <a:lnTo>
                      <a:pt x="997" y="917"/>
                    </a:lnTo>
                    <a:lnTo>
                      <a:pt x="1011" y="919"/>
                    </a:lnTo>
                    <a:lnTo>
                      <a:pt x="1024" y="921"/>
                    </a:lnTo>
                    <a:lnTo>
                      <a:pt x="1038" y="924"/>
                    </a:lnTo>
                    <a:lnTo>
                      <a:pt x="1049" y="927"/>
                    </a:lnTo>
                    <a:lnTo>
                      <a:pt x="1059" y="928"/>
                    </a:lnTo>
                    <a:lnTo>
                      <a:pt x="1066" y="929"/>
                    </a:lnTo>
                    <a:lnTo>
                      <a:pt x="1066" y="992"/>
                    </a:lnTo>
                    <a:lnTo>
                      <a:pt x="1066" y="1111"/>
                    </a:lnTo>
                    <a:lnTo>
                      <a:pt x="1066" y="1226"/>
                    </a:lnTo>
                    <a:lnTo>
                      <a:pt x="1066" y="1278"/>
                    </a:lnTo>
                    <a:lnTo>
                      <a:pt x="1147" y="1282"/>
                    </a:lnTo>
                    <a:lnTo>
                      <a:pt x="1147" y="1234"/>
                    </a:lnTo>
                    <a:lnTo>
                      <a:pt x="1147" y="1125"/>
                    </a:lnTo>
                    <a:lnTo>
                      <a:pt x="1147" y="1010"/>
                    </a:lnTo>
                    <a:lnTo>
                      <a:pt x="1147" y="948"/>
                    </a:lnTo>
                    <a:lnTo>
                      <a:pt x="1154" y="949"/>
                    </a:lnTo>
                    <a:lnTo>
                      <a:pt x="1160" y="949"/>
                    </a:lnTo>
                    <a:lnTo>
                      <a:pt x="1165" y="951"/>
                    </a:lnTo>
                    <a:lnTo>
                      <a:pt x="1171" y="952"/>
                    </a:lnTo>
                    <a:lnTo>
                      <a:pt x="1170" y="1012"/>
                    </a:lnTo>
                    <a:lnTo>
                      <a:pt x="1168" y="1124"/>
                    </a:lnTo>
                    <a:lnTo>
                      <a:pt x="1167" y="1233"/>
                    </a:lnTo>
                    <a:lnTo>
                      <a:pt x="1167" y="1281"/>
                    </a:lnTo>
                    <a:lnTo>
                      <a:pt x="1358" y="1282"/>
                    </a:lnTo>
                    <a:lnTo>
                      <a:pt x="1360" y="1240"/>
                    </a:lnTo>
                    <a:lnTo>
                      <a:pt x="1361" y="1144"/>
                    </a:lnTo>
                    <a:lnTo>
                      <a:pt x="1364" y="1044"/>
                    </a:lnTo>
                    <a:lnTo>
                      <a:pt x="1365" y="987"/>
                    </a:lnTo>
                    <a:lnTo>
                      <a:pt x="1371" y="989"/>
                    </a:lnTo>
                    <a:lnTo>
                      <a:pt x="1377" y="989"/>
                    </a:lnTo>
                    <a:lnTo>
                      <a:pt x="1381" y="990"/>
                    </a:lnTo>
                    <a:lnTo>
                      <a:pt x="1387" y="992"/>
                    </a:lnTo>
                    <a:lnTo>
                      <a:pt x="1385" y="1046"/>
                    </a:lnTo>
                    <a:lnTo>
                      <a:pt x="1382" y="1146"/>
                    </a:lnTo>
                    <a:lnTo>
                      <a:pt x="1381" y="1244"/>
                    </a:lnTo>
                    <a:lnTo>
                      <a:pt x="1380" y="1288"/>
                    </a:lnTo>
                    <a:lnTo>
                      <a:pt x="1545" y="1288"/>
                    </a:lnTo>
                    <a:lnTo>
                      <a:pt x="1545" y="1251"/>
                    </a:lnTo>
                    <a:lnTo>
                      <a:pt x="1547" y="1166"/>
                    </a:lnTo>
                    <a:lnTo>
                      <a:pt x="1547" y="1077"/>
                    </a:lnTo>
                    <a:lnTo>
                      <a:pt x="1547" y="1023"/>
                    </a:lnTo>
                    <a:lnTo>
                      <a:pt x="1551" y="1024"/>
                    </a:lnTo>
                    <a:lnTo>
                      <a:pt x="1555" y="1026"/>
                    </a:lnTo>
                    <a:lnTo>
                      <a:pt x="1558" y="1027"/>
                    </a:lnTo>
                    <a:lnTo>
                      <a:pt x="1562" y="1029"/>
                    </a:lnTo>
                    <a:lnTo>
                      <a:pt x="1562" y="1144"/>
                    </a:lnTo>
                    <a:lnTo>
                      <a:pt x="1565" y="1379"/>
                    </a:lnTo>
                    <a:lnTo>
                      <a:pt x="1567" y="1613"/>
                    </a:lnTo>
                    <a:lnTo>
                      <a:pt x="1567" y="1718"/>
                    </a:lnTo>
                    <a:lnTo>
                      <a:pt x="1684" y="1707"/>
                    </a:lnTo>
                    <a:lnTo>
                      <a:pt x="1683" y="1609"/>
                    </a:lnTo>
                    <a:lnTo>
                      <a:pt x="1682" y="1390"/>
                    </a:lnTo>
                    <a:lnTo>
                      <a:pt x="1680" y="1166"/>
                    </a:lnTo>
                    <a:lnTo>
                      <a:pt x="1679" y="1053"/>
                    </a:lnTo>
                    <a:lnTo>
                      <a:pt x="1684" y="1054"/>
                    </a:lnTo>
                    <a:lnTo>
                      <a:pt x="1689" y="1056"/>
                    </a:lnTo>
                    <a:lnTo>
                      <a:pt x="1694" y="1057"/>
                    </a:lnTo>
                    <a:lnTo>
                      <a:pt x="1699" y="1058"/>
                    </a:lnTo>
                    <a:lnTo>
                      <a:pt x="1697" y="1105"/>
                    </a:lnTo>
                    <a:lnTo>
                      <a:pt x="1697" y="1192"/>
                    </a:lnTo>
                    <a:lnTo>
                      <a:pt x="1696" y="1275"/>
                    </a:lnTo>
                    <a:lnTo>
                      <a:pt x="1696" y="1312"/>
                    </a:lnTo>
                    <a:lnTo>
                      <a:pt x="1804" y="1317"/>
                    </a:lnTo>
                    <a:lnTo>
                      <a:pt x="1804" y="1282"/>
                    </a:lnTo>
                    <a:lnTo>
                      <a:pt x="1805" y="1204"/>
                    </a:lnTo>
                    <a:lnTo>
                      <a:pt x="1806" y="1121"/>
                    </a:lnTo>
                    <a:lnTo>
                      <a:pt x="1806" y="1071"/>
                    </a:lnTo>
                    <a:lnTo>
                      <a:pt x="1813" y="1074"/>
                    </a:lnTo>
                    <a:lnTo>
                      <a:pt x="1819" y="1075"/>
                    </a:lnTo>
                    <a:lnTo>
                      <a:pt x="1825" y="1078"/>
                    </a:lnTo>
                    <a:lnTo>
                      <a:pt x="1829" y="1080"/>
                    </a:lnTo>
                    <a:lnTo>
                      <a:pt x="1829" y="1124"/>
                    </a:lnTo>
                    <a:lnTo>
                      <a:pt x="1828" y="1203"/>
                    </a:lnTo>
                    <a:lnTo>
                      <a:pt x="1825" y="1281"/>
                    </a:lnTo>
                    <a:lnTo>
                      <a:pt x="1825" y="1315"/>
                    </a:lnTo>
                    <a:lnTo>
                      <a:pt x="1947" y="1324"/>
                    </a:lnTo>
                    <a:lnTo>
                      <a:pt x="1947" y="1291"/>
                    </a:lnTo>
                    <a:lnTo>
                      <a:pt x="1948" y="1219"/>
                    </a:lnTo>
                    <a:lnTo>
                      <a:pt x="1950" y="1141"/>
                    </a:lnTo>
                    <a:lnTo>
                      <a:pt x="1950" y="1095"/>
                    </a:lnTo>
                    <a:lnTo>
                      <a:pt x="1954" y="1097"/>
                    </a:lnTo>
                    <a:lnTo>
                      <a:pt x="1958" y="1097"/>
                    </a:lnTo>
                    <a:lnTo>
                      <a:pt x="1962" y="1097"/>
                    </a:lnTo>
                    <a:lnTo>
                      <a:pt x="1967" y="1098"/>
                    </a:lnTo>
                    <a:lnTo>
                      <a:pt x="1967" y="1141"/>
                    </a:lnTo>
                    <a:lnTo>
                      <a:pt x="1968" y="1217"/>
                    </a:lnTo>
                    <a:lnTo>
                      <a:pt x="1969" y="1292"/>
                    </a:lnTo>
                    <a:lnTo>
                      <a:pt x="1969" y="1325"/>
                    </a:lnTo>
                    <a:lnTo>
                      <a:pt x="2067" y="1331"/>
                    </a:lnTo>
                    <a:lnTo>
                      <a:pt x="2063" y="1057"/>
                    </a:lnTo>
                    <a:lnTo>
                      <a:pt x="2060" y="1057"/>
                    </a:lnTo>
                    <a:lnTo>
                      <a:pt x="2050" y="1054"/>
                    </a:lnTo>
                    <a:lnTo>
                      <a:pt x="2036" y="1051"/>
                    </a:lnTo>
                    <a:lnTo>
                      <a:pt x="2015" y="1048"/>
                    </a:lnTo>
                    <a:lnTo>
                      <a:pt x="1991" y="1043"/>
                    </a:lnTo>
                    <a:lnTo>
                      <a:pt x="1961" y="1037"/>
                    </a:lnTo>
                    <a:lnTo>
                      <a:pt x="1927" y="1031"/>
                    </a:lnTo>
                    <a:lnTo>
                      <a:pt x="1890" y="1024"/>
                    </a:lnTo>
                    <a:lnTo>
                      <a:pt x="1849" y="1017"/>
                    </a:lnTo>
                    <a:lnTo>
                      <a:pt x="1806" y="1009"/>
                    </a:lnTo>
                    <a:lnTo>
                      <a:pt x="1760" y="1000"/>
                    </a:lnTo>
                    <a:lnTo>
                      <a:pt x="1713" y="990"/>
                    </a:lnTo>
                    <a:lnTo>
                      <a:pt x="1663" y="982"/>
                    </a:lnTo>
                    <a:lnTo>
                      <a:pt x="1612" y="972"/>
                    </a:lnTo>
                    <a:lnTo>
                      <a:pt x="1561" y="962"/>
                    </a:lnTo>
                    <a:lnTo>
                      <a:pt x="1509" y="952"/>
                    </a:lnTo>
                    <a:lnTo>
                      <a:pt x="1456" y="942"/>
                    </a:lnTo>
                    <a:lnTo>
                      <a:pt x="1405" y="932"/>
                    </a:lnTo>
                    <a:lnTo>
                      <a:pt x="1354" y="924"/>
                    </a:lnTo>
                    <a:lnTo>
                      <a:pt x="1304" y="914"/>
                    </a:lnTo>
                    <a:lnTo>
                      <a:pt x="1256" y="905"/>
                    </a:lnTo>
                    <a:lnTo>
                      <a:pt x="1209" y="895"/>
                    </a:lnTo>
                    <a:lnTo>
                      <a:pt x="1165" y="888"/>
                    </a:lnTo>
                    <a:lnTo>
                      <a:pt x="1124" y="880"/>
                    </a:lnTo>
                    <a:lnTo>
                      <a:pt x="1086" y="873"/>
                    </a:lnTo>
                    <a:lnTo>
                      <a:pt x="1052" y="866"/>
                    </a:lnTo>
                    <a:lnTo>
                      <a:pt x="1022" y="860"/>
                    </a:lnTo>
                    <a:lnTo>
                      <a:pt x="995" y="856"/>
                    </a:lnTo>
                    <a:lnTo>
                      <a:pt x="975" y="851"/>
                    </a:lnTo>
                    <a:lnTo>
                      <a:pt x="958" y="849"/>
                    </a:lnTo>
                    <a:lnTo>
                      <a:pt x="948" y="847"/>
                    </a:lnTo>
                    <a:lnTo>
                      <a:pt x="944" y="846"/>
                    </a:lnTo>
                    <a:lnTo>
                      <a:pt x="937" y="830"/>
                    </a:lnTo>
                    <a:lnTo>
                      <a:pt x="929" y="817"/>
                    </a:lnTo>
                    <a:lnTo>
                      <a:pt x="917" y="807"/>
                    </a:lnTo>
                    <a:lnTo>
                      <a:pt x="909" y="802"/>
                    </a:lnTo>
                    <a:lnTo>
                      <a:pt x="907" y="690"/>
                    </a:lnTo>
                    <a:lnTo>
                      <a:pt x="905" y="454"/>
                    </a:lnTo>
                    <a:lnTo>
                      <a:pt x="900" y="222"/>
                    </a:lnTo>
                    <a:lnTo>
                      <a:pt x="899" y="117"/>
                    </a:lnTo>
                    <a:lnTo>
                      <a:pt x="835" y="122"/>
                    </a:lnTo>
                    <a:lnTo>
                      <a:pt x="835" y="132"/>
                    </a:lnTo>
                    <a:lnTo>
                      <a:pt x="831" y="305"/>
                    </a:lnTo>
                    <a:lnTo>
                      <a:pt x="824" y="398"/>
                    </a:lnTo>
                    <a:lnTo>
                      <a:pt x="814" y="436"/>
                    </a:lnTo>
                    <a:lnTo>
                      <a:pt x="805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792" y="449"/>
                    </a:lnTo>
                    <a:lnTo>
                      <a:pt x="770" y="451"/>
                    </a:lnTo>
                    <a:lnTo>
                      <a:pt x="740" y="454"/>
                    </a:lnTo>
                    <a:lnTo>
                      <a:pt x="707" y="456"/>
                    </a:lnTo>
                    <a:lnTo>
                      <a:pt x="673" y="458"/>
                    </a:lnTo>
                    <a:lnTo>
                      <a:pt x="641" y="460"/>
                    </a:lnTo>
                    <a:lnTo>
                      <a:pt x="614" y="461"/>
                    </a:lnTo>
                    <a:lnTo>
                      <a:pt x="594" y="461"/>
                    </a:lnTo>
                    <a:lnTo>
                      <a:pt x="585" y="461"/>
                    </a:lnTo>
                    <a:lnTo>
                      <a:pt x="551" y="461"/>
                    </a:lnTo>
                    <a:lnTo>
                      <a:pt x="524" y="460"/>
                    </a:lnTo>
                    <a:lnTo>
                      <a:pt x="505" y="458"/>
                    </a:lnTo>
                    <a:lnTo>
                      <a:pt x="489" y="456"/>
                    </a:lnTo>
                    <a:lnTo>
                      <a:pt x="479" y="454"/>
                    </a:lnTo>
                    <a:lnTo>
                      <a:pt x="473" y="451"/>
                    </a:lnTo>
                    <a:lnTo>
                      <a:pt x="471" y="449"/>
                    </a:lnTo>
                    <a:lnTo>
                      <a:pt x="469" y="447"/>
                    </a:lnTo>
                    <a:lnTo>
                      <a:pt x="468" y="446"/>
                    </a:lnTo>
                    <a:lnTo>
                      <a:pt x="468" y="444"/>
                    </a:lnTo>
                    <a:lnTo>
                      <a:pt x="468" y="443"/>
                    </a:lnTo>
                    <a:lnTo>
                      <a:pt x="468" y="441"/>
                    </a:lnTo>
                    <a:lnTo>
                      <a:pt x="469" y="422"/>
                    </a:lnTo>
                    <a:lnTo>
                      <a:pt x="471" y="392"/>
                    </a:lnTo>
                    <a:lnTo>
                      <a:pt x="472" y="358"/>
                    </a:lnTo>
                    <a:lnTo>
                      <a:pt x="475" y="321"/>
                    </a:lnTo>
                    <a:lnTo>
                      <a:pt x="479" y="259"/>
                    </a:lnTo>
                    <a:lnTo>
                      <a:pt x="482" y="212"/>
                    </a:lnTo>
                    <a:lnTo>
                      <a:pt x="485" y="176"/>
                    </a:lnTo>
                    <a:lnTo>
                      <a:pt x="485" y="152"/>
                    </a:lnTo>
                    <a:lnTo>
                      <a:pt x="485" y="137"/>
                    </a:lnTo>
                    <a:lnTo>
                      <a:pt x="483" y="127"/>
                    </a:lnTo>
                    <a:lnTo>
                      <a:pt x="481" y="122"/>
                    </a:lnTo>
                    <a:lnTo>
                      <a:pt x="478" y="120"/>
                    </a:lnTo>
                    <a:lnTo>
                      <a:pt x="472" y="117"/>
                    </a:lnTo>
                    <a:lnTo>
                      <a:pt x="465" y="115"/>
                    </a:lnTo>
                    <a:lnTo>
                      <a:pt x="458" y="115"/>
                    </a:lnTo>
                    <a:lnTo>
                      <a:pt x="449" y="115"/>
                    </a:lnTo>
                    <a:lnTo>
                      <a:pt x="442" y="117"/>
                    </a:lnTo>
                    <a:lnTo>
                      <a:pt x="435" y="118"/>
                    </a:lnTo>
                    <a:lnTo>
                      <a:pt x="429" y="120"/>
                    </a:lnTo>
                    <a:lnTo>
                      <a:pt x="424" y="121"/>
                    </a:lnTo>
                    <a:lnTo>
                      <a:pt x="415" y="124"/>
                    </a:lnTo>
                    <a:lnTo>
                      <a:pt x="415" y="132"/>
                    </a:lnTo>
                    <a:lnTo>
                      <a:pt x="412" y="181"/>
                    </a:lnTo>
                    <a:lnTo>
                      <a:pt x="407" y="278"/>
                    </a:lnTo>
                    <a:lnTo>
                      <a:pt x="401" y="383"/>
                    </a:lnTo>
                    <a:lnTo>
                      <a:pt x="398" y="451"/>
                    </a:lnTo>
                    <a:lnTo>
                      <a:pt x="395" y="454"/>
                    </a:lnTo>
                    <a:lnTo>
                      <a:pt x="390" y="458"/>
                    </a:lnTo>
                    <a:lnTo>
                      <a:pt x="380" y="463"/>
                    </a:lnTo>
                    <a:lnTo>
                      <a:pt x="366" y="468"/>
                    </a:lnTo>
                    <a:lnTo>
                      <a:pt x="347" y="474"/>
                    </a:lnTo>
                    <a:lnTo>
                      <a:pt x="323" y="478"/>
                    </a:lnTo>
                    <a:lnTo>
                      <a:pt x="296" y="484"/>
                    </a:lnTo>
                    <a:lnTo>
                      <a:pt x="262" y="488"/>
                    </a:lnTo>
                    <a:lnTo>
                      <a:pt x="227" y="491"/>
                    </a:lnTo>
                    <a:lnTo>
                      <a:pt x="194" y="494"/>
                    </a:lnTo>
                    <a:lnTo>
                      <a:pt x="164" y="494"/>
                    </a:lnTo>
                    <a:lnTo>
                      <a:pt x="139" y="494"/>
                    </a:lnTo>
                    <a:lnTo>
                      <a:pt x="118" y="491"/>
                    </a:lnTo>
                    <a:lnTo>
                      <a:pt x="100" y="490"/>
                    </a:lnTo>
                    <a:lnTo>
                      <a:pt x="89" y="487"/>
                    </a:lnTo>
                    <a:lnTo>
                      <a:pt x="83" y="483"/>
                    </a:lnTo>
                    <a:lnTo>
                      <a:pt x="82" y="477"/>
                    </a:lnTo>
                    <a:lnTo>
                      <a:pt x="82" y="468"/>
                    </a:lnTo>
                    <a:lnTo>
                      <a:pt x="81" y="458"/>
                    </a:lnTo>
                    <a:lnTo>
                      <a:pt x="81" y="447"/>
                    </a:lnTo>
                    <a:lnTo>
                      <a:pt x="83" y="375"/>
                    </a:lnTo>
                    <a:lnTo>
                      <a:pt x="92" y="291"/>
                    </a:lnTo>
                    <a:lnTo>
                      <a:pt x="100" y="219"/>
                    </a:lnTo>
                    <a:lnTo>
                      <a:pt x="109" y="178"/>
                    </a:lnTo>
                    <a:lnTo>
                      <a:pt x="118" y="175"/>
                    </a:lnTo>
                    <a:lnTo>
                      <a:pt x="130" y="171"/>
                    </a:lnTo>
                    <a:lnTo>
                      <a:pt x="147" y="165"/>
                    </a:lnTo>
                    <a:lnTo>
                      <a:pt x="167" y="161"/>
                    </a:lnTo>
                    <a:lnTo>
                      <a:pt x="191" y="154"/>
                    </a:lnTo>
                    <a:lnTo>
                      <a:pt x="217" y="148"/>
                    </a:lnTo>
                    <a:lnTo>
                      <a:pt x="244" y="141"/>
                    </a:lnTo>
                    <a:lnTo>
                      <a:pt x="272" y="135"/>
                    </a:lnTo>
                    <a:lnTo>
                      <a:pt x="300" y="128"/>
                    </a:lnTo>
                    <a:lnTo>
                      <a:pt x="327" y="122"/>
                    </a:lnTo>
                    <a:lnTo>
                      <a:pt x="353" y="117"/>
                    </a:lnTo>
                    <a:lnTo>
                      <a:pt x="377" y="111"/>
                    </a:lnTo>
                    <a:lnTo>
                      <a:pt x="398" y="107"/>
                    </a:lnTo>
                    <a:lnTo>
                      <a:pt x="415" y="104"/>
                    </a:lnTo>
                    <a:lnTo>
                      <a:pt x="429" y="101"/>
                    </a:lnTo>
                    <a:lnTo>
                      <a:pt x="438" y="100"/>
                    </a:lnTo>
                    <a:lnTo>
                      <a:pt x="444" y="100"/>
                    </a:lnTo>
                    <a:lnTo>
                      <a:pt x="455" y="98"/>
                    </a:lnTo>
                    <a:lnTo>
                      <a:pt x="471" y="98"/>
                    </a:lnTo>
                    <a:lnTo>
                      <a:pt x="490" y="98"/>
                    </a:lnTo>
                    <a:lnTo>
                      <a:pt x="513" y="97"/>
                    </a:lnTo>
                    <a:lnTo>
                      <a:pt x="540" y="97"/>
                    </a:lnTo>
                    <a:lnTo>
                      <a:pt x="568" y="95"/>
                    </a:lnTo>
                    <a:lnTo>
                      <a:pt x="601" y="95"/>
                    </a:lnTo>
                    <a:lnTo>
                      <a:pt x="634" y="95"/>
                    </a:lnTo>
                    <a:lnTo>
                      <a:pt x="668" y="94"/>
                    </a:lnTo>
                    <a:lnTo>
                      <a:pt x="703" y="94"/>
                    </a:lnTo>
                    <a:lnTo>
                      <a:pt x="739" y="94"/>
                    </a:lnTo>
                    <a:lnTo>
                      <a:pt x="774" y="94"/>
                    </a:lnTo>
                    <a:lnTo>
                      <a:pt x="810" y="93"/>
                    </a:lnTo>
                    <a:lnTo>
                      <a:pt x="842" y="93"/>
                    </a:lnTo>
                    <a:lnTo>
                      <a:pt x="875" y="93"/>
                    </a:lnTo>
                    <a:lnTo>
                      <a:pt x="878" y="94"/>
                    </a:lnTo>
                    <a:lnTo>
                      <a:pt x="888" y="98"/>
                    </a:lnTo>
                    <a:lnTo>
                      <a:pt x="902" y="104"/>
                    </a:lnTo>
                    <a:lnTo>
                      <a:pt x="922" y="112"/>
                    </a:lnTo>
                    <a:lnTo>
                      <a:pt x="947" y="122"/>
                    </a:lnTo>
                    <a:lnTo>
                      <a:pt x="975" y="135"/>
                    </a:lnTo>
                    <a:lnTo>
                      <a:pt x="1008" y="149"/>
                    </a:lnTo>
                    <a:lnTo>
                      <a:pt x="1043" y="165"/>
                    </a:lnTo>
                    <a:lnTo>
                      <a:pt x="1083" y="182"/>
                    </a:lnTo>
                    <a:lnTo>
                      <a:pt x="1126" y="199"/>
                    </a:lnTo>
                    <a:lnTo>
                      <a:pt x="1170" y="219"/>
                    </a:lnTo>
                    <a:lnTo>
                      <a:pt x="1216" y="237"/>
                    </a:lnTo>
                    <a:lnTo>
                      <a:pt x="1263" y="259"/>
                    </a:lnTo>
                    <a:lnTo>
                      <a:pt x="1313" y="280"/>
                    </a:lnTo>
                    <a:lnTo>
                      <a:pt x="1363" y="301"/>
                    </a:lnTo>
                    <a:lnTo>
                      <a:pt x="1414" y="322"/>
                    </a:lnTo>
                    <a:lnTo>
                      <a:pt x="1463" y="344"/>
                    </a:lnTo>
                    <a:lnTo>
                      <a:pt x="1513" y="365"/>
                    </a:lnTo>
                    <a:lnTo>
                      <a:pt x="1562" y="386"/>
                    </a:lnTo>
                    <a:lnTo>
                      <a:pt x="1611" y="406"/>
                    </a:lnTo>
                    <a:lnTo>
                      <a:pt x="1658" y="426"/>
                    </a:lnTo>
                    <a:lnTo>
                      <a:pt x="1701" y="444"/>
                    </a:lnTo>
                    <a:lnTo>
                      <a:pt x="1744" y="463"/>
                    </a:lnTo>
                    <a:lnTo>
                      <a:pt x="1784" y="480"/>
                    </a:lnTo>
                    <a:lnTo>
                      <a:pt x="1821" y="495"/>
                    </a:lnTo>
                    <a:lnTo>
                      <a:pt x="1853" y="510"/>
                    </a:lnTo>
                    <a:lnTo>
                      <a:pt x="1882" y="522"/>
                    </a:lnTo>
                    <a:lnTo>
                      <a:pt x="1907" y="532"/>
                    </a:lnTo>
                    <a:lnTo>
                      <a:pt x="1927" y="541"/>
                    </a:lnTo>
                    <a:lnTo>
                      <a:pt x="1943" y="548"/>
                    </a:lnTo>
                    <a:lnTo>
                      <a:pt x="1952" y="552"/>
                    </a:lnTo>
                    <a:lnTo>
                      <a:pt x="1957" y="554"/>
                    </a:lnTo>
                    <a:lnTo>
                      <a:pt x="1960" y="588"/>
                    </a:lnTo>
                    <a:lnTo>
                      <a:pt x="1967" y="650"/>
                    </a:lnTo>
                    <a:lnTo>
                      <a:pt x="1972" y="717"/>
                    </a:lnTo>
                    <a:lnTo>
                      <a:pt x="1977" y="758"/>
                    </a:lnTo>
                    <a:lnTo>
                      <a:pt x="1971" y="756"/>
                    </a:lnTo>
                    <a:lnTo>
                      <a:pt x="1965" y="755"/>
                    </a:lnTo>
                    <a:lnTo>
                      <a:pt x="1961" y="753"/>
                    </a:lnTo>
                    <a:lnTo>
                      <a:pt x="1958" y="752"/>
                    </a:lnTo>
                    <a:lnTo>
                      <a:pt x="1955" y="717"/>
                    </a:lnTo>
                    <a:lnTo>
                      <a:pt x="1948" y="653"/>
                    </a:lnTo>
                    <a:lnTo>
                      <a:pt x="1943" y="590"/>
                    </a:lnTo>
                    <a:lnTo>
                      <a:pt x="1940" y="563"/>
                    </a:lnTo>
                    <a:lnTo>
                      <a:pt x="1831" y="511"/>
                    </a:lnTo>
                    <a:lnTo>
                      <a:pt x="1833" y="541"/>
                    </a:lnTo>
                    <a:lnTo>
                      <a:pt x="1838" y="606"/>
                    </a:lnTo>
                    <a:lnTo>
                      <a:pt x="1843" y="678"/>
                    </a:lnTo>
                    <a:lnTo>
                      <a:pt x="1846" y="724"/>
                    </a:lnTo>
                    <a:lnTo>
                      <a:pt x="1843" y="722"/>
                    </a:lnTo>
                    <a:lnTo>
                      <a:pt x="1840" y="721"/>
                    </a:lnTo>
                    <a:lnTo>
                      <a:pt x="1839" y="721"/>
                    </a:lnTo>
                    <a:lnTo>
                      <a:pt x="1836" y="719"/>
                    </a:lnTo>
                    <a:lnTo>
                      <a:pt x="1832" y="681"/>
                    </a:lnTo>
                    <a:lnTo>
                      <a:pt x="1823" y="607"/>
                    </a:lnTo>
                    <a:lnTo>
                      <a:pt x="1816" y="537"/>
                    </a:lnTo>
                    <a:lnTo>
                      <a:pt x="1812" y="505"/>
                    </a:lnTo>
                    <a:lnTo>
                      <a:pt x="1701" y="453"/>
                    </a:lnTo>
                    <a:lnTo>
                      <a:pt x="1703" y="484"/>
                    </a:lnTo>
                    <a:lnTo>
                      <a:pt x="1707" y="556"/>
                    </a:lnTo>
                    <a:lnTo>
                      <a:pt x="1710" y="633"/>
                    </a:lnTo>
                    <a:lnTo>
                      <a:pt x="1713" y="681"/>
                    </a:lnTo>
                    <a:lnTo>
                      <a:pt x="1707" y="680"/>
                    </a:lnTo>
                    <a:lnTo>
                      <a:pt x="1703" y="678"/>
                    </a:lnTo>
                    <a:lnTo>
                      <a:pt x="1699" y="677"/>
                    </a:lnTo>
                    <a:lnTo>
                      <a:pt x="1694" y="675"/>
                    </a:lnTo>
                    <a:lnTo>
                      <a:pt x="1690" y="633"/>
                    </a:lnTo>
                    <a:lnTo>
                      <a:pt x="1682" y="554"/>
                    </a:lnTo>
                    <a:lnTo>
                      <a:pt x="1675" y="477"/>
                    </a:lnTo>
                    <a:lnTo>
                      <a:pt x="1670" y="443"/>
                    </a:lnTo>
                    <a:lnTo>
                      <a:pt x="1533" y="382"/>
                    </a:lnTo>
                    <a:lnTo>
                      <a:pt x="1534" y="417"/>
                    </a:lnTo>
                    <a:lnTo>
                      <a:pt x="1537" y="495"/>
                    </a:lnTo>
                    <a:lnTo>
                      <a:pt x="1540" y="579"/>
                    </a:lnTo>
                    <a:lnTo>
                      <a:pt x="1543" y="630"/>
                    </a:lnTo>
                    <a:lnTo>
                      <a:pt x="1540" y="629"/>
                    </a:lnTo>
                    <a:lnTo>
                      <a:pt x="1538" y="629"/>
                    </a:lnTo>
                    <a:lnTo>
                      <a:pt x="1536" y="629"/>
                    </a:lnTo>
                    <a:lnTo>
                      <a:pt x="1534" y="627"/>
                    </a:lnTo>
                    <a:lnTo>
                      <a:pt x="1530" y="582"/>
                    </a:lnTo>
                    <a:lnTo>
                      <a:pt x="1520" y="495"/>
                    </a:lnTo>
                    <a:lnTo>
                      <a:pt x="1511" y="412"/>
                    </a:lnTo>
                    <a:lnTo>
                      <a:pt x="1507" y="375"/>
                    </a:lnTo>
                    <a:lnTo>
                      <a:pt x="1341" y="304"/>
                    </a:lnTo>
                    <a:lnTo>
                      <a:pt x="1343" y="341"/>
                    </a:lnTo>
                    <a:lnTo>
                      <a:pt x="1346" y="423"/>
                    </a:lnTo>
                    <a:lnTo>
                      <a:pt x="1347" y="512"/>
                    </a:lnTo>
                    <a:lnTo>
                      <a:pt x="1348" y="568"/>
                    </a:lnTo>
                    <a:lnTo>
                      <a:pt x="1346" y="566"/>
                    </a:lnTo>
                    <a:lnTo>
                      <a:pt x="1344" y="565"/>
                    </a:lnTo>
                    <a:lnTo>
                      <a:pt x="1341" y="565"/>
                    </a:lnTo>
                    <a:lnTo>
                      <a:pt x="1340" y="563"/>
                    </a:lnTo>
                    <a:lnTo>
                      <a:pt x="1334" y="515"/>
                    </a:lnTo>
                    <a:lnTo>
                      <a:pt x="1323" y="422"/>
                    </a:lnTo>
                    <a:lnTo>
                      <a:pt x="1312" y="331"/>
                    </a:lnTo>
                    <a:lnTo>
                      <a:pt x="1306" y="290"/>
                    </a:lnTo>
                    <a:lnTo>
                      <a:pt x="1131" y="216"/>
                    </a:lnTo>
                    <a:lnTo>
                      <a:pt x="1133" y="257"/>
                    </a:lnTo>
                    <a:lnTo>
                      <a:pt x="1134" y="349"/>
                    </a:lnTo>
                    <a:lnTo>
                      <a:pt x="1137" y="446"/>
                    </a:lnTo>
                    <a:lnTo>
                      <a:pt x="1139" y="501"/>
                    </a:lnTo>
                    <a:lnTo>
                      <a:pt x="1137" y="500"/>
                    </a:lnTo>
                    <a:lnTo>
                      <a:pt x="1136" y="500"/>
                    </a:lnTo>
                    <a:lnTo>
                      <a:pt x="1134" y="500"/>
                    </a:lnTo>
                    <a:lnTo>
                      <a:pt x="1133" y="500"/>
                    </a:lnTo>
                    <a:lnTo>
                      <a:pt x="1126" y="447"/>
                    </a:lnTo>
                    <a:lnTo>
                      <a:pt x="1112" y="348"/>
                    </a:lnTo>
                    <a:lnTo>
                      <a:pt x="1097" y="251"/>
                    </a:lnTo>
                    <a:lnTo>
                      <a:pt x="1092" y="207"/>
                    </a:lnTo>
                    <a:lnTo>
                      <a:pt x="1086" y="205"/>
                    </a:lnTo>
                    <a:lnTo>
                      <a:pt x="1038" y="183"/>
                    </a:lnTo>
                    <a:lnTo>
                      <a:pt x="1001" y="169"/>
                    </a:lnTo>
                    <a:lnTo>
                      <a:pt x="974" y="159"/>
                    </a:lnTo>
                    <a:lnTo>
                      <a:pt x="956" y="155"/>
                    </a:lnTo>
                    <a:lnTo>
                      <a:pt x="943" y="152"/>
                    </a:lnTo>
                    <a:lnTo>
                      <a:pt x="934" y="152"/>
                    </a:lnTo>
                    <a:lnTo>
                      <a:pt x="930" y="154"/>
                    </a:lnTo>
                    <a:lnTo>
                      <a:pt x="927" y="156"/>
                    </a:lnTo>
                    <a:lnTo>
                      <a:pt x="922" y="176"/>
                    </a:lnTo>
                    <a:lnTo>
                      <a:pt x="920" y="216"/>
                    </a:lnTo>
                    <a:lnTo>
                      <a:pt x="923" y="268"/>
                    </a:lnTo>
                    <a:lnTo>
                      <a:pt x="927" y="327"/>
                    </a:lnTo>
                    <a:lnTo>
                      <a:pt x="933" y="386"/>
                    </a:lnTo>
                    <a:lnTo>
                      <a:pt x="939" y="439"/>
                    </a:lnTo>
                    <a:lnTo>
                      <a:pt x="944" y="477"/>
                    </a:lnTo>
                    <a:lnTo>
                      <a:pt x="950" y="495"/>
                    </a:lnTo>
                    <a:lnTo>
                      <a:pt x="951" y="497"/>
                    </a:lnTo>
                    <a:lnTo>
                      <a:pt x="953" y="498"/>
                    </a:lnTo>
                    <a:lnTo>
                      <a:pt x="956" y="500"/>
                    </a:lnTo>
                    <a:lnTo>
                      <a:pt x="961" y="504"/>
                    </a:lnTo>
                    <a:lnTo>
                      <a:pt x="970" y="507"/>
                    </a:lnTo>
                    <a:lnTo>
                      <a:pt x="983" y="512"/>
                    </a:lnTo>
                    <a:lnTo>
                      <a:pt x="1001" y="519"/>
                    </a:lnTo>
                    <a:lnTo>
                      <a:pt x="1024" y="527"/>
                    </a:lnTo>
                    <a:lnTo>
                      <a:pt x="1053" y="538"/>
                    </a:lnTo>
                    <a:lnTo>
                      <a:pt x="1089" y="549"/>
                    </a:lnTo>
                    <a:lnTo>
                      <a:pt x="1133" y="563"/>
                    </a:lnTo>
                    <a:lnTo>
                      <a:pt x="1187" y="580"/>
                    </a:lnTo>
                    <a:lnTo>
                      <a:pt x="1248" y="600"/>
                    </a:lnTo>
                    <a:lnTo>
                      <a:pt x="1320" y="623"/>
                    </a:lnTo>
                    <a:lnTo>
                      <a:pt x="1402" y="649"/>
                    </a:lnTo>
                    <a:lnTo>
                      <a:pt x="1497" y="678"/>
                    </a:lnTo>
                    <a:lnTo>
                      <a:pt x="1545" y="693"/>
                    </a:lnTo>
                    <a:lnTo>
                      <a:pt x="1595" y="708"/>
                    </a:lnTo>
                    <a:lnTo>
                      <a:pt x="1643" y="722"/>
                    </a:lnTo>
                    <a:lnTo>
                      <a:pt x="1693" y="736"/>
                    </a:lnTo>
                    <a:lnTo>
                      <a:pt x="1741" y="751"/>
                    </a:lnTo>
                    <a:lnTo>
                      <a:pt x="1788" y="765"/>
                    </a:lnTo>
                    <a:lnTo>
                      <a:pt x="1833" y="778"/>
                    </a:lnTo>
                    <a:lnTo>
                      <a:pt x="1877" y="790"/>
                    </a:lnTo>
                    <a:lnTo>
                      <a:pt x="1920" y="803"/>
                    </a:lnTo>
                    <a:lnTo>
                      <a:pt x="1958" y="813"/>
                    </a:lnTo>
                    <a:lnTo>
                      <a:pt x="1994" y="823"/>
                    </a:lnTo>
                    <a:lnTo>
                      <a:pt x="2026" y="831"/>
                    </a:lnTo>
                    <a:lnTo>
                      <a:pt x="2053" y="840"/>
                    </a:lnTo>
                    <a:lnTo>
                      <a:pt x="2077" y="846"/>
                    </a:lnTo>
                    <a:lnTo>
                      <a:pt x="2096" y="850"/>
                    </a:lnTo>
                    <a:lnTo>
                      <a:pt x="2108" y="853"/>
                    </a:lnTo>
                    <a:lnTo>
                      <a:pt x="2125" y="851"/>
                    </a:lnTo>
                    <a:lnTo>
                      <a:pt x="2131" y="834"/>
                    </a:lnTo>
                    <a:lnTo>
                      <a:pt x="2131" y="800"/>
                    </a:lnTo>
                    <a:lnTo>
                      <a:pt x="2125" y="758"/>
                    </a:lnTo>
                    <a:lnTo>
                      <a:pt x="2118" y="708"/>
                    </a:lnTo>
                    <a:lnTo>
                      <a:pt x="2108" y="661"/>
                    </a:lnTo>
                    <a:lnTo>
                      <a:pt x="2099" y="620"/>
                    </a:lnTo>
                    <a:lnTo>
                      <a:pt x="2091" y="590"/>
                    </a:lnTo>
                    <a:lnTo>
                      <a:pt x="2089" y="579"/>
                    </a:lnTo>
                    <a:lnTo>
                      <a:pt x="2083" y="565"/>
                    </a:lnTo>
                    <a:lnTo>
                      <a:pt x="2074" y="552"/>
                    </a:lnTo>
                    <a:lnTo>
                      <a:pt x="2064" y="541"/>
                    </a:lnTo>
                    <a:lnTo>
                      <a:pt x="2055" y="531"/>
                    </a:lnTo>
                    <a:lnTo>
                      <a:pt x="2043" y="524"/>
                    </a:lnTo>
                    <a:lnTo>
                      <a:pt x="2035" y="518"/>
                    </a:lnTo>
                    <a:lnTo>
                      <a:pt x="2028" y="515"/>
                    </a:lnTo>
                    <a:lnTo>
                      <a:pt x="2025" y="514"/>
                    </a:lnTo>
                    <a:lnTo>
                      <a:pt x="2022" y="512"/>
                    </a:lnTo>
                    <a:lnTo>
                      <a:pt x="2012" y="508"/>
                    </a:lnTo>
                    <a:lnTo>
                      <a:pt x="1996" y="501"/>
                    </a:lnTo>
                    <a:lnTo>
                      <a:pt x="1977" y="493"/>
                    </a:lnTo>
                    <a:lnTo>
                      <a:pt x="1950" y="481"/>
                    </a:lnTo>
                    <a:lnTo>
                      <a:pt x="1920" y="468"/>
                    </a:lnTo>
                    <a:lnTo>
                      <a:pt x="1886" y="454"/>
                    </a:lnTo>
                    <a:lnTo>
                      <a:pt x="1848" y="437"/>
                    </a:lnTo>
                    <a:lnTo>
                      <a:pt x="1806" y="419"/>
                    </a:lnTo>
                    <a:lnTo>
                      <a:pt x="1761" y="400"/>
                    </a:lnTo>
                    <a:lnTo>
                      <a:pt x="1714" y="379"/>
                    </a:lnTo>
                    <a:lnTo>
                      <a:pt x="1666" y="359"/>
                    </a:lnTo>
                    <a:lnTo>
                      <a:pt x="1615" y="337"/>
                    </a:lnTo>
                    <a:lnTo>
                      <a:pt x="1562" y="314"/>
                    </a:lnTo>
                    <a:lnTo>
                      <a:pt x="1510" y="291"/>
                    </a:lnTo>
                    <a:lnTo>
                      <a:pt x="1458" y="268"/>
                    </a:lnTo>
                    <a:lnTo>
                      <a:pt x="1404" y="246"/>
                    </a:lnTo>
                    <a:lnTo>
                      <a:pt x="1351" y="223"/>
                    </a:lnTo>
                    <a:lnTo>
                      <a:pt x="1299" y="200"/>
                    </a:lnTo>
                    <a:lnTo>
                      <a:pt x="1248" y="178"/>
                    </a:lnTo>
                    <a:lnTo>
                      <a:pt x="1199" y="158"/>
                    </a:lnTo>
                    <a:lnTo>
                      <a:pt x="1153" y="137"/>
                    </a:lnTo>
                    <a:lnTo>
                      <a:pt x="1107" y="118"/>
                    </a:lnTo>
                    <a:lnTo>
                      <a:pt x="1066" y="100"/>
                    </a:lnTo>
                    <a:lnTo>
                      <a:pt x="1028" y="83"/>
                    </a:lnTo>
                    <a:lnTo>
                      <a:pt x="994" y="68"/>
                    </a:lnTo>
                    <a:lnTo>
                      <a:pt x="964" y="56"/>
                    </a:lnTo>
                    <a:lnTo>
                      <a:pt x="937" y="44"/>
                    </a:lnTo>
                    <a:lnTo>
                      <a:pt x="917" y="36"/>
                    </a:lnTo>
                    <a:lnTo>
                      <a:pt x="902" y="29"/>
                    </a:lnTo>
                    <a:lnTo>
                      <a:pt x="892" y="25"/>
                    </a:lnTo>
                    <a:lnTo>
                      <a:pt x="889" y="23"/>
                    </a:lnTo>
                    <a:lnTo>
                      <a:pt x="866" y="16"/>
                    </a:lnTo>
                    <a:lnTo>
                      <a:pt x="841" y="12"/>
                    </a:lnTo>
                    <a:lnTo>
                      <a:pt x="810" y="8"/>
                    </a:lnTo>
                    <a:lnTo>
                      <a:pt x="775" y="3"/>
                    </a:lnTo>
                    <a:lnTo>
                      <a:pt x="737" y="2"/>
                    </a:lnTo>
                    <a:lnTo>
                      <a:pt x="697" y="0"/>
                    </a:lnTo>
                    <a:lnTo>
                      <a:pt x="656" y="0"/>
                    </a:lnTo>
                    <a:lnTo>
                      <a:pt x="614" y="2"/>
                    </a:lnTo>
                    <a:lnTo>
                      <a:pt x="570" y="3"/>
                    </a:lnTo>
                    <a:lnTo>
                      <a:pt x="526" y="6"/>
                    </a:lnTo>
                    <a:lnTo>
                      <a:pt x="482" y="9"/>
                    </a:lnTo>
                    <a:lnTo>
                      <a:pt x="438" y="13"/>
                    </a:lnTo>
                    <a:lnTo>
                      <a:pt x="397" y="17"/>
                    </a:lnTo>
                    <a:lnTo>
                      <a:pt x="357" y="23"/>
                    </a:lnTo>
                    <a:lnTo>
                      <a:pt x="319" y="29"/>
                    </a:lnTo>
                    <a:lnTo>
                      <a:pt x="28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-1807200" y="502920"/>
                <a:ext cx="14760" cy="37080"/>
              </a:xfrm>
              <a:custGeom>
                <a:avLst/>
                <a:gdLst/>
                <a:ahLst/>
                <a:rect l="l" t="t" r="r" b="b"/>
                <a:pathLst>
                  <a:path w="30" h="152">
                    <a:moveTo>
                      <a:pt x="30" y="75"/>
                    </a:moveTo>
                    <a:lnTo>
                      <a:pt x="29" y="105"/>
                    </a:lnTo>
                    <a:lnTo>
                      <a:pt x="26" y="129"/>
                    </a:lnTo>
                    <a:lnTo>
                      <a:pt x="20" y="146"/>
                    </a:lnTo>
                    <a:lnTo>
                      <a:pt x="15" y="152"/>
                    </a:lnTo>
                    <a:lnTo>
                      <a:pt x="9" y="146"/>
                    </a:lnTo>
                    <a:lnTo>
                      <a:pt x="5" y="129"/>
                    </a:lnTo>
                    <a:lnTo>
                      <a:pt x="2" y="105"/>
                    </a:lnTo>
                    <a:lnTo>
                      <a:pt x="0" y="75"/>
                    </a:lnTo>
                    <a:lnTo>
                      <a:pt x="2" y="45"/>
                    </a:lnTo>
                    <a:lnTo>
                      <a:pt x="5" y="23"/>
                    </a:lnTo>
                    <a:lnTo>
                      <a:pt x="9" y="6"/>
                    </a:lnTo>
                    <a:lnTo>
                      <a:pt x="15" y="0"/>
                    </a:lnTo>
                    <a:lnTo>
                      <a:pt x="20" y="6"/>
                    </a:lnTo>
                    <a:lnTo>
                      <a:pt x="26" y="23"/>
                    </a:lnTo>
                    <a:lnTo>
                      <a:pt x="29" y="45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-1496520" y="496800"/>
                <a:ext cx="10080" cy="2412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20" y="49"/>
                    </a:moveTo>
                    <a:lnTo>
                      <a:pt x="18" y="68"/>
                    </a:lnTo>
                    <a:lnTo>
                      <a:pt x="17" y="83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93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49"/>
                    </a:lnTo>
                    <a:lnTo>
                      <a:pt x="1" y="30"/>
                    </a:lnTo>
                    <a:lnTo>
                      <a:pt x="3" y="1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7" y="14"/>
                    </a:lnTo>
                    <a:lnTo>
                      <a:pt x="18" y="30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-1947240" y="344160"/>
                <a:ext cx="10800" cy="75240"/>
              </a:xfrm>
              <a:custGeom>
                <a:avLst/>
                <a:gdLst/>
                <a:ahLst/>
                <a:rect l="l" t="t" r="r" b="b"/>
                <a:pathLst>
                  <a:path w="22" h="304">
                    <a:moveTo>
                      <a:pt x="5" y="0"/>
                    </a:moveTo>
                    <a:lnTo>
                      <a:pt x="22" y="0"/>
                    </a:lnTo>
                    <a:lnTo>
                      <a:pt x="13" y="304"/>
                    </a:lnTo>
                    <a:lnTo>
                      <a:pt x="0" y="30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-1928160" y="344880"/>
                <a:ext cx="10800" cy="75240"/>
              </a:xfrm>
              <a:custGeom>
                <a:avLst/>
                <a:gdLst/>
                <a:ahLst/>
                <a:rect l="l" t="t" r="r" b="b"/>
                <a:pathLst>
                  <a:path w="21" h="305">
                    <a:moveTo>
                      <a:pt x="4" y="0"/>
                    </a:moveTo>
                    <a:lnTo>
                      <a:pt x="21" y="0"/>
                    </a:lnTo>
                    <a:lnTo>
                      <a:pt x="12" y="305"/>
                    </a:lnTo>
                    <a:lnTo>
                      <a:pt x="0" y="30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-1947240" y="443520"/>
                <a:ext cx="10800" cy="74880"/>
              </a:xfrm>
              <a:custGeom>
                <a:avLst/>
                <a:gdLst/>
                <a:ahLst/>
                <a:rect l="l" t="t" r="r" b="b"/>
                <a:pathLst>
                  <a:path w="22" h="307">
                    <a:moveTo>
                      <a:pt x="5" y="0"/>
                    </a:moveTo>
                    <a:lnTo>
                      <a:pt x="22" y="0"/>
                    </a:lnTo>
                    <a:lnTo>
                      <a:pt x="13" y="307"/>
                    </a:lnTo>
                    <a:lnTo>
                      <a:pt x="0" y="30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-1928160" y="441000"/>
                <a:ext cx="10800" cy="75600"/>
              </a:xfrm>
              <a:custGeom>
                <a:avLst/>
                <a:gdLst/>
                <a:ahLst/>
                <a:rect l="l" t="t" r="r" b="b"/>
                <a:pathLst>
                  <a:path w="21" h="306">
                    <a:moveTo>
                      <a:pt x="4" y="0"/>
                    </a:moveTo>
                    <a:lnTo>
                      <a:pt x="21" y="0"/>
                    </a:lnTo>
                    <a:lnTo>
                      <a:pt x="12" y="306"/>
                    </a:lnTo>
                    <a:lnTo>
                      <a:pt x="0" y="30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-1640880" y="372600"/>
                <a:ext cx="6840" cy="5724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-1627560" y="373680"/>
                <a:ext cx="6840" cy="579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-1640880" y="448920"/>
                <a:ext cx="6840" cy="5724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-1627560" y="446760"/>
                <a:ext cx="6840" cy="579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-2091600" y="484200"/>
                <a:ext cx="37440" cy="1836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74" y="39"/>
                    </a:moveTo>
                    <a:lnTo>
                      <a:pt x="71" y="54"/>
                    </a:lnTo>
                    <a:lnTo>
                      <a:pt x="62" y="65"/>
                    </a:lnTo>
                    <a:lnTo>
                      <a:pt x="51" y="74"/>
                    </a:lnTo>
                    <a:lnTo>
                      <a:pt x="37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7" y="0"/>
                    </a:lnTo>
                    <a:lnTo>
                      <a:pt x="51" y="3"/>
                    </a:lnTo>
                    <a:lnTo>
                      <a:pt x="62" y="12"/>
                    </a:lnTo>
                    <a:lnTo>
                      <a:pt x="71" y="23"/>
                    </a:lnTo>
                    <a:lnTo>
                      <a:pt x="7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-2043360" y="484200"/>
                <a:ext cx="38160" cy="1836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5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-2414520" y="4809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2365920" y="480960"/>
                <a:ext cx="38880" cy="1908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6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-2070360" y="511200"/>
                <a:ext cx="16200" cy="38520"/>
              </a:xfrm>
              <a:custGeom>
                <a:avLst/>
                <a:gdLst/>
                <a:ahLst/>
                <a:rect l="l" t="t" r="r" b="b"/>
                <a:pathLst>
                  <a:path w="33" h="159">
                    <a:moveTo>
                      <a:pt x="33" y="4"/>
                    </a:moveTo>
                    <a:lnTo>
                      <a:pt x="33" y="159"/>
                    </a:lnTo>
                    <a:lnTo>
                      <a:pt x="0" y="154"/>
                    </a:lnTo>
                    <a:lnTo>
                      <a:pt x="0" y="0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-2177640" y="352440"/>
                <a:ext cx="174600" cy="74880"/>
              </a:xfrm>
              <a:custGeom>
                <a:avLst/>
                <a:gdLst/>
                <a:ahLst/>
                <a:rect l="l" t="t" r="r" b="b"/>
                <a:pathLst>
                  <a:path w="346" h="306">
                    <a:moveTo>
                      <a:pt x="303" y="0"/>
                    </a:moveTo>
                    <a:lnTo>
                      <a:pt x="303" y="29"/>
                    </a:lnTo>
                    <a:lnTo>
                      <a:pt x="303" y="99"/>
                    </a:lnTo>
                    <a:lnTo>
                      <a:pt x="299" y="173"/>
                    </a:lnTo>
                    <a:lnTo>
                      <a:pt x="291" y="219"/>
                    </a:lnTo>
                    <a:lnTo>
                      <a:pt x="285" y="225"/>
                    </a:lnTo>
                    <a:lnTo>
                      <a:pt x="274" y="229"/>
                    </a:lnTo>
                    <a:lnTo>
                      <a:pt x="258" y="234"/>
                    </a:lnTo>
                    <a:lnTo>
                      <a:pt x="238" y="238"/>
                    </a:lnTo>
                    <a:lnTo>
                      <a:pt x="215" y="241"/>
                    </a:lnTo>
                    <a:lnTo>
                      <a:pt x="191" y="244"/>
                    </a:lnTo>
                    <a:lnTo>
                      <a:pt x="166" y="245"/>
                    </a:lnTo>
                    <a:lnTo>
                      <a:pt x="139" y="248"/>
                    </a:lnTo>
                    <a:lnTo>
                      <a:pt x="113" y="249"/>
                    </a:lnTo>
                    <a:lnTo>
                      <a:pt x="88" y="251"/>
                    </a:lnTo>
                    <a:lnTo>
                      <a:pt x="64" y="252"/>
                    </a:lnTo>
                    <a:lnTo>
                      <a:pt x="42" y="252"/>
                    </a:lnTo>
                    <a:lnTo>
                      <a:pt x="25" y="253"/>
                    </a:lnTo>
                    <a:lnTo>
                      <a:pt x="11" y="253"/>
                    </a:lnTo>
                    <a:lnTo>
                      <a:pt x="3" y="253"/>
                    </a:lnTo>
                    <a:lnTo>
                      <a:pt x="0" y="253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69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2" y="306"/>
                    </a:lnTo>
                    <a:lnTo>
                      <a:pt x="181" y="306"/>
                    </a:lnTo>
                    <a:lnTo>
                      <a:pt x="210" y="306"/>
                    </a:lnTo>
                    <a:lnTo>
                      <a:pt x="237" y="306"/>
                    </a:lnTo>
                    <a:lnTo>
                      <a:pt x="261" y="305"/>
                    </a:lnTo>
                    <a:lnTo>
                      <a:pt x="283" y="303"/>
                    </a:lnTo>
                    <a:lnTo>
                      <a:pt x="300" y="302"/>
                    </a:lnTo>
                    <a:lnTo>
                      <a:pt x="313" y="299"/>
                    </a:lnTo>
                    <a:lnTo>
                      <a:pt x="320" y="296"/>
                    </a:lnTo>
                    <a:lnTo>
                      <a:pt x="333" y="244"/>
                    </a:lnTo>
                    <a:lnTo>
                      <a:pt x="342" y="146"/>
                    </a:lnTo>
                    <a:lnTo>
                      <a:pt x="344" y="51"/>
                    </a:lnTo>
                    <a:lnTo>
                      <a:pt x="346" y="8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2179080" y="141480"/>
                <a:ext cx="139680" cy="73800"/>
              </a:xfrm>
              <a:custGeom>
                <a:avLst/>
                <a:gdLst/>
                <a:ahLst/>
                <a:rect l="l" t="t" r="r" b="b"/>
                <a:pathLst>
                  <a:path w="278" h="301">
                    <a:moveTo>
                      <a:pt x="278" y="0"/>
                    </a:moveTo>
                    <a:lnTo>
                      <a:pt x="211" y="43"/>
                    </a:lnTo>
                    <a:lnTo>
                      <a:pt x="211" y="68"/>
                    </a:lnTo>
                    <a:lnTo>
                      <a:pt x="208" y="126"/>
                    </a:lnTo>
                    <a:lnTo>
                      <a:pt x="200" y="189"/>
                    </a:lnTo>
                    <a:lnTo>
                      <a:pt x="183" y="228"/>
                    </a:lnTo>
                    <a:lnTo>
                      <a:pt x="167" y="237"/>
                    </a:lnTo>
                    <a:lnTo>
                      <a:pt x="144" y="244"/>
                    </a:lnTo>
                    <a:lnTo>
                      <a:pt x="119" y="250"/>
                    </a:lnTo>
                    <a:lnTo>
                      <a:pt x="90" y="253"/>
                    </a:lnTo>
                    <a:lnTo>
                      <a:pt x="65" y="255"/>
                    </a:lnTo>
                    <a:lnTo>
                      <a:pt x="42" y="257"/>
                    </a:lnTo>
                    <a:lnTo>
                      <a:pt x="27" y="258"/>
                    </a:lnTo>
                    <a:lnTo>
                      <a:pt x="21" y="258"/>
                    </a:lnTo>
                    <a:lnTo>
                      <a:pt x="0" y="301"/>
                    </a:lnTo>
                    <a:lnTo>
                      <a:pt x="8" y="301"/>
                    </a:lnTo>
                    <a:lnTo>
                      <a:pt x="29" y="299"/>
                    </a:lnTo>
                    <a:lnTo>
                      <a:pt x="61" y="297"/>
                    </a:lnTo>
                    <a:lnTo>
                      <a:pt x="97" y="294"/>
                    </a:lnTo>
                    <a:lnTo>
                      <a:pt x="137" y="291"/>
                    </a:lnTo>
                    <a:lnTo>
                      <a:pt x="173" y="288"/>
                    </a:lnTo>
                    <a:lnTo>
                      <a:pt x="204" y="285"/>
                    </a:lnTo>
                    <a:lnTo>
                      <a:pt x="224" y="284"/>
                    </a:lnTo>
                    <a:lnTo>
                      <a:pt x="236" y="280"/>
                    </a:lnTo>
                    <a:lnTo>
                      <a:pt x="246" y="271"/>
                    </a:lnTo>
                    <a:lnTo>
                      <a:pt x="255" y="257"/>
                    </a:lnTo>
                    <a:lnTo>
                      <a:pt x="262" y="241"/>
                    </a:lnTo>
                    <a:lnTo>
                      <a:pt x="266" y="221"/>
                    </a:lnTo>
                    <a:lnTo>
                      <a:pt x="269" y="200"/>
                    </a:lnTo>
                    <a:lnTo>
                      <a:pt x="272" y="176"/>
                    </a:lnTo>
                    <a:lnTo>
                      <a:pt x="273" y="152"/>
                    </a:lnTo>
                    <a:lnTo>
                      <a:pt x="276" y="91"/>
                    </a:lnTo>
                    <a:lnTo>
                      <a:pt x="278" y="43"/>
                    </a:lnTo>
                    <a:lnTo>
                      <a:pt x="278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-2373120" y="153000"/>
                <a:ext cx="117720" cy="68040"/>
              </a:xfrm>
              <a:custGeom>
                <a:avLst/>
                <a:gdLst/>
                <a:ahLst/>
                <a:rect l="l" t="t" r="r" b="b"/>
                <a:pathLst>
                  <a:path w="234" h="278">
                    <a:moveTo>
                      <a:pt x="234" y="0"/>
                    </a:moveTo>
                    <a:lnTo>
                      <a:pt x="178" y="38"/>
                    </a:lnTo>
                    <a:lnTo>
                      <a:pt x="178" y="62"/>
                    </a:lnTo>
                    <a:lnTo>
                      <a:pt x="175" y="116"/>
                    </a:lnTo>
                    <a:lnTo>
                      <a:pt x="166" y="174"/>
                    </a:lnTo>
                    <a:lnTo>
                      <a:pt x="152" y="211"/>
                    </a:lnTo>
                    <a:lnTo>
                      <a:pt x="139" y="220"/>
                    </a:lnTo>
                    <a:lnTo>
                      <a:pt x="121" y="225"/>
                    </a:lnTo>
                    <a:lnTo>
                      <a:pt x="100" y="230"/>
                    </a:lnTo>
                    <a:lnTo>
                      <a:pt x="77" y="234"/>
                    </a:lnTo>
                    <a:lnTo>
                      <a:pt x="54" y="235"/>
                    </a:lnTo>
                    <a:lnTo>
                      <a:pt x="36" y="237"/>
                    </a:lnTo>
                    <a:lnTo>
                      <a:pt x="23" y="238"/>
                    </a:lnTo>
                    <a:lnTo>
                      <a:pt x="19" y="238"/>
                    </a:lnTo>
                    <a:lnTo>
                      <a:pt x="0" y="278"/>
                    </a:lnTo>
                    <a:lnTo>
                      <a:pt x="7" y="278"/>
                    </a:lnTo>
                    <a:lnTo>
                      <a:pt x="26" y="276"/>
                    </a:lnTo>
                    <a:lnTo>
                      <a:pt x="51" y="273"/>
                    </a:lnTo>
                    <a:lnTo>
                      <a:pt x="83" y="272"/>
                    </a:lnTo>
                    <a:lnTo>
                      <a:pt x="115" y="269"/>
                    </a:lnTo>
                    <a:lnTo>
                      <a:pt x="145" y="266"/>
                    </a:lnTo>
                    <a:lnTo>
                      <a:pt x="170" y="264"/>
                    </a:lnTo>
                    <a:lnTo>
                      <a:pt x="187" y="262"/>
                    </a:lnTo>
                    <a:lnTo>
                      <a:pt x="199" y="258"/>
                    </a:lnTo>
                    <a:lnTo>
                      <a:pt x="207" y="249"/>
                    </a:lnTo>
                    <a:lnTo>
                      <a:pt x="214" y="238"/>
                    </a:lnTo>
                    <a:lnTo>
                      <a:pt x="220" y="222"/>
                    </a:lnTo>
                    <a:lnTo>
                      <a:pt x="224" y="204"/>
                    </a:lnTo>
                    <a:lnTo>
                      <a:pt x="227" y="184"/>
                    </a:lnTo>
                    <a:lnTo>
                      <a:pt x="229" y="163"/>
                    </a:lnTo>
                    <a:lnTo>
                      <a:pt x="230" y="140"/>
                    </a:lnTo>
                    <a:lnTo>
                      <a:pt x="233" y="83"/>
                    </a:lnTo>
                    <a:lnTo>
                      <a:pt x="234" y="39"/>
                    </a:lnTo>
                    <a:lnTo>
                      <a:pt x="234" y="1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-2173680" y="336600"/>
                <a:ext cx="102960" cy="60840"/>
              </a:xfrm>
              <a:custGeom>
                <a:avLst/>
                <a:gdLst/>
                <a:ahLst/>
                <a:rect l="l" t="t" r="r" b="b"/>
                <a:pathLst>
                  <a:path w="203" h="247">
                    <a:moveTo>
                      <a:pt x="203" y="0"/>
                    </a:moveTo>
                    <a:lnTo>
                      <a:pt x="13" y="4"/>
                    </a:lnTo>
                    <a:lnTo>
                      <a:pt x="0" y="247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-2126160" y="344880"/>
                <a:ext cx="90720" cy="46080"/>
              </a:xfrm>
              <a:custGeom>
                <a:avLst/>
                <a:gdLst/>
                <a:ahLst/>
                <a:rect l="l" t="t" r="r" b="b"/>
                <a:pathLst>
                  <a:path w="180" h="187">
                    <a:moveTo>
                      <a:pt x="146" y="0"/>
                    </a:moveTo>
                    <a:lnTo>
                      <a:pt x="0" y="187"/>
                    </a:lnTo>
                    <a:lnTo>
                      <a:pt x="180" y="4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-2177640" y="137880"/>
                <a:ext cx="55440" cy="5796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110" y="0"/>
                    </a:moveTo>
                    <a:lnTo>
                      <a:pt x="0" y="19"/>
                    </a:lnTo>
                    <a:lnTo>
                      <a:pt x="7" y="23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-2140200" y="151920"/>
                <a:ext cx="66240" cy="3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109" y="0"/>
                    </a:moveTo>
                    <a:lnTo>
                      <a:pt x="0" y="159"/>
                    </a:lnTo>
                    <a:lnTo>
                      <a:pt x="132" y="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-2373120" y="146520"/>
                <a:ext cx="65520" cy="56880"/>
              </a:xfrm>
              <a:custGeom>
                <a:avLst/>
                <a:gdLst/>
                <a:ahLst/>
                <a:rect l="l" t="t" r="r" b="b"/>
                <a:pathLst>
                  <a:path w="129" h="232">
                    <a:moveTo>
                      <a:pt x="129" y="0"/>
                    </a:moveTo>
                    <a:lnTo>
                      <a:pt x="8" y="27"/>
                    </a:lnTo>
                    <a:lnTo>
                      <a:pt x="0" y="23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-2338560" y="159120"/>
                <a:ext cx="67320" cy="3816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109" y="0"/>
                    </a:moveTo>
                    <a:lnTo>
                      <a:pt x="0" y="158"/>
                    </a:lnTo>
                    <a:lnTo>
                      <a:pt x="133" y="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-2376000" y="341640"/>
                <a:ext cx="92520" cy="48960"/>
              </a:xfrm>
              <a:custGeom>
                <a:avLst/>
                <a:gdLst/>
                <a:ahLst/>
                <a:rect l="l" t="t" r="r" b="b"/>
                <a:pathLst>
                  <a:path w="184" h="198">
                    <a:moveTo>
                      <a:pt x="184" y="0"/>
                    </a:moveTo>
                    <a:lnTo>
                      <a:pt x="11" y="2"/>
                    </a:lnTo>
                    <a:lnTo>
                      <a:pt x="0" y="19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-2333880" y="348480"/>
                <a:ext cx="83520" cy="3672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33" y="0"/>
                    </a:moveTo>
                    <a:lnTo>
                      <a:pt x="0" y="150"/>
                    </a:lnTo>
                    <a:lnTo>
                      <a:pt x="164" y="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-1951560" y="172440"/>
                <a:ext cx="51120" cy="54000"/>
              </a:xfrm>
              <a:custGeom>
                <a:avLst/>
                <a:gdLst/>
                <a:ahLst/>
                <a:rect l="l" t="t" r="r" b="b"/>
                <a:pathLst>
                  <a:path w="102" h="222">
                    <a:moveTo>
                      <a:pt x="72" y="0"/>
                    </a:moveTo>
                    <a:lnTo>
                      <a:pt x="0" y="217"/>
                    </a:lnTo>
                    <a:lnTo>
                      <a:pt x="102" y="22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-1850400" y="192960"/>
                <a:ext cx="50040" cy="51120"/>
              </a:xfrm>
              <a:custGeom>
                <a:avLst/>
                <a:gdLst/>
                <a:ahLst/>
                <a:rect l="l" t="t" r="r" b="b"/>
                <a:pathLst>
                  <a:path w="101" h="209">
                    <a:moveTo>
                      <a:pt x="81" y="0"/>
                    </a:moveTo>
                    <a:lnTo>
                      <a:pt x="0" y="179"/>
                    </a:lnTo>
                    <a:lnTo>
                      <a:pt x="101" y="20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-1748520" y="212040"/>
                <a:ext cx="49320" cy="45720"/>
              </a:xfrm>
              <a:custGeom>
                <a:avLst/>
                <a:gdLst/>
                <a:ahLst/>
                <a:rect l="l" t="t" r="r" b="b"/>
                <a:pathLst>
                  <a:path w="98" h="187">
                    <a:moveTo>
                      <a:pt x="76" y="0"/>
                    </a:moveTo>
                    <a:lnTo>
                      <a:pt x="0" y="174"/>
                    </a:lnTo>
                    <a:lnTo>
                      <a:pt x="98" y="18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-1647720" y="230040"/>
                <a:ext cx="34200" cy="43560"/>
              </a:xfrm>
              <a:custGeom>
                <a:avLst/>
                <a:gdLst/>
                <a:ahLst/>
                <a:rect l="l" t="t" r="r" b="b"/>
                <a:pathLst>
                  <a:path w="68" h="179">
                    <a:moveTo>
                      <a:pt x="51" y="0"/>
                    </a:moveTo>
                    <a:lnTo>
                      <a:pt x="68" y="179"/>
                    </a:lnTo>
                    <a:lnTo>
                      <a:pt x="0" y="15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-1564200" y="246600"/>
                <a:ext cx="23040" cy="38880"/>
              </a:xfrm>
              <a:custGeom>
                <a:avLst/>
                <a:gdLst/>
                <a:ahLst/>
                <a:rect l="l" t="t" r="r" b="b"/>
                <a:pathLst>
                  <a:path w="45" h="159">
                    <a:moveTo>
                      <a:pt x="36" y="0"/>
                    </a:moveTo>
                    <a:lnTo>
                      <a:pt x="45" y="159"/>
                    </a:lnTo>
                    <a:lnTo>
                      <a:pt x="0" y="14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-1500840" y="258120"/>
                <a:ext cx="26280" cy="33840"/>
              </a:xfrm>
              <a:custGeom>
                <a:avLst/>
                <a:gdLst/>
                <a:ahLst/>
                <a:rect l="l" t="t" r="r" b="b"/>
                <a:pathLst>
                  <a:path w="51" h="138">
                    <a:moveTo>
                      <a:pt x="38" y="0"/>
                    </a:moveTo>
                    <a:lnTo>
                      <a:pt x="51" y="138"/>
                    </a:lnTo>
                    <a:lnTo>
                      <a:pt x="0" y="1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-1432080" y="268200"/>
                <a:ext cx="20160" cy="34920"/>
              </a:xfrm>
              <a:custGeom>
                <a:avLst/>
                <a:gdLst/>
                <a:ahLst/>
                <a:rect l="l" t="t" r="r" b="b"/>
                <a:pathLst>
                  <a:path w="38" h="142">
                    <a:moveTo>
                      <a:pt x="25" y="0"/>
                    </a:moveTo>
                    <a:lnTo>
                      <a:pt x="38" y="142"/>
                    </a:lnTo>
                    <a:lnTo>
                      <a:pt x="0" y="12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-1835280" y="355680"/>
                <a:ext cx="54360" cy="57960"/>
              </a:xfrm>
              <a:custGeom>
                <a:avLst/>
                <a:gdLst/>
                <a:ahLst/>
                <a:rect l="l" t="t" r="r" b="b"/>
                <a:pathLst>
                  <a:path w="109" h="237">
                    <a:moveTo>
                      <a:pt x="109" y="0"/>
                    </a:moveTo>
                    <a:lnTo>
                      <a:pt x="105" y="237"/>
                    </a:lnTo>
                    <a:lnTo>
                      <a:pt x="0" y="237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-1733760" y="365040"/>
                <a:ext cx="47520" cy="4968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94" y="0"/>
                    </a:moveTo>
                    <a:lnTo>
                      <a:pt x="94" y="194"/>
                    </a:lnTo>
                    <a:lnTo>
                      <a:pt x="0" y="20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-1574280" y="376560"/>
                <a:ext cx="20160" cy="43560"/>
              </a:xfrm>
              <a:custGeom>
                <a:avLst/>
                <a:gdLst/>
                <a:ahLst/>
                <a:rect l="l" t="t" r="r" b="b"/>
                <a:pathLst>
                  <a:path w="41" h="178">
                    <a:moveTo>
                      <a:pt x="41" y="0"/>
                    </a:moveTo>
                    <a:lnTo>
                      <a:pt x="41" y="178"/>
                    </a:lnTo>
                    <a:lnTo>
                      <a:pt x="0" y="1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-1502640" y="381960"/>
                <a:ext cx="18720" cy="41040"/>
              </a:xfrm>
              <a:custGeom>
                <a:avLst/>
                <a:gdLst/>
                <a:ahLst/>
                <a:rect l="l" t="t" r="r" b="b"/>
                <a:pathLst>
                  <a:path w="39" h="168">
                    <a:moveTo>
                      <a:pt x="39" y="0"/>
                    </a:moveTo>
                    <a:lnTo>
                      <a:pt x="39" y="168"/>
                    </a:lnTo>
                    <a:lnTo>
                      <a:pt x="0" y="16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-1437840" y="386640"/>
                <a:ext cx="14760" cy="34200"/>
              </a:xfrm>
              <a:custGeom>
                <a:avLst/>
                <a:gdLst/>
                <a:ahLst/>
                <a:rect l="l" t="t" r="r" b="b"/>
                <a:pathLst>
                  <a:path w="30" h="139">
                    <a:moveTo>
                      <a:pt x="26" y="0"/>
                    </a:moveTo>
                    <a:lnTo>
                      <a:pt x="30" y="139"/>
                    </a:lnTo>
                    <a:lnTo>
                      <a:pt x="0" y="13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-863640" y="179280"/>
              <a:ext cx="863640" cy="360360"/>
              <a:chOff x="-863640" y="179280"/>
              <a:chExt cx="863640" cy="360360"/>
            </a:xfrm>
          </p:grpSpPr>
          <p:sp>
            <p:nvSpPr>
              <p:cNvPr id="80" name=""/>
              <p:cNvSpPr/>
              <p:nvPr/>
            </p:nvSpPr>
            <p:spPr>
              <a:xfrm>
                <a:off x="-147600" y="453960"/>
                <a:ext cx="73080" cy="62280"/>
              </a:xfrm>
              <a:custGeom>
                <a:avLst/>
                <a:gdLst/>
                <a:ahLst/>
                <a:rect l="l" t="t" r="r" b="b"/>
                <a:pathLst>
                  <a:path w="181" h="329">
                    <a:moveTo>
                      <a:pt x="0" y="265"/>
                    </a:moveTo>
                    <a:lnTo>
                      <a:pt x="21" y="324"/>
                    </a:lnTo>
                    <a:lnTo>
                      <a:pt x="119" y="329"/>
                    </a:lnTo>
                    <a:lnTo>
                      <a:pt x="120" y="327"/>
                    </a:lnTo>
                    <a:lnTo>
                      <a:pt x="126" y="324"/>
                    </a:lnTo>
                    <a:lnTo>
                      <a:pt x="134" y="317"/>
                    </a:lnTo>
                    <a:lnTo>
                      <a:pt x="144" y="306"/>
                    </a:lnTo>
                    <a:lnTo>
                      <a:pt x="154" y="290"/>
                    </a:lnTo>
                    <a:lnTo>
                      <a:pt x="164" y="270"/>
                    </a:lnTo>
                    <a:lnTo>
                      <a:pt x="173" y="244"/>
                    </a:lnTo>
                    <a:lnTo>
                      <a:pt x="178" y="211"/>
                    </a:lnTo>
                    <a:lnTo>
                      <a:pt x="181" y="173"/>
                    </a:lnTo>
                    <a:lnTo>
                      <a:pt x="180" y="136"/>
                    </a:lnTo>
                    <a:lnTo>
                      <a:pt x="174" y="99"/>
                    </a:lnTo>
                    <a:lnTo>
                      <a:pt x="166" y="65"/>
                    </a:lnTo>
                    <a:lnTo>
                      <a:pt x="154" y="36"/>
                    </a:lnTo>
                    <a:lnTo>
                      <a:pt x="141" y="15"/>
                    </a:lnTo>
                    <a:lnTo>
                      <a:pt x="126" y="2"/>
                    </a:lnTo>
                    <a:lnTo>
                      <a:pt x="109" y="0"/>
                    </a:lnTo>
                    <a:lnTo>
                      <a:pt x="92" y="14"/>
                    </a:lnTo>
                    <a:lnTo>
                      <a:pt x="72" y="46"/>
                    </a:lnTo>
                    <a:lnTo>
                      <a:pt x="55" y="89"/>
                    </a:lnTo>
                    <a:lnTo>
                      <a:pt x="38" y="136"/>
                    </a:lnTo>
                    <a:lnTo>
                      <a:pt x="22" y="184"/>
                    </a:lnTo>
                    <a:lnTo>
                      <a:pt x="11" y="225"/>
                    </a:lnTo>
                    <a:lnTo>
                      <a:pt x="2" y="25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-412200" y="451800"/>
                <a:ext cx="104760" cy="85320"/>
              </a:xfrm>
              <a:custGeom>
                <a:avLst/>
                <a:gdLst/>
                <a:ahLst/>
                <a:rect l="l" t="t" r="r" b="b"/>
                <a:pathLst>
                  <a:path w="261" h="449">
                    <a:moveTo>
                      <a:pt x="0" y="347"/>
                    </a:moveTo>
                    <a:lnTo>
                      <a:pt x="1" y="354"/>
                    </a:lnTo>
                    <a:lnTo>
                      <a:pt x="4" y="374"/>
                    </a:lnTo>
                    <a:lnTo>
                      <a:pt x="14" y="401"/>
                    </a:lnTo>
                    <a:lnTo>
                      <a:pt x="33" y="432"/>
                    </a:lnTo>
                    <a:lnTo>
                      <a:pt x="148" y="449"/>
                    </a:lnTo>
                    <a:lnTo>
                      <a:pt x="152" y="446"/>
                    </a:lnTo>
                    <a:lnTo>
                      <a:pt x="162" y="438"/>
                    </a:lnTo>
                    <a:lnTo>
                      <a:pt x="177" y="424"/>
                    </a:lnTo>
                    <a:lnTo>
                      <a:pt x="194" y="407"/>
                    </a:lnTo>
                    <a:lnTo>
                      <a:pt x="213" y="385"/>
                    </a:lnTo>
                    <a:lnTo>
                      <a:pt x="230" y="363"/>
                    </a:lnTo>
                    <a:lnTo>
                      <a:pt x="244" y="339"/>
                    </a:lnTo>
                    <a:lnTo>
                      <a:pt x="254" y="313"/>
                    </a:lnTo>
                    <a:lnTo>
                      <a:pt x="260" y="279"/>
                    </a:lnTo>
                    <a:lnTo>
                      <a:pt x="261" y="234"/>
                    </a:lnTo>
                    <a:lnTo>
                      <a:pt x="260" y="180"/>
                    </a:lnTo>
                    <a:lnTo>
                      <a:pt x="252" y="124"/>
                    </a:lnTo>
                    <a:lnTo>
                      <a:pt x="240" y="73"/>
                    </a:lnTo>
                    <a:lnTo>
                      <a:pt x="220" y="32"/>
                    </a:lnTo>
                    <a:lnTo>
                      <a:pt x="193" y="5"/>
                    </a:lnTo>
                    <a:lnTo>
                      <a:pt x="156" y="0"/>
                    </a:lnTo>
                    <a:lnTo>
                      <a:pt x="118" y="20"/>
                    </a:lnTo>
                    <a:lnTo>
                      <a:pt x="85" y="61"/>
                    </a:lnTo>
                    <a:lnTo>
                      <a:pt x="58" y="117"/>
                    </a:lnTo>
                    <a:lnTo>
                      <a:pt x="37" y="180"/>
                    </a:lnTo>
                    <a:lnTo>
                      <a:pt x="21" y="242"/>
                    </a:lnTo>
                    <a:lnTo>
                      <a:pt x="9" y="295"/>
                    </a:lnTo>
                    <a:lnTo>
                      <a:pt x="3" y="333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-819720" y="514080"/>
                <a:ext cx="120960" cy="18720"/>
              </a:xfrm>
              <a:custGeom>
                <a:avLst/>
                <a:gdLst/>
                <a:ahLst/>
                <a:rect l="l" t="t" r="r" b="b"/>
                <a:pathLst>
                  <a:path w="300" h="101">
                    <a:moveTo>
                      <a:pt x="0" y="0"/>
                    </a:moveTo>
                    <a:lnTo>
                      <a:pt x="1" y="3"/>
                    </a:lnTo>
                    <a:lnTo>
                      <a:pt x="4" y="11"/>
                    </a:lnTo>
                    <a:lnTo>
                      <a:pt x="10" y="24"/>
                    </a:lnTo>
                    <a:lnTo>
                      <a:pt x="18" y="40"/>
                    </a:lnTo>
                    <a:lnTo>
                      <a:pt x="29" y="55"/>
                    </a:lnTo>
                    <a:lnTo>
                      <a:pt x="45" y="71"/>
                    </a:lnTo>
                    <a:lnTo>
                      <a:pt x="65" y="84"/>
                    </a:lnTo>
                    <a:lnTo>
                      <a:pt x="89" y="93"/>
                    </a:lnTo>
                    <a:lnTo>
                      <a:pt x="116" y="99"/>
                    </a:lnTo>
                    <a:lnTo>
                      <a:pt x="144" y="101"/>
                    </a:lnTo>
                    <a:lnTo>
                      <a:pt x="173" y="99"/>
                    </a:lnTo>
                    <a:lnTo>
                      <a:pt x="201" y="93"/>
                    </a:lnTo>
                    <a:lnTo>
                      <a:pt x="229" y="82"/>
                    </a:lnTo>
                    <a:lnTo>
                      <a:pt x="255" y="65"/>
                    </a:lnTo>
                    <a:lnTo>
                      <a:pt x="279" y="42"/>
                    </a:lnTo>
                    <a:lnTo>
                      <a:pt x="30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-857880" y="182160"/>
                <a:ext cx="854280" cy="344520"/>
              </a:xfrm>
              <a:custGeom>
                <a:avLst/>
                <a:gdLst/>
                <a:ahLst/>
                <a:rect l="l" t="t" r="r" b="b"/>
                <a:pathLst>
                  <a:path w="2120" h="1814">
                    <a:moveTo>
                      <a:pt x="136" y="68"/>
                    </a:moveTo>
                    <a:lnTo>
                      <a:pt x="133" y="70"/>
                    </a:lnTo>
                    <a:lnTo>
                      <a:pt x="125" y="71"/>
                    </a:lnTo>
                    <a:lnTo>
                      <a:pt x="113" y="77"/>
                    </a:lnTo>
                    <a:lnTo>
                      <a:pt x="99" y="82"/>
                    </a:lnTo>
                    <a:lnTo>
                      <a:pt x="85" y="92"/>
                    </a:lnTo>
                    <a:lnTo>
                      <a:pt x="71" y="104"/>
                    </a:lnTo>
                    <a:lnTo>
                      <a:pt x="61" y="119"/>
                    </a:lnTo>
                    <a:lnTo>
                      <a:pt x="55" y="136"/>
                    </a:lnTo>
                    <a:lnTo>
                      <a:pt x="51" y="163"/>
                    </a:lnTo>
                    <a:lnTo>
                      <a:pt x="45" y="206"/>
                    </a:lnTo>
                    <a:lnTo>
                      <a:pt x="37" y="267"/>
                    </a:lnTo>
                    <a:lnTo>
                      <a:pt x="30" y="345"/>
                    </a:lnTo>
                    <a:lnTo>
                      <a:pt x="23" y="442"/>
                    </a:lnTo>
                    <a:lnTo>
                      <a:pt x="17" y="562"/>
                    </a:lnTo>
                    <a:lnTo>
                      <a:pt x="13" y="701"/>
                    </a:lnTo>
                    <a:lnTo>
                      <a:pt x="13" y="864"/>
                    </a:lnTo>
                    <a:lnTo>
                      <a:pt x="4" y="1308"/>
                    </a:lnTo>
                    <a:lnTo>
                      <a:pt x="0" y="1763"/>
                    </a:lnTo>
                    <a:lnTo>
                      <a:pt x="966" y="1814"/>
                    </a:lnTo>
                    <a:lnTo>
                      <a:pt x="1183" y="1784"/>
                    </a:lnTo>
                    <a:lnTo>
                      <a:pt x="1183" y="1773"/>
                    </a:lnTo>
                    <a:lnTo>
                      <a:pt x="1184" y="1742"/>
                    </a:lnTo>
                    <a:lnTo>
                      <a:pt x="1187" y="1699"/>
                    </a:lnTo>
                    <a:lnTo>
                      <a:pt x="1191" y="1647"/>
                    </a:lnTo>
                    <a:lnTo>
                      <a:pt x="1197" y="1594"/>
                    </a:lnTo>
                    <a:lnTo>
                      <a:pt x="1205" y="1544"/>
                    </a:lnTo>
                    <a:lnTo>
                      <a:pt x="1215" y="1505"/>
                    </a:lnTo>
                    <a:lnTo>
                      <a:pt x="1229" y="1479"/>
                    </a:lnTo>
                    <a:lnTo>
                      <a:pt x="1245" y="1466"/>
                    </a:lnTo>
                    <a:lnTo>
                      <a:pt x="1261" y="1458"/>
                    </a:lnTo>
                    <a:lnTo>
                      <a:pt x="1278" y="1454"/>
                    </a:lnTo>
                    <a:lnTo>
                      <a:pt x="1293" y="1455"/>
                    </a:lnTo>
                    <a:lnTo>
                      <a:pt x="1307" y="1462"/>
                    </a:lnTo>
                    <a:lnTo>
                      <a:pt x="1319" y="1474"/>
                    </a:lnTo>
                    <a:lnTo>
                      <a:pt x="1326" y="1489"/>
                    </a:lnTo>
                    <a:lnTo>
                      <a:pt x="1330" y="1509"/>
                    </a:lnTo>
                    <a:lnTo>
                      <a:pt x="1337" y="1567"/>
                    </a:lnTo>
                    <a:lnTo>
                      <a:pt x="1344" y="1642"/>
                    </a:lnTo>
                    <a:lnTo>
                      <a:pt x="1346" y="1719"/>
                    </a:lnTo>
                    <a:lnTo>
                      <a:pt x="1330" y="1784"/>
                    </a:lnTo>
                    <a:lnTo>
                      <a:pt x="1809" y="1712"/>
                    </a:lnTo>
                    <a:lnTo>
                      <a:pt x="1811" y="1702"/>
                    </a:lnTo>
                    <a:lnTo>
                      <a:pt x="1814" y="1674"/>
                    </a:lnTo>
                    <a:lnTo>
                      <a:pt x="1818" y="1632"/>
                    </a:lnTo>
                    <a:lnTo>
                      <a:pt x="1825" y="1587"/>
                    </a:lnTo>
                    <a:lnTo>
                      <a:pt x="1834" y="1540"/>
                    </a:lnTo>
                    <a:lnTo>
                      <a:pt x="1845" y="1498"/>
                    </a:lnTo>
                    <a:lnTo>
                      <a:pt x="1859" y="1466"/>
                    </a:lnTo>
                    <a:lnTo>
                      <a:pt x="1875" y="1452"/>
                    </a:lnTo>
                    <a:lnTo>
                      <a:pt x="1877" y="1454"/>
                    </a:lnTo>
                    <a:lnTo>
                      <a:pt x="1885" y="1459"/>
                    </a:lnTo>
                    <a:lnTo>
                      <a:pt x="1895" y="1471"/>
                    </a:lnTo>
                    <a:lnTo>
                      <a:pt x="1904" y="1491"/>
                    </a:lnTo>
                    <a:lnTo>
                      <a:pt x="1916" y="1519"/>
                    </a:lnTo>
                    <a:lnTo>
                      <a:pt x="1924" y="1559"/>
                    </a:lnTo>
                    <a:lnTo>
                      <a:pt x="1929" y="1611"/>
                    </a:lnTo>
                    <a:lnTo>
                      <a:pt x="1929" y="1678"/>
                    </a:lnTo>
                    <a:lnTo>
                      <a:pt x="2120" y="1615"/>
                    </a:lnTo>
                    <a:lnTo>
                      <a:pt x="2111" y="800"/>
                    </a:lnTo>
                    <a:lnTo>
                      <a:pt x="2110" y="789"/>
                    </a:lnTo>
                    <a:lnTo>
                      <a:pt x="2106" y="760"/>
                    </a:lnTo>
                    <a:lnTo>
                      <a:pt x="2100" y="719"/>
                    </a:lnTo>
                    <a:lnTo>
                      <a:pt x="2090" y="671"/>
                    </a:lnTo>
                    <a:lnTo>
                      <a:pt x="2085" y="645"/>
                    </a:lnTo>
                    <a:lnTo>
                      <a:pt x="2077" y="618"/>
                    </a:lnTo>
                    <a:lnTo>
                      <a:pt x="2070" y="594"/>
                    </a:lnTo>
                    <a:lnTo>
                      <a:pt x="2062" y="572"/>
                    </a:lnTo>
                    <a:lnTo>
                      <a:pt x="2052" y="552"/>
                    </a:lnTo>
                    <a:lnTo>
                      <a:pt x="2042" y="535"/>
                    </a:lnTo>
                    <a:lnTo>
                      <a:pt x="2031" y="522"/>
                    </a:lnTo>
                    <a:lnTo>
                      <a:pt x="2018" y="513"/>
                    </a:lnTo>
                    <a:lnTo>
                      <a:pt x="2008" y="509"/>
                    </a:lnTo>
                    <a:lnTo>
                      <a:pt x="1994" y="503"/>
                    </a:lnTo>
                    <a:lnTo>
                      <a:pt x="1972" y="494"/>
                    </a:lnTo>
                    <a:lnTo>
                      <a:pt x="1948" y="484"/>
                    </a:lnTo>
                    <a:lnTo>
                      <a:pt x="1919" y="471"/>
                    </a:lnTo>
                    <a:lnTo>
                      <a:pt x="1885" y="457"/>
                    </a:lnTo>
                    <a:lnTo>
                      <a:pt x="1846" y="440"/>
                    </a:lnTo>
                    <a:lnTo>
                      <a:pt x="1807" y="423"/>
                    </a:lnTo>
                    <a:lnTo>
                      <a:pt x="1763" y="404"/>
                    </a:lnTo>
                    <a:lnTo>
                      <a:pt x="1716" y="384"/>
                    </a:lnTo>
                    <a:lnTo>
                      <a:pt x="1668" y="363"/>
                    </a:lnTo>
                    <a:lnTo>
                      <a:pt x="1618" y="342"/>
                    </a:lnTo>
                    <a:lnTo>
                      <a:pt x="1566" y="321"/>
                    </a:lnTo>
                    <a:lnTo>
                      <a:pt x="1513" y="298"/>
                    </a:lnTo>
                    <a:lnTo>
                      <a:pt x="1461" y="275"/>
                    </a:lnTo>
                    <a:lnTo>
                      <a:pt x="1407" y="252"/>
                    </a:lnTo>
                    <a:lnTo>
                      <a:pt x="1354" y="230"/>
                    </a:lnTo>
                    <a:lnTo>
                      <a:pt x="1300" y="207"/>
                    </a:lnTo>
                    <a:lnTo>
                      <a:pt x="1249" y="184"/>
                    </a:lnTo>
                    <a:lnTo>
                      <a:pt x="1200" y="163"/>
                    </a:lnTo>
                    <a:lnTo>
                      <a:pt x="1151" y="143"/>
                    </a:lnTo>
                    <a:lnTo>
                      <a:pt x="1105" y="123"/>
                    </a:lnTo>
                    <a:lnTo>
                      <a:pt x="1061" y="104"/>
                    </a:lnTo>
                    <a:lnTo>
                      <a:pt x="1020" y="87"/>
                    </a:lnTo>
                    <a:lnTo>
                      <a:pt x="983" y="71"/>
                    </a:lnTo>
                    <a:lnTo>
                      <a:pt x="949" y="57"/>
                    </a:lnTo>
                    <a:lnTo>
                      <a:pt x="919" y="44"/>
                    </a:lnTo>
                    <a:lnTo>
                      <a:pt x="895" y="33"/>
                    </a:lnTo>
                    <a:lnTo>
                      <a:pt x="874" y="24"/>
                    </a:lnTo>
                    <a:lnTo>
                      <a:pt x="859" y="18"/>
                    </a:lnTo>
                    <a:lnTo>
                      <a:pt x="849" y="14"/>
                    </a:lnTo>
                    <a:lnTo>
                      <a:pt x="847" y="13"/>
                    </a:lnTo>
                    <a:lnTo>
                      <a:pt x="844" y="13"/>
                    </a:lnTo>
                    <a:lnTo>
                      <a:pt x="835" y="11"/>
                    </a:lnTo>
                    <a:lnTo>
                      <a:pt x="822" y="11"/>
                    </a:lnTo>
                    <a:lnTo>
                      <a:pt x="805" y="10"/>
                    </a:lnTo>
                    <a:lnTo>
                      <a:pt x="784" y="9"/>
                    </a:lnTo>
                    <a:lnTo>
                      <a:pt x="760" y="7"/>
                    </a:lnTo>
                    <a:lnTo>
                      <a:pt x="733" y="6"/>
                    </a:lnTo>
                    <a:lnTo>
                      <a:pt x="705" y="4"/>
                    </a:lnTo>
                    <a:lnTo>
                      <a:pt x="675" y="3"/>
                    </a:lnTo>
                    <a:lnTo>
                      <a:pt x="644" y="1"/>
                    </a:lnTo>
                    <a:lnTo>
                      <a:pt x="613" y="0"/>
                    </a:lnTo>
                    <a:lnTo>
                      <a:pt x="581" y="0"/>
                    </a:lnTo>
                    <a:lnTo>
                      <a:pt x="552" y="0"/>
                    </a:lnTo>
                    <a:lnTo>
                      <a:pt x="522" y="1"/>
                    </a:lnTo>
                    <a:lnTo>
                      <a:pt x="495" y="3"/>
                    </a:lnTo>
                    <a:lnTo>
                      <a:pt x="471" y="4"/>
                    </a:lnTo>
                    <a:lnTo>
                      <a:pt x="447" y="7"/>
                    </a:lnTo>
                    <a:lnTo>
                      <a:pt x="421" y="11"/>
                    </a:lnTo>
                    <a:lnTo>
                      <a:pt x="394" y="14"/>
                    </a:lnTo>
                    <a:lnTo>
                      <a:pt x="366" y="20"/>
                    </a:lnTo>
                    <a:lnTo>
                      <a:pt x="339" y="24"/>
                    </a:lnTo>
                    <a:lnTo>
                      <a:pt x="311" y="30"/>
                    </a:lnTo>
                    <a:lnTo>
                      <a:pt x="284" y="35"/>
                    </a:lnTo>
                    <a:lnTo>
                      <a:pt x="257" y="41"/>
                    </a:lnTo>
                    <a:lnTo>
                      <a:pt x="233" y="47"/>
                    </a:lnTo>
                    <a:lnTo>
                      <a:pt x="210" y="51"/>
                    </a:lnTo>
                    <a:lnTo>
                      <a:pt x="189" y="55"/>
                    </a:lnTo>
                    <a:lnTo>
                      <a:pt x="172" y="60"/>
                    </a:lnTo>
                    <a:lnTo>
                      <a:pt x="156" y="64"/>
                    </a:lnTo>
                    <a:lnTo>
                      <a:pt x="146" y="65"/>
                    </a:lnTo>
                    <a:lnTo>
                      <a:pt x="139" y="68"/>
                    </a:lnTo>
                    <a:lnTo>
                      <a:pt x="136" y="68"/>
                    </a:lnTo>
                    <a:close/>
                  </a:path>
                </a:pathLst>
              </a:custGeom>
              <a:solidFill>
                <a:srgbClr val="dd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-813600" y="181800"/>
                <a:ext cx="241920" cy="20880"/>
              </a:xfrm>
              <a:custGeom>
                <a:avLst/>
                <a:gdLst/>
                <a:ahLst/>
                <a:rect l="l" t="t" r="r" b="b"/>
                <a:pathLst>
                  <a:path w="598" h="114">
                    <a:moveTo>
                      <a:pt x="382" y="6"/>
                    </a:moveTo>
                    <a:lnTo>
                      <a:pt x="373" y="6"/>
                    </a:lnTo>
                    <a:lnTo>
                      <a:pt x="361" y="7"/>
                    </a:lnTo>
                    <a:lnTo>
                      <a:pt x="351" y="9"/>
                    </a:lnTo>
                    <a:lnTo>
                      <a:pt x="340" y="9"/>
                    </a:lnTo>
                    <a:lnTo>
                      <a:pt x="330" y="10"/>
                    </a:lnTo>
                    <a:lnTo>
                      <a:pt x="319" y="12"/>
                    </a:lnTo>
                    <a:lnTo>
                      <a:pt x="307" y="13"/>
                    </a:lnTo>
                    <a:lnTo>
                      <a:pt x="296" y="14"/>
                    </a:lnTo>
                    <a:lnTo>
                      <a:pt x="279" y="17"/>
                    </a:lnTo>
                    <a:lnTo>
                      <a:pt x="262" y="20"/>
                    </a:lnTo>
                    <a:lnTo>
                      <a:pt x="245" y="23"/>
                    </a:lnTo>
                    <a:lnTo>
                      <a:pt x="228" y="26"/>
                    </a:lnTo>
                    <a:lnTo>
                      <a:pt x="211" y="29"/>
                    </a:lnTo>
                    <a:lnTo>
                      <a:pt x="192" y="33"/>
                    </a:lnTo>
                    <a:lnTo>
                      <a:pt x="174" y="36"/>
                    </a:lnTo>
                    <a:lnTo>
                      <a:pt x="157" y="40"/>
                    </a:lnTo>
                    <a:lnTo>
                      <a:pt x="139" y="44"/>
                    </a:lnTo>
                    <a:lnTo>
                      <a:pt x="120" y="48"/>
                    </a:lnTo>
                    <a:lnTo>
                      <a:pt x="102" y="54"/>
                    </a:lnTo>
                    <a:lnTo>
                      <a:pt x="83" y="60"/>
                    </a:lnTo>
                    <a:lnTo>
                      <a:pt x="63" y="65"/>
                    </a:lnTo>
                    <a:lnTo>
                      <a:pt x="45" y="71"/>
                    </a:lnTo>
                    <a:lnTo>
                      <a:pt x="27" y="77"/>
                    </a:lnTo>
                    <a:lnTo>
                      <a:pt x="8" y="84"/>
                    </a:lnTo>
                    <a:lnTo>
                      <a:pt x="0" y="114"/>
                    </a:lnTo>
                    <a:lnTo>
                      <a:pt x="1" y="114"/>
                    </a:lnTo>
                    <a:lnTo>
                      <a:pt x="5" y="112"/>
                    </a:lnTo>
                    <a:lnTo>
                      <a:pt x="12" y="109"/>
                    </a:lnTo>
                    <a:lnTo>
                      <a:pt x="22" y="107"/>
                    </a:lnTo>
                    <a:lnTo>
                      <a:pt x="34" y="104"/>
                    </a:lnTo>
                    <a:lnTo>
                      <a:pt x="48" y="99"/>
                    </a:lnTo>
                    <a:lnTo>
                      <a:pt x="65" y="95"/>
                    </a:lnTo>
                    <a:lnTo>
                      <a:pt x="83" y="90"/>
                    </a:lnTo>
                    <a:lnTo>
                      <a:pt x="103" y="84"/>
                    </a:lnTo>
                    <a:lnTo>
                      <a:pt x="126" y="78"/>
                    </a:lnTo>
                    <a:lnTo>
                      <a:pt x="150" y="73"/>
                    </a:lnTo>
                    <a:lnTo>
                      <a:pt x="175" y="67"/>
                    </a:lnTo>
                    <a:lnTo>
                      <a:pt x="202" y="61"/>
                    </a:lnTo>
                    <a:lnTo>
                      <a:pt x="231" y="54"/>
                    </a:lnTo>
                    <a:lnTo>
                      <a:pt x="261" y="48"/>
                    </a:lnTo>
                    <a:lnTo>
                      <a:pt x="292" y="43"/>
                    </a:lnTo>
                    <a:lnTo>
                      <a:pt x="309" y="40"/>
                    </a:lnTo>
                    <a:lnTo>
                      <a:pt x="327" y="36"/>
                    </a:lnTo>
                    <a:lnTo>
                      <a:pt x="346" y="33"/>
                    </a:lnTo>
                    <a:lnTo>
                      <a:pt x="364" y="30"/>
                    </a:lnTo>
                    <a:lnTo>
                      <a:pt x="382" y="27"/>
                    </a:lnTo>
                    <a:lnTo>
                      <a:pt x="402" y="23"/>
                    </a:lnTo>
                    <a:lnTo>
                      <a:pt x="421" y="21"/>
                    </a:lnTo>
                    <a:lnTo>
                      <a:pt x="441" y="19"/>
                    </a:lnTo>
                    <a:lnTo>
                      <a:pt x="459" y="16"/>
                    </a:lnTo>
                    <a:lnTo>
                      <a:pt x="479" y="13"/>
                    </a:lnTo>
                    <a:lnTo>
                      <a:pt x="499" y="12"/>
                    </a:lnTo>
                    <a:lnTo>
                      <a:pt x="519" y="9"/>
                    </a:lnTo>
                    <a:lnTo>
                      <a:pt x="538" y="7"/>
                    </a:lnTo>
                    <a:lnTo>
                      <a:pt x="558" y="6"/>
                    </a:lnTo>
                    <a:lnTo>
                      <a:pt x="578" y="4"/>
                    </a:lnTo>
                    <a:lnTo>
                      <a:pt x="598" y="3"/>
                    </a:lnTo>
                    <a:lnTo>
                      <a:pt x="594" y="3"/>
                    </a:lnTo>
                    <a:lnTo>
                      <a:pt x="582" y="2"/>
                    </a:lnTo>
                    <a:lnTo>
                      <a:pt x="563" y="2"/>
                    </a:lnTo>
                    <a:lnTo>
                      <a:pt x="537" y="0"/>
                    </a:lnTo>
                    <a:lnTo>
                      <a:pt x="506" y="0"/>
                    </a:lnTo>
                    <a:lnTo>
                      <a:pt x="469" y="2"/>
                    </a:lnTo>
                    <a:lnTo>
                      <a:pt x="428" y="3"/>
                    </a:lnTo>
                    <a:lnTo>
                      <a:pt x="382" y="6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-834840" y="433440"/>
                <a:ext cx="297720" cy="30600"/>
              </a:xfrm>
              <a:custGeom>
                <a:avLst/>
                <a:gdLst/>
                <a:ahLst/>
                <a:rect l="l" t="t" r="r" b="b"/>
                <a:pathLst>
                  <a:path w="741" h="161">
                    <a:moveTo>
                      <a:pt x="708" y="4"/>
                    </a:moveTo>
                    <a:lnTo>
                      <a:pt x="0" y="157"/>
                    </a:lnTo>
                    <a:lnTo>
                      <a:pt x="213" y="161"/>
                    </a:lnTo>
                    <a:lnTo>
                      <a:pt x="741" y="0"/>
                    </a:lnTo>
                    <a:lnTo>
                      <a:pt x="708" y="4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-856080" y="275040"/>
                <a:ext cx="351360" cy="108720"/>
              </a:xfrm>
              <a:custGeom>
                <a:avLst/>
                <a:gdLst/>
                <a:ahLst/>
                <a:rect l="l" t="t" r="r" b="b"/>
                <a:pathLst>
                  <a:path w="872" h="571">
                    <a:moveTo>
                      <a:pt x="872" y="0"/>
                    </a:moveTo>
                    <a:lnTo>
                      <a:pt x="9" y="427"/>
                    </a:lnTo>
                    <a:lnTo>
                      <a:pt x="0" y="571"/>
                    </a:lnTo>
                    <a:lnTo>
                      <a:pt x="872" y="17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-850320" y="258480"/>
                <a:ext cx="343800" cy="70560"/>
              </a:xfrm>
              <a:custGeom>
                <a:avLst/>
                <a:gdLst/>
                <a:ahLst/>
                <a:rect l="l" t="t" r="r" b="b"/>
                <a:pathLst>
                  <a:path w="855" h="371">
                    <a:moveTo>
                      <a:pt x="377" y="21"/>
                    </a:moveTo>
                    <a:lnTo>
                      <a:pt x="376" y="24"/>
                    </a:lnTo>
                    <a:lnTo>
                      <a:pt x="373" y="30"/>
                    </a:lnTo>
                    <a:lnTo>
                      <a:pt x="366" y="38"/>
                    </a:lnTo>
                    <a:lnTo>
                      <a:pt x="357" y="47"/>
                    </a:lnTo>
                    <a:lnTo>
                      <a:pt x="345" y="57"/>
                    </a:lnTo>
                    <a:lnTo>
                      <a:pt x="330" y="66"/>
                    </a:lnTo>
                    <a:lnTo>
                      <a:pt x="313" y="72"/>
                    </a:lnTo>
                    <a:lnTo>
                      <a:pt x="292" y="76"/>
                    </a:lnTo>
                    <a:lnTo>
                      <a:pt x="279" y="78"/>
                    </a:lnTo>
                    <a:lnTo>
                      <a:pt x="262" y="82"/>
                    </a:lnTo>
                    <a:lnTo>
                      <a:pt x="244" y="88"/>
                    </a:lnTo>
                    <a:lnTo>
                      <a:pt x="223" y="95"/>
                    </a:lnTo>
                    <a:lnTo>
                      <a:pt x="199" y="103"/>
                    </a:lnTo>
                    <a:lnTo>
                      <a:pt x="174" y="112"/>
                    </a:lnTo>
                    <a:lnTo>
                      <a:pt x="149" y="122"/>
                    </a:lnTo>
                    <a:lnTo>
                      <a:pt x="125" y="132"/>
                    </a:lnTo>
                    <a:lnTo>
                      <a:pt x="101" y="140"/>
                    </a:lnTo>
                    <a:lnTo>
                      <a:pt x="77" y="150"/>
                    </a:lnTo>
                    <a:lnTo>
                      <a:pt x="57" y="159"/>
                    </a:lnTo>
                    <a:lnTo>
                      <a:pt x="37" y="167"/>
                    </a:lnTo>
                    <a:lnTo>
                      <a:pt x="21" y="173"/>
                    </a:lnTo>
                    <a:lnTo>
                      <a:pt x="10" y="178"/>
                    </a:lnTo>
                    <a:lnTo>
                      <a:pt x="3" y="181"/>
                    </a:lnTo>
                    <a:lnTo>
                      <a:pt x="0" y="183"/>
                    </a:lnTo>
                    <a:lnTo>
                      <a:pt x="0" y="371"/>
                    </a:lnTo>
                    <a:lnTo>
                      <a:pt x="855" y="25"/>
                    </a:lnTo>
                    <a:lnTo>
                      <a:pt x="800" y="0"/>
                    </a:lnTo>
                    <a:lnTo>
                      <a:pt x="798" y="3"/>
                    </a:lnTo>
                    <a:lnTo>
                      <a:pt x="796" y="8"/>
                    </a:lnTo>
                    <a:lnTo>
                      <a:pt x="790" y="15"/>
                    </a:lnTo>
                    <a:lnTo>
                      <a:pt x="781" y="25"/>
                    </a:lnTo>
                    <a:lnTo>
                      <a:pt x="771" y="35"/>
                    </a:lnTo>
                    <a:lnTo>
                      <a:pt x="757" y="42"/>
                    </a:lnTo>
                    <a:lnTo>
                      <a:pt x="740" y="48"/>
                    </a:lnTo>
                    <a:lnTo>
                      <a:pt x="720" y="51"/>
                    </a:lnTo>
                    <a:lnTo>
                      <a:pt x="708" y="51"/>
                    </a:lnTo>
                    <a:lnTo>
                      <a:pt x="692" y="51"/>
                    </a:lnTo>
                    <a:lnTo>
                      <a:pt x="674" y="51"/>
                    </a:lnTo>
                    <a:lnTo>
                      <a:pt x="652" y="51"/>
                    </a:lnTo>
                    <a:lnTo>
                      <a:pt x="630" y="51"/>
                    </a:lnTo>
                    <a:lnTo>
                      <a:pt x="607" y="51"/>
                    </a:lnTo>
                    <a:lnTo>
                      <a:pt x="583" y="51"/>
                    </a:lnTo>
                    <a:lnTo>
                      <a:pt x="559" y="51"/>
                    </a:lnTo>
                    <a:lnTo>
                      <a:pt x="536" y="51"/>
                    </a:lnTo>
                    <a:lnTo>
                      <a:pt x="515" y="51"/>
                    </a:lnTo>
                    <a:lnTo>
                      <a:pt x="493" y="51"/>
                    </a:lnTo>
                    <a:lnTo>
                      <a:pt x="476" y="51"/>
                    </a:lnTo>
                    <a:lnTo>
                      <a:pt x="462" y="51"/>
                    </a:lnTo>
                    <a:lnTo>
                      <a:pt x="451" y="51"/>
                    </a:lnTo>
                    <a:lnTo>
                      <a:pt x="444" y="51"/>
                    </a:lnTo>
                    <a:lnTo>
                      <a:pt x="441" y="51"/>
                    </a:lnTo>
                    <a:lnTo>
                      <a:pt x="377" y="21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-506520" y="195120"/>
                <a:ext cx="470520" cy="325800"/>
              </a:xfrm>
              <a:custGeom>
                <a:avLst/>
                <a:gdLst/>
                <a:ahLst/>
                <a:rect l="l" t="t" r="r" b="b"/>
                <a:pathLst>
                  <a:path w="1167" h="1716">
                    <a:moveTo>
                      <a:pt x="0" y="0"/>
                    </a:moveTo>
                    <a:lnTo>
                      <a:pt x="13" y="715"/>
                    </a:lnTo>
                    <a:lnTo>
                      <a:pt x="14" y="716"/>
                    </a:lnTo>
                    <a:lnTo>
                      <a:pt x="19" y="721"/>
                    </a:lnTo>
                    <a:lnTo>
                      <a:pt x="26" y="728"/>
                    </a:lnTo>
                    <a:lnTo>
                      <a:pt x="33" y="738"/>
                    </a:lnTo>
                    <a:lnTo>
                      <a:pt x="40" y="747"/>
                    </a:lnTo>
                    <a:lnTo>
                      <a:pt x="47" y="757"/>
                    </a:lnTo>
                    <a:lnTo>
                      <a:pt x="53" y="769"/>
                    </a:lnTo>
                    <a:lnTo>
                      <a:pt x="55" y="779"/>
                    </a:lnTo>
                    <a:lnTo>
                      <a:pt x="55" y="1669"/>
                    </a:lnTo>
                    <a:lnTo>
                      <a:pt x="264" y="1716"/>
                    </a:lnTo>
                    <a:lnTo>
                      <a:pt x="315" y="1648"/>
                    </a:lnTo>
                    <a:lnTo>
                      <a:pt x="315" y="1637"/>
                    </a:lnTo>
                    <a:lnTo>
                      <a:pt x="318" y="1606"/>
                    </a:lnTo>
                    <a:lnTo>
                      <a:pt x="322" y="1562"/>
                    </a:lnTo>
                    <a:lnTo>
                      <a:pt x="329" y="1512"/>
                    </a:lnTo>
                    <a:lnTo>
                      <a:pt x="339" y="1462"/>
                    </a:lnTo>
                    <a:lnTo>
                      <a:pt x="353" y="1420"/>
                    </a:lnTo>
                    <a:lnTo>
                      <a:pt x="373" y="1390"/>
                    </a:lnTo>
                    <a:lnTo>
                      <a:pt x="399" y="1381"/>
                    </a:lnTo>
                    <a:lnTo>
                      <a:pt x="424" y="1391"/>
                    </a:lnTo>
                    <a:lnTo>
                      <a:pt x="443" y="1411"/>
                    </a:lnTo>
                    <a:lnTo>
                      <a:pt x="457" y="1440"/>
                    </a:lnTo>
                    <a:lnTo>
                      <a:pt x="465" y="1469"/>
                    </a:lnTo>
                    <a:lnTo>
                      <a:pt x="471" y="1501"/>
                    </a:lnTo>
                    <a:lnTo>
                      <a:pt x="474" y="1526"/>
                    </a:lnTo>
                    <a:lnTo>
                      <a:pt x="475" y="1545"/>
                    </a:lnTo>
                    <a:lnTo>
                      <a:pt x="475" y="1552"/>
                    </a:lnTo>
                    <a:lnTo>
                      <a:pt x="467" y="1703"/>
                    </a:lnTo>
                    <a:lnTo>
                      <a:pt x="637" y="1686"/>
                    </a:lnTo>
                    <a:lnTo>
                      <a:pt x="878" y="1648"/>
                    </a:lnTo>
                    <a:lnTo>
                      <a:pt x="946" y="1547"/>
                    </a:lnTo>
                    <a:lnTo>
                      <a:pt x="947" y="1540"/>
                    </a:lnTo>
                    <a:lnTo>
                      <a:pt x="950" y="1520"/>
                    </a:lnTo>
                    <a:lnTo>
                      <a:pt x="956" y="1492"/>
                    </a:lnTo>
                    <a:lnTo>
                      <a:pt x="963" y="1459"/>
                    </a:lnTo>
                    <a:lnTo>
                      <a:pt x="971" y="1428"/>
                    </a:lnTo>
                    <a:lnTo>
                      <a:pt x="981" y="1400"/>
                    </a:lnTo>
                    <a:lnTo>
                      <a:pt x="993" y="1380"/>
                    </a:lnTo>
                    <a:lnTo>
                      <a:pt x="1005" y="1373"/>
                    </a:lnTo>
                    <a:lnTo>
                      <a:pt x="1018" y="1380"/>
                    </a:lnTo>
                    <a:lnTo>
                      <a:pt x="1028" y="1396"/>
                    </a:lnTo>
                    <a:lnTo>
                      <a:pt x="1038" y="1420"/>
                    </a:lnTo>
                    <a:lnTo>
                      <a:pt x="1047" y="1447"/>
                    </a:lnTo>
                    <a:lnTo>
                      <a:pt x="1052" y="1475"/>
                    </a:lnTo>
                    <a:lnTo>
                      <a:pt x="1057" y="1499"/>
                    </a:lnTo>
                    <a:lnTo>
                      <a:pt x="1059" y="1515"/>
                    </a:lnTo>
                    <a:lnTo>
                      <a:pt x="1061" y="1522"/>
                    </a:lnTo>
                    <a:lnTo>
                      <a:pt x="1167" y="15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-479520" y="490680"/>
                <a:ext cx="103680" cy="36000"/>
              </a:xfrm>
              <a:custGeom>
                <a:avLst/>
                <a:gdLst/>
                <a:ahLst/>
                <a:rect l="l" t="t" r="r" b="b"/>
                <a:pathLst>
                  <a:path w="258" h="190">
                    <a:moveTo>
                      <a:pt x="135" y="0"/>
                    </a:moveTo>
                    <a:lnTo>
                      <a:pt x="135" y="109"/>
                    </a:lnTo>
                    <a:lnTo>
                      <a:pt x="5" y="126"/>
                    </a:lnTo>
                    <a:lnTo>
                      <a:pt x="3" y="142"/>
                    </a:lnTo>
                    <a:lnTo>
                      <a:pt x="3" y="157"/>
                    </a:lnTo>
                    <a:lnTo>
                      <a:pt x="2" y="173"/>
                    </a:lnTo>
                    <a:lnTo>
                      <a:pt x="0" y="189"/>
                    </a:lnTo>
                    <a:lnTo>
                      <a:pt x="29" y="190"/>
                    </a:lnTo>
                    <a:lnTo>
                      <a:pt x="246" y="173"/>
                    </a:lnTo>
                    <a:lnTo>
                      <a:pt x="247" y="126"/>
                    </a:lnTo>
                    <a:lnTo>
                      <a:pt x="250" y="81"/>
                    </a:lnTo>
                    <a:lnTo>
                      <a:pt x="254" y="38"/>
                    </a:lnTo>
                    <a:lnTo>
                      <a:pt x="258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-857880" y="485640"/>
                <a:ext cx="380520" cy="40680"/>
              </a:xfrm>
              <a:custGeom>
                <a:avLst/>
                <a:gdLst/>
                <a:ahLst/>
                <a:rect l="l" t="t" r="r" b="b"/>
                <a:pathLst>
                  <a:path w="944" h="215">
                    <a:moveTo>
                      <a:pt x="937" y="152"/>
                    </a:moveTo>
                    <a:lnTo>
                      <a:pt x="940" y="93"/>
                    </a:lnTo>
                    <a:lnTo>
                      <a:pt x="940" y="91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88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91"/>
                    </a:lnTo>
                    <a:lnTo>
                      <a:pt x="940" y="93"/>
                    </a:lnTo>
                    <a:lnTo>
                      <a:pt x="944" y="17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37" y="215"/>
                    </a:lnTo>
                    <a:lnTo>
                      <a:pt x="939" y="199"/>
                    </a:lnTo>
                    <a:lnTo>
                      <a:pt x="940" y="183"/>
                    </a:lnTo>
                    <a:lnTo>
                      <a:pt x="940" y="168"/>
                    </a:lnTo>
                    <a:lnTo>
                      <a:pt x="942" y="152"/>
                    </a:lnTo>
                    <a:lnTo>
                      <a:pt x="937" y="152"/>
                    </a:lnTo>
                    <a:close/>
                  </a:path>
                </a:pathLst>
              </a:custGeom>
              <a:solidFill>
                <a:srgbClr val="14a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-533880" y="49140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5" y="0"/>
                    </a:moveTo>
                    <a:lnTo>
                      <a:pt x="79" y="165"/>
                    </a:lnTo>
                    <a:lnTo>
                      <a:pt x="1" y="170"/>
                    </a:lnTo>
                    <a:lnTo>
                      <a:pt x="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-471600" y="202320"/>
                <a:ext cx="466200" cy="280080"/>
              </a:xfrm>
              <a:custGeom>
                <a:avLst/>
                <a:gdLst/>
                <a:ahLst/>
                <a:rect l="l" t="t" r="r" b="b"/>
                <a:pathLst>
                  <a:path w="1159" h="1475">
                    <a:moveTo>
                      <a:pt x="0" y="0"/>
                    </a:moveTo>
                    <a:lnTo>
                      <a:pt x="1159" y="1475"/>
                    </a:lnTo>
                    <a:lnTo>
                      <a:pt x="1159" y="1199"/>
                    </a:lnTo>
                    <a:lnTo>
                      <a:pt x="115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-844200" y="465120"/>
                <a:ext cx="342360" cy="21600"/>
              </a:xfrm>
              <a:custGeom>
                <a:avLst/>
                <a:gdLst/>
                <a:ahLst/>
                <a:rect l="l" t="t" r="r" b="b"/>
                <a:pathLst>
                  <a:path w="849" h="115">
                    <a:moveTo>
                      <a:pt x="0" y="0"/>
                    </a:moveTo>
                    <a:lnTo>
                      <a:pt x="0" y="93"/>
                    </a:lnTo>
                    <a:lnTo>
                      <a:pt x="847" y="115"/>
                    </a:lnTo>
                    <a:lnTo>
                      <a:pt x="84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-83160" y="475560"/>
                <a:ext cx="77760" cy="2376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95" y="0"/>
                    </a:moveTo>
                    <a:lnTo>
                      <a:pt x="0" y="21"/>
                    </a:lnTo>
                    <a:lnTo>
                      <a:pt x="3" y="50"/>
                    </a:lnTo>
                    <a:lnTo>
                      <a:pt x="5" y="78"/>
                    </a:lnTo>
                    <a:lnTo>
                      <a:pt x="5" y="104"/>
                    </a:lnTo>
                    <a:lnTo>
                      <a:pt x="3" y="126"/>
                    </a:lnTo>
                    <a:lnTo>
                      <a:pt x="186" y="6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-172080" y="48168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127" h="157">
                    <a:moveTo>
                      <a:pt x="116" y="140"/>
                    </a:moveTo>
                    <a:lnTo>
                      <a:pt x="120" y="139"/>
                    </a:lnTo>
                    <a:lnTo>
                      <a:pt x="120" y="106"/>
                    </a:lnTo>
                    <a:lnTo>
                      <a:pt x="122" y="71"/>
                    </a:lnTo>
                    <a:lnTo>
                      <a:pt x="124" y="35"/>
                    </a:lnTo>
                    <a:lnTo>
                      <a:pt x="127" y="0"/>
                    </a:lnTo>
                    <a:lnTo>
                      <a:pt x="1" y="14"/>
                    </a:lnTo>
                    <a:lnTo>
                      <a:pt x="0" y="157"/>
                    </a:lnTo>
                    <a:lnTo>
                      <a:pt x="116" y="14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-322560" y="488160"/>
                <a:ext cx="81000" cy="32760"/>
              </a:xfrm>
              <a:custGeom>
                <a:avLst/>
                <a:gdLst/>
                <a:ahLst/>
                <a:rect l="l" t="t" r="r" b="b"/>
                <a:pathLst>
                  <a:path w="203" h="174">
                    <a:moveTo>
                      <a:pt x="0" y="174"/>
                    </a:moveTo>
                    <a:lnTo>
                      <a:pt x="3" y="174"/>
                    </a:lnTo>
                    <a:lnTo>
                      <a:pt x="203" y="147"/>
                    </a:lnTo>
                    <a:lnTo>
                      <a:pt x="195" y="0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4" y="52"/>
                    </a:lnTo>
                    <a:lnTo>
                      <a:pt x="13" y="89"/>
                    </a:lnTo>
                    <a:lnTo>
                      <a:pt x="9" y="13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-401760" y="224640"/>
                <a:ext cx="73080" cy="70920"/>
              </a:xfrm>
              <a:custGeom>
                <a:avLst/>
                <a:gdLst/>
                <a:ahLst/>
                <a:rect l="l" t="t" r="r" b="b"/>
                <a:pathLst>
                  <a:path w="181" h="375">
                    <a:moveTo>
                      <a:pt x="0" y="0"/>
                    </a:moveTo>
                    <a:lnTo>
                      <a:pt x="8" y="319"/>
                    </a:lnTo>
                    <a:lnTo>
                      <a:pt x="181" y="375"/>
                    </a:lnTo>
                    <a:lnTo>
                      <a:pt x="14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-487800" y="211320"/>
                <a:ext cx="77400" cy="69840"/>
              </a:xfrm>
              <a:custGeom>
                <a:avLst/>
                <a:gdLst/>
                <a:ahLst/>
                <a:rect l="l" t="t" r="r" b="b"/>
                <a:pathLst>
                  <a:path w="191" h="369">
                    <a:moveTo>
                      <a:pt x="0" y="0"/>
                    </a:moveTo>
                    <a:lnTo>
                      <a:pt x="1" y="41"/>
                    </a:lnTo>
                    <a:lnTo>
                      <a:pt x="7" y="136"/>
                    </a:lnTo>
                    <a:lnTo>
                      <a:pt x="14" y="241"/>
                    </a:lnTo>
                    <a:lnTo>
                      <a:pt x="25" y="314"/>
                    </a:lnTo>
                    <a:lnTo>
                      <a:pt x="191" y="369"/>
                    </a:lnTo>
                    <a:lnTo>
                      <a:pt x="149" y="46"/>
                    </a:lnTo>
                    <a:lnTo>
                      <a:pt x="143" y="44"/>
                    </a:lnTo>
                    <a:lnTo>
                      <a:pt x="128" y="38"/>
                    </a:lnTo>
                    <a:lnTo>
                      <a:pt x="106" y="30"/>
                    </a:lnTo>
                    <a:lnTo>
                      <a:pt x="81" y="21"/>
                    </a:lnTo>
                    <a:lnTo>
                      <a:pt x="54" y="13"/>
                    </a:lnTo>
                    <a:lnTo>
                      <a:pt x="30" y="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-314640" y="243720"/>
                <a:ext cx="64440" cy="63360"/>
              </a:xfrm>
              <a:custGeom>
                <a:avLst/>
                <a:gdLst/>
                <a:ahLst/>
                <a:rect l="l" t="t" r="r" b="b"/>
                <a:pathLst>
                  <a:path w="162" h="335">
                    <a:moveTo>
                      <a:pt x="162" y="335"/>
                    </a:moveTo>
                    <a:lnTo>
                      <a:pt x="136" y="41"/>
                    </a:lnTo>
                    <a:lnTo>
                      <a:pt x="4" y="0"/>
                    </a:lnTo>
                    <a:lnTo>
                      <a:pt x="0" y="280"/>
                    </a:lnTo>
                    <a:lnTo>
                      <a:pt x="162" y="335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-239760" y="255600"/>
                <a:ext cx="56520" cy="61200"/>
              </a:xfrm>
              <a:custGeom>
                <a:avLst/>
                <a:gdLst/>
                <a:ahLst/>
                <a:rect l="l" t="t" r="r" b="b"/>
                <a:pathLst>
                  <a:path w="141" h="325">
                    <a:moveTo>
                      <a:pt x="9" y="281"/>
                    </a:moveTo>
                    <a:lnTo>
                      <a:pt x="0" y="0"/>
                    </a:lnTo>
                    <a:lnTo>
                      <a:pt x="115" y="51"/>
                    </a:lnTo>
                    <a:lnTo>
                      <a:pt x="141" y="325"/>
                    </a:lnTo>
                    <a:lnTo>
                      <a:pt x="9" y="281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-172800" y="269280"/>
                <a:ext cx="44280" cy="540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17" y="257"/>
                    </a:lnTo>
                    <a:lnTo>
                      <a:pt x="109" y="287"/>
                    </a:lnTo>
                    <a:lnTo>
                      <a:pt x="88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-120240" y="281520"/>
                <a:ext cx="43200" cy="49320"/>
              </a:xfrm>
              <a:custGeom>
                <a:avLst/>
                <a:gdLst/>
                <a:ahLst/>
                <a:rect l="l" t="t" r="r" b="b"/>
                <a:pathLst>
                  <a:path w="106" h="261">
                    <a:moveTo>
                      <a:pt x="0" y="0"/>
                    </a:moveTo>
                    <a:lnTo>
                      <a:pt x="12" y="240"/>
                    </a:lnTo>
                    <a:lnTo>
                      <a:pt x="106" y="261"/>
                    </a:lnTo>
                    <a:lnTo>
                      <a:pt x="72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-68760" y="290160"/>
                <a:ext cx="42840" cy="45360"/>
              </a:xfrm>
              <a:custGeom>
                <a:avLst/>
                <a:gdLst/>
                <a:ahLst/>
                <a:rect l="l" t="t" r="r" b="b"/>
                <a:pathLst>
                  <a:path w="107" h="239">
                    <a:moveTo>
                      <a:pt x="0" y="0"/>
                    </a:moveTo>
                    <a:lnTo>
                      <a:pt x="68" y="30"/>
                    </a:lnTo>
                    <a:lnTo>
                      <a:pt x="71" y="38"/>
                    </a:lnTo>
                    <a:lnTo>
                      <a:pt x="77" y="59"/>
                    </a:lnTo>
                    <a:lnTo>
                      <a:pt x="85" y="90"/>
                    </a:lnTo>
                    <a:lnTo>
                      <a:pt x="94" y="126"/>
                    </a:lnTo>
                    <a:lnTo>
                      <a:pt x="101" y="164"/>
                    </a:lnTo>
                    <a:lnTo>
                      <a:pt x="107" y="198"/>
                    </a:lnTo>
                    <a:lnTo>
                      <a:pt x="107" y="224"/>
                    </a:lnTo>
                    <a:lnTo>
                      <a:pt x="102" y="239"/>
                    </a:lnTo>
                    <a:lnTo>
                      <a:pt x="22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-387720" y="358560"/>
                <a:ext cx="67320" cy="61200"/>
              </a:xfrm>
              <a:custGeom>
                <a:avLst/>
                <a:gdLst/>
                <a:ahLst/>
                <a:rect l="l" t="t" r="r" b="b"/>
                <a:pathLst>
                  <a:path w="168" h="321">
                    <a:moveTo>
                      <a:pt x="4" y="0"/>
                    </a:moveTo>
                    <a:lnTo>
                      <a:pt x="0" y="317"/>
                    </a:lnTo>
                    <a:lnTo>
                      <a:pt x="168" y="321"/>
                    </a:lnTo>
                    <a:lnTo>
                      <a:pt x="168" y="2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-303480" y="366480"/>
                <a:ext cx="59040" cy="54720"/>
              </a:xfrm>
              <a:custGeom>
                <a:avLst/>
                <a:gdLst/>
                <a:ahLst/>
                <a:rect l="l" t="t" r="r" b="b"/>
                <a:pathLst>
                  <a:path w="145" h="288">
                    <a:moveTo>
                      <a:pt x="8" y="0"/>
                    </a:moveTo>
                    <a:lnTo>
                      <a:pt x="0" y="284"/>
                    </a:lnTo>
                    <a:lnTo>
                      <a:pt x="140" y="288"/>
                    </a:lnTo>
                    <a:lnTo>
                      <a:pt x="145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-174240" y="377280"/>
                <a:ext cx="33480" cy="49680"/>
              </a:xfrm>
              <a:custGeom>
                <a:avLst/>
                <a:gdLst/>
                <a:ahLst/>
                <a:rect l="l" t="t" r="r" b="b"/>
                <a:pathLst>
                  <a:path w="84" h="263">
                    <a:moveTo>
                      <a:pt x="0" y="0"/>
                    </a:moveTo>
                    <a:lnTo>
                      <a:pt x="0" y="254"/>
                    </a:lnTo>
                    <a:lnTo>
                      <a:pt x="79" y="263"/>
                    </a:lnTo>
                    <a:lnTo>
                      <a:pt x="8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-123840" y="381600"/>
                <a:ext cx="41040" cy="4572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4" y="0"/>
                    </a:moveTo>
                    <a:lnTo>
                      <a:pt x="0" y="228"/>
                    </a:lnTo>
                    <a:lnTo>
                      <a:pt x="98" y="241"/>
                    </a:lnTo>
                    <a:lnTo>
                      <a:pt x="102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-65520" y="385920"/>
                <a:ext cx="29880" cy="42480"/>
              </a:xfrm>
              <a:custGeom>
                <a:avLst/>
                <a:gdLst/>
                <a:ahLst/>
                <a:rect l="l" t="t" r="r" b="b"/>
                <a:pathLst>
                  <a:path w="72" h="224">
                    <a:moveTo>
                      <a:pt x="0" y="0"/>
                    </a:moveTo>
                    <a:lnTo>
                      <a:pt x="0" y="224"/>
                    </a:lnTo>
                    <a:lnTo>
                      <a:pt x="72" y="220"/>
                    </a:lnTo>
                    <a:lnTo>
                      <a:pt x="7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-836640" y="345960"/>
                <a:ext cx="343800" cy="86400"/>
              </a:xfrm>
              <a:custGeom>
                <a:avLst/>
                <a:gdLst/>
                <a:ahLst/>
                <a:rect l="l" t="t" r="r" b="b"/>
                <a:pathLst>
                  <a:path w="855" h="456">
                    <a:moveTo>
                      <a:pt x="68" y="27"/>
                    </a:moveTo>
                    <a:lnTo>
                      <a:pt x="65" y="27"/>
                    </a:lnTo>
                    <a:lnTo>
                      <a:pt x="58" y="30"/>
                    </a:lnTo>
                    <a:lnTo>
                      <a:pt x="50" y="33"/>
                    </a:lnTo>
                    <a:lnTo>
                      <a:pt x="38" y="39"/>
                    </a:lnTo>
                    <a:lnTo>
                      <a:pt x="27" y="47"/>
                    </a:lnTo>
                    <a:lnTo>
                      <a:pt x="16" y="58"/>
                    </a:lnTo>
                    <a:lnTo>
                      <a:pt x="9" y="73"/>
                    </a:lnTo>
                    <a:lnTo>
                      <a:pt x="4" y="91"/>
                    </a:lnTo>
                    <a:lnTo>
                      <a:pt x="1" y="170"/>
                    </a:lnTo>
                    <a:lnTo>
                      <a:pt x="0" y="292"/>
                    </a:lnTo>
                    <a:lnTo>
                      <a:pt x="0" y="403"/>
                    </a:lnTo>
                    <a:lnTo>
                      <a:pt x="0" y="451"/>
                    </a:lnTo>
                    <a:lnTo>
                      <a:pt x="783" y="456"/>
                    </a:lnTo>
                    <a:lnTo>
                      <a:pt x="786" y="454"/>
                    </a:lnTo>
                    <a:lnTo>
                      <a:pt x="794" y="451"/>
                    </a:lnTo>
                    <a:lnTo>
                      <a:pt x="807" y="446"/>
                    </a:lnTo>
                    <a:lnTo>
                      <a:pt x="821" y="436"/>
                    </a:lnTo>
                    <a:lnTo>
                      <a:pt x="834" y="423"/>
                    </a:lnTo>
                    <a:lnTo>
                      <a:pt x="845" y="406"/>
                    </a:lnTo>
                    <a:lnTo>
                      <a:pt x="854" y="382"/>
                    </a:lnTo>
                    <a:lnTo>
                      <a:pt x="855" y="353"/>
                    </a:lnTo>
                    <a:lnTo>
                      <a:pt x="852" y="270"/>
                    </a:lnTo>
                    <a:lnTo>
                      <a:pt x="851" y="165"/>
                    </a:lnTo>
                    <a:lnTo>
                      <a:pt x="851" y="77"/>
                    </a:lnTo>
                    <a:lnTo>
                      <a:pt x="851" y="40"/>
                    </a:lnTo>
                    <a:lnTo>
                      <a:pt x="851" y="39"/>
                    </a:lnTo>
                    <a:lnTo>
                      <a:pt x="849" y="36"/>
                    </a:lnTo>
                    <a:lnTo>
                      <a:pt x="845" y="30"/>
                    </a:lnTo>
                    <a:lnTo>
                      <a:pt x="838" y="24"/>
                    </a:lnTo>
                    <a:lnTo>
                      <a:pt x="828" y="19"/>
                    </a:lnTo>
                    <a:lnTo>
                      <a:pt x="813" y="12"/>
                    </a:lnTo>
                    <a:lnTo>
                      <a:pt x="793" y="6"/>
                    </a:lnTo>
                    <a:lnTo>
                      <a:pt x="766" y="2"/>
                    </a:lnTo>
                    <a:lnTo>
                      <a:pt x="745" y="0"/>
                    </a:lnTo>
                    <a:lnTo>
                      <a:pt x="713" y="0"/>
                    </a:lnTo>
                    <a:lnTo>
                      <a:pt x="672" y="0"/>
                    </a:lnTo>
                    <a:lnTo>
                      <a:pt x="624" y="2"/>
                    </a:lnTo>
                    <a:lnTo>
                      <a:pt x="570" y="5"/>
                    </a:lnTo>
                    <a:lnTo>
                      <a:pt x="511" y="6"/>
                    </a:lnTo>
                    <a:lnTo>
                      <a:pt x="450" y="9"/>
                    </a:lnTo>
                    <a:lnTo>
                      <a:pt x="387" y="12"/>
                    </a:lnTo>
                    <a:lnTo>
                      <a:pt x="326" y="14"/>
                    </a:lnTo>
                    <a:lnTo>
                      <a:pt x="268" y="17"/>
                    </a:lnTo>
                    <a:lnTo>
                      <a:pt x="214" y="20"/>
                    </a:lnTo>
                    <a:lnTo>
                      <a:pt x="166" y="22"/>
                    </a:lnTo>
                    <a:lnTo>
                      <a:pt x="126" y="24"/>
                    </a:lnTo>
                    <a:lnTo>
                      <a:pt x="95" y="26"/>
                    </a:lnTo>
                    <a:lnTo>
                      <a:pt x="75" y="27"/>
                    </a:lnTo>
                    <a:lnTo>
                      <a:pt x="68" y="27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-831960" y="366480"/>
                <a:ext cx="139680" cy="57960"/>
              </a:xfrm>
              <a:custGeom>
                <a:avLst/>
                <a:gdLst/>
                <a:ahLst/>
                <a:rect l="l" t="t" r="r" b="b"/>
                <a:pathLst>
                  <a:path w="347" h="306">
                    <a:moveTo>
                      <a:pt x="305" y="0"/>
                    </a:moveTo>
                    <a:lnTo>
                      <a:pt x="305" y="30"/>
                    </a:lnTo>
                    <a:lnTo>
                      <a:pt x="305" y="99"/>
                    </a:lnTo>
                    <a:lnTo>
                      <a:pt x="300" y="173"/>
                    </a:lnTo>
                    <a:lnTo>
                      <a:pt x="292" y="220"/>
                    </a:lnTo>
                    <a:lnTo>
                      <a:pt x="286" y="226"/>
                    </a:lnTo>
                    <a:lnTo>
                      <a:pt x="275" y="230"/>
                    </a:lnTo>
                    <a:lnTo>
                      <a:pt x="259" y="234"/>
                    </a:lnTo>
                    <a:lnTo>
                      <a:pt x="239" y="238"/>
                    </a:lnTo>
                    <a:lnTo>
                      <a:pt x="217" y="241"/>
                    </a:lnTo>
                    <a:lnTo>
                      <a:pt x="193" y="244"/>
                    </a:lnTo>
                    <a:lnTo>
                      <a:pt x="166" y="245"/>
                    </a:lnTo>
                    <a:lnTo>
                      <a:pt x="140" y="248"/>
                    </a:lnTo>
                    <a:lnTo>
                      <a:pt x="113" y="250"/>
                    </a:lnTo>
                    <a:lnTo>
                      <a:pt x="88" y="251"/>
                    </a:lnTo>
                    <a:lnTo>
                      <a:pt x="64" y="253"/>
                    </a:lnTo>
                    <a:lnTo>
                      <a:pt x="44" y="253"/>
                    </a:lnTo>
                    <a:lnTo>
                      <a:pt x="25" y="254"/>
                    </a:lnTo>
                    <a:lnTo>
                      <a:pt x="11" y="254"/>
                    </a:lnTo>
                    <a:lnTo>
                      <a:pt x="3" y="254"/>
                    </a:lnTo>
                    <a:lnTo>
                      <a:pt x="0" y="254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71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3" y="306"/>
                    </a:lnTo>
                    <a:lnTo>
                      <a:pt x="181" y="306"/>
                    </a:lnTo>
                    <a:lnTo>
                      <a:pt x="211" y="306"/>
                    </a:lnTo>
                    <a:lnTo>
                      <a:pt x="238" y="306"/>
                    </a:lnTo>
                    <a:lnTo>
                      <a:pt x="262" y="305"/>
                    </a:lnTo>
                    <a:lnTo>
                      <a:pt x="283" y="304"/>
                    </a:lnTo>
                    <a:lnTo>
                      <a:pt x="302" y="302"/>
                    </a:lnTo>
                    <a:lnTo>
                      <a:pt x="315" y="299"/>
                    </a:lnTo>
                    <a:lnTo>
                      <a:pt x="322" y="296"/>
                    </a:lnTo>
                    <a:lnTo>
                      <a:pt x="334" y="244"/>
                    </a:lnTo>
                    <a:lnTo>
                      <a:pt x="343" y="146"/>
                    </a:lnTo>
                    <a:lnTo>
                      <a:pt x="346" y="51"/>
                    </a:lnTo>
                    <a:lnTo>
                      <a:pt x="347" y="9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-833400" y="347040"/>
                <a:ext cx="165240" cy="76320"/>
              </a:xfrm>
              <a:custGeom>
                <a:avLst/>
                <a:gdLst/>
                <a:ahLst/>
                <a:rect l="l" t="t" r="r" b="b"/>
                <a:pathLst>
                  <a:path w="411" h="403">
                    <a:moveTo>
                      <a:pt x="377" y="7"/>
                    </a:moveTo>
                    <a:lnTo>
                      <a:pt x="364" y="364"/>
                    </a:lnTo>
                    <a:lnTo>
                      <a:pt x="1" y="357"/>
                    </a:lnTo>
                    <a:lnTo>
                      <a:pt x="0" y="403"/>
                    </a:lnTo>
                    <a:lnTo>
                      <a:pt x="398" y="403"/>
                    </a:lnTo>
                    <a:lnTo>
                      <a:pt x="411" y="0"/>
                    </a:lnTo>
                    <a:lnTo>
                      <a:pt x="377" y="7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-833400" y="196560"/>
                <a:ext cx="138960" cy="77400"/>
              </a:xfrm>
              <a:custGeom>
                <a:avLst/>
                <a:gdLst/>
                <a:ahLst/>
                <a:rect l="l" t="t" r="r" b="b"/>
                <a:pathLst>
                  <a:path w="347" h="407">
                    <a:moveTo>
                      <a:pt x="347" y="0"/>
                    </a:moveTo>
                    <a:lnTo>
                      <a:pt x="324" y="358"/>
                    </a:lnTo>
                    <a:lnTo>
                      <a:pt x="323" y="360"/>
                    </a:lnTo>
                    <a:lnTo>
                      <a:pt x="316" y="365"/>
                    </a:lnTo>
                    <a:lnTo>
                      <a:pt x="304" y="374"/>
                    </a:lnTo>
                    <a:lnTo>
                      <a:pt x="287" y="383"/>
                    </a:lnTo>
                    <a:lnTo>
                      <a:pt x="265" y="391"/>
                    </a:lnTo>
                    <a:lnTo>
                      <a:pt x="235" y="400"/>
                    </a:lnTo>
                    <a:lnTo>
                      <a:pt x="198" y="405"/>
                    </a:lnTo>
                    <a:lnTo>
                      <a:pt x="153" y="407"/>
                    </a:lnTo>
                    <a:lnTo>
                      <a:pt x="109" y="407"/>
                    </a:lnTo>
                    <a:lnTo>
                      <a:pt x="75" y="407"/>
                    </a:lnTo>
                    <a:lnTo>
                      <a:pt x="49" y="407"/>
                    </a:lnTo>
                    <a:lnTo>
                      <a:pt x="29" y="405"/>
                    </a:lnTo>
                    <a:lnTo>
                      <a:pt x="17" y="402"/>
                    </a:lnTo>
                    <a:lnTo>
                      <a:pt x="8" y="398"/>
                    </a:lnTo>
                    <a:lnTo>
                      <a:pt x="4" y="391"/>
                    </a:lnTo>
                    <a:lnTo>
                      <a:pt x="0" y="381"/>
                    </a:lnTo>
                    <a:lnTo>
                      <a:pt x="1" y="322"/>
                    </a:lnTo>
                    <a:lnTo>
                      <a:pt x="11" y="218"/>
                    </a:lnTo>
                    <a:lnTo>
                      <a:pt x="24" y="120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6" y="73"/>
                    </a:lnTo>
                    <a:lnTo>
                      <a:pt x="45" y="72"/>
                    </a:lnTo>
                    <a:lnTo>
                      <a:pt x="56" y="68"/>
                    </a:lnTo>
                    <a:lnTo>
                      <a:pt x="70" y="63"/>
                    </a:lnTo>
                    <a:lnTo>
                      <a:pt x="86" y="59"/>
                    </a:lnTo>
                    <a:lnTo>
                      <a:pt x="106" y="53"/>
                    </a:lnTo>
                    <a:lnTo>
                      <a:pt x="127" y="48"/>
                    </a:lnTo>
                    <a:lnTo>
                      <a:pt x="150" y="41"/>
                    </a:lnTo>
                    <a:lnTo>
                      <a:pt x="174" y="35"/>
                    </a:lnTo>
                    <a:lnTo>
                      <a:pt x="201" y="29"/>
                    </a:lnTo>
                    <a:lnTo>
                      <a:pt x="228" y="22"/>
                    </a:lnTo>
                    <a:lnTo>
                      <a:pt x="256" y="17"/>
                    </a:lnTo>
                    <a:lnTo>
                      <a:pt x="286" y="10"/>
                    </a:lnTo>
                    <a:lnTo>
                      <a:pt x="316" y="5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-678240" y="195120"/>
                <a:ext cx="154440" cy="72720"/>
              </a:xfrm>
              <a:custGeom>
                <a:avLst/>
                <a:gdLst/>
                <a:ahLst/>
                <a:rect l="l" t="t" r="r" b="b"/>
                <a:pathLst>
                  <a:path w="385" h="383">
                    <a:moveTo>
                      <a:pt x="385" y="0"/>
                    </a:moveTo>
                    <a:lnTo>
                      <a:pt x="385" y="45"/>
                    </a:lnTo>
                    <a:lnTo>
                      <a:pt x="383" y="146"/>
                    </a:lnTo>
                    <a:lnTo>
                      <a:pt x="379" y="254"/>
                    </a:lnTo>
                    <a:lnTo>
                      <a:pt x="372" y="318"/>
                    </a:lnTo>
                    <a:lnTo>
                      <a:pt x="369" y="331"/>
                    </a:lnTo>
                    <a:lnTo>
                      <a:pt x="366" y="340"/>
                    </a:lnTo>
                    <a:lnTo>
                      <a:pt x="365" y="350"/>
                    </a:lnTo>
                    <a:lnTo>
                      <a:pt x="360" y="357"/>
                    </a:lnTo>
                    <a:lnTo>
                      <a:pt x="352" y="365"/>
                    </a:lnTo>
                    <a:lnTo>
                      <a:pt x="336" y="369"/>
                    </a:lnTo>
                    <a:lnTo>
                      <a:pt x="314" y="372"/>
                    </a:lnTo>
                    <a:lnTo>
                      <a:pt x="280" y="373"/>
                    </a:lnTo>
                    <a:lnTo>
                      <a:pt x="277" y="373"/>
                    </a:lnTo>
                    <a:lnTo>
                      <a:pt x="270" y="374"/>
                    </a:lnTo>
                    <a:lnTo>
                      <a:pt x="258" y="374"/>
                    </a:lnTo>
                    <a:lnTo>
                      <a:pt x="243" y="376"/>
                    </a:lnTo>
                    <a:lnTo>
                      <a:pt x="226" y="377"/>
                    </a:lnTo>
                    <a:lnTo>
                      <a:pt x="204" y="379"/>
                    </a:lnTo>
                    <a:lnTo>
                      <a:pt x="183" y="380"/>
                    </a:lnTo>
                    <a:lnTo>
                      <a:pt x="159" y="382"/>
                    </a:lnTo>
                    <a:lnTo>
                      <a:pt x="136" y="382"/>
                    </a:lnTo>
                    <a:lnTo>
                      <a:pt x="112" y="383"/>
                    </a:lnTo>
                    <a:lnTo>
                      <a:pt x="90" y="383"/>
                    </a:lnTo>
                    <a:lnTo>
                      <a:pt x="67" y="382"/>
                    </a:lnTo>
                    <a:lnTo>
                      <a:pt x="47" y="382"/>
                    </a:lnTo>
                    <a:lnTo>
                      <a:pt x="30" y="379"/>
                    </a:lnTo>
                    <a:lnTo>
                      <a:pt x="16" y="376"/>
                    </a:lnTo>
                    <a:lnTo>
                      <a:pt x="5" y="373"/>
                    </a:lnTo>
                    <a:lnTo>
                      <a:pt x="5" y="365"/>
                    </a:lnTo>
                    <a:lnTo>
                      <a:pt x="3" y="345"/>
                    </a:lnTo>
                    <a:lnTo>
                      <a:pt x="0" y="321"/>
                    </a:lnTo>
                    <a:lnTo>
                      <a:pt x="0" y="301"/>
                    </a:lnTo>
                    <a:lnTo>
                      <a:pt x="3" y="245"/>
                    </a:lnTo>
                    <a:lnTo>
                      <a:pt x="12" y="145"/>
                    </a:lnTo>
                    <a:lnTo>
                      <a:pt x="19" y="48"/>
                    </a:lnTo>
                    <a:lnTo>
                      <a:pt x="22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-863640" y="179280"/>
                <a:ext cx="863640" cy="360360"/>
              </a:xfrm>
              <a:custGeom>
                <a:avLst/>
                <a:gdLst/>
                <a:ahLst/>
                <a:rect l="l" t="t" r="r" b="b"/>
                <a:pathLst>
                  <a:path w="2144" h="1898">
                    <a:moveTo>
                      <a:pt x="285" y="36"/>
                    </a:moveTo>
                    <a:lnTo>
                      <a:pt x="227" y="50"/>
                    </a:lnTo>
                    <a:lnTo>
                      <a:pt x="180" y="63"/>
                    </a:lnTo>
                    <a:lnTo>
                      <a:pt x="143" y="74"/>
                    </a:lnTo>
                    <a:lnTo>
                      <a:pt x="115" y="86"/>
                    </a:lnTo>
                    <a:lnTo>
                      <a:pt x="95" y="95"/>
                    </a:lnTo>
                    <a:lnTo>
                      <a:pt x="82" y="103"/>
                    </a:lnTo>
                    <a:lnTo>
                      <a:pt x="75" y="108"/>
                    </a:lnTo>
                    <a:lnTo>
                      <a:pt x="72" y="111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51" y="192"/>
                    </a:lnTo>
                    <a:lnTo>
                      <a:pt x="37" y="295"/>
                    </a:lnTo>
                    <a:lnTo>
                      <a:pt x="28" y="415"/>
                    </a:lnTo>
                    <a:lnTo>
                      <a:pt x="21" y="538"/>
                    </a:lnTo>
                    <a:lnTo>
                      <a:pt x="17" y="656"/>
                    </a:lnTo>
                    <a:lnTo>
                      <a:pt x="15" y="755"/>
                    </a:lnTo>
                    <a:lnTo>
                      <a:pt x="14" y="827"/>
                    </a:lnTo>
                    <a:lnTo>
                      <a:pt x="14" y="858"/>
                    </a:lnTo>
                    <a:lnTo>
                      <a:pt x="14" y="873"/>
                    </a:lnTo>
                    <a:lnTo>
                      <a:pt x="27" y="870"/>
                    </a:lnTo>
                    <a:lnTo>
                      <a:pt x="64" y="866"/>
                    </a:lnTo>
                    <a:lnTo>
                      <a:pt x="109" y="861"/>
                    </a:lnTo>
                    <a:lnTo>
                      <a:pt x="161" y="857"/>
                    </a:lnTo>
                    <a:lnTo>
                      <a:pt x="221" y="854"/>
                    </a:lnTo>
                    <a:lnTo>
                      <a:pt x="285" y="850"/>
                    </a:lnTo>
                    <a:lnTo>
                      <a:pt x="350" y="847"/>
                    </a:lnTo>
                    <a:lnTo>
                      <a:pt x="418" y="844"/>
                    </a:lnTo>
                    <a:lnTo>
                      <a:pt x="485" y="841"/>
                    </a:lnTo>
                    <a:lnTo>
                      <a:pt x="550" y="839"/>
                    </a:lnTo>
                    <a:lnTo>
                      <a:pt x="612" y="837"/>
                    </a:lnTo>
                    <a:lnTo>
                      <a:pt x="669" y="834"/>
                    </a:lnTo>
                    <a:lnTo>
                      <a:pt x="720" y="833"/>
                    </a:lnTo>
                    <a:lnTo>
                      <a:pt x="761" y="831"/>
                    </a:lnTo>
                    <a:lnTo>
                      <a:pt x="794" y="831"/>
                    </a:lnTo>
                    <a:lnTo>
                      <a:pt x="815" y="830"/>
                    </a:lnTo>
                    <a:lnTo>
                      <a:pt x="824" y="830"/>
                    </a:lnTo>
                    <a:lnTo>
                      <a:pt x="822" y="807"/>
                    </a:lnTo>
                    <a:lnTo>
                      <a:pt x="815" y="807"/>
                    </a:lnTo>
                    <a:lnTo>
                      <a:pt x="794" y="809"/>
                    </a:lnTo>
                    <a:lnTo>
                      <a:pt x="764" y="809"/>
                    </a:lnTo>
                    <a:lnTo>
                      <a:pt x="723" y="810"/>
                    </a:lnTo>
                    <a:lnTo>
                      <a:pt x="675" y="812"/>
                    </a:lnTo>
                    <a:lnTo>
                      <a:pt x="619" y="813"/>
                    </a:lnTo>
                    <a:lnTo>
                      <a:pt x="560" y="816"/>
                    </a:lnTo>
                    <a:lnTo>
                      <a:pt x="496" y="817"/>
                    </a:lnTo>
                    <a:lnTo>
                      <a:pt x="431" y="820"/>
                    </a:lnTo>
                    <a:lnTo>
                      <a:pt x="364" y="823"/>
                    </a:lnTo>
                    <a:lnTo>
                      <a:pt x="299" y="827"/>
                    </a:lnTo>
                    <a:lnTo>
                      <a:pt x="237" y="830"/>
                    </a:lnTo>
                    <a:lnTo>
                      <a:pt x="177" y="834"/>
                    </a:lnTo>
                    <a:lnTo>
                      <a:pt x="123" y="837"/>
                    </a:lnTo>
                    <a:lnTo>
                      <a:pt x="76" y="841"/>
                    </a:lnTo>
                    <a:lnTo>
                      <a:pt x="37" y="846"/>
                    </a:lnTo>
                    <a:lnTo>
                      <a:pt x="37" y="797"/>
                    </a:lnTo>
                    <a:lnTo>
                      <a:pt x="38" y="719"/>
                    </a:lnTo>
                    <a:lnTo>
                      <a:pt x="41" y="620"/>
                    </a:lnTo>
                    <a:lnTo>
                      <a:pt x="45" y="510"/>
                    </a:lnTo>
                    <a:lnTo>
                      <a:pt x="52" y="396"/>
                    </a:lnTo>
                    <a:lnTo>
                      <a:pt x="61" y="288"/>
                    </a:lnTo>
                    <a:lnTo>
                      <a:pt x="74" y="195"/>
                    </a:lnTo>
                    <a:lnTo>
                      <a:pt x="89" y="125"/>
                    </a:lnTo>
                    <a:lnTo>
                      <a:pt x="95" y="121"/>
                    </a:lnTo>
                    <a:lnTo>
                      <a:pt x="105" y="117"/>
                    </a:lnTo>
                    <a:lnTo>
                      <a:pt x="119" y="110"/>
                    </a:lnTo>
                    <a:lnTo>
                      <a:pt x="139" y="101"/>
                    </a:lnTo>
                    <a:lnTo>
                      <a:pt x="166" y="91"/>
                    </a:lnTo>
                    <a:lnTo>
                      <a:pt x="198" y="81"/>
                    </a:lnTo>
                    <a:lnTo>
                      <a:pt x="239" y="70"/>
                    </a:lnTo>
                    <a:lnTo>
                      <a:pt x="289" y="59"/>
                    </a:lnTo>
                    <a:lnTo>
                      <a:pt x="323" y="51"/>
                    </a:lnTo>
                    <a:lnTo>
                      <a:pt x="360" y="46"/>
                    </a:lnTo>
                    <a:lnTo>
                      <a:pt x="398" y="40"/>
                    </a:lnTo>
                    <a:lnTo>
                      <a:pt x="439" y="36"/>
                    </a:lnTo>
                    <a:lnTo>
                      <a:pt x="482" y="32"/>
                    </a:lnTo>
                    <a:lnTo>
                      <a:pt x="524" y="29"/>
                    </a:lnTo>
                    <a:lnTo>
                      <a:pt x="568" y="26"/>
                    </a:lnTo>
                    <a:lnTo>
                      <a:pt x="611" y="25"/>
                    </a:lnTo>
                    <a:lnTo>
                      <a:pt x="654" y="23"/>
                    </a:lnTo>
                    <a:lnTo>
                      <a:pt x="695" y="23"/>
                    </a:lnTo>
                    <a:lnTo>
                      <a:pt x="733" y="25"/>
                    </a:lnTo>
                    <a:lnTo>
                      <a:pt x="770" y="26"/>
                    </a:lnTo>
                    <a:lnTo>
                      <a:pt x="804" y="29"/>
                    </a:lnTo>
                    <a:lnTo>
                      <a:pt x="834" y="33"/>
                    </a:lnTo>
                    <a:lnTo>
                      <a:pt x="859" y="39"/>
                    </a:lnTo>
                    <a:lnTo>
                      <a:pt x="880" y="44"/>
                    </a:lnTo>
                    <a:lnTo>
                      <a:pt x="880" y="44"/>
                    </a:lnTo>
                    <a:lnTo>
                      <a:pt x="2016" y="534"/>
                    </a:lnTo>
                    <a:lnTo>
                      <a:pt x="2018" y="535"/>
                    </a:lnTo>
                    <a:lnTo>
                      <a:pt x="2023" y="538"/>
                    </a:lnTo>
                    <a:lnTo>
                      <a:pt x="2030" y="542"/>
                    </a:lnTo>
                    <a:lnTo>
                      <a:pt x="2039" y="548"/>
                    </a:lnTo>
                    <a:lnTo>
                      <a:pt x="2047" y="555"/>
                    </a:lnTo>
                    <a:lnTo>
                      <a:pt x="2056" y="563"/>
                    </a:lnTo>
                    <a:lnTo>
                      <a:pt x="2063" y="573"/>
                    </a:lnTo>
                    <a:lnTo>
                      <a:pt x="2067" y="585"/>
                    </a:lnTo>
                    <a:lnTo>
                      <a:pt x="2073" y="612"/>
                    </a:lnTo>
                    <a:lnTo>
                      <a:pt x="2080" y="644"/>
                    </a:lnTo>
                    <a:lnTo>
                      <a:pt x="2087" y="680"/>
                    </a:lnTo>
                    <a:lnTo>
                      <a:pt x="2094" y="715"/>
                    </a:lnTo>
                    <a:lnTo>
                      <a:pt x="2100" y="751"/>
                    </a:lnTo>
                    <a:lnTo>
                      <a:pt x="2106" y="782"/>
                    </a:lnTo>
                    <a:lnTo>
                      <a:pt x="2108" y="807"/>
                    </a:lnTo>
                    <a:lnTo>
                      <a:pt x="2110" y="827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30"/>
                    </a:lnTo>
                    <a:lnTo>
                      <a:pt x="2097" y="827"/>
                    </a:lnTo>
                    <a:lnTo>
                      <a:pt x="2082" y="823"/>
                    </a:lnTo>
                    <a:lnTo>
                      <a:pt x="2059" y="817"/>
                    </a:lnTo>
                    <a:lnTo>
                      <a:pt x="2033" y="812"/>
                    </a:lnTo>
                    <a:lnTo>
                      <a:pt x="2004" y="803"/>
                    </a:lnTo>
                    <a:lnTo>
                      <a:pt x="1971" y="793"/>
                    </a:lnTo>
                    <a:lnTo>
                      <a:pt x="1935" y="783"/>
                    </a:lnTo>
                    <a:lnTo>
                      <a:pt x="1896" y="772"/>
                    </a:lnTo>
                    <a:lnTo>
                      <a:pt x="1855" y="761"/>
                    </a:lnTo>
                    <a:lnTo>
                      <a:pt x="1811" y="746"/>
                    </a:lnTo>
                    <a:lnTo>
                      <a:pt x="1765" y="734"/>
                    </a:lnTo>
                    <a:lnTo>
                      <a:pt x="1717" y="719"/>
                    </a:lnTo>
                    <a:lnTo>
                      <a:pt x="1669" y="705"/>
                    </a:lnTo>
                    <a:lnTo>
                      <a:pt x="1621" y="690"/>
                    </a:lnTo>
                    <a:lnTo>
                      <a:pt x="1571" y="675"/>
                    </a:lnTo>
                    <a:lnTo>
                      <a:pt x="1520" y="660"/>
                    </a:lnTo>
                    <a:lnTo>
                      <a:pt x="1470" y="644"/>
                    </a:lnTo>
                    <a:lnTo>
                      <a:pt x="1422" y="630"/>
                    </a:lnTo>
                    <a:lnTo>
                      <a:pt x="1372" y="615"/>
                    </a:lnTo>
                    <a:lnTo>
                      <a:pt x="1326" y="600"/>
                    </a:lnTo>
                    <a:lnTo>
                      <a:pt x="1280" y="586"/>
                    </a:lnTo>
                    <a:lnTo>
                      <a:pt x="1236" y="572"/>
                    </a:lnTo>
                    <a:lnTo>
                      <a:pt x="1194" y="559"/>
                    </a:lnTo>
                    <a:lnTo>
                      <a:pt x="1154" y="546"/>
                    </a:lnTo>
                    <a:lnTo>
                      <a:pt x="1117" y="535"/>
                    </a:lnTo>
                    <a:lnTo>
                      <a:pt x="1085" y="524"/>
                    </a:lnTo>
                    <a:lnTo>
                      <a:pt x="1055" y="514"/>
                    </a:lnTo>
                    <a:lnTo>
                      <a:pt x="1028" y="505"/>
                    </a:lnTo>
                    <a:lnTo>
                      <a:pt x="1007" y="497"/>
                    </a:lnTo>
                    <a:lnTo>
                      <a:pt x="988" y="491"/>
                    </a:lnTo>
                    <a:lnTo>
                      <a:pt x="975" y="485"/>
                    </a:lnTo>
                    <a:lnTo>
                      <a:pt x="968" y="483"/>
                    </a:lnTo>
                    <a:lnTo>
                      <a:pt x="960" y="437"/>
                    </a:lnTo>
                    <a:lnTo>
                      <a:pt x="953" y="358"/>
                    </a:lnTo>
                    <a:lnTo>
                      <a:pt x="947" y="268"/>
                    </a:lnTo>
                    <a:lnTo>
                      <a:pt x="944" y="196"/>
                    </a:lnTo>
                    <a:lnTo>
                      <a:pt x="944" y="190"/>
                    </a:lnTo>
                    <a:lnTo>
                      <a:pt x="944" y="185"/>
                    </a:lnTo>
                    <a:lnTo>
                      <a:pt x="944" y="179"/>
                    </a:lnTo>
                    <a:lnTo>
                      <a:pt x="944" y="175"/>
                    </a:lnTo>
                    <a:lnTo>
                      <a:pt x="953" y="176"/>
                    </a:lnTo>
                    <a:lnTo>
                      <a:pt x="965" y="181"/>
                    </a:lnTo>
                    <a:lnTo>
                      <a:pt x="980" y="185"/>
                    </a:lnTo>
                    <a:lnTo>
                      <a:pt x="997" y="192"/>
                    </a:lnTo>
                    <a:lnTo>
                      <a:pt x="1014" y="199"/>
                    </a:lnTo>
                    <a:lnTo>
                      <a:pt x="1034" y="206"/>
                    </a:lnTo>
                    <a:lnTo>
                      <a:pt x="1052" y="215"/>
                    </a:lnTo>
                    <a:lnTo>
                      <a:pt x="1072" y="223"/>
                    </a:lnTo>
                    <a:lnTo>
                      <a:pt x="1079" y="276"/>
                    </a:lnTo>
                    <a:lnTo>
                      <a:pt x="1093" y="376"/>
                    </a:lnTo>
                    <a:lnTo>
                      <a:pt x="1107" y="476"/>
                    </a:lnTo>
                    <a:lnTo>
                      <a:pt x="1113" y="521"/>
                    </a:lnTo>
                    <a:lnTo>
                      <a:pt x="1161" y="527"/>
                    </a:lnTo>
                    <a:lnTo>
                      <a:pt x="1160" y="488"/>
                    </a:lnTo>
                    <a:lnTo>
                      <a:pt x="1158" y="400"/>
                    </a:lnTo>
                    <a:lnTo>
                      <a:pt x="1156" y="308"/>
                    </a:lnTo>
                    <a:lnTo>
                      <a:pt x="1154" y="251"/>
                    </a:lnTo>
                    <a:lnTo>
                      <a:pt x="1167" y="257"/>
                    </a:lnTo>
                    <a:lnTo>
                      <a:pt x="1184" y="264"/>
                    </a:lnTo>
                    <a:lnTo>
                      <a:pt x="1204" y="273"/>
                    </a:lnTo>
                    <a:lnTo>
                      <a:pt x="1226" y="281"/>
                    </a:lnTo>
                    <a:lnTo>
                      <a:pt x="1246" y="290"/>
                    </a:lnTo>
                    <a:lnTo>
                      <a:pt x="1265" y="298"/>
                    </a:lnTo>
                    <a:lnTo>
                      <a:pt x="1279" y="304"/>
                    </a:lnTo>
                    <a:lnTo>
                      <a:pt x="1286" y="307"/>
                    </a:lnTo>
                    <a:lnTo>
                      <a:pt x="1292" y="354"/>
                    </a:lnTo>
                    <a:lnTo>
                      <a:pt x="1303" y="447"/>
                    </a:lnTo>
                    <a:lnTo>
                      <a:pt x="1314" y="538"/>
                    </a:lnTo>
                    <a:lnTo>
                      <a:pt x="1320" y="579"/>
                    </a:lnTo>
                    <a:lnTo>
                      <a:pt x="1372" y="603"/>
                    </a:lnTo>
                    <a:lnTo>
                      <a:pt x="1371" y="566"/>
                    </a:lnTo>
                    <a:lnTo>
                      <a:pt x="1370" y="483"/>
                    </a:lnTo>
                    <a:lnTo>
                      <a:pt x="1367" y="393"/>
                    </a:lnTo>
                    <a:lnTo>
                      <a:pt x="1365" y="339"/>
                    </a:lnTo>
                    <a:lnTo>
                      <a:pt x="1377" y="344"/>
                    </a:lnTo>
                    <a:lnTo>
                      <a:pt x="1392" y="351"/>
                    </a:lnTo>
                    <a:lnTo>
                      <a:pt x="1412" y="359"/>
                    </a:lnTo>
                    <a:lnTo>
                      <a:pt x="1431" y="366"/>
                    </a:lnTo>
                    <a:lnTo>
                      <a:pt x="1450" y="375"/>
                    </a:lnTo>
                    <a:lnTo>
                      <a:pt x="1466" y="382"/>
                    </a:lnTo>
                    <a:lnTo>
                      <a:pt x="1479" y="388"/>
                    </a:lnTo>
                    <a:lnTo>
                      <a:pt x="1486" y="390"/>
                    </a:lnTo>
                    <a:lnTo>
                      <a:pt x="1490" y="436"/>
                    </a:lnTo>
                    <a:lnTo>
                      <a:pt x="1500" y="522"/>
                    </a:lnTo>
                    <a:lnTo>
                      <a:pt x="1509" y="606"/>
                    </a:lnTo>
                    <a:lnTo>
                      <a:pt x="1513" y="644"/>
                    </a:lnTo>
                    <a:lnTo>
                      <a:pt x="1567" y="663"/>
                    </a:lnTo>
                    <a:lnTo>
                      <a:pt x="1565" y="629"/>
                    </a:lnTo>
                    <a:lnTo>
                      <a:pt x="1562" y="552"/>
                    </a:lnTo>
                    <a:lnTo>
                      <a:pt x="1560" y="468"/>
                    </a:lnTo>
                    <a:lnTo>
                      <a:pt x="1557" y="417"/>
                    </a:lnTo>
                    <a:lnTo>
                      <a:pt x="1567" y="422"/>
                    </a:lnTo>
                    <a:lnTo>
                      <a:pt x="1580" y="427"/>
                    </a:lnTo>
                    <a:lnTo>
                      <a:pt x="1594" y="433"/>
                    </a:lnTo>
                    <a:lnTo>
                      <a:pt x="1608" y="440"/>
                    </a:lnTo>
                    <a:lnTo>
                      <a:pt x="1622" y="446"/>
                    </a:lnTo>
                    <a:lnTo>
                      <a:pt x="1635" y="451"/>
                    </a:lnTo>
                    <a:lnTo>
                      <a:pt x="1643" y="456"/>
                    </a:lnTo>
                    <a:lnTo>
                      <a:pt x="1649" y="458"/>
                    </a:lnTo>
                    <a:lnTo>
                      <a:pt x="1653" y="501"/>
                    </a:lnTo>
                    <a:lnTo>
                      <a:pt x="1662" y="580"/>
                    </a:lnTo>
                    <a:lnTo>
                      <a:pt x="1669" y="657"/>
                    </a:lnTo>
                    <a:lnTo>
                      <a:pt x="1673" y="693"/>
                    </a:lnTo>
                    <a:lnTo>
                      <a:pt x="1737" y="712"/>
                    </a:lnTo>
                    <a:lnTo>
                      <a:pt x="1736" y="683"/>
                    </a:lnTo>
                    <a:lnTo>
                      <a:pt x="1733" y="613"/>
                    </a:lnTo>
                    <a:lnTo>
                      <a:pt x="1730" y="538"/>
                    </a:lnTo>
                    <a:lnTo>
                      <a:pt x="1727" y="490"/>
                    </a:lnTo>
                    <a:lnTo>
                      <a:pt x="1736" y="494"/>
                    </a:lnTo>
                    <a:lnTo>
                      <a:pt x="1744" y="498"/>
                    </a:lnTo>
                    <a:lnTo>
                      <a:pt x="1754" y="502"/>
                    </a:lnTo>
                    <a:lnTo>
                      <a:pt x="1764" y="507"/>
                    </a:lnTo>
                    <a:lnTo>
                      <a:pt x="1772" y="511"/>
                    </a:lnTo>
                    <a:lnTo>
                      <a:pt x="1781" y="515"/>
                    </a:lnTo>
                    <a:lnTo>
                      <a:pt x="1787" y="518"/>
                    </a:lnTo>
                    <a:lnTo>
                      <a:pt x="1791" y="519"/>
                    </a:lnTo>
                    <a:lnTo>
                      <a:pt x="1795" y="559"/>
                    </a:lnTo>
                    <a:lnTo>
                      <a:pt x="1804" y="633"/>
                    </a:lnTo>
                    <a:lnTo>
                      <a:pt x="1811" y="704"/>
                    </a:lnTo>
                    <a:lnTo>
                      <a:pt x="1815" y="736"/>
                    </a:lnTo>
                    <a:lnTo>
                      <a:pt x="1872" y="759"/>
                    </a:lnTo>
                    <a:lnTo>
                      <a:pt x="1870" y="731"/>
                    </a:lnTo>
                    <a:lnTo>
                      <a:pt x="1865" y="666"/>
                    </a:lnTo>
                    <a:lnTo>
                      <a:pt x="1860" y="595"/>
                    </a:lnTo>
                    <a:lnTo>
                      <a:pt x="1856" y="548"/>
                    </a:lnTo>
                    <a:lnTo>
                      <a:pt x="1865" y="552"/>
                    </a:lnTo>
                    <a:lnTo>
                      <a:pt x="1873" y="556"/>
                    </a:lnTo>
                    <a:lnTo>
                      <a:pt x="1882" y="561"/>
                    </a:lnTo>
                    <a:lnTo>
                      <a:pt x="1891" y="565"/>
                    </a:lnTo>
                    <a:lnTo>
                      <a:pt x="1900" y="569"/>
                    </a:lnTo>
                    <a:lnTo>
                      <a:pt x="1907" y="572"/>
                    </a:lnTo>
                    <a:lnTo>
                      <a:pt x="1913" y="576"/>
                    </a:lnTo>
                    <a:lnTo>
                      <a:pt x="1917" y="578"/>
                    </a:lnTo>
                    <a:lnTo>
                      <a:pt x="1921" y="613"/>
                    </a:lnTo>
                    <a:lnTo>
                      <a:pt x="1927" y="678"/>
                    </a:lnTo>
                    <a:lnTo>
                      <a:pt x="1934" y="742"/>
                    </a:lnTo>
                    <a:lnTo>
                      <a:pt x="1937" y="771"/>
                    </a:lnTo>
                    <a:lnTo>
                      <a:pt x="2002" y="789"/>
                    </a:lnTo>
                    <a:lnTo>
                      <a:pt x="1979" y="538"/>
                    </a:lnTo>
                    <a:lnTo>
                      <a:pt x="880" y="70"/>
                    </a:lnTo>
                    <a:lnTo>
                      <a:pt x="878" y="70"/>
                    </a:lnTo>
                    <a:lnTo>
                      <a:pt x="866" y="70"/>
                    </a:lnTo>
                    <a:lnTo>
                      <a:pt x="848" y="70"/>
                    </a:lnTo>
                    <a:lnTo>
                      <a:pt x="824" y="70"/>
                    </a:lnTo>
                    <a:lnTo>
                      <a:pt x="794" y="70"/>
                    </a:lnTo>
                    <a:lnTo>
                      <a:pt x="761" y="71"/>
                    </a:lnTo>
                    <a:lnTo>
                      <a:pt x="726" y="71"/>
                    </a:lnTo>
                    <a:lnTo>
                      <a:pt x="688" y="71"/>
                    </a:lnTo>
                    <a:lnTo>
                      <a:pt x="649" y="73"/>
                    </a:lnTo>
                    <a:lnTo>
                      <a:pt x="611" y="73"/>
                    </a:lnTo>
                    <a:lnTo>
                      <a:pt x="574" y="74"/>
                    </a:lnTo>
                    <a:lnTo>
                      <a:pt x="540" y="74"/>
                    </a:lnTo>
                    <a:lnTo>
                      <a:pt x="509" y="74"/>
                    </a:lnTo>
                    <a:lnTo>
                      <a:pt x="482" y="76"/>
                    </a:lnTo>
                    <a:lnTo>
                      <a:pt x="459" y="76"/>
                    </a:lnTo>
                    <a:lnTo>
                      <a:pt x="444" y="77"/>
                    </a:lnTo>
                    <a:lnTo>
                      <a:pt x="435" y="77"/>
                    </a:lnTo>
                    <a:lnTo>
                      <a:pt x="431" y="78"/>
                    </a:lnTo>
                    <a:lnTo>
                      <a:pt x="420" y="80"/>
                    </a:lnTo>
                    <a:lnTo>
                      <a:pt x="404" y="83"/>
                    </a:lnTo>
                    <a:lnTo>
                      <a:pt x="383" y="87"/>
                    </a:lnTo>
                    <a:lnTo>
                      <a:pt x="357" y="93"/>
                    </a:lnTo>
                    <a:lnTo>
                      <a:pt x="329" y="98"/>
                    </a:lnTo>
                    <a:lnTo>
                      <a:pt x="299" y="105"/>
                    </a:lnTo>
                    <a:lnTo>
                      <a:pt x="268" y="112"/>
                    </a:lnTo>
                    <a:lnTo>
                      <a:pt x="237" y="120"/>
                    </a:lnTo>
                    <a:lnTo>
                      <a:pt x="207" y="127"/>
                    </a:lnTo>
                    <a:lnTo>
                      <a:pt x="177" y="134"/>
                    </a:lnTo>
                    <a:lnTo>
                      <a:pt x="152" y="141"/>
                    </a:lnTo>
                    <a:lnTo>
                      <a:pt x="129" y="148"/>
                    </a:lnTo>
                    <a:lnTo>
                      <a:pt x="110" y="154"/>
                    </a:lnTo>
                    <a:lnTo>
                      <a:pt x="98" y="159"/>
                    </a:lnTo>
                    <a:lnTo>
                      <a:pt x="91" y="164"/>
                    </a:lnTo>
                    <a:lnTo>
                      <a:pt x="85" y="181"/>
                    </a:lnTo>
                    <a:lnTo>
                      <a:pt x="79" y="216"/>
                    </a:lnTo>
                    <a:lnTo>
                      <a:pt x="72" y="264"/>
                    </a:lnTo>
                    <a:lnTo>
                      <a:pt x="66" y="318"/>
                    </a:lnTo>
                    <a:lnTo>
                      <a:pt x="62" y="373"/>
                    </a:lnTo>
                    <a:lnTo>
                      <a:pt x="59" y="424"/>
                    </a:lnTo>
                    <a:lnTo>
                      <a:pt x="59" y="464"/>
                    </a:lnTo>
                    <a:lnTo>
                      <a:pt x="62" y="490"/>
                    </a:lnTo>
                    <a:lnTo>
                      <a:pt x="68" y="498"/>
                    </a:lnTo>
                    <a:lnTo>
                      <a:pt x="78" y="505"/>
                    </a:lnTo>
                    <a:lnTo>
                      <a:pt x="91" y="510"/>
                    </a:lnTo>
                    <a:lnTo>
                      <a:pt x="106" y="512"/>
                    </a:lnTo>
                    <a:lnTo>
                      <a:pt x="126" y="515"/>
                    </a:lnTo>
                    <a:lnTo>
                      <a:pt x="146" y="517"/>
                    </a:lnTo>
                    <a:lnTo>
                      <a:pt x="167" y="517"/>
                    </a:lnTo>
                    <a:lnTo>
                      <a:pt x="188" y="517"/>
                    </a:lnTo>
                    <a:lnTo>
                      <a:pt x="210" y="515"/>
                    </a:lnTo>
                    <a:lnTo>
                      <a:pt x="231" y="514"/>
                    </a:lnTo>
                    <a:lnTo>
                      <a:pt x="251" y="511"/>
                    </a:lnTo>
                    <a:lnTo>
                      <a:pt x="268" y="510"/>
                    </a:lnTo>
                    <a:lnTo>
                      <a:pt x="282" y="508"/>
                    </a:lnTo>
                    <a:lnTo>
                      <a:pt x="293" y="507"/>
                    </a:lnTo>
                    <a:lnTo>
                      <a:pt x="300" y="505"/>
                    </a:lnTo>
                    <a:lnTo>
                      <a:pt x="303" y="505"/>
                    </a:lnTo>
                    <a:lnTo>
                      <a:pt x="342" y="498"/>
                    </a:lnTo>
                    <a:lnTo>
                      <a:pt x="371" y="490"/>
                    </a:lnTo>
                    <a:lnTo>
                      <a:pt x="393" y="483"/>
                    </a:lnTo>
                    <a:lnTo>
                      <a:pt x="407" y="474"/>
                    </a:lnTo>
                    <a:lnTo>
                      <a:pt x="415" y="468"/>
                    </a:lnTo>
                    <a:lnTo>
                      <a:pt x="420" y="461"/>
                    </a:lnTo>
                    <a:lnTo>
                      <a:pt x="421" y="457"/>
                    </a:lnTo>
                    <a:lnTo>
                      <a:pt x="421" y="453"/>
                    </a:lnTo>
                    <a:lnTo>
                      <a:pt x="424" y="393"/>
                    </a:lnTo>
                    <a:lnTo>
                      <a:pt x="428" y="300"/>
                    </a:lnTo>
                    <a:lnTo>
                      <a:pt x="434" y="203"/>
                    </a:lnTo>
                    <a:lnTo>
                      <a:pt x="438" y="142"/>
                    </a:lnTo>
                    <a:lnTo>
                      <a:pt x="445" y="141"/>
                    </a:lnTo>
                    <a:lnTo>
                      <a:pt x="451" y="139"/>
                    </a:lnTo>
                    <a:lnTo>
                      <a:pt x="458" y="138"/>
                    </a:lnTo>
                    <a:lnTo>
                      <a:pt x="462" y="138"/>
                    </a:lnTo>
                    <a:lnTo>
                      <a:pt x="462" y="141"/>
                    </a:lnTo>
                    <a:lnTo>
                      <a:pt x="462" y="144"/>
                    </a:lnTo>
                    <a:lnTo>
                      <a:pt x="462" y="146"/>
                    </a:lnTo>
                    <a:lnTo>
                      <a:pt x="462" y="151"/>
                    </a:lnTo>
                    <a:lnTo>
                      <a:pt x="461" y="183"/>
                    </a:lnTo>
                    <a:lnTo>
                      <a:pt x="459" y="227"/>
                    </a:lnTo>
                    <a:lnTo>
                      <a:pt x="455" y="274"/>
                    </a:lnTo>
                    <a:lnTo>
                      <a:pt x="452" y="320"/>
                    </a:lnTo>
                    <a:lnTo>
                      <a:pt x="449" y="362"/>
                    </a:lnTo>
                    <a:lnTo>
                      <a:pt x="446" y="396"/>
                    </a:lnTo>
                    <a:lnTo>
                      <a:pt x="445" y="423"/>
                    </a:lnTo>
                    <a:lnTo>
                      <a:pt x="445" y="441"/>
                    </a:lnTo>
                    <a:lnTo>
                      <a:pt x="445" y="444"/>
                    </a:lnTo>
                    <a:lnTo>
                      <a:pt x="445" y="447"/>
                    </a:lnTo>
                    <a:lnTo>
                      <a:pt x="445" y="449"/>
                    </a:lnTo>
                    <a:lnTo>
                      <a:pt x="446" y="450"/>
                    </a:lnTo>
                    <a:lnTo>
                      <a:pt x="449" y="460"/>
                    </a:lnTo>
                    <a:lnTo>
                      <a:pt x="458" y="468"/>
                    </a:lnTo>
                    <a:lnTo>
                      <a:pt x="469" y="474"/>
                    </a:lnTo>
                    <a:lnTo>
                      <a:pt x="486" y="478"/>
                    </a:lnTo>
                    <a:lnTo>
                      <a:pt x="506" y="481"/>
                    </a:lnTo>
                    <a:lnTo>
                      <a:pt x="529" y="484"/>
                    </a:lnTo>
                    <a:lnTo>
                      <a:pt x="556" y="484"/>
                    </a:lnTo>
                    <a:lnTo>
                      <a:pt x="585" y="484"/>
                    </a:lnTo>
                    <a:lnTo>
                      <a:pt x="594" y="484"/>
                    </a:lnTo>
                    <a:lnTo>
                      <a:pt x="602" y="484"/>
                    </a:lnTo>
                    <a:lnTo>
                      <a:pt x="627" y="483"/>
                    </a:lnTo>
                    <a:lnTo>
                      <a:pt x="659" y="483"/>
                    </a:lnTo>
                    <a:lnTo>
                      <a:pt x="696" y="480"/>
                    </a:lnTo>
                    <a:lnTo>
                      <a:pt x="736" y="478"/>
                    </a:lnTo>
                    <a:lnTo>
                      <a:pt x="771" y="474"/>
                    </a:lnTo>
                    <a:lnTo>
                      <a:pt x="800" y="470"/>
                    </a:lnTo>
                    <a:lnTo>
                      <a:pt x="815" y="466"/>
                    </a:lnTo>
                    <a:lnTo>
                      <a:pt x="824" y="460"/>
                    </a:lnTo>
                    <a:lnTo>
                      <a:pt x="831" y="451"/>
                    </a:lnTo>
                    <a:lnTo>
                      <a:pt x="838" y="437"/>
                    </a:lnTo>
                    <a:lnTo>
                      <a:pt x="844" y="412"/>
                    </a:lnTo>
                    <a:lnTo>
                      <a:pt x="849" y="373"/>
                    </a:lnTo>
                    <a:lnTo>
                      <a:pt x="853" y="318"/>
                    </a:lnTo>
                    <a:lnTo>
                      <a:pt x="856" y="243"/>
                    </a:lnTo>
                    <a:lnTo>
                      <a:pt x="858" y="144"/>
                    </a:lnTo>
                    <a:lnTo>
                      <a:pt x="862" y="142"/>
                    </a:lnTo>
                    <a:lnTo>
                      <a:pt x="868" y="142"/>
                    </a:lnTo>
                    <a:lnTo>
                      <a:pt x="872" y="142"/>
                    </a:lnTo>
                    <a:lnTo>
                      <a:pt x="876" y="141"/>
                    </a:lnTo>
                    <a:lnTo>
                      <a:pt x="879" y="256"/>
                    </a:lnTo>
                    <a:lnTo>
                      <a:pt x="882" y="487"/>
                    </a:lnTo>
                    <a:lnTo>
                      <a:pt x="885" y="712"/>
                    </a:lnTo>
                    <a:lnTo>
                      <a:pt x="886" y="814"/>
                    </a:lnTo>
                    <a:lnTo>
                      <a:pt x="893" y="817"/>
                    </a:lnTo>
                    <a:lnTo>
                      <a:pt x="902" y="823"/>
                    </a:lnTo>
                    <a:lnTo>
                      <a:pt x="912" y="831"/>
                    </a:lnTo>
                    <a:lnTo>
                      <a:pt x="920" y="843"/>
                    </a:lnTo>
                    <a:lnTo>
                      <a:pt x="924" y="856"/>
                    </a:lnTo>
                    <a:lnTo>
                      <a:pt x="924" y="866"/>
                    </a:lnTo>
                    <a:lnTo>
                      <a:pt x="927" y="866"/>
                    </a:lnTo>
                    <a:lnTo>
                      <a:pt x="937" y="868"/>
                    </a:lnTo>
                    <a:lnTo>
                      <a:pt x="951" y="871"/>
                    </a:lnTo>
                    <a:lnTo>
                      <a:pt x="971" y="874"/>
                    </a:lnTo>
                    <a:lnTo>
                      <a:pt x="997" y="880"/>
                    </a:lnTo>
                    <a:lnTo>
                      <a:pt x="1026" y="884"/>
                    </a:lnTo>
                    <a:lnTo>
                      <a:pt x="1059" y="891"/>
                    </a:lnTo>
                    <a:lnTo>
                      <a:pt x="1096" y="898"/>
                    </a:lnTo>
                    <a:lnTo>
                      <a:pt x="1137" y="905"/>
                    </a:lnTo>
                    <a:lnTo>
                      <a:pt x="1180" y="914"/>
                    </a:lnTo>
                    <a:lnTo>
                      <a:pt x="1225" y="922"/>
                    </a:lnTo>
                    <a:lnTo>
                      <a:pt x="1273" y="931"/>
                    </a:lnTo>
                    <a:lnTo>
                      <a:pt x="1321" y="941"/>
                    </a:lnTo>
                    <a:lnTo>
                      <a:pt x="1372" y="951"/>
                    </a:lnTo>
                    <a:lnTo>
                      <a:pt x="1424" y="959"/>
                    </a:lnTo>
                    <a:lnTo>
                      <a:pt x="1476" y="969"/>
                    </a:lnTo>
                    <a:lnTo>
                      <a:pt x="1527" y="979"/>
                    </a:lnTo>
                    <a:lnTo>
                      <a:pt x="1578" y="989"/>
                    </a:lnTo>
                    <a:lnTo>
                      <a:pt x="1629" y="999"/>
                    </a:lnTo>
                    <a:lnTo>
                      <a:pt x="1679" y="1007"/>
                    </a:lnTo>
                    <a:lnTo>
                      <a:pt x="1727" y="1017"/>
                    </a:lnTo>
                    <a:lnTo>
                      <a:pt x="1774" y="1026"/>
                    </a:lnTo>
                    <a:lnTo>
                      <a:pt x="1818" y="1034"/>
                    </a:lnTo>
                    <a:lnTo>
                      <a:pt x="1859" y="1041"/>
                    </a:lnTo>
                    <a:lnTo>
                      <a:pt x="1896" y="1048"/>
                    </a:lnTo>
                    <a:lnTo>
                      <a:pt x="1931" y="1056"/>
                    </a:lnTo>
                    <a:lnTo>
                      <a:pt x="1961" y="1061"/>
                    </a:lnTo>
                    <a:lnTo>
                      <a:pt x="1986" y="1065"/>
                    </a:lnTo>
                    <a:lnTo>
                      <a:pt x="2009" y="1070"/>
                    </a:lnTo>
                    <a:lnTo>
                      <a:pt x="2025" y="1073"/>
                    </a:lnTo>
                    <a:lnTo>
                      <a:pt x="2036" y="1074"/>
                    </a:lnTo>
                    <a:lnTo>
                      <a:pt x="2040" y="1075"/>
                    </a:lnTo>
                    <a:lnTo>
                      <a:pt x="2040" y="1115"/>
                    </a:lnTo>
                    <a:lnTo>
                      <a:pt x="2042" y="1189"/>
                    </a:lnTo>
                    <a:lnTo>
                      <a:pt x="2043" y="1264"/>
                    </a:lnTo>
                    <a:lnTo>
                      <a:pt x="2043" y="1307"/>
                    </a:lnTo>
                    <a:lnTo>
                      <a:pt x="2038" y="1307"/>
                    </a:lnTo>
                    <a:lnTo>
                      <a:pt x="2030" y="1305"/>
                    </a:lnTo>
                    <a:lnTo>
                      <a:pt x="2025" y="1305"/>
                    </a:lnTo>
                    <a:lnTo>
                      <a:pt x="2018" y="1305"/>
                    </a:lnTo>
                    <a:lnTo>
                      <a:pt x="2011" y="1304"/>
                    </a:lnTo>
                    <a:lnTo>
                      <a:pt x="2004" y="1304"/>
                    </a:lnTo>
                    <a:lnTo>
                      <a:pt x="1998" y="1304"/>
                    </a:lnTo>
                    <a:lnTo>
                      <a:pt x="1992" y="1304"/>
                    </a:lnTo>
                    <a:lnTo>
                      <a:pt x="1992" y="1260"/>
                    </a:lnTo>
                    <a:lnTo>
                      <a:pt x="1991" y="1183"/>
                    </a:lnTo>
                    <a:lnTo>
                      <a:pt x="1989" y="1111"/>
                    </a:lnTo>
                    <a:lnTo>
                      <a:pt x="1989" y="1078"/>
                    </a:lnTo>
                    <a:lnTo>
                      <a:pt x="1927" y="1068"/>
                    </a:lnTo>
                    <a:lnTo>
                      <a:pt x="1927" y="1101"/>
                    </a:lnTo>
                    <a:lnTo>
                      <a:pt x="1926" y="1176"/>
                    </a:lnTo>
                    <a:lnTo>
                      <a:pt x="1924" y="1254"/>
                    </a:lnTo>
                    <a:lnTo>
                      <a:pt x="1924" y="1300"/>
                    </a:lnTo>
                    <a:lnTo>
                      <a:pt x="1917" y="1300"/>
                    </a:lnTo>
                    <a:lnTo>
                      <a:pt x="1907" y="1298"/>
                    </a:lnTo>
                    <a:lnTo>
                      <a:pt x="1897" y="1298"/>
                    </a:lnTo>
                    <a:lnTo>
                      <a:pt x="1886" y="1297"/>
                    </a:lnTo>
                    <a:lnTo>
                      <a:pt x="1874" y="1295"/>
                    </a:lnTo>
                    <a:lnTo>
                      <a:pt x="1865" y="1295"/>
                    </a:lnTo>
                    <a:lnTo>
                      <a:pt x="1856" y="1294"/>
                    </a:lnTo>
                    <a:lnTo>
                      <a:pt x="1849" y="1294"/>
                    </a:lnTo>
                    <a:lnTo>
                      <a:pt x="1849" y="1250"/>
                    </a:lnTo>
                    <a:lnTo>
                      <a:pt x="1850" y="1170"/>
                    </a:lnTo>
                    <a:lnTo>
                      <a:pt x="1852" y="1095"/>
                    </a:lnTo>
                    <a:lnTo>
                      <a:pt x="1852" y="1063"/>
                    </a:lnTo>
                    <a:lnTo>
                      <a:pt x="1785" y="1040"/>
                    </a:lnTo>
                    <a:lnTo>
                      <a:pt x="1785" y="1077"/>
                    </a:lnTo>
                    <a:lnTo>
                      <a:pt x="1784" y="1158"/>
                    </a:lnTo>
                    <a:lnTo>
                      <a:pt x="1781" y="1244"/>
                    </a:lnTo>
                    <a:lnTo>
                      <a:pt x="1781" y="1292"/>
                    </a:lnTo>
                    <a:lnTo>
                      <a:pt x="1775" y="1292"/>
                    </a:lnTo>
                    <a:lnTo>
                      <a:pt x="1767" y="1292"/>
                    </a:lnTo>
                    <a:lnTo>
                      <a:pt x="1758" y="1292"/>
                    </a:lnTo>
                    <a:lnTo>
                      <a:pt x="1750" y="1291"/>
                    </a:lnTo>
                    <a:lnTo>
                      <a:pt x="1741" y="1291"/>
                    </a:lnTo>
                    <a:lnTo>
                      <a:pt x="1733" y="1291"/>
                    </a:lnTo>
                    <a:lnTo>
                      <a:pt x="1724" y="1290"/>
                    </a:lnTo>
                    <a:lnTo>
                      <a:pt x="1718" y="1290"/>
                    </a:lnTo>
                    <a:lnTo>
                      <a:pt x="1718" y="1243"/>
                    </a:lnTo>
                    <a:lnTo>
                      <a:pt x="1720" y="1158"/>
                    </a:lnTo>
                    <a:lnTo>
                      <a:pt x="1721" y="1077"/>
                    </a:lnTo>
                    <a:lnTo>
                      <a:pt x="1721" y="1041"/>
                    </a:lnTo>
                    <a:lnTo>
                      <a:pt x="1656" y="1022"/>
                    </a:lnTo>
                    <a:lnTo>
                      <a:pt x="1658" y="1122"/>
                    </a:lnTo>
                    <a:lnTo>
                      <a:pt x="1659" y="1346"/>
                    </a:lnTo>
                    <a:lnTo>
                      <a:pt x="1660" y="1573"/>
                    </a:lnTo>
                    <a:lnTo>
                      <a:pt x="1662" y="1685"/>
                    </a:lnTo>
                    <a:lnTo>
                      <a:pt x="1655" y="1685"/>
                    </a:lnTo>
                    <a:lnTo>
                      <a:pt x="1648" y="1687"/>
                    </a:lnTo>
                    <a:lnTo>
                      <a:pt x="1638" y="1688"/>
                    </a:lnTo>
                    <a:lnTo>
                      <a:pt x="1626" y="1690"/>
                    </a:lnTo>
                    <a:lnTo>
                      <a:pt x="1616" y="1690"/>
                    </a:lnTo>
                    <a:lnTo>
                      <a:pt x="1606" y="1691"/>
                    </a:lnTo>
                    <a:lnTo>
                      <a:pt x="1597" y="1692"/>
                    </a:lnTo>
                    <a:lnTo>
                      <a:pt x="1589" y="1694"/>
                    </a:lnTo>
                    <a:lnTo>
                      <a:pt x="1589" y="1576"/>
                    </a:lnTo>
                    <a:lnTo>
                      <a:pt x="1588" y="1343"/>
                    </a:lnTo>
                    <a:lnTo>
                      <a:pt x="1585" y="1115"/>
                    </a:lnTo>
                    <a:lnTo>
                      <a:pt x="1585" y="1012"/>
                    </a:lnTo>
                    <a:lnTo>
                      <a:pt x="1524" y="992"/>
                    </a:lnTo>
                    <a:lnTo>
                      <a:pt x="1524" y="1031"/>
                    </a:lnTo>
                    <a:lnTo>
                      <a:pt x="1524" y="1121"/>
                    </a:lnTo>
                    <a:lnTo>
                      <a:pt x="1523" y="1214"/>
                    </a:lnTo>
                    <a:lnTo>
                      <a:pt x="1523" y="1265"/>
                    </a:lnTo>
                    <a:lnTo>
                      <a:pt x="1513" y="1265"/>
                    </a:lnTo>
                    <a:lnTo>
                      <a:pt x="1499" y="1265"/>
                    </a:lnTo>
                    <a:lnTo>
                      <a:pt x="1482" y="1265"/>
                    </a:lnTo>
                    <a:lnTo>
                      <a:pt x="1463" y="1265"/>
                    </a:lnTo>
                    <a:lnTo>
                      <a:pt x="1443" y="1265"/>
                    </a:lnTo>
                    <a:lnTo>
                      <a:pt x="1426" y="1265"/>
                    </a:lnTo>
                    <a:lnTo>
                      <a:pt x="1412" y="1265"/>
                    </a:lnTo>
                    <a:lnTo>
                      <a:pt x="1402" y="1265"/>
                    </a:lnTo>
                    <a:lnTo>
                      <a:pt x="1404" y="1210"/>
                    </a:lnTo>
                    <a:lnTo>
                      <a:pt x="1407" y="1111"/>
                    </a:lnTo>
                    <a:lnTo>
                      <a:pt x="1408" y="1014"/>
                    </a:lnTo>
                    <a:lnTo>
                      <a:pt x="1409" y="972"/>
                    </a:lnTo>
                    <a:lnTo>
                      <a:pt x="1343" y="962"/>
                    </a:lnTo>
                    <a:lnTo>
                      <a:pt x="1341" y="1006"/>
                    </a:lnTo>
                    <a:lnTo>
                      <a:pt x="1340" y="1102"/>
                    </a:lnTo>
                    <a:lnTo>
                      <a:pt x="1337" y="1203"/>
                    </a:lnTo>
                    <a:lnTo>
                      <a:pt x="1336" y="1258"/>
                    </a:lnTo>
                    <a:lnTo>
                      <a:pt x="1324" y="1258"/>
                    </a:lnTo>
                    <a:lnTo>
                      <a:pt x="1307" y="1258"/>
                    </a:lnTo>
                    <a:lnTo>
                      <a:pt x="1286" y="1258"/>
                    </a:lnTo>
                    <a:lnTo>
                      <a:pt x="1263" y="1258"/>
                    </a:lnTo>
                    <a:lnTo>
                      <a:pt x="1239" y="1258"/>
                    </a:lnTo>
                    <a:lnTo>
                      <a:pt x="1218" y="1258"/>
                    </a:lnTo>
                    <a:lnTo>
                      <a:pt x="1201" y="1258"/>
                    </a:lnTo>
                    <a:lnTo>
                      <a:pt x="1190" y="1258"/>
                    </a:lnTo>
                    <a:lnTo>
                      <a:pt x="1191" y="1199"/>
                    </a:lnTo>
                    <a:lnTo>
                      <a:pt x="1192" y="1088"/>
                    </a:lnTo>
                    <a:lnTo>
                      <a:pt x="1194" y="982"/>
                    </a:lnTo>
                    <a:lnTo>
                      <a:pt x="1194" y="934"/>
                    </a:lnTo>
                    <a:lnTo>
                      <a:pt x="1124" y="919"/>
                    </a:lnTo>
                    <a:lnTo>
                      <a:pt x="1124" y="969"/>
                    </a:lnTo>
                    <a:lnTo>
                      <a:pt x="1124" y="1080"/>
                    </a:lnTo>
                    <a:lnTo>
                      <a:pt x="1124" y="1196"/>
                    </a:lnTo>
                    <a:lnTo>
                      <a:pt x="1124" y="1258"/>
                    </a:lnTo>
                    <a:lnTo>
                      <a:pt x="1116" y="1258"/>
                    </a:lnTo>
                    <a:lnTo>
                      <a:pt x="1107" y="1257"/>
                    </a:lnTo>
                    <a:lnTo>
                      <a:pt x="1099" y="1257"/>
                    </a:lnTo>
                    <a:lnTo>
                      <a:pt x="1090" y="1257"/>
                    </a:lnTo>
                    <a:lnTo>
                      <a:pt x="1090" y="1195"/>
                    </a:lnTo>
                    <a:lnTo>
                      <a:pt x="1090" y="1075"/>
                    </a:lnTo>
                    <a:lnTo>
                      <a:pt x="1090" y="962"/>
                    </a:lnTo>
                    <a:lnTo>
                      <a:pt x="1090" y="911"/>
                    </a:lnTo>
                    <a:lnTo>
                      <a:pt x="954" y="887"/>
                    </a:lnTo>
                    <a:lnTo>
                      <a:pt x="951" y="1766"/>
                    </a:lnTo>
                    <a:lnTo>
                      <a:pt x="1097" y="1752"/>
                    </a:lnTo>
                    <a:lnTo>
                      <a:pt x="1097" y="1690"/>
                    </a:lnTo>
                    <a:lnTo>
                      <a:pt x="1096" y="1551"/>
                    </a:lnTo>
                    <a:lnTo>
                      <a:pt x="1093" y="1407"/>
                    </a:lnTo>
                    <a:lnTo>
                      <a:pt x="1093" y="1332"/>
                    </a:lnTo>
                    <a:lnTo>
                      <a:pt x="1100" y="1332"/>
                    </a:lnTo>
                    <a:lnTo>
                      <a:pt x="1109" y="1332"/>
                    </a:lnTo>
                    <a:lnTo>
                      <a:pt x="1117" y="1332"/>
                    </a:lnTo>
                    <a:lnTo>
                      <a:pt x="1126" y="1332"/>
                    </a:lnTo>
                    <a:lnTo>
                      <a:pt x="1126" y="1407"/>
                    </a:lnTo>
                    <a:lnTo>
                      <a:pt x="1124" y="1548"/>
                    </a:lnTo>
                    <a:lnTo>
                      <a:pt x="1123" y="1685"/>
                    </a:lnTo>
                    <a:lnTo>
                      <a:pt x="1123" y="1748"/>
                    </a:lnTo>
                    <a:lnTo>
                      <a:pt x="1212" y="1738"/>
                    </a:lnTo>
                    <a:lnTo>
                      <a:pt x="1212" y="1728"/>
                    </a:lnTo>
                    <a:lnTo>
                      <a:pt x="1214" y="1702"/>
                    </a:lnTo>
                    <a:lnTo>
                      <a:pt x="1216" y="1671"/>
                    </a:lnTo>
                    <a:lnTo>
                      <a:pt x="1219" y="1636"/>
                    </a:lnTo>
                    <a:lnTo>
                      <a:pt x="1225" y="1597"/>
                    </a:lnTo>
                    <a:lnTo>
                      <a:pt x="1234" y="1560"/>
                    </a:lnTo>
                    <a:lnTo>
                      <a:pt x="1242" y="1528"/>
                    </a:lnTo>
                    <a:lnTo>
                      <a:pt x="1253" y="1501"/>
                    </a:lnTo>
                    <a:lnTo>
                      <a:pt x="1268" y="1482"/>
                    </a:lnTo>
                    <a:lnTo>
                      <a:pt x="1270" y="1480"/>
                    </a:lnTo>
                    <a:lnTo>
                      <a:pt x="1275" y="1477"/>
                    </a:lnTo>
                    <a:lnTo>
                      <a:pt x="1279" y="1475"/>
                    </a:lnTo>
                    <a:lnTo>
                      <a:pt x="1282" y="1475"/>
                    </a:lnTo>
                    <a:lnTo>
                      <a:pt x="1299" y="1481"/>
                    </a:lnTo>
                    <a:lnTo>
                      <a:pt x="1313" y="1494"/>
                    </a:lnTo>
                    <a:lnTo>
                      <a:pt x="1324" y="1512"/>
                    </a:lnTo>
                    <a:lnTo>
                      <a:pt x="1331" y="1535"/>
                    </a:lnTo>
                    <a:lnTo>
                      <a:pt x="1337" y="1558"/>
                    </a:lnTo>
                    <a:lnTo>
                      <a:pt x="1340" y="1582"/>
                    </a:lnTo>
                    <a:lnTo>
                      <a:pt x="1343" y="1603"/>
                    </a:lnTo>
                    <a:lnTo>
                      <a:pt x="1344" y="1620"/>
                    </a:lnTo>
                    <a:lnTo>
                      <a:pt x="1347" y="1647"/>
                    </a:lnTo>
                    <a:lnTo>
                      <a:pt x="1358" y="1646"/>
                    </a:lnTo>
                    <a:lnTo>
                      <a:pt x="1364" y="1646"/>
                    </a:lnTo>
                    <a:lnTo>
                      <a:pt x="1381" y="1644"/>
                    </a:lnTo>
                    <a:lnTo>
                      <a:pt x="1407" y="1643"/>
                    </a:lnTo>
                    <a:lnTo>
                      <a:pt x="1435" y="1641"/>
                    </a:lnTo>
                    <a:lnTo>
                      <a:pt x="1465" y="1640"/>
                    </a:lnTo>
                    <a:lnTo>
                      <a:pt x="1492" y="1638"/>
                    </a:lnTo>
                    <a:lnTo>
                      <a:pt x="1514" y="1637"/>
                    </a:lnTo>
                    <a:lnTo>
                      <a:pt x="1527" y="1636"/>
                    </a:lnTo>
                    <a:lnTo>
                      <a:pt x="1527" y="1663"/>
                    </a:lnTo>
                    <a:lnTo>
                      <a:pt x="1528" y="1705"/>
                    </a:lnTo>
                    <a:lnTo>
                      <a:pt x="1530" y="1742"/>
                    </a:lnTo>
                    <a:lnTo>
                      <a:pt x="1530" y="1759"/>
                    </a:lnTo>
                    <a:lnTo>
                      <a:pt x="1726" y="1736"/>
                    </a:lnTo>
                    <a:lnTo>
                      <a:pt x="1726" y="1721"/>
                    </a:lnTo>
                    <a:lnTo>
                      <a:pt x="1726" y="1685"/>
                    </a:lnTo>
                    <a:lnTo>
                      <a:pt x="1726" y="1647"/>
                    </a:lnTo>
                    <a:lnTo>
                      <a:pt x="1726" y="1621"/>
                    </a:lnTo>
                    <a:lnTo>
                      <a:pt x="1736" y="1620"/>
                    </a:lnTo>
                    <a:lnTo>
                      <a:pt x="1753" y="1619"/>
                    </a:lnTo>
                    <a:lnTo>
                      <a:pt x="1772" y="1617"/>
                    </a:lnTo>
                    <a:lnTo>
                      <a:pt x="1795" y="1616"/>
                    </a:lnTo>
                    <a:lnTo>
                      <a:pt x="1815" y="1614"/>
                    </a:lnTo>
                    <a:lnTo>
                      <a:pt x="1833" y="1613"/>
                    </a:lnTo>
                    <a:lnTo>
                      <a:pt x="1846" y="1612"/>
                    </a:lnTo>
                    <a:lnTo>
                      <a:pt x="1850" y="1612"/>
                    </a:lnTo>
                    <a:lnTo>
                      <a:pt x="1852" y="1602"/>
                    </a:lnTo>
                    <a:lnTo>
                      <a:pt x="1859" y="1553"/>
                    </a:lnTo>
                    <a:lnTo>
                      <a:pt x="1869" y="1512"/>
                    </a:lnTo>
                    <a:lnTo>
                      <a:pt x="1879" y="1481"/>
                    </a:lnTo>
                    <a:lnTo>
                      <a:pt x="1889" y="1468"/>
                    </a:lnTo>
                    <a:lnTo>
                      <a:pt x="1889" y="1468"/>
                    </a:lnTo>
                    <a:lnTo>
                      <a:pt x="1890" y="1470"/>
                    </a:lnTo>
                    <a:lnTo>
                      <a:pt x="1891" y="1470"/>
                    </a:lnTo>
                    <a:lnTo>
                      <a:pt x="1893" y="1471"/>
                    </a:lnTo>
                    <a:lnTo>
                      <a:pt x="1906" y="1494"/>
                    </a:lnTo>
                    <a:lnTo>
                      <a:pt x="1916" y="1528"/>
                    </a:lnTo>
                    <a:lnTo>
                      <a:pt x="1921" y="1562"/>
                    </a:lnTo>
                    <a:lnTo>
                      <a:pt x="1924" y="1587"/>
                    </a:lnTo>
                    <a:lnTo>
                      <a:pt x="1924" y="1589"/>
                    </a:lnTo>
                    <a:lnTo>
                      <a:pt x="1924" y="1589"/>
                    </a:lnTo>
                    <a:lnTo>
                      <a:pt x="1924" y="1590"/>
                    </a:lnTo>
                    <a:lnTo>
                      <a:pt x="1924" y="1592"/>
                    </a:lnTo>
                    <a:lnTo>
                      <a:pt x="1921" y="1607"/>
                    </a:lnTo>
                    <a:lnTo>
                      <a:pt x="2110" y="1572"/>
                    </a:lnTo>
                    <a:lnTo>
                      <a:pt x="2108" y="1470"/>
                    </a:lnTo>
                    <a:lnTo>
                      <a:pt x="2107" y="1241"/>
                    </a:lnTo>
                    <a:lnTo>
                      <a:pt x="2104" y="1009"/>
                    </a:lnTo>
                    <a:lnTo>
                      <a:pt x="2103" y="894"/>
                    </a:lnTo>
                    <a:lnTo>
                      <a:pt x="2107" y="894"/>
                    </a:lnTo>
                    <a:lnTo>
                      <a:pt x="2108" y="894"/>
                    </a:lnTo>
                    <a:lnTo>
                      <a:pt x="2111" y="894"/>
                    </a:lnTo>
                    <a:lnTo>
                      <a:pt x="2114" y="894"/>
                    </a:lnTo>
                    <a:lnTo>
                      <a:pt x="2116" y="1014"/>
                    </a:lnTo>
                    <a:lnTo>
                      <a:pt x="2118" y="1261"/>
                    </a:lnTo>
                    <a:lnTo>
                      <a:pt x="2120" y="1508"/>
                    </a:lnTo>
                    <a:lnTo>
                      <a:pt x="2121" y="1626"/>
                    </a:lnTo>
                    <a:lnTo>
                      <a:pt x="2108" y="1630"/>
                    </a:lnTo>
                    <a:lnTo>
                      <a:pt x="2086" y="1637"/>
                    </a:lnTo>
                    <a:lnTo>
                      <a:pt x="2055" y="1647"/>
                    </a:lnTo>
                    <a:lnTo>
                      <a:pt x="2021" y="1658"/>
                    </a:lnTo>
                    <a:lnTo>
                      <a:pt x="1988" y="1668"/>
                    </a:lnTo>
                    <a:lnTo>
                      <a:pt x="1960" y="1678"/>
                    </a:lnTo>
                    <a:lnTo>
                      <a:pt x="1938" y="1684"/>
                    </a:lnTo>
                    <a:lnTo>
                      <a:pt x="1931" y="1687"/>
                    </a:lnTo>
                    <a:lnTo>
                      <a:pt x="1931" y="1695"/>
                    </a:lnTo>
                    <a:lnTo>
                      <a:pt x="1930" y="1704"/>
                    </a:lnTo>
                    <a:lnTo>
                      <a:pt x="1927" y="1724"/>
                    </a:lnTo>
                    <a:lnTo>
                      <a:pt x="1916" y="1746"/>
                    </a:lnTo>
                    <a:lnTo>
                      <a:pt x="1897" y="1766"/>
                    </a:lnTo>
                    <a:lnTo>
                      <a:pt x="1891" y="1766"/>
                    </a:lnTo>
                    <a:lnTo>
                      <a:pt x="1882" y="1765"/>
                    </a:lnTo>
                    <a:lnTo>
                      <a:pt x="1869" y="1763"/>
                    </a:lnTo>
                    <a:lnTo>
                      <a:pt x="1853" y="1762"/>
                    </a:lnTo>
                    <a:lnTo>
                      <a:pt x="1838" y="1762"/>
                    </a:lnTo>
                    <a:lnTo>
                      <a:pt x="1825" y="1760"/>
                    </a:lnTo>
                    <a:lnTo>
                      <a:pt x="1813" y="1759"/>
                    </a:lnTo>
                    <a:lnTo>
                      <a:pt x="1806" y="1759"/>
                    </a:lnTo>
                    <a:lnTo>
                      <a:pt x="1804" y="1752"/>
                    </a:lnTo>
                    <a:lnTo>
                      <a:pt x="1798" y="1742"/>
                    </a:lnTo>
                    <a:lnTo>
                      <a:pt x="1794" y="1733"/>
                    </a:lnTo>
                    <a:lnTo>
                      <a:pt x="1792" y="1731"/>
                    </a:lnTo>
                    <a:lnTo>
                      <a:pt x="1321" y="1794"/>
                    </a:lnTo>
                    <a:lnTo>
                      <a:pt x="1319" y="1802"/>
                    </a:lnTo>
                    <a:lnTo>
                      <a:pt x="1317" y="1806"/>
                    </a:lnTo>
                    <a:lnTo>
                      <a:pt x="1314" y="1814"/>
                    </a:lnTo>
                    <a:lnTo>
                      <a:pt x="1310" y="1826"/>
                    </a:lnTo>
                    <a:lnTo>
                      <a:pt x="1304" y="1838"/>
                    </a:lnTo>
                    <a:lnTo>
                      <a:pt x="1294" y="1853"/>
                    </a:lnTo>
                    <a:lnTo>
                      <a:pt x="1285" y="1864"/>
                    </a:lnTo>
                    <a:lnTo>
                      <a:pt x="1270" y="1872"/>
                    </a:lnTo>
                    <a:lnTo>
                      <a:pt x="1255" y="1875"/>
                    </a:lnTo>
                    <a:lnTo>
                      <a:pt x="1238" y="1875"/>
                    </a:lnTo>
                    <a:lnTo>
                      <a:pt x="1222" y="1874"/>
                    </a:lnTo>
                    <a:lnTo>
                      <a:pt x="1207" y="1874"/>
                    </a:lnTo>
                    <a:lnTo>
                      <a:pt x="1192" y="1872"/>
                    </a:lnTo>
                    <a:lnTo>
                      <a:pt x="1180" y="1871"/>
                    </a:lnTo>
                    <a:lnTo>
                      <a:pt x="1168" y="1870"/>
                    </a:lnTo>
                    <a:lnTo>
                      <a:pt x="1160" y="1870"/>
                    </a:lnTo>
                    <a:lnTo>
                      <a:pt x="1153" y="1868"/>
                    </a:lnTo>
                    <a:lnTo>
                      <a:pt x="1146" y="1858"/>
                    </a:lnTo>
                    <a:lnTo>
                      <a:pt x="1139" y="1846"/>
                    </a:lnTo>
                    <a:lnTo>
                      <a:pt x="1133" y="1833"/>
                    </a:lnTo>
                    <a:lnTo>
                      <a:pt x="1130" y="1819"/>
                    </a:lnTo>
                    <a:lnTo>
                      <a:pt x="1130" y="1806"/>
                    </a:lnTo>
                    <a:lnTo>
                      <a:pt x="983" y="1817"/>
                    </a:lnTo>
                    <a:lnTo>
                      <a:pt x="975" y="1817"/>
                    </a:lnTo>
                    <a:lnTo>
                      <a:pt x="957" y="1816"/>
                    </a:lnTo>
                    <a:lnTo>
                      <a:pt x="929" y="1814"/>
                    </a:lnTo>
                    <a:lnTo>
                      <a:pt x="890" y="1813"/>
                    </a:lnTo>
                    <a:lnTo>
                      <a:pt x="845" y="1811"/>
                    </a:lnTo>
                    <a:lnTo>
                      <a:pt x="795" y="1809"/>
                    </a:lnTo>
                    <a:lnTo>
                      <a:pt x="741" y="1806"/>
                    </a:lnTo>
                    <a:lnTo>
                      <a:pt x="686" y="1803"/>
                    </a:lnTo>
                    <a:lnTo>
                      <a:pt x="631" y="1802"/>
                    </a:lnTo>
                    <a:lnTo>
                      <a:pt x="578" y="1799"/>
                    </a:lnTo>
                    <a:lnTo>
                      <a:pt x="527" y="1796"/>
                    </a:lnTo>
                    <a:lnTo>
                      <a:pt x="482" y="1794"/>
                    </a:lnTo>
                    <a:lnTo>
                      <a:pt x="445" y="1793"/>
                    </a:lnTo>
                    <a:lnTo>
                      <a:pt x="415" y="1792"/>
                    </a:lnTo>
                    <a:lnTo>
                      <a:pt x="397" y="1790"/>
                    </a:lnTo>
                    <a:lnTo>
                      <a:pt x="390" y="1790"/>
                    </a:lnTo>
                    <a:lnTo>
                      <a:pt x="384" y="1789"/>
                    </a:lnTo>
                    <a:lnTo>
                      <a:pt x="380" y="1794"/>
                    </a:lnTo>
                    <a:lnTo>
                      <a:pt x="378" y="1797"/>
                    </a:lnTo>
                    <a:lnTo>
                      <a:pt x="373" y="1803"/>
                    </a:lnTo>
                    <a:lnTo>
                      <a:pt x="363" y="1813"/>
                    </a:lnTo>
                    <a:lnTo>
                      <a:pt x="350" y="1823"/>
                    </a:lnTo>
                    <a:lnTo>
                      <a:pt x="334" y="1833"/>
                    </a:lnTo>
                    <a:lnTo>
                      <a:pt x="315" y="1843"/>
                    </a:lnTo>
                    <a:lnTo>
                      <a:pt x="292" y="1848"/>
                    </a:lnTo>
                    <a:lnTo>
                      <a:pt x="266" y="1851"/>
                    </a:lnTo>
                    <a:lnTo>
                      <a:pt x="241" y="1850"/>
                    </a:lnTo>
                    <a:lnTo>
                      <a:pt x="215" y="1847"/>
                    </a:lnTo>
                    <a:lnTo>
                      <a:pt x="194" y="1841"/>
                    </a:lnTo>
                    <a:lnTo>
                      <a:pt x="176" y="1834"/>
                    </a:lnTo>
                    <a:lnTo>
                      <a:pt x="159" y="1826"/>
                    </a:lnTo>
                    <a:lnTo>
                      <a:pt x="146" y="1814"/>
                    </a:lnTo>
                    <a:lnTo>
                      <a:pt x="137" y="1803"/>
                    </a:lnTo>
                    <a:lnTo>
                      <a:pt x="132" y="1789"/>
                    </a:lnTo>
                    <a:lnTo>
                      <a:pt x="130" y="1780"/>
                    </a:lnTo>
                    <a:lnTo>
                      <a:pt x="126" y="1780"/>
                    </a:lnTo>
                    <a:lnTo>
                      <a:pt x="116" y="1779"/>
                    </a:lnTo>
                    <a:lnTo>
                      <a:pt x="100" y="1776"/>
                    </a:lnTo>
                    <a:lnTo>
                      <a:pt x="83" y="1775"/>
                    </a:lnTo>
                    <a:lnTo>
                      <a:pt x="64" y="1772"/>
                    </a:lnTo>
                    <a:lnTo>
                      <a:pt x="47" y="1770"/>
                    </a:lnTo>
                    <a:lnTo>
                      <a:pt x="32" y="1769"/>
                    </a:lnTo>
                    <a:lnTo>
                      <a:pt x="22" y="1768"/>
                    </a:lnTo>
                    <a:lnTo>
                      <a:pt x="22" y="1741"/>
                    </a:lnTo>
                    <a:lnTo>
                      <a:pt x="22" y="1695"/>
                    </a:lnTo>
                    <a:lnTo>
                      <a:pt x="22" y="1651"/>
                    </a:lnTo>
                    <a:lnTo>
                      <a:pt x="22" y="1623"/>
                    </a:lnTo>
                    <a:lnTo>
                      <a:pt x="37" y="1623"/>
                    </a:lnTo>
                    <a:lnTo>
                      <a:pt x="68" y="1623"/>
                    </a:lnTo>
                    <a:lnTo>
                      <a:pt x="113" y="1624"/>
                    </a:lnTo>
                    <a:lnTo>
                      <a:pt x="173" y="1624"/>
                    </a:lnTo>
                    <a:lnTo>
                      <a:pt x="241" y="1626"/>
                    </a:lnTo>
                    <a:lnTo>
                      <a:pt x="316" y="1626"/>
                    </a:lnTo>
                    <a:lnTo>
                      <a:pt x="397" y="1627"/>
                    </a:lnTo>
                    <a:lnTo>
                      <a:pt x="481" y="1627"/>
                    </a:lnTo>
                    <a:lnTo>
                      <a:pt x="563" y="1629"/>
                    </a:lnTo>
                    <a:lnTo>
                      <a:pt x="642" y="1630"/>
                    </a:lnTo>
                    <a:lnTo>
                      <a:pt x="716" y="1630"/>
                    </a:lnTo>
                    <a:lnTo>
                      <a:pt x="783" y="1631"/>
                    </a:lnTo>
                    <a:lnTo>
                      <a:pt x="839" y="1631"/>
                    </a:lnTo>
                    <a:lnTo>
                      <a:pt x="882" y="1633"/>
                    </a:lnTo>
                    <a:lnTo>
                      <a:pt x="910" y="1633"/>
                    </a:lnTo>
                    <a:lnTo>
                      <a:pt x="920" y="1633"/>
                    </a:lnTo>
                    <a:lnTo>
                      <a:pt x="920" y="1497"/>
                    </a:lnTo>
                    <a:lnTo>
                      <a:pt x="910" y="1497"/>
                    </a:lnTo>
                    <a:lnTo>
                      <a:pt x="883" y="1497"/>
                    </a:lnTo>
                    <a:lnTo>
                      <a:pt x="839" y="1495"/>
                    </a:lnTo>
                    <a:lnTo>
                      <a:pt x="784" y="1495"/>
                    </a:lnTo>
                    <a:lnTo>
                      <a:pt x="719" y="1494"/>
                    </a:lnTo>
                    <a:lnTo>
                      <a:pt x="645" y="1494"/>
                    </a:lnTo>
                    <a:lnTo>
                      <a:pt x="566" y="1492"/>
                    </a:lnTo>
                    <a:lnTo>
                      <a:pt x="483" y="1491"/>
                    </a:lnTo>
                    <a:lnTo>
                      <a:pt x="401" y="1491"/>
                    </a:lnTo>
                    <a:lnTo>
                      <a:pt x="322" y="1490"/>
                    </a:lnTo>
                    <a:lnTo>
                      <a:pt x="247" y="1490"/>
                    </a:lnTo>
                    <a:lnTo>
                      <a:pt x="178" y="1488"/>
                    </a:lnTo>
                    <a:lnTo>
                      <a:pt x="120" y="1488"/>
                    </a:lnTo>
                    <a:lnTo>
                      <a:pt x="75" y="1487"/>
                    </a:lnTo>
                    <a:lnTo>
                      <a:pt x="44" y="1487"/>
                    </a:lnTo>
                    <a:lnTo>
                      <a:pt x="30" y="1487"/>
                    </a:lnTo>
                    <a:lnTo>
                      <a:pt x="30" y="1460"/>
                    </a:lnTo>
                    <a:lnTo>
                      <a:pt x="30" y="1417"/>
                    </a:lnTo>
                    <a:lnTo>
                      <a:pt x="30" y="1373"/>
                    </a:lnTo>
                    <a:lnTo>
                      <a:pt x="30" y="1346"/>
                    </a:lnTo>
                    <a:lnTo>
                      <a:pt x="42" y="1346"/>
                    </a:lnTo>
                    <a:lnTo>
                      <a:pt x="71" y="1346"/>
                    </a:lnTo>
                    <a:lnTo>
                      <a:pt x="112" y="1346"/>
                    </a:lnTo>
                    <a:lnTo>
                      <a:pt x="164" y="1346"/>
                    </a:lnTo>
                    <a:lnTo>
                      <a:pt x="224" y="1348"/>
                    </a:lnTo>
                    <a:lnTo>
                      <a:pt x="292" y="1348"/>
                    </a:lnTo>
                    <a:lnTo>
                      <a:pt x="363" y="1348"/>
                    </a:lnTo>
                    <a:lnTo>
                      <a:pt x="437" y="1348"/>
                    </a:lnTo>
                    <a:lnTo>
                      <a:pt x="510" y="1349"/>
                    </a:lnTo>
                    <a:lnTo>
                      <a:pt x="580" y="1349"/>
                    </a:lnTo>
                    <a:lnTo>
                      <a:pt x="646" y="1349"/>
                    </a:lnTo>
                    <a:lnTo>
                      <a:pt x="705" y="1351"/>
                    </a:lnTo>
                    <a:lnTo>
                      <a:pt x="756" y="1351"/>
                    </a:lnTo>
                    <a:lnTo>
                      <a:pt x="794" y="1351"/>
                    </a:lnTo>
                    <a:lnTo>
                      <a:pt x="818" y="1351"/>
                    </a:lnTo>
                    <a:lnTo>
                      <a:pt x="827" y="1351"/>
                    </a:lnTo>
                    <a:lnTo>
                      <a:pt x="829" y="1351"/>
                    </a:lnTo>
                    <a:lnTo>
                      <a:pt x="834" y="1351"/>
                    </a:lnTo>
                    <a:lnTo>
                      <a:pt x="842" y="1351"/>
                    </a:lnTo>
                    <a:lnTo>
                      <a:pt x="852" y="1348"/>
                    </a:lnTo>
                    <a:lnTo>
                      <a:pt x="863" y="1345"/>
                    </a:lnTo>
                    <a:lnTo>
                      <a:pt x="875" y="1341"/>
                    </a:lnTo>
                    <a:lnTo>
                      <a:pt x="888" y="1335"/>
                    </a:lnTo>
                    <a:lnTo>
                      <a:pt x="899" y="1325"/>
                    </a:lnTo>
                    <a:lnTo>
                      <a:pt x="913" y="1309"/>
                    </a:lnTo>
                    <a:lnTo>
                      <a:pt x="923" y="1290"/>
                    </a:lnTo>
                    <a:lnTo>
                      <a:pt x="929" y="1268"/>
                    </a:lnTo>
                    <a:lnTo>
                      <a:pt x="930" y="1243"/>
                    </a:lnTo>
                    <a:lnTo>
                      <a:pt x="930" y="931"/>
                    </a:lnTo>
                    <a:lnTo>
                      <a:pt x="930" y="928"/>
                    </a:lnTo>
                    <a:lnTo>
                      <a:pt x="929" y="921"/>
                    </a:lnTo>
                    <a:lnTo>
                      <a:pt x="926" y="911"/>
                    </a:lnTo>
                    <a:lnTo>
                      <a:pt x="919" y="898"/>
                    </a:lnTo>
                    <a:lnTo>
                      <a:pt x="913" y="892"/>
                    </a:lnTo>
                    <a:lnTo>
                      <a:pt x="906" y="887"/>
                    </a:lnTo>
                    <a:lnTo>
                      <a:pt x="897" y="881"/>
                    </a:lnTo>
                    <a:lnTo>
                      <a:pt x="888" y="877"/>
                    </a:lnTo>
                    <a:lnTo>
                      <a:pt x="876" y="874"/>
                    </a:lnTo>
                    <a:lnTo>
                      <a:pt x="865" y="871"/>
                    </a:lnTo>
                    <a:lnTo>
                      <a:pt x="852" y="870"/>
                    </a:lnTo>
                    <a:lnTo>
                      <a:pt x="838" y="868"/>
                    </a:lnTo>
                    <a:lnTo>
                      <a:pt x="817" y="867"/>
                    </a:lnTo>
                    <a:lnTo>
                      <a:pt x="794" y="866"/>
                    </a:lnTo>
                    <a:lnTo>
                      <a:pt x="771" y="866"/>
                    </a:lnTo>
                    <a:lnTo>
                      <a:pt x="747" y="864"/>
                    </a:lnTo>
                    <a:lnTo>
                      <a:pt x="724" y="864"/>
                    </a:lnTo>
                    <a:lnTo>
                      <a:pt x="700" y="864"/>
                    </a:lnTo>
                    <a:lnTo>
                      <a:pt x="676" y="864"/>
                    </a:lnTo>
                    <a:lnTo>
                      <a:pt x="651" y="864"/>
                    </a:lnTo>
                    <a:lnTo>
                      <a:pt x="627" y="864"/>
                    </a:lnTo>
                    <a:lnTo>
                      <a:pt x="601" y="864"/>
                    </a:lnTo>
                    <a:lnTo>
                      <a:pt x="577" y="866"/>
                    </a:lnTo>
                    <a:lnTo>
                      <a:pt x="551" y="866"/>
                    </a:lnTo>
                    <a:lnTo>
                      <a:pt x="526" y="866"/>
                    </a:lnTo>
                    <a:lnTo>
                      <a:pt x="500" y="867"/>
                    </a:lnTo>
                    <a:lnTo>
                      <a:pt x="476" y="867"/>
                    </a:lnTo>
                    <a:lnTo>
                      <a:pt x="451" y="868"/>
                    </a:lnTo>
                    <a:lnTo>
                      <a:pt x="442" y="868"/>
                    </a:lnTo>
                    <a:lnTo>
                      <a:pt x="428" y="870"/>
                    </a:lnTo>
                    <a:lnTo>
                      <a:pt x="408" y="870"/>
                    </a:lnTo>
                    <a:lnTo>
                      <a:pt x="386" y="871"/>
                    </a:lnTo>
                    <a:lnTo>
                      <a:pt x="360" y="873"/>
                    </a:lnTo>
                    <a:lnTo>
                      <a:pt x="333" y="875"/>
                    </a:lnTo>
                    <a:lnTo>
                      <a:pt x="303" y="877"/>
                    </a:lnTo>
                    <a:lnTo>
                      <a:pt x="273" y="880"/>
                    </a:lnTo>
                    <a:lnTo>
                      <a:pt x="242" y="883"/>
                    </a:lnTo>
                    <a:lnTo>
                      <a:pt x="213" y="885"/>
                    </a:lnTo>
                    <a:lnTo>
                      <a:pt x="186" y="890"/>
                    </a:lnTo>
                    <a:lnTo>
                      <a:pt x="160" y="892"/>
                    </a:lnTo>
                    <a:lnTo>
                      <a:pt x="137" y="895"/>
                    </a:lnTo>
                    <a:lnTo>
                      <a:pt x="118" y="900"/>
                    </a:lnTo>
                    <a:lnTo>
                      <a:pt x="103" y="902"/>
                    </a:lnTo>
                    <a:lnTo>
                      <a:pt x="95" y="907"/>
                    </a:lnTo>
                    <a:lnTo>
                      <a:pt x="75" y="925"/>
                    </a:lnTo>
                    <a:lnTo>
                      <a:pt x="62" y="948"/>
                    </a:lnTo>
                    <a:lnTo>
                      <a:pt x="57" y="979"/>
                    </a:lnTo>
                    <a:lnTo>
                      <a:pt x="55" y="1019"/>
                    </a:lnTo>
                    <a:lnTo>
                      <a:pt x="51" y="1265"/>
                    </a:lnTo>
                    <a:lnTo>
                      <a:pt x="64" y="1265"/>
                    </a:lnTo>
                    <a:lnTo>
                      <a:pt x="451" y="1261"/>
                    </a:lnTo>
                    <a:lnTo>
                      <a:pt x="452" y="1213"/>
                    </a:lnTo>
                    <a:lnTo>
                      <a:pt x="456" y="1104"/>
                    </a:lnTo>
                    <a:lnTo>
                      <a:pt x="459" y="992"/>
                    </a:lnTo>
                    <a:lnTo>
                      <a:pt x="462" y="932"/>
                    </a:lnTo>
                    <a:lnTo>
                      <a:pt x="464" y="932"/>
                    </a:lnTo>
                    <a:lnTo>
                      <a:pt x="466" y="932"/>
                    </a:lnTo>
                    <a:lnTo>
                      <a:pt x="468" y="932"/>
                    </a:lnTo>
                    <a:lnTo>
                      <a:pt x="469" y="932"/>
                    </a:lnTo>
                    <a:lnTo>
                      <a:pt x="468" y="992"/>
                    </a:lnTo>
                    <a:lnTo>
                      <a:pt x="466" y="1104"/>
                    </a:lnTo>
                    <a:lnTo>
                      <a:pt x="465" y="1216"/>
                    </a:lnTo>
                    <a:lnTo>
                      <a:pt x="464" y="1275"/>
                    </a:lnTo>
                    <a:lnTo>
                      <a:pt x="455" y="1275"/>
                    </a:lnTo>
                    <a:lnTo>
                      <a:pt x="439" y="1275"/>
                    </a:lnTo>
                    <a:lnTo>
                      <a:pt x="418" y="1275"/>
                    </a:lnTo>
                    <a:lnTo>
                      <a:pt x="391" y="1275"/>
                    </a:lnTo>
                    <a:lnTo>
                      <a:pt x="360" y="1275"/>
                    </a:lnTo>
                    <a:lnTo>
                      <a:pt x="325" y="1275"/>
                    </a:lnTo>
                    <a:lnTo>
                      <a:pt x="288" y="1275"/>
                    </a:lnTo>
                    <a:lnTo>
                      <a:pt x="251" y="1275"/>
                    </a:lnTo>
                    <a:lnTo>
                      <a:pt x="213" y="1275"/>
                    </a:lnTo>
                    <a:lnTo>
                      <a:pt x="176" y="1275"/>
                    </a:lnTo>
                    <a:lnTo>
                      <a:pt x="140" y="1275"/>
                    </a:lnTo>
                    <a:lnTo>
                      <a:pt x="109" y="1275"/>
                    </a:lnTo>
                    <a:lnTo>
                      <a:pt x="82" y="1275"/>
                    </a:lnTo>
                    <a:lnTo>
                      <a:pt x="61" y="1275"/>
                    </a:lnTo>
                    <a:lnTo>
                      <a:pt x="45" y="1275"/>
                    </a:lnTo>
                    <a:lnTo>
                      <a:pt x="37" y="1275"/>
                    </a:lnTo>
                    <a:lnTo>
                      <a:pt x="37" y="1210"/>
                    </a:lnTo>
                    <a:lnTo>
                      <a:pt x="38" y="1087"/>
                    </a:lnTo>
                    <a:lnTo>
                      <a:pt x="40" y="968"/>
                    </a:lnTo>
                    <a:lnTo>
                      <a:pt x="40" y="914"/>
                    </a:lnTo>
                    <a:lnTo>
                      <a:pt x="17" y="914"/>
                    </a:lnTo>
                    <a:lnTo>
                      <a:pt x="14" y="1300"/>
                    </a:lnTo>
                    <a:lnTo>
                      <a:pt x="486" y="1300"/>
                    </a:lnTo>
                    <a:lnTo>
                      <a:pt x="493" y="908"/>
                    </a:lnTo>
                    <a:lnTo>
                      <a:pt x="439" y="908"/>
                    </a:lnTo>
                    <a:lnTo>
                      <a:pt x="438" y="956"/>
                    </a:lnTo>
                    <a:lnTo>
                      <a:pt x="435" y="1065"/>
                    </a:lnTo>
                    <a:lnTo>
                      <a:pt x="431" y="1179"/>
                    </a:lnTo>
                    <a:lnTo>
                      <a:pt x="429" y="1239"/>
                    </a:lnTo>
                    <a:lnTo>
                      <a:pt x="422" y="1239"/>
                    </a:lnTo>
                    <a:lnTo>
                      <a:pt x="410" y="1239"/>
                    </a:lnTo>
                    <a:lnTo>
                      <a:pt x="391" y="1239"/>
                    </a:lnTo>
                    <a:lnTo>
                      <a:pt x="368" y="1239"/>
                    </a:lnTo>
                    <a:lnTo>
                      <a:pt x="343" y="1239"/>
                    </a:lnTo>
                    <a:lnTo>
                      <a:pt x="315" y="1240"/>
                    </a:lnTo>
                    <a:lnTo>
                      <a:pt x="283" y="1240"/>
                    </a:lnTo>
                    <a:lnTo>
                      <a:pt x="252" y="1240"/>
                    </a:lnTo>
                    <a:lnTo>
                      <a:pt x="221" y="1240"/>
                    </a:lnTo>
                    <a:lnTo>
                      <a:pt x="191" y="1240"/>
                    </a:lnTo>
                    <a:lnTo>
                      <a:pt x="163" y="1241"/>
                    </a:lnTo>
                    <a:lnTo>
                      <a:pt x="136" y="1241"/>
                    </a:lnTo>
                    <a:lnTo>
                      <a:pt x="113" y="1241"/>
                    </a:lnTo>
                    <a:lnTo>
                      <a:pt x="95" y="1241"/>
                    </a:lnTo>
                    <a:lnTo>
                      <a:pt x="82" y="1241"/>
                    </a:lnTo>
                    <a:lnTo>
                      <a:pt x="75" y="1241"/>
                    </a:lnTo>
                    <a:lnTo>
                      <a:pt x="75" y="1199"/>
                    </a:lnTo>
                    <a:lnTo>
                      <a:pt x="76" y="1122"/>
                    </a:lnTo>
                    <a:lnTo>
                      <a:pt x="78" y="1051"/>
                    </a:lnTo>
                    <a:lnTo>
                      <a:pt x="78" y="1019"/>
                    </a:lnTo>
                    <a:lnTo>
                      <a:pt x="79" y="979"/>
                    </a:lnTo>
                    <a:lnTo>
                      <a:pt x="83" y="953"/>
                    </a:lnTo>
                    <a:lnTo>
                      <a:pt x="93" y="938"/>
                    </a:lnTo>
                    <a:lnTo>
                      <a:pt x="106" y="927"/>
                    </a:lnTo>
                    <a:lnTo>
                      <a:pt x="113" y="924"/>
                    </a:lnTo>
                    <a:lnTo>
                      <a:pt x="125" y="921"/>
                    </a:lnTo>
                    <a:lnTo>
                      <a:pt x="140" y="918"/>
                    </a:lnTo>
                    <a:lnTo>
                      <a:pt x="160" y="915"/>
                    </a:lnTo>
                    <a:lnTo>
                      <a:pt x="183" y="912"/>
                    </a:lnTo>
                    <a:lnTo>
                      <a:pt x="208" y="909"/>
                    </a:lnTo>
                    <a:lnTo>
                      <a:pt x="235" y="907"/>
                    </a:lnTo>
                    <a:lnTo>
                      <a:pt x="262" y="904"/>
                    </a:lnTo>
                    <a:lnTo>
                      <a:pt x="291" y="901"/>
                    </a:lnTo>
                    <a:lnTo>
                      <a:pt x="319" y="900"/>
                    </a:lnTo>
                    <a:lnTo>
                      <a:pt x="346" y="897"/>
                    </a:lnTo>
                    <a:lnTo>
                      <a:pt x="373" y="895"/>
                    </a:lnTo>
                    <a:lnTo>
                      <a:pt x="397" y="894"/>
                    </a:lnTo>
                    <a:lnTo>
                      <a:pt x="418" y="892"/>
                    </a:lnTo>
                    <a:lnTo>
                      <a:pt x="437" y="891"/>
                    </a:lnTo>
                    <a:lnTo>
                      <a:pt x="451" y="891"/>
                    </a:lnTo>
                    <a:lnTo>
                      <a:pt x="476" y="890"/>
                    </a:lnTo>
                    <a:lnTo>
                      <a:pt x="500" y="890"/>
                    </a:lnTo>
                    <a:lnTo>
                      <a:pt x="526" y="888"/>
                    </a:lnTo>
                    <a:lnTo>
                      <a:pt x="551" y="888"/>
                    </a:lnTo>
                    <a:lnTo>
                      <a:pt x="577" y="888"/>
                    </a:lnTo>
                    <a:lnTo>
                      <a:pt x="601" y="887"/>
                    </a:lnTo>
                    <a:lnTo>
                      <a:pt x="627" y="887"/>
                    </a:lnTo>
                    <a:lnTo>
                      <a:pt x="651" y="887"/>
                    </a:lnTo>
                    <a:lnTo>
                      <a:pt x="676" y="887"/>
                    </a:lnTo>
                    <a:lnTo>
                      <a:pt x="700" y="887"/>
                    </a:lnTo>
                    <a:lnTo>
                      <a:pt x="723" y="887"/>
                    </a:lnTo>
                    <a:lnTo>
                      <a:pt x="747" y="887"/>
                    </a:lnTo>
                    <a:lnTo>
                      <a:pt x="770" y="888"/>
                    </a:lnTo>
                    <a:lnTo>
                      <a:pt x="792" y="888"/>
                    </a:lnTo>
                    <a:lnTo>
                      <a:pt x="815" y="890"/>
                    </a:lnTo>
                    <a:lnTo>
                      <a:pt x="836" y="891"/>
                    </a:lnTo>
                    <a:lnTo>
                      <a:pt x="851" y="892"/>
                    </a:lnTo>
                    <a:lnTo>
                      <a:pt x="862" y="894"/>
                    </a:lnTo>
                    <a:lnTo>
                      <a:pt x="872" y="897"/>
                    </a:lnTo>
                    <a:lnTo>
                      <a:pt x="880" y="900"/>
                    </a:lnTo>
                    <a:lnTo>
                      <a:pt x="888" y="902"/>
                    </a:lnTo>
                    <a:lnTo>
                      <a:pt x="893" y="905"/>
                    </a:lnTo>
                    <a:lnTo>
                      <a:pt x="897" y="909"/>
                    </a:lnTo>
                    <a:lnTo>
                      <a:pt x="900" y="912"/>
                    </a:lnTo>
                    <a:lnTo>
                      <a:pt x="905" y="918"/>
                    </a:lnTo>
                    <a:lnTo>
                      <a:pt x="906" y="924"/>
                    </a:lnTo>
                    <a:lnTo>
                      <a:pt x="907" y="928"/>
                    </a:lnTo>
                    <a:lnTo>
                      <a:pt x="907" y="929"/>
                    </a:lnTo>
                    <a:lnTo>
                      <a:pt x="907" y="1243"/>
                    </a:lnTo>
                    <a:lnTo>
                      <a:pt x="906" y="1263"/>
                    </a:lnTo>
                    <a:lnTo>
                      <a:pt x="902" y="1281"/>
                    </a:lnTo>
                    <a:lnTo>
                      <a:pt x="895" y="1295"/>
                    </a:lnTo>
                    <a:lnTo>
                      <a:pt x="885" y="1308"/>
                    </a:lnTo>
                    <a:lnTo>
                      <a:pt x="875" y="1315"/>
                    </a:lnTo>
                    <a:lnTo>
                      <a:pt x="866" y="1319"/>
                    </a:lnTo>
                    <a:lnTo>
                      <a:pt x="856" y="1324"/>
                    </a:lnTo>
                    <a:lnTo>
                      <a:pt x="848" y="1325"/>
                    </a:lnTo>
                    <a:lnTo>
                      <a:pt x="839" y="1326"/>
                    </a:lnTo>
                    <a:lnTo>
                      <a:pt x="834" y="1326"/>
                    </a:lnTo>
                    <a:lnTo>
                      <a:pt x="829" y="1326"/>
                    </a:lnTo>
                    <a:lnTo>
                      <a:pt x="828" y="1326"/>
                    </a:lnTo>
                    <a:lnTo>
                      <a:pt x="818" y="1326"/>
                    </a:lnTo>
                    <a:lnTo>
                      <a:pt x="792" y="1326"/>
                    </a:lnTo>
                    <a:lnTo>
                      <a:pt x="753" y="1326"/>
                    </a:lnTo>
                    <a:lnTo>
                      <a:pt x="700" y="1326"/>
                    </a:lnTo>
                    <a:lnTo>
                      <a:pt x="639" y="1326"/>
                    </a:lnTo>
                    <a:lnTo>
                      <a:pt x="571" y="1325"/>
                    </a:lnTo>
                    <a:lnTo>
                      <a:pt x="498" y="1325"/>
                    </a:lnTo>
                    <a:lnTo>
                      <a:pt x="422" y="1325"/>
                    </a:lnTo>
                    <a:lnTo>
                      <a:pt x="347" y="1325"/>
                    </a:lnTo>
                    <a:lnTo>
                      <a:pt x="273" y="1325"/>
                    </a:lnTo>
                    <a:lnTo>
                      <a:pt x="205" y="1324"/>
                    </a:lnTo>
                    <a:lnTo>
                      <a:pt x="144" y="1324"/>
                    </a:lnTo>
                    <a:lnTo>
                      <a:pt x="93" y="1324"/>
                    </a:lnTo>
                    <a:lnTo>
                      <a:pt x="52" y="1324"/>
                    </a:lnTo>
                    <a:lnTo>
                      <a:pt x="27" y="1324"/>
                    </a:lnTo>
                    <a:lnTo>
                      <a:pt x="18" y="1324"/>
                    </a:lnTo>
                    <a:lnTo>
                      <a:pt x="7" y="1324"/>
                    </a:lnTo>
                    <a:lnTo>
                      <a:pt x="7" y="1509"/>
                    </a:lnTo>
                    <a:lnTo>
                      <a:pt x="17" y="1509"/>
                    </a:lnTo>
                    <a:lnTo>
                      <a:pt x="44" y="1509"/>
                    </a:lnTo>
                    <a:lnTo>
                      <a:pt x="88" y="1511"/>
                    </a:lnTo>
                    <a:lnTo>
                      <a:pt x="143" y="1511"/>
                    </a:lnTo>
                    <a:lnTo>
                      <a:pt x="208" y="1512"/>
                    </a:lnTo>
                    <a:lnTo>
                      <a:pt x="282" y="1512"/>
                    </a:lnTo>
                    <a:lnTo>
                      <a:pt x="361" y="1514"/>
                    </a:lnTo>
                    <a:lnTo>
                      <a:pt x="444" y="1514"/>
                    </a:lnTo>
                    <a:lnTo>
                      <a:pt x="526" y="1515"/>
                    </a:lnTo>
                    <a:lnTo>
                      <a:pt x="605" y="1516"/>
                    </a:lnTo>
                    <a:lnTo>
                      <a:pt x="680" y="1516"/>
                    </a:lnTo>
                    <a:lnTo>
                      <a:pt x="749" y="1518"/>
                    </a:lnTo>
                    <a:lnTo>
                      <a:pt x="807" y="1518"/>
                    </a:lnTo>
                    <a:lnTo>
                      <a:pt x="852" y="1519"/>
                    </a:lnTo>
                    <a:lnTo>
                      <a:pt x="883" y="1519"/>
                    </a:lnTo>
                    <a:lnTo>
                      <a:pt x="897" y="1519"/>
                    </a:lnTo>
                    <a:lnTo>
                      <a:pt x="897" y="1538"/>
                    </a:lnTo>
                    <a:lnTo>
                      <a:pt x="897" y="1565"/>
                    </a:lnTo>
                    <a:lnTo>
                      <a:pt x="897" y="1590"/>
                    </a:lnTo>
                    <a:lnTo>
                      <a:pt x="897" y="1609"/>
                    </a:lnTo>
                    <a:lnTo>
                      <a:pt x="883" y="1609"/>
                    </a:lnTo>
                    <a:lnTo>
                      <a:pt x="852" y="1609"/>
                    </a:lnTo>
                    <a:lnTo>
                      <a:pt x="807" y="1607"/>
                    </a:lnTo>
                    <a:lnTo>
                      <a:pt x="747" y="1607"/>
                    </a:lnTo>
                    <a:lnTo>
                      <a:pt x="679" y="1606"/>
                    </a:lnTo>
                    <a:lnTo>
                      <a:pt x="604" y="1606"/>
                    </a:lnTo>
                    <a:lnTo>
                      <a:pt x="523" y="1604"/>
                    </a:lnTo>
                    <a:lnTo>
                      <a:pt x="441" y="1603"/>
                    </a:lnTo>
                    <a:lnTo>
                      <a:pt x="357" y="1603"/>
                    </a:lnTo>
                    <a:lnTo>
                      <a:pt x="278" y="1602"/>
                    </a:lnTo>
                    <a:lnTo>
                      <a:pt x="204" y="1602"/>
                    </a:lnTo>
                    <a:lnTo>
                      <a:pt x="137" y="1600"/>
                    </a:lnTo>
                    <a:lnTo>
                      <a:pt x="81" y="1600"/>
                    </a:lnTo>
                    <a:lnTo>
                      <a:pt x="38" y="1599"/>
                    </a:lnTo>
                    <a:lnTo>
                      <a:pt x="10" y="1599"/>
                    </a:lnTo>
                    <a:lnTo>
                      <a:pt x="0" y="1599"/>
                    </a:lnTo>
                    <a:lnTo>
                      <a:pt x="0" y="1787"/>
                    </a:lnTo>
                    <a:lnTo>
                      <a:pt x="4" y="1787"/>
                    </a:lnTo>
                    <a:lnTo>
                      <a:pt x="15" y="1789"/>
                    </a:lnTo>
                    <a:lnTo>
                      <a:pt x="32" y="1792"/>
                    </a:lnTo>
                    <a:lnTo>
                      <a:pt x="52" y="1794"/>
                    </a:lnTo>
                    <a:lnTo>
                      <a:pt x="71" y="1796"/>
                    </a:lnTo>
                    <a:lnTo>
                      <a:pt x="89" y="1799"/>
                    </a:lnTo>
                    <a:lnTo>
                      <a:pt x="103" y="1800"/>
                    </a:lnTo>
                    <a:lnTo>
                      <a:pt x="112" y="1802"/>
                    </a:lnTo>
                    <a:lnTo>
                      <a:pt x="120" y="1817"/>
                    </a:lnTo>
                    <a:lnTo>
                      <a:pt x="132" y="1831"/>
                    </a:lnTo>
                    <a:lnTo>
                      <a:pt x="147" y="1844"/>
                    </a:lnTo>
                    <a:lnTo>
                      <a:pt x="166" y="1854"/>
                    </a:lnTo>
                    <a:lnTo>
                      <a:pt x="187" y="1863"/>
                    </a:lnTo>
                    <a:lnTo>
                      <a:pt x="211" y="1868"/>
                    </a:lnTo>
                    <a:lnTo>
                      <a:pt x="237" y="1872"/>
                    </a:lnTo>
                    <a:lnTo>
                      <a:pt x="266" y="1874"/>
                    </a:lnTo>
                    <a:lnTo>
                      <a:pt x="292" y="1872"/>
                    </a:lnTo>
                    <a:lnTo>
                      <a:pt x="315" y="1867"/>
                    </a:lnTo>
                    <a:lnTo>
                      <a:pt x="334" y="1858"/>
                    </a:lnTo>
                    <a:lnTo>
                      <a:pt x="351" y="1850"/>
                    </a:lnTo>
                    <a:lnTo>
                      <a:pt x="367" y="1838"/>
                    </a:lnTo>
                    <a:lnTo>
                      <a:pt x="378" y="1829"/>
                    </a:lnTo>
                    <a:lnTo>
                      <a:pt x="388" y="1820"/>
                    </a:lnTo>
                    <a:lnTo>
                      <a:pt x="394" y="1813"/>
                    </a:lnTo>
                    <a:lnTo>
                      <a:pt x="403" y="1813"/>
                    </a:lnTo>
                    <a:lnTo>
                      <a:pt x="422" y="1814"/>
                    </a:lnTo>
                    <a:lnTo>
                      <a:pt x="452" y="1816"/>
                    </a:lnTo>
                    <a:lnTo>
                      <a:pt x="490" y="1817"/>
                    </a:lnTo>
                    <a:lnTo>
                      <a:pt x="536" y="1819"/>
                    </a:lnTo>
                    <a:lnTo>
                      <a:pt x="585" y="1821"/>
                    </a:lnTo>
                    <a:lnTo>
                      <a:pt x="638" y="1824"/>
                    </a:lnTo>
                    <a:lnTo>
                      <a:pt x="693" y="1826"/>
                    </a:lnTo>
                    <a:lnTo>
                      <a:pt x="747" y="1829"/>
                    </a:lnTo>
                    <a:lnTo>
                      <a:pt x="800" y="1831"/>
                    </a:lnTo>
                    <a:lnTo>
                      <a:pt x="848" y="1834"/>
                    </a:lnTo>
                    <a:lnTo>
                      <a:pt x="892" y="1836"/>
                    </a:lnTo>
                    <a:lnTo>
                      <a:pt x="929" y="1837"/>
                    </a:lnTo>
                    <a:lnTo>
                      <a:pt x="957" y="1838"/>
                    </a:lnTo>
                    <a:lnTo>
                      <a:pt x="975" y="1840"/>
                    </a:lnTo>
                    <a:lnTo>
                      <a:pt x="983" y="1840"/>
                    </a:lnTo>
                    <a:lnTo>
                      <a:pt x="987" y="1840"/>
                    </a:lnTo>
                    <a:lnTo>
                      <a:pt x="998" y="1838"/>
                    </a:lnTo>
                    <a:lnTo>
                      <a:pt x="1015" y="1837"/>
                    </a:lnTo>
                    <a:lnTo>
                      <a:pt x="1035" y="1836"/>
                    </a:lnTo>
                    <a:lnTo>
                      <a:pt x="1056" y="1834"/>
                    </a:lnTo>
                    <a:lnTo>
                      <a:pt x="1078" y="1833"/>
                    </a:lnTo>
                    <a:lnTo>
                      <a:pt x="1096" y="1831"/>
                    </a:lnTo>
                    <a:lnTo>
                      <a:pt x="1110" y="1830"/>
                    </a:lnTo>
                    <a:lnTo>
                      <a:pt x="1116" y="1850"/>
                    </a:lnTo>
                    <a:lnTo>
                      <a:pt x="1124" y="1867"/>
                    </a:lnTo>
                    <a:lnTo>
                      <a:pt x="1133" y="1881"/>
                    </a:lnTo>
                    <a:lnTo>
                      <a:pt x="1137" y="1887"/>
                    </a:lnTo>
                    <a:lnTo>
                      <a:pt x="1140" y="1889"/>
                    </a:lnTo>
                    <a:lnTo>
                      <a:pt x="1144" y="1891"/>
                    </a:lnTo>
                    <a:lnTo>
                      <a:pt x="1147" y="1891"/>
                    </a:lnTo>
                    <a:lnTo>
                      <a:pt x="1156" y="1892"/>
                    </a:lnTo>
                    <a:lnTo>
                      <a:pt x="1167" y="1894"/>
                    </a:lnTo>
                    <a:lnTo>
                      <a:pt x="1181" y="1894"/>
                    </a:lnTo>
                    <a:lnTo>
                      <a:pt x="1197" y="1895"/>
                    </a:lnTo>
                    <a:lnTo>
                      <a:pt x="1215" y="1897"/>
                    </a:lnTo>
                    <a:lnTo>
                      <a:pt x="1235" y="1898"/>
                    </a:lnTo>
                    <a:lnTo>
                      <a:pt x="1255" y="1898"/>
                    </a:lnTo>
                    <a:lnTo>
                      <a:pt x="1273" y="1895"/>
                    </a:lnTo>
                    <a:lnTo>
                      <a:pt x="1290" y="1888"/>
                    </a:lnTo>
                    <a:lnTo>
                      <a:pt x="1303" y="1877"/>
                    </a:lnTo>
                    <a:lnTo>
                      <a:pt x="1314" y="1864"/>
                    </a:lnTo>
                    <a:lnTo>
                      <a:pt x="1323" y="1850"/>
                    </a:lnTo>
                    <a:lnTo>
                      <a:pt x="1330" y="1837"/>
                    </a:lnTo>
                    <a:lnTo>
                      <a:pt x="1336" y="1824"/>
                    </a:lnTo>
                    <a:lnTo>
                      <a:pt x="1338" y="1814"/>
                    </a:lnTo>
                    <a:lnTo>
                      <a:pt x="1346" y="1813"/>
                    </a:lnTo>
                    <a:lnTo>
                      <a:pt x="1361" y="1811"/>
                    </a:lnTo>
                    <a:lnTo>
                      <a:pt x="1382" y="1809"/>
                    </a:lnTo>
                    <a:lnTo>
                      <a:pt x="1411" y="1804"/>
                    </a:lnTo>
                    <a:lnTo>
                      <a:pt x="1443" y="1800"/>
                    </a:lnTo>
                    <a:lnTo>
                      <a:pt x="1480" y="1796"/>
                    </a:lnTo>
                    <a:lnTo>
                      <a:pt x="1519" y="1790"/>
                    </a:lnTo>
                    <a:lnTo>
                      <a:pt x="1558" y="1785"/>
                    </a:lnTo>
                    <a:lnTo>
                      <a:pt x="1598" y="1780"/>
                    </a:lnTo>
                    <a:lnTo>
                      <a:pt x="1636" y="1775"/>
                    </a:lnTo>
                    <a:lnTo>
                      <a:pt x="1673" y="1770"/>
                    </a:lnTo>
                    <a:lnTo>
                      <a:pt x="1706" y="1766"/>
                    </a:lnTo>
                    <a:lnTo>
                      <a:pt x="1734" y="1762"/>
                    </a:lnTo>
                    <a:lnTo>
                      <a:pt x="1757" y="1759"/>
                    </a:lnTo>
                    <a:lnTo>
                      <a:pt x="1772" y="1758"/>
                    </a:lnTo>
                    <a:lnTo>
                      <a:pt x="1779" y="1756"/>
                    </a:lnTo>
                    <a:lnTo>
                      <a:pt x="1782" y="1763"/>
                    </a:lnTo>
                    <a:lnTo>
                      <a:pt x="1787" y="1772"/>
                    </a:lnTo>
                    <a:lnTo>
                      <a:pt x="1791" y="1779"/>
                    </a:lnTo>
                    <a:lnTo>
                      <a:pt x="1792" y="1782"/>
                    </a:lnTo>
                    <a:lnTo>
                      <a:pt x="1904" y="1789"/>
                    </a:lnTo>
                    <a:lnTo>
                      <a:pt x="1907" y="1787"/>
                    </a:lnTo>
                    <a:lnTo>
                      <a:pt x="1920" y="1779"/>
                    </a:lnTo>
                    <a:lnTo>
                      <a:pt x="1930" y="1768"/>
                    </a:lnTo>
                    <a:lnTo>
                      <a:pt x="1937" y="1756"/>
                    </a:lnTo>
                    <a:lnTo>
                      <a:pt x="1943" y="1745"/>
                    </a:lnTo>
                    <a:lnTo>
                      <a:pt x="1947" y="1732"/>
                    </a:lnTo>
                    <a:lnTo>
                      <a:pt x="1950" y="1722"/>
                    </a:lnTo>
                    <a:lnTo>
                      <a:pt x="1951" y="1712"/>
                    </a:lnTo>
                    <a:lnTo>
                      <a:pt x="1952" y="1704"/>
                    </a:lnTo>
                    <a:lnTo>
                      <a:pt x="1965" y="1699"/>
                    </a:lnTo>
                    <a:lnTo>
                      <a:pt x="1988" y="1692"/>
                    </a:lnTo>
                    <a:lnTo>
                      <a:pt x="2019" y="1682"/>
                    </a:lnTo>
                    <a:lnTo>
                      <a:pt x="2053" y="1671"/>
                    </a:lnTo>
                    <a:lnTo>
                      <a:pt x="2087" y="1661"/>
                    </a:lnTo>
                    <a:lnTo>
                      <a:pt x="2116" y="1651"/>
                    </a:lnTo>
                    <a:lnTo>
                      <a:pt x="2137" y="1646"/>
                    </a:lnTo>
                    <a:lnTo>
                      <a:pt x="2144" y="1643"/>
                    </a:lnTo>
                    <a:lnTo>
                      <a:pt x="2137" y="871"/>
                    </a:lnTo>
                    <a:lnTo>
                      <a:pt x="2080" y="871"/>
                    </a:lnTo>
                    <a:lnTo>
                      <a:pt x="2082" y="975"/>
                    </a:lnTo>
                    <a:lnTo>
                      <a:pt x="2084" y="1206"/>
                    </a:lnTo>
                    <a:lnTo>
                      <a:pt x="2086" y="1438"/>
                    </a:lnTo>
                    <a:lnTo>
                      <a:pt x="2087" y="1553"/>
                    </a:lnTo>
                    <a:lnTo>
                      <a:pt x="2077" y="1555"/>
                    </a:lnTo>
                    <a:lnTo>
                      <a:pt x="2062" y="1558"/>
                    </a:lnTo>
                    <a:lnTo>
                      <a:pt x="2042" y="1562"/>
                    </a:lnTo>
                    <a:lnTo>
                      <a:pt x="2019" y="1566"/>
                    </a:lnTo>
                    <a:lnTo>
                      <a:pt x="1996" y="1570"/>
                    </a:lnTo>
                    <a:lnTo>
                      <a:pt x="1975" y="1575"/>
                    </a:lnTo>
                    <a:lnTo>
                      <a:pt x="1958" y="1577"/>
                    </a:lnTo>
                    <a:lnTo>
                      <a:pt x="1947" y="1580"/>
                    </a:lnTo>
                    <a:lnTo>
                      <a:pt x="1943" y="1551"/>
                    </a:lnTo>
                    <a:lnTo>
                      <a:pt x="1935" y="1514"/>
                    </a:lnTo>
                    <a:lnTo>
                      <a:pt x="1924" y="1481"/>
                    </a:lnTo>
                    <a:lnTo>
                      <a:pt x="1909" y="1456"/>
                    </a:lnTo>
                    <a:lnTo>
                      <a:pt x="1903" y="1450"/>
                    </a:lnTo>
                    <a:lnTo>
                      <a:pt x="1896" y="1447"/>
                    </a:lnTo>
                    <a:lnTo>
                      <a:pt x="1890" y="1446"/>
                    </a:lnTo>
                    <a:lnTo>
                      <a:pt x="1886" y="1446"/>
                    </a:lnTo>
                    <a:lnTo>
                      <a:pt x="1874" y="1451"/>
                    </a:lnTo>
                    <a:lnTo>
                      <a:pt x="1865" y="1463"/>
                    </a:lnTo>
                    <a:lnTo>
                      <a:pt x="1856" y="1478"/>
                    </a:lnTo>
                    <a:lnTo>
                      <a:pt x="1849" y="1498"/>
                    </a:lnTo>
                    <a:lnTo>
                      <a:pt x="1842" y="1521"/>
                    </a:lnTo>
                    <a:lnTo>
                      <a:pt x="1838" y="1545"/>
                    </a:lnTo>
                    <a:lnTo>
                      <a:pt x="1833" y="1568"/>
                    </a:lnTo>
                    <a:lnTo>
                      <a:pt x="1831" y="1590"/>
                    </a:lnTo>
                    <a:lnTo>
                      <a:pt x="1821" y="1592"/>
                    </a:lnTo>
                    <a:lnTo>
                      <a:pt x="1804" y="1593"/>
                    </a:lnTo>
                    <a:lnTo>
                      <a:pt x="1784" y="1594"/>
                    </a:lnTo>
                    <a:lnTo>
                      <a:pt x="1761" y="1596"/>
                    </a:lnTo>
                    <a:lnTo>
                      <a:pt x="1740" y="1597"/>
                    </a:lnTo>
                    <a:lnTo>
                      <a:pt x="1721" y="1599"/>
                    </a:lnTo>
                    <a:lnTo>
                      <a:pt x="1707" y="1600"/>
                    </a:lnTo>
                    <a:lnTo>
                      <a:pt x="1703" y="1600"/>
                    </a:lnTo>
                    <a:lnTo>
                      <a:pt x="1703" y="1616"/>
                    </a:lnTo>
                    <a:lnTo>
                      <a:pt x="1703" y="1651"/>
                    </a:lnTo>
                    <a:lnTo>
                      <a:pt x="1703" y="1691"/>
                    </a:lnTo>
                    <a:lnTo>
                      <a:pt x="1703" y="1716"/>
                    </a:lnTo>
                    <a:lnTo>
                      <a:pt x="1693" y="1718"/>
                    </a:lnTo>
                    <a:lnTo>
                      <a:pt x="1675" y="1719"/>
                    </a:lnTo>
                    <a:lnTo>
                      <a:pt x="1653" y="1722"/>
                    </a:lnTo>
                    <a:lnTo>
                      <a:pt x="1629" y="1725"/>
                    </a:lnTo>
                    <a:lnTo>
                      <a:pt x="1604" y="1728"/>
                    </a:lnTo>
                    <a:lnTo>
                      <a:pt x="1581" y="1731"/>
                    </a:lnTo>
                    <a:lnTo>
                      <a:pt x="1562" y="1732"/>
                    </a:lnTo>
                    <a:lnTo>
                      <a:pt x="1551" y="1733"/>
                    </a:lnTo>
                    <a:lnTo>
                      <a:pt x="1551" y="1707"/>
                    </a:lnTo>
                    <a:lnTo>
                      <a:pt x="1550" y="1665"/>
                    </a:lnTo>
                    <a:lnTo>
                      <a:pt x="1548" y="1629"/>
                    </a:lnTo>
                    <a:lnTo>
                      <a:pt x="1548" y="1613"/>
                    </a:lnTo>
                    <a:lnTo>
                      <a:pt x="1541" y="1613"/>
                    </a:lnTo>
                    <a:lnTo>
                      <a:pt x="1523" y="1614"/>
                    </a:lnTo>
                    <a:lnTo>
                      <a:pt x="1496" y="1616"/>
                    </a:lnTo>
                    <a:lnTo>
                      <a:pt x="1465" y="1617"/>
                    </a:lnTo>
                    <a:lnTo>
                      <a:pt x="1433" y="1619"/>
                    </a:lnTo>
                    <a:lnTo>
                      <a:pt x="1404" y="1620"/>
                    </a:lnTo>
                    <a:lnTo>
                      <a:pt x="1381" y="1621"/>
                    </a:lnTo>
                    <a:lnTo>
                      <a:pt x="1368" y="1623"/>
                    </a:lnTo>
                    <a:lnTo>
                      <a:pt x="1367" y="1621"/>
                    </a:lnTo>
                    <a:lnTo>
                      <a:pt x="1367" y="1620"/>
                    </a:lnTo>
                    <a:lnTo>
                      <a:pt x="1367" y="1619"/>
                    </a:lnTo>
                    <a:lnTo>
                      <a:pt x="1367" y="1619"/>
                    </a:lnTo>
                    <a:lnTo>
                      <a:pt x="1365" y="1597"/>
                    </a:lnTo>
                    <a:lnTo>
                      <a:pt x="1363" y="1573"/>
                    </a:lnTo>
                    <a:lnTo>
                      <a:pt x="1358" y="1546"/>
                    </a:lnTo>
                    <a:lnTo>
                      <a:pt x="1351" y="1519"/>
                    </a:lnTo>
                    <a:lnTo>
                      <a:pt x="1341" y="1494"/>
                    </a:lnTo>
                    <a:lnTo>
                      <a:pt x="1326" y="1474"/>
                    </a:lnTo>
                    <a:lnTo>
                      <a:pt x="1307" y="1458"/>
                    </a:lnTo>
                    <a:lnTo>
                      <a:pt x="1283" y="1453"/>
                    </a:lnTo>
                    <a:lnTo>
                      <a:pt x="1275" y="1454"/>
                    </a:lnTo>
                    <a:lnTo>
                      <a:pt x="1268" y="1456"/>
                    </a:lnTo>
                    <a:lnTo>
                      <a:pt x="1259" y="1460"/>
                    </a:lnTo>
                    <a:lnTo>
                      <a:pt x="1252" y="1465"/>
                    </a:lnTo>
                    <a:lnTo>
                      <a:pt x="1235" y="1487"/>
                    </a:lnTo>
                    <a:lnTo>
                      <a:pt x="1222" y="1516"/>
                    </a:lnTo>
                    <a:lnTo>
                      <a:pt x="1212" y="1553"/>
                    </a:lnTo>
                    <a:lnTo>
                      <a:pt x="1204" y="1592"/>
                    </a:lnTo>
                    <a:lnTo>
                      <a:pt x="1198" y="1630"/>
                    </a:lnTo>
                    <a:lnTo>
                      <a:pt x="1194" y="1665"/>
                    </a:lnTo>
                    <a:lnTo>
                      <a:pt x="1191" y="1695"/>
                    </a:lnTo>
                    <a:lnTo>
                      <a:pt x="1190" y="1718"/>
                    </a:lnTo>
                    <a:lnTo>
                      <a:pt x="1185" y="1718"/>
                    </a:lnTo>
                    <a:lnTo>
                      <a:pt x="1180" y="1719"/>
                    </a:lnTo>
                    <a:lnTo>
                      <a:pt x="1174" y="1719"/>
                    </a:lnTo>
                    <a:lnTo>
                      <a:pt x="1168" y="1719"/>
                    </a:lnTo>
                    <a:lnTo>
                      <a:pt x="1163" y="1721"/>
                    </a:lnTo>
                    <a:lnTo>
                      <a:pt x="1157" y="1721"/>
                    </a:lnTo>
                    <a:lnTo>
                      <a:pt x="1151" y="1722"/>
                    </a:lnTo>
                    <a:lnTo>
                      <a:pt x="1146" y="1722"/>
                    </a:lnTo>
                    <a:lnTo>
                      <a:pt x="1146" y="1647"/>
                    </a:lnTo>
                    <a:lnTo>
                      <a:pt x="1147" y="1507"/>
                    </a:lnTo>
                    <a:lnTo>
                      <a:pt x="1148" y="1370"/>
                    </a:lnTo>
                    <a:lnTo>
                      <a:pt x="1148" y="1309"/>
                    </a:lnTo>
                    <a:lnTo>
                      <a:pt x="1070" y="1309"/>
                    </a:lnTo>
                    <a:lnTo>
                      <a:pt x="1070" y="1372"/>
                    </a:lnTo>
                    <a:lnTo>
                      <a:pt x="1073" y="1512"/>
                    </a:lnTo>
                    <a:lnTo>
                      <a:pt x="1075" y="1657"/>
                    </a:lnTo>
                    <a:lnTo>
                      <a:pt x="1075" y="1731"/>
                    </a:lnTo>
                    <a:lnTo>
                      <a:pt x="1066" y="1732"/>
                    </a:lnTo>
                    <a:lnTo>
                      <a:pt x="1055" y="1732"/>
                    </a:lnTo>
                    <a:lnTo>
                      <a:pt x="1041" y="1733"/>
                    </a:lnTo>
                    <a:lnTo>
                      <a:pt x="1025" y="1735"/>
                    </a:lnTo>
                    <a:lnTo>
                      <a:pt x="1009" y="1738"/>
                    </a:lnTo>
                    <a:lnTo>
                      <a:pt x="995" y="1739"/>
                    </a:lnTo>
                    <a:lnTo>
                      <a:pt x="983" y="1739"/>
                    </a:lnTo>
                    <a:lnTo>
                      <a:pt x="974" y="1741"/>
                    </a:lnTo>
                    <a:lnTo>
                      <a:pt x="974" y="1604"/>
                    </a:lnTo>
                    <a:lnTo>
                      <a:pt x="975" y="1328"/>
                    </a:lnTo>
                    <a:lnTo>
                      <a:pt x="977" y="1050"/>
                    </a:lnTo>
                    <a:lnTo>
                      <a:pt x="977" y="914"/>
                    </a:lnTo>
                    <a:lnTo>
                      <a:pt x="985" y="915"/>
                    </a:lnTo>
                    <a:lnTo>
                      <a:pt x="997" y="917"/>
                    </a:lnTo>
                    <a:lnTo>
                      <a:pt x="1011" y="919"/>
                    </a:lnTo>
                    <a:lnTo>
                      <a:pt x="1024" y="921"/>
                    </a:lnTo>
                    <a:lnTo>
                      <a:pt x="1038" y="924"/>
                    </a:lnTo>
                    <a:lnTo>
                      <a:pt x="1049" y="927"/>
                    </a:lnTo>
                    <a:lnTo>
                      <a:pt x="1059" y="928"/>
                    </a:lnTo>
                    <a:lnTo>
                      <a:pt x="1066" y="929"/>
                    </a:lnTo>
                    <a:lnTo>
                      <a:pt x="1066" y="992"/>
                    </a:lnTo>
                    <a:lnTo>
                      <a:pt x="1066" y="1111"/>
                    </a:lnTo>
                    <a:lnTo>
                      <a:pt x="1066" y="1226"/>
                    </a:lnTo>
                    <a:lnTo>
                      <a:pt x="1066" y="1278"/>
                    </a:lnTo>
                    <a:lnTo>
                      <a:pt x="1147" y="1282"/>
                    </a:lnTo>
                    <a:lnTo>
                      <a:pt x="1147" y="1234"/>
                    </a:lnTo>
                    <a:lnTo>
                      <a:pt x="1147" y="1125"/>
                    </a:lnTo>
                    <a:lnTo>
                      <a:pt x="1147" y="1010"/>
                    </a:lnTo>
                    <a:lnTo>
                      <a:pt x="1147" y="948"/>
                    </a:lnTo>
                    <a:lnTo>
                      <a:pt x="1154" y="949"/>
                    </a:lnTo>
                    <a:lnTo>
                      <a:pt x="1160" y="949"/>
                    </a:lnTo>
                    <a:lnTo>
                      <a:pt x="1165" y="951"/>
                    </a:lnTo>
                    <a:lnTo>
                      <a:pt x="1171" y="952"/>
                    </a:lnTo>
                    <a:lnTo>
                      <a:pt x="1170" y="1012"/>
                    </a:lnTo>
                    <a:lnTo>
                      <a:pt x="1168" y="1124"/>
                    </a:lnTo>
                    <a:lnTo>
                      <a:pt x="1167" y="1233"/>
                    </a:lnTo>
                    <a:lnTo>
                      <a:pt x="1167" y="1281"/>
                    </a:lnTo>
                    <a:lnTo>
                      <a:pt x="1358" y="1282"/>
                    </a:lnTo>
                    <a:lnTo>
                      <a:pt x="1360" y="1240"/>
                    </a:lnTo>
                    <a:lnTo>
                      <a:pt x="1361" y="1144"/>
                    </a:lnTo>
                    <a:lnTo>
                      <a:pt x="1364" y="1044"/>
                    </a:lnTo>
                    <a:lnTo>
                      <a:pt x="1365" y="987"/>
                    </a:lnTo>
                    <a:lnTo>
                      <a:pt x="1371" y="989"/>
                    </a:lnTo>
                    <a:lnTo>
                      <a:pt x="1377" y="989"/>
                    </a:lnTo>
                    <a:lnTo>
                      <a:pt x="1381" y="990"/>
                    </a:lnTo>
                    <a:lnTo>
                      <a:pt x="1387" y="992"/>
                    </a:lnTo>
                    <a:lnTo>
                      <a:pt x="1385" y="1046"/>
                    </a:lnTo>
                    <a:lnTo>
                      <a:pt x="1382" y="1146"/>
                    </a:lnTo>
                    <a:lnTo>
                      <a:pt x="1381" y="1244"/>
                    </a:lnTo>
                    <a:lnTo>
                      <a:pt x="1380" y="1288"/>
                    </a:lnTo>
                    <a:lnTo>
                      <a:pt x="1545" y="1288"/>
                    </a:lnTo>
                    <a:lnTo>
                      <a:pt x="1545" y="1251"/>
                    </a:lnTo>
                    <a:lnTo>
                      <a:pt x="1547" y="1166"/>
                    </a:lnTo>
                    <a:lnTo>
                      <a:pt x="1547" y="1077"/>
                    </a:lnTo>
                    <a:lnTo>
                      <a:pt x="1547" y="1023"/>
                    </a:lnTo>
                    <a:lnTo>
                      <a:pt x="1551" y="1024"/>
                    </a:lnTo>
                    <a:lnTo>
                      <a:pt x="1555" y="1026"/>
                    </a:lnTo>
                    <a:lnTo>
                      <a:pt x="1558" y="1027"/>
                    </a:lnTo>
                    <a:lnTo>
                      <a:pt x="1562" y="1029"/>
                    </a:lnTo>
                    <a:lnTo>
                      <a:pt x="1562" y="1144"/>
                    </a:lnTo>
                    <a:lnTo>
                      <a:pt x="1565" y="1379"/>
                    </a:lnTo>
                    <a:lnTo>
                      <a:pt x="1567" y="1613"/>
                    </a:lnTo>
                    <a:lnTo>
                      <a:pt x="1567" y="1718"/>
                    </a:lnTo>
                    <a:lnTo>
                      <a:pt x="1684" y="1707"/>
                    </a:lnTo>
                    <a:lnTo>
                      <a:pt x="1683" y="1609"/>
                    </a:lnTo>
                    <a:lnTo>
                      <a:pt x="1682" y="1390"/>
                    </a:lnTo>
                    <a:lnTo>
                      <a:pt x="1680" y="1166"/>
                    </a:lnTo>
                    <a:lnTo>
                      <a:pt x="1679" y="1053"/>
                    </a:lnTo>
                    <a:lnTo>
                      <a:pt x="1684" y="1054"/>
                    </a:lnTo>
                    <a:lnTo>
                      <a:pt x="1689" y="1056"/>
                    </a:lnTo>
                    <a:lnTo>
                      <a:pt x="1694" y="1057"/>
                    </a:lnTo>
                    <a:lnTo>
                      <a:pt x="1699" y="1058"/>
                    </a:lnTo>
                    <a:lnTo>
                      <a:pt x="1697" y="1105"/>
                    </a:lnTo>
                    <a:lnTo>
                      <a:pt x="1697" y="1192"/>
                    </a:lnTo>
                    <a:lnTo>
                      <a:pt x="1696" y="1275"/>
                    </a:lnTo>
                    <a:lnTo>
                      <a:pt x="1696" y="1312"/>
                    </a:lnTo>
                    <a:lnTo>
                      <a:pt x="1804" y="1317"/>
                    </a:lnTo>
                    <a:lnTo>
                      <a:pt x="1804" y="1282"/>
                    </a:lnTo>
                    <a:lnTo>
                      <a:pt x="1805" y="1204"/>
                    </a:lnTo>
                    <a:lnTo>
                      <a:pt x="1806" y="1121"/>
                    </a:lnTo>
                    <a:lnTo>
                      <a:pt x="1806" y="1071"/>
                    </a:lnTo>
                    <a:lnTo>
                      <a:pt x="1813" y="1074"/>
                    </a:lnTo>
                    <a:lnTo>
                      <a:pt x="1819" y="1075"/>
                    </a:lnTo>
                    <a:lnTo>
                      <a:pt x="1825" y="1078"/>
                    </a:lnTo>
                    <a:lnTo>
                      <a:pt x="1829" y="1080"/>
                    </a:lnTo>
                    <a:lnTo>
                      <a:pt x="1829" y="1124"/>
                    </a:lnTo>
                    <a:lnTo>
                      <a:pt x="1828" y="1203"/>
                    </a:lnTo>
                    <a:lnTo>
                      <a:pt x="1825" y="1281"/>
                    </a:lnTo>
                    <a:lnTo>
                      <a:pt x="1825" y="1315"/>
                    </a:lnTo>
                    <a:lnTo>
                      <a:pt x="1947" y="1324"/>
                    </a:lnTo>
                    <a:lnTo>
                      <a:pt x="1947" y="1291"/>
                    </a:lnTo>
                    <a:lnTo>
                      <a:pt x="1948" y="1219"/>
                    </a:lnTo>
                    <a:lnTo>
                      <a:pt x="1950" y="1141"/>
                    </a:lnTo>
                    <a:lnTo>
                      <a:pt x="1950" y="1095"/>
                    </a:lnTo>
                    <a:lnTo>
                      <a:pt x="1954" y="1097"/>
                    </a:lnTo>
                    <a:lnTo>
                      <a:pt x="1958" y="1097"/>
                    </a:lnTo>
                    <a:lnTo>
                      <a:pt x="1962" y="1097"/>
                    </a:lnTo>
                    <a:lnTo>
                      <a:pt x="1967" y="1098"/>
                    </a:lnTo>
                    <a:lnTo>
                      <a:pt x="1967" y="1141"/>
                    </a:lnTo>
                    <a:lnTo>
                      <a:pt x="1968" y="1217"/>
                    </a:lnTo>
                    <a:lnTo>
                      <a:pt x="1969" y="1292"/>
                    </a:lnTo>
                    <a:lnTo>
                      <a:pt x="1969" y="1325"/>
                    </a:lnTo>
                    <a:lnTo>
                      <a:pt x="2067" y="1331"/>
                    </a:lnTo>
                    <a:lnTo>
                      <a:pt x="2063" y="1057"/>
                    </a:lnTo>
                    <a:lnTo>
                      <a:pt x="2060" y="1057"/>
                    </a:lnTo>
                    <a:lnTo>
                      <a:pt x="2050" y="1054"/>
                    </a:lnTo>
                    <a:lnTo>
                      <a:pt x="2036" y="1051"/>
                    </a:lnTo>
                    <a:lnTo>
                      <a:pt x="2015" y="1048"/>
                    </a:lnTo>
                    <a:lnTo>
                      <a:pt x="1991" y="1043"/>
                    </a:lnTo>
                    <a:lnTo>
                      <a:pt x="1961" y="1037"/>
                    </a:lnTo>
                    <a:lnTo>
                      <a:pt x="1927" y="1031"/>
                    </a:lnTo>
                    <a:lnTo>
                      <a:pt x="1890" y="1024"/>
                    </a:lnTo>
                    <a:lnTo>
                      <a:pt x="1849" y="1017"/>
                    </a:lnTo>
                    <a:lnTo>
                      <a:pt x="1806" y="1009"/>
                    </a:lnTo>
                    <a:lnTo>
                      <a:pt x="1760" y="1000"/>
                    </a:lnTo>
                    <a:lnTo>
                      <a:pt x="1713" y="990"/>
                    </a:lnTo>
                    <a:lnTo>
                      <a:pt x="1663" y="982"/>
                    </a:lnTo>
                    <a:lnTo>
                      <a:pt x="1612" y="972"/>
                    </a:lnTo>
                    <a:lnTo>
                      <a:pt x="1561" y="962"/>
                    </a:lnTo>
                    <a:lnTo>
                      <a:pt x="1509" y="952"/>
                    </a:lnTo>
                    <a:lnTo>
                      <a:pt x="1456" y="942"/>
                    </a:lnTo>
                    <a:lnTo>
                      <a:pt x="1405" y="932"/>
                    </a:lnTo>
                    <a:lnTo>
                      <a:pt x="1354" y="924"/>
                    </a:lnTo>
                    <a:lnTo>
                      <a:pt x="1304" y="914"/>
                    </a:lnTo>
                    <a:lnTo>
                      <a:pt x="1256" y="905"/>
                    </a:lnTo>
                    <a:lnTo>
                      <a:pt x="1209" y="895"/>
                    </a:lnTo>
                    <a:lnTo>
                      <a:pt x="1165" y="888"/>
                    </a:lnTo>
                    <a:lnTo>
                      <a:pt x="1124" y="880"/>
                    </a:lnTo>
                    <a:lnTo>
                      <a:pt x="1086" y="873"/>
                    </a:lnTo>
                    <a:lnTo>
                      <a:pt x="1052" y="866"/>
                    </a:lnTo>
                    <a:lnTo>
                      <a:pt x="1022" y="860"/>
                    </a:lnTo>
                    <a:lnTo>
                      <a:pt x="995" y="856"/>
                    </a:lnTo>
                    <a:lnTo>
                      <a:pt x="975" y="851"/>
                    </a:lnTo>
                    <a:lnTo>
                      <a:pt x="958" y="849"/>
                    </a:lnTo>
                    <a:lnTo>
                      <a:pt x="948" y="847"/>
                    </a:lnTo>
                    <a:lnTo>
                      <a:pt x="944" y="846"/>
                    </a:lnTo>
                    <a:lnTo>
                      <a:pt x="937" y="830"/>
                    </a:lnTo>
                    <a:lnTo>
                      <a:pt x="929" y="817"/>
                    </a:lnTo>
                    <a:lnTo>
                      <a:pt x="917" y="807"/>
                    </a:lnTo>
                    <a:lnTo>
                      <a:pt x="909" y="802"/>
                    </a:lnTo>
                    <a:lnTo>
                      <a:pt x="907" y="690"/>
                    </a:lnTo>
                    <a:lnTo>
                      <a:pt x="905" y="454"/>
                    </a:lnTo>
                    <a:lnTo>
                      <a:pt x="900" y="222"/>
                    </a:lnTo>
                    <a:lnTo>
                      <a:pt x="899" y="117"/>
                    </a:lnTo>
                    <a:lnTo>
                      <a:pt x="835" y="122"/>
                    </a:lnTo>
                    <a:lnTo>
                      <a:pt x="835" y="132"/>
                    </a:lnTo>
                    <a:lnTo>
                      <a:pt x="831" y="305"/>
                    </a:lnTo>
                    <a:lnTo>
                      <a:pt x="824" y="398"/>
                    </a:lnTo>
                    <a:lnTo>
                      <a:pt x="814" y="436"/>
                    </a:lnTo>
                    <a:lnTo>
                      <a:pt x="805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792" y="449"/>
                    </a:lnTo>
                    <a:lnTo>
                      <a:pt x="770" y="451"/>
                    </a:lnTo>
                    <a:lnTo>
                      <a:pt x="740" y="454"/>
                    </a:lnTo>
                    <a:lnTo>
                      <a:pt x="707" y="456"/>
                    </a:lnTo>
                    <a:lnTo>
                      <a:pt x="673" y="458"/>
                    </a:lnTo>
                    <a:lnTo>
                      <a:pt x="641" y="460"/>
                    </a:lnTo>
                    <a:lnTo>
                      <a:pt x="614" y="461"/>
                    </a:lnTo>
                    <a:lnTo>
                      <a:pt x="594" y="461"/>
                    </a:lnTo>
                    <a:lnTo>
                      <a:pt x="585" y="461"/>
                    </a:lnTo>
                    <a:lnTo>
                      <a:pt x="551" y="461"/>
                    </a:lnTo>
                    <a:lnTo>
                      <a:pt x="524" y="460"/>
                    </a:lnTo>
                    <a:lnTo>
                      <a:pt x="505" y="458"/>
                    </a:lnTo>
                    <a:lnTo>
                      <a:pt x="489" y="456"/>
                    </a:lnTo>
                    <a:lnTo>
                      <a:pt x="479" y="454"/>
                    </a:lnTo>
                    <a:lnTo>
                      <a:pt x="473" y="451"/>
                    </a:lnTo>
                    <a:lnTo>
                      <a:pt x="471" y="449"/>
                    </a:lnTo>
                    <a:lnTo>
                      <a:pt x="469" y="447"/>
                    </a:lnTo>
                    <a:lnTo>
                      <a:pt x="468" y="446"/>
                    </a:lnTo>
                    <a:lnTo>
                      <a:pt x="468" y="444"/>
                    </a:lnTo>
                    <a:lnTo>
                      <a:pt x="468" y="443"/>
                    </a:lnTo>
                    <a:lnTo>
                      <a:pt x="468" y="441"/>
                    </a:lnTo>
                    <a:lnTo>
                      <a:pt x="469" y="422"/>
                    </a:lnTo>
                    <a:lnTo>
                      <a:pt x="471" y="392"/>
                    </a:lnTo>
                    <a:lnTo>
                      <a:pt x="472" y="358"/>
                    </a:lnTo>
                    <a:lnTo>
                      <a:pt x="475" y="321"/>
                    </a:lnTo>
                    <a:lnTo>
                      <a:pt x="479" y="259"/>
                    </a:lnTo>
                    <a:lnTo>
                      <a:pt x="482" y="212"/>
                    </a:lnTo>
                    <a:lnTo>
                      <a:pt x="485" y="176"/>
                    </a:lnTo>
                    <a:lnTo>
                      <a:pt x="485" y="152"/>
                    </a:lnTo>
                    <a:lnTo>
                      <a:pt x="485" y="137"/>
                    </a:lnTo>
                    <a:lnTo>
                      <a:pt x="483" y="127"/>
                    </a:lnTo>
                    <a:lnTo>
                      <a:pt x="481" y="122"/>
                    </a:lnTo>
                    <a:lnTo>
                      <a:pt x="478" y="120"/>
                    </a:lnTo>
                    <a:lnTo>
                      <a:pt x="472" y="117"/>
                    </a:lnTo>
                    <a:lnTo>
                      <a:pt x="465" y="115"/>
                    </a:lnTo>
                    <a:lnTo>
                      <a:pt x="458" y="115"/>
                    </a:lnTo>
                    <a:lnTo>
                      <a:pt x="449" y="115"/>
                    </a:lnTo>
                    <a:lnTo>
                      <a:pt x="442" y="117"/>
                    </a:lnTo>
                    <a:lnTo>
                      <a:pt x="435" y="118"/>
                    </a:lnTo>
                    <a:lnTo>
                      <a:pt x="429" y="120"/>
                    </a:lnTo>
                    <a:lnTo>
                      <a:pt x="424" y="121"/>
                    </a:lnTo>
                    <a:lnTo>
                      <a:pt x="415" y="124"/>
                    </a:lnTo>
                    <a:lnTo>
                      <a:pt x="415" y="132"/>
                    </a:lnTo>
                    <a:lnTo>
                      <a:pt x="412" y="181"/>
                    </a:lnTo>
                    <a:lnTo>
                      <a:pt x="407" y="278"/>
                    </a:lnTo>
                    <a:lnTo>
                      <a:pt x="401" y="383"/>
                    </a:lnTo>
                    <a:lnTo>
                      <a:pt x="398" y="451"/>
                    </a:lnTo>
                    <a:lnTo>
                      <a:pt x="395" y="454"/>
                    </a:lnTo>
                    <a:lnTo>
                      <a:pt x="390" y="458"/>
                    </a:lnTo>
                    <a:lnTo>
                      <a:pt x="380" y="463"/>
                    </a:lnTo>
                    <a:lnTo>
                      <a:pt x="366" y="468"/>
                    </a:lnTo>
                    <a:lnTo>
                      <a:pt x="347" y="474"/>
                    </a:lnTo>
                    <a:lnTo>
                      <a:pt x="323" y="478"/>
                    </a:lnTo>
                    <a:lnTo>
                      <a:pt x="296" y="484"/>
                    </a:lnTo>
                    <a:lnTo>
                      <a:pt x="262" y="488"/>
                    </a:lnTo>
                    <a:lnTo>
                      <a:pt x="227" y="491"/>
                    </a:lnTo>
                    <a:lnTo>
                      <a:pt x="194" y="494"/>
                    </a:lnTo>
                    <a:lnTo>
                      <a:pt x="164" y="494"/>
                    </a:lnTo>
                    <a:lnTo>
                      <a:pt x="139" y="494"/>
                    </a:lnTo>
                    <a:lnTo>
                      <a:pt x="118" y="491"/>
                    </a:lnTo>
                    <a:lnTo>
                      <a:pt x="100" y="490"/>
                    </a:lnTo>
                    <a:lnTo>
                      <a:pt x="89" y="487"/>
                    </a:lnTo>
                    <a:lnTo>
                      <a:pt x="83" y="483"/>
                    </a:lnTo>
                    <a:lnTo>
                      <a:pt x="82" y="477"/>
                    </a:lnTo>
                    <a:lnTo>
                      <a:pt x="82" y="468"/>
                    </a:lnTo>
                    <a:lnTo>
                      <a:pt x="81" y="458"/>
                    </a:lnTo>
                    <a:lnTo>
                      <a:pt x="81" y="447"/>
                    </a:lnTo>
                    <a:lnTo>
                      <a:pt x="83" y="375"/>
                    </a:lnTo>
                    <a:lnTo>
                      <a:pt x="92" y="291"/>
                    </a:lnTo>
                    <a:lnTo>
                      <a:pt x="100" y="219"/>
                    </a:lnTo>
                    <a:lnTo>
                      <a:pt x="109" y="178"/>
                    </a:lnTo>
                    <a:lnTo>
                      <a:pt x="118" y="175"/>
                    </a:lnTo>
                    <a:lnTo>
                      <a:pt x="130" y="171"/>
                    </a:lnTo>
                    <a:lnTo>
                      <a:pt x="147" y="165"/>
                    </a:lnTo>
                    <a:lnTo>
                      <a:pt x="167" y="161"/>
                    </a:lnTo>
                    <a:lnTo>
                      <a:pt x="191" y="154"/>
                    </a:lnTo>
                    <a:lnTo>
                      <a:pt x="217" y="148"/>
                    </a:lnTo>
                    <a:lnTo>
                      <a:pt x="244" y="141"/>
                    </a:lnTo>
                    <a:lnTo>
                      <a:pt x="272" y="135"/>
                    </a:lnTo>
                    <a:lnTo>
                      <a:pt x="300" y="128"/>
                    </a:lnTo>
                    <a:lnTo>
                      <a:pt x="327" y="122"/>
                    </a:lnTo>
                    <a:lnTo>
                      <a:pt x="353" y="117"/>
                    </a:lnTo>
                    <a:lnTo>
                      <a:pt x="377" y="111"/>
                    </a:lnTo>
                    <a:lnTo>
                      <a:pt x="398" y="107"/>
                    </a:lnTo>
                    <a:lnTo>
                      <a:pt x="415" y="104"/>
                    </a:lnTo>
                    <a:lnTo>
                      <a:pt x="429" y="101"/>
                    </a:lnTo>
                    <a:lnTo>
                      <a:pt x="438" y="100"/>
                    </a:lnTo>
                    <a:lnTo>
                      <a:pt x="444" y="100"/>
                    </a:lnTo>
                    <a:lnTo>
                      <a:pt x="455" y="98"/>
                    </a:lnTo>
                    <a:lnTo>
                      <a:pt x="471" y="98"/>
                    </a:lnTo>
                    <a:lnTo>
                      <a:pt x="490" y="98"/>
                    </a:lnTo>
                    <a:lnTo>
                      <a:pt x="513" y="97"/>
                    </a:lnTo>
                    <a:lnTo>
                      <a:pt x="540" y="97"/>
                    </a:lnTo>
                    <a:lnTo>
                      <a:pt x="568" y="95"/>
                    </a:lnTo>
                    <a:lnTo>
                      <a:pt x="601" y="95"/>
                    </a:lnTo>
                    <a:lnTo>
                      <a:pt x="634" y="95"/>
                    </a:lnTo>
                    <a:lnTo>
                      <a:pt x="668" y="94"/>
                    </a:lnTo>
                    <a:lnTo>
                      <a:pt x="703" y="94"/>
                    </a:lnTo>
                    <a:lnTo>
                      <a:pt x="739" y="94"/>
                    </a:lnTo>
                    <a:lnTo>
                      <a:pt x="774" y="94"/>
                    </a:lnTo>
                    <a:lnTo>
                      <a:pt x="810" y="93"/>
                    </a:lnTo>
                    <a:lnTo>
                      <a:pt x="842" y="93"/>
                    </a:lnTo>
                    <a:lnTo>
                      <a:pt x="875" y="93"/>
                    </a:lnTo>
                    <a:lnTo>
                      <a:pt x="878" y="94"/>
                    </a:lnTo>
                    <a:lnTo>
                      <a:pt x="888" y="98"/>
                    </a:lnTo>
                    <a:lnTo>
                      <a:pt x="902" y="104"/>
                    </a:lnTo>
                    <a:lnTo>
                      <a:pt x="922" y="112"/>
                    </a:lnTo>
                    <a:lnTo>
                      <a:pt x="947" y="122"/>
                    </a:lnTo>
                    <a:lnTo>
                      <a:pt x="975" y="135"/>
                    </a:lnTo>
                    <a:lnTo>
                      <a:pt x="1008" y="149"/>
                    </a:lnTo>
                    <a:lnTo>
                      <a:pt x="1043" y="165"/>
                    </a:lnTo>
                    <a:lnTo>
                      <a:pt x="1083" y="182"/>
                    </a:lnTo>
                    <a:lnTo>
                      <a:pt x="1126" y="199"/>
                    </a:lnTo>
                    <a:lnTo>
                      <a:pt x="1170" y="219"/>
                    </a:lnTo>
                    <a:lnTo>
                      <a:pt x="1216" y="237"/>
                    </a:lnTo>
                    <a:lnTo>
                      <a:pt x="1263" y="259"/>
                    </a:lnTo>
                    <a:lnTo>
                      <a:pt x="1313" y="280"/>
                    </a:lnTo>
                    <a:lnTo>
                      <a:pt x="1363" y="301"/>
                    </a:lnTo>
                    <a:lnTo>
                      <a:pt x="1414" y="322"/>
                    </a:lnTo>
                    <a:lnTo>
                      <a:pt x="1463" y="344"/>
                    </a:lnTo>
                    <a:lnTo>
                      <a:pt x="1513" y="365"/>
                    </a:lnTo>
                    <a:lnTo>
                      <a:pt x="1562" y="386"/>
                    </a:lnTo>
                    <a:lnTo>
                      <a:pt x="1611" y="406"/>
                    </a:lnTo>
                    <a:lnTo>
                      <a:pt x="1658" y="426"/>
                    </a:lnTo>
                    <a:lnTo>
                      <a:pt x="1701" y="444"/>
                    </a:lnTo>
                    <a:lnTo>
                      <a:pt x="1744" y="463"/>
                    </a:lnTo>
                    <a:lnTo>
                      <a:pt x="1784" y="480"/>
                    </a:lnTo>
                    <a:lnTo>
                      <a:pt x="1821" y="495"/>
                    </a:lnTo>
                    <a:lnTo>
                      <a:pt x="1853" y="510"/>
                    </a:lnTo>
                    <a:lnTo>
                      <a:pt x="1882" y="522"/>
                    </a:lnTo>
                    <a:lnTo>
                      <a:pt x="1907" y="532"/>
                    </a:lnTo>
                    <a:lnTo>
                      <a:pt x="1927" y="541"/>
                    </a:lnTo>
                    <a:lnTo>
                      <a:pt x="1943" y="548"/>
                    </a:lnTo>
                    <a:lnTo>
                      <a:pt x="1952" y="552"/>
                    </a:lnTo>
                    <a:lnTo>
                      <a:pt x="1957" y="554"/>
                    </a:lnTo>
                    <a:lnTo>
                      <a:pt x="1960" y="588"/>
                    </a:lnTo>
                    <a:lnTo>
                      <a:pt x="1967" y="650"/>
                    </a:lnTo>
                    <a:lnTo>
                      <a:pt x="1972" y="717"/>
                    </a:lnTo>
                    <a:lnTo>
                      <a:pt x="1977" y="758"/>
                    </a:lnTo>
                    <a:lnTo>
                      <a:pt x="1971" y="756"/>
                    </a:lnTo>
                    <a:lnTo>
                      <a:pt x="1965" y="755"/>
                    </a:lnTo>
                    <a:lnTo>
                      <a:pt x="1961" y="753"/>
                    </a:lnTo>
                    <a:lnTo>
                      <a:pt x="1958" y="752"/>
                    </a:lnTo>
                    <a:lnTo>
                      <a:pt x="1955" y="717"/>
                    </a:lnTo>
                    <a:lnTo>
                      <a:pt x="1948" y="653"/>
                    </a:lnTo>
                    <a:lnTo>
                      <a:pt x="1943" y="590"/>
                    </a:lnTo>
                    <a:lnTo>
                      <a:pt x="1940" y="563"/>
                    </a:lnTo>
                    <a:lnTo>
                      <a:pt x="1831" y="511"/>
                    </a:lnTo>
                    <a:lnTo>
                      <a:pt x="1833" y="541"/>
                    </a:lnTo>
                    <a:lnTo>
                      <a:pt x="1838" y="606"/>
                    </a:lnTo>
                    <a:lnTo>
                      <a:pt x="1843" y="678"/>
                    </a:lnTo>
                    <a:lnTo>
                      <a:pt x="1846" y="724"/>
                    </a:lnTo>
                    <a:lnTo>
                      <a:pt x="1843" y="722"/>
                    </a:lnTo>
                    <a:lnTo>
                      <a:pt x="1840" y="721"/>
                    </a:lnTo>
                    <a:lnTo>
                      <a:pt x="1839" y="721"/>
                    </a:lnTo>
                    <a:lnTo>
                      <a:pt x="1836" y="719"/>
                    </a:lnTo>
                    <a:lnTo>
                      <a:pt x="1832" y="681"/>
                    </a:lnTo>
                    <a:lnTo>
                      <a:pt x="1823" y="607"/>
                    </a:lnTo>
                    <a:lnTo>
                      <a:pt x="1816" y="537"/>
                    </a:lnTo>
                    <a:lnTo>
                      <a:pt x="1812" y="505"/>
                    </a:lnTo>
                    <a:lnTo>
                      <a:pt x="1701" y="453"/>
                    </a:lnTo>
                    <a:lnTo>
                      <a:pt x="1703" y="484"/>
                    </a:lnTo>
                    <a:lnTo>
                      <a:pt x="1707" y="556"/>
                    </a:lnTo>
                    <a:lnTo>
                      <a:pt x="1710" y="633"/>
                    </a:lnTo>
                    <a:lnTo>
                      <a:pt x="1713" y="681"/>
                    </a:lnTo>
                    <a:lnTo>
                      <a:pt x="1707" y="680"/>
                    </a:lnTo>
                    <a:lnTo>
                      <a:pt x="1703" y="678"/>
                    </a:lnTo>
                    <a:lnTo>
                      <a:pt x="1699" y="677"/>
                    </a:lnTo>
                    <a:lnTo>
                      <a:pt x="1694" y="675"/>
                    </a:lnTo>
                    <a:lnTo>
                      <a:pt x="1690" y="633"/>
                    </a:lnTo>
                    <a:lnTo>
                      <a:pt x="1682" y="554"/>
                    </a:lnTo>
                    <a:lnTo>
                      <a:pt x="1675" y="477"/>
                    </a:lnTo>
                    <a:lnTo>
                      <a:pt x="1670" y="443"/>
                    </a:lnTo>
                    <a:lnTo>
                      <a:pt x="1533" y="382"/>
                    </a:lnTo>
                    <a:lnTo>
                      <a:pt x="1534" y="417"/>
                    </a:lnTo>
                    <a:lnTo>
                      <a:pt x="1537" y="495"/>
                    </a:lnTo>
                    <a:lnTo>
                      <a:pt x="1540" y="579"/>
                    </a:lnTo>
                    <a:lnTo>
                      <a:pt x="1543" y="630"/>
                    </a:lnTo>
                    <a:lnTo>
                      <a:pt x="1540" y="629"/>
                    </a:lnTo>
                    <a:lnTo>
                      <a:pt x="1538" y="629"/>
                    </a:lnTo>
                    <a:lnTo>
                      <a:pt x="1536" y="629"/>
                    </a:lnTo>
                    <a:lnTo>
                      <a:pt x="1534" y="627"/>
                    </a:lnTo>
                    <a:lnTo>
                      <a:pt x="1530" y="582"/>
                    </a:lnTo>
                    <a:lnTo>
                      <a:pt x="1520" y="495"/>
                    </a:lnTo>
                    <a:lnTo>
                      <a:pt x="1511" y="412"/>
                    </a:lnTo>
                    <a:lnTo>
                      <a:pt x="1507" y="375"/>
                    </a:lnTo>
                    <a:lnTo>
                      <a:pt x="1341" y="304"/>
                    </a:lnTo>
                    <a:lnTo>
                      <a:pt x="1343" y="341"/>
                    </a:lnTo>
                    <a:lnTo>
                      <a:pt x="1346" y="423"/>
                    </a:lnTo>
                    <a:lnTo>
                      <a:pt x="1347" y="512"/>
                    </a:lnTo>
                    <a:lnTo>
                      <a:pt x="1348" y="568"/>
                    </a:lnTo>
                    <a:lnTo>
                      <a:pt x="1346" y="566"/>
                    </a:lnTo>
                    <a:lnTo>
                      <a:pt x="1344" y="565"/>
                    </a:lnTo>
                    <a:lnTo>
                      <a:pt x="1341" y="565"/>
                    </a:lnTo>
                    <a:lnTo>
                      <a:pt x="1340" y="563"/>
                    </a:lnTo>
                    <a:lnTo>
                      <a:pt x="1334" y="515"/>
                    </a:lnTo>
                    <a:lnTo>
                      <a:pt x="1323" y="422"/>
                    </a:lnTo>
                    <a:lnTo>
                      <a:pt x="1312" y="331"/>
                    </a:lnTo>
                    <a:lnTo>
                      <a:pt x="1306" y="290"/>
                    </a:lnTo>
                    <a:lnTo>
                      <a:pt x="1131" y="216"/>
                    </a:lnTo>
                    <a:lnTo>
                      <a:pt x="1133" y="257"/>
                    </a:lnTo>
                    <a:lnTo>
                      <a:pt x="1134" y="349"/>
                    </a:lnTo>
                    <a:lnTo>
                      <a:pt x="1137" y="446"/>
                    </a:lnTo>
                    <a:lnTo>
                      <a:pt x="1139" y="501"/>
                    </a:lnTo>
                    <a:lnTo>
                      <a:pt x="1137" y="500"/>
                    </a:lnTo>
                    <a:lnTo>
                      <a:pt x="1136" y="500"/>
                    </a:lnTo>
                    <a:lnTo>
                      <a:pt x="1134" y="500"/>
                    </a:lnTo>
                    <a:lnTo>
                      <a:pt x="1133" y="500"/>
                    </a:lnTo>
                    <a:lnTo>
                      <a:pt x="1126" y="447"/>
                    </a:lnTo>
                    <a:lnTo>
                      <a:pt x="1112" y="348"/>
                    </a:lnTo>
                    <a:lnTo>
                      <a:pt x="1097" y="251"/>
                    </a:lnTo>
                    <a:lnTo>
                      <a:pt x="1092" y="207"/>
                    </a:lnTo>
                    <a:lnTo>
                      <a:pt x="1086" y="205"/>
                    </a:lnTo>
                    <a:lnTo>
                      <a:pt x="1038" y="183"/>
                    </a:lnTo>
                    <a:lnTo>
                      <a:pt x="1001" y="169"/>
                    </a:lnTo>
                    <a:lnTo>
                      <a:pt x="974" y="159"/>
                    </a:lnTo>
                    <a:lnTo>
                      <a:pt x="956" y="155"/>
                    </a:lnTo>
                    <a:lnTo>
                      <a:pt x="943" y="152"/>
                    </a:lnTo>
                    <a:lnTo>
                      <a:pt x="934" y="152"/>
                    </a:lnTo>
                    <a:lnTo>
                      <a:pt x="930" y="154"/>
                    </a:lnTo>
                    <a:lnTo>
                      <a:pt x="927" y="156"/>
                    </a:lnTo>
                    <a:lnTo>
                      <a:pt x="922" y="176"/>
                    </a:lnTo>
                    <a:lnTo>
                      <a:pt x="920" y="216"/>
                    </a:lnTo>
                    <a:lnTo>
                      <a:pt x="923" y="268"/>
                    </a:lnTo>
                    <a:lnTo>
                      <a:pt x="927" y="327"/>
                    </a:lnTo>
                    <a:lnTo>
                      <a:pt x="933" y="386"/>
                    </a:lnTo>
                    <a:lnTo>
                      <a:pt x="939" y="439"/>
                    </a:lnTo>
                    <a:lnTo>
                      <a:pt x="944" y="477"/>
                    </a:lnTo>
                    <a:lnTo>
                      <a:pt x="950" y="495"/>
                    </a:lnTo>
                    <a:lnTo>
                      <a:pt x="951" y="497"/>
                    </a:lnTo>
                    <a:lnTo>
                      <a:pt x="953" y="498"/>
                    </a:lnTo>
                    <a:lnTo>
                      <a:pt x="956" y="500"/>
                    </a:lnTo>
                    <a:lnTo>
                      <a:pt x="961" y="504"/>
                    </a:lnTo>
                    <a:lnTo>
                      <a:pt x="970" y="507"/>
                    </a:lnTo>
                    <a:lnTo>
                      <a:pt x="983" y="512"/>
                    </a:lnTo>
                    <a:lnTo>
                      <a:pt x="1001" y="519"/>
                    </a:lnTo>
                    <a:lnTo>
                      <a:pt x="1024" y="527"/>
                    </a:lnTo>
                    <a:lnTo>
                      <a:pt x="1053" y="538"/>
                    </a:lnTo>
                    <a:lnTo>
                      <a:pt x="1089" y="549"/>
                    </a:lnTo>
                    <a:lnTo>
                      <a:pt x="1133" y="563"/>
                    </a:lnTo>
                    <a:lnTo>
                      <a:pt x="1187" y="580"/>
                    </a:lnTo>
                    <a:lnTo>
                      <a:pt x="1248" y="600"/>
                    </a:lnTo>
                    <a:lnTo>
                      <a:pt x="1320" y="623"/>
                    </a:lnTo>
                    <a:lnTo>
                      <a:pt x="1402" y="649"/>
                    </a:lnTo>
                    <a:lnTo>
                      <a:pt x="1497" y="678"/>
                    </a:lnTo>
                    <a:lnTo>
                      <a:pt x="1545" y="693"/>
                    </a:lnTo>
                    <a:lnTo>
                      <a:pt x="1595" y="708"/>
                    </a:lnTo>
                    <a:lnTo>
                      <a:pt x="1643" y="722"/>
                    </a:lnTo>
                    <a:lnTo>
                      <a:pt x="1693" y="736"/>
                    </a:lnTo>
                    <a:lnTo>
                      <a:pt x="1741" y="751"/>
                    </a:lnTo>
                    <a:lnTo>
                      <a:pt x="1788" y="765"/>
                    </a:lnTo>
                    <a:lnTo>
                      <a:pt x="1833" y="778"/>
                    </a:lnTo>
                    <a:lnTo>
                      <a:pt x="1877" y="790"/>
                    </a:lnTo>
                    <a:lnTo>
                      <a:pt x="1920" y="803"/>
                    </a:lnTo>
                    <a:lnTo>
                      <a:pt x="1958" y="813"/>
                    </a:lnTo>
                    <a:lnTo>
                      <a:pt x="1994" y="823"/>
                    </a:lnTo>
                    <a:lnTo>
                      <a:pt x="2026" y="831"/>
                    </a:lnTo>
                    <a:lnTo>
                      <a:pt x="2053" y="840"/>
                    </a:lnTo>
                    <a:lnTo>
                      <a:pt x="2077" y="846"/>
                    </a:lnTo>
                    <a:lnTo>
                      <a:pt x="2096" y="850"/>
                    </a:lnTo>
                    <a:lnTo>
                      <a:pt x="2108" y="853"/>
                    </a:lnTo>
                    <a:lnTo>
                      <a:pt x="2125" y="851"/>
                    </a:lnTo>
                    <a:lnTo>
                      <a:pt x="2131" y="834"/>
                    </a:lnTo>
                    <a:lnTo>
                      <a:pt x="2131" y="800"/>
                    </a:lnTo>
                    <a:lnTo>
                      <a:pt x="2125" y="758"/>
                    </a:lnTo>
                    <a:lnTo>
                      <a:pt x="2118" y="708"/>
                    </a:lnTo>
                    <a:lnTo>
                      <a:pt x="2108" y="661"/>
                    </a:lnTo>
                    <a:lnTo>
                      <a:pt x="2099" y="620"/>
                    </a:lnTo>
                    <a:lnTo>
                      <a:pt x="2091" y="590"/>
                    </a:lnTo>
                    <a:lnTo>
                      <a:pt x="2089" y="579"/>
                    </a:lnTo>
                    <a:lnTo>
                      <a:pt x="2083" y="565"/>
                    </a:lnTo>
                    <a:lnTo>
                      <a:pt x="2074" y="552"/>
                    </a:lnTo>
                    <a:lnTo>
                      <a:pt x="2064" y="541"/>
                    </a:lnTo>
                    <a:lnTo>
                      <a:pt x="2055" y="531"/>
                    </a:lnTo>
                    <a:lnTo>
                      <a:pt x="2043" y="524"/>
                    </a:lnTo>
                    <a:lnTo>
                      <a:pt x="2035" y="518"/>
                    </a:lnTo>
                    <a:lnTo>
                      <a:pt x="2028" y="515"/>
                    </a:lnTo>
                    <a:lnTo>
                      <a:pt x="2025" y="514"/>
                    </a:lnTo>
                    <a:lnTo>
                      <a:pt x="2022" y="512"/>
                    </a:lnTo>
                    <a:lnTo>
                      <a:pt x="2012" y="508"/>
                    </a:lnTo>
                    <a:lnTo>
                      <a:pt x="1996" y="501"/>
                    </a:lnTo>
                    <a:lnTo>
                      <a:pt x="1977" y="493"/>
                    </a:lnTo>
                    <a:lnTo>
                      <a:pt x="1950" y="481"/>
                    </a:lnTo>
                    <a:lnTo>
                      <a:pt x="1920" y="468"/>
                    </a:lnTo>
                    <a:lnTo>
                      <a:pt x="1886" y="454"/>
                    </a:lnTo>
                    <a:lnTo>
                      <a:pt x="1848" y="437"/>
                    </a:lnTo>
                    <a:lnTo>
                      <a:pt x="1806" y="419"/>
                    </a:lnTo>
                    <a:lnTo>
                      <a:pt x="1761" y="400"/>
                    </a:lnTo>
                    <a:lnTo>
                      <a:pt x="1714" y="379"/>
                    </a:lnTo>
                    <a:lnTo>
                      <a:pt x="1666" y="359"/>
                    </a:lnTo>
                    <a:lnTo>
                      <a:pt x="1615" y="337"/>
                    </a:lnTo>
                    <a:lnTo>
                      <a:pt x="1562" y="314"/>
                    </a:lnTo>
                    <a:lnTo>
                      <a:pt x="1510" y="291"/>
                    </a:lnTo>
                    <a:lnTo>
                      <a:pt x="1458" y="268"/>
                    </a:lnTo>
                    <a:lnTo>
                      <a:pt x="1404" y="246"/>
                    </a:lnTo>
                    <a:lnTo>
                      <a:pt x="1351" y="223"/>
                    </a:lnTo>
                    <a:lnTo>
                      <a:pt x="1299" y="200"/>
                    </a:lnTo>
                    <a:lnTo>
                      <a:pt x="1248" y="178"/>
                    </a:lnTo>
                    <a:lnTo>
                      <a:pt x="1199" y="158"/>
                    </a:lnTo>
                    <a:lnTo>
                      <a:pt x="1153" y="137"/>
                    </a:lnTo>
                    <a:lnTo>
                      <a:pt x="1107" y="118"/>
                    </a:lnTo>
                    <a:lnTo>
                      <a:pt x="1066" y="100"/>
                    </a:lnTo>
                    <a:lnTo>
                      <a:pt x="1028" y="83"/>
                    </a:lnTo>
                    <a:lnTo>
                      <a:pt x="994" y="68"/>
                    </a:lnTo>
                    <a:lnTo>
                      <a:pt x="964" y="56"/>
                    </a:lnTo>
                    <a:lnTo>
                      <a:pt x="937" y="44"/>
                    </a:lnTo>
                    <a:lnTo>
                      <a:pt x="917" y="36"/>
                    </a:lnTo>
                    <a:lnTo>
                      <a:pt x="902" y="29"/>
                    </a:lnTo>
                    <a:lnTo>
                      <a:pt x="892" y="25"/>
                    </a:lnTo>
                    <a:lnTo>
                      <a:pt x="889" y="23"/>
                    </a:lnTo>
                    <a:lnTo>
                      <a:pt x="866" y="16"/>
                    </a:lnTo>
                    <a:lnTo>
                      <a:pt x="841" y="12"/>
                    </a:lnTo>
                    <a:lnTo>
                      <a:pt x="810" y="8"/>
                    </a:lnTo>
                    <a:lnTo>
                      <a:pt x="775" y="3"/>
                    </a:lnTo>
                    <a:lnTo>
                      <a:pt x="737" y="2"/>
                    </a:lnTo>
                    <a:lnTo>
                      <a:pt x="697" y="0"/>
                    </a:lnTo>
                    <a:lnTo>
                      <a:pt x="656" y="0"/>
                    </a:lnTo>
                    <a:lnTo>
                      <a:pt x="614" y="2"/>
                    </a:lnTo>
                    <a:lnTo>
                      <a:pt x="570" y="3"/>
                    </a:lnTo>
                    <a:lnTo>
                      <a:pt x="526" y="6"/>
                    </a:lnTo>
                    <a:lnTo>
                      <a:pt x="482" y="9"/>
                    </a:lnTo>
                    <a:lnTo>
                      <a:pt x="438" y="13"/>
                    </a:lnTo>
                    <a:lnTo>
                      <a:pt x="397" y="17"/>
                    </a:lnTo>
                    <a:lnTo>
                      <a:pt x="357" y="23"/>
                    </a:lnTo>
                    <a:lnTo>
                      <a:pt x="319" y="29"/>
                    </a:lnTo>
                    <a:lnTo>
                      <a:pt x="28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-351720" y="484200"/>
                <a:ext cx="11880" cy="28800"/>
              </a:xfrm>
              <a:custGeom>
                <a:avLst/>
                <a:gdLst/>
                <a:ahLst/>
                <a:rect l="l" t="t" r="r" b="b"/>
                <a:pathLst>
                  <a:path w="30" h="152">
                    <a:moveTo>
                      <a:pt x="30" y="75"/>
                    </a:moveTo>
                    <a:lnTo>
                      <a:pt x="29" y="105"/>
                    </a:lnTo>
                    <a:lnTo>
                      <a:pt x="26" y="129"/>
                    </a:lnTo>
                    <a:lnTo>
                      <a:pt x="20" y="146"/>
                    </a:lnTo>
                    <a:lnTo>
                      <a:pt x="15" y="152"/>
                    </a:lnTo>
                    <a:lnTo>
                      <a:pt x="9" y="146"/>
                    </a:lnTo>
                    <a:lnTo>
                      <a:pt x="5" y="129"/>
                    </a:lnTo>
                    <a:lnTo>
                      <a:pt x="2" y="105"/>
                    </a:lnTo>
                    <a:lnTo>
                      <a:pt x="0" y="75"/>
                    </a:lnTo>
                    <a:lnTo>
                      <a:pt x="2" y="45"/>
                    </a:lnTo>
                    <a:lnTo>
                      <a:pt x="5" y="23"/>
                    </a:lnTo>
                    <a:lnTo>
                      <a:pt x="9" y="6"/>
                    </a:lnTo>
                    <a:lnTo>
                      <a:pt x="15" y="0"/>
                    </a:lnTo>
                    <a:lnTo>
                      <a:pt x="20" y="6"/>
                    </a:lnTo>
                    <a:lnTo>
                      <a:pt x="26" y="23"/>
                    </a:lnTo>
                    <a:lnTo>
                      <a:pt x="29" y="45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-103320" y="479880"/>
                <a:ext cx="7920" cy="1836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20" y="49"/>
                    </a:moveTo>
                    <a:lnTo>
                      <a:pt x="18" y="68"/>
                    </a:lnTo>
                    <a:lnTo>
                      <a:pt x="17" y="83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93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49"/>
                    </a:lnTo>
                    <a:lnTo>
                      <a:pt x="1" y="30"/>
                    </a:lnTo>
                    <a:lnTo>
                      <a:pt x="3" y="1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7" y="14"/>
                    </a:lnTo>
                    <a:lnTo>
                      <a:pt x="18" y="30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-463320" y="361440"/>
                <a:ext cx="8640" cy="57960"/>
              </a:xfrm>
              <a:custGeom>
                <a:avLst/>
                <a:gdLst/>
                <a:ahLst/>
                <a:rect l="l" t="t" r="r" b="b"/>
                <a:pathLst>
                  <a:path w="22" h="304">
                    <a:moveTo>
                      <a:pt x="5" y="0"/>
                    </a:moveTo>
                    <a:lnTo>
                      <a:pt x="22" y="0"/>
                    </a:lnTo>
                    <a:lnTo>
                      <a:pt x="13" y="304"/>
                    </a:lnTo>
                    <a:lnTo>
                      <a:pt x="0" y="30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-448560" y="362160"/>
                <a:ext cx="8640" cy="57960"/>
              </a:xfrm>
              <a:custGeom>
                <a:avLst/>
                <a:gdLst/>
                <a:ahLst/>
                <a:rect l="l" t="t" r="r" b="b"/>
                <a:pathLst>
                  <a:path w="21" h="305">
                    <a:moveTo>
                      <a:pt x="4" y="0"/>
                    </a:moveTo>
                    <a:lnTo>
                      <a:pt x="21" y="0"/>
                    </a:lnTo>
                    <a:lnTo>
                      <a:pt x="12" y="305"/>
                    </a:lnTo>
                    <a:lnTo>
                      <a:pt x="0" y="30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-463320" y="438480"/>
                <a:ext cx="8640" cy="57960"/>
              </a:xfrm>
              <a:custGeom>
                <a:avLst/>
                <a:gdLst/>
                <a:ahLst/>
                <a:rect l="l" t="t" r="r" b="b"/>
                <a:pathLst>
                  <a:path w="22" h="307">
                    <a:moveTo>
                      <a:pt x="5" y="0"/>
                    </a:moveTo>
                    <a:lnTo>
                      <a:pt x="22" y="0"/>
                    </a:lnTo>
                    <a:lnTo>
                      <a:pt x="13" y="307"/>
                    </a:lnTo>
                    <a:lnTo>
                      <a:pt x="0" y="30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-448560" y="436320"/>
                <a:ext cx="8640" cy="58320"/>
              </a:xfrm>
              <a:custGeom>
                <a:avLst/>
                <a:gdLst/>
                <a:ahLst/>
                <a:rect l="l" t="t" r="r" b="b"/>
                <a:pathLst>
                  <a:path w="21" h="306">
                    <a:moveTo>
                      <a:pt x="4" y="0"/>
                    </a:moveTo>
                    <a:lnTo>
                      <a:pt x="21" y="0"/>
                    </a:lnTo>
                    <a:lnTo>
                      <a:pt x="12" y="306"/>
                    </a:lnTo>
                    <a:lnTo>
                      <a:pt x="0" y="30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-218520" y="383760"/>
                <a:ext cx="5400" cy="4428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-208080" y="384480"/>
                <a:ext cx="5400" cy="4464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-218520" y="442440"/>
                <a:ext cx="5400" cy="4428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-208080" y="441000"/>
                <a:ext cx="5400" cy="4464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-578880" y="469800"/>
                <a:ext cx="29880" cy="1440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74" y="39"/>
                    </a:moveTo>
                    <a:lnTo>
                      <a:pt x="71" y="54"/>
                    </a:lnTo>
                    <a:lnTo>
                      <a:pt x="62" y="65"/>
                    </a:lnTo>
                    <a:lnTo>
                      <a:pt x="51" y="74"/>
                    </a:lnTo>
                    <a:lnTo>
                      <a:pt x="37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7" y="0"/>
                    </a:lnTo>
                    <a:lnTo>
                      <a:pt x="51" y="3"/>
                    </a:lnTo>
                    <a:lnTo>
                      <a:pt x="62" y="12"/>
                    </a:lnTo>
                    <a:lnTo>
                      <a:pt x="71" y="23"/>
                    </a:lnTo>
                    <a:lnTo>
                      <a:pt x="7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-540360" y="469800"/>
                <a:ext cx="30600" cy="14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5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-836640" y="467280"/>
                <a:ext cx="30600" cy="14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-798120" y="467280"/>
                <a:ext cx="30960" cy="1440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6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-561960" y="490680"/>
                <a:ext cx="12960" cy="29520"/>
              </a:xfrm>
              <a:custGeom>
                <a:avLst/>
                <a:gdLst/>
                <a:ahLst/>
                <a:rect l="l" t="t" r="r" b="b"/>
                <a:pathLst>
                  <a:path w="33" h="159">
                    <a:moveTo>
                      <a:pt x="33" y="4"/>
                    </a:moveTo>
                    <a:lnTo>
                      <a:pt x="33" y="159"/>
                    </a:lnTo>
                    <a:lnTo>
                      <a:pt x="0" y="154"/>
                    </a:lnTo>
                    <a:lnTo>
                      <a:pt x="0" y="0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-647640" y="367920"/>
                <a:ext cx="139320" cy="57960"/>
              </a:xfrm>
              <a:custGeom>
                <a:avLst/>
                <a:gdLst/>
                <a:ahLst/>
                <a:rect l="l" t="t" r="r" b="b"/>
                <a:pathLst>
                  <a:path w="346" h="306">
                    <a:moveTo>
                      <a:pt x="303" y="0"/>
                    </a:moveTo>
                    <a:lnTo>
                      <a:pt x="303" y="29"/>
                    </a:lnTo>
                    <a:lnTo>
                      <a:pt x="303" y="99"/>
                    </a:lnTo>
                    <a:lnTo>
                      <a:pt x="299" y="173"/>
                    </a:lnTo>
                    <a:lnTo>
                      <a:pt x="291" y="219"/>
                    </a:lnTo>
                    <a:lnTo>
                      <a:pt x="285" y="225"/>
                    </a:lnTo>
                    <a:lnTo>
                      <a:pt x="274" y="229"/>
                    </a:lnTo>
                    <a:lnTo>
                      <a:pt x="258" y="234"/>
                    </a:lnTo>
                    <a:lnTo>
                      <a:pt x="238" y="238"/>
                    </a:lnTo>
                    <a:lnTo>
                      <a:pt x="215" y="241"/>
                    </a:lnTo>
                    <a:lnTo>
                      <a:pt x="191" y="244"/>
                    </a:lnTo>
                    <a:lnTo>
                      <a:pt x="166" y="245"/>
                    </a:lnTo>
                    <a:lnTo>
                      <a:pt x="139" y="248"/>
                    </a:lnTo>
                    <a:lnTo>
                      <a:pt x="113" y="249"/>
                    </a:lnTo>
                    <a:lnTo>
                      <a:pt x="88" y="251"/>
                    </a:lnTo>
                    <a:lnTo>
                      <a:pt x="64" y="252"/>
                    </a:lnTo>
                    <a:lnTo>
                      <a:pt x="42" y="252"/>
                    </a:lnTo>
                    <a:lnTo>
                      <a:pt x="25" y="253"/>
                    </a:lnTo>
                    <a:lnTo>
                      <a:pt x="11" y="253"/>
                    </a:lnTo>
                    <a:lnTo>
                      <a:pt x="3" y="253"/>
                    </a:lnTo>
                    <a:lnTo>
                      <a:pt x="0" y="253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69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2" y="306"/>
                    </a:lnTo>
                    <a:lnTo>
                      <a:pt x="181" y="306"/>
                    </a:lnTo>
                    <a:lnTo>
                      <a:pt x="210" y="306"/>
                    </a:lnTo>
                    <a:lnTo>
                      <a:pt x="237" y="306"/>
                    </a:lnTo>
                    <a:lnTo>
                      <a:pt x="261" y="305"/>
                    </a:lnTo>
                    <a:lnTo>
                      <a:pt x="283" y="303"/>
                    </a:lnTo>
                    <a:lnTo>
                      <a:pt x="300" y="302"/>
                    </a:lnTo>
                    <a:lnTo>
                      <a:pt x="313" y="299"/>
                    </a:lnTo>
                    <a:lnTo>
                      <a:pt x="320" y="296"/>
                    </a:lnTo>
                    <a:lnTo>
                      <a:pt x="333" y="244"/>
                    </a:lnTo>
                    <a:lnTo>
                      <a:pt x="342" y="146"/>
                    </a:lnTo>
                    <a:lnTo>
                      <a:pt x="344" y="51"/>
                    </a:lnTo>
                    <a:lnTo>
                      <a:pt x="346" y="8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-648720" y="204840"/>
                <a:ext cx="111600" cy="56880"/>
              </a:xfrm>
              <a:custGeom>
                <a:avLst/>
                <a:gdLst/>
                <a:ahLst/>
                <a:rect l="l" t="t" r="r" b="b"/>
                <a:pathLst>
                  <a:path w="278" h="301">
                    <a:moveTo>
                      <a:pt x="278" y="0"/>
                    </a:moveTo>
                    <a:lnTo>
                      <a:pt x="211" y="43"/>
                    </a:lnTo>
                    <a:lnTo>
                      <a:pt x="211" y="68"/>
                    </a:lnTo>
                    <a:lnTo>
                      <a:pt x="208" y="126"/>
                    </a:lnTo>
                    <a:lnTo>
                      <a:pt x="200" y="189"/>
                    </a:lnTo>
                    <a:lnTo>
                      <a:pt x="183" y="228"/>
                    </a:lnTo>
                    <a:lnTo>
                      <a:pt x="167" y="237"/>
                    </a:lnTo>
                    <a:lnTo>
                      <a:pt x="144" y="244"/>
                    </a:lnTo>
                    <a:lnTo>
                      <a:pt x="119" y="250"/>
                    </a:lnTo>
                    <a:lnTo>
                      <a:pt x="90" y="253"/>
                    </a:lnTo>
                    <a:lnTo>
                      <a:pt x="65" y="255"/>
                    </a:lnTo>
                    <a:lnTo>
                      <a:pt x="42" y="257"/>
                    </a:lnTo>
                    <a:lnTo>
                      <a:pt x="27" y="258"/>
                    </a:lnTo>
                    <a:lnTo>
                      <a:pt x="21" y="258"/>
                    </a:lnTo>
                    <a:lnTo>
                      <a:pt x="0" y="301"/>
                    </a:lnTo>
                    <a:lnTo>
                      <a:pt x="8" y="301"/>
                    </a:lnTo>
                    <a:lnTo>
                      <a:pt x="29" y="299"/>
                    </a:lnTo>
                    <a:lnTo>
                      <a:pt x="61" y="297"/>
                    </a:lnTo>
                    <a:lnTo>
                      <a:pt x="97" y="294"/>
                    </a:lnTo>
                    <a:lnTo>
                      <a:pt x="137" y="291"/>
                    </a:lnTo>
                    <a:lnTo>
                      <a:pt x="173" y="288"/>
                    </a:lnTo>
                    <a:lnTo>
                      <a:pt x="204" y="285"/>
                    </a:lnTo>
                    <a:lnTo>
                      <a:pt x="224" y="284"/>
                    </a:lnTo>
                    <a:lnTo>
                      <a:pt x="236" y="280"/>
                    </a:lnTo>
                    <a:lnTo>
                      <a:pt x="246" y="271"/>
                    </a:lnTo>
                    <a:lnTo>
                      <a:pt x="255" y="257"/>
                    </a:lnTo>
                    <a:lnTo>
                      <a:pt x="262" y="241"/>
                    </a:lnTo>
                    <a:lnTo>
                      <a:pt x="266" y="221"/>
                    </a:lnTo>
                    <a:lnTo>
                      <a:pt x="269" y="200"/>
                    </a:lnTo>
                    <a:lnTo>
                      <a:pt x="272" y="176"/>
                    </a:lnTo>
                    <a:lnTo>
                      <a:pt x="273" y="152"/>
                    </a:lnTo>
                    <a:lnTo>
                      <a:pt x="276" y="91"/>
                    </a:lnTo>
                    <a:lnTo>
                      <a:pt x="278" y="43"/>
                    </a:lnTo>
                    <a:lnTo>
                      <a:pt x="278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-803880" y="214200"/>
                <a:ext cx="93960" cy="52560"/>
              </a:xfrm>
              <a:custGeom>
                <a:avLst/>
                <a:gdLst/>
                <a:ahLst/>
                <a:rect l="l" t="t" r="r" b="b"/>
                <a:pathLst>
                  <a:path w="234" h="278">
                    <a:moveTo>
                      <a:pt x="234" y="0"/>
                    </a:moveTo>
                    <a:lnTo>
                      <a:pt x="178" y="38"/>
                    </a:lnTo>
                    <a:lnTo>
                      <a:pt x="178" y="62"/>
                    </a:lnTo>
                    <a:lnTo>
                      <a:pt x="175" y="116"/>
                    </a:lnTo>
                    <a:lnTo>
                      <a:pt x="166" y="174"/>
                    </a:lnTo>
                    <a:lnTo>
                      <a:pt x="152" y="211"/>
                    </a:lnTo>
                    <a:lnTo>
                      <a:pt x="139" y="220"/>
                    </a:lnTo>
                    <a:lnTo>
                      <a:pt x="121" y="225"/>
                    </a:lnTo>
                    <a:lnTo>
                      <a:pt x="100" y="230"/>
                    </a:lnTo>
                    <a:lnTo>
                      <a:pt x="77" y="234"/>
                    </a:lnTo>
                    <a:lnTo>
                      <a:pt x="54" y="235"/>
                    </a:lnTo>
                    <a:lnTo>
                      <a:pt x="36" y="237"/>
                    </a:lnTo>
                    <a:lnTo>
                      <a:pt x="23" y="238"/>
                    </a:lnTo>
                    <a:lnTo>
                      <a:pt x="19" y="238"/>
                    </a:lnTo>
                    <a:lnTo>
                      <a:pt x="0" y="278"/>
                    </a:lnTo>
                    <a:lnTo>
                      <a:pt x="7" y="278"/>
                    </a:lnTo>
                    <a:lnTo>
                      <a:pt x="26" y="276"/>
                    </a:lnTo>
                    <a:lnTo>
                      <a:pt x="51" y="273"/>
                    </a:lnTo>
                    <a:lnTo>
                      <a:pt x="83" y="272"/>
                    </a:lnTo>
                    <a:lnTo>
                      <a:pt x="115" y="269"/>
                    </a:lnTo>
                    <a:lnTo>
                      <a:pt x="145" y="266"/>
                    </a:lnTo>
                    <a:lnTo>
                      <a:pt x="170" y="264"/>
                    </a:lnTo>
                    <a:lnTo>
                      <a:pt x="187" y="262"/>
                    </a:lnTo>
                    <a:lnTo>
                      <a:pt x="199" y="258"/>
                    </a:lnTo>
                    <a:lnTo>
                      <a:pt x="207" y="249"/>
                    </a:lnTo>
                    <a:lnTo>
                      <a:pt x="214" y="238"/>
                    </a:lnTo>
                    <a:lnTo>
                      <a:pt x="220" y="222"/>
                    </a:lnTo>
                    <a:lnTo>
                      <a:pt x="224" y="204"/>
                    </a:lnTo>
                    <a:lnTo>
                      <a:pt x="227" y="184"/>
                    </a:lnTo>
                    <a:lnTo>
                      <a:pt x="229" y="163"/>
                    </a:lnTo>
                    <a:lnTo>
                      <a:pt x="230" y="140"/>
                    </a:lnTo>
                    <a:lnTo>
                      <a:pt x="233" y="83"/>
                    </a:lnTo>
                    <a:lnTo>
                      <a:pt x="234" y="39"/>
                    </a:lnTo>
                    <a:lnTo>
                      <a:pt x="234" y="1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-644400" y="356040"/>
                <a:ext cx="82080" cy="46800"/>
              </a:xfrm>
              <a:custGeom>
                <a:avLst/>
                <a:gdLst/>
                <a:ahLst/>
                <a:rect l="l" t="t" r="r" b="b"/>
                <a:pathLst>
                  <a:path w="203" h="247">
                    <a:moveTo>
                      <a:pt x="203" y="0"/>
                    </a:moveTo>
                    <a:lnTo>
                      <a:pt x="13" y="4"/>
                    </a:lnTo>
                    <a:lnTo>
                      <a:pt x="0" y="247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-606240" y="362160"/>
                <a:ext cx="72360" cy="35640"/>
              </a:xfrm>
              <a:custGeom>
                <a:avLst/>
                <a:gdLst/>
                <a:ahLst/>
                <a:rect l="l" t="t" r="r" b="b"/>
                <a:pathLst>
                  <a:path w="180" h="187">
                    <a:moveTo>
                      <a:pt x="146" y="0"/>
                    </a:moveTo>
                    <a:lnTo>
                      <a:pt x="0" y="187"/>
                    </a:lnTo>
                    <a:lnTo>
                      <a:pt x="180" y="4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-647640" y="20232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110" y="0"/>
                    </a:moveTo>
                    <a:lnTo>
                      <a:pt x="0" y="19"/>
                    </a:lnTo>
                    <a:lnTo>
                      <a:pt x="7" y="23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-617760" y="213120"/>
                <a:ext cx="52920" cy="29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109" y="0"/>
                    </a:moveTo>
                    <a:lnTo>
                      <a:pt x="0" y="159"/>
                    </a:lnTo>
                    <a:lnTo>
                      <a:pt x="132" y="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-803880" y="208800"/>
                <a:ext cx="52200" cy="43920"/>
              </a:xfrm>
              <a:custGeom>
                <a:avLst/>
                <a:gdLst/>
                <a:ahLst/>
                <a:rect l="l" t="t" r="r" b="b"/>
                <a:pathLst>
                  <a:path w="129" h="232">
                    <a:moveTo>
                      <a:pt x="129" y="0"/>
                    </a:moveTo>
                    <a:lnTo>
                      <a:pt x="8" y="27"/>
                    </a:lnTo>
                    <a:lnTo>
                      <a:pt x="0" y="23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-776160" y="218880"/>
                <a:ext cx="53640" cy="2952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109" y="0"/>
                    </a:moveTo>
                    <a:lnTo>
                      <a:pt x="0" y="158"/>
                    </a:lnTo>
                    <a:lnTo>
                      <a:pt x="133" y="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-806040" y="359640"/>
                <a:ext cx="74160" cy="37800"/>
              </a:xfrm>
              <a:custGeom>
                <a:avLst/>
                <a:gdLst/>
                <a:ahLst/>
                <a:rect l="l" t="t" r="r" b="b"/>
                <a:pathLst>
                  <a:path w="184" h="198">
                    <a:moveTo>
                      <a:pt x="184" y="0"/>
                    </a:moveTo>
                    <a:lnTo>
                      <a:pt x="11" y="2"/>
                    </a:lnTo>
                    <a:lnTo>
                      <a:pt x="0" y="19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-772200" y="365040"/>
                <a:ext cx="66600" cy="2808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33" y="0"/>
                    </a:moveTo>
                    <a:lnTo>
                      <a:pt x="0" y="150"/>
                    </a:lnTo>
                    <a:lnTo>
                      <a:pt x="164" y="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-466920" y="22896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102" h="222">
                    <a:moveTo>
                      <a:pt x="72" y="0"/>
                    </a:moveTo>
                    <a:lnTo>
                      <a:pt x="0" y="217"/>
                    </a:lnTo>
                    <a:lnTo>
                      <a:pt x="102" y="22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-386280" y="244800"/>
                <a:ext cx="39960" cy="39240"/>
              </a:xfrm>
              <a:custGeom>
                <a:avLst/>
                <a:gdLst/>
                <a:ahLst/>
                <a:rect l="l" t="t" r="r" b="b"/>
                <a:pathLst>
                  <a:path w="101" h="209">
                    <a:moveTo>
                      <a:pt x="81" y="0"/>
                    </a:moveTo>
                    <a:lnTo>
                      <a:pt x="0" y="179"/>
                    </a:lnTo>
                    <a:lnTo>
                      <a:pt x="101" y="20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-304920" y="259560"/>
                <a:ext cx="39240" cy="35280"/>
              </a:xfrm>
              <a:custGeom>
                <a:avLst/>
                <a:gdLst/>
                <a:ahLst/>
                <a:rect l="l" t="t" r="r" b="b"/>
                <a:pathLst>
                  <a:path w="98" h="187">
                    <a:moveTo>
                      <a:pt x="76" y="0"/>
                    </a:moveTo>
                    <a:lnTo>
                      <a:pt x="0" y="174"/>
                    </a:lnTo>
                    <a:lnTo>
                      <a:pt x="98" y="18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-224280" y="27360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68" h="179">
                    <a:moveTo>
                      <a:pt x="51" y="0"/>
                    </a:moveTo>
                    <a:lnTo>
                      <a:pt x="68" y="179"/>
                    </a:lnTo>
                    <a:lnTo>
                      <a:pt x="0" y="15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-157320" y="286200"/>
                <a:ext cx="18360" cy="29880"/>
              </a:xfrm>
              <a:custGeom>
                <a:avLst/>
                <a:gdLst/>
                <a:ahLst/>
                <a:rect l="l" t="t" r="r" b="b"/>
                <a:pathLst>
                  <a:path w="45" h="159">
                    <a:moveTo>
                      <a:pt x="36" y="0"/>
                    </a:moveTo>
                    <a:lnTo>
                      <a:pt x="45" y="159"/>
                    </a:lnTo>
                    <a:lnTo>
                      <a:pt x="0" y="14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106920" y="295200"/>
                <a:ext cx="20880" cy="25920"/>
              </a:xfrm>
              <a:custGeom>
                <a:avLst/>
                <a:gdLst/>
                <a:ahLst/>
                <a:rect l="l" t="t" r="r" b="b"/>
                <a:pathLst>
                  <a:path w="51" h="138">
                    <a:moveTo>
                      <a:pt x="38" y="0"/>
                    </a:moveTo>
                    <a:lnTo>
                      <a:pt x="51" y="138"/>
                    </a:lnTo>
                    <a:lnTo>
                      <a:pt x="0" y="1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-51840" y="3031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38" h="142">
                    <a:moveTo>
                      <a:pt x="25" y="0"/>
                    </a:moveTo>
                    <a:lnTo>
                      <a:pt x="38" y="142"/>
                    </a:lnTo>
                    <a:lnTo>
                      <a:pt x="0" y="12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-374040" y="370800"/>
                <a:ext cx="43560" cy="44640"/>
              </a:xfrm>
              <a:custGeom>
                <a:avLst/>
                <a:gdLst/>
                <a:ahLst/>
                <a:rect l="l" t="t" r="r" b="b"/>
                <a:pathLst>
                  <a:path w="109" h="237">
                    <a:moveTo>
                      <a:pt x="109" y="0"/>
                    </a:moveTo>
                    <a:lnTo>
                      <a:pt x="105" y="237"/>
                    </a:lnTo>
                    <a:lnTo>
                      <a:pt x="0" y="237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-293040" y="3780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94" y="0"/>
                    </a:moveTo>
                    <a:lnTo>
                      <a:pt x="94" y="194"/>
                    </a:lnTo>
                    <a:lnTo>
                      <a:pt x="0" y="20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-165600" y="38664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41" h="178">
                    <a:moveTo>
                      <a:pt x="41" y="0"/>
                    </a:moveTo>
                    <a:lnTo>
                      <a:pt x="41" y="178"/>
                    </a:lnTo>
                    <a:lnTo>
                      <a:pt x="0" y="1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-108360" y="39096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39" h="168">
                    <a:moveTo>
                      <a:pt x="39" y="0"/>
                    </a:moveTo>
                    <a:lnTo>
                      <a:pt x="39" y="168"/>
                    </a:lnTo>
                    <a:lnTo>
                      <a:pt x="0" y="16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-56520" y="394560"/>
                <a:ext cx="11880" cy="26280"/>
              </a:xfrm>
              <a:custGeom>
                <a:avLst/>
                <a:gdLst/>
                <a:ahLst/>
                <a:rect l="l" t="t" r="r" b="b"/>
                <a:pathLst>
                  <a:path w="30" h="139">
                    <a:moveTo>
                      <a:pt x="26" y="0"/>
                    </a:moveTo>
                    <a:lnTo>
                      <a:pt x="30" y="139"/>
                    </a:lnTo>
                    <a:lnTo>
                      <a:pt x="0" y="13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-4319640" y="0"/>
              <a:ext cx="1476360" cy="642960"/>
              <a:chOff x="-4319640" y="0"/>
              <a:chExt cx="1476360" cy="642960"/>
            </a:xfrm>
          </p:grpSpPr>
          <p:sp>
            <p:nvSpPr>
              <p:cNvPr id="154" name=""/>
              <p:cNvSpPr/>
              <p:nvPr/>
            </p:nvSpPr>
            <p:spPr>
              <a:xfrm>
                <a:off x="-3096000" y="489960"/>
                <a:ext cx="124920" cy="111240"/>
              </a:xfrm>
              <a:custGeom>
                <a:avLst/>
                <a:gdLst/>
                <a:ahLst/>
                <a:rect l="l" t="t" r="r" b="b"/>
                <a:pathLst>
                  <a:path w="181" h="329">
                    <a:moveTo>
                      <a:pt x="0" y="265"/>
                    </a:moveTo>
                    <a:lnTo>
                      <a:pt x="21" y="324"/>
                    </a:lnTo>
                    <a:lnTo>
                      <a:pt x="119" y="329"/>
                    </a:lnTo>
                    <a:lnTo>
                      <a:pt x="120" y="327"/>
                    </a:lnTo>
                    <a:lnTo>
                      <a:pt x="126" y="324"/>
                    </a:lnTo>
                    <a:lnTo>
                      <a:pt x="134" y="317"/>
                    </a:lnTo>
                    <a:lnTo>
                      <a:pt x="144" y="306"/>
                    </a:lnTo>
                    <a:lnTo>
                      <a:pt x="154" y="290"/>
                    </a:lnTo>
                    <a:lnTo>
                      <a:pt x="164" y="270"/>
                    </a:lnTo>
                    <a:lnTo>
                      <a:pt x="173" y="244"/>
                    </a:lnTo>
                    <a:lnTo>
                      <a:pt x="178" y="211"/>
                    </a:lnTo>
                    <a:lnTo>
                      <a:pt x="181" y="173"/>
                    </a:lnTo>
                    <a:lnTo>
                      <a:pt x="180" y="136"/>
                    </a:lnTo>
                    <a:lnTo>
                      <a:pt x="174" y="99"/>
                    </a:lnTo>
                    <a:lnTo>
                      <a:pt x="166" y="65"/>
                    </a:lnTo>
                    <a:lnTo>
                      <a:pt x="154" y="36"/>
                    </a:lnTo>
                    <a:lnTo>
                      <a:pt x="141" y="15"/>
                    </a:lnTo>
                    <a:lnTo>
                      <a:pt x="126" y="2"/>
                    </a:lnTo>
                    <a:lnTo>
                      <a:pt x="109" y="0"/>
                    </a:lnTo>
                    <a:lnTo>
                      <a:pt x="92" y="14"/>
                    </a:lnTo>
                    <a:lnTo>
                      <a:pt x="72" y="46"/>
                    </a:lnTo>
                    <a:lnTo>
                      <a:pt x="55" y="89"/>
                    </a:lnTo>
                    <a:lnTo>
                      <a:pt x="38" y="136"/>
                    </a:lnTo>
                    <a:lnTo>
                      <a:pt x="22" y="184"/>
                    </a:lnTo>
                    <a:lnTo>
                      <a:pt x="11" y="225"/>
                    </a:lnTo>
                    <a:lnTo>
                      <a:pt x="2" y="25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-3548160" y="486360"/>
                <a:ext cx="179280" cy="152280"/>
              </a:xfrm>
              <a:custGeom>
                <a:avLst/>
                <a:gdLst/>
                <a:ahLst/>
                <a:rect l="l" t="t" r="r" b="b"/>
                <a:pathLst>
                  <a:path w="261" h="449">
                    <a:moveTo>
                      <a:pt x="0" y="347"/>
                    </a:moveTo>
                    <a:lnTo>
                      <a:pt x="1" y="354"/>
                    </a:lnTo>
                    <a:lnTo>
                      <a:pt x="4" y="374"/>
                    </a:lnTo>
                    <a:lnTo>
                      <a:pt x="14" y="401"/>
                    </a:lnTo>
                    <a:lnTo>
                      <a:pt x="33" y="432"/>
                    </a:lnTo>
                    <a:lnTo>
                      <a:pt x="148" y="449"/>
                    </a:lnTo>
                    <a:lnTo>
                      <a:pt x="152" y="446"/>
                    </a:lnTo>
                    <a:lnTo>
                      <a:pt x="162" y="438"/>
                    </a:lnTo>
                    <a:lnTo>
                      <a:pt x="177" y="424"/>
                    </a:lnTo>
                    <a:lnTo>
                      <a:pt x="194" y="407"/>
                    </a:lnTo>
                    <a:lnTo>
                      <a:pt x="213" y="385"/>
                    </a:lnTo>
                    <a:lnTo>
                      <a:pt x="230" y="363"/>
                    </a:lnTo>
                    <a:lnTo>
                      <a:pt x="244" y="339"/>
                    </a:lnTo>
                    <a:lnTo>
                      <a:pt x="254" y="313"/>
                    </a:lnTo>
                    <a:lnTo>
                      <a:pt x="260" y="279"/>
                    </a:lnTo>
                    <a:lnTo>
                      <a:pt x="261" y="234"/>
                    </a:lnTo>
                    <a:lnTo>
                      <a:pt x="260" y="180"/>
                    </a:lnTo>
                    <a:lnTo>
                      <a:pt x="252" y="124"/>
                    </a:lnTo>
                    <a:lnTo>
                      <a:pt x="240" y="73"/>
                    </a:lnTo>
                    <a:lnTo>
                      <a:pt x="220" y="32"/>
                    </a:lnTo>
                    <a:lnTo>
                      <a:pt x="193" y="5"/>
                    </a:lnTo>
                    <a:lnTo>
                      <a:pt x="156" y="0"/>
                    </a:lnTo>
                    <a:lnTo>
                      <a:pt x="118" y="20"/>
                    </a:lnTo>
                    <a:lnTo>
                      <a:pt x="85" y="61"/>
                    </a:lnTo>
                    <a:lnTo>
                      <a:pt x="58" y="117"/>
                    </a:lnTo>
                    <a:lnTo>
                      <a:pt x="37" y="180"/>
                    </a:lnTo>
                    <a:lnTo>
                      <a:pt x="21" y="242"/>
                    </a:lnTo>
                    <a:lnTo>
                      <a:pt x="9" y="295"/>
                    </a:lnTo>
                    <a:lnTo>
                      <a:pt x="3" y="333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-4244760" y="596880"/>
                <a:ext cx="206640" cy="33840"/>
              </a:xfrm>
              <a:custGeom>
                <a:avLst/>
                <a:gdLst/>
                <a:ahLst/>
                <a:rect l="l" t="t" r="r" b="b"/>
                <a:pathLst>
                  <a:path w="300" h="101">
                    <a:moveTo>
                      <a:pt x="0" y="0"/>
                    </a:moveTo>
                    <a:lnTo>
                      <a:pt x="1" y="3"/>
                    </a:lnTo>
                    <a:lnTo>
                      <a:pt x="4" y="11"/>
                    </a:lnTo>
                    <a:lnTo>
                      <a:pt x="10" y="24"/>
                    </a:lnTo>
                    <a:lnTo>
                      <a:pt x="18" y="40"/>
                    </a:lnTo>
                    <a:lnTo>
                      <a:pt x="29" y="55"/>
                    </a:lnTo>
                    <a:lnTo>
                      <a:pt x="45" y="71"/>
                    </a:lnTo>
                    <a:lnTo>
                      <a:pt x="65" y="84"/>
                    </a:lnTo>
                    <a:lnTo>
                      <a:pt x="89" y="93"/>
                    </a:lnTo>
                    <a:lnTo>
                      <a:pt x="116" y="99"/>
                    </a:lnTo>
                    <a:lnTo>
                      <a:pt x="144" y="101"/>
                    </a:lnTo>
                    <a:lnTo>
                      <a:pt x="173" y="99"/>
                    </a:lnTo>
                    <a:lnTo>
                      <a:pt x="201" y="93"/>
                    </a:lnTo>
                    <a:lnTo>
                      <a:pt x="229" y="82"/>
                    </a:lnTo>
                    <a:lnTo>
                      <a:pt x="255" y="65"/>
                    </a:lnTo>
                    <a:lnTo>
                      <a:pt x="279" y="42"/>
                    </a:lnTo>
                    <a:lnTo>
                      <a:pt x="30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-4309920" y="5400"/>
                <a:ext cx="1460160" cy="614880"/>
              </a:xfrm>
              <a:custGeom>
                <a:avLst/>
                <a:gdLst/>
                <a:ahLst/>
                <a:rect l="l" t="t" r="r" b="b"/>
                <a:pathLst>
                  <a:path w="2120" h="1814">
                    <a:moveTo>
                      <a:pt x="136" y="68"/>
                    </a:moveTo>
                    <a:lnTo>
                      <a:pt x="133" y="70"/>
                    </a:lnTo>
                    <a:lnTo>
                      <a:pt x="125" y="71"/>
                    </a:lnTo>
                    <a:lnTo>
                      <a:pt x="113" y="77"/>
                    </a:lnTo>
                    <a:lnTo>
                      <a:pt x="99" y="82"/>
                    </a:lnTo>
                    <a:lnTo>
                      <a:pt x="85" y="92"/>
                    </a:lnTo>
                    <a:lnTo>
                      <a:pt x="71" y="104"/>
                    </a:lnTo>
                    <a:lnTo>
                      <a:pt x="61" y="119"/>
                    </a:lnTo>
                    <a:lnTo>
                      <a:pt x="55" y="136"/>
                    </a:lnTo>
                    <a:lnTo>
                      <a:pt x="51" y="163"/>
                    </a:lnTo>
                    <a:lnTo>
                      <a:pt x="45" y="206"/>
                    </a:lnTo>
                    <a:lnTo>
                      <a:pt x="37" y="267"/>
                    </a:lnTo>
                    <a:lnTo>
                      <a:pt x="30" y="345"/>
                    </a:lnTo>
                    <a:lnTo>
                      <a:pt x="23" y="442"/>
                    </a:lnTo>
                    <a:lnTo>
                      <a:pt x="17" y="562"/>
                    </a:lnTo>
                    <a:lnTo>
                      <a:pt x="13" y="701"/>
                    </a:lnTo>
                    <a:lnTo>
                      <a:pt x="13" y="864"/>
                    </a:lnTo>
                    <a:lnTo>
                      <a:pt x="4" y="1308"/>
                    </a:lnTo>
                    <a:lnTo>
                      <a:pt x="0" y="1763"/>
                    </a:lnTo>
                    <a:lnTo>
                      <a:pt x="966" y="1814"/>
                    </a:lnTo>
                    <a:lnTo>
                      <a:pt x="1183" y="1784"/>
                    </a:lnTo>
                    <a:lnTo>
                      <a:pt x="1183" y="1773"/>
                    </a:lnTo>
                    <a:lnTo>
                      <a:pt x="1184" y="1742"/>
                    </a:lnTo>
                    <a:lnTo>
                      <a:pt x="1187" y="1699"/>
                    </a:lnTo>
                    <a:lnTo>
                      <a:pt x="1191" y="1647"/>
                    </a:lnTo>
                    <a:lnTo>
                      <a:pt x="1197" y="1594"/>
                    </a:lnTo>
                    <a:lnTo>
                      <a:pt x="1205" y="1544"/>
                    </a:lnTo>
                    <a:lnTo>
                      <a:pt x="1215" y="1505"/>
                    </a:lnTo>
                    <a:lnTo>
                      <a:pt x="1229" y="1479"/>
                    </a:lnTo>
                    <a:lnTo>
                      <a:pt x="1245" y="1466"/>
                    </a:lnTo>
                    <a:lnTo>
                      <a:pt x="1261" y="1458"/>
                    </a:lnTo>
                    <a:lnTo>
                      <a:pt x="1278" y="1454"/>
                    </a:lnTo>
                    <a:lnTo>
                      <a:pt x="1293" y="1455"/>
                    </a:lnTo>
                    <a:lnTo>
                      <a:pt x="1307" y="1462"/>
                    </a:lnTo>
                    <a:lnTo>
                      <a:pt x="1319" y="1474"/>
                    </a:lnTo>
                    <a:lnTo>
                      <a:pt x="1326" y="1489"/>
                    </a:lnTo>
                    <a:lnTo>
                      <a:pt x="1330" y="1509"/>
                    </a:lnTo>
                    <a:lnTo>
                      <a:pt x="1337" y="1567"/>
                    </a:lnTo>
                    <a:lnTo>
                      <a:pt x="1344" y="1642"/>
                    </a:lnTo>
                    <a:lnTo>
                      <a:pt x="1346" y="1719"/>
                    </a:lnTo>
                    <a:lnTo>
                      <a:pt x="1330" y="1784"/>
                    </a:lnTo>
                    <a:lnTo>
                      <a:pt x="1809" y="1712"/>
                    </a:lnTo>
                    <a:lnTo>
                      <a:pt x="1811" y="1702"/>
                    </a:lnTo>
                    <a:lnTo>
                      <a:pt x="1814" y="1674"/>
                    </a:lnTo>
                    <a:lnTo>
                      <a:pt x="1818" y="1632"/>
                    </a:lnTo>
                    <a:lnTo>
                      <a:pt x="1825" y="1587"/>
                    </a:lnTo>
                    <a:lnTo>
                      <a:pt x="1834" y="1540"/>
                    </a:lnTo>
                    <a:lnTo>
                      <a:pt x="1845" y="1498"/>
                    </a:lnTo>
                    <a:lnTo>
                      <a:pt x="1859" y="1466"/>
                    </a:lnTo>
                    <a:lnTo>
                      <a:pt x="1875" y="1452"/>
                    </a:lnTo>
                    <a:lnTo>
                      <a:pt x="1877" y="1454"/>
                    </a:lnTo>
                    <a:lnTo>
                      <a:pt x="1885" y="1459"/>
                    </a:lnTo>
                    <a:lnTo>
                      <a:pt x="1895" y="1471"/>
                    </a:lnTo>
                    <a:lnTo>
                      <a:pt x="1904" y="1491"/>
                    </a:lnTo>
                    <a:lnTo>
                      <a:pt x="1916" y="1519"/>
                    </a:lnTo>
                    <a:lnTo>
                      <a:pt x="1924" y="1559"/>
                    </a:lnTo>
                    <a:lnTo>
                      <a:pt x="1929" y="1611"/>
                    </a:lnTo>
                    <a:lnTo>
                      <a:pt x="1929" y="1678"/>
                    </a:lnTo>
                    <a:lnTo>
                      <a:pt x="2120" y="1615"/>
                    </a:lnTo>
                    <a:lnTo>
                      <a:pt x="2111" y="800"/>
                    </a:lnTo>
                    <a:lnTo>
                      <a:pt x="2110" y="789"/>
                    </a:lnTo>
                    <a:lnTo>
                      <a:pt x="2106" y="760"/>
                    </a:lnTo>
                    <a:lnTo>
                      <a:pt x="2100" y="719"/>
                    </a:lnTo>
                    <a:lnTo>
                      <a:pt x="2090" y="671"/>
                    </a:lnTo>
                    <a:lnTo>
                      <a:pt x="2085" y="645"/>
                    </a:lnTo>
                    <a:lnTo>
                      <a:pt x="2077" y="618"/>
                    </a:lnTo>
                    <a:lnTo>
                      <a:pt x="2070" y="594"/>
                    </a:lnTo>
                    <a:lnTo>
                      <a:pt x="2062" y="572"/>
                    </a:lnTo>
                    <a:lnTo>
                      <a:pt x="2052" y="552"/>
                    </a:lnTo>
                    <a:lnTo>
                      <a:pt x="2042" y="535"/>
                    </a:lnTo>
                    <a:lnTo>
                      <a:pt x="2031" y="522"/>
                    </a:lnTo>
                    <a:lnTo>
                      <a:pt x="2018" y="513"/>
                    </a:lnTo>
                    <a:lnTo>
                      <a:pt x="2008" y="509"/>
                    </a:lnTo>
                    <a:lnTo>
                      <a:pt x="1994" y="503"/>
                    </a:lnTo>
                    <a:lnTo>
                      <a:pt x="1972" y="494"/>
                    </a:lnTo>
                    <a:lnTo>
                      <a:pt x="1948" y="484"/>
                    </a:lnTo>
                    <a:lnTo>
                      <a:pt x="1919" y="471"/>
                    </a:lnTo>
                    <a:lnTo>
                      <a:pt x="1885" y="457"/>
                    </a:lnTo>
                    <a:lnTo>
                      <a:pt x="1846" y="440"/>
                    </a:lnTo>
                    <a:lnTo>
                      <a:pt x="1807" y="423"/>
                    </a:lnTo>
                    <a:lnTo>
                      <a:pt x="1763" y="404"/>
                    </a:lnTo>
                    <a:lnTo>
                      <a:pt x="1716" y="384"/>
                    </a:lnTo>
                    <a:lnTo>
                      <a:pt x="1668" y="363"/>
                    </a:lnTo>
                    <a:lnTo>
                      <a:pt x="1618" y="342"/>
                    </a:lnTo>
                    <a:lnTo>
                      <a:pt x="1566" y="321"/>
                    </a:lnTo>
                    <a:lnTo>
                      <a:pt x="1513" y="298"/>
                    </a:lnTo>
                    <a:lnTo>
                      <a:pt x="1461" y="275"/>
                    </a:lnTo>
                    <a:lnTo>
                      <a:pt x="1407" y="252"/>
                    </a:lnTo>
                    <a:lnTo>
                      <a:pt x="1354" y="230"/>
                    </a:lnTo>
                    <a:lnTo>
                      <a:pt x="1300" y="207"/>
                    </a:lnTo>
                    <a:lnTo>
                      <a:pt x="1249" y="184"/>
                    </a:lnTo>
                    <a:lnTo>
                      <a:pt x="1200" y="163"/>
                    </a:lnTo>
                    <a:lnTo>
                      <a:pt x="1151" y="143"/>
                    </a:lnTo>
                    <a:lnTo>
                      <a:pt x="1105" y="123"/>
                    </a:lnTo>
                    <a:lnTo>
                      <a:pt x="1061" y="104"/>
                    </a:lnTo>
                    <a:lnTo>
                      <a:pt x="1020" y="87"/>
                    </a:lnTo>
                    <a:lnTo>
                      <a:pt x="983" y="71"/>
                    </a:lnTo>
                    <a:lnTo>
                      <a:pt x="949" y="57"/>
                    </a:lnTo>
                    <a:lnTo>
                      <a:pt x="919" y="44"/>
                    </a:lnTo>
                    <a:lnTo>
                      <a:pt x="895" y="33"/>
                    </a:lnTo>
                    <a:lnTo>
                      <a:pt x="874" y="24"/>
                    </a:lnTo>
                    <a:lnTo>
                      <a:pt x="859" y="18"/>
                    </a:lnTo>
                    <a:lnTo>
                      <a:pt x="849" y="14"/>
                    </a:lnTo>
                    <a:lnTo>
                      <a:pt x="847" y="13"/>
                    </a:lnTo>
                    <a:lnTo>
                      <a:pt x="844" y="13"/>
                    </a:lnTo>
                    <a:lnTo>
                      <a:pt x="835" y="11"/>
                    </a:lnTo>
                    <a:lnTo>
                      <a:pt x="822" y="11"/>
                    </a:lnTo>
                    <a:lnTo>
                      <a:pt x="805" y="10"/>
                    </a:lnTo>
                    <a:lnTo>
                      <a:pt x="784" y="9"/>
                    </a:lnTo>
                    <a:lnTo>
                      <a:pt x="760" y="7"/>
                    </a:lnTo>
                    <a:lnTo>
                      <a:pt x="733" y="6"/>
                    </a:lnTo>
                    <a:lnTo>
                      <a:pt x="705" y="4"/>
                    </a:lnTo>
                    <a:lnTo>
                      <a:pt x="675" y="3"/>
                    </a:lnTo>
                    <a:lnTo>
                      <a:pt x="644" y="1"/>
                    </a:lnTo>
                    <a:lnTo>
                      <a:pt x="613" y="0"/>
                    </a:lnTo>
                    <a:lnTo>
                      <a:pt x="581" y="0"/>
                    </a:lnTo>
                    <a:lnTo>
                      <a:pt x="552" y="0"/>
                    </a:lnTo>
                    <a:lnTo>
                      <a:pt x="522" y="1"/>
                    </a:lnTo>
                    <a:lnTo>
                      <a:pt x="495" y="3"/>
                    </a:lnTo>
                    <a:lnTo>
                      <a:pt x="471" y="4"/>
                    </a:lnTo>
                    <a:lnTo>
                      <a:pt x="447" y="7"/>
                    </a:lnTo>
                    <a:lnTo>
                      <a:pt x="421" y="11"/>
                    </a:lnTo>
                    <a:lnTo>
                      <a:pt x="394" y="14"/>
                    </a:lnTo>
                    <a:lnTo>
                      <a:pt x="366" y="20"/>
                    </a:lnTo>
                    <a:lnTo>
                      <a:pt x="339" y="24"/>
                    </a:lnTo>
                    <a:lnTo>
                      <a:pt x="311" y="30"/>
                    </a:lnTo>
                    <a:lnTo>
                      <a:pt x="284" y="35"/>
                    </a:lnTo>
                    <a:lnTo>
                      <a:pt x="257" y="41"/>
                    </a:lnTo>
                    <a:lnTo>
                      <a:pt x="233" y="47"/>
                    </a:lnTo>
                    <a:lnTo>
                      <a:pt x="210" y="51"/>
                    </a:lnTo>
                    <a:lnTo>
                      <a:pt x="189" y="55"/>
                    </a:lnTo>
                    <a:lnTo>
                      <a:pt x="172" y="60"/>
                    </a:lnTo>
                    <a:lnTo>
                      <a:pt x="156" y="64"/>
                    </a:lnTo>
                    <a:lnTo>
                      <a:pt x="146" y="65"/>
                    </a:lnTo>
                    <a:lnTo>
                      <a:pt x="139" y="68"/>
                    </a:lnTo>
                    <a:lnTo>
                      <a:pt x="136" y="68"/>
                    </a:lnTo>
                    <a:close/>
                  </a:path>
                </a:pathLst>
              </a:custGeom>
              <a:solidFill>
                <a:srgbClr val="dd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-4233960" y="4680"/>
                <a:ext cx="413640" cy="37800"/>
              </a:xfrm>
              <a:custGeom>
                <a:avLst/>
                <a:gdLst/>
                <a:ahLst/>
                <a:rect l="l" t="t" r="r" b="b"/>
                <a:pathLst>
                  <a:path w="598" h="114">
                    <a:moveTo>
                      <a:pt x="382" y="6"/>
                    </a:moveTo>
                    <a:lnTo>
                      <a:pt x="373" y="6"/>
                    </a:lnTo>
                    <a:lnTo>
                      <a:pt x="361" y="7"/>
                    </a:lnTo>
                    <a:lnTo>
                      <a:pt x="351" y="9"/>
                    </a:lnTo>
                    <a:lnTo>
                      <a:pt x="340" y="9"/>
                    </a:lnTo>
                    <a:lnTo>
                      <a:pt x="330" y="10"/>
                    </a:lnTo>
                    <a:lnTo>
                      <a:pt x="319" y="12"/>
                    </a:lnTo>
                    <a:lnTo>
                      <a:pt x="307" y="13"/>
                    </a:lnTo>
                    <a:lnTo>
                      <a:pt x="296" y="14"/>
                    </a:lnTo>
                    <a:lnTo>
                      <a:pt x="279" y="17"/>
                    </a:lnTo>
                    <a:lnTo>
                      <a:pt x="262" y="20"/>
                    </a:lnTo>
                    <a:lnTo>
                      <a:pt x="245" y="23"/>
                    </a:lnTo>
                    <a:lnTo>
                      <a:pt x="228" y="26"/>
                    </a:lnTo>
                    <a:lnTo>
                      <a:pt x="211" y="29"/>
                    </a:lnTo>
                    <a:lnTo>
                      <a:pt x="192" y="33"/>
                    </a:lnTo>
                    <a:lnTo>
                      <a:pt x="174" y="36"/>
                    </a:lnTo>
                    <a:lnTo>
                      <a:pt x="157" y="40"/>
                    </a:lnTo>
                    <a:lnTo>
                      <a:pt x="139" y="44"/>
                    </a:lnTo>
                    <a:lnTo>
                      <a:pt x="120" y="48"/>
                    </a:lnTo>
                    <a:lnTo>
                      <a:pt x="102" y="54"/>
                    </a:lnTo>
                    <a:lnTo>
                      <a:pt x="83" y="60"/>
                    </a:lnTo>
                    <a:lnTo>
                      <a:pt x="63" y="65"/>
                    </a:lnTo>
                    <a:lnTo>
                      <a:pt x="45" y="71"/>
                    </a:lnTo>
                    <a:lnTo>
                      <a:pt x="27" y="77"/>
                    </a:lnTo>
                    <a:lnTo>
                      <a:pt x="8" y="84"/>
                    </a:lnTo>
                    <a:lnTo>
                      <a:pt x="0" y="114"/>
                    </a:lnTo>
                    <a:lnTo>
                      <a:pt x="1" y="114"/>
                    </a:lnTo>
                    <a:lnTo>
                      <a:pt x="5" y="112"/>
                    </a:lnTo>
                    <a:lnTo>
                      <a:pt x="12" y="109"/>
                    </a:lnTo>
                    <a:lnTo>
                      <a:pt x="22" y="107"/>
                    </a:lnTo>
                    <a:lnTo>
                      <a:pt x="34" y="104"/>
                    </a:lnTo>
                    <a:lnTo>
                      <a:pt x="48" y="99"/>
                    </a:lnTo>
                    <a:lnTo>
                      <a:pt x="65" y="95"/>
                    </a:lnTo>
                    <a:lnTo>
                      <a:pt x="83" y="90"/>
                    </a:lnTo>
                    <a:lnTo>
                      <a:pt x="103" y="84"/>
                    </a:lnTo>
                    <a:lnTo>
                      <a:pt x="126" y="78"/>
                    </a:lnTo>
                    <a:lnTo>
                      <a:pt x="150" y="73"/>
                    </a:lnTo>
                    <a:lnTo>
                      <a:pt x="175" y="67"/>
                    </a:lnTo>
                    <a:lnTo>
                      <a:pt x="202" y="61"/>
                    </a:lnTo>
                    <a:lnTo>
                      <a:pt x="231" y="54"/>
                    </a:lnTo>
                    <a:lnTo>
                      <a:pt x="261" y="48"/>
                    </a:lnTo>
                    <a:lnTo>
                      <a:pt x="292" y="43"/>
                    </a:lnTo>
                    <a:lnTo>
                      <a:pt x="309" y="40"/>
                    </a:lnTo>
                    <a:lnTo>
                      <a:pt x="327" y="36"/>
                    </a:lnTo>
                    <a:lnTo>
                      <a:pt x="346" y="33"/>
                    </a:lnTo>
                    <a:lnTo>
                      <a:pt x="364" y="30"/>
                    </a:lnTo>
                    <a:lnTo>
                      <a:pt x="382" y="27"/>
                    </a:lnTo>
                    <a:lnTo>
                      <a:pt x="402" y="23"/>
                    </a:lnTo>
                    <a:lnTo>
                      <a:pt x="421" y="21"/>
                    </a:lnTo>
                    <a:lnTo>
                      <a:pt x="441" y="19"/>
                    </a:lnTo>
                    <a:lnTo>
                      <a:pt x="459" y="16"/>
                    </a:lnTo>
                    <a:lnTo>
                      <a:pt x="479" y="13"/>
                    </a:lnTo>
                    <a:lnTo>
                      <a:pt x="499" y="12"/>
                    </a:lnTo>
                    <a:lnTo>
                      <a:pt x="519" y="9"/>
                    </a:lnTo>
                    <a:lnTo>
                      <a:pt x="538" y="7"/>
                    </a:lnTo>
                    <a:lnTo>
                      <a:pt x="558" y="6"/>
                    </a:lnTo>
                    <a:lnTo>
                      <a:pt x="578" y="4"/>
                    </a:lnTo>
                    <a:lnTo>
                      <a:pt x="598" y="3"/>
                    </a:lnTo>
                    <a:lnTo>
                      <a:pt x="594" y="3"/>
                    </a:lnTo>
                    <a:lnTo>
                      <a:pt x="582" y="2"/>
                    </a:lnTo>
                    <a:lnTo>
                      <a:pt x="563" y="2"/>
                    </a:lnTo>
                    <a:lnTo>
                      <a:pt x="537" y="0"/>
                    </a:lnTo>
                    <a:lnTo>
                      <a:pt x="506" y="0"/>
                    </a:lnTo>
                    <a:lnTo>
                      <a:pt x="469" y="2"/>
                    </a:lnTo>
                    <a:lnTo>
                      <a:pt x="428" y="3"/>
                    </a:lnTo>
                    <a:lnTo>
                      <a:pt x="382" y="6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-4270680" y="453240"/>
                <a:ext cx="509040" cy="54720"/>
              </a:xfrm>
              <a:custGeom>
                <a:avLst/>
                <a:gdLst/>
                <a:ahLst/>
                <a:rect l="l" t="t" r="r" b="b"/>
                <a:pathLst>
                  <a:path w="741" h="161">
                    <a:moveTo>
                      <a:pt x="708" y="4"/>
                    </a:moveTo>
                    <a:lnTo>
                      <a:pt x="0" y="157"/>
                    </a:lnTo>
                    <a:lnTo>
                      <a:pt x="213" y="161"/>
                    </a:lnTo>
                    <a:lnTo>
                      <a:pt x="741" y="0"/>
                    </a:lnTo>
                    <a:lnTo>
                      <a:pt x="708" y="4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-4307040" y="170640"/>
                <a:ext cx="600480" cy="193680"/>
              </a:xfrm>
              <a:custGeom>
                <a:avLst/>
                <a:gdLst/>
                <a:ahLst/>
                <a:rect l="l" t="t" r="r" b="b"/>
                <a:pathLst>
                  <a:path w="872" h="571">
                    <a:moveTo>
                      <a:pt x="872" y="0"/>
                    </a:moveTo>
                    <a:lnTo>
                      <a:pt x="9" y="427"/>
                    </a:lnTo>
                    <a:lnTo>
                      <a:pt x="0" y="571"/>
                    </a:lnTo>
                    <a:lnTo>
                      <a:pt x="872" y="17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4297320" y="141480"/>
                <a:ext cx="587880" cy="126000"/>
              </a:xfrm>
              <a:custGeom>
                <a:avLst/>
                <a:gdLst/>
                <a:ahLst/>
                <a:rect l="l" t="t" r="r" b="b"/>
                <a:pathLst>
                  <a:path w="855" h="371">
                    <a:moveTo>
                      <a:pt x="377" y="21"/>
                    </a:moveTo>
                    <a:lnTo>
                      <a:pt x="376" y="24"/>
                    </a:lnTo>
                    <a:lnTo>
                      <a:pt x="373" y="30"/>
                    </a:lnTo>
                    <a:lnTo>
                      <a:pt x="366" y="38"/>
                    </a:lnTo>
                    <a:lnTo>
                      <a:pt x="357" y="47"/>
                    </a:lnTo>
                    <a:lnTo>
                      <a:pt x="345" y="57"/>
                    </a:lnTo>
                    <a:lnTo>
                      <a:pt x="330" y="66"/>
                    </a:lnTo>
                    <a:lnTo>
                      <a:pt x="313" y="72"/>
                    </a:lnTo>
                    <a:lnTo>
                      <a:pt x="292" y="76"/>
                    </a:lnTo>
                    <a:lnTo>
                      <a:pt x="279" y="78"/>
                    </a:lnTo>
                    <a:lnTo>
                      <a:pt x="262" y="82"/>
                    </a:lnTo>
                    <a:lnTo>
                      <a:pt x="244" y="88"/>
                    </a:lnTo>
                    <a:lnTo>
                      <a:pt x="223" y="95"/>
                    </a:lnTo>
                    <a:lnTo>
                      <a:pt x="199" y="103"/>
                    </a:lnTo>
                    <a:lnTo>
                      <a:pt x="174" y="112"/>
                    </a:lnTo>
                    <a:lnTo>
                      <a:pt x="149" y="122"/>
                    </a:lnTo>
                    <a:lnTo>
                      <a:pt x="125" y="132"/>
                    </a:lnTo>
                    <a:lnTo>
                      <a:pt x="101" y="140"/>
                    </a:lnTo>
                    <a:lnTo>
                      <a:pt x="77" y="150"/>
                    </a:lnTo>
                    <a:lnTo>
                      <a:pt x="57" y="159"/>
                    </a:lnTo>
                    <a:lnTo>
                      <a:pt x="37" y="167"/>
                    </a:lnTo>
                    <a:lnTo>
                      <a:pt x="21" y="173"/>
                    </a:lnTo>
                    <a:lnTo>
                      <a:pt x="10" y="178"/>
                    </a:lnTo>
                    <a:lnTo>
                      <a:pt x="3" y="181"/>
                    </a:lnTo>
                    <a:lnTo>
                      <a:pt x="0" y="183"/>
                    </a:lnTo>
                    <a:lnTo>
                      <a:pt x="0" y="371"/>
                    </a:lnTo>
                    <a:lnTo>
                      <a:pt x="855" y="25"/>
                    </a:lnTo>
                    <a:lnTo>
                      <a:pt x="800" y="0"/>
                    </a:lnTo>
                    <a:lnTo>
                      <a:pt x="798" y="3"/>
                    </a:lnTo>
                    <a:lnTo>
                      <a:pt x="796" y="8"/>
                    </a:lnTo>
                    <a:lnTo>
                      <a:pt x="790" y="15"/>
                    </a:lnTo>
                    <a:lnTo>
                      <a:pt x="781" y="25"/>
                    </a:lnTo>
                    <a:lnTo>
                      <a:pt x="771" y="35"/>
                    </a:lnTo>
                    <a:lnTo>
                      <a:pt x="757" y="42"/>
                    </a:lnTo>
                    <a:lnTo>
                      <a:pt x="740" y="48"/>
                    </a:lnTo>
                    <a:lnTo>
                      <a:pt x="720" y="51"/>
                    </a:lnTo>
                    <a:lnTo>
                      <a:pt x="708" y="51"/>
                    </a:lnTo>
                    <a:lnTo>
                      <a:pt x="692" y="51"/>
                    </a:lnTo>
                    <a:lnTo>
                      <a:pt x="674" y="51"/>
                    </a:lnTo>
                    <a:lnTo>
                      <a:pt x="652" y="51"/>
                    </a:lnTo>
                    <a:lnTo>
                      <a:pt x="630" y="51"/>
                    </a:lnTo>
                    <a:lnTo>
                      <a:pt x="607" y="51"/>
                    </a:lnTo>
                    <a:lnTo>
                      <a:pt x="583" y="51"/>
                    </a:lnTo>
                    <a:lnTo>
                      <a:pt x="559" y="51"/>
                    </a:lnTo>
                    <a:lnTo>
                      <a:pt x="536" y="51"/>
                    </a:lnTo>
                    <a:lnTo>
                      <a:pt x="515" y="51"/>
                    </a:lnTo>
                    <a:lnTo>
                      <a:pt x="493" y="51"/>
                    </a:lnTo>
                    <a:lnTo>
                      <a:pt x="476" y="51"/>
                    </a:lnTo>
                    <a:lnTo>
                      <a:pt x="462" y="51"/>
                    </a:lnTo>
                    <a:lnTo>
                      <a:pt x="451" y="51"/>
                    </a:lnTo>
                    <a:lnTo>
                      <a:pt x="444" y="51"/>
                    </a:lnTo>
                    <a:lnTo>
                      <a:pt x="441" y="51"/>
                    </a:lnTo>
                    <a:lnTo>
                      <a:pt x="377" y="21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-3709080" y="28440"/>
                <a:ext cx="804240" cy="581400"/>
              </a:xfrm>
              <a:custGeom>
                <a:avLst/>
                <a:gdLst/>
                <a:ahLst/>
                <a:rect l="l" t="t" r="r" b="b"/>
                <a:pathLst>
                  <a:path w="1167" h="1716">
                    <a:moveTo>
                      <a:pt x="0" y="0"/>
                    </a:moveTo>
                    <a:lnTo>
                      <a:pt x="13" y="715"/>
                    </a:lnTo>
                    <a:lnTo>
                      <a:pt x="14" y="716"/>
                    </a:lnTo>
                    <a:lnTo>
                      <a:pt x="19" y="721"/>
                    </a:lnTo>
                    <a:lnTo>
                      <a:pt x="26" y="728"/>
                    </a:lnTo>
                    <a:lnTo>
                      <a:pt x="33" y="738"/>
                    </a:lnTo>
                    <a:lnTo>
                      <a:pt x="40" y="747"/>
                    </a:lnTo>
                    <a:lnTo>
                      <a:pt x="47" y="757"/>
                    </a:lnTo>
                    <a:lnTo>
                      <a:pt x="53" y="769"/>
                    </a:lnTo>
                    <a:lnTo>
                      <a:pt x="55" y="779"/>
                    </a:lnTo>
                    <a:lnTo>
                      <a:pt x="55" y="1669"/>
                    </a:lnTo>
                    <a:lnTo>
                      <a:pt x="264" y="1716"/>
                    </a:lnTo>
                    <a:lnTo>
                      <a:pt x="315" y="1648"/>
                    </a:lnTo>
                    <a:lnTo>
                      <a:pt x="315" y="1637"/>
                    </a:lnTo>
                    <a:lnTo>
                      <a:pt x="318" y="1606"/>
                    </a:lnTo>
                    <a:lnTo>
                      <a:pt x="322" y="1562"/>
                    </a:lnTo>
                    <a:lnTo>
                      <a:pt x="329" y="1512"/>
                    </a:lnTo>
                    <a:lnTo>
                      <a:pt x="339" y="1462"/>
                    </a:lnTo>
                    <a:lnTo>
                      <a:pt x="353" y="1420"/>
                    </a:lnTo>
                    <a:lnTo>
                      <a:pt x="373" y="1390"/>
                    </a:lnTo>
                    <a:lnTo>
                      <a:pt x="399" y="1381"/>
                    </a:lnTo>
                    <a:lnTo>
                      <a:pt x="424" y="1391"/>
                    </a:lnTo>
                    <a:lnTo>
                      <a:pt x="443" y="1411"/>
                    </a:lnTo>
                    <a:lnTo>
                      <a:pt x="457" y="1440"/>
                    </a:lnTo>
                    <a:lnTo>
                      <a:pt x="465" y="1469"/>
                    </a:lnTo>
                    <a:lnTo>
                      <a:pt x="471" y="1501"/>
                    </a:lnTo>
                    <a:lnTo>
                      <a:pt x="474" y="1526"/>
                    </a:lnTo>
                    <a:lnTo>
                      <a:pt x="475" y="1545"/>
                    </a:lnTo>
                    <a:lnTo>
                      <a:pt x="475" y="1552"/>
                    </a:lnTo>
                    <a:lnTo>
                      <a:pt x="467" y="1703"/>
                    </a:lnTo>
                    <a:lnTo>
                      <a:pt x="637" y="1686"/>
                    </a:lnTo>
                    <a:lnTo>
                      <a:pt x="878" y="1648"/>
                    </a:lnTo>
                    <a:lnTo>
                      <a:pt x="946" y="1547"/>
                    </a:lnTo>
                    <a:lnTo>
                      <a:pt x="947" y="1540"/>
                    </a:lnTo>
                    <a:lnTo>
                      <a:pt x="950" y="1520"/>
                    </a:lnTo>
                    <a:lnTo>
                      <a:pt x="956" y="1492"/>
                    </a:lnTo>
                    <a:lnTo>
                      <a:pt x="963" y="1459"/>
                    </a:lnTo>
                    <a:lnTo>
                      <a:pt x="971" y="1428"/>
                    </a:lnTo>
                    <a:lnTo>
                      <a:pt x="981" y="1400"/>
                    </a:lnTo>
                    <a:lnTo>
                      <a:pt x="993" y="1380"/>
                    </a:lnTo>
                    <a:lnTo>
                      <a:pt x="1005" y="1373"/>
                    </a:lnTo>
                    <a:lnTo>
                      <a:pt x="1018" y="1380"/>
                    </a:lnTo>
                    <a:lnTo>
                      <a:pt x="1028" y="1396"/>
                    </a:lnTo>
                    <a:lnTo>
                      <a:pt x="1038" y="1420"/>
                    </a:lnTo>
                    <a:lnTo>
                      <a:pt x="1047" y="1447"/>
                    </a:lnTo>
                    <a:lnTo>
                      <a:pt x="1052" y="1475"/>
                    </a:lnTo>
                    <a:lnTo>
                      <a:pt x="1057" y="1499"/>
                    </a:lnTo>
                    <a:lnTo>
                      <a:pt x="1059" y="1515"/>
                    </a:lnTo>
                    <a:lnTo>
                      <a:pt x="1061" y="1522"/>
                    </a:lnTo>
                    <a:lnTo>
                      <a:pt x="1167" y="15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-3663360" y="555840"/>
                <a:ext cx="177120" cy="64080"/>
              </a:xfrm>
              <a:custGeom>
                <a:avLst/>
                <a:gdLst/>
                <a:ahLst/>
                <a:rect l="l" t="t" r="r" b="b"/>
                <a:pathLst>
                  <a:path w="258" h="190">
                    <a:moveTo>
                      <a:pt x="135" y="0"/>
                    </a:moveTo>
                    <a:lnTo>
                      <a:pt x="135" y="109"/>
                    </a:lnTo>
                    <a:lnTo>
                      <a:pt x="5" y="126"/>
                    </a:lnTo>
                    <a:lnTo>
                      <a:pt x="3" y="142"/>
                    </a:lnTo>
                    <a:lnTo>
                      <a:pt x="3" y="157"/>
                    </a:lnTo>
                    <a:lnTo>
                      <a:pt x="2" y="173"/>
                    </a:lnTo>
                    <a:lnTo>
                      <a:pt x="0" y="189"/>
                    </a:lnTo>
                    <a:lnTo>
                      <a:pt x="29" y="190"/>
                    </a:lnTo>
                    <a:lnTo>
                      <a:pt x="246" y="173"/>
                    </a:lnTo>
                    <a:lnTo>
                      <a:pt x="247" y="126"/>
                    </a:lnTo>
                    <a:lnTo>
                      <a:pt x="250" y="81"/>
                    </a:lnTo>
                    <a:lnTo>
                      <a:pt x="254" y="38"/>
                    </a:lnTo>
                    <a:lnTo>
                      <a:pt x="258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-4309920" y="546840"/>
                <a:ext cx="650520" cy="72360"/>
              </a:xfrm>
              <a:custGeom>
                <a:avLst/>
                <a:gdLst/>
                <a:ahLst/>
                <a:rect l="l" t="t" r="r" b="b"/>
                <a:pathLst>
                  <a:path w="944" h="215">
                    <a:moveTo>
                      <a:pt x="937" y="152"/>
                    </a:moveTo>
                    <a:lnTo>
                      <a:pt x="940" y="93"/>
                    </a:lnTo>
                    <a:lnTo>
                      <a:pt x="940" y="91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88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91"/>
                    </a:lnTo>
                    <a:lnTo>
                      <a:pt x="940" y="93"/>
                    </a:lnTo>
                    <a:lnTo>
                      <a:pt x="944" y="17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37" y="215"/>
                    </a:lnTo>
                    <a:lnTo>
                      <a:pt x="939" y="199"/>
                    </a:lnTo>
                    <a:lnTo>
                      <a:pt x="940" y="183"/>
                    </a:lnTo>
                    <a:lnTo>
                      <a:pt x="940" y="168"/>
                    </a:lnTo>
                    <a:lnTo>
                      <a:pt x="942" y="152"/>
                    </a:lnTo>
                    <a:lnTo>
                      <a:pt x="937" y="152"/>
                    </a:lnTo>
                    <a:close/>
                  </a:path>
                </a:pathLst>
              </a:custGeom>
              <a:solidFill>
                <a:srgbClr val="14a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-3756240" y="556920"/>
                <a:ext cx="59400" cy="576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5" y="0"/>
                    </a:moveTo>
                    <a:lnTo>
                      <a:pt x="79" y="165"/>
                    </a:lnTo>
                    <a:lnTo>
                      <a:pt x="1" y="170"/>
                    </a:lnTo>
                    <a:lnTo>
                      <a:pt x="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-3649680" y="41400"/>
                <a:ext cx="797040" cy="500040"/>
              </a:xfrm>
              <a:custGeom>
                <a:avLst/>
                <a:gdLst/>
                <a:ahLst/>
                <a:rect l="l" t="t" r="r" b="b"/>
                <a:pathLst>
                  <a:path w="1159" h="1475">
                    <a:moveTo>
                      <a:pt x="0" y="0"/>
                    </a:moveTo>
                    <a:lnTo>
                      <a:pt x="1159" y="1475"/>
                    </a:lnTo>
                    <a:lnTo>
                      <a:pt x="1159" y="1199"/>
                    </a:lnTo>
                    <a:lnTo>
                      <a:pt x="115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-4286520" y="509760"/>
                <a:ext cx="585360" cy="38520"/>
              </a:xfrm>
              <a:custGeom>
                <a:avLst/>
                <a:gdLst/>
                <a:ahLst/>
                <a:rect l="l" t="t" r="r" b="b"/>
                <a:pathLst>
                  <a:path w="849" h="115">
                    <a:moveTo>
                      <a:pt x="0" y="0"/>
                    </a:moveTo>
                    <a:lnTo>
                      <a:pt x="0" y="93"/>
                    </a:lnTo>
                    <a:lnTo>
                      <a:pt x="847" y="115"/>
                    </a:lnTo>
                    <a:lnTo>
                      <a:pt x="84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-2985840" y="528480"/>
                <a:ext cx="133200" cy="4248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95" y="0"/>
                    </a:moveTo>
                    <a:lnTo>
                      <a:pt x="0" y="21"/>
                    </a:lnTo>
                    <a:lnTo>
                      <a:pt x="3" y="50"/>
                    </a:lnTo>
                    <a:lnTo>
                      <a:pt x="5" y="78"/>
                    </a:lnTo>
                    <a:lnTo>
                      <a:pt x="5" y="104"/>
                    </a:lnTo>
                    <a:lnTo>
                      <a:pt x="3" y="126"/>
                    </a:lnTo>
                    <a:lnTo>
                      <a:pt x="186" y="6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37400" y="539280"/>
                <a:ext cx="88200" cy="53280"/>
              </a:xfrm>
              <a:custGeom>
                <a:avLst/>
                <a:gdLst/>
                <a:ahLst/>
                <a:rect l="l" t="t" r="r" b="b"/>
                <a:pathLst>
                  <a:path w="127" h="157">
                    <a:moveTo>
                      <a:pt x="116" y="140"/>
                    </a:moveTo>
                    <a:lnTo>
                      <a:pt x="120" y="139"/>
                    </a:lnTo>
                    <a:lnTo>
                      <a:pt x="120" y="106"/>
                    </a:lnTo>
                    <a:lnTo>
                      <a:pt x="122" y="71"/>
                    </a:lnTo>
                    <a:lnTo>
                      <a:pt x="124" y="35"/>
                    </a:lnTo>
                    <a:lnTo>
                      <a:pt x="127" y="0"/>
                    </a:lnTo>
                    <a:lnTo>
                      <a:pt x="1" y="14"/>
                    </a:lnTo>
                    <a:lnTo>
                      <a:pt x="0" y="157"/>
                    </a:lnTo>
                    <a:lnTo>
                      <a:pt x="116" y="14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-3394800" y="550800"/>
                <a:ext cx="138600" cy="58680"/>
              </a:xfrm>
              <a:custGeom>
                <a:avLst/>
                <a:gdLst/>
                <a:ahLst/>
                <a:rect l="l" t="t" r="r" b="b"/>
                <a:pathLst>
                  <a:path w="203" h="174">
                    <a:moveTo>
                      <a:pt x="0" y="174"/>
                    </a:moveTo>
                    <a:lnTo>
                      <a:pt x="3" y="174"/>
                    </a:lnTo>
                    <a:lnTo>
                      <a:pt x="203" y="147"/>
                    </a:lnTo>
                    <a:lnTo>
                      <a:pt x="195" y="0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4" y="52"/>
                    </a:lnTo>
                    <a:lnTo>
                      <a:pt x="13" y="89"/>
                    </a:lnTo>
                    <a:lnTo>
                      <a:pt x="9" y="13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-3530160" y="81360"/>
                <a:ext cx="124920" cy="126360"/>
              </a:xfrm>
              <a:custGeom>
                <a:avLst/>
                <a:gdLst/>
                <a:ahLst/>
                <a:rect l="l" t="t" r="r" b="b"/>
                <a:pathLst>
                  <a:path w="181" h="375">
                    <a:moveTo>
                      <a:pt x="0" y="0"/>
                    </a:moveTo>
                    <a:lnTo>
                      <a:pt x="8" y="319"/>
                    </a:lnTo>
                    <a:lnTo>
                      <a:pt x="181" y="375"/>
                    </a:lnTo>
                    <a:lnTo>
                      <a:pt x="14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-3677400" y="57600"/>
                <a:ext cx="132120" cy="124560"/>
              </a:xfrm>
              <a:custGeom>
                <a:avLst/>
                <a:gdLst/>
                <a:ahLst/>
                <a:rect l="l" t="t" r="r" b="b"/>
                <a:pathLst>
                  <a:path w="191" h="369">
                    <a:moveTo>
                      <a:pt x="0" y="0"/>
                    </a:moveTo>
                    <a:lnTo>
                      <a:pt x="1" y="41"/>
                    </a:lnTo>
                    <a:lnTo>
                      <a:pt x="7" y="136"/>
                    </a:lnTo>
                    <a:lnTo>
                      <a:pt x="14" y="241"/>
                    </a:lnTo>
                    <a:lnTo>
                      <a:pt x="25" y="314"/>
                    </a:lnTo>
                    <a:lnTo>
                      <a:pt x="191" y="369"/>
                    </a:lnTo>
                    <a:lnTo>
                      <a:pt x="149" y="46"/>
                    </a:lnTo>
                    <a:lnTo>
                      <a:pt x="143" y="44"/>
                    </a:lnTo>
                    <a:lnTo>
                      <a:pt x="128" y="38"/>
                    </a:lnTo>
                    <a:lnTo>
                      <a:pt x="106" y="30"/>
                    </a:lnTo>
                    <a:lnTo>
                      <a:pt x="81" y="21"/>
                    </a:lnTo>
                    <a:lnTo>
                      <a:pt x="54" y="13"/>
                    </a:lnTo>
                    <a:lnTo>
                      <a:pt x="30" y="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-3381480" y="115200"/>
                <a:ext cx="110520" cy="113040"/>
              </a:xfrm>
              <a:custGeom>
                <a:avLst/>
                <a:gdLst/>
                <a:ahLst/>
                <a:rect l="l" t="t" r="r" b="b"/>
                <a:pathLst>
                  <a:path w="162" h="335">
                    <a:moveTo>
                      <a:pt x="162" y="335"/>
                    </a:moveTo>
                    <a:lnTo>
                      <a:pt x="136" y="41"/>
                    </a:lnTo>
                    <a:lnTo>
                      <a:pt x="4" y="0"/>
                    </a:lnTo>
                    <a:lnTo>
                      <a:pt x="0" y="280"/>
                    </a:lnTo>
                    <a:lnTo>
                      <a:pt x="162" y="335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-3253680" y="136080"/>
                <a:ext cx="96480" cy="109440"/>
              </a:xfrm>
              <a:custGeom>
                <a:avLst/>
                <a:gdLst/>
                <a:ahLst/>
                <a:rect l="l" t="t" r="r" b="b"/>
                <a:pathLst>
                  <a:path w="141" h="325">
                    <a:moveTo>
                      <a:pt x="9" y="281"/>
                    </a:moveTo>
                    <a:lnTo>
                      <a:pt x="0" y="0"/>
                    </a:lnTo>
                    <a:lnTo>
                      <a:pt x="115" y="51"/>
                    </a:lnTo>
                    <a:lnTo>
                      <a:pt x="141" y="325"/>
                    </a:lnTo>
                    <a:lnTo>
                      <a:pt x="9" y="281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-3138840" y="160560"/>
                <a:ext cx="75600" cy="9684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17" y="257"/>
                    </a:lnTo>
                    <a:lnTo>
                      <a:pt x="109" y="287"/>
                    </a:lnTo>
                    <a:lnTo>
                      <a:pt x="88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-3049200" y="182160"/>
                <a:ext cx="73800" cy="87840"/>
              </a:xfrm>
              <a:custGeom>
                <a:avLst/>
                <a:gdLst/>
                <a:ahLst/>
                <a:rect l="l" t="t" r="r" b="b"/>
                <a:pathLst>
                  <a:path w="106" h="261">
                    <a:moveTo>
                      <a:pt x="0" y="0"/>
                    </a:moveTo>
                    <a:lnTo>
                      <a:pt x="12" y="240"/>
                    </a:lnTo>
                    <a:lnTo>
                      <a:pt x="106" y="261"/>
                    </a:lnTo>
                    <a:lnTo>
                      <a:pt x="72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-2961360" y="19800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107" h="239">
                    <a:moveTo>
                      <a:pt x="0" y="0"/>
                    </a:moveTo>
                    <a:lnTo>
                      <a:pt x="68" y="30"/>
                    </a:lnTo>
                    <a:lnTo>
                      <a:pt x="71" y="38"/>
                    </a:lnTo>
                    <a:lnTo>
                      <a:pt x="77" y="59"/>
                    </a:lnTo>
                    <a:lnTo>
                      <a:pt x="85" y="90"/>
                    </a:lnTo>
                    <a:lnTo>
                      <a:pt x="94" y="126"/>
                    </a:lnTo>
                    <a:lnTo>
                      <a:pt x="101" y="164"/>
                    </a:lnTo>
                    <a:lnTo>
                      <a:pt x="107" y="198"/>
                    </a:lnTo>
                    <a:lnTo>
                      <a:pt x="107" y="224"/>
                    </a:lnTo>
                    <a:lnTo>
                      <a:pt x="102" y="239"/>
                    </a:lnTo>
                    <a:lnTo>
                      <a:pt x="22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-3506760" y="319680"/>
                <a:ext cx="115200" cy="109080"/>
              </a:xfrm>
              <a:custGeom>
                <a:avLst/>
                <a:gdLst/>
                <a:ahLst/>
                <a:rect l="l" t="t" r="r" b="b"/>
                <a:pathLst>
                  <a:path w="168" h="321">
                    <a:moveTo>
                      <a:pt x="4" y="0"/>
                    </a:moveTo>
                    <a:lnTo>
                      <a:pt x="0" y="317"/>
                    </a:lnTo>
                    <a:lnTo>
                      <a:pt x="168" y="321"/>
                    </a:lnTo>
                    <a:lnTo>
                      <a:pt x="168" y="2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-3362400" y="334080"/>
                <a:ext cx="100800" cy="97560"/>
              </a:xfrm>
              <a:custGeom>
                <a:avLst/>
                <a:gdLst/>
                <a:ahLst/>
                <a:rect l="l" t="t" r="r" b="b"/>
                <a:pathLst>
                  <a:path w="145" h="288">
                    <a:moveTo>
                      <a:pt x="8" y="0"/>
                    </a:moveTo>
                    <a:lnTo>
                      <a:pt x="0" y="284"/>
                    </a:lnTo>
                    <a:lnTo>
                      <a:pt x="140" y="288"/>
                    </a:lnTo>
                    <a:lnTo>
                      <a:pt x="145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-3141720" y="353160"/>
                <a:ext cx="57600" cy="88560"/>
              </a:xfrm>
              <a:custGeom>
                <a:avLst/>
                <a:gdLst/>
                <a:ahLst/>
                <a:rect l="l" t="t" r="r" b="b"/>
                <a:pathLst>
                  <a:path w="84" h="263">
                    <a:moveTo>
                      <a:pt x="0" y="0"/>
                    </a:moveTo>
                    <a:lnTo>
                      <a:pt x="0" y="254"/>
                    </a:lnTo>
                    <a:lnTo>
                      <a:pt x="79" y="263"/>
                    </a:lnTo>
                    <a:lnTo>
                      <a:pt x="8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-3055320" y="361440"/>
                <a:ext cx="70200" cy="8172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4" y="0"/>
                    </a:moveTo>
                    <a:lnTo>
                      <a:pt x="0" y="228"/>
                    </a:lnTo>
                    <a:lnTo>
                      <a:pt x="98" y="241"/>
                    </a:lnTo>
                    <a:lnTo>
                      <a:pt x="102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-2955960" y="368640"/>
                <a:ext cx="51120" cy="75600"/>
              </a:xfrm>
              <a:custGeom>
                <a:avLst/>
                <a:gdLst/>
                <a:ahLst/>
                <a:rect l="l" t="t" r="r" b="b"/>
                <a:pathLst>
                  <a:path w="72" h="224">
                    <a:moveTo>
                      <a:pt x="0" y="0"/>
                    </a:moveTo>
                    <a:lnTo>
                      <a:pt x="0" y="224"/>
                    </a:lnTo>
                    <a:lnTo>
                      <a:pt x="72" y="220"/>
                    </a:lnTo>
                    <a:lnTo>
                      <a:pt x="7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-4273920" y="297360"/>
                <a:ext cx="587880" cy="154440"/>
              </a:xfrm>
              <a:custGeom>
                <a:avLst/>
                <a:gdLst/>
                <a:ahLst/>
                <a:rect l="l" t="t" r="r" b="b"/>
                <a:pathLst>
                  <a:path w="855" h="456">
                    <a:moveTo>
                      <a:pt x="68" y="27"/>
                    </a:moveTo>
                    <a:lnTo>
                      <a:pt x="65" y="27"/>
                    </a:lnTo>
                    <a:lnTo>
                      <a:pt x="58" y="30"/>
                    </a:lnTo>
                    <a:lnTo>
                      <a:pt x="50" y="33"/>
                    </a:lnTo>
                    <a:lnTo>
                      <a:pt x="38" y="39"/>
                    </a:lnTo>
                    <a:lnTo>
                      <a:pt x="27" y="47"/>
                    </a:lnTo>
                    <a:lnTo>
                      <a:pt x="16" y="58"/>
                    </a:lnTo>
                    <a:lnTo>
                      <a:pt x="9" y="73"/>
                    </a:lnTo>
                    <a:lnTo>
                      <a:pt x="4" y="91"/>
                    </a:lnTo>
                    <a:lnTo>
                      <a:pt x="1" y="170"/>
                    </a:lnTo>
                    <a:lnTo>
                      <a:pt x="0" y="292"/>
                    </a:lnTo>
                    <a:lnTo>
                      <a:pt x="0" y="403"/>
                    </a:lnTo>
                    <a:lnTo>
                      <a:pt x="0" y="451"/>
                    </a:lnTo>
                    <a:lnTo>
                      <a:pt x="783" y="456"/>
                    </a:lnTo>
                    <a:lnTo>
                      <a:pt x="786" y="454"/>
                    </a:lnTo>
                    <a:lnTo>
                      <a:pt x="794" y="451"/>
                    </a:lnTo>
                    <a:lnTo>
                      <a:pt x="807" y="446"/>
                    </a:lnTo>
                    <a:lnTo>
                      <a:pt x="821" y="436"/>
                    </a:lnTo>
                    <a:lnTo>
                      <a:pt x="834" y="423"/>
                    </a:lnTo>
                    <a:lnTo>
                      <a:pt x="845" y="406"/>
                    </a:lnTo>
                    <a:lnTo>
                      <a:pt x="854" y="382"/>
                    </a:lnTo>
                    <a:lnTo>
                      <a:pt x="855" y="353"/>
                    </a:lnTo>
                    <a:lnTo>
                      <a:pt x="852" y="270"/>
                    </a:lnTo>
                    <a:lnTo>
                      <a:pt x="851" y="165"/>
                    </a:lnTo>
                    <a:lnTo>
                      <a:pt x="851" y="77"/>
                    </a:lnTo>
                    <a:lnTo>
                      <a:pt x="851" y="40"/>
                    </a:lnTo>
                    <a:lnTo>
                      <a:pt x="851" y="39"/>
                    </a:lnTo>
                    <a:lnTo>
                      <a:pt x="849" y="36"/>
                    </a:lnTo>
                    <a:lnTo>
                      <a:pt x="845" y="30"/>
                    </a:lnTo>
                    <a:lnTo>
                      <a:pt x="838" y="24"/>
                    </a:lnTo>
                    <a:lnTo>
                      <a:pt x="828" y="19"/>
                    </a:lnTo>
                    <a:lnTo>
                      <a:pt x="813" y="12"/>
                    </a:lnTo>
                    <a:lnTo>
                      <a:pt x="793" y="6"/>
                    </a:lnTo>
                    <a:lnTo>
                      <a:pt x="766" y="2"/>
                    </a:lnTo>
                    <a:lnTo>
                      <a:pt x="745" y="0"/>
                    </a:lnTo>
                    <a:lnTo>
                      <a:pt x="713" y="0"/>
                    </a:lnTo>
                    <a:lnTo>
                      <a:pt x="672" y="0"/>
                    </a:lnTo>
                    <a:lnTo>
                      <a:pt x="624" y="2"/>
                    </a:lnTo>
                    <a:lnTo>
                      <a:pt x="570" y="5"/>
                    </a:lnTo>
                    <a:lnTo>
                      <a:pt x="511" y="6"/>
                    </a:lnTo>
                    <a:lnTo>
                      <a:pt x="450" y="9"/>
                    </a:lnTo>
                    <a:lnTo>
                      <a:pt x="387" y="12"/>
                    </a:lnTo>
                    <a:lnTo>
                      <a:pt x="326" y="14"/>
                    </a:lnTo>
                    <a:lnTo>
                      <a:pt x="268" y="17"/>
                    </a:lnTo>
                    <a:lnTo>
                      <a:pt x="214" y="20"/>
                    </a:lnTo>
                    <a:lnTo>
                      <a:pt x="166" y="22"/>
                    </a:lnTo>
                    <a:lnTo>
                      <a:pt x="126" y="24"/>
                    </a:lnTo>
                    <a:lnTo>
                      <a:pt x="95" y="26"/>
                    </a:lnTo>
                    <a:lnTo>
                      <a:pt x="75" y="27"/>
                    </a:lnTo>
                    <a:lnTo>
                      <a:pt x="68" y="27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-4265280" y="334080"/>
                <a:ext cx="239040" cy="103680"/>
              </a:xfrm>
              <a:custGeom>
                <a:avLst/>
                <a:gdLst/>
                <a:ahLst/>
                <a:rect l="l" t="t" r="r" b="b"/>
                <a:pathLst>
                  <a:path w="347" h="306">
                    <a:moveTo>
                      <a:pt x="305" y="0"/>
                    </a:moveTo>
                    <a:lnTo>
                      <a:pt x="305" y="30"/>
                    </a:lnTo>
                    <a:lnTo>
                      <a:pt x="305" y="99"/>
                    </a:lnTo>
                    <a:lnTo>
                      <a:pt x="300" y="173"/>
                    </a:lnTo>
                    <a:lnTo>
                      <a:pt x="292" y="220"/>
                    </a:lnTo>
                    <a:lnTo>
                      <a:pt x="286" y="226"/>
                    </a:lnTo>
                    <a:lnTo>
                      <a:pt x="275" y="230"/>
                    </a:lnTo>
                    <a:lnTo>
                      <a:pt x="259" y="234"/>
                    </a:lnTo>
                    <a:lnTo>
                      <a:pt x="239" y="238"/>
                    </a:lnTo>
                    <a:lnTo>
                      <a:pt x="217" y="241"/>
                    </a:lnTo>
                    <a:lnTo>
                      <a:pt x="193" y="244"/>
                    </a:lnTo>
                    <a:lnTo>
                      <a:pt x="166" y="245"/>
                    </a:lnTo>
                    <a:lnTo>
                      <a:pt x="140" y="248"/>
                    </a:lnTo>
                    <a:lnTo>
                      <a:pt x="113" y="250"/>
                    </a:lnTo>
                    <a:lnTo>
                      <a:pt x="88" y="251"/>
                    </a:lnTo>
                    <a:lnTo>
                      <a:pt x="64" y="253"/>
                    </a:lnTo>
                    <a:lnTo>
                      <a:pt x="44" y="253"/>
                    </a:lnTo>
                    <a:lnTo>
                      <a:pt x="25" y="254"/>
                    </a:lnTo>
                    <a:lnTo>
                      <a:pt x="11" y="254"/>
                    </a:lnTo>
                    <a:lnTo>
                      <a:pt x="3" y="254"/>
                    </a:lnTo>
                    <a:lnTo>
                      <a:pt x="0" y="254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71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3" y="306"/>
                    </a:lnTo>
                    <a:lnTo>
                      <a:pt x="181" y="306"/>
                    </a:lnTo>
                    <a:lnTo>
                      <a:pt x="211" y="306"/>
                    </a:lnTo>
                    <a:lnTo>
                      <a:pt x="238" y="306"/>
                    </a:lnTo>
                    <a:lnTo>
                      <a:pt x="262" y="305"/>
                    </a:lnTo>
                    <a:lnTo>
                      <a:pt x="283" y="304"/>
                    </a:lnTo>
                    <a:lnTo>
                      <a:pt x="302" y="302"/>
                    </a:lnTo>
                    <a:lnTo>
                      <a:pt x="315" y="299"/>
                    </a:lnTo>
                    <a:lnTo>
                      <a:pt x="322" y="296"/>
                    </a:lnTo>
                    <a:lnTo>
                      <a:pt x="334" y="244"/>
                    </a:lnTo>
                    <a:lnTo>
                      <a:pt x="343" y="146"/>
                    </a:lnTo>
                    <a:lnTo>
                      <a:pt x="346" y="51"/>
                    </a:lnTo>
                    <a:lnTo>
                      <a:pt x="347" y="9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-4268160" y="299520"/>
                <a:ext cx="282240" cy="136080"/>
              </a:xfrm>
              <a:custGeom>
                <a:avLst/>
                <a:gdLst/>
                <a:ahLst/>
                <a:rect l="l" t="t" r="r" b="b"/>
                <a:pathLst>
                  <a:path w="411" h="403">
                    <a:moveTo>
                      <a:pt x="377" y="7"/>
                    </a:moveTo>
                    <a:lnTo>
                      <a:pt x="364" y="364"/>
                    </a:lnTo>
                    <a:lnTo>
                      <a:pt x="1" y="357"/>
                    </a:lnTo>
                    <a:lnTo>
                      <a:pt x="0" y="403"/>
                    </a:lnTo>
                    <a:lnTo>
                      <a:pt x="398" y="403"/>
                    </a:lnTo>
                    <a:lnTo>
                      <a:pt x="411" y="0"/>
                    </a:lnTo>
                    <a:lnTo>
                      <a:pt x="377" y="7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-4268160" y="30960"/>
                <a:ext cx="237960" cy="138240"/>
              </a:xfrm>
              <a:custGeom>
                <a:avLst/>
                <a:gdLst/>
                <a:ahLst/>
                <a:rect l="l" t="t" r="r" b="b"/>
                <a:pathLst>
                  <a:path w="347" h="407">
                    <a:moveTo>
                      <a:pt x="347" y="0"/>
                    </a:moveTo>
                    <a:lnTo>
                      <a:pt x="324" y="358"/>
                    </a:lnTo>
                    <a:lnTo>
                      <a:pt x="323" y="360"/>
                    </a:lnTo>
                    <a:lnTo>
                      <a:pt x="316" y="365"/>
                    </a:lnTo>
                    <a:lnTo>
                      <a:pt x="304" y="374"/>
                    </a:lnTo>
                    <a:lnTo>
                      <a:pt x="287" y="383"/>
                    </a:lnTo>
                    <a:lnTo>
                      <a:pt x="265" y="391"/>
                    </a:lnTo>
                    <a:lnTo>
                      <a:pt x="235" y="400"/>
                    </a:lnTo>
                    <a:lnTo>
                      <a:pt x="198" y="405"/>
                    </a:lnTo>
                    <a:lnTo>
                      <a:pt x="153" y="407"/>
                    </a:lnTo>
                    <a:lnTo>
                      <a:pt x="109" y="407"/>
                    </a:lnTo>
                    <a:lnTo>
                      <a:pt x="75" y="407"/>
                    </a:lnTo>
                    <a:lnTo>
                      <a:pt x="49" y="407"/>
                    </a:lnTo>
                    <a:lnTo>
                      <a:pt x="29" y="405"/>
                    </a:lnTo>
                    <a:lnTo>
                      <a:pt x="17" y="402"/>
                    </a:lnTo>
                    <a:lnTo>
                      <a:pt x="8" y="398"/>
                    </a:lnTo>
                    <a:lnTo>
                      <a:pt x="4" y="391"/>
                    </a:lnTo>
                    <a:lnTo>
                      <a:pt x="0" y="381"/>
                    </a:lnTo>
                    <a:lnTo>
                      <a:pt x="1" y="322"/>
                    </a:lnTo>
                    <a:lnTo>
                      <a:pt x="11" y="218"/>
                    </a:lnTo>
                    <a:lnTo>
                      <a:pt x="24" y="120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6" y="73"/>
                    </a:lnTo>
                    <a:lnTo>
                      <a:pt x="45" y="72"/>
                    </a:lnTo>
                    <a:lnTo>
                      <a:pt x="56" y="68"/>
                    </a:lnTo>
                    <a:lnTo>
                      <a:pt x="70" y="63"/>
                    </a:lnTo>
                    <a:lnTo>
                      <a:pt x="86" y="59"/>
                    </a:lnTo>
                    <a:lnTo>
                      <a:pt x="106" y="53"/>
                    </a:lnTo>
                    <a:lnTo>
                      <a:pt x="127" y="48"/>
                    </a:lnTo>
                    <a:lnTo>
                      <a:pt x="150" y="41"/>
                    </a:lnTo>
                    <a:lnTo>
                      <a:pt x="174" y="35"/>
                    </a:lnTo>
                    <a:lnTo>
                      <a:pt x="201" y="29"/>
                    </a:lnTo>
                    <a:lnTo>
                      <a:pt x="228" y="22"/>
                    </a:lnTo>
                    <a:lnTo>
                      <a:pt x="256" y="17"/>
                    </a:lnTo>
                    <a:lnTo>
                      <a:pt x="286" y="10"/>
                    </a:lnTo>
                    <a:lnTo>
                      <a:pt x="316" y="5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-4002480" y="28440"/>
                <a:ext cx="264240" cy="129960"/>
              </a:xfrm>
              <a:custGeom>
                <a:avLst/>
                <a:gdLst/>
                <a:ahLst/>
                <a:rect l="l" t="t" r="r" b="b"/>
                <a:pathLst>
                  <a:path w="385" h="383">
                    <a:moveTo>
                      <a:pt x="385" y="0"/>
                    </a:moveTo>
                    <a:lnTo>
                      <a:pt x="385" y="45"/>
                    </a:lnTo>
                    <a:lnTo>
                      <a:pt x="383" y="146"/>
                    </a:lnTo>
                    <a:lnTo>
                      <a:pt x="379" y="254"/>
                    </a:lnTo>
                    <a:lnTo>
                      <a:pt x="372" y="318"/>
                    </a:lnTo>
                    <a:lnTo>
                      <a:pt x="369" y="331"/>
                    </a:lnTo>
                    <a:lnTo>
                      <a:pt x="366" y="340"/>
                    </a:lnTo>
                    <a:lnTo>
                      <a:pt x="365" y="350"/>
                    </a:lnTo>
                    <a:lnTo>
                      <a:pt x="360" y="357"/>
                    </a:lnTo>
                    <a:lnTo>
                      <a:pt x="352" y="365"/>
                    </a:lnTo>
                    <a:lnTo>
                      <a:pt x="336" y="369"/>
                    </a:lnTo>
                    <a:lnTo>
                      <a:pt x="314" y="372"/>
                    </a:lnTo>
                    <a:lnTo>
                      <a:pt x="280" y="373"/>
                    </a:lnTo>
                    <a:lnTo>
                      <a:pt x="277" y="373"/>
                    </a:lnTo>
                    <a:lnTo>
                      <a:pt x="270" y="374"/>
                    </a:lnTo>
                    <a:lnTo>
                      <a:pt x="258" y="374"/>
                    </a:lnTo>
                    <a:lnTo>
                      <a:pt x="243" y="376"/>
                    </a:lnTo>
                    <a:lnTo>
                      <a:pt x="226" y="377"/>
                    </a:lnTo>
                    <a:lnTo>
                      <a:pt x="204" y="379"/>
                    </a:lnTo>
                    <a:lnTo>
                      <a:pt x="183" y="380"/>
                    </a:lnTo>
                    <a:lnTo>
                      <a:pt x="159" y="382"/>
                    </a:lnTo>
                    <a:lnTo>
                      <a:pt x="136" y="382"/>
                    </a:lnTo>
                    <a:lnTo>
                      <a:pt x="112" y="383"/>
                    </a:lnTo>
                    <a:lnTo>
                      <a:pt x="90" y="383"/>
                    </a:lnTo>
                    <a:lnTo>
                      <a:pt x="67" y="382"/>
                    </a:lnTo>
                    <a:lnTo>
                      <a:pt x="47" y="382"/>
                    </a:lnTo>
                    <a:lnTo>
                      <a:pt x="30" y="379"/>
                    </a:lnTo>
                    <a:lnTo>
                      <a:pt x="16" y="376"/>
                    </a:lnTo>
                    <a:lnTo>
                      <a:pt x="5" y="373"/>
                    </a:lnTo>
                    <a:lnTo>
                      <a:pt x="5" y="365"/>
                    </a:lnTo>
                    <a:lnTo>
                      <a:pt x="3" y="345"/>
                    </a:lnTo>
                    <a:lnTo>
                      <a:pt x="0" y="321"/>
                    </a:lnTo>
                    <a:lnTo>
                      <a:pt x="0" y="301"/>
                    </a:lnTo>
                    <a:lnTo>
                      <a:pt x="3" y="245"/>
                    </a:lnTo>
                    <a:lnTo>
                      <a:pt x="12" y="145"/>
                    </a:lnTo>
                    <a:lnTo>
                      <a:pt x="19" y="48"/>
                    </a:lnTo>
                    <a:lnTo>
                      <a:pt x="22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4319640" y="0"/>
                <a:ext cx="1476360" cy="642960"/>
              </a:xfrm>
              <a:custGeom>
                <a:avLst/>
                <a:gdLst/>
                <a:ahLst/>
                <a:rect l="l" t="t" r="r" b="b"/>
                <a:pathLst>
                  <a:path w="2144" h="1898">
                    <a:moveTo>
                      <a:pt x="285" y="36"/>
                    </a:moveTo>
                    <a:lnTo>
                      <a:pt x="227" y="50"/>
                    </a:lnTo>
                    <a:lnTo>
                      <a:pt x="180" y="63"/>
                    </a:lnTo>
                    <a:lnTo>
                      <a:pt x="143" y="74"/>
                    </a:lnTo>
                    <a:lnTo>
                      <a:pt x="115" y="86"/>
                    </a:lnTo>
                    <a:lnTo>
                      <a:pt x="95" y="95"/>
                    </a:lnTo>
                    <a:lnTo>
                      <a:pt x="82" y="103"/>
                    </a:lnTo>
                    <a:lnTo>
                      <a:pt x="75" y="108"/>
                    </a:lnTo>
                    <a:lnTo>
                      <a:pt x="72" y="111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51" y="192"/>
                    </a:lnTo>
                    <a:lnTo>
                      <a:pt x="37" y="295"/>
                    </a:lnTo>
                    <a:lnTo>
                      <a:pt x="28" y="415"/>
                    </a:lnTo>
                    <a:lnTo>
                      <a:pt x="21" y="538"/>
                    </a:lnTo>
                    <a:lnTo>
                      <a:pt x="17" y="656"/>
                    </a:lnTo>
                    <a:lnTo>
                      <a:pt x="15" y="755"/>
                    </a:lnTo>
                    <a:lnTo>
                      <a:pt x="14" y="827"/>
                    </a:lnTo>
                    <a:lnTo>
                      <a:pt x="14" y="858"/>
                    </a:lnTo>
                    <a:lnTo>
                      <a:pt x="14" y="873"/>
                    </a:lnTo>
                    <a:lnTo>
                      <a:pt x="27" y="870"/>
                    </a:lnTo>
                    <a:lnTo>
                      <a:pt x="64" y="866"/>
                    </a:lnTo>
                    <a:lnTo>
                      <a:pt x="109" y="861"/>
                    </a:lnTo>
                    <a:lnTo>
                      <a:pt x="161" y="857"/>
                    </a:lnTo>
                    <a:lnTo>
                      <a:pt x="221" y="854"/>
                    </a:lnTo>
                    <a:lnTo>
                      <a:pt x="285" y="850"/>
                    </a:lnTo>
                    <a:lnTo>
                      <a:pt x="350" y="847"/>
                    </a:lnTo>
                    <a:lnTo>
                      <a:pt x="418" y="844"/>
                    </a:lnTo>
                    <a:lnTo>
                      <a:pt x="485" y="841"/>
                    </a:lnTo>
                    <a:lnTo>
                      <a:pt x="550" y="839"/>
                    </a:lnTo>
                    <a:lnTo>
                      <a:pt x="612" y="837"/>
                    </a:lnTo>
                    <a:lnTo>
                      <a:pt x="669" y="834"/>
                    </a:lnTo>
                    <a:lnTo>
                      <a:pt x="720" y="833"/>
                    </a:lnTo>
                    <a:lnTo>
                      <a:pt x="761" y="831"/>
                    </a:lnTo>
                    <a:lnTo>
                      <a:pt x="794" y="831"/>
                    </a:lnTo>
                    <a:lnTo>
                      <a:pt x="815" y="830"/>
                    </a:lnTo>
                    <a:lnTo>
                      <a:pt x="824" y="830"/>
                    </a:lnTo>
                    <a:lnTo>
                      <a:pt x="822" y="807"/>
                    </a:lnTo>
                    <a:lnTo>
                      <a:pt x="815" y="807"/>
                    </a:lnTo>
                    <a:lnTo>
                      <a:pt x="794" y="809"/>
                    </a:lnTo>
                    <a:lnTo>
                      <a:pt x="764" y="809"/>
                    </a:lnTo>
                    <a:lnTo>
                      <a:pt x="723" y="810"/>
                    </a:lnTo>
                    <a:lnTo>
                      <a:pt x="675" y="812"/>
                    </a:lnTo>
                    <a:lnTo>
                      <a:pt x="619" y="813"/>
                    </a:lnTo>
                    <a:lnTo>
                      <a:pt x="560" y="816"/>
                    </a:lnTo>
                    <a:lnTo>
                      <a:pt x="496" y="817"/>
                    </a:lnTo>
                    <a:lnTo>
                      <a:pt x="431" y="820"/>
                    </a:lnTo>
                    <a:lnTo>
                      <a:pt x="364" y="823"/>
                    </a:lnTo>
                    <a:lnTo>
                      <a:pt x="299" y="827"/>
                    </a:lnTo>
                    <a:lnTo>
                      <a:pt x="237" y="830"/>
                    </a:lnTo>
                    <a:lnTo>
                      <a:pt x="177" y="834"/>
                    </a:lnTo>
                    <a:lnTo>
                      <a:pt x="123" y="837"/>
                    </a:lnTo>
                    <a:lnTo>
                      <a:pt x="76" y="841"/>
                    </a:lnTo>
                    <a:lnTo>
                      <a:pt x="37" y="846"/>
                    </a:lnTo>
                    <a:lnTo>
                      <a:pt x="37" y="797"/>
                    </a:lnTo>
                    <a:lnTo>
                      <a:pt x="38" y="719"/>
                    </a:lnTo>
                    <a:lnTo>
                      <a:pt x="41" y="620"/>
                    </a:lnTo>
                    <a:lnTo>
                      <a:pt x="45" y="510"/>
                    </a:lnTo>
                    <a:lnTo>
                      <a:pt x="52" y="396"/>
                    </a:lnTo>
                    <a:lnTo>
                      <a:pt x="61" y="288"/>
                    </a:lnTo>
                    <a:lnTo>
                      <a:pt x="74" y="195"/>
                    </a:lnTo>
                    <a:lnTo>
                      <a:pt x="89" y="125"/>
                    </a:lnTo>
                    <a:lnTo>
                      <a:pt x="95" y="121"/>
                    </a:lnTo>
                    <a:lnTo>
                      <a:pt x="105" y="117"/>
                    </a:lnTo>
                    <a:lnTo>
                      <a:pt x="119" y="110"/>
                    </a:lnTo>
                    <a:lnTo>
                      <a:pt x="139" y="101"/>
                    </a:lnTo>
                    <a:lnTo>
                      <a:pt x="166" y="91"/>
                    </a:lnTo>
                    <a:lnTo>
                      <a:pt x="198" y="81"/>
                    </a:lnTo>
                    <a:lnTo>
                      <a:pt x="239" y="70"/>
                    </a:lnTo>
                    <a:lnTo>
                      <a:pt x="289" y="59"/>
                    </a:lnTo>
                    <a:lnTo>
                      <a:pt x="323" y="51"/>
                    </a:lnTo>
                    <a:lnTo>
                      <a:pt x="360" y="46"/>
                    </a:lnTo>
                    <a:lnTo>
                      <a:pt x="398" y="40"/>
                    </a:lnTo>
                    <a:lnTo>
                      <a:pt x="439" y="36"/>
                    </a:lnTo>
                    <a:lnTo>
                      <a:pt x="482" y="32"/>
                    </a:lnTo>
                    <a:lnTo>
                      <a:pt x="524" y="29"/>
                    </a:lnTo>
                    <a:lnTo>
                      <a:pt x="568" y="26"/>
                    </a:lnTo>
                    <a:lnTo>
                      <a:pt x="611" y="25"/>
                    </a:lnTo>
                    <a:lnTo>
                      <a:pt x="654" y="23"/>
                    </a:lnTo>
                    <a:lnTo>
                      <a:pt x="695" y="23"/>
                    </a:lnTo>
                    <a:lnTo>
                      <a:pt x="733" y="25"/>
                    </a:lnTo>
                    <a:lnTo>
                      <a:pt x="770" y="26"/>
                    </a:lnTo>
                    <a:lnTo>
                      <a:pt x="804" y="29"/>
                    </a:lnTo>
                    <a:lnTo>
                      <a:pt x="834" y="33"/>
                    </a:lnTo>
                    <a:lnTo>
                      <a:pt x="859" y="39"/>
                    </a:lnTo>
                    <a:lnTo>
                      <a:pt x="880" y="44"/>
                    </a:lnTo>
                    <a:lnTo>
                      <a:pt x="880" y="44"/>
                    </a:lnTo>
                    <a:lnTo>
                      <a:pt x="2016" y="534"/>
                    </a:lnTo>
                    <a:lnTo>
                      <a:pt x="2018" y="535"/>
                    </a:lnTo>
                    <a:lnTo>
                      <a:pt x="2023" y="538"/>
                    </a:lnTo>
                    <a:lnTo>
                      <a:pt x="2030" y="542"/>
                    </a:lnTo>
                    <a:lnTo>
                      <a:pt x="2039" y="548"/>
                    </a:lnTo>
                    <a:lnTo>
                      <a:pt x="2047" y="555"/>
                    </a:lnTo>
                    <a:lnTo>
                      <a:pt x="2056" y="563"/>
                    </a:lnTo>
                    <a:lnTo>
                      <a:pt x="2063" y="573"/>
                    </a:lnTo>
                    <a:lnTo>
                      <a:pt x="2067" y="585"/>
                    </a:lnTo>
                    <a:lnTo>
                      <a:pt x="2073" y="612"/>
                    </a:lnTo>
                    <a:lnTo>
                      <a:pt x="2080" y="644"/>
                    </a:lnTo>
                    <a:lnTo>
                      <a:pt x="2087" y="680"/>
                    </a:lnTo>
                    <a:lnTo>
                      <a:pt x="2094" y="715"/>
                    </a:lnTo>
                    <a:lnTo>
                      <a:pt x="2100" y="751"/>
                    </a:lnTo>
                    <a:lnTo>
                      <a:pt x="2106" y="782"/>
                    </a:lnTo>
                    <a:lnTo>
                      <a:pt x="2108" y="807"/>
                    </a:lnTo>
                    <a:lnTo>
                      <a:pt x="2110" y="827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30"/>
                    </a:lnTo>
                    <a:lnTo>
                      <a:pt x="2097" y="827"/>
                    </a:lnTo>
                    <a:lnTo>
                      <a:pt x="2082" y="823"/>
                    </a:lnTo>
                    <a:lnTo>
                      <a:pt x="2059" y="817"/>
                    </a:lnTo>
                    <a:lnTo>
                      <a:pt x="2033" y="812"/>
                    </a:lnTo>
                    <a:lnTo>
                      <a:pt x="2004" y="803"/>
                    </a:lnTo>
                    <a:lnTo>
                      <a:pt x="1971" y="793"/>
                    </a:lnTo>
                    <a:lnTo>
                      <a:pt x="1935" y="783"/>
                    </a:lnTo>
                    <a:lnTo>
                      <a:pt x="1896" y="772"/>
                    </a:lnTo>
                    <a:lnTo>
                      <a:pt x="1855" y="761"/>
                    </a:lnTo>
                    <a:lnTo>
                      <a:pt x="1811" y="746"/>
                    </a:lnTo>
                    <a:lnTo>
                      <a:pt x="1765" y="734"/>
                    </a:lnTo>
                    <a:lnTo>
                      <a:pt x="1717" y="719"/>
                    </a:lnTo>
                    <a:lnTo>
                      <a:pt x="1669" y="705"/>
                    </a:lnTo>
                    <a:lnTo>
                      <a:pt x="1621" y="690"/>
                    </a:lnTo>
                    <a:lnTo>
                      <a:pt x="1571" y="675"/>
                    </a:lnTo>
                    <a:lnTo>
                      <a:pt x="1520" y="660"/>
                    </a:lnTo>
                    <a:lnTo>
                      <a:pt x="1470" y="644"/>
                    </a:lnTo>
                    <a:lnTo>
                      <a:pt x="1422" y="630"/>
                    </a:lnTo>
                    <a:lnTo>
                      <a:pt x="1372" y="615"/>
                    </a:lnTo>
                    <a:lnTo>
                      <a:pt x="1326" y="600"/>
                    </a:lnTo>
                    <a:lnTo>
                      <a:pt x="1280" y="586"/>
                    </a:lnTo>
                    <a:lnTo>
                      <a:pt x="1236" y="572"/>
                    </a:lnTo>
                    <a:lnTo>
                      <a:pt x="1194" y="559"/>
                    </a:lnTo>
                    <a:lnTo>
                      <a:pt x="1154" y="546"/>
                    </a:lnTo>
                    <a:lnTo>
                      <a:pt x="1117" y="535"/>
                    </a:lnTo>
                    <a:lnTo>
                      <a:pt x="1085" y="524"/>
                    </a:lnTo>
                    <a:lnTo>
                      <a:pt x="1055" y="514"/>
                    </a:lnTo>
                    <a:lnTo>
                      <a:pt x="1028" y="505"/>
                    </a:lnTo>
                    <a:lnTo>
                      <a:pt x="1007" y="497"/>
                    </a:lnTo>
                    <a:lnTo>
                      <a:pt x="988" y="491"/>
                    </a:lnTo>
                    <a:lnTo>
                      <a:pt x="975" y="485"/>
                    </a:lnTo>
                    <a:lnTo>
                      <a:pt x="968" y="483"/>
                    </a:lnTo>
                    <a:lnTo>
                      <a:pt x="960" y="437"/>
                    </a:lnTo>
                    <a:lnTo>
                      <a:pt x="953" y="358"/>
                    </a:lnTo>
                    <a:lnTo>
                      <a:pt x="947" y="268"/>
                    </a:lnTo>
                    <a:lnTo>
                      <a:pt x="944" y="196"/>
                    </a:lnTo>
                    <a:lnTo>
                      <a:pt x="944" y="190"/>
                    </a:lnTo>
                    <a:lnTo>
                      <a:pt x="944" y="185"/>
                    </a:lnTo>
                    <a:lnTo>
                      <a:pt x="944" y="179"/>
                    </a:lnTo>
                    <a:lnTo>
                      <a:pt x="944" y="175"/>
                    </a:lnTo>
                    <a:lnTo>
                      <a:pt x="953" y="176"/>
                    </a:lnTo>
                    <a:lnTo>
                      <a:pt x="965" y="181"/>
                    </a:lnTo>
                    <a:lnTo>
                      <a:pt x="980" y="185"/>
                    </a:lnTo>
                    <a:lnTo>
                      <a:pt x="997" y="192"/>
                    </a:lnTo>
                    <a:lnTo>
                      <a:pt x="1014" y="199"/>
                    </a:lnTo>
                    <a:lnTo>
                      <a:pt x="1034" y="206"/>
                    </a:lnTo>
                    <a:lnTo>
                      <a:pt x="1052" y="215"/>
                    </a:lnTo>
                    <a:lnTo>
                      <a:pt x="1072" y="223"/>
                    </a:lnTo>
                    <a:lnTo>
                      <a:pt x="1079" y="276"/>
                    </a:lnTo>
                    <a:lnTo>
                      <a:pt x="1093" y="376"/>
                    </a:lnTo>
                    <a:lnTo>
                      <a:pt x="1107" y="476"/>
                    </a:lnTo>
                    <a:lnTo>
                      <a:pt x="1113" y="521"/>
                    </a:lnTo>
                    <a:lnTo>
                      <a:pt x="1161" y="527"/>
                    </a:lnTo>
                    <a:lnTo>
                      <a:pt x="1160" y="488"/>
                    </a:lnTo>
                    <a:lnTo>
                      <a:pt x="1158" y="400"/>
                    </a:lnTo>
                    <a:lnTo>
                      <a:pt x="1156" y="308"/>
                    </a:lnTo>
                    <a:lnTo>
                      <a:pt x="1154" y="251"/>
                    </a:lnTo>
                    <a:lnTo>
                      <a:pt x="1167" y="257"/>
                    </a:lnTo>
                    <a:lnTo>
                      <a:pt x="1184" y="264"/>
                    </a:lnTo>
                    <a:lnTo>
                      <a:pt x="1204" y="273"/>
                    </a:lnTo>
                    <a:lnTo>
                      <a:pt x="1226" y="281"/>
                    </a:lnTo>
                    <a:lnTo>
                      <a:pt x="1246" y="290"/>
                    </a:lnTo>
                    <a:lnTo>
                      <a:pt x="1265" y="298"/>
                    </a:lnTo>
                    <a:lnTo>
                      <a:pt x="1279" y="304"/>
                    </a:lnTo>
                    <a:lnTo>
                      <a:pt x="1286" y="307"/>
                    </a:lnTo>
                    <a:lnTo>
                      <a:pt x="1292" y="354"/>
                    </a:lnTo>
                    <a:lnTo>
                      <a:pt x="1303" y="447"/>
                    </a:lnTo>
                    <a:lnTo>
                      <a:pt x="1314" y="538"/>
                    </a:lnTo>
                    <a:lnTo>
                      <a:pt x="1320" y="579"/>
                    </a:lnTo>
                    <a:lnTo>
                      <a:pt x="1372" y="603"/>
                    </a:lnTo>
                    <a:lnTo>
                      <a:pt x="1371" y="566"/>
                    </a:lnTo>
                    <a:lnTo>
                      <a:pt x="1370" y="483"/>
                    </a:lnTo>
                    <a:lnTo>
                      <a:pt x="1367" y="393"/>
                    </a:lnTo>
                    <a:lnTo>
                      <a:pt x="1365" y="339"/>
                    </a:lnTo>
                    <a:lnTo>
                      <a:pt x="1377" y="344"/>
                    </a:lnTo>
                    <a:lnTo>
                      <a:pt x="1392" y="351"/>
                    </a:lnTo>
                    <a:lnTo>
                      <a:pt x="1412" y="359"/>
                    </a:lnTo>
                    <a:lnTo>
                      <a:pt x="1431" y="366"/>
                    </a:lnTo>
                    <a:lnTo>
                      <a:pt x="1450" y="375"/>
                    </a:lnTo>
                    <a:lnTo>
                      <a:pt x="1466" y="382"/>
                    </a:lnTo>
                    <a:lnTo>
                      <a:pt x="1479" y="388"/>
                    </a:lnTo>
                    <a:lnTo>
                      <a:pt x="1486" y="390"/>
                    </a:lnTo>
                    <a:lnTo>
                      <a:pt x="1490" y="436"/>
                    </a:lnTo>
                    <a:lnTo>
                      <a:pt x="1500" y="522"/>
                    </a:lnTo>
                    <a:lnTo>
                      <a:pt x="1509" y="606"/>
                    </a:lnTo>
                    <a:lnTo>
                      <a:pt x="1513" y="644"/>
                    </a:lnTo>
                    <a:lnTo>
                      <a:pt x="1567" y="663"/>
                    </a:lnTo>
                    <a:lnTo>
                      <a:pt x="1565" y="629"/>
                    </a:lnTo>
                    <a:lnTo>
                      <a:pt x="1562" y="552"/>
                    </a:lnTo>
                    <a:lnTo>
                      <a:pt x="1560" y="468"/>
                    </a:lnTo>
                    <a:lnTo>
                      <a:pt x="1557" y="417"/>
                    </a:lnTo>
                    <a:lnTo>
                      <a:pt x="1567" y="422"/>
                    </a:lnTo>
                    <a:lnTo>
                      <a:pt x="1580" y="427"/>
                    </a:lnTo>
                    <a:lnTo>
                      <a:pt x="1594" y="433"/>
                    </a:lnTo>
                    <a:lnTo>
                      <a:pt x="1608" y="440"/>
                    </a:lnTo>
                    <a:lnTo>
                      <a:pt x="1622" y="446"/>
                    </a:lnTo>
                    <a:lnTo>
                      <a:pt x="1635" y="451"/>
                    </a:lnTo>
                    <a:lnTo>
                      <a:pt x="1643" y="456"/>
                    </a:lnTo>
                    <a:lnTo>
                      <a:pt x="1649" y="458"/>
                    </a:lnTo>
                    <a:lnTo>
                      <a:pt x="1653" y="501"/>
                    </a:lnTo>
                    <a:lnTo>
                      <a:pt x="1662" y="580"/>
                    </a:lnTo>
                    <a:lnTo>
                      <a:pt x="1669" y="657"/>
                    </a:lnTo>
                    <a:lnTo>
                      <a:pt x="1673" y="693"/>
                    </a:lnTo>
                    <a:lnTo>
                      <a:pt x="1737" y="712"/>
                    </a:lnTo>
                    <a:lnTo>
                      <a:pt x="1736" y="683"/>
                    </a:lnTo>
                    <a:lnTo>
                      <a:pt x="1733" y="613"/>
                    </a:lnTo>
                    <a:lnTo>
                      <a:pt x="1730" y="538"/>
                    </a:lnTo>
                    <a:lnTo>
                      <a:pt x="1727" y="490"/>
                    </a:lnTo>
                    <a:lnTo>
                      <a:pt x="1736" y="494"/>
                    </a:lnTo>
                    <a:lnTo>
                      <a:pt x="1744" y="498"/>
                    </a:lnTo>
                    <a:lnTo>
                      <a:pt x="1754" y="502"/>
                    </a:lnTo>
                    <a:lnTo>
                      <a:pt x="1764" y="507"/>
                    </a:lnTo>
                    <a:lnTo>
                      <a:pt x="1772" y="511"/>
                    </a:lnTo>
                    <a:lnTo>
                      <a:pt x="1781" y="515"/>
                    </a:lnTo>
                    <a:lnTo>
                      <a:pt x="1787" y="518"/>
                    </a:lnTo>
                    <a:lnTo>
                      <a:pt x="1791" y="519"/>
                    </a:lnTo>
                    <a:lnTo>
                      <a:pt x="1795" y="559"/>
                    </a:lnTo>
                    <a:lnTo>
                      <a:pt x="1804" y="633"/>
                    </a:lnTo>
                    <a:lnTo>
                      <a:pt x="1811" y="704"/>
                    </a:lnTo>
                    <a:lnTo>
                      <a:pt x="1815" y="736"/>
                    </a:lnTo>
                    <a:lnTo>
                      <a:pt x="1872" y="759"/>
                    </a:lnTo>
                    <a:lnTo>
                      <a:pt x="1870" y="731"/>
                    </a:lnTo>
                    <a:lnTo>
                      <a:pt x="1865" y="666"/>
                    </a:lnTo>
                    <a:lnTo>
                      <a:pt x="1860" y="595"/>
                    </a:lnTo>
                    <a:lnTo>
                      <a:pt x="1856" y="548"/>
                    </a:lnTo>
                    <a:lnTo>
                      <a:pt x="1865" y="552"/>
                    </a:lnTo>
                    <a:lnTo>
                      <a:pt x="1873" y="556"/>
                    </a:lnTo>
                    <a:lnTo>
                      <a:pt x="1882" y="561"/>
                    </a:lnTo>
                    <a:lnTo>
                      <a:pt x="1891" y="565"/>
                    </a:lnTo>
                    <a:lnTo>
                      <a:pt x="1900" y="569"/>
                    </a:lnTo>
                    <a:lnTo>
                      <a:pt x="1907" y="572"/>
                    </a:lnTo>
                    <a:lnTo>
                      <a:pt x="1913" y="576"/>
                    </a:lnTo>
                    <a:lnTo>
                      <a:pt x="1917" y="578"/>
                    </a:lnTo>
                    <a:lnTo>
                      <a:pt x="1921" y="613"/>
                    </a:lnTo>
                    <a:lnTo>
                      <a:pt x="1927" y="678"/>
                    </a:lnTo>
                    <a:lnTo>
                      <a:pt x="1934" y="742"/>
                    </a:lnTo>
                    <a:lnTo>
                      <a:pt x="1937" y="771"/>
                    </a:lnTo>
                    <a:lnTo>
                      <a:pt x="2002" y="789"/>
                    </a:lnTo>
                    <a:lnTo>
                      <a:pt x="1979" y="538"/>
                    </a:lnTo>
                    <a:lnTo>
                      <a:pt x="880" y="70"/>
                    </a:lnTo>
                    <a:lnTo>
                      <a:pt x="878" y="70"/>
                    </a:lnTo>
                    <a:lnTo>
                      <a:pt x="866" y="70"/>
                    </a:lnTo>
                    <a:lnTo>
                      <a:pt x="848" y="70"/>
                    </a:lnTo>
                    <a:lnTo>
                      <a:pt x="824" y="70"/>
                    </a:lnTo>
                    <a:lnTo>
                      <a:pt x="794" y="70"/>
                    </a:lnTo>
                    <a:lnTo>
                      <a:pt x="761" y="71"/>
                    </a:lnTo>
                    <a:lnTo>
                      <a:pt x="726" y="71"/>
                    </a:lnTo>
                    <a:lnTo>
                      <a:pt x="688" y="71"/>
                    </a:lnTo>
                    <a:lnTo>
                      <a:pt x="649" y="73"/>
                    </a:lnTo>
                    <a:lnTo>
                      <a:pt x="611" y="73"/>
                    </a:lnTo>
                    <a:lnTo>
                      <a:pt x="574" y="74"/>
                    </a:lnTo>
                    <a:lnTo>
                      <a:pt x="540" y="74"/>
                    </a:lnTo>
                    <a:lnTo>
                      <a:pt x="509" y="74"/>
                    </a:lnTo>
                    <a:lnTo>
                      <a:pt x="482" y="76"/>
                    </a:lnTo>
                    <a:lnTo>
                      <a:pt x="459" y="76"/>
                    </a:lnTo>
                    <a:lnTo>
                      <a:pt x="444" y="77"/>
                    </a:lnTo>
                    <a:lnTo>
                      <a:pt x="435" y="77"/>
                    </a:lnTo>
                    <a:lnTo>
                      <a:pt x="431" y="78"/>
                    </a:lnTo>
                    <a:lnTo>
                      <a:pt x="420" y="80"/>
                    </a:lnTo>
                    <a:lnTo>
                      <a:pt x="404" y="83"/>
                    </a:lnTo>
                    <a:lnTo>
                      <a:pt x="383" y="87"/>
                    </a:lnTo>
                    <a:lnTo>
                      <a:pt x="357" y="93"/>
                    </a:lnTo>
                    <a:lnTo>
                      <a:pt x="329" y="98"/>
                    </a:lnTo>
                    <a:lnTo>
                      <a:pt x="299" y="105"/>
                    </a:lnTo>
                    <a:lnTo>
                      <a:pt x="268" y="112"/>
                    </a:lnTo>
                    <a:lnTo>
                      <a:pt x="237" y="120"/>
                    </a:lnTo>
                    <a:lnTo>
                      <a:pt x="207" y="127"/>
                    </a:lnTo>
                    <a:lnTo>
                      <a:pt x="177" y="134"/>
                    </a:lnTo>
                    <a:lnTo>
                      <a:pt x="152" y="141"/>
                    </a:lnTo>
                    <a:lnTo>
                      <a:pt x="129" y="148"/>
                    </a:lnTo>
                    <a:lnTo>
                      <a:pt x="110" y="154"/>
                    </a:lnTo>
                    <a:lnTo>
                      <a:pt x="98" y="159"/>
                    </a:lnTo>
                    <a:lnTo>
                      <a:pt x="91" y="164"/>
                    </a:lnTo>
                    <a:lnTo>
                      <a:pt x="85" y="181"/>
                    </a:lnTo>
                    <a:lnTo>
                      <a:pt x="79" y="216"/>
                    </a:lnTo>
                    <a:lnTo>
                      <a:pt x="72" y="264"/>
                    </a:lnTo>
                    <a:lnTo>
                      <a:pt x="66" y="318"/>
                    </a:lnTo>
                    <a:lnTo>
                      <a:pt x="62" y="373"/>
                    </a:lnTo>
                    <a:lnTo>
                      <a:pt x="59" y="424"/>
                    </a:lnTo>
                    <a:lnTo>
                      <a:pt x="59" y="464"/>
                    </a:lnTo>
                    <a:lnTo>
                      <a:pt x="62" y="490"/>
                    </a:lnTo>
                    <a:lnTo>
                      <a:pt x="68" y="498"/>
                    </a:lnTo>
                    <a:lnTo>
                      <a:pt x="78" y="505"/>
                    </a:lnTo>
                    <a:lnTo>
                      <a:pt x="91" y="510"/>
                    </a:lnTo>
                    <a:lnTo>
                      <a:pt x="106" y="512"/>
                    </a:lnTo>
                    <a:lnTo>
                      <a:pt x="126" y="515"/>
                    </a:lnTo>
                    <a:lnTo>
                      <a:pt x="146" y="517"/>
                    </a:lnTo>
                    <a:lnTo>
                      <a:pt x="167" y="517"/>
                    </a:lnTo>
                    <a:lnTo>
                      <a:pt x="188" y="517"/>
                    </a:lnTo>
                    <a:lnTo>
                      <a:pt x="210" y="515"/>
                    </a:lnTo>
                    <a:lnTo>
                      <a:pt x="231" y="514"/>
                    </a:lnTo>
                    <a:lnTo>
                      <a:pt x="251" y="511"/>
                    </a:lnTo>
                    <a:lnTo>
                      <a:pt x="268" y="510"/>
                    </a:lnTo>
                    <a:lnTo>
                      <a:pt x="282" y="508"/>
                    </a:lnTo>
                    <a:lnTo>
                      <a:pt x="293" y="507"/>
                    </a:lnTo>
                    <a:lnTo>
                      <a:pt x="300" y="505"/>
                    </a:lnTo>
                    <a:lnTo>
                      <a:pt x="303" y="505"/>
                    </a:lnTo>
                    <a:lnTo>
                      <a:pt x="342" y="498"/>
                    </a:lnTo>
                    <a:lnTo>
                      <a:pt x="371" y="490"/>
                    </a:lnTo>
                    <a:lnTo>
                      <a:pt x="393" y="483"/>
                    </a:lnTo>
                    <a:lnTo>
                      <a:pt x="407" y="474"/>
                    </a:lnTo>
                    <a:lnTo>
                      <a:pt x="415" y="468"/>
                    </a:lnTo>
                    <a:lnTo>
                      <a:pt x="420" y="461"/>
                    </a:lnTo>
                    <a:lnTo>
                      <a:pt x="421" y="457"/>
                    </a:lnTo>
                    <a:lnTo>
                      <a:pt x="421" y="453"/>
                    </a:lnTo>
                    <a:lnTo>
                      <a:pt x="424" y="393"/>
                    </a:lnTo>
                    <a:lnTo>
                      <a:pt x="428" y="300"/>
                    </a:lnTo>
                    <a:lnTo>
                      <a:pt x="434" y="203"/>
                    </a:lnTo>
                    <a:lnTo>
                      <a:pt x="438" y="142"/>
                    </a:lnTo>
                    <a:lnTo>
                      <a:pt x="445" y="141"/>
                    </a:lnTo>
                    <a:lnTo>
                      <a:pt x="451" y="139"/>
                    </a:lnTo>
                    <a:lnTo>
                      <a:pt x="458" y="138"/>
                    </a:lnTo>
                    <a:lnTo>
                      <a:pt x="462" y="138"/>
                    </a:lnTo>
                    <a:lnTo>
                      <a:pt x="462" y="141"/>
                    </a:lnTo>
                    <a:lnTo>
                      <a:pt x="462" y="144"/>
                    </a:lnTo>
                    <a:lnTo>
                      <a:pt x="462" y="146"/>
                    </a:lnTo>
                    <a:lnTo>
                      <a:pt x="462" y="151"/>
                    </a:lnTo>
                    <a:lnTo>
                      <a:pt x="461" y="183"/>
                    </a:lnTo>
                    <a:lnTo>
                      <a:pt x="459" y="227"/>
                    </a:lnTo>
                    <a:lnTo>
                      <a:pt x="455" y="274"/>
                    </a:lnTo>
                    <a:lnTo>
                      <a:pt x="452" y="320"/>
                    </a:lnTo>
                    <a:lnTo>
                      <a:pt x="449" y="362"/>
                    </a:lnTo>
                    <a:lnTo>
                      <a:pt x="446" y="396"/>
                    </a:lnTo>
                    <a:lnTo>
                      <a:pt x="445" y="423"/>
                    </a:lnTo>
                    <a:lnTo>
                      <a:pt x="445" y="441"/>
                    </a:lnTo>
                    <a:lnTo>
                      <a:pt x="445" y="444"/>
                    </a:lnTo>
                    <a:lnTo>
                      <a:pt x="445" y="447"/>
                    </a:lnTo>
                    <a:lnTo>
                      <a:pt x="445" y="449"/>
                    </a:lnTo>
                    <a:lnTo>
                      <a:pt x="446" y="450"/>
                    </a:lnTo>
                    <a:lnTo>
                      <a:pt x="449" y="460"/>
                    </a:lnTo>
                    <a:lnTo>
                      <a:pt x="458" y="468"/>
                    </a:lnTo>
                    <a:lnTo>
                      <a:pt x="469" y="474"/>
                    </a:lnTo>
                    <a:lnTo>
                      <a:pt x="486" y="478"/>
                    </a:lnTo>
                    <a:lnTo>
                      <a:pt x="506" y="481"/>
                    </a:lnTo>
                    <a:lnTo>
                      <a:pt x="529" y="484"/>
                    </a:lnTo>
                    <a:lnTo>
                      <a:pt x="556" y="484"/>
                    </a:lnTo>
                    <a:lnTo>
                      <a:pt x="585" y="484"/>
                    </a:lnTo>
                    <a:lnTo>
                      <a:pt x="594" y="484"/>
                    </a:lnTo>
                    <a:lnTo>
                      <a:pt x="602" y="484"/>
                    </a:lnTo>
                    <a:lnTo>
                      <a:pt x="627" y="483"/>
                    </a:lnTo>
                    <a:lnTo>
                      <a:pt x="659" y="483"/>
                    </a:lnTo>
                    <a:lnTo>
                      <a:pt x="696" y="480"/>
                    </a:lnTo>
                    <a:lnTo>
                      <a:pt x="736" y="478"/>
                    </a:lnTo>
                    <a:lnTo>
                      <a:pt x="771" y="474"/>
                    </a:lnTo>
                    <a:lnTo>
                      <a:pt x="800" y="470"/>
                    </a:lnTo>
                    <a:lnTo>
                      <a:pt x="815" y="466"/>
                    </a:lnTo>
                    <a:lnTo>
                      <a:pt x="824" y="460"/>
                    </a:lnTo>
                    <a:lnTo>
                      <a:pt x="831" y="451"/>
                    </a:lnTo>
                    <a:lnTo>
                      <a:pt x="838" y="437"/>
                    </a:lnTo>
                    <a:lnTo>
                      <a:pt x="844" y="412"/>
                    </a:lnTo>
                    <a:lnTo>
                      <a:pt x="849" y="373"/>
                    </a:lnTo>
                    <a:lnTo>
                      <a:pt x="853" y="318"/>
                    </a:lnTo>
                    <a:lnTo>
                      <a:pt x="856" y="243"/>
                    </a:lnTo>
                    <a:lnTo>
                      <a:pt x="858" y="144"/>
                    </a:lnTo>
                    <a:lnTo>
                      <a:pt x="862" y="142"/>
                    </a:lnTo>
                    <a:lnTo>
                      <a:pt x="868" y="142"/>
                    </a:lnTo>
                    <a:lnTo>
                      <a:pt x="872" y="142"/>
                    </a:lnTo>
                    <a:lnTo>
                      <a:pt x="876" y="141"/>
                    </a:lnTo>
                    <a:lnTo>
                      <a:pt x="879" y="256"/>
                    </a:lnTo>
                    <a:lnTo>
                      <a:pt x="882" y="487"/>
                    </a:lnTo>
                    <a:lnTo>
                      <a:pt x="885" y="712"/>
                    </a:lnTo>
                    <a:lnTo>
                      <a:pt x="886" y="814"/>
                    </a:lnTo>
                    <a:lnTo>
                      <a:pt x="893" y="817"/>
                    </a:lnTo>
                    <a:lnTo>
                      <a:pt x="902" y="823"/>
                    </a:lnTo>
                    <a:lnTo>
                      <a:pt x="912" y="831"/>
                    </a:lnTo>
                    <a:lnTo>
                      <a:pt x="920" y="843"/>
                    </a:lnTo>
                    <a:lnTo>
                      <a:pt x="924" y="856"/>
                    </a:lnTo>
                    <a:lnTo>
                      <a:pt x="924" y="866"/>
                    </a:lnTo>
                    <a:lnTo>
                      <a:pt x="927" y="866"/>
                    </a:lnTo>
                    <a:lnTo>
                      <a:pt x="937" y="868"/>
                    </a:lnTo>
                    <a:lnTo>
                      <a:pt x="951" y="871"/>
                    </a:lnTo>
                    <a:lnTo>
                      <a:pt x="971" y="874"/>
                    </a:lnTo>
                    <a:lnTo>
                      <a:pt x="997" y="880"/>
                    </a:lnTo>
                    <a:lnTo>
                      <a:pt x="1026" y="884"/>
                    </a:lnTo>
                    <a:lnTo>
                      <a:pt x="1059" y="891"/>
                    </a:lnTo>
                    <a:lnTo>
                      <a:pt x="1096" y="898"/>
                    </a:lnTo>
                    <a:lnTo>
                      <a:pt x="1137" y="905"/>
                    </a:lnTo>
                    <a:lnTo>
                      <a:pt x="1180" y="914"/>
                    </a:lnTo>
                    <a:lnTo>
                      <a:pt x="1225" y="922"/>
                    </a:lnTo>
                    <a:lnTo>
                      <a:pt x="1273" y="931"/>
                    </a:lnTo>
                    <a:lnTo>
                      <a:pt x="1321" y="941"/>
                    </a:lnTo>
                    <a:lnTo>
                      <a:pt x="1372" y="951"/>
                    </a:lnTo>
                    <a:lnTo>
                      <a:pt x="1424" y="959"/>
                    </a:lnTo>
                    <a:lnTo>
                      <a:pt x="1476" y="969"/>
                    </a:lnTo>
                    <a:lnTo>
                      <a:pt x="1527" y="979"/>
                    </a:lnTo>
                    <a:lnTo>
                      <a:pt x="1578" y="989"/>
                    </a:lnTo>
                    <a:lnTo>
                      <a:pt x="1629" y="999"/>
                    </a:lnTo>
                    <a:lnTo>
                      <a:pt x="1679" y="1007"/>
                    </a:lnTo>
                    <a:lnTo>
                      <a:pt x="1727" y="1017"/>
                    </a:lnTo>
                    <a:lnTo>
                      <a:pt x="1774" y="1026"/>
                    </a:lnTo>
                    <a:lnTo>
                      <a:pt x="1818" y="1034"/>
                    </a:lnTo>
                    <a:lnTo>
                      <a:pt x="1859" y="1041"/>
                    </a:lnTo>
                    <a:lnTo>
                      <a:pt x="1896" y="1048"/>
                    </a:lnTo>
                    <a:lnTo>
                      <a:pt x="1931" y="1056"/>
                    </a:lnTo>
                    <a:lnTo>
                      <a:pt x="1961" y="1061"/>
                    </a:lnTo>
                    <a:lnTo>
                      <a:pt x="1986" y="1065"/>
                    </a:lnTo>
                    <a:lnTo>
                      <a:pt x="2009" y="1070"/>
                    </a:lnTo>
                    <a:lnTo>
                      <a:pt x="2025" y="1073"/>
                    </a:lnTo>
                    <a:lnTo>
                      <a:pt x="2036" y="1074"/>
                    </a:lnTo>
                    <a:lnTo>
                      <a:pt x="2040" y="1075"/>
                    </a:lnTo>
                    <a:lnTo>
                      <a:pt x="2040" y="1115"/>
                    </a:lnTo>
                    <a:lnTo>
                      <a:pt x="2042" y="1189"/>
                    </a:lnTo>
                    <a:lnTo>
                      <a:pt x="2043" y="1264"/>
                    </a:lnTo>
                    <a:lnTo>
                      <a:pt x="2043" y="1307"/>
                    </a:lnTo>
                    <a:lnTo>
                      <a:pt x="2038" y="1307"/>
                    </a:lnTo>
                    <a:lnTo>
                      <a:pt x="2030" y="1305"/>
                    </a:lnTo>
                    <a:lnTo>
                      <a:pt x="2025" y="1305"/>
                    </a:lnTo>
                    <a:lnTo>
                      <a:pt x="2018" y="1305"/>
                    </a:lnTo>
                    <a:lnTo>
                      <a:pt x="2011" y="1304"/>
                    </a:lnTo>
                    <a:lnTo>
                      <a:pt x="2004" y="1304"/>
                    </a:lnTo>
                    <a:lnTo>
                      <a:pt x="1998" y="1304"/>
                    </a:lnTo>
                    <a:lnTo>
                      <a:pt x="1992" y="1304"/>
                    </a:lnTo>
                    <a:lnTo>
                      <a:pt x="1992" y="1260"/>
                    </a:lnTo>
                    <a:lnTo>
                      <a:pt x="1991" y="1183"/>
                    </a:lnTo>
                    <a:lnTo>
                      <a:pt x="1989" y="1111"/>
                    </a:lnTo>
                    <a:lnTo>
                      <a:pt x="1989" y="1078"/>
                    </a:lnTo>
                    <a:lnTo>
                      <a:pt x="1927" y="1068"/>
                    </a:lnTo>
                    <a:lnTo>
                      <a:pt x="1927" y="1101"/>
                    </a:lnTo>
                    <a:lnTo>
                      <a:pt x="1926" y="1176"/>
                    </a:lnTo>
                    <a:lnTo>
                      <a:pt x="1924" y="1254"/>
                    </a:lnTo>
                    <a:lnTo>
                      <a:pt x="1924" y="1300"/>
                    </a:lnTo>
                    <a:lnTo>
                      <a:pt x="1917" y="1300"/>
                    </a:lnTo>
                    <a:lnTo>
                      <a:pt x="1907" y="1298"/>
                    </a:lnTo>
                    <a:lnTo>
                      <a:pt x="1897" y="1298"/>
                    </a:lnTo>
                    <a:lnTo>
                      <a:pt x="1886" y="1297"/>
                    </a:lnTo>
                    <a:lnTo>
                      <a:pt x="1874" y="1295"/>
                    </a:lnTo>
                    <a:lnTo>
                      <a:pt x="1865" y="1295"/>
                    </a:lnTo>
                    <a:lnTo>
                      <a:pt x="1856" y="1294"/>
                    </a:lnTo>
                    <a:lnTo>
                      <a:pt x="1849" y="1294"/>
                    </a:lnTo>
                    <a:lnTo>
                      <a:pt x="1849" y="1250"/>
                    </a:lnTo>
                    <a:lnTo>
                      <a:pt x="1850" y="1170"/>
                    </a:lnTo>
                    <a:lnTo>
                      <a:pt x="1852" y="1095"/>
                    </a:lnTo>
                    <a:lnTo>
                      <a:pt x="1852" y="1063"/>
                    </a:lnTo>
                    <a:lnTo>
                      <a:pt x="1785" y="1040"/>
                    </a:lnTo>
                    <a:lnTo>
                      <a:pt x="1785" y="1077"/>
                    </a:lnTo>
                    <a:lnTo>
                      <a:pt x="1784" y="1158"/>
                    </a:lnTo>
                    <a:lnTo>
                      <a:pt x="1781" y="1244"/>
                    </a:lnTo>
                    <a:lnTo>
                      <a:pt x="1781" y="1292"/>
                    </a:lnTo>
                    <a:lnTo>
                      <a:pt x="1775" y="1292"/>
                    </a:lnTo>
                    <a:lnTo>
                      <a:pt x="1767" y="1292"/>
                    </a:lnTo>
                    <a:lnTo>
                      <a:pt x="1758" y="1292"/>
                    </a:lnTo>
                    <a:lnTo>
                      <a:pt x="1750" y="1291"/>
                    </a:lnTo>
                    <a:lnTo>
                      <a:pt x="1741" y="1291"/>
                    </a:lnTo>
                    <a:lnTo>
                      <a:pt x="1733" y="1291"/>
                    </a:lnTo>
                    <a:lnTo>
                      <a:pt x="1724" y="1290"/>
                    </a:lnTo>
                    <a:lnTo>
                      <a:pt x="1718" y="1290"/>
                    </a:lnTo>
                    <a:lnTo>
                      <a:pt x="1718" y="1243"/>
                    </a:lnTo>
                    <a:lnTo>
                      <a:pt x="1720" y="1158"/>
                    </a:lnTo>
                    <a:lnTo>
                      <a:pt x="1721" y="1077"/>
                    </a:lnTo>
                    <a:lnTo>
                      <a:pt x="1721" y="1041"/>
                    </a:lnTo>
                    <a:lnTo>
                      <a:pt x="1656" y="1022"/>
                    </a:lnTo>
                    <a:lnTo>
                      <a:pt x="1658" y="1122"/>
                    </a:lnTo>
                    <a:lnTo>
                      <a:pt x="1659" y="1346"/>
                    </a:lnTo>
                    <a:lnTo>
                      <a:pt x="1660" y="1573"/>
                    </a:lnTo>
                    <a:lnTo>
                      <a:pt x="1662" y="1685"/>
                    </a:lnTo>
                    <a:lnTo>
                      <a:pt x="1655" y="1685"/>
                    </a:lnTo>
                    <a:lnTo>
                      <a:pt x="1648" y="1687"/>
                    </a:lnTo>
                    <a:lnTo>
                      <a:pt x="1638" y="1688"/>
                    </a:lnTo>
                    <a:lnTo>
                      <a:pt x="1626" y="1690"/>
                    </a:lnTo>
                    <a:lnTo>
                      <a:pt x="1616" y="1690"/>
                    </a:lnTo>
                    <a:lnTo>
                      <a:pt x="1606" y="1691"/>
                    </a:lnTo>
                    <a:lnTo>
                      <a:pt x="1597" y="1692"/>
                    </a:lnTo>
                    <a:lnTo>
                      <a:pt x="1589" y="1694"/>
                    </a:lnTo>
                    <a:lnTo>
                      <a:pt x="1589" y="1576"/>
                    </a:lnTo>
                    <a:lnTo>
                      <a:pt x="1588" y="1343"/>
                    </a:lnTo>
                    <a:lnTo>
                      <a:pt x="1585" y="1115"/>
                    </a:lnTo>
                    <a:lnTo>
                      <a:pt x="1585" y="1012"/>
                    </a:lnTo>
                    <a:lnTo>
                      <a:pt x="1524" y="992"/>
                    </a:lnTo>
                    <a:lnTo>
                      <a:pt x="1524" y="1031"/>
                    </a:lnTo>
                    <a:lnTo>
                      <a:pt x="1524" y="1121"/>
                    </a:lnTo>
                    <a:lnTo>
                      <a:pt x="1523" y="1214"/>
                    </a:lnTo>
                    <a:lnTo>
                      <a:pt x="1523" y="1265"/>
                    </a:lnTo>
                    <a:lnTo>
                      <a:pt x="1513" y="1265"/>
                    </a:lnTo>
                    <a:lnTo>
                      <a:pt x="1499" y="1265"/>
                    </a:lnTo>
                    <a:lnTo>
                      <a:pt x="1482" y="1265"/>
                    </a:lnTo>
                    <a:lnTo>
                      <a:pt x="1463" y="1265"/>
                    </a:lnTo>
                    <a:lnTo>
                      <a:pt x="1443" y="1265"/>
                    </a:lnTo>
                    <a:lnTo>
                      <a:pt x="1426" y="1265"/>
                    </a:lnTo>
                    <a:lnTo>
                      <a:pt x="1412" y="1265"/>
                    </a:lnTo>
                    <a:lnTo>
                      <a:pt x="1402" y="1265"/>
                    </a:lnTo>
                    <a:lnTo>
                      <a:pt x="1404" y="1210"/>
                    </a:lnTo>
                    <a:lnTo>
                      <a:pt x="1407" y="1111"/>
                    </a:lnTo>
                    <a:lnTo>
                      <a:pt x="1408" y="1014"/>
                    </a:lnTo>
                    <a:lnTo>
                      <a:pt x="1409" y="972"/>
                    </a:lnTo>
                    <a:lnTo>
                      <a:pt x="1343" y="962"/>
                    </a:lnTo>
                    <a:lnTo>
                      <a:pt x="1341" y="1006"/>
                    </a:lnTo>
                    <a:lnTo>
                      <a:pt x="1340" y="1102"/>
                    </a:lnTo>
                    <a:lnTo>
                      <a:pt x="1337" y="1203"/>
                    </a:lnTo>
                    <a:lnTo>
                      <a:pt x="1336" y="1258"/>
                    </a:lnTo>
                    <a:lnTo>
                      <a:pt x="1324" y="1258"/>
                    </a:lnTo>
                    <a:lnTo>
                      <a:pt x="1307" y="1258"/>
                    </a:lnTo>
                    <a:lnTo>
                      <a:pt x="1286" y="1258"/>
                    </a:lnTo>
                    <a:lnTo>
                      <a:pt x="1263" y="1258"/>
                    </a:lnTo>
                    <a:lnTo>
                      <a:pt x="1239" y="1258"/>
                    </a:lnTo>
                    <a:lnTo>
                      <a:pt x="1218" y="1258"/>
                    </a:lnTo>
                    <a:lnTo>
                      <a:pt x="1201" y="1258"/>
                    </a:lnTo>
                    <a:lnTo>
                      <a:pt x="1190" y="1258"/>
                    </a:lnTo>
                    <a:lnTo>
                      <a:pt x="1191" y="1199"/>
                    </a:lnTo>
                    <a:lnTo>
                      <a:pt x="1192" y="1088"/>
                    </a:lnTo>
                    <a:lnTo>
                      <a:pt x="1194" y="982"/>
                    </a:lnTo>
                    <a:lnTo>
                      <a:pt x="1194" y="934"/>
                    </a:lnTo>
                    <a:lnTo>
                      <a:pt x="1124" y="919"/>
                    </a:lnTo>
                    <a:lnTo>
                      <a:pt x="1124" y="969"/>
                    </a:lnTo>
                    <a:lnTo>
                      <a:pt x="1124" y="1080"/>
                    </a:lnTo>
                    <a:lnTo>
                      <a:pt x="1124" y="1196"/>
                    </a:lnTo>
                    <a:lnTo>
                      <a:pt x="1124" y="1258"/>
                    </a:lnTo>
                    <a:lnTo>
                      <a:pt x="1116" y="1258"/>
                    </a:lnTo>
                    <a:lnTo>
                      <a:pt x="1107" y="1257"/>
                    </a:lnTo>
                    <a:lnTo>
                      <a:pt x="1099" y="1257"/>
                    </a:lnTo>
                    <a:lnTo>
                      <a:pt x="1090" y="1257"/>
                    </a:lnTo>
                    <a:lnTo>
                      <a:pt x="1090" y="1195"/>
                    </a:lnTo>
                    <a:lnTo>
                      <a:pt x="1090" y="1075"/>
                    </a:lnTo>
                    <a:lnTo>
                      <a:pt x="1090" y="962"/>
                    </a:lnTo>
                    <a:lnTo>
                      <a:pt x="1090" y="911"/>
                    </a:lnTo>
                    <a:lnTo>
                      <a:pt x="954" y="887"/>
                    </a:lnTo>
                    <a:lnTo>
                      <a:pt x="951" y="1766"/>
                    </a:lnTo>
                    <a:lnTo>
                      <a:pt x="1097" y="1752"/>
                    </a:lnTo>
                    <a:lnTo>
                      <a:pt x="1097" y="1690"/>
                    </a:lnTo>
                    <a:lnTo>
                      <a:pt x="1096" y="1551"/>
                    </a:lnTo>
                    <a:lnTo>
                      <a:pt x="1093" y="1407"/>
                    </a:lnTo>
                    <a:lnTo>
                      <a:pt x="1093" y="1332"/>
                    </a:lnTo>
                    <a:lnTo>
                      <a:pt x="1100" y="1332"/>
                    </a:lnTo>
                    <a:lnTo>
                      <a:pt x="1109" y="1332"/>
                    </a:lnTo>
                    <a:lnTo>
                      <a:pt x="1117" y="1332"/>
                    </a:lnTo>
                    <a:lnTo>
                      <a:pt x="1126" y="1332"/>
                    </a:lnTo>
                    <a:lnTo>
                      <a:pt x="1126" y="1407"/>
                    </a:lnTo>
                    <a:lnTo>
                      <a:pt x="1124" y="1548"/>
                    </a:lnTo>
                    <a:lnTo>
                      <a:pt x="1123" y="1685"/>
                    </a:lnTo>
                    <a:lnTo>
                      <a:pt x="1123" y="1748"/>
                    </a:lnTo>
                    <a:lnTo>
                      <a:pt x="1212" y="1738"/>
                    </a:lnTo>
                    <a:lnTo>
                      <a:pt x="1212" y="1728"/>
                    </a:lnTo>
                    <a:lnTo>
                      <a:pt x="1214" y="1702"/>
                    </a:lnTo>
                    <a:lnTo>
                      <a:pt x="1216" y="1671"/>
                    </a:lnTo>
                    <a:lnTo>
                      <a:pt x="1219" y="1636"/>
                    </a:lnTo>
                    <a:lnTo>
                      <a:pt x="1225" y="1597"/>
                    </a:lnTo>
                    <a:lnTo>
                      <a:pt x="1234" y="1560"/>
                    </a:lnTo>
                    <a:lnTo>
                      <a:pt x="1242" y="1528"/>
                    </a:lnTo>
                    <a:lnTo>
                      <a:pt x="1253" y="1501"/>
                    </a:lnTo>
                    <a:lnTo>
                      <a:pt x="1268" y="1482"/>
                    </a:lnTo>
                    <a:lnTo>
                      <a:pt x="1270" y="1480"/>
                    </a:lnTo>
                    <a:lnTo>
                      <a:pt x="1275" y="1477"/>
                    </a:lnTo>
                    <a:lnTo>
                      <a:pt x="1279" y="1475"/>
                    </a:lnTo>
                    <a:lnTo>
                      <a:pt x="1282" y="1475"/>
                    </a:lnTo>
                    <a:lnTo>
                      <a:pt x="1299" y="1481"/>
                    </a:lnTo>
                    <a:lnTo>
                      <a:pt x="1313" y="1494"/>
                    </a:lnTo>
                    <a:lnTo>
                      <a:pt x="1324" y="1512"/>
                    </a:lnTo>
                    <a:lnTo>
                      <a:pt x="1331" y="1535"/>
                    </a:lnTo>
                    <a:lnTo>
                      <a:pt x="1337" y="1558"/>
                    </a:lnTo>
                    <a:lnTo>
                      <a:pt x="1340" y="1582"/>
                    </a:lnTo>
                    <a:lnTo>
                      <a:pt x="1343" y="1603"/>
                    </a:lnTo>
                    <a:lnTo>
                      <a:pt x="1344" y="1620"/>
                    </a:lnTo>
                    <a:lnTo>
                      <a:pt x="1347" y="1647"/>
                    </a:lnTo>
                    <a:lnTo>
                      <a:pt x="1358" y="1646"/>
                    </a:lnTo>
                    <a:lnTo>
                      <a:pt x="1364" y="1646"/>
                    </a:lnTo>
                    <a:lnTo>
                      <a:pt x="1381" y="1644"/>
                    </a:lnTo>
                    <a:lnTo>
                      <a:pt x="1407" y="1643"/>
                    </a:lnTo>
                    <a:lnTo>
                      <a:pt x="1435" y="1641"/>
                    </a:lnTo>
                    <a:lnTo>
                      <a:pt x="1465" y="1640"/>
                    </a:lnTo>
                    <a:lnTo>
                      <a:pt x="1492" y="1638"/>
                    </a:lnTo>
                    <a:lnTo>
                      <a:pt x="1514" y="1637"/>
                    </a:lnTo>
                    <a:lnTo>
                      <a:pt x="1527" y="1636"/>
                    </a:lnTo>
                    <a:lnTo>
                      <a:pt x="1527" y="1663"/>
                    </a:lnTo>
                    <a:lnTo>
                      <a:pt x="1528" y="1705"/>
                    </a:lnTo>
                    <a:lnTo>
                      <a:pt x="1530" y="1742"/>
                    </a:lnTo>
                    <a:lnTo>
                      <a:pt x="1530" y="1759"/>
                    </a:lnTo>
                    <a:lnTo>
                      <a:pt x="1726" y="1736"/>
                    </a:lnTo>
                    <a:lnTo>
                      <a:pt x="1726" y="1721"/>
                    </a:lnTo>
                    <a:lnTo>
                      <a:pt x="1726" y="1685"/>
                    </a:lnTo>
                    <a:lnTo>
                      <a:pt x="1726" y="1647"/>
                    </a:lnTo>
                    <a:lnTo>
                      <a:pt x="1726" y="1621"/>
                    </a:lnTo>
                    <a:lnTo>
                      <a:pt x="1736" y="1620"/>
                    </a:lnTo>
                    <a:lnTo>
                      <a:pt x="1753" y="1619"/>
                    </a:lnTo>
                    <a:lnTo>
                      <a:pt x="1772" y="1617"/>
                    </a:lnTo>
                    <a:lnTo>
                      <a:pt x="1795" y="1616"/>
                    </a:lnTo>
                    <a:lnTo>
                      <a:pt x="1815" y="1614"/>
                    </a:lnTo>
                    <a:lnTo>
                      <a:pt x="1833" y="1613"/>
                    </a:lnTo>
                    <a:lnTo>
                      <a:pt x="1846" y="1612"/>
                    </a:lnTo>
                    <a:lnTo>
                      <a:pt x="1850" y="1612"/>
                    </a:lnTo>
                    <a:lnTo>
                      <a:pt x="1852" y="1602"/>
                    </a:lnTo>
                    <a:lnTo>
                      <a:pt x="1859" y="1553"/>
                    </a:lnTo>
                    <a:lnTo>
                      <a:pt x="1869" y="1512"/>
                    </a:lnTo>
                    <a:lnTo>
                      <a:pt x="1879" y="1481"/>
                    </a:lnTo>
                    <a:lnTo>
                      <a:pt x="1889" y="1468"/>
                    </a:lnTo>
                    <a:lnTo>
                      <a:pt x="1889" y="1468"/>
                    </a:lnTo>
                    <a:lnTo>
                      <a:pt x="1890" y="1470"/>
                    </a:lnTo>
                    <a:lnTo>
                      <a:pt x="1891" y="1470"/>
                    </a:lnTo>
                    <a:lnTo>
                      <a:pt x="1893" y="1471"/>
                    </a:lnTo>
                    <a:lnTo>
                      <a:pt x="1906" y="1494"/>
                    </a:lnTo>
                    <a:lnTo>
                      <a:pt x="1916" y="1528"/>
                    </a:lnTo>
                    <a:lnTo>
                      <a:pt x="1921" y="1562"/>
                    </a:lnTo>
                    <a:lnTo>
                      <a:pt x="1924" y="1587"/>
                    </a:lnTo>
                    <a:lnTo>
                      <a:pt x="1924" y="1589"/>
                    </a:lnTo>
                    <a:lnTo>
                      <a:pt x="1924" y="1589"/>
                    </a:lnTo>
                    <a:lnTo>
                      <a:pt x="1924" y="1590"/>
                    </a:lnTo>
                    <a:lnTo>
                      <a:pt x="1924" y="1592"/>
                    </a:lnTo>
                    <a:lnTo>
                      <a:pt x="1921" y="1607"/>
                    </a:lnTo>
                    <a:lnTo>
                      <a:pt x="2110" y="1572"/>
                    </a:lnTo>
                    <a:lnTo>
                      <a:pt x="2108" y="1470"/>
                    </a:lnTo>
                    <a:lnTo>
                      <a:pt x="2107" y="1241"/>
                    </a:lnTo>
                    <a:lnTo>
                      <a:pt x="2104" y="1009"/>
                    </a:lnTo>
                    <a:lnTo>
                      <a:pt x="2103" y="894"/>
                    </a:lnTo>
                    <a:lnTo>
                      <a:pt x="2107" y="894"/>
                    </a:lnTo>
                    <a:lnTo>
                      <a:pt x="2108" y="894"/>
                    </a:lnTo>
                    <a:lnTo>
                      <a:pt x="2111" y="894"/>
                    </a:lnTo>
                    <a:lnTo>
                      <a:pt x="2114" y="894"/>
                    </a:lnTo>
                    <a:lnTo>
                      <a:pt x="2116" y="1014"/>
                    </a:lnTo>
                    <a:lnTo>
                      <a:pt x="2118" y="1261"/>
                    </a:lnTo>
                    <a:lnTo>
                      <a:pt x="2120" y="1508"/>
                    </a:lnTo>
                    <a:lnTo>
                      <a:pt x="2121" y="1626"/>
                    </a:lnTo>
                    <a:lnTo>
                      <a:pt x="2108" y="1630"/>
                    </a:lnTo>
                    <a:lnTo>
                      <a:pt x="2086" y="1637"/>
                    </a:lnTo>
                    <a:lnTo>
                      <a:pt x="2055" y="1647"/>
                    </a:lnTo>
                    <a:lnTo>
                      <a:pt x="2021" y="1658"/>
                    </a:lnTo>
                    <a:lnTo>
                      <a:pt x="1988" y="1668"/>
                    </a:lnTo>
                    <a:lnTo>
                      <a:pt x="1960" y="1678"/>
                    </a:lnTo>
                    <a:lnTo>
                      <a:pt x="1938" y="1684"/>
                    </a:lnTo>
                    <a:lnTo>
                      <a:pt x="1931" y="1687"/>
                    </a:lnTo>
                    <a:lnTo>
                      <a:pt x="1931" y="1695"/>
                    </a:lnTo>
                    <a:lnTo>
                      <a:pt x="1930" y="1704"/>
                    </a:lnTo>
                    <a:lnTo>
                      <a:pt x="1927" y="1724"/>
                    </a:lnTo>
                    <a:lnTo>
                      <a:pt x="1916" y="1746"/>
                    </a:lnTo>
                    <a:lnTo>
                      <a:pt x="1897" y="1766"/>
                    </a:lnTo>
                    <a:lnTo>
                      <a:pt x="1891" y="1766"/>
                    </a:lnTo>
                    <a:lnTo>
                      <a:pt x="1882" y="1765"/>
                    </a:lnTo>
                    <a:lnTo>
                      <a:pt x="1869" y="1763"/>
                    </a:lnTo>
                    <a:lnTo>
                      <a:pt x="1853" y="1762"/>
                    </a:lnTo>
                    <a:lnTo>
                      <a:pt x="1838" y="1762"/>
                    </a:lnTo>
                    <a:lnTo>
                      <a:pt x="1825" y="1760"/>
                    </a:lnTo>
                    <a:lnTo>
                      <a:pt x="1813" y="1759"/>
                    </a:lnTo>
                    <a:lnTo>
                      <a:pt x="1806" y="1759"/>
                    </a:lnTo>
                    <a:lnTo>
                      <a:pt x="1804" y="1752"/>
                    </a:lnTo>
                    <a:lnTo>
                      <a:pt x="1798" y="1742"/>
                    </a:lnTo>
                    <a:lnTo>
                      <a:pt x="1794" y="1733"/>
                    </a:lnTo>
                    <a:lnTo>
                      <a:pt x="1792" y="1731"/>
                    </a:lnTo>
                    <a:lnTo>
                      <a:pt x="1321" y="1794"/>
                    </a:lnTo>
                    <a:lnTo>
                      <a:pt x="1319" y="1802"/>
                    </a:lnTo>
                    <a:lnTo>
                      <a:pt x="1317" y="1806"/>
                    </a:lnTo>
                    <a:lnTo>
                      <a:pt x="1314" y="1814"/>
                    </a:lnTo>
                    <a:lnTo>
                      <a:pt x="1310" y="1826"/>
                    </a:lnTo>
                    <a:lnTo>
                      <a:pt x="1304" y="1838"/>
                    </a:lnTo>
                    <a:lnTo>
                      <a:pt x="1294" y="1853"/>
                    </a:lnTo>
                    <a:lnTo>
                      <a:pt x="1285" y="1864"/>
                    </a:lnTo>
                    <a:lnTo>
                      <a:pt x="1270" y="1872"/>
                    </a:lnTo>
                    <a:lnTo>
                      <a:pt x="1255" y="1875"/>
                    </a:lnTo>
                    <a:lnTo>
                      <a:pt x="1238" y="1875"/>
                    </a:lnTo>
                    <a:lnTo>
                      <a:pt x="1222" y="1874"/>
                    </a:lnTo>
                    <a:lnTo>
                      <a:pt x="1207" y="1874"/>
                    </a:lnTo>
                    <a:lnTo>
                      <a:pt x="1192" y="1872"/>
                    </a:lnTo>
                    <a:lnTo>
                      <a:pt x="1180" y="1871"/>
                    </a:lnTo>
                    <a:lnTo>
                      <a:pt x="1168" y="1870"/>
                    </a:lnTo>
                    <a:lnTo>
                      <a:pt x="1160" y="1870"/>
                    </a:lnTo>
                    <a:lnTo>
                      <a:pt x="1153" y="1868"/>
                    </a:lnTo>
                    <a:lnTo>
                      <a:pt x="1146" y="1858"/>
                    </a:lnTo>
                    <a:lnTo>
                      <a:pt x="1139" y="1846"/>
                    </a:lnTo>
                    <a:lnTo>
                      <a:pt x="1133" y="1833"/>
                    </a:lnTo>
                    <a:lnTo>
                      <a:pt x="1130" y="1819"/>
                    </a:lnTo>
                    <a:lnTo>
                      <a:pt x="1130" y="1806"/>
                    </a:lnTo>
                    <a:lnTo>
                      <a:pt x="983" y="1817"/>
                    </a:lnTo>
                    <a:lnTo>
                      <a:pt x="975" y="1817"/>
                    </a:lnTo>
                    <a:lnTo>
                      <a:pt x="957" y="1816"/>
                    </a:lnTo>
                    <a:lnTo>
                      <a:pt x="929" y="1814"/>
                    </a:lnTo>
                    <a:lnTo>
                      <a:pt x="890" y="1813"/>
                    </a:lnTo>
                    <a:lnTo>
                      <a:pt x="845" y="1811"/>
                    </a:lnTo>
                    <a:lnTo>
                      <a:pt x="795" y="1809"/>
                    </a:lnTo>
                    <a:lnTo>
                      <a:pt x="741" y="1806"/>
                    </a:lnTo>
                    <a:lnTo>
                      <a:pt x="686" y="1803"/>
                    </a:lnTo>
                    <a:lnTo>
                      <a:pt x="631" y="1802"/>
                    </a:lnTo>
                    <a:lnTo>
                      <a:pt x="578" y="1799"/>
                    </a:lnTo>
                    <a:lnTo>
                      <a:pt x="527" y="1796"/>
                    </a:lnTo>
                    <a:lnTo>
                      <a:pt x="482" y="1794"/>
                    </a:lnTo>
                    <a:lnTo>
                      <a:pt x="445" y="1793"/>
                    </a:lnTo>
                    <a:lnTo>
                      <a:pt x="415" y="1792"/>
                    </a:lnTo>
                    <a:lnTo>
                      <a:pt x="397" y="1790"/>
                    </a:lnTo>
                    <a:lnTo>
                      <a:pt x="390" y="1790"/>
                    </a:lnTo>
                    <a:lnTo>
                      <a:pt x="384" y="1789"/>
                    </a:lnTo>
                    <a:lnTo>
                      <a:pt x="380" y="1794"/>
                    </a:lnTo>
                    <a:lnTo>
                      <a:pt x="378" y="1797"/>
                    </a:lnTo>
                    <a:lnTo>
                      <a:pt x="373" y="1803"/>
                    </a:lnTo>
                    <a:lnTo>
                      <a:pt x="363" y="1813"/>
                    </a:lnTo>
                    <a:lnTo>
                      <a:pt x="350" y="1823"/>
                    </a:lnTo>
                    <a:lnTo>
                      <a:pt x="334" y="1833"/>
                    </a:lnTo>
                    <a:lnTo>
                      <a:pt x="315" y="1843"/>
                    </a:lnTo>
                    <a:lnTo>
                      <a:pt x="292" y="1848"/>
                    </a:lnTo>
                    <a:lnTo>
                      <a:pt x="266" y="1851"/>
                    </a:lnTo>
                    <a:lnTo>
                      <a:pt x="241" y="1850"/>
                    </a:lnTo>
                    <a:lnTo>
                      <a:pt x="215" y="1847"/>
                    </a:lnTo>
                    <a:lnTo>
                      <a:pt x="194" y="1841"/>
                    </a:lnTo>
                    <a:lnTo>
                      <a:pt x="176" y="1834"/>
                    </a:lnTo>
                    <a:lnTo>
                      <a:pt x="159" y="1826"/>
                    </a:lnTo>
                    <a:lnTo>
                      <a:pt x="146" y="1814"/>
                    </a:lnTo>
                    <a:lnTo>
                      <a:pt x="137" y="1803"/>
                    </a:lnTo>
                    <a:lnTo>
                      <a:pt x="132" y="1789"/>
                    </a:lnTo>
                    <a:lnTo>
                      <a:pt x="130" y="1780"/>
                    </a:lnTo>
                    <a:lnTo>
                      <a:pt x="126" y="1780"/>
                    </a:lnTo>
                    <a:lnTo>
                      <a:pt x="116" y="1779"/>
                    </a:lnTo>
                    <a:lnTo>
                      <a:pt x="100" y="1776"/>
                    </a:lnTo>
                    <a:lnTo>
                      <a:pt x="83" y="1775"/>
                    </a:lnTo>
                    <a:lnTo>
                      <a:pt x="64" y="1772"/>
                    </a:lnTo>
                    <a:lnTo>
                      <a:pt x="47" y="1770"/>
                    </a:lnTo>
                    <a:lnTo>
                      <a:pt x="32" y="1769"/>
                    </a:lnTo>
                    <a:lnTo>
                      <a:pt x="22" y="1768"/>
                    </a:lnTo>
                    <a:lnTo>
                      <a:pt x="22" y="1741"/>
                    </a:lnTo>
                    <a:lnTo>
                      <a:pt x="22" y="1695"/>
                    </a:lnTo>
                    <a:lnTo>
                      <a:pt x="22" y="1651"/>
                    </a:lnTo>
                    <a:lnTo>
                      <a:pt x="22" y="1623"/>
                    </a:lnTo>
                    <a:lnTo>
                      <a:pt x="37" y="1623"/>
                    </a:lnTo>
                    <a:lnTo>
                      <a:pt x="68" y="1623"/>
                    </a:lnTo>
                    <a:lnTo>
                      <a:pt x="113" y="1624"/>
                    </a:lnTo>
                    <a:lnTo>
                      <a:pt x="173" y="1624"/>
                    </a:lnTo>
                    <a:lnTo>
                      <a:pt x="241" y="1626"/>
                    </a:lnTo>
                    <a:lnTo>
                      <a:pt x="316" y="1626"/>
                    </a:lnTo>
                    <a:lnTo>
                      <a:pt x="397" y="1627"/>
                    </a:lnTo>
                    <a:lnTo>
                      <a:pt x="481" y="1627"/>
                    </a:lnTo>
                    <a:lnTo>
                      <a:pt x="563" y="1629"/>
                    </a:lnTo>
                    <a:lnTo>
                      <a:pt x="642" y="1630"/>
                    </a:lnTo>
                    <a:lnTo>
                      <a:pt x="716" y="1630"/>
                    </a:lnTo>
                    <a:lnTo>
                      <a:pt x="783" y="1631"/>
                    </a:lnTo>
                    <a:lnTo>
                      <a:pt x="839" y="1631"/>
                    </a:lnTo>
                    <a:lnTo>
                      <a:pt x="882" y="1633"/>
                    </a:lnTo>
                    <a:lnTo>
                      <a:pt x="910" y="1633"/>
                    </a:lnTo>
                    <a:lnTo>
                      <a:pt x="920" y="1633"/>
                    </a:lnTo>
                    <a:lnTo>
                      <a:pt x="920" y="1497"/>
                    </a:lnTo>
                    <a:lnTo>
                      <a:pt x="910" y="1497"/>
                    </a:lnTo>
                    <a:lnTo>
                      <a:pt x="883" y="1497"/>
                    </a:lnTo>
                    <a:lnTo>
                      <a:pt x="839" y="1495"/>
                    </a:lnTo>
                    <a:lnTo>
                      <a:pt x="784" y="1495"/>
                    </a:lnTo>
                    <a:lnTo>
                      <a:pt x="719" y="1494"/>
                    </a:lnTo>
                    <a:lnTo>
                      <a:pt x="645" y="1494"/>
                    </a:lnTo>
                    <a:lnTo>
                      <a:pt x="566" y="1492"/>
                    </a:lnTo>
                    <a:lnTo>
                      <a:pt x="483" y="1491"/>
                    </a:lnTo>
                    <a:lnTo>
                      <a:pt x="401" y="1491"/>
                    </a:lnTo>
                    <a:lnTo>
                      <a:pt x="322" y="1490"/>
                    </a:lnTo>
                    <a:lnTo>
                      <a:pt x="247" y="1490"/>
                    </a:lnTo>
                    <a:lnTo>
                      <a:pt x="178" y="1488"/>
                    </a:lnTo>
                    <a:lnTo>
                      <a:pt x="120" y="1488"/>
                    </a:lnTo>
                    <a:lnTo>
                      <a:pt x="75" y="1487"/>
                    </a:lnTo>
                    <a:lnTo>
                      <a:pt x="44" y="1487"/>
                    </a:lnTo>
                    <a:lnTo>
                      <a:pt x="30" y="1487"/>
                    </a:lnTo>
                    <a:lnTo>
                      <a:pt x="30" y="1460"/>
                    </a:lnTo>
                    <a:lnTo>
                      <a:pt x="30" y="1417"/>
                    </a:lnTo>
                    <a:lnTo>
                      <a:pt x="30" y="1373"/>
                    </a:lnTo>
                    <a:lnTo>
                      <a:pt x="30" y="1346"/>
                    </a:lnTo>
                    <a:lnTo>
                      <a:pt x="42" y="1346"/>
                    </a:lnTo>
                    <a:lnTo>
                      <a:pt x="71" y="1346"/>
                    </a:lnTo>
                    <a:lnTo>
                      <a:pt x="112" y="1346"/>
                    </a:lnTo>
                    <a:lnTo>
                      <a:pt x="164" y="1346"/>
                    </a:lnTo>
                    <a:lnTo>
                      <a:pt x="224" y="1348"/>
                    </a:lnTo>
                    <a:lnTo>
                      <a:pt x="292" y="1348"/>
                    </a:lnTo>
                    <a:lnTo>
                      <a:pt x="363" y="1348"/>
                    </a:lnTo>
                    <a:lnTo>
                      <a:pt x="437" y="1348"/>
                    </a:lnTo>
                    <a:lnTo>
                      <a:pt x="510" y="1349"/>
                    </a:lnTo>
                    <a:lnTo>
                      <a:pt x="580" y="1349"/>
                    </a:lnTo>
                    <a:lnTo>
                      <a:pt x="646" y="1349"/>
                    </a:lnTo>
                    <a:lnTo>
                      <a:pt x="705" y="1351"/>
                    </a:lnTo>
                    <a:lnTo>
                      <a:pt x="756" y="1351"/>
                    </a:lnTo>
                    <a:lnTo>
                      <a:pt x="794" y="1351"/>
                    </a:lnTo>
                    <a:lnTo>
                      <a:pt x="818" y="1351"/>
                    </a:lnTo>
                    <a:lnTo>
                      <a:pt x="827" y="1351"/>
                    </a:lnTo>
                    <a:lnTo>
                      <a:pt x="829" y="1351"/>
                    </a:lnTo>
                    <a:lnTo>
                      <a:pt x="834" y="1351"/>
                    </a:lnTo>
                    <a:lnTo>
                      <a:pt x="842" y="1351"/>
                    </a:lnTo>
                    <a:lnTo>
                      <a:pt x="852" y="1348"/>
                    </a:lnTo>
                    <a:lnTo>
                      <a:pt x="863" y="1345"/>
                    </a:lnTo>
                    <a:lnTo>
                      <a:pt x="875" y="1341"/>
                    </a:lnTo>
                    <a:lnTo>
                      <a:pt x="888" y="1335"/>
                    </a:lnTo>
                    <a:lnTo>
                      <a:pt x="899" y="1325"/>
                    </a:lnTo>
                    <a:lnTo>
                      <a:pt x="913" y="1309"/>
                    </a:lnTo>
                    <a:lnTo>
                      <a:pt x="923" y="1290"/>
                    </a:lnTo>
                    <a:lnTo>
                      <a:pt x="929" y="1268"/>
                    </a:lnTo>
                    <a:lnTo>
                      <a:pt x="930" y="1243"/>
                    </a:lnTo>
                    <a:lnTo>
                      <a:pt x="930" y="931"/>
                    </a:lnTo>
                    <a:lnTo>
                      <a:pt x="930" y="928"/>
                    </a:lnTo>
                    <a:lnTo>
                      <a:pt x="929" y="921"/>
                    </a:lnTo>
                    <a:lnTo>
                      <a:pt x="926" y="911"/>
                    </a:lnTo>
                    <a:lnTo>
                      <a:pt x="919" y="898"/>
                    </a:lnTo>
                    <a:lnTo>
                      <a:pt x="913" y="892"/>
                    </a:lnTo>
                    <a:lnTo>
                      <a:pt x="906" y="887"/>
                    </a:lnTo>
                    <a:lnTo>
                      <a:pt x="897" y="881"/>
                    </a:lnTo>
                    <a:lnTo>
                      <a:pt x="888" y="877"/>
                    </a:lnTo>
                    <a:lnTo>
                      <a:pt x="876" y="874"/>
                    </a:lnTo>
                    <a:lnTo>
                      <a:pt x="865" y="871"/>
                    </a:lnTo>
                    <a:lnTo>
                      <a:pt x="852" y="870"/>
                    </a:lnTo>
                    <a:lnTo>
                      <a:pt x="838" y="868"/>
                    </a:lnTo>
                    <a:lnTo>
                      <a:pt x="817" y="867"/>
                    </a:lnTo>
                    <a:lnTo>
                      <a:pt x="794" y="866"/>
                    </a:lnTo>
                    <a:lnTo>
                      <a:pt x="771" y="866"/>
                    </a:lnTo>
                    <a:lnTo>
                      <a:pt x="747" y="864"/>
                    </a:lnTo>
                    <a:lnTo>
                      <a:pt x="724" y="864"/>
                    </a:lnTo>
                    <a:lnTo>
                      <a:pt x="700" y="864"/>
                    </a:lnTo>
                    <a:lnTo>
                      <a:pt x="676" y="864"/>
                    </a:lnTo>
                    <a:lnTo>
                      <a:pt x="651" y="864"/>
                    </a:lnTo>
                    <a:lnTo>
                      <a:pt x="627" y="864"/>
                    </a:lnTo>
                    <a:lnTo>
                      <a:pt x="601" y="864"/>
                    </a:lnTo>
                    <a:lnTo>
                      <a:pt x="577" y="866"/>
                    </a:lnTo>
                    <a:lnTo>
                      <a:pt x="551" y="866"/>
                    </a:lnTo>
                    <a:lnTo>
                      <a:pt x="526" y="866"/>
                    </a:lnTo>
                    <a:lnTo>
                      <a:pt x="500" y="867"/>
                    </a:lnTo>
                    <a:lnTo>
                      <a:pt x="476" y="867"/>
                    </a:lnTo>
                    <a:lnTo>
                      <a:pt x="451" y="868"/>
                    </a:lnTo>
                    <a:lnTo>
                      <a:pt x="442" y="868"/>
                    </a:lnTo>
                    <a:lnTo>
                      <a:pt x="428" y="870"/>
                    </a:lnTo>
                    <a:lnTo>
                      <a:pt x="408" y="870"/>
                    </a:lnTo>
                    <a:lnTo>
                      <a:pt x="386" y="871"/>
                    </a:lnTo>
                    <a:lnTo>
                      <a:pt x="360" y="873"/>
                    </a:lnTo>
                    <a:lnTo>
                      <a:pt x="333" y="875"/>
                    </a:lnTo>
                    <a:lnTo>
                      <a:pt x="303" y="877"/>
                    </a:lnTo>
                    <a:lnTo>
                      <a:pt x="273" y="880"/>
                    </a:lnTo>
                    <a:lnTo>
                      <a:pt x="242" y="883"/>
                    </a:lnTo>
                    <a:lnTo>
                      <a:pt x="213" y="885"/>
                    </a:lnTo>
                    <a:lnTo>
                      <a:pt x="186" y="890"/>
                    </a:lnTo>
                    <a:lnTo>
                      <a:pt x="160" y="892"/>
                    </a:lnTo>
                    <a:lnTo>
                      <a:pt x="137" y="895"/>
                    </a:lnTo>
                    <a:lnTo>
                      <a:pt x="118" y="900"/>
                    </a:lnTo>
                    <a:lnTo>
                      <a:pt x="103" y="902"/>
                    </a:lnTo>
                    <a:lnTo>
                      <a:pt x="95" y="907"/>
                    </a:lnTo>
                    <a:lnTo>
                      <a:pt x="75" y="925"/>
                    </a:lnTo>
                    <a:lnTo>
                      <a:pt x="62" y="948"/>
                    </a:lnTo>
                    <a:lnTo>
                      <a:pt x="57" y="979"/>
                    </a:lnTo>
                    <a:lnTo>
                      <a:pt x="55" y="1019"/>
                    </a:lnTo>
                    <a:lnTo>
                      <a:pt x="51" y="1265"/>
                    </a:lnTo>
                    <a:lnTo>
                      <a:pt x="64" y="1265"/>
                    </a:lnTo>
                    <a:lnTo>
                      <a:pt x="451" y="1261"/>
                    </a:lnTo>
                    <a:lnTo>
                      <a:pt x="452" y="1213"/>
                    </a:lnTo>
                    <a:lnTo>
                      <a:pt x="456" y="1104"/>
                    </a:lnTo>
                    <a:lnTo>
                      <a:pt x="459" y="992"/>
                    </a:lnTo>
                    <a:lnTo>
                      <a:pt x="462" y="932"/>
                    </a:lnTo>
                    <a:lnTo>
                      <a:pt x="464" y="932"/>
                    </a:lnTo>
                    <a:lnTo>
                      <a:pt x="466" y="932"/>
                    </a:lnTo>
                    <a:lnTo>
                      <a:pt x="468" y="932"/>
                    </a:lnTo>
                    <a:lnTo>
                      <a:pt x="469" y="932"/>
                    </a:lnTo>
                    <a:lnTo>
                      <a:pt x="468" y="992"/>
                    </a:lnTo>
                    <a:lnTo>
                      <a:pt x="466" y="1104"/>
                    </a:lnTo>
                    <a:lnTo>
                      <a:pt x="465" y="1216"/>
                    </a:lnTo>
                    <a:lnTo>
                      <a:pt x="464" y="1275"/>
                    </a:lnTo>
                    <a:lnTo>
                      <a:pt x="455" y="1275"/>
                    </a:lnTo>
                    <a:lnTo>
                      <a:pt x="439" y="1275"/>
                    </a:lnTo>
                    <a:lnTo>
                      <a:pt x="418" y="1275"/>
                    </a:lnTo>
                    <a:lnTo>
                      <a:pt x="391" y="1275"/>
                    </a:lnTo>
                    <a:lnTo>
                      <a:pt x="360" y="1275"/>
                    </a:lnTo>
                    <a:lnTo>
                      <a:pt x="325" y="1275"/>
                    </a:lnTo>
                    <a:lnTo>
                      <a:pt x="288" y="1275"/>
                    </a:lnTo>
                    <a:lnTo>
                      <a:pt x="251" y="1275"/>
                    </a:lnTo>
                    <a:lnTo>
                      <a:pt x="213" y="1275"/>
                    </a:lnTo>
                    <a:lnTo>
                      <a:pt x="176" y="1275"/>
                    </a:lnTo>
                    <a:lnTo>
                      <a:pt x="140" y="1275"/>
                    </a:lnTo>
                    <a:lnTo>
                      <a:pt x="109" y="1275"/>
                    </a:lnTo>
                    <a:lnTo>
                      <a:pt x="82" y="1275"/>
                    </a:lnTo>
                    <a:lnTo>
                      <a:pt x="61" y="1275"/>
                    </a:lnTo>
                    <a:lnTo>
                      <a:pt x="45" y="1275"/>
                    </a:lnTo>
                    <a:lnTo>
                      <a:pt x="37" y="1275"/>
                    </a:lnTo>
                    <a:lnTo>
                      <a:pt x="37" y="1210"/>
                    </a:lnTo>
                    <a:lnTo>
                      <a:pt x="38" y="1087"/>
                    </a:lnTo>
                    <a:lnTo>
                      <a:pt x="40" y="968"/>
                    </a:lnTo>
                    <a:lnTo>
                      <a:pt x="40" y="914"/>
                    </a:lnTo>
                    <a:lnTo>
                      <a:pt x="17" y="914"/>
                    </a:lnTo>
                    <a:lnTo>
                      <a:pt x="14" y="1300"/>
                    </a:lnTo>
                    <a:lnTo>
                      <a:pt x="486" y="1300"/>
                    </a:lnTo>
                    <a:lnTo>
                      <a:pt x="493" y="908"/>
                    </a:lnTo>
                    <a:lnTo>
                      <a:pt x="439" y="908"/>
                    </a:lnTo>
                    <a:lnTo>
                      <a:pt x="438" y="956"/>
                    </a:lnTo>
                    <a:lnTo>
                      <a:pt x="435" y="1065"/>
                    </a:lnTo>
                    <a:lnTo>
                      <a:pt x="431" y="1179"/>
                    </a:lnTo>
                    <a:lnTo>
                      <a:pt x="429" y="1239"/>
                    </a:lnTo>
                    <a:lnTo>
                      <a:pt x="422" y="1239"/>
                    </a:lnTo>
                    <a:lnTo>
                      <a:pt x="410" y="1239"/>
                    </a:lnTo>
                    <a:lnTo>
                      <a:pt x="391" y="1239"/>
                    </a:lnTo>
                    <a:lnTo>
                      <a:pt x="368" y="1239"/>
                    </a:lnTo>
                    <a:lnTo>
                      <a:pt x="343" y="1239"/>
                    </a:lnTo>
                    <a:lnTo>
                      <a:pt x="315" y="1240"/>
                    </a:lnTo>
                    <a:lnTo>
                      <a:pt x="283" y="1240"/>
                    </a:lnTo>
                    <a:lnTo>
                      <a:pt x="252" y="1240"/>
                    </a:lnTo>
                    <a:lnTo>
                      <a:pt x="221" y="1240"/>
                    </a:lnTo>
                    <a:lnTo>
                      <a:pt x="191" y="1240"/>
                    </a:lnTo>
                    <a:lnTo>
                      <a:pt x="163" y="1241"/>
                    </a:lnTo>
                    <a:lnTo>
                      <a:pt x="136" y="1241"/>
                    </a:lnTo>
                    <a:lnTo>
                      <a:pt x="113" y="1241"/>
                    </a:lnTo>
                    <a:lnTo>
                      <a:pt x="95" y="1241"/>
                    </a:lnTo>
                    <a:lnTo>
                      <a:pt x="82" y="1241"/>
                    </a:lnTo>
                    <a:lnTo>
                      <a:pt x="75" y="1241"/>
                    </a:lnTo>
                    <a:lnTo>
                      <a:pt x="75" y="1199"/>
                    </a:lnTo>
                    <a:lnTo>
                      <a:pt x="76" y="1122"/>
                    </a:lnTo>
                    <a:lnTo>
                      <a:pt x="78" y="1051"/>
                    </a:lnTo>
                    <a:lnTo>
                      <a:pt x="78" y="1019"/>
                    </a:lnTo>
                    <a:lnTo>
                      <a:pt x="79" y="979"/>
                    </a:lnTo>
                    <a:lnTo>
                      <a:pt x="83" y="953"/>
                    </a:lnTo>
                    <a:lnTo>
                      <a:pt x="93" y="938"/>
                    </a:lnTo>
                    <a:lnTo>
                      <a:pt x="106" y="927"/>
                    </a:lnTo>
                    <a:lnTo>
                      <a:pt x="113" y="924"/>
                    </a:lnTo>
                    <a:lnTo>
                      <a:pt x="125" y="921"/>
                    </a:lnTo>
                    <a:lnTo>
                      <a:pt x="140" y="918"/>
                    </a:lnTo>
                    <a:lnTo>
                      <a:pt x="160" y="915"/>
                    </a:lnTo>
                    <a:lnTo>
                      <a:pt x="183" y="912"/>
                    </a:lnTo>
                    <a:lnTo>
                      <a:pt x="208" y="909"/>
                    </a:lnTo>
                    <a:lnTo>
                      <a:pt x="235" y="907"/>
                    </a:lnTo>
                    <a:lnTo>
                      <a:pt x="262" y="904"/>
                    </a:lnTo>
                    <a:lnTo>
                      <a:pt x="291" y="901"/>
                    </a:lnTo>
                    <a:lnTo>
                      <a:pt x="319" y="900"/>
                    </a:lnTo>
                    <a:lnTo>
                      <a:pt x="346" y="897"/>
                    </a:lnTo>
                    <a:lnTo>
                      <a:pt x="373" y="895"/>
                    </a:lnTo>
                    <a:lnTo>
                      <a:pt x="397" y="894"/>
                    </a:lnTo>
                    <a:lnTo>
                      <a:pt x="418" y="892"/>
                    </a:lnTo>
                    <a:lnTo>
                      <a:pt x="437" y="891"/>
                    </a:lnTo>
                    <a:lnTo>
                      <a:pt x="451" y="891"/>
                    </a:lnTo>
                    <a:lnTo>
                      <a:pt x="476" y="890"/>
                    </a:lnTo>
                    <a:lnTo>
                      <a:pt x="500" y="890"/>
                    </a:lnTo>
                    <a:lnTo>
                      <a:pt x="526" y="888"/>
                    </a:lnTo>
                    <a:lnTo>
                      <a:pt x="551" y="888"/>
                    </a:lnTo>
                    <a:lnTo>
                      <a:pt x="577" y="888"/>
                    </a:lnTo>
                    <a:lnTo>
                      <a:pt x="601" y="887"/>
                    </a:lnTo>
                    <a:lnTo>
                      <a:pt x="627" y="887"/>
                    </a:lnTo>
                    <a:lnTo>
                      <a:pt x="651" y="887"/>
                    </a:lnTo>
                    <a:lnTo>
                      <a:pt x="676" y="887"/>
                    </a:lnTo>
                    <a:lnTo>
                      <a:pt x="700" y="887"/>
                    </a:lnTo>
                    <a:lnTo>
                      <a:pt x="723" y="887"/>
                    </a:lnTo>
                    <a:lnTo>
                      <a:pt x="747" y="887"/>
                    </a:lnTo>
                    <a:lnTo>
                      <a:pt x="770" y="888"/>
                    </a:lnTo>
                    <a:lnTo>
                      <a:pt x="792" y="888"/>
                    </a:lnTo>
                    <a:lnTo>
                      <a:pt x="815" y="890"/>
                    </a:lnTo>
                    <a:lnTo>
                      <a:pt x="836" y="891"/>
                    </a:lnTo>
                    <a:lnTo>
                      <a:pt x="851" y="892"/>
                    </a:lnTo>
                    <a:lnTo>
                      <a:pt x="862" y="894"/>
                    </a:lnTo>
                    <a:lnTo>
                      <a:pt x="872" y="897"/>
                    </a:lnTo>
                    <a:lnTo>
                      <a:pt x="880" y="900"/>
                    </a:lnTo>
                    <a:lnTo>
                      <a:pt x="888" y="902"/>
                    </a:lnTo>
                    <a:lnTo>
                      <a:pt x="893" y="905"/>
                    </a:lnTo>
                    <a:lnTo>
                      <a:pt x="897" y="909"/>
                    </a:lnTo>
                    <a:lnTo>
                      <a:pt x="900" y="912"/>
                    </a:lnTo>
                    <a:lnTo>
                      <a:pt x="905" y="918"/>
                    </a:lnTo>
                    <a:lnTo>
                      <a:pt x="906" y="924"/>
                    </a:lnTo>
                    <a:lnTo>
                      <a:pt x="907" y="928"/>
                    </a:lnTo>
                    <a:lnTo>
                      <a:pt x="907" y="929"/>
                    </a:lnTo>
                    <a:lnTo>
                      <a:pt x="907" y="1243"/>
                    </a:lnTo>
                    <a:lnTo>
                      <a:pt x="906" y="1263"/>
                    </a:lnTo>
                    <a:lnTo>
                      <a:pt x="902" y="1281"/>
                    </a:lnTo>
                    <a:lnTo>
                      <a:pt x="895" y="1295"/>
                    </a:lnTo>
                    <a:lnTo>
                      <a:pt x="885" y="1308"/>
                    </a:lnTo>
                    <a:lnTo>
                      <a:pt x="875" y="1315"/>
                    </a:lnTo>
                    <a:lnTo>
                      <a:pt x="866" y="1319"/>
                    </a:lnTo>
                    <a:lnTo>
                      <a:pt x="856" y="1324"/>
                    </a:lnTo>
                    <a:lnTo>
                      <a:pt x="848" y="1325"/>
                    </a:lnTo>
                    <a:lnTo>
                      <a:pt x="839" y="1326"/>
                    </a:lnTo>
                    <a:lnTo>
                      <a:pt x="834" y="1326"/>
                    </a:lnTo>
                    <a:lnTo>
                      <a:pt x="829" y="1326"/>
                    </a:lnTo>
                    <a:lnTo>
                      <a:pt x="828" y="1326"/>
                    </a:lnTo>
                    <a:lnTo>
                      <a:pt x="818" y="1326"/>
                    </a:lnTo>
                    <a:lnTo>
                      <a:pt x="792" y="1326"/>
                    </a:lnTo>
                    <a:lnTo>
                      <a:pt x="753" y="1326"/>
                    </a:lnTo>
                    <a:lnTo>
                      <a:pt x="700" y="1326"/>
                    </a:lnTo>
                    <a:lnTo>
                      <a:pt x="639" y="1326"/>
                    </a:lnTo>
                    <a:lnTo>
                      <a:pt x="571" y="1325"/>
                    </a:lnTo>
                    <a:lnTo>
                      <a:pt x="498" y="1325"/>
                    </a:lnTo>
                    <a:lnTo>
                      <a:pt x="422" y="1325"/>
                    </a:lnTo>
                    <a:lnTo>
                      <a:pt x="347" y="1325"/>
                    </a:lnTo>
                    <a:lnTo>
                      <a:pt x="273" y="1325"/>
                    </a:lnTo>
                    <a:lnTo>
                      <a:pt x="205" y="1324"/>
                    </a:lnTo>
                    <a:lnTo>
                      <a:pt x="144" y="1324"/>
                    </a:lnTo>
                    <a:lnTo>
                      <a:pt x="93" y="1324"/>
                    </a:lnTo>
                    <a:lnTo>
                      <a:pt x="52" y="1324"/>
                    </a:lnTo>
                    <a:lnTo>
                      <a:pt x="27" y="1324"/>
                    </a:lnTo>
                    <a:lnTo>
                      <a:pt x="18" y="1324"/>
                    </a:lnTo>
                    <a:lnTo>
                      <a:pt x="7" y="1324"/>
                    </a:lnTo>
                    <a:lnTo>
                      <a:pt x="7" y="1509"/>
                    </a:lnTo>
                    <a:lnTo>
                      <a:pt x="17" y="1509"/>
                    </a:lnTo>
                    <a:lnTo>
                      <a:pt x="44" y="1509"/>
                    </a:lnTo>
                    <a:lnTo>
                      <a:pt x="88" y="1511"/>
                    </a:lnTo>
                    <a:lnTo>
                      <a:pt x="143" y="1511"/>
                    </a:lnTo>
                    <a:lnTo>
                      <a:pt x="208" y="1512"/>
                    </a:lnTo>
                    <a:lnTo>
                      <a:pt x="282" y="1512"/>
                    </a:lnTo>
                    <a:lnTo>
                      <a:pt x="361" y="1514"/>
                    </a:lnTo>
                    <a:lnTo>
                      <a:pt x="444" y="1514"/>
                    </a:lnTo>
                    <a:lnTo>
                      <a:pt x="526" y="1515"/>
                    </a:lnTo>
                    <a:lnTo>
                      <a:pt x="605" y="1516"/>
                    </a:lnTo>
                    <a:lnTo>
                      <a:pt x="680" y="1516"/>
                    </a:lnTo>
                    <a:lnTo>
                      <a:pt x="749" y="1518"/>
                    </a:lnTo>
                    <a:lnTo>
                      <a:pt x="807" y="1518"/>
                    </a:lnTo>
                    <a:lnTo>
                      <a:pt x="852" y="1519"/>
                    </a:lnTo>
                    <a:lnTo>
                      <a:pt x="883" y="1519"/>
                    </a:lnTo>
                    <a:lnTo>
                      <a:pt x="897" y="1519"/>
                    </a:lnTo>
                    <a:lnTo>
                      <a:pt x="897" y="1538"/>
                    </a:lnTo>
                    <a:lnTo>
                      <a:pt x="897" y="1565"/>
                    </a:lnTo>
                    <a:lnTo>
                      <a:pt x="897" y="1590"/>
                    </a:lnTo>
                    <a:lnTo>
                      <a:pt x="897" y="1609"/>
                    </a:lnTo>
                    <a:lnTo>
                      <a:pt x="883" y="1609"/>
                    </a:lnTo>
                    <a:lnTo>
                      <a:pt x="852" y="1609"/>
                    </a:lnTo>
                    <a:lnTo>
                      <a:pt x="807" y="1607"/>
                    </a:lnTo>
                    <a:lnTo>
                      <a:pt x="747" y="1607"/>
                    </a:lnTo>
                    <a:lnTo>
                      <a:pt x="679" y="1606"/>
                    </a:lnTo>
                    <a:lnTo>
                      <a:pt x="604" y="1606"/>
                    </a:lnTo>
                    <a:lnTo>
                      <a:pt x="523" y="1604"/>
                    </a:lnTo>
                    <a:lnTo>
                      <a:pt x="441" y="1603"/>
                    </a:lnTo>
                    <a:lnTo>
                      <a:pt x="357" y="1603"/>
                    </a:lnTo>
                    <a:lnTo>
                      <a:pt x="278" y="1602"/>
                    </a:lnTo>
                    <a:lnTo>
                      <a:pt x="204" y="1602"/>
                    </a:lnTo>
                    <a:lnTo>
                      <a:pt x="137" y="1600"/>
                    </a:lnTo>
                    <a:lnTo>
                      <a:pt x="81" y="1600"/>
                    </a:lnTo>
                    <a:lnTo>
                      <a:pt x="38" y="1599"/>
                    </a:lnTo>
                    <a:lnTo>
                      <a:pt x="10" y="1599"/>
                    </a:lnTo>
                    <a:lnTo>
                      <a:pt x="0" y="1599"/>
                    </a:lnTo>
                    <a:lnTo>
                      <a:pt x="0" y="1787"/>
                    </a:lnTo>
                    <a:lnTo>
                      <a:pt x="4" y="1787"/>
                    </a:lnTo>
                    <a:lnTo>
                      <a:pt x="15" y="1789"/>
                    </a:lnTo>
                    <a:lnTo>
                      <a:pt x="32" y="1792"/>
                    </a:lnTo>
                    <a:lnTo>
                      <a:pt x="52" y="1794"/>
                    </a:lnTo>
                    <a:lnTo>
                      <a:pt x="71" y="1796"/>
                    </a:lnTo>
                    <a:lnTo>
                      <a:pt x="89" y="1799"/>
                    </a:lnTo>
                    <a:lnTo>
                      <a:pt x="103" y="1800"/>
                    </a:lnTo>
                    <a:lnTo>
                      <a:pt x="112" y="1802"/>
                    </a:lnTo>
                    <a:lnTo>
                      <a:pt x="120" y="1817"/>
                    </a:lnTo>
                    <a:lnTo>
                      <a:pt x="132" y="1831"/>
                    </a:lnTo>
                    <a:lnTo>
                      <a:pt x="147" y="1844"/>
                    </a:lnTo>
                    <a:lnTo>
                      <a:pt x="166" y="1854"/>
                    </a:lnTo>
                    <a:lnTo>
                      <a:pt x="187" y="1863"/>
                    </a:lnTo>
                    <a:lnTo>
                      <a:pt x="211" y="1868"/>
                    </a:lnTo>
                    <a:lnTo>
                      <a:pt x="237" y="1872"/>
                    </a:lnTo>
                    <a:lnTo>
                      <a:pt x="266" y="1874"/>
                    </a:lnTo>
                    <a:lnTo>
                      <a:pt x="292" y="1872"/>
                    </a:lnTo>
                    <a:lnTo>
                      <a:pt x="315" y="1867"/>
                    </a:lnTo>
                    <a:lnTo>
                      <a:pt x="334" y="1858"/>
                    </a:lnTo>
                    <a:lnTo>
                      <a:pt x="351" y="1850"/>
                    </a:lnTo>
                    <a:lnTo>
                      <a:pt x="367" y="1838"/>
                    </a:lnTo>
                    <a:lnTo>
                      <a:pt x="378" y="1829"/>
                    </a:lnTo>
                    <a:lnTo>
                      <a:pt x="388" y="1820"/>
                    </a:lnTo>
                    <a:lnTo>
                      <a:pt x="394" y="1813"/>
                    </a:lnTo>
                    <a:lnTo>
                      <a:pt x="403" y="1813"/>
                    </a:lnTo>
                    <a:lnTo>
                      <a:pt x="422" y="1814"/>
                    </a:lnTo>
                    <a:lnTo>
                      <a:pt x="452" y="1816"/>
                    </a:lnTo>
                    <a:lnTo>
                      <a:pt x="490" y="1817"/>
                    </a:lnTo>
                    <a:lnTo>
                      <a:pt x="536" y="1819"/>
                    </a:lnTo>
                    <a:lnTo>
                      <a:pt x="585" y="1821"/>
                    </a:lnTo>
                    <a:lnTo>
                      <a:pt x="638" y="1824"/>
                    </a:lnTo>
                    <a:lnTo>
                      <a:pt x="693" y="1826"/>
                    </a:lnTo>
                    <a:lnTo>
                      <a:pt x="747" y="1829"/>
                    </a:lnTo>
                    <a:lnTo>
                      <a:pt x="800" y="1831"/>
                    </a:lnTo>
                    <a:lnTo>
                      <a:pt x="848" y="1834"/>
                    </a:lnTo>
                    <a:lnTo>
                      <a:pt x="892" y="1836"/>
                    </a:lnTo>
                    <a:lnTo>
                      <a:pt x="929" y="1837"/>
                    </a:lnTo>
                    <a:lnTo>
                      <a:pt x="957" y="1838"/>
                    </a:lnTo>
                    <a:lnTo>
                      <a:pt x="975" y="1840"/>
                    </a:lnTo>
                    <a:lnTo>
                      <a:pt x="983" y="1840"/>
                    </a:lnTo>
                    <a:lnTo>
                      <a:pt x="987" y="1840"/>
                    </a:lnTo>
                    <a:lnTo>
                      <a:pt x="998" y="1838"/>
                    </a:lnTo>
                    <a:lnTo>
                      <a:pt x="1015" y="1837"/>
                    </a:lnTo>
                    <a:lnTo>
                      <a:pt x="1035" y="1836"/>
                    </a:lnTo>
                    <a:lnTo>
                      <a:pt x="1056" y="1834"/>
                    </a:lnTo>
                    <a:lnTo>
                      <a:pt x="1078" y="1833"/>
                    </a:lnTo>
                    <a:lnTo>
                      <a:pt x="1096" y="1831"/>
                    </a:lnTo>
                    <a:lnTo>
                      <a:pt x="1110" y="1830"/>
                    </a:lnTo>
                    <a:lnTo>
                      <a:pt x="1116" y="1850"/>
                    </a:lnTo>
                    <a:lnTo>
                      <a:pt x="1124" y="1867"/>
                    </a:lnTo>
                    <a:lnTo>
                      <a:pt x="1133" y="1881"/>
                    </a:lnTo>
                    <a:lnTo>
                      <a:pt x="1137" y="1887"/>
                    </a:lnTo>
                    <a:lnTo>
                      <a:pt x="1140" y="1889"/>
                    </a:lnTo>
                    <a:lnTo>
                      <a:pt x="1144" y="1891"/>
                    </a:lnTo>
                    <a:lnTo>
                      <a:pt x="1147" y="1891"/>
                    </a:lnTo>
                    <a:lnTo>
                      <a:pt x="1156" y="1892"/>
                    </a:lnTo>
                    <a:lnTo>
                      <a:pt x="1167" y="1894"/>
                    </a:lnTo>
                    <a:lnTo>
                      <a:pt x="1181" y="1894"/>
                    </a:lnTo>
                    <a:lnTo>
                      <a:pt x="1197" y="1895"/>
                    </a:lnTo>
                    <a:lnTo>
                      <a:pt x="1215" y="1897"/>
                    </a:lnTo>
                    <a:lnTo>
                      <a:pt x="1235" y="1898"/>
                    </a:lnTo>
                    <a:lnTo>
                      <a:pt x="1255" y="1898"/>
                    </a:lnTo>
                    <a:lnTo>
                      <a:pt x="1273" y="1895"/>
                    </a:lnTo>
                    <a:lnTo>
                      <a:pt x="1290" y="1888"/>
                    </a:lnTo>
                    <a:lnTo>
                      <a:pt x="1303" y="1877"/>
                    </a:lnTo>
                    <a:lnTo>
                      <a:pt x="1314" y="1864"/>
                    </a:lnTo>
                    <a:lnTo>
                      <a:pt x="1323" y="1850"/>
                    </a:lnTo>
                    <a:lnTo>
                      <a:pt x="1330" y="1837"/>
                    </a:lnTo>
                    <a:lnTo>
                      <a:pt x="1336" y="1824"/>
                    </a:lnTo>
                    <a:lnTo>
                      <a:pt x="1338" y="1814"/>
                    </a:lnTo>
                    <a:lnTo>
                      <a:pt x="1346" y="1813"/>
                    </a:lnTo>
                    <a:lnTo>
                      <a:pt x="1361" y="1811"/>
                    </a:lnTo>
                    <a:lnTo>
                      <a:pt x="1382" y="1809"/>
                    </a:lnTo>
                    <a:lnTo>
                      <a:pt x="1411" y="1804"/>
                    </a:lnTo>
                    <a:lnTo>
                      <a:pt x="1443" y="1800"/>
                    </a:lnTo>
                    <a:lnTo>
                      <a:pt x="1480" y="1796"/>
                    </a:lnTo>
                    <a:lnTo>
                      <a:pt x="1519" y="1790"/>
                    </a:lnTo>
                    <a:lnTo>
                      <a:pt x="1558" y="1785"/>
                    </a:lnTo>
                    <a:lnTo>
                      <a:pt x="1598" y="1780"/>
                    </a:lnTo>
                    <a:lnTo>
                      <a:pt x="1636" y="1775"/>
                    </a:lnTo>
                    <a:lnTo>
                      <a:pt x="1673" y="1770"/>
                    </a:lnTo>
                    <a:lnTo>
                      <a:pt x="1706" y="1766"/>
                    </a:lnTo>
                    <a:lnTo>
                      <a:pt x="1734" y="1762"/>
                    </a:lnTo>
                    <a:lnTo>
                      <a:pt x="1757" y="1759"/>
                    </a:lnTo>
                    <a:lnTo>
                      <a:pt x="1772" y="1758"/>
                    </a:lnTo>
                    <a:lnTo>
                      <a:pt x="1779" y="1756"/>
                    </a:lnTo>
                    <a:lnTo>
                      <a:pt x="1782" y="1763"/>
                    </a:lnTo>
                    <a:lnTo>
                      <a:pt x="1787" y="1772"/>
                    </a:lnTo>
                    <a:lnTo>
                      <a:pt x="1791" y="1779"/>
                    </a:lnTo>
                    <a:lnTo>
                      <a:pt x="1792" y="1782"/>
                    </a:lnTo>
                    <a:lnTo>
                      <a:pt x="1904" y="1789"/>
                    </a:lnTo>
                    <a:lnTo>
                      <a:pt x="1907" y="1787"/>
                    </a:lnTo>
                    <a:lnTo>
                      <a:pt x="1920" y="1779"/>
                    </a:lnTo>
                    <a:lnTo>
                      <a:pt x="1930" y="1768"/>
                    </a:lnTo>
                    <a:lnTo>
                      <a:pt x="1937" y="1756"/>
                    </a:lnTo>
                    <a:lnTo>
                      <a:pt x="1943" y="1745"/>
                    </a:lnTo>
                    <a:lnTo>
                      <a:pt x="1947" y="1732"/>
                    </a:lnTo>
                    <a:lnTo>
                      <a:pt x="1950" y="1722"/>
                    </a:lnTo>
                    <a:lnTo>
                      <a:pt x="1951" y="1712"/>
                    </a:lnTo>
                    <a:lnTo>
                      <a:pt x="1952" y="1704"/>
                    </a:lnTo>
                    <a:lnTo>
                      <a:pt x="1965" y="1699"/>
                    </a:lnTo>
                    <a:lnTo>
                      <a:pt x="1988" y="1692"/>
                    </a:lnTo>
                    <a:lnTo>
                      <a:pt x="2019" y="1682"/>
                    </a:lnTo>
                    <a:lnTo>
                      <a:pt x="2053" y="1671"/>
                    </a:lnTo>
                    <a:lnTo>
                      <a:pt x="2087" y="1661"/>
                    </a:lnTo>
                    <a:lnTo>
                      <a:pt x="2116" y="1651"/>
                    </a:lnTo>
                    <a:lnTo>
                      <a:pt x="2137" y="1646"/>
                    </a:lnTo>
                    <a:lnTo>
                      <a:pt x="2144" y="1643"/>
                    </a:lnTo>
                    <a:lnTo>
                      <a:pt x="2137" y="871"/>
                    </a:lnTo>
                    <a:lnTo>
                      <a:pt x="2080" y="871"/>
                    </a:lnTo>
                    <a:lnTo>
                      <a:pt x="2082" y="975"/>
                    </a:lnTo>
                    <a:lnTo>
                      <a:pt x="2084" y="1206"/>
                    </a:lnTo>
                    <a:lnTo>
                      <a:pt x="2086" y="1438"/>
                    </a:lnTo>
                    <a:lnTo>
                      <a:pt x="2087" y="1553"/>
                    </a:lnTo>
                    <a:lnTo>
                      <a:pt x="2077" y="1555"/>
                    </a:lnTo>
                    <a:lnTo>
                      <a:pt x="2062" y="1558"/>
                    </a:lnTo>
                    <a:lnTo>
                      <a:pt x="2042" y="1562"/>
                    </a:lnTo>
                    <a:lnTo>
                      <a:pt x="2019" y="1566"/>
                    </a:lnTo>
                    <a:lnTo>
                      <a:pt x="1996" y="1570"/>
                    </a:lnTo>
                    <a:lnTo>
                      <a:pt x="1975" y="1575"/>
                    </a:lnTo>
                    <a:lnTo>
                      <a:pt x="1958" y="1577"/>
                    </a:lnTo>
                    <a:lnTo>
                      <a:pt x="1947" y="1580"/>
                    </a:lnTo>
                    <a:lnTo>
                      <a:pt x="1943" y="1551"/>
                    </a:lnTo>
                    <a:lnTo>
                      <a:pt x="1935" y="1514"/>
                    </a:lnTo>
                    <a:lnTo>
                      <a:pt x="1924" y="1481"/>
                    </a:lnTo>
                    <a:lnTo>
                      <a:pt x="1909" y="1456"/>
                    </a:lnTo>
                    <a:lnTo>
                      <a:pt x="1903" y="1450"/>
                    </a:lnTo>
                    <a:lnTo>
                      <a:pt x="1896" y="1447"/>
                    </a:lnTo>
                    <a:lnTo>
                      <a:pt x="1890" y="1446"/>
                    </a:lnTo>
                    <a:lnTo>
                      <a:pt x="1886" y="1446"/>
                    </a:lnTo>
                    <a:lnTo>
                      <a:pt x="1874" y="1451"/>
                    </a:lnTo>
                    <a:lnTo>
                      <a:pt x="1865" y="1463"/>
                    </a:lnTo>
                    <a:lnTo>
                      <a:pt x="1856" y="1478"/>
                    </a:lnTo>
                    <a:lnTo>
                      <a:pt x="1849" y="1498"/>
                    </a:lnTo>
                    <a:lnTo>
                      <a:pt x="1842" y="1521"/>
                    </a:lnTo>
                    <a:lnTo>
                      <a:pt x="1838" y="1545"/>
                    </a:lnTo>
                    <a:lnTo>
                      <a:pt x="1833" y="1568"/>
                    </a:lnTo>
                    <a:lnTo>
                      <a:pt x="1831" y="1590"/>
                    </a:lnTo>
                    <a:lnTo>
                      <a:pt x="1821" y="1592"/>
                    </a:lnTo>
                    <a:lnTo>
                      <a:pt x="1804" y="1593"/>
                    </a:lnTo>
                    <a:lnTo>
                      <a:pt x="1784" y="1594"/>
                    </a:lnTo>
                    <a:lnTo>
                      <a:pt x="1761" y="1596"/>
                    </a:lnTo>
                    <a:lnTo>
                      <a:pt x="1740" y="1597"/>
                    </a:lnTo>
                    <a:lnTo>
                      <a:pt x="1721" y="1599"/>
                    </a:lnTo>
                    <a:lnTo>
                      <a:pt x="1707" y="1600"/>
                    </a:lnTo>
                    <a:lnTo>
                      <a:pt x="1703" y="1600"/>
                    </a:lnTo>
                    <a:lnTo>
                      <a:pt x="1703" y="1616"/>
                    </a:lnTo>
                    <a:lnTo>
                      <a:pt x="1703" y="1651"/>
                    </a:lnTo>
                    <a:lnTo>
                      <a:pt x="1703" y="1691"/>
                    </a:lnTo>
                    <a:lnTo>
                      <a:pt x="1703" y="1716"/>
                    </a:lnTo>
                    <a:lnTo>
                      <a:pt x="1693" y="1718"/>
                    </a:lnTo>
                    <a:lnTo>
                      <a:pt x="1675" y="1719"/>
                    </a:lnTo>
                    <a:lnTo>
                      <a:pt x="1653" y="1722"/>
                    </a:lnTo>
                    <a:lnTo>
                      <a:pt x="1629" y="1725"/>
                    </a:lnTo>
                    <a:lnTo>
                      <a:pt x="1604" y="1728"/>
                    </a:lnTo>
                    <a:lnTo>
                      <a:pt x="1581" y="1731"/>
                    </a:lnTo>
                    <a:lnTo>
                      <a:pt x="1562" y="1732"/>
                    </a:lnTo>
                    <a:lnTo>
                      <a:pt x="1551" y="1733"/>
                    </a:lnTo>
                    <a:lnTo>
                      <a:pt x="1551" y="1707"/>
                    </a:lnTo>
                    <a:lnTo>
                      <a:pt x="1550" y="1665"/>
                    </a:lnTo>
                    <a:lnTo>
                      <a:pt x="1548" y="1629"/>
                    </a:lnTo>
                    <a:lnTo>
                      <a:pt x="1548" y="1613"/>
                    </a:lnTo>
                    <a:lnTo>
                      <a:pt x="1541" y="1613"/>
                    </a:lnTo>
                    <a:lnTo>
                      <a:pt x="1523" y="1614"/>
                    </a:lnTo>
                    <a:lnTo>
                      <a:pt x="1496" y="1616"/>
                    </a:lnTo>
                    <a:lnTo>
                      <a:pt x="1465" y="1617"/>
                    </a:lnTo>
                    <a:lnTo>
                      <a:pt x="1433" y="1619"/>
                    </a:lnTo>
                    <a:lnTo>
                      <a:pt x="1404" y="1620"/>
                    </a:lnTo>
                    <a:lnTo>
                      <a:pt x="1381" y="1621"/>
                    </a:lnTo>
                    <a:lnTo>
                      <a:pt x="1368" y="1623"/>
                    </a:lnTo>
                    <a:lnTo>
                      <a:pt x="1367" y="1621"/>
                    </a:lnTo>
                    <a:lnTo>
                      <a:pt x="1367" y="1620"/>
                    </a:lnTo>
                    <a:lnTo>
                      <a:pt x="1367" y="1619"/>
                    </a:lnTo>
                    <a:lnTo>
                      <a:pt x="1367" y="1619"/>
                    </a:lnTo>
                    <a:lnTo>
                      <a:pt x="1365" y="1597"/>
                    </a:lnTo>
                    <a:lnTo>
                      <a:pt x="1363" y="1573"/>
                    </a:lnTo>
                    <a:lnTo>
                      <a:pt x="1358" y="1546"/>
                    </a:lnTo>
                    <a:lnTo>
                      <a:pt x="1351" y="1519"/>
                    </a:lnTo>
                    <a:lnTo>
                      <a:pt x="1341" y="1494"/>
                    </a:lnTo>
                    <a:lnTo>
                      <a:pt x="1326" y="1474"/>
                    </a:lnTo>
                    <a:lnTo>
                      <a:pt x="1307" y="1458"/>
                    </a:lnTo>
                    <a:lnTo>
                      <a:pt x="1283" y="1453"/>
                    </a:lnTo>
                    <a:lnTo>
                      <a:pt x="1275" y="1454"/>
                    </a:lnTo>
                    <a:lnTo>
                      <a:pt x="1268" y="1456"/>
                    </a:lnTo>
                    <a:lnTo>
                      <a:pt x="1259" y="1460"/>
                    </a:lnTo>
                    <a:lnTo>
                      <a:pt x="1252" y="1465"/>
                    </a:lnTo>
                    <a:lnTo>
                      <a:pt x="1235" y="1487"/>
                    </a:lnTo>
                    <a:lnTo>
                      <a:pt x="1222" y="1516"/>
                    </a:lnTo>
                    <a:lnTo>
                      <a:pt x="1212" y="1553"/>
                    </a:lnTo>
                    <a:lnTo>
                      <a:pt x="1204" y="1592"/>
                    </a:lnTo>
                    <a:lnTo>
                      <a:pt x="1198" y="1630"/>
                    </a:lnTo>
                    <a:lnTo>
                      <a:pt x="1194" y="1665"/>
                    </a:lnTo>
                    <a:lnTo>
                      <a:pt x="1191" y="1695"/>
                    </a:lnTo>
                    <a:lnTo>
                      <a:pt x="1190" y="1718"/>
                    </a:lnTo>
                    <a:lnTo>
                      <a:pt x="1185" y="1718"/>
                    </a:lnTo>
                    <a:lnTo>
                      <a:pt x="1180" y="1719"/>
                    </a:lnTo>
                    <a:lnTo>
                      <a:pt x="1174" y="1719"/>
                    </a:lnTo>
                    <a:lnTo>
                      <a:pt x="1168" y="1719"/>
                    </a:lnTo>
                    <a:lnTo>
                      <a:pt x="1163" y="1721"/>
                    </a:lnTo>
                    <a:lnTo>
                      <a:pt x="1157" y="1721"/>
                    </a:lnTo>
                    <a:lnTo>
                      <a:pt x="1151" y="1722"/>
                    </a:lnTo>
                    <a:lnTo>
                      <a:pt x="1146" y="1722"/>
                    </a:lnTo>
                    <a:lnTo>
                      <a:pt x="1146" y="1647"/>
                    </a:lnTo>
                    <a:lnTo>
                      <a:pt x="1147" y="1507"/>
                    </a:lnTo>
                    <a:lnTo>
                      <a:pt x="1148" y="1370"/>
                    </a:lnTo>
                    <a:lnTo>
                      <a:pt x="1148" y="1309"/>
                    </a:lnTo>
                    <a:lnTo>
                      <a:pt x="1070" y="1309"/>
                    </a:lnTo>
                    <a:lnTo>
                      <a:pt x="1070" y="1372"/>
                    </a:lnTo>
                    <a:lnTo>
                      <a:pt x="1073" y="1512"/>
                    </a:lnTo>
                    <a:lnTo>
                      <a:pt x="1075" y="1657"/>
                    </a:lnTo>
                    <a:lnTo>
                      <a:pt x="1075" y="1731"/>
                    </a:lnTo>
                    <a:lnTo>
                      <a:pt x="1066" y="1732"/>
                    </a:lnTo>
                    <a:lnTo>
                      <a:pt x="1055" y="1732"/>
                    </a:lnTo>
                    <a:lnTo>
                      <a:pt x="1041" y="1733"/>
                    </a:lnTo>
                    <a:lnTo>
                      <a:pt x="1025" y="1735"/>
                    </a:lnTo>
                    <a:lnTo>
                      <a:pt x="1009" y="1738"/>
                    </a:lnTo>
                    <a:lnTo>
                      <a:pt x="995" y="1739"/>
                    </a:lnTo>
                    <a:lnTo>
                      <a:pt x="983" y="1739"/>
                    </a:lnTo>
                    <a:lnTo>
                      <a:pt x="974" y="1741"/>
                    </a:lnTo>
                    <a:lnTo>
                      <a:pt x="974" y="1604"/>
                    </a:lnTo>
                    <a:lnTo>
                      <a:pt x="975" y="1328"/>
                    </a:lnTo>
                    <a:lnTo>
                      <a:pt x="977" y="1050"/>
                    </a:lnTo>
                    <a:lnTo>
                      <a:pt x="977" y="914"/>
                    </a:lnTo>
                    <a:lnTo>
                      <a:pt x="985" y="915"/>
                    </a:lnTo>
                    <a:lnTo>
                      <a:pt x="997" y="917"/>
                    </a:lnTo>
                    <a:lnTo>
                      <a:pt x="1011" y="919"/>
                    </a:lnTo>
                    <a:lnTo>
                      <a:pt x="1024" y="921"/>
                    </a:lnTo>
                    <a:lnTo>
                      <a:pt x="1038" y="924"/>
                    </a:lnTo>
                    <a:lnTo>
                      <a:pt x="1049" y="927"/>
                    </a:lnTo>
                    <a:lnTo>
                      <a:pt x="1059" y="928"/>
                    </a:lnTo>
                    <a:lnTo>
                      <a:pt x="1066" y="929"/>
                    </a:lnTo>
                    <a:lnTo>
                      <a:pt x="1066" y="992"/>
                    </a:lnTo>
                    <a:lnTo>
                      <a:pt x="1066" y="1111"/>
                    </a:lnTo>
                    <a:lnTo>
                      <a:pt x="1066" y="1226"/>
                    </a:lnTo>
                    <a:lnTo>
                      <a:pt x="1066" y="1278"/>
                    </a:lnTo>
                    <a:lnTo>
                      <a:pt x="1147" y="1282"/>
                    </a:lnTo>
                    <a:lnTo>
                      <a:pt x="1147" y="1234"/>
                    </a:lnTo>
                    <a:lnTo>
                      <a:pt x="1147" y="1125"/>
                    </a:lnTo>
                    <a:lnTo>
                      <a:pt x="1147" y="1010"/>
                    </a:lnTo>
                    <a:lnTo>
                      <a:pt x="1147" y="948"/>
                    </a:lnTo>
                    <a:lnTo>
                      <a:pt x="1154" y="949"/>
                    </a:lnTo>
                    <a:lnTo>
                      <a:pt x="1160" y="949"/>
                    </a:lnTo>
                    <a:lnTo>
                      <a:pt x="1165" y="951"/>
                    </a:lnTo>
                    <a:lnTo>
                      <a:pt x="1171" y="952"/>
                    </a:lnTo>
                    <a:lnTo>
                      <a:pt x="1170" y="1012"/>
                    </a:lnTo>
                    <a:lnTo>
                      <a:pt x="1168" y="1124"/>
                    </a:lnTo>
                    <a:lnTo>
                      <a:pt x="1167" y="1233"/>
                    </a:lnTo>
                    <a:lnTo>
                      <a:pt x="1167" y="1281"/>
                    </a:lnTo>
                    <a:lnTo>
                      <a:pt x="1358" y="1282"/>
                    </a:lnTo>
                    <a:lnTo>
                      <a:pt x="1360" y="1240"/>
                    </a:lnTo>
                    <a:lnTo>
                      <a:pt x="1361" y="1144"/>
                    </a:lnTo>
                    <a:lnTo>
                      <a:pt x="1364" y="1044"/>
                    </a:lnTo>
                    <a:lnTo>
                      <a:pt x="1365" y="987"/>
                    </a:lnTo>
                    <a:lnTo>
                      <a:pt x="1371" y="989"/>
                    </a:lnTo>
                    <a:lnTo>
                      <a:pt x="1377" y="989"/>
                    </a:lnTo>
                    <a:lnTo>
                      <a:pt x="1381" y="990"/>
                    </a:lnTo>
                    <a:lnTo>
                      <a:pt x="1387" y="992"/>
                    </a:lnTo>
                    <a:lnTo>
                      <a:pt x="1385" y="1046"/>
                    </a:lnTo>
                    <a:lnTo>
                      <a:pt x="1382" y="1146"/>
                    </a:lnTo>
                    <a:lnTo>
                      <a:pt x="1381" y="1244"/>
                    </a:lnTo>
                    <a:lnTo>
                      <a:pt x="1380" y="1288"/>
                    </a:lnTo>
                    <a:lnTo>
                      <a:pt x="1545" y="1288"/>
                    </a:lnTo>
                    <a:lnTo>
                      <a:pt x="1545" y="1251"/>
                    </a:lnTo>
                    <a:lnTo>
                      <a:pt x="1547" y="1166"/>
                    </a:lnTo>
                    <a:lnTo>
                      <a:pt x="1547" y="1077"/>
                    </a:lnTo>
                    <a:lnTo>
                      <a:pt x="1547" y="1023"/>
                    </a:lnTo>
                    <a:lnTo>
                      <a:pt x="1551" y="1024"/>
                    </a:lnTo>
                    <a:lnTo>
                      <a:pt x="1555" y="1026"/>
                    </a:lnTo>
                    <a:lnTo>
                      <a:pt x="1558" y="1027"/>
                    </a:lnTo>
                    <a:lnTo>
                      <a:pt x="1562" y="1029"/>
                    </a:lnTo>
                    <a:lnTo>
                      <a:pt x="1562" y="1144"/>
                    </a:lnTo>
                    <a:lnTo>
                      <a:pt x="1565" y="1379"/>
                    </a:lnTo>
                    <a:lnTo>
                      <a:pt x="1567" y="1613"/>
                    </a:lnTo>
                    <a:lnTo>
                      <a:pt x="1567" y="1718"/>
                    </a:lnTo>
                    <a:lnTo>
                      <a:pt x="1684" y="1707"/>
                    </a:lnTo>
                    <a:lnTo>
                      <a:pt x="1683" y="1609"/>
                    </a:lnTo>
                    <a:lnTo>
                      <a:pt x="1682" y="1390"/>
                    </a:lnTo>
                    <a:lnTo>
                      <a:pt x="1680" y="1166"/>
                    </a:lnTo>
                    <a:lnTo>
                      <a:pt x="1679" y="1053"/>
                    </a:lnTo>
                    <a:lnTo>
                      <a:pt x="1684" y="1054"/>
                    </a:lnTo>
                    <a:lnTo>
                      <a:pt x="1689" y="1056"/>
                    </a:lnTo>
                    <a:lnTo>
                      <a:pt x="1694" y="1057"/>
                    </a:lnTo>
                    <a:lnTo>
                      <a:pt x="1699" y="1058"/>
                    </a:lnTo>
                    <a:lnTo>
                      <a:pt x="1697" y="1105"/>
                    </a:lnTo>
                    <a:lnTo>
                      <a:pt x="1697" y="1192"/>
                    </a:lnTo>
                    <a:lnTo>
                      <a:pt x="1696" y="1275"/>
                    </a:lnTo>
                    <a:lnTo>
                      <a:pt x="1696" y="1312"/>
                    </a:lnTo>
                    <a:lnTo>
                      <a:pt x="1804" y="1317"/>
                    </a:lnTo>
                    <a:lnTo>
                      <a:pt x="1804" y="1282"/>
                    </a:lnTo>
                    <a:lnTo>
                      <a:pt x="1805" y="1204"/>
                    </a:lnTo>
                    <a:lnTo>
                      <a:pt x="1806" y="1121"/>
                    </a:lnTo>
                    <a:lnTo>
                      <a:pt x="1806" y="1071"/>
                    </a:lnTo>
                    <a:lnTo>
                      <a:pt x="1813" y="1074"/>
                    </a:lnTo>
                    <a:lnTo>
                      <a:pt x="1819" y="1075"/>
                    </a:lnTo>
                    <a:lnTo>
                      <a:pt x="1825" y="1078"/>
                    </a:lnTo>
                    <a:lnTo>
                      <a:pt x="1829" y="1080"/>
                    </a:lnTo>
                    <a:lnTo>
                      <a:pt x="1829" y="1124"/>
                    </a:lnTo>
                    <a:lnTo>
                      <a:pt x="1828" y="1203"/>
                    </a:lnTo>
                    <a:lnTo>
                      <a:pt x="1825" y="1281"/>
                    </a:lnTo>
                    <a:lnTo>
                      <a:pt x="1825" y="1315"/>
                    </a:lnTo>
                    <a:lnTo>
                      <a:pt x="1947" y="1324"/>
                    </a:lnTo>
                    <a:lnTo>
                      <a:pt x="1947" y="1291"/>
                    </a:lnTo>
                    <a:lnTo>
                      <a:pt x="1948" y="1219"/>
                    </a:lnTo>
                    <a:lnTo>
                      <a:pt x="1950" y="1141"/>
                    </a:lnTo>
                    <a:lnTo>
                      <a:pt x="1950" y="1095"/>
                    </a:lnTo>
                    <a:lnTo>
                      <a:pt x="1954" y="1097"/>
                    </a:lnTo>
                    <a:lnTo>
                      <a:pt x="1958" y="1097"/>
                    </a:lnTo>
                    <a:lnTo>
                      <a:pt x="1962" y="1097"/>
                    </a:lnTo>
                    <a:lnTo>
                      <a:pt x="1967" y="1098"/>
                    </a:lnTo>
                    <a:lnTo>
                      <a:pt x="1967" y="1141"/>
                    </a:lnTo>
                    <a:lnTo>
                      <a:pt x="1968" y="1217"/>
                    </a:lnTo>
                    <a:lnTo>
                      <a:pt x="1969" y="1292"/>
                    </a:lnTo>
                    <a:lnTo>
                      <a:pt x="1969" y="1325"/>
                    </a:lnTo>
                    <a:lnTo>
                      <a:pt x="2067" y="1331"/>
                    </a:lnTo>
                    <a:lnTo>
                      <a:pt x="2063" y="1057"/>
                    </a:lnTo>
                    <a:lnTo>
                      <a:pt x="2060" y="1057"/>
                    </a:lnTo>
                    <a:lnTo>
                      <a:pt x="2050" y="1054"/>
                    </a:lnTo>
                    <a:lnTo>
                      <a:pt x="2036" y="1051"/>
                    </a:lnTo>
                    <a:lnTo>
                      <a:pt x="2015" y="1048"/>
                    </a:lnTo>
                    <a:lnTo>
                      <a:pt x="1991" y="1043"/>
                    </a:lnTo>
                    <a:lnTo>
                      <a:pt x="1961" y="1037"/>
                    </a:lnTo>
                    <a:lnTo>
                      <a:pt x="1927" y="1031"/>
                    </a:lnTo>
                    <a:lnTo>
                      <a:pt x="1890" y="1024"/>
                    </a:lnTo>
                    <a:lnTo>
                      <a:pt x="1849" y="1017"/>
                    </a:lnTo>
                    <a:lnTo>
                      <a:pt x="1806" y="1009"/>
                    </a:lnTo>
                    <a:lnTo>
                      <a:pt x="1760" y="1000"/>
                    </a:lnTo>
                    <a:lnTo>
                      <a:pt x="1713" y="990"/>
                    </a:lnTo>
                    <a:lnTo>
                      <a:pt x="1663" y="982"/>
                    </a:lnTo>
                    <a:lnTo>
                      <a:pt x="1612" y="972"/>
                    </a:lnTo>
                    <a:lnTo>
                      <a:pt x="1561" y="962"/>
                    </a:lnTo>
                    <a:lnTo>
                      <a:pt x="1509" y="952"/>
                    </a:lnTo>
                    <a:lnTo>
                      <a:pt x="1456" y="942"/>
                    </a:lnTo>
                    <a:lnTo>
                      <a:pt x="1405" y="932"/>
                    </a:lnTo>
                    <a:lnTo>
                      <a:pt x="1354" y="924"/>
                    </a:lnTo>
                    <a:lnTo>
                      <a:pt x="1304" y="914"/>
                    </a:lnTo>
                    <a:lnTo>
                      <a:pt x="1256" y="905"/>
                    </a:lnTo>
                    <a:lnTo>
                      <a:pt x="1209" y="895"/>
                    </a:lnTo>
                    <a:lnTo>
                      <a:pt x="1165" y="888"/>
                    </a:lnTo>
                    <a:lnTo>
                      <a:pt x="1124" y="880"/>
                    </a:lnTo>
                    <a:lnTo>
                      <a:pt x="1086" y="873"/>
                    </a:lnTo>
                    <a:lnTo>
                      <a:pt x="1052" y="866"/>
                    </a:lnTo>
                    <a:lnTo>
                      <a:pt x="1022" y="860"/>
                    </a:lnTo>
                    <a:lnTo>
                      <a:pt x="995" y="856"/>
                    </a:lnTo>
                    <a:lnTo>
                      <a:pt x="975" y="851"/>
                    </a:lnTo>
                    <a:lnTo>
                      <a:pt x="958" y="849"/>
                    </a:lnTo>
                    <a:lnTo>
                      <a:pt x="948" y="847"/>
                    </a:lnTo>
                    <a:lnTo>
                      <a:pt x="944" y="846"/>
                    </a:lnTo>
                    <a:lnTo>
                      <a:pt x="937" y="830"/>
                    </a:lnTo>
                    <a:lnTo>
                      <a:pt x="929" y="817"/>
                    </a:lnTo>
                    <a:lnTo>
                      <a:pt x="917" y="807"/>
                    </a:lnTo>
                    <a:lnTo>
                      <a:pt x="909" y="802"/>
                    </a:lnTo>
                    <a:lnTo>
                      <a:pt x="907" y="690"/>
                    </a:lnTo>
                    <a:lnTo>
                      <a:pt x="905" y="454"/>
                    </a:lnTo>
                    <a:lnTo>
                      <a:pt x="900" y="222"/>
                    </a:lnTo>
                    <a:lnTo>
                      <a:pt x="899" y="117"/>
                    </a:lnTo>
                    <a:lnTo>
                      <a:pt x="835" y="122"/>
                    </a:lnTo>
                    <a:lnTo>
                      <a:pt x="835" y="132"/>
                    </a:lnTo>
                    <a:lnTo>
                      <a:pt x="831" y="305"/>
                    </a:lnTo>
                    <a:lnTo>
                      <a:pt x="824" y="398"/>
                    </a:lnTo>
                    <a:lnTo>
                      <a:pt x="814" y="436"/>
                    </a:lnTo>
                    <a:lnTo>
                      <a:pt x="805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792" y="449"/>
                    </a:lnTo>
                    <a:lnTo>
                      <a:pt x="770" y="451"/>
                    </a:lnTo>
                    <a:lnTo>
                      <a:pt x="740" y="454"/>
                    </a:lnTo>
                    <a:lnTo>
                      <a:pt x="707" y="456"/>
                    </a:lnTo>
                    <a:lnTo>
                      <a:pt x="673" y="458"/>
                    </a:lnTo>
                    <a:lnTo>
                      <a:pt x="641" y="460"/>
                    </a:lnTo>
                    <a:lnTo>
                      <a:pt x="614" y="461"/>
                    </a:lnTo>
                    <a:lnTo>
                      <a:pt x="594" y="461"/>
                    </a:lnTo>
                    <a:lnTo>
                      <a:pt x="585" y="461"/>
                    </a:lnTo>
                    <a:lnTo>
                      <a:pt x="551" y="461"/>
                    </a:lnTo>
                    <a:lnTo>
                      <a:pt x="524" y="460"/>
                    </a:lnTo>
                    <a:lnTo>
                      <a:pt x="505" y="458"/>
                    </a:lnTo>
                    <a:lnTo>
                      <a:pt x="489" y="456"/>
                    </a:lnTo>
                    <a:lnTo>
                      <a:pt x="479" y="454"/>
                    </a:lnTo>
                    <a:lnTo>
                      <a:pt x="473" y="451"/>
                    </a:lnTo>
                    <a:lnTo>
                      <a:pt x="471" y="449"/>
                    </a:lnTo>
                    <a:lnTo>
                      <a:pt x="469" y="447"/>
                    </a:lnTo>
                    <a:lnTo>
                      <a:pt x="468" y="446"/>
                    </a:lnTo>
                    <a:lnTo>
                      <a:pt x="468" y="444"/>
                    </a:lnTo>
                    <a:lnTo>
                      <a:pt x="468" y="443"/>
                    </a:lnTo>
                    <a:lnTo>
                      <a:pt x="468" y="441"/>
                    </a:lnTo>
                    <a:lnTo>
                      <a:pt x="469" y="422"/>
                    </a:lnTo>
                    <a:lnTo>
                      <a:pt x="471" y="392"/>
                    </a:lnTo>
                    <a:lnTo>
                      <a:pt x="472" y="358"/>
                    </a:lnTo>
                    <a:lnTo>
                      <a:pt x="475" y="321"/>
                    </a:lnTo>
                    <a:lnTo>
                      <a:pt x="479" y="259"/>
                    </a:lnTo>
                    <a:lnTo>
                      <a:pt x="482" y="212"/>
                    </a:lnTo>
                    <a:lnTo>
                      <a:pt x="485" y="176"/>
                    </a:lnTo>
                    <a:lnTo>
                      <a:pt x="485" y="152"/>
                    </a:lnTo>
                    <a:lnTo>
                      <a:pt x="485" y="137"/>
                    </a:lnTo>
                    <a:lnTo>
                      <a:pt x="483" y="127"/>
                    </a:lnTo>
                    <a:lnTo>
                      <a:pt x="481" y="122"/>
                    </a:lnTo>
                    <a:lnTo>
                      <a:pt x="478" y="120"/>
                    </a:lnTo>
                    <a:lnTo>
                      <a:pt x="472" y="117"/>
                    </a:lnTo>
                    <a:lnTo>
                      <a:pt x="465" y="115"/>
                    </a:lnTo>
                    <a:lnTo>
                      <a:pt x="458" y="115"/>
                    </a:lnTo>
                    <a:lnTo>
                      <a:pt x="449" y="115"/>
                    </a:lnTo>
                    <a:lnTo>
                      <a:pt x="442" y="117"/>
                    </a:lnTo>
                    <a:lnTo>
                      <a:pt x="435" y="118"/>
                    </a:lnTo>
                    <a:lnTo>
                      <a:pt x="429" y="120"/>
                    </a:lnTo>
                    <a:lnTo>
                      <a:pt x="424" y="121"/>
                    </a:lnTo>
                    <a:lnTo>
                      <a:pt x="415" y="124"/>
                    </a:lnTo>
                    <a:lnTo>
                      <a:pt x="415" y="132"/>
                    </a:lnTo>
                    <a:lnTo>
                      <a:pt x="412" y="181"/>
                    </a:lnTo>
                    <a:lnTo>
                      <a:pt x="407" y="278"/>
                    </a:lnTo>
                    <a:lnTo>
                      <a:pt x="401" y="383"/>
                    </a:lnTo>
                    <a:lnTo>
                      <a:pt x="398" y="451"/>
                    </a:lnTo>
                    <a:lnTo>
                      <a:pt x="395" y="454"/>
                    </a:lnTo>
                    <a:lnTo>
                      <a:pt x="390" y="458"/>
                    </a:lnTo>
                    <a:lnTo>
                      <a:pt x="380" y="463"/>
                    </a:lnTo>
                    <a:lnTo>
                      <a:pt x="366" y="468"/>
                    </a:lnTo>
                    <a:lnTo>
                      <a:pt x="347" y="474"/>
                    </a:lnTo>
                    <a:lnTo>
                      <a:pt x="323" y="478"/>
                    </a:lnTo>
                    <a:lnTo>
                      <a:pt x="296" y="484"/>
                    </a:lnTo>
                    <a:lnTo>
                      <a:pt x="262" y="488"/>
                    </a:lnTo>
                    <a:lnTo>
                      <a:pt x="227" y="491"/>
                    </a:lnTo>
                    <a:lnTo>
                      <a:pt x="194" y="494"/>
                    </a:lnTo>
                    <a:lnTo>
                      <a:pt x="164" y="494"/>
                    </a:lnTo>
                    <a:lnTo>
                      <a:pt x="139" y="494"/>
                    </a:lnTo>
                    <a:lnTo>
                      <a:pt x="118" y="491"/>
                    </a:lnTo>
                    <a:lnTo>
                      <a:pt x="100" y="490"/>
                    </a:lnTo>
                    <a:lnTo>
                      <a:pt x="89" y="487"/>
                    </a:lnTo>
                    <a:lnTo>
                      <a:pt x="83" y="483"/>
                    </a:lnTo>
                    <a:lnTo>
                      <a:pt x="82" y="477"/>
                    </a:lnTo>
                    <a:lnTo>
                      <a:pt x="82" y="468"/>
                    </a:lnTo>
                    <a:lnTo>
                      <a:pt x="81" y="458"/>
                    </a:lnTo>
                    <a:lnTo>
                      <a:pt x="81" y="447"/>
                    </a:lnTo>
                    <a:lnTo>
                      <a:pt x="83" y="375"/>
                    </a:lnTo>
                    <a:lnTo>
                      <a:pt x="92" y="291"/>
                    </a:lnTo>
                    <a:lnTo>
                      <a:pt x="100" y="219"/>
                    </a:lnTo>
                    <a:lnTo>
                      <a:pt x="109" y="178"/>
                    </a:lnTo>
                    <a:lnTo>
                      <a:pt x="118" y="175"/>
                    </a:lnTo>
                    <a:lnTo>
                      <a:pt x="130" y="171"/>
                    </a:lnTo>
                    <a:lnTo>
                      <a:pt x="147" y="165"/>
                    </a:lnTo>
                    <a:lnTo>
                      <a:pt x="167" y="161"/>
                    </a:lnTo>
                    <a:lnTo>
                      <a:pt x="191" y="154"/>
                    </a:lnTo>
                    <a:lnTo>
                      <a:pt x="217" y="148"/>
                    </a:lnTo>
                    <a:lnTo>
                      <a:pt x="244" y="141"/>
                    </a:lnTo>
                    <a:lnTo>
                      <a:pt x="272" y="135"/>
                    </a:lnTo>
                    <a:lnTo>
                      <a:pt x="300" y="128"/>
                    </a:lnTo>
                    <a:lnTo>
                      <a:pt x="327" y="122"/>
                    </a:lnTo>
                    <a:lnTo>
                      <a:pt x="353" y="117"/>
                    </a:lnTo>
                    <a:lnTo>
                      <a:pt x="377" y="111"/>
                    </a:lnTo>
                    <a:lnTo>
                      <a:pt x="398" y="107"/>
                    </a:lnTo>
                    <a:lnTo>
                      <a:pt x="415" y="104"/>
                    </a:lnTo>
                    <a:lnTo>
                      <a:pt x="429" y="101"/>
                    </a:lnTo>
                    <a:lnTo>
                      <a:pt x="438" y="100"/>
                    </a:lnTo>
                    <a:lnTo>
                      <a:pt x="444" y="100"/>
                    </a:lnTo>
                    <a:lnTo>
                      <a:pt x="455" y="98"/>
                    </a:lnTo>
                    <a:lnTo>
                      <a:pt x="471" y="98"/>
                    </a:lnTo>
                    <a:lnTo>
                      <a:pt x="490" y="98"/>
                    </a:lnTo>
                    <a:lnTo>
                      <a:pt x="513" y="97"/>
                    </a:lnTo>
                    <a:lnTo>
                      <a:pt x="540" y="97"/>
                    </a:lnTo>
                    <a:lnTo>
                      <a:pt x="568" y="95"/>
                    </a:lnTo>
                    <a:lnTo>
                      <a:pt x="601" y="95"/>
                    </a:lnTo>
                    <a:lnTo>
                      <a:pt x="634" y="95"/>
                    </a:lnTo>
                    <a:lnTo>
                      <a:pt x="668" y="94"/>
                    </a:lnTo>
                    <a:lnTo>
                      <a:pt x="703" y="94"/>
                    </a:lnTo>
                    <a:lnTo>
                      <a:pt x="739" y="94"/>
                    </a:lnTo>
                    <a:lnTo>
                      <a:pt x="774" y="94"/>
                    </a:lnTo>
                    <a:lnTo>
                      <a:pt x="810" y="93"/>
                    </a:lnTo>
                    <a:lnTo>
                      <a:pt x="842" y="93"/>
                    </a:lnTo>
                    <a:lnTo>
                      <a:pt x="875" y="93"/>
                    </a:lnTo>
                    <a:lnTo>
                      <a:pt x="878" y="94"/>
                    </a:lnTo>
                    <a:lnTo>
                      <a:pt x="888" y="98"/>
                    </a:lnTo>
                    <a:lnTo>
                      <a:pt x="902" y="104"/>
                    </a:lnTo>
                    <a:lnTo>
                      <a:pt x="922" y="112"/>
                    </a:lnTo>
                    <a:lnTo>
                      <a:pt x="947" y="122"/>
                    </a:lnTo>
                    <a:lnTo>
                      <a:pt x="975" y="135"/>
                    </a:lnTo>
                    <a:lnTo>
                      <a:pt x="1008" y="149"/>
                    </a:lnTo>
                    <a:lnTo>
                      <a:pt x="1043" y="165"/>
                    </a:lnTo>
                    <a:lnTo>
                      <a:pt x="1083" y="182"/>
                    </a:lnTo>
                    <a:lnTo>
                      <a:pt x="1126" y="199"/>
                    </a:lnTo>
                    <a:lnTo>
                      <a:pt x="1170" y="219"/>
                    </a:lnTo>
                    <a:lnTo>
                      <a:pt x="1216" y="237"/>
                    </a:lnTo>
                    <a:lnTo>
                      <a:pt x="1263" y="259"/>
                    </a:lnTo>
                    <a:lnTo>
                      <a:pt x="1313" y="280"/>
                    </a:lnTo>
                    <a:lnTo>
                      <a:pt x="1363" y="301"/>
                    </a:lnTo>
                    <a:lnTo>
                      <a:pt x="1414" y="322"/>
                    </a:lnTo>
                    <a:lnTo>
                      <a:pt x="1463" y="344"/>
                    </a:lnTo>
                    <a:lnTo>
                      <a:pt x="1513" y="365"/>
                    </a:lnTo>
                    <a:lnTo>
                      <a:pt x="1562" y="386"/>
                    </a:lnTo>
                    <a:lnTo>
                      <a:pt x="1611" y="406"/>
                    </a:lnTo>
                    <a:lnTo>
                      <a:pt x="1658" y="426"/>
                    </a:lnTo>
                    <a:lnTo>
                      <a:pt x="1701" y="444"/>
                    </a:lnTo>
                    <a:lnTo>
                      <a:pt x="1744" y="463"/>
                    </a:lnTo>
                    <a:lnTo>
                      <a:pt x="1784" y="480"/>
                    </a:lnTo>
                    <a:lnTo>
                      <a:pt x="1821" y="495"/>
                    </a:lnTo>
                    <a:lnTo>
                      <a:pt x="1853" y="510"/>
                    </a:lnTo>
                    <a:lnTo>
                      <a:pt x="1882" y="522"/>
                    </a:lnTo>
                    <a:lnTo>
                      <a:pt x="1907" y="532"/>
                    </a:lnTo>
                    <a:lnTo>
                      <a:pt x="1927" y="541"/>
                    </a:lnTo>
                    <a:lnTo>
                      <a:pt x="1943" y="548"/>
                    </a:lnTo>
                    <a:lnTo>
                      <a:pt x="1952" y="552"/>
                    </a:lnTo>
                    <a:lnTo>
                      <a:pt x="1957" y="554"/>
                    </a:lnTo>
                    <a:lnTo>
                      <a:pt x="1960" y="588"/>
                    </a:lnTo>
                    <a:lnTo>
                      <a:pt x="1967" y="650"/>
                    </a:lnTo>
                    <a:lnTo>
                      <a:pt x="1972" y="717"/>
                    </a:lnTo>
                    <a:lnTo>
                      <a:pt x="1977" y="758"/>
                    </a:lnTo>
                    <a:lnTo>
                      <a:pt x="1971" y="756"/>
                    </a:lnTo>
                    <a:lnTo>
                      <a:pt x="1965" y="755"/>
                    </a:lnTo>
                    <a:lnTo>
                      <a:pt x="1961" y="753"/>
                    </a:lnTo>
                    <a:lnTo>
                      <a:pt x="1958" y="752"/>
                    </a:lnTo>
                    <a:lnTo>
                      <a:pt x="1955" y="717"/>
                    </a:lnTo>
                    <a:lnTo>
                      <a:pt x="1948" y="653"/>
                    </a:lnTo>
                    <a:lnTo>
                      <a:pt x="1943" y="590"/>
                    </a:lnTo>
                    <a:lnTo>
                      <a:pt x="1940" y="563"/>
                    </a:lnTo>
                    <a:lnTo>
                      <a:pt x="1831" y="511"/>
                    </a:lnTo>
                    <a:lnTo>
                      <a:pt x="1833" y="541"/>
                    </a:lnTo>
                    <a:lnTo>
                      <a:pt x="1838" y="606"/>
                    </a:lnTo>
                    <a:lnTo>
                      <a:pt x="1843" y="678"/>
                    </a:lnTo>
                    <a:lnTo>
                      <a:pt x="1846" y="724"/>
                    </a:lnTo>
                    <a:lnTo>
                      <a:pt x="1843" y="722"/>
                    </a:lnTo>
                    <a:lnTo>
                      <a:pt x="1840" y="721"/>
                    </a:lnTo>
                    <a:lnTo>
                      <a:pt x="1839" y="721"/>
                    </a:lnTo>
                    <a:lnTo>
                      <a:pt x="1836" y="719"/>
                    </a:lnTo>
                    <a:lnTo>
                      <a:pt x="1832" y="681"/>
                    </a:lnTo>
                    <a:lnTo>
                      <a:pt x="1823" y="607"/>
                    </a:lnTo>
                    <a:lnTo>
                      <a:pt x="1816" y="537"/>
                    </a:lnTo>
                    <a:lnTo>
                      <a:pt x="1812" y="505"/>
                    </a:lnTo>
                    <a:lnTo>
                      <a:pt x="1701" y="453"/>
                    </a:lnTo>
                    <a:lnTo>
                      <a:pt x="1703" y="484"/>
                    </a:lnTo>
                    <a:lnTo>
                      <a:pt x="1707" y="556"/>
                    </a:lnTo>
                    <a:lnTo>
                      <a:pt x="1710" y="633"/>
                    </a:lnTo>
                    <a:lnTo>
                      <a:pt x="1713" y="681"/>
                    </a:lnTo>
                    <a:lnTo>
                      <a:pt x="1707" y="680"/>
                    </a:lnTo>
                    <a:lnTo>
                      <a:pt x="1703" y="678"/>
                    </a:lnTo>
                    <a:lnTo>
                      <a:pt x="1699" y="677"/>
                    </a:lnTo>
                    <a:lnTo>
                      <a:pt x="1694" y="675"/>
                    </a:lnTo>
                    <a:lnTo>
                      <a:pt x="1690" y="633"/>
                    </a:lnTo>
                    <a:lnTo>
                      <a:pt x="1682" y="554"/>
                    </a:lnTo>
                    <a:lnTo>
                      <a:pt x="1675" y="477"/>
                    </a:lnTo>
                    <a:lnTo>
                      <a:pt x="1670" y="443"/>
                    </a:lnTo>
                    <a:lnTo>
                      <a:pt x="1533" y="382"/>
                    </a:lnTo>
                    <a:lnTo>
                      <a:pt x="1534" y="417"/>
                    </a:lnTo>
                    <a:lnTo>
                      <a:pt x="1537" y="495"/>
                    </a:lnTo>
                    <a:lnTo>
                      <a:pt x="1540" y="579"/>
                    </a:lnTo>
                    <a:lnTo>
                      <a:pt x="1543" y="630"/>
                    </a:lnTo>
                    <a:lnTo>
                      <a:pt x="1540" y="629"/>
                    </a:lnTo>
                    <a:lnTo>
                      <a:pt x="1538" y="629"/>
                    </a:lnTo>
                    <a:lnTo>
                      <a:pt x="1536" y="629"/>
                    </a:lnTo>
                    <a:lnTo>
                      <a:pt x="1534" y="627"/>
                    </a:lnTo>
                    <a:lnTo>
                      <a:pt x="1530" y="582"/>
                    </a:lnTo>
                    <a:lnTo>
                      <a:pt x="1520" y="495"/>
                    </a:lnTo>
                    <a:lnTo>
                      <a:pt x="1511" y="412"/>
                    </a:lnTo>
                    <a:lnTo>
                      <a:pt x="1507" y="375"/>
                    </a:lnTo>
                    <a:lnTo>
                      <a:pt x="1341" y="304"/>
                    </a:lnTo>
                    <a:lnTo>
                      <a:pt x="1343" y="341"/>
                    </a:lnTo>
                    <a:lnTo>
                      <a:pt x="1346" y="423"/>
                    </a:lnTo>
                    <a:lnTo>
                      <a:pt x="1347" y="512"/>
                    </a:lnTo>
                    <a:lnTo>
                      <a:pt x="1348" y="568"/>
                    </a:lnTo>
                    <a:lnTo>
                      <a:pt x="1346" y="566"/>
                    </a:lnTo>
                    <a:lnTo>
                      <a:pt x="1344" y="565"/>
                    </a:lnTo>
                    <a:lnTo>
                      <a:pt x="1341" y="565"/>
                    </a:lnTo>
                    <a:lnTo>
                      <a:pt x="1340" y="563"/>
                    </a:lnTo>
                    <a:lnTo>
                      <a:pt x="1334" y="515"/>
                    </a:lnTo>
                    <a:lnTo>
                      <a:pt x="1323" y="422"/>
                    </a:lnTo>
                    <a:lnTo>
                      <a:pt x="1312" y="331"/>
                    </a:lnTo>
                    <a:lnTo>
                      <a:pt x="1306" y="290"/>
                    </a:lnTo>
                    <a:lnTo>
                      <a:pt x="1131" y="216"/>
                    </a:lnTo>
                    <a:lnTo>
                      <a:pt x="1133" y="257"/>
                    </a:lnTo>
                    <a:lnTo>
                      <a:pt x="1134" y="349"/>
                    </a:lnTo>
                    <a:lnTo>
                      <a:pt x="1137" y="446"/>
                    </a:lnTo>
                    <a:lnTo>
                      <a:pt x="1139" y="501"/>
                    </a:lnTo>
                    <a:lnTo>
                      <a:pt x="1137" y="500"/>
                    </a:lnTo>
                    <a:lnTo>
                      <a:pt x="1136" y="500"/>
                    </a:lnTo>
                    <a:lnTo>
                      <a:pt x="1134" y="500"/>
                    </a:lnTo>
                    <a:lnTo>
                      <a:pt x="1133" y="500"/>
                    </a:lnTo>
                    <a:lnTo>
                      <a:pt x="1126" y="447"/>
                    </a:lnTo>
                    <a:lnTo>
                      <a:pt x="1112" y="348"/>
                    </a:lnTo>
                    <a:lnTo>
                      <a:pt x="1097" y="251"/>
                    </a:lnTo>
                    <a:lnTo>
                      <a:pt x="1092" y="207"/>
                    </a:lnTo>
                    <a:lnTo>
                      <a:pt x="1086" y="205"/>
                    </a:lnTo>
                    <a:lnTo>
                      <a:pt x="1038" y="183"/>
                    </a:lnTo>
                    <a:lnTo>
                      <a:pt x="1001" y="169"/>
                    </a:lnTo>
                    <a:lnTo>
                      <a:pt x="974" y="159"/>
                    </a:lnTo>
                    <a:lnTo>
                      <a:pt x="956" y="155"/>
                    </a:lnTo>
                    <a:lnTo>
                      <a:pt x="943" y="152"/>
                    </a:lnTo>
                    <a:lnTo>
                      <a:pt x="934" y="152"/>
                    </a:lnTo>
                    <a:lnTo>
                      <a:pt x="930" y="154"/>
                    </a:lnTo>
                    <a:lnTo>
                      <a:pt x="927" y="156"/>
                    </a:lnTo>
                    <a:lnTo>
                      <a:pt x="922" y="176"/>
                    </a:lnTo>
                    <a:lnTo>
                      <a:pt x="920" y="216"/>
                    </a:lnTo>
                    <a:lnTo>
                      <a:pt x="923" y="268"/>
                    </a:lnTo>
                    <a:lnTo>
                      <a:pt x="927" y="327"/>
                    </a:lnTo>
                    <a:lnTo>
                      <a:pt x="933" y="386"/>
                    </a:lnTo>
                    <a:lnTo>
                      <a:pt x="939" y="439"/>
                    </a:lnTo>
                    <a:lnTo>
                      <a:pt x="944" y="477"/>
                    </a:lnTo>
                    <a:lnTo>
                      <a:pt x="950" y="495"/>
                    </a:lnTo>
                    <a:lnTo>
                      <a:pt x="951" y="497"/>
                    </a:lnTo>
                    <a:lnTo>
                      <a:pt x="953" y="498"/>
                    </a:lnTo>
                    <a:lnTo>
                      <a:pt x="956" y="500"/>
                    </a:lnTo>
                    <a:lnTo>
                      <a:pt x="961" y="504"/>
                    </a:lnTo>
                    <a:lnTo>
                      <a:pt x="970" y="507"/>
                    </a:lnTo>
                    <a:lnTo>
                      <a:pt x="983" y="512"/>
                    </a:lnTo>
                    <a:lnTo>
                      <a:pt x="1001" y="519"/>
                    </a:lnTo>
                    <a:lnTo>
                      <a:pt x="1024" y="527"/>
                    </a:lnTo>
                    <a:lnTo>
                      <a:pt x="1053" y="538"/>
                    </a:lnTo>
                    <a:lnTo>
                      <a:pt x="1089" y="549"/>
                    </a:lnTo>
                    <a:lnTo>
                      <a:pt x="1133" y="563"/>
                    </a:lnTo>
                    <a:lnTo>
                      <a:pt x="1187" y="580"/>
                    </a:lnTo>
                    <a:lnTo>
                      <a:pt x="1248" y="600"/>
                    </a:lnTo>
                    <a:lnTo>
                      <a:pt x="1320" y="623"/>
                    </a:lnTo>
                    <a:lnTo>
                      <a:pt x="1402" y="649"/>
                    </a:lnTo>
                    <a:lnTo>
                      <a:pt x="1497" y="678"/>
                    </a:lnTo>
                    <a:lnTo>
                      <a:pt x="1545" y="693"/>
                    </a:lnTo>
                    <a:lnTo>
                      <a:pt x="1595" y="708"/>
                    </a:lnTo>
                    <a:lnTo>
                      <a:pt x="1643" y="722"/>
                    </a:lnTo>
                    <a:lnTo>
                      <a:pt x="1693" y="736"/>
                    </a:lnTo>
                    <a:lnTo>
                      <a:pt x="1741" y="751"/>
                    </a:lnTo>
                    <a:lnTo>
                      <a:pt x="1788" y="765"/>
                    </a:lnTo>
                    <a:lnTo>
                      <a:pt x="1833" y="778"/>
                    </a:lnTo>
                    <a:lnTo>
                      <a:pt x="1877" y="790"/>
                    </a:lnTo>
                    <a:lnTo>
                      <a:pt x="1920" y="803"/>
                    </a:lnTo>
                    <a:lnTo>
                      <a:pt x="1958" y="813"/>
                    </a:lnTo>
                    <a:lnTo>
                      <a:pt x="1994" y="823"/>
                    </a:lnTo>
                    <a:lnTo>
                      <a:pt x="2026" y="831"/>
                    </a:lnTo>
                    <a:lnTo>
                      <a:pt x="2053" y="840"/>
                    </a:lnTo>
                    <a:lnTo>
                      <a:pt x="2077" y="846"/>
                    </a:lnTo>
                    <a:lnTo>
                      <a:pt x="2096" y="850"/>
                    </a:lnTo>
                    <a:lnTo>
                      <a:pt x="2108" y="853"/>
                    </a:lnTo>
                    <a:lnTo>
                      <a:pt x="2125" y="851"/>
                    </a:lnTo>
                    <a:lnTo>
                      <a:pt x="2131" y="834"/>
                    </a:lnTo>
                    <a:lnTo>
                      <a:pt x="2131" y="800"/>
                    </a:lnTo>
                    <a:lnTo>
                      <a:pt x="2125" y="758"/>
                    </a:lnTo>
                    <a:lnTo>
                      <a:pt x="2118" y="708"/>
                    </a:lnTo>
                    <a:lnTo>
                      <a:pt x="2108" y="661"/>
                    </a:lnTo>
                    <a:lnTo>
                      <a:pt x="2099" y="620"/>
                    </a:lnTo>
                    <a:lnTo>
                      <a:pt x="2091" y="590"/>
                    </a:lnTo>
                    <a:lnTo>
                      <a:pt x="2089" y="579"/>
                    </a:lnTo>
                    <a:lnTo>
                      <a:pt x="2083" y="565"/>
                    </a:lnTo>
                    <a:lnTo>
                      <a:pt x="2074" y="552"/>
                    </a:lnTo>
                    <a:lnTo>
                      <a:pt x="2064" y="541"/>
                    </a:lnTo>
                    <a:lnTo>
                      <a:pt x="2055" y="531"/>
                    </a:lnTo>
                    <a:lnTo>
                      <a:pt x="2043" y="524"/>
                    </a:lnTo>
                    <a:lnTo>
                      <a:pt x="2035" y="518"/>
                    </a:lnTo>
                    <a:lnTo>
                      <a:pt x="2028" y="515"/>
                    </a:lnTo>
                    <a:lnTo>
                      <a:pt x="2025" y="514"/>
                    </a:lnTo>
                    <a:lnTo>
                      <a:pt x="2022" y="512"/>
                    </a:lnTo>
                    <a:lnTo>
                      <a:pt x="2012" y="508"/>
                    </a:lnTo>
                    <a:lnTo>
                      <a:pt x="1996" y="501"/>
                    </a:lnTo>
                    <a:lnTo>
                      <a:pt x="1977" y="493"/>
                    </a:lnTo>
                    <a:lnTo>
                      <a:pt x="1950" y="481"/>
                    </a:lnTo>
                    <a:lnTo>
                      <a:pt x="1920" y="468"/>
                    </a:lnTo>
                    <a:lnTo>
                      <a:pt x="1886" y="454"/>
                    </a:lnTo>
                    <a:lnTo>
                      <a:pt x="1848" y="437"/>
                    </a:lnTo>
                    <a:lnTo>
                      <a:pt x="1806" y="419"/>
                    </a:lnTo>
                    <a:lnTo>
                      <a:pt x="1761" y="400"/>
                    </a:lnTo>
                    <a:lnTo>
                      <a:pt x="1714" y="379"/>
                    </a:lnTo>
                    <a:lnTo>
                      <a:pt x="1666" y="359"/>
                    </a:lnTo>
                    <a:lnTo>
                      <a:pt x="1615" y="337"/>
                    </a:lnTo>
                    <a:lnTo>
                      <a:pt x="1562" y="314"/>
                    </a:lnTo>
                    <a:lnTo>
                      <a:pt x="1510" y="291"/>
                    </a:lnTo>
                    <a:lnTo>
                      <a:pt x="1458" y="268"/>
                    </a:lnTo>
                    <a:lnTo>
                      <a:pt x="1404" y="246"/>
                    </a:lnTo>
                    <a:lnTo>
                      <a:pt x="1351" y="223"/>
                    </a:lnTo>
                    <a:lnTo>
                      <a:pt x="1299" y="200"/>
                    </a:lnTo>
                    <a:lnTo>
                      <a:pt x="1248" y="178"/>
                    </a:lnTo>
                    <a:lnTo>
                      <a:pt x="1199" y="158"/>
                    </a:lnTo>
                    <a:lnTo>
                      <a:pt x="1153" y="137"/>
                    </a:lnTo>
                    <a:lnTo>
                      <a:pt x="1107" y="118"/>
                    </a:lnTo>
                    <a:lnTo>
                      <a:pt x="1066" y="100"/>
                    </a:lnTo>
                    <a:lnTo>
                      <a:pt x="1028" y="83"/>
                    </a:lnTo>
                    <a:lnTo>
                      <a:pt x="994" y="68"/>
                    </a:lnTo>
                    <a:lnTo>
                      <a:pt x="964" y="56"/>
                    </a:lnTo>
                    <a:lnTo>
                      <a:pt x="937" y="44"/>
                    </a:lnTo>
                    <a:lnTo>
                      <a:pt x="917" y="36"/>
                    </a:lnTo>
                    <a:lnTo>
                      <a:pt x="902" y="29"/>
                    </a:lnTo>
                    <a:lnTo>
                      <a:pt x="892" y="25"/>
                    </a:lnTo>
                    <a:lnTo>
                      <a:pt x="889" y="23"/>
                    </a:lnTo>
                    <a:lnTo>
                      <a:pt x="866" y="16"/>
                    </a:lnTo>
                    <a:lnTo>
                      <a:pt x="841" y="12"/>
                    </a:lnTo>
                    <a:lnTo>
                      <a:pt x="810" y="8"/>
                    </a:lnTo>
                    <a:lnTo>
                      <a:pt x="775" y="3"/>
                    </a:lnTo>
                    <a:lnTo>
                      <a:pt x="737" y="2"/>
                    </a:lnTo>
                    <a:lnTo>
                      <a:pt x="697" y="0"/>
                    </a:lnTo>
                    <a:lnTo>
                      <a:pt x="656" y="0"/>
                    </a:lnTo>
                    <a:lnTo>
                      <a:pt x="614" y="2"/>
                    </a:lnTo>
                    <a:lnTo>
                      <a:pt x="570" y="3"/>
                    </a:lnTo>
                    <a:lnTo>
                      <a:pt x="526" y="6"/>
                    </a:lnTo>
                    <a:lnTo>
                      <a:pt x="482" y="9"/>
                    </a:lnTo>
                    <a:lnTo>
                      <a:pt x="438" y="13"/>
                    </a:lnTo>
                    <a:lnTo>
                      <a:pt x="397" y="17"/>
                    </a:lnTo>
                    <a:lnTo>
                      <a:pt x="357" y="23"/>
                    </a:lnTo>
                    <a:lnTo>
                      <a:pt x="319" y="29"/>
                    </a:lnTo>
                    <a:lnTo>
                      <a:pt x="28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-3444840" y="544320"/>
                <a:ext cx="20160" cy="51480"/>
              </a:xfrm>
              <a:custGeom>
                <a:avLst/>
                <a:gdLst/>
                <a:ahLst/>
                <a:rect l="l" t="t" r="r" b="b"/>
                <a:pathLst>
                  <a:path w="30" h="152">
                    <a:moveTo>
                      <a:pt x="30" y="75"/>
                    </a:moveTo>
                    <a:lnTo>
                      <a:pt x="29" y="105"/>
                    </a:lnTo>
                    <a:lnTo>
                      <a:pt x="26" y="129"/>
                    </a:lnTo>
                    <a:lnTo>
                      <a:pt x="20" y="146"/>
                    </a:lnTo>
                    <a:lnTo>
                      <a:pt x="15" y="152"/>
                    </a:lnTo>
                    <a:lnTo>
                      <a:pt x="9" y="146"/>
                    </a:lnTo>
                    <a:lnTo>
                      <a:pt x="5" y="129"/>
                    </a:lnTo>
                    <a:lnTo>
                      <a:pt x="2" y="105"/>
                    </a:lnTo>
                    <a:lnTo>
                      <a:pt x="0" y="75"/>
                    </a:lnTo>
                    <a:lnTo>
                      <a:pt x="2" y="45"/>
                    </a:lnTo>
                    <a:lnTo>
                      <a:pt x="5" y="23"/>
                    </a:lnTo>
                    <a:lnTo>
                      <a:pt x="9" y="6"/>
                    </a:lnTo>
                    <a:lnTo>
                      <a:pt x="15" y="0"/>
                    </a:lnTo>
                    <a:lnTo>
                      <a:pt x="20" y="6"/>
                    </a:lnTo>
                    <a:lnTo>
                      <a:pt x="26" y="23"/>
                    </a:lnTo>
                    <a:lnTo>
                      <a:pt x="29" y="45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-3020400" y="536040"/>
                <a:ext cx="13680" cy="3312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20" y="49"/>
                    </a:moveTo>
                    <a:lnTo>
                      <a:pt x="18" y="68"/>
                    </a:lnTo>
                    <a:lnTo>
                      <a:pt x="17" y="83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93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49"/>
                    </a:lnTo>
                    <a:lnTo>
                      <a:pt x="1" y="30"/>
                    </a:lnTo>
                    <a:lnTo>
                      <a:pt x="3" y="1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7" y="14"/>
                    </a:lnTo>
                    <a:lnTo>
                      <a:pt x="18" y="30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-3636000" y="325080"/>
                <a:ext cx="14760" cy="103680"/>
              </a:xfrm>
              <a:custGeom>
                <a:avLst/>
                <a:gdLst/>
                <a:ahLst/>
                <a:rect l="l" t="t" r="r" b="b"/>
                <a:pathLst>
                  <a:path w="22" h="304">
                    <a:moveTo>
                      <a:pt x="5" y="0"/>
                    </a:moveTo>
                    <a:lnTo>
                      <a:pt x="22" y="0"/>
                    </a:lnTo>
                    <a:lnTo>
                      <a:pt x="13" y="304"/>
                    </a:lnTo>
                    <a:lnTo>
                      <a:pt x="0" y="30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-3610080" y="326520"/>
                <a:ext cx="14760" cy="103680"/>
              </a:xfrm>
              <a:custGeom>
                <a:avLst/>
                <a:gdLst/>
                <a:ahLst/>
                <a:rect l="l" t="t" r="r" b="b"/>
                <a:pathLst>
                  <a:path w="21" h="305">
                    <a:moveTo>
                      <a:pt x="4" y="0"/>
                    </a:moveTo>
                    <a:lnTo>
                      <a:pt x="21" y="0"/>
                    </a:lnTo>
                    <a:lnTo>
                      <a:pt x="12" y="305"/>
                    </a:lnTo>
                    <a:lnTo>
                      <a:pt x="0" y="30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-3636000" y="462240"/>
                <a:ext cx="14760" cy="103320"/>
              </a:xfrm>
              <a:custGeom>
                <a:avLst/>
                <a:gdLst/>
                <a:ahLst/>
                <a:rect l="l" t="t" r="r" b="b"/>
                <a:pathLst>
                  <a:path w="22" h="307">
                    <a:moveTo>
                      <a:pt x="5" y="0"/>
                    </a:moveTo>
                    <a:lnTo>
                      <a:pt x="22" y="0"/>
                    </a:lnTo>
                    <a:lnTo>
                      <a:pt x="13" y="307"/>
                    </a:lnTo>
                    <a:lnTo>
                      <a:pt x="0" y="30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-3610080" y="458640"/>
                <a:ext cx="14760" cy="104400"/>
              </a:xfrm>
              <a:custGeom>
                <a:avLst/>
                <a:gdLst/>
                <a:ahLst/>
                <a:rect l="l" t="t" r="r" b="b"/>
                <a:pathLst>
                  <a:path w="21" h="306">
                    <a:moveTo>
                      <a:pt x="4" y="0"/>
                    </a:moveTo>
                    <a:lnTo>
                      <a:pt x="21" y="0"/>
                    </a:lnTo>
                    <a:lnTo>
                      <a:pt x="12" y="306"/>
                    </a:lnTo>
                    <a:lnTo>
                      <a:pt x="0" y="30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-3217320" y="364680"/>
                <a:ext cx="9360" cy="7920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-3199320" y="365760"/>
                <a:ext cx="9360" cy="795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-3217320" y="469800"/>
                <a:ext cx="9360" cy="7884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-3199320" y="466920"/>
                <a:ext cx="9360" cy="795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-3833280" y="518400"/>
                <a:ext cx="51120" cy="2556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74" y="39"/>
                    </a:moveTo>
                    <a:lnTo>
                      <a:pt x="71" y="54"/>
                    </a:lnTo>
                    <a:lnTo>
                      <a:pt x="62" y="65"/>
                    </a:lnTo>
                    <a:lnTo>
                      <a:pt x="51" y="74"/>
                    </a:lnTo>
                    <a:lnTo>
                      <a:pt x="37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7" y="0"/>
                    </a:lnTo>
                    <a:lnTo>
                      <a:pt x="51" y="3"/>
                    </a:lnTo>
                    <a:lnTo>
                      <a:pt x="62" y="12"/>
                    </a:lnTo>
                    <a:lnTo>
                      <a:pt x="71" y="23"/>
                    </a:lnTo>
                    <a:lnTo>
                      <a:pt x="7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-3767040" y="518400"/>
                <a:ext cx="52200" cy="2556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5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-4273920" y="513720"/>
                <a:ext cx="52200" cy="262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-4207680" y="513720"/>
                <a:ext cx="53280" cy="2628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6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-3804120" y="555840"/>
                <a:ext cx="21960" cy="52920"/>
              </a:xfrm>
              <a:custGeom>
                <a:avLst/>
                <a:gdLst/>
                <a:ahLst/>
                <a:rect l="l" t="t" r="r" b="b"/>
                <a:pathLst>
                  <a:path w="33" h="159">
                    <a:moveTo>
                      <a:pt x="33" y="4"/>
                    </a:moveTo>
                    <a:lnTo>
                      <a:pt x="33" y="159"/>
                    </a:lnTo>
                    <a:lnTo>
                      <a:pt x="0" y="154"/>
                    </a:lnTo>
                    <a:lnTo>
                      <a:pt x="0" y="0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-3950280" y="336960"/>
                <a:ext cx="238680" cy="103320"/>
              </a:xfrm>
              <a:custGeom>
                <a:avLst/>
                <a:gdLst/>
                <a:ahLst/>
                <a:rect l="l" t="t" r="r" b="b"/>
                <a:pathLst>
                  <a:path w="346" h="306">
                    <a:moveTo>
                      <a:pt x="303" y="0"/>
                    </a:moveTo>
                    <a:lnTo>
                      <a:pt x="303" y="29"/>
                    </a:lnTo>
                    <a:lnTo>
                      <a:pt x="303" y="99"/>
                    </a:lnTo>
                    <a:lnTo>
                      <a:pt x="299" y="173"/>
                    </a:lnTo>
                    <a:lnTo>
                      <a:pt x="291" y="219"/>
                    </a:lnTo>
                    <a:lnTo>
                      <a:pt x="285" y="225"/>
                    </a:lnTo>
                    <a:lnTo>
                      <a:pt x="274" y="229"/>
                    </a:lnTo>
                    <a:lnTo>
                      <a:pt x="258" y="234"/>
                    </a:lnTo>
                    <a:lnTo>
                      <a:pt x="238" y="238"/>
                    </a:lnTo>
                    <a:lnTo>
                      <a:pt x="215" y="241"/>
                    </a:lnTo>
                    <a:lnTo>
                      <a:pt x="191" y="244"/>
                    </a:lnTo>
                    <a:lnTo>
                      <a:pt x="166" y="245"/>
                    </a:lnTo>
                    <a:lnTo>
                      <a:pt x="139" y="248"/>
                    </a:lnTo>
                    <a:lnTo>
                      <a:pt x="113" y="249"/>
                    </a:lnTo>
                    <a:lnTo>
                      <a:pt x="88" y="251"/>
                    </a:lnTo>
                    <a:lnTo>
                      <a:pt x="64" y="252"/>
                    </a:lnTo>
                    <a:lnTo>
                      <a:pt x="42" y="252"/>
                    </a:lnTo>
                    <a:lnTo>
                      <a:pt x="25" y="253"/>
                    </a:lnTo>
                    <a:lnTo>
                      <a:pt x="11" y="253"/>
                    </a:lnTo>
                    <a:lnTo>
                      <a:pt x="3" y="253"/>
                    </a:lnTo>
                    <a:lnTo>
                      <a:pt x="0" y="253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69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2" y="306"/>
                    </a:lnTo>
                    <a:lnTo>
                      <a:pt x="181" y="306"/>
                    </a:lnTo>
                    <a:lnTo>
                      <a:pt x="210" y="306"/>
                    </a:lnTo>
                    <a:lnTo>
                      <a:pt x="237" y="306"/>
                    </a:lnTo>
                    <a:lnTo>
                      <a:pt x="261" y="305"/>
                    </a:lnTo>
                    <a:lnTo>
                      <a:pt x="283" y="303"/>
                    </a:lnTo>
                    <a:lnTo>
                      <a:pt x="300" y="302"/>
                    </a:lnTo>
                    <a:lnTo>
                      <a:pt x="313" y="299"/>
                    </a:lnTo>
                    <a:lnTo>
                      <a:pt x="320" y="296"/>
                    </a:lnTo>
                    <a:lnTo>
                      <a:pt x="333" y="244"/>
                    </a:lnTo>
                    <a:lnTo>
                      <a:pt x="342" y="146"/>
                    </a:lnTo>
                    <a:lnTo>
                      <a:pt x="344" y="51"/>
                    </a:lnTo>
                    <a:lnTo>
                      <a:pt x="346" y="8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-3952800" y="46080"/>
                <a:ext cx="190800" cy="101520"/>
              </a:xfrm>
              <a:custGeom>
                <a:avLst/>
                <a:gdLst/>
                <a:ahLst/>
                <a:rect l="l" t="t" r="r" b="b"/>
                <a:pathLst>
                  <a:path w="278" h="301">
                    <a:moveTo>
                      <a:pt x="278" y="0"/>
                    </a:moveTo>
                    <a:lnTo>
                      <a:pt x="211" y="43"/>
                    </a:lnTo>
                    <a:lnTo>
                      <a:pt x="211" y="68"/>
                    </a:lnTo>
                    <a:lnTo>
                      <a:pt x="208" y="126"/>
                    </a:lnTo>
                    <a:lnTo>
                      <a:pt x="200" y="189"/>
                    </a:lnTo>
                    <a:lnTo>
                      <a:pt x="183" y="228"/>
                    </a:lnTo>
                    <a:lnTo>
                      <a:pt x="167" y="237"/>
                    </a:lnTo>
                    <a:lnTo>
                      <a:pt x="144" y="244"/>
                    </a:lnTo>
                    <a:lnTo>
                      <a:pt x="119" y="250"/>
                    </a:lnTo>
                    <a:lnTo>
                      <a:pt x="90" y="253"/>
                    </a:lnTo>
                    <a:lnTo>
                      <a:pt x="65" y="255"/>
                    </a:lnTo>
                    <a:lnTo>
                      <a:pt x="42" y="257"/>
                    </a:lnTo>
                    <a:lnTo>
                      <a:pt x="27" y="258"/>
                    </a:lnTo>
                    <a:lnTo>
                      <a:pt x="21" y="258"/>
                    </a:lnTo>
                    <a:lnTo>
                      <a:pt x="0" y="301"/>
                    </a:lnTo>
                    <a:lnTo>
                      <a:pt x="8" y="301"/>
                    </a:lnTo>
                    <a:lnTo>
                      <a:pt x="29" y="299"/>
                    </a:lnTo>
                    <a:lnTo>
                      <a:pt x="61" y="297"/>
                    </a:lnTo>
                    <a:lnTo>
                      <a:pt x="97" y="294"/>
                    </a:lnTo>
                    <a:lnTo>
                      <a:pt x="137" y="291"/>
                    </a:lnTo>
                    <a:lnTo>
                      <a:pt x="173" y="288"/>
                    </a:lnTo>
                    <a:lnTo>
                      <a:pt x="204" y="285"/>
                    </a:lnTo>
                    <a:lnTo>
                      <a:pt x="224" y="284"/>
                    </a:lnTo>
                    <a:lnTo>
                      <a:pt x="236" y="280"/>
                    </a:lnTo>
                    <a:lnTo>
                      <a:pt x="246" y="271"/>
                    </a:lnTo>
                    <a:lnTo>
                      <a:pt x="255" y="257"/>
                    </a:lnTo>
                    <a:lnTo>
                      <a:pt x="262" y="241"/>
                    </a:lnTo>
                    <a:lnTo>
                      <a:pt x="266" y="221"/>
                    </a:lnTo>
                    <a:lnTo>
                      <a:pt x="269" y="200"/>
                    </a:lnTo>
                    <a:lnTo>
                      <a:pt x="272" y="176"/>
                    </a:lnTo>
                    <a:lnTo>
                      <a:pt x="273" y="152"/>
                    </a:lnTo>
                    <a:lnTo>
                      <a:pt x="276" y="91"/>
                    </a:lnTo>
                    <a:lnTo>
                      <a:pt x="278" y="43"/>
                    </a:lnTo>
                    <a:lnTo>
                      <a:pt x="278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-4217400" y="62280"/>
                <a:ext cx="160920" cy="93960"/>
              </a:xfrm>
              <a:custGeom>
                <a:avLst/>
                <a:gdLst/>
                <a:ahLst/>
                <a:rect l="l" t="t" r="r" b="b"/>
                <a:pathLst>
                  <a:path w="234" h="278">
                    <a:moveTo>
                      <a:pt x="234" y="0"/>
                    </a:moveTo>
                    <a:lnTo>
                      <a:pt x="178" y="38"/>
                    </a:lnTo>
                    <a:lnTo>
                      <a:pt x="178" y="62"/>
                    </a:lnTo>
                    <a:lnTo>
                      <a:pt x="175" y="116"/>
                    </a:lnTo>
                    <a:lnTo>
                      <a:pt x="166" y="174"/>
                    </a:lnTo>
                    <a:lnTo>
                      <a:pt x="152" y="211"/>
                    </a:lnTo>
                    <a:lnTo>
                      <a:pt x="139" y="220"/>
                    </a:lnTo>
                    <a:lnTo>
                      <a:pt x="121" y="225"/>
                    </a:lnTo>
                    <a:lnTo>
                      <a:pt x="100" y="230"/>
                    </a:lnTo>
                    <a:lnTo>
                      <a:pt x="77" y="234"/>
                    </a:lnTo>
                    <a:lnTo>
                      <a:pt x="54" y="235"/>
                    </a:lnTo>
                    <a:lnTo>
                      <a:pt x="36" y="237"/>
                    </a:lnTo>
                    <a:lnTo>
                      <a:pt x="23" y="238"/>
                    </a:lnTo>
                    <a:lnTo>
                      <a:pt x="19" y="238"/>
                    </a:lnTo>
                    <a:lnTo>
                      <a:pt x="0" y="278"/>
                    </a:lnTo>
                    <a:lnTo>
                      <a:pt x="7" y="278"/>
                    </a:lnTo>
                    <a:lnTo>
                      <a:pt x="26" y="276"/>
                    </a:lnTo>
                    <a:lnTo>
                      <a:pt x="51" y="273"/>
                    </a:lnTo>
                    <a:lnTo>
                      <a:pt x="83" y="272"/>
                    </a:lnTo>
                    <a:lnTo>
                      <a:pt x="115" y="269"/>
                    </a:lnTo>
                    <a:lnTo>
                      <a:pt x="145" y="266"/>
                    </a:lnTo>
                    <a:lnTo>
                      <a:pt x="170" y="264"/>
                    </a:lnTo>
                    <a:lnTo>
                      <a:pt x="187" y="262"/>
                    </a:lnTo>
                    <a:lnTo>
                      <a:pt x="199" y="258"/>
                    </a:lnTo>
                    <a:lnTo>
                      <a:pt x="207" y="249"/>
                    </a:lnTo>
                    <a:lnTo>
                      <a:pt x="214" y="238"/>
                    </a:lnTo>
                    <a:lnTo>
                      <a:pt x="220" y="222"/>
                    </a:lnTo>
                    <a:lnTo>
                      <a:pt x="224" y="204"/>
                    </a:lnTo>
                    <a:lnTo>
                      <a:pt x="227" y="184"/>
                    </a:lnTo>
                    <a:lnTo>
                      <a:pt x="229" y="163"/>
                    </a:lnTo>
                    <a:lnTo>
                      <a:pt x="230" y="140"/>
                    </a:lnTo>
                    <a:lnTo>
                      <a:pt x="233" y="83"/>
                    </a:lnTo>
                    <a:lnTo>
                      <a:pt x="234" y="39"/>
                    </a:lnTo>
                    <a:lnTo>
                      <a:pt x="234" y="1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-3944880" y="315000"/>
                <a:ext cx="140400" cy="83880"/>
              </a:xfrm>
              <a:custGeom>
                <a:avLst/>
                <a:gdLst/>
                <a:ahLst/>
                <a:rect l="l" t="t" r="r" b="b"/>
                <a:pathLst>
                  <a:path w="203" h="247">
                    <a:moveTo>
                      <a:pt x="203" y="0"/>
                    </a:moveTo>
                    <a:lnTo>
                      <a:pt x="13" y="4"/>
                    </a:lnTo>
                    <a:lnTo>
                      <a:pt x="0" y="247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-3880080" y="326520"/>
                <a:ext cx="123840" cy="63720"/>
              </a:xfrm>
              <a:custGeom>
                <a:avLst/>
                <a:gdLst/>
                <a:ahLst/>
                <a:rect l="l" t="t" r="r" b="b"/>
                <a:pathLst>
                  <a:path w="180" h="187">
                    <a:moveTo>
                      <a:pt x="146" y="0"/>
                    </a:moveTo>
                    <a:lnTo>
                      <a:pt x="0" y="187"/>
                    </a:lnTo>
                    <a:lnTo>
                      <a:pt x="180" y="4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-3950280" y="41400"/>
                <a:ext cx="75600" cy="7956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110" y="0"/>
                    </a:moveTo>
                    <a:lnTo>
                      <a:pt x="0" y="19"/>
                    </a:lnTo>
                    <a:lnTo>
                      <a:pt x="7" y="23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-3899160" y="60480"/>
                <a:ext cx="90720" cy="529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109" y="0"/>
                    </a:moveTo>
                    <a:lnTo>
                      <a:pt x="0" y="159"/>
                    </a:lnTo>
                    <a:lnTo>
                      <a:pt x="132" y="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-4217400" y="52920"/>
                <a:ext cx="89280" cy="78480"/>
              </a:xfrm>
              <a:custGeom>
                <a:avLst/>
                <a:gdLst/>
                <a:ahLst/>
                <a:rect l="l" t="t" r="r" b="b"/>
                <a:pathLst>
                  <a:path w="129" h="232">
                    <a:moveTo>
                      <a:pt x="129" y="0"/>
                    </a:moveTo>
                    <a:lnTo>
                      <a:pt x="8" y="27"/>
                    </a:lnTo>
                    <a:lnTo>
                      <a:pt x="0" y="23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-4170600" y="70560"/>
                <a:ext cx="91800" cy="5256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109" y="0"/>
                    </a:moveTo>
                    <a:lnTo>
                      <a:pt x="0" y="158"/>
                    </a:lnTo>
                    <a:lnTo>
                      <a:pt x="133" y="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-4221360" y="321840"/>
                <a:ext cx="126720" cy="67680"/>
              </a:xfrm>
              <a:custGeom>
                <a:avLst/>
                <a:gdLst/>
                <a:ahLst/>
                <a:rect l="l" t="t" r="r" b="b"/>
                <a:pathLst>
                  <a:path w="184" h="198">
                    <a:moveTo>
                      <a:pt x="184" y="0"/>
                    </a:moveTo>
                    <a:lnTo>
                      <a:pt x="11" y="2"/>
                    </a:lnTo>
                    <a:lnTo>
                      <a:pt x="0" y="19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-4163760" y="331560"/>
                <a:ext cx="114120" cy="5040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33" y="0"/>
                    </a:moveTo>
                    <a:lnTo>
                      <a:pt x="0" y="150"/>
                    </a:lnTo>
                    <a:lnTo>
                      <a:pt x="164" y="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-3641760" y="88560"/>
                <a:ext cx="70200" cy="74160"/>
              </a:xfrm>
              <a:custGeom>
                <a:avLst/>
                <a:gdLst/>
                <a:ahLst/>
                <a:rect l="l" t="t" r="r" b="b"/>
                <a:pathLst>
                  <a:path w="102" h="222">
                    <a:moveTo>
                      <a:pt x="72" y="0"/>
                    </a:moveTo>
                    <a:lnTo>
                      <a:pt x="0" y="217"/>
                    </a:lnTo>
                    <a:lnTo>
                      <a:pt x="102" y="22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-3503520" y="117000"/>
                <a:ext cx="68400" cy="70560"/>
              </a:xfrm>
              <a:custGeom>
                <a:avLst/>
                <a:gdLst/>
                <a:ahLst/>
                <a:rect l="l" t="t" r="r" b="b"/>
                <a:pathLst>
                  <a:path w="101" h="209">
                    <a:moveTo>
                      <a:pt x="81" y="0"/>
                    </a:moveTo>
                    <a:lnTo>
                      <a:pt x="0" y="179"/>
                    </a:lnTo>
                    <a:lnTo>
                      <a:pt x="101" y="20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-3364920" y="143640"/>
                <a:ext cx="67320" cy="63000"/>
              </a:xfrm>
              <a:custGeom>
                <a:avLst/>
                <a:gdLst/>
                <a:ahLst/>
                <a:rect l="l" t="t" r="r" b="b"/>
                <a:pathLst>
                  <a:path w="98" h="187">
                    <a:moveTo>
                      <a:pt x="76" y="0"/>
                    </a:moveTo>
                    <a:lnTo>
                      <a:pt x="0" y="174"/>
                    </a:lnTo>
                    <a:lnTo>
                      <a:pt x="98" y="18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-3227040" y="168120"/>
                <a:ext cx="46800" cy="60120"/>
              </a:xfrm>
              <a:custGeom>
                <a:avLst/>
                <a:gdLst/>
                <a:ahLst/>
                <a:rect l="l" t="t" r="r" b="b"/>
                <a:pathLst>
                  <a:path w="68" h="179">
                    <a:moveTo>
                      <a:pt x="51" y="0"/>
                    </a:moveTo>
                    <a:lnTo>
                      <a:pt x="68" y="179"/>
                    </a:lnTo>
                    <a:lnTo>
                      <a:pt x="0" y="15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-3112920" y="19080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45" h="159">
                    <a:moveTo>
                      <a:pt x="36" y="0"/>
                    </a:moveTo>
                    <a:lnTo>
                      <a:pt x="45" y="159"/>
                    </a:lnTo>
                    <a:lnTo>
                      <a:pt x="0" y="14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-3026160" y="206640"/>
                <a:ext cx="36000" cy="46440"/>
              </a:xfrm>
              <a:custGeom>
                <a:avLst/>
                <a:gdLst/>
                <a:ahLst/>
                <a:rect l="l" t="t" r="r" b="b"/>
                <a:pathLst>
                  <a:path w="51" h="138">
                    <a:moveTo>
                      <a:pt x="38" y="0"/>
                    </a:moveTo>
                    <a:lnTo>
                      <a:pt x="51" y="138"/>
                    </a:lnTo>
                    <a:lnTo>
                      <a:pt x="0" y="1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-2932560" y="221040"/>
                <a:ext cx="27360" cy="47880"/>
              </a:xfrm>
              <a:custGeom>
                <a:avLst/>
                <a:gdLst/>
                <a:ahLst/>
                <a:rect l="l" t="t" r="r" b="b"/>
                <a:pathLst>
                  <a:path w="38" h="142">
                    <a:moveTo>
                      <a:pt x="25" y="0"/>
                    </a:moveTo>
                    <a:lnTo>
                      <a:pt x="38" y="142"/>
                    </a:lnTo>
                    <a:lnTo>
                      <a:pt x="0" y="12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-3483000" y="341280"/>
                <a:ext cx="74520" cy="79920"/>
              </a:xfrm>
              <a:custGeom>
                <a:avLst/>
                <a:gdLst/>
                <a:ahLst/>
                <a:rect l="l" t="t" r="r" b="b"/>
                <a:pathLst>
                  <a:path w="109" h="237">
                    <a:moveTo>
                      <a:pt x="109" y="0"/>
                    </a:moveTo>
                    <a:lnTo>
                      <a:pt x="105" y="237"/>
                    </a:lnTo>
                    <a:lnTo>
                      <a:pt x="0" y="237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-3344400" y="354240"/>
                <a:ext cx="64800" cy="6840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94" y="0"/>
                    </a:moveTo>
                    <a:lnTo>
                      <a:pt x="94" y="194"/>
                    </a:lnTo>
                    <a:lnTo>
                      <a:pt x="0" y="20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-3126600" y="370080"/>
                <a:ext cx="27360" cy="60120"/>
              </a:xfrm>
              <a:custGeom>
                <a:avLst/>
                <a:gdLst/>
                <a:ahLst/>
                <a:rect l="l" t="t" r="r" b="b"/>
                <a:pathLst>
                  <a:path w="41" h="178">
                    <a:moveTo>
                      <a:pt x="41" y="0"/>
                    </a:moveTo>
                    <a:lnTo>
                      <a:pt x="41" y="178"/>
                    </a:lnTo>
                    <a:lnTo>
                      <a:pt x="0" y="1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-3028680" y="377640"/>
                <a:ext cx="25560" cy="56880"/>
              </a:xfrm>
              <a:custGeom>
                <a:avLst/>
                <a:gdLst/>
                <a:ahLst/>
                <a:rect l="l" t="t" r="r" b="b"/>
                <a:pathLst>
                  <a:path w="39" h="168">
                    <a:moveTo>
                      <a:pt x="39" y="0"/>
                    </a:moveTo>
                    <a:lnTo>
                      <a:pt x="39" y="168"/>
                    </a:lnTo>
                    <a:lnTo>
                      <a:pt x="0" y="16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-2940120" y="384120"/>
                <a:ext cx="20160" cy="47160"/>
              </a:xfrm>
              <a:custGeom>
                <a:avLst/>
                <a:gdLst/>
                <a:ahLst/>
                <a:rect l="l" t="t" r="r" b="b"/>
                <a:pathLst>
                  <a:path w="30" h="139">
                    <a:moveTo>
                      <a:pt x="26" y="0"/>
                    </a:moveTo>
                    <a:lnTo>
                      <a:pt x="30" y="139"/>
                    </a:lnTo>
                    <a:lnTo>
                      <a:pt x="0" y="13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2276640"/>
            <a:ext cx="3672000" cy="27525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72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墾丁之旅說明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82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光中學校外教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墾．丁．概．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位於台灣的最南端，三面環海，東面太平洋，西鄰台灣海峽，南瀕巴士海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陸地範圍包括龜山向南至鵝鑾鼻、東沿太平洋岸經佳樂水，北至南仁山區，共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8083.5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公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67200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景．點．介．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自然景觀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南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船帆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尖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砂島貝殼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建築物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海洋生物博物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恆春古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茶山吊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青年活動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1680" y="4986000"/>
            <a:ext cx="7026840" cy="1591200"/>
            <a:chOff x="121680" y="4986000"/>
            <a:chExt cx="7026840" cy="1591200"/>
          </a:xfrm>
        </p:grpSpPr>
        <p:pic>
          <p:nvPicPr>
            <p:cNvPr id="274" name="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 rot="21163200">
              <a:off x="3563640" y="526896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5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 rot="297600">
              <a:off x="1439640" y="5192640"/>
              <a:ext cx="1338120" cy="100800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6" name="" descr="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 rot="20835000">
              <a:off x="216000" y="512100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7" name="" descr=""/>
            <p:cNvPicPr/>
            <p:nvPr/>
          </p:nvPicPr>
          <p:blipFill>
            <a:blip r:embed="rId5">
              <a:lum contrast="12000"/>
            </a:blip>
            <a:stretch/>
          </p:blipFill>
          <p:spPr>
            <a:xfrm rot="20915400">
              <a:off x="5724360" y="5300280"/>
              <a:ext cx="1338480" cy="100008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8" name="" descr=""/>
            <p:cNvPicPr/>
            <p:nvPr/>
          </p:nvPicPr>
          <p:blipFill>
            <a:blip r:embed="rId6">
              <a:lum contrast="12000"/>
            </a:blip>
            <a:stretch/>
          </p:blipFill>
          <p:spPr>
            <a:xfrm rot="475200">
              <a:off x="4500720" y="5486040"/>
              <a:ext cx="133812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9" name="" descr=""/>
            <p:cNvPicPr/>
            <p:nvPr/>
          </p:nvPicPr>
          <p:blipFill>
            <a:blip r:embed="rId7"/>
            <a:stretch/>
          </p:blipFill>
          <p:spPr>
            <a:xfrm rot="1663200">
              <a:off x="2376000" y="5265360"/>
              <a:ext cx="133848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景．點．欣．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42920" y="2168640"/>
            <a:ext cx="2925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3366ff"/>
                </a:solidFill>
                <a:latin typeface="華康儷中黑"/>
              </a:rPr>
              <a:t>墾丁青年活動中心</a:t>
            </a:r>
            <a:endParaRPr b="0" lang="en-US" sz="2800" spc="1" strike="noStrike">
              <a:ln w="0">
                <a:noFill/>
              </a:ln>
              <a:solidFill>
                <a:srgbClr val="3366ff"/>
              </a:solidFill>
              <a:latin typeface="華康儷中黑"/>
              <a:ea typeface="華康儷中黑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00920" y="2168640"/>
            <a:ext cx="10969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3366ff"/>
                </a:solidFill>
                <a:latin typeface="華康儷中黑"/>
              </a:rPr>
              <a:t>船帆石</a:t>
            </a:r>
            <a:endParaRPr b="0" lang="en-US" sz="2800" spc="1" strike="noStrike">
              <a:ln w="0">
                <a:noFill/>
              </a:ln>
              <a:solidFill>
                <a:srgbClr val="3366ff"/>
              </a:solidFill>
              <a:latin typeface="華康儷中黑"/>
              <a:ea typeface="華康儷中黑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04720" y="2673360"/>
            <a:ext cx="3811680" cy="28684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824360" y="2673360"/>
            <a:ext cx="381168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古．蹟．參．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6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恆春古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恆春古稱「琅嶠」，因四季如春，故更名為「恆春」。恆春古城建立於清朝，目前還保留著四座城門與部分城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茶山吊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原本是漁村對外交通的重要管道，但因後來興建了穩固的鋼筋水泥大穚，茶山吊橋就走入歷史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156360" y="18082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教．學．目．標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生態研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海生館全區分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主題館，同學可在此了解海洋生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文化欣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留有許多古老的建築與人文建設，同學可在此緬懷舊時的歷史與人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1680" y="4986000"/>
            <a:ext cx="7026840" cy="1591200"/>
            <a:chOff x="121680" y="4986000"/>
            <a:chExt cx="7026840" cy="1591200"/>
          </a:xfrm>
        </p:grpSpPr>
        <p:pic>
          <p:nvPicPr>
            <p:cNvPr id="292" name="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 rot="21163200">
              <a:off x="3563640" y="526896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3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 rot="297600">
              <a:off x="1439640" y="5192640"/>
              <a:ext cx="1338120" cy="100800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4" name="" descr="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 rot="20835000">
              <a:off x="216000" y="512100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5" name="" descr=""/>
            <p:cNvPicPr/>
            <p:nvPr/>
          </p:nvPicPr>
          <p:blipFill>
            <a:blip r:embed="rId5">
              <a:lum contrast="12000"/>
            </a:blip>
            <a:stretch/>
          </p:blipFill>
          <p:spPr>
            <a:xfrm rot="20915400">
              <a:off x="5724360" y="5300280"/>
              <a:ext cx="1338480" cy="100008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6" name="" descr=""/>
            <p:cNvPicPr/>
            <p:nvPr/>
          </p:nvPicPr>
          <p:blipFill>
            <a:blip r:embed="rId6">
              <a:lum contrast="12000"/>
            </a:blip>
            <a:stretch/>
          </p:blipFill>
          <p:spPr>
            <a:xfrm rot="475200">
              <a:off x="4500720" y="5486040"/>
              <a:ext cx="133812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7" name="" descr=""/>
            <p:cNvPicPr/>
            <p:nvPr/>
          </p:nvPicPr>
          <p:blipFill>
            <a:blip r:embed="rId7"/>
            <a:stretch/>
          </p:blipFill>
          <p:spPr>
            <a:xfrm rot="1663200">
              <a:off x="2376000" y="5265360"/>
              <a:ext cx="133848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注．意．事．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參加的同學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7:5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前到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學可自行攜帶點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穿短袖、長褲運動服，加運動服外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攜帶雨具及防曬用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校外教學行程有提供中餐，同學不必自行準備便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※ </a:t>
            </a: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未參加的同學，應到校參加勞動服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相．關．網．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悠遊墾丁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uukt.idv.tw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墾丁旅遊網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kenting.network.com.tw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墾丁旅遊達人網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dotzing.com.tw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墾丁住宿旅遊網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ktwalker.com.tw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04:31:21Z</dcterms:created>
  <dc:creator/>
  <dc:description/>
  <dc:language>en-US</dc:language>
  <cp:lastModifiedBy>user</cp:lastModifiedBy>
  <dcterms:modified xsi:type="dcterms:W3CDTF">2009-07-22T03:14:24Z</dcterms:modified>
  <cp:revision>83</cp:revision>
  <dc:subject/>
  <dc:title>墾丁之旅說明會</dc:title>
</cp:coreProperties>
</file>