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5D8-D666-4C60-B421-B9527660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AFA-6324-40F1-9BD8-E27CDFE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13C-E824-42C1-9DCF-8F2348C3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ACC-CAFD-49EA-AF51-F5AFD28D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0FC-70A8-47D1-A6A9-92BE94B0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251-115C-4DBB-A01B-55DCC7C9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380-9617-47C5-9B54-A12E7A92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D1A-713F-4DB4-933F-2FFBD1D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9F8-E3A8-4B21-8621-B473DF7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47A-472C-4A29-B911-E4A3C7B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118-7696-4D0B-8863-9863381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446-B563-4449-844A-3EC8876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4D7C-DE3E-4199-B15B-7F831ACC581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10-29T03:50:27Z</dcterms:modified>
  <cp:revision>12</cp:revision>
  <dc:subject/>
  <dc:title>投影片 1</dc:title>
</cp:coreProperties>
</file>