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0CA9-5659-41D5-87D4-352F7B9D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26920" y="3736800"/>
            <a:ext cx="7274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37EB-8E16-4590-A376-3B00064E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692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36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B9E6-30F3-4722-8FD5-C0A6D6DDA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86440" y="11250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746320" y="11250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26920" y="37368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86440" y="37368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746320" y="37368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D874-1C3C-42C7-93F4-D372DF07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F450-D02F-4A71-AB87-8B6541A4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4A04-9B18-4746-8466-136E1308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CE67-F360-47D0-B852-E6F2A1F6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506E-2D80-4D34-A1D8-08D9A309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476E-451F-47E6-9790-B4C14046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38240" y="82080"/>
            <a:ext cx="7067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F274-41C5-4992-ADFC-C984E1EF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692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0A47-F174-4F67-BFC4-7162A9C3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4D4C-5B4D-4ED0-96AB-5E12D275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36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253A-40D3-42CF-B0AE-5DCB8125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6920" y="3736800"/>
            <a:ext cx="7274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CC40-F588-4C1C-A734-B81D1C65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26920" y="3736800"/>
            <a:ext cx="7274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BBFF-63FC-42A2-82FE-2401ACA8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2692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5436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E35C-FF3D-4B2F-95A3-21865EA6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86440" y="11250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46320" y="11250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26920" y="37368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86440" y="37368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46320" y="37368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3B0D-5915-4EA4-95DC-59025E32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E5DC-BB98-4950-B2EF-33AB0C74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9B15-6978-496F-9E4E-6E8ABA54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39EB-A78E-40F9-ABC9-21395623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38240" y="82080"/>
            <a:ext cx="7067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FB10-D96A-4B46-9FE3-934C7AF3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2692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97D5-EF0D-4FFC-BE3C-82453C92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436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D8E6-53AF-4F30-93DF-F1B37BE6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6920" y="3736800"/>
            <a:ext cx="7274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93D7-7E9D-4EEB-A5C7-74FBF283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948360" y="3603600"/>
            <a:ext cx="1944720" cy="2676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005775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40" y="645336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99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7040" indent="-4370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44000" indent="-432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39640" indent="-2214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35280" indent="-2214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31280" indent="-2214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31280" indent="-2214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31280" indent="-2214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F229-AE0B-4D64-A7E3-7ED5B8A3E539}" type="datetime"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115/0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481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272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29CF-1753-4F59-BD9A-F799121ABE8B}" type="slidenum"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2438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89cf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0040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0" t="0" r="0" b="31522"/>
          <a:stretch/>
        </p:blipFill>
        <p:spPr>
          <a:xfrm>
            <a:off x="5770440" y="3357720"/>
            <a:ext cx="3373560" cy="347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9192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A598-189B-4905-9B14-AE4F5633CE97}" type="datetime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115/0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60E9-DF12-418F-9B41-F4A2C1777A66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rcRect l="0" t="0" r="0" b="24291"/>
          <a:stretch/>
        </p:blipFill>
        <p:spPr>
          <a:xfrm>
            <a:off x="0" y="0"/>
            <a:ext cx="3200400" cy="2422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236232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341280" algn="ctr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91960" algn="ctr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243000" algn="ctr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2430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2430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268,2,&#30446;&#37636;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268,2,&#30446;&#37636;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49192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推甄履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星光中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趙子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得獎紀錄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68360" y="1292400"/>
          <a:ext cx="8207280" cy="4224240"/>
        </p:xfrm>
        <a:graphic>
          <a:graphicData uri="http://schemas.openxmlformats.org/drawingml/2006/table">
            <a:tbl>
              <a:tblPr/>
              <a:tblGrid>
                <a:gridCol w="5616360"/>
                <a:gridCol w="2590920"/>
              </a:tblGrid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項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 w="13680">
                      <a:solidFill>
                        <a:srgbClr val="99ccff"/>
                      </a:solidFill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成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 w="13680">
                      <a:solidFill>
                        <a:srgbClr val="99ccff"/>
                      </a:solidFill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全國高中職組啦啦隊大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全縣反盜版海報設計比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61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際網頁設計比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1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際英文演說比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際飲料調酒比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際英文作文比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 w="13680">
                      <a:solidFill>
                        <a:srgbClr val="99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佳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 w="13680">
                      <a:solidFill>
                        <a:srgbClr val="99cc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0" y="6021360"/>
            <a:ext cx="115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Arial"/>
                <a:ea typeface="華康細圓體"/>
              </a:rPr>
              <a:t>回目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未來學習計畫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課業目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成績保持班上前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5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語言學習目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通過全民英檢中高級檢定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其他目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爭取資訊公司工讀機會，預先了解業界實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021360"/>
            <a:ext cx="115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Arial"/>
                <a:ea typeface="華康細圓體"/>
              </a:rPr>
              <a:t>回目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簡報內容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1125000"/>
            <a:ext cx="3560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人基本資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求學過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幹部經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專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社團經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39960" y="1125000"/>
            <a:ext cx="3560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志工經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檢定與證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得獎紀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未來學習計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個人基本資料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姓名：趙子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學歷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星光中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仁愛國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仁愛國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推甄科系：資訊管理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021360"/>
            <a:ext cx="115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Arial"/>
                <a:ea typeface="華康細圓體"/>
              </a:rPr>
              <a:t>回目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求學過程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國小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~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國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從小喜歡玩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電腦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對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資訊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很有興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高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利用空閒時間來研讀各種電腦書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考取多項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證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021360"/>
            <a:ext cx="115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Arial"/>
                <a:ea typeface="華康細圓體"/>
              </a:rPr>
              <a:t>回目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幹部經歷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高一：電腦小老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協助解決同學疑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協助老師整理教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高二：體育股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帶領全班同學獲得啦啦隊比賽第一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高三：班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帶領同學得到學年精神總錦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021360"/>
            <a:ext cx="115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Arial"/>
                <a:ea typeface="華康細圓體"/>
              </a:rPr>
              <a:t>回目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專長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文書處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程式設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英文演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美術設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舞蹈表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飲料調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021360"/>
            <a:ext cx="115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Arial"/>
                <a:ea typeface="華康細圓體"/>
              </a:rPr>
              <a:t>回目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社團經歷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數位影像編修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熱舞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啦啦隊校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飲料調酒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021360"/>
            <a:ext cx="115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Arial"/>
                <a:ea typeface="華康細圓體"/>
              </a:rPr>
              <a:t>回目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志工經歷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台北市立動物園志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教育部資訊志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內政部消防署鳳凰志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021360"/>
            <a:ext cx="115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Arial"/>
                <a:ea typeface="華康細圓體"/>
                <a:hlinkClick r:id="rId1"/>
              </a:rPr>
              <a:t>回目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檢定與證照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021360"/>
            <a:ext cx="115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Arial"/>
                <a:ea typeface="華康細圓體"/>
                <a:hlinkClick r:id="rId1"/>
              </a:rPr>
              <a:t>回目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03:52:41Z</dcterms:created>
  <dc:creator>E063</dc:creator>
  <dc:description/>
  <dc:language>en-US</dc:language>
  <cp:lastModifiedBy>user</cp:lastModifiedBy>
  <dcterms:modified xsi:type="dcterms:W3CDTF">2009-11-03T09:43:52Z</dcterms:modified>
  <cp:revision>31</cp:revision>
  <dc:subject/>
  <dc:title>推</dc:title>
</cp:coreProperties>
</file>