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38DE-7B8B-4243-959E-69B9ACC59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431D-2CE3-4128-9CC8-292CCC0E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E215-1B87-4A1C-94D4-92BD8A0AA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82A6-2956-4B8D-AEEC-F3FAB69E6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4D03-71CA-4C89-A437-182283B1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E6E6-6C4D-4F5D-A0EC-40D1B922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8ADC-4F9D-4F70-93D7-83D5FB91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63D6-11D3-4C35-BEEF-00971F24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59CC-1159-435F-8131-EB108D93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F1D2-7D0D-4EEF-BD7A-EF03A83C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7B84-83AC-4C7E-992A-D066FF1F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7842-10B7-47FD-AA51-06F067BF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B191-00B3-4A40-A227-6DADA31760E4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4000" y="630360"/>
            <a:ext cx="648036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000" spc="-1" strike="noStrike">
                <a:solidFill>
                  <a:srgbClr val="000000"/>
                </a:solidFill>
                <a:latin typeface="新細明體"/>
              </a:rPr>
              <a:t>老師，謝謝您！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x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年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x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班全體同學  敬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143920" y="6138720"/>
            <a:ext cx="1000080" cy="962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flipH="1">
            <a:off x="-108000" y="6184800"/>
            <a:ext cx="1000080" cy="962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02:12:44Z</dcterms:created>
  <dc:creator>user</dc:creator>
  <dc:description/>
  <dc:language>en-US</dc:language>
  <cp:lastModifiedBy>user</cp:lastModifiedBy>
  <dcterms:modified xsi:type="dcterms:W3CDTF">2009-10-29T03:50:27Z</dcterms:modified>
  <cp:revision>12</cp:revision>
  <dc:subject/>
  <dc:title>投影片 1</dc:title>
</cp:coreProperties>
</file>