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653-2092-45E2-BC53-5103A6FA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1DE-406F-4B1D-8791-3600F9AC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0D01-BEB4-4384-87E8-EDF1F907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CC4-3A41-4A34-9416-EE90F905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FE25-D330-488C-8F50-F8B7E0C9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105-6648-48FD-83D2-7F3D00D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C38E-A282-4D7A-8B19-D3B07FD6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E89-BCDA-47A2-B820-BFF1769C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CDA3-5978-44B7-BC44-90560277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98F3-23E9-4347-A479-A44B794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DDD4-06B3-498F-A51F-935E7AA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0DD-D08D-44EA-A865-CF2058A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249-2FE7-43B2-B412-3BEDDEB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A480-A504-4412-B78F-798FD31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3B7-AB4E-44EF-8854-9484935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A8E1-1268-4DDE-90EC-A4A3138B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644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46320" y="11250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269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644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46320" y="3736800"/>
            <a:ext cx="2342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6D73-B137-4A01-9564-38D3D48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BF9-9862-49D6-BAC7-68B754F7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5BC-19AB-4ED8-9F66-8925A24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C30-5C72-4109-865A-CE0802C4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38240" y="82080"/>
            <a:ext cx="7067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3FA-9086-42DF-BD19-6C3144FF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95A-7EF5-4DE2-891D-C51B1F5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360" y="37368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188-D506-4518-BE68-9134E5E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360" y="1125000"/>
            <a:ext cx="35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6920" y="3736800"/>
            <a:ext cx="727416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EBCF-B563-4872-BEFA-EE2ADA67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948360" y="3603600"/>
            <a:ext cx="1944720" cy="2676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005775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6453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99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-43704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43236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3964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35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31280" indent="-2214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384-F97B-4833-B59F-1A44A549F593}" type="datetime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115/0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81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1ED-5352-47E0-A488-DCC3407A43FA}" type="slidenum"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2438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89cf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rcRect l="0" t="0" r="0" b="31522"/>
          <a:stretch/>
        </p:blipFill>
        <p:spPr>
          <a:xfrm>
            <a:off x="5770440" y="3357720"/>
            <a:ext cx="3373560" cy="347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4B68-2DC4-453B-8878-151D5742C280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C1B-8454-4D51-B819-CD84914BEFE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rcRect l="0" t="0" r="0" b="24291"/>
          <a:stretch/>
        </p:blipFill>
        <p:spPr>
          <a:xfrm>
            <a:off x="0" y="0"/>
            <a:ext cx="3200400" cy="242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362320"/>
            <a:ext cx="91440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41280" algn="ctr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9196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43000" algn="ctr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430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推甄履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子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得獎紀錄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292400"/>
          <a:ext cx="8207280" cy="4224240"/>
        </p:xfrm>
        <a:graphic>
          <a:graphicData uri="http://schemas.openxmlformats.org/drawingml/2006/table">
            <a:tbl>
              <a:tblPr/>
              <a:tblGrid>
                <a:gridCol w="5616360"/>
                <a:gridCol w="259092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項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成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 w="13680">
                      <a:solidFill>
                        <a:srgbClr val="99ccff"/>
                      </a:solidFill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國高中職組啦啦隊大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全縣反盜版海報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網頁設計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演說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飲料調酒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際英文作文比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佳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ccff"/>
                      </a:solidFill>
                    </a:lnL>
                    <a:lnR w="13680">
                      <a:solidFill>
                        <a:srgbClr val="99ccff"/>
                      </a:solidFill>
                    </a:lnR>
                    <a:lnT>
                      <a:noFill/>
                    </a:lnT>
                    <a:lnB w="13680">
                      <a:solidFill>
                        <a:srgbClr val="99cc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114-FB6E-4487-8F14-5323230367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成績保持班上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通過全民英檢中高級檢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爭取資訊公司工讀機會，預先了解業界實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FDA-291E-43B3-9D20-64B3A621B7DF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簡報內容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個人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幹部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專長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社團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39960" y="1125000"/>
            <a:ext cx="35607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志工經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檢定與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得獎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9999"/>
                </a:solidFill>
                <a:uFillTx/>
                <a:latin typeface="Arial"/>
              </a:rPr>
              <a:t>未來學習計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5BD-5CFF-49AF-A4C5-3B7D85393E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個人基本資料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姓名：趙子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星光中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仁愛國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推甄科系：資訊管理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D43-DC5C-490C-A035-17C695C896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小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~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對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很有興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高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利用空閒時間來研讀各種電腦書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考取多項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BC1-E81C-4146-A82A-FED5D90764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幹部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一：電腦小老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解決同學疑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協助老師整理教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二：體育股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全班同學獲得啦啦隊比賽第一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三：班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460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帶領同學得到學年精神總錦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F81-F6A6-417D-960F-98732C9B0A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專長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書處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英文演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美術設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舞蹈表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7AA-0632-456D-A1CB-6CC4FC8472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社團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影像編修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熱舞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啦啦隊校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飲料調酒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F1E-F4F5-4DC7-844E-95DCF0ED19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志工經歷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125000"/>
            <a:ext cx="72741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北市立動物園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育部資訊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內政部消防署鳳凰志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B41-7516-4A49-A525-16C49357AD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38240" y="82080"/>
            <a:ext cx="7067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Arial"/>
              </a:rPr>
              <a:t>檢定與證照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推甄履歷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A18-F9A0-4AEA-A4EC-CBE4CAE77D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3:52:41Z</dcterms:created>
  <dc:creator>E063</dc:creator>
  <dc:description/>
  <dc:language>en-US</dc:language>
  <cp:lastModifiedBy>user</cp:lastModifiedBy>
  <dcterms:modified xsi:type="dcterms:W3CDTF">2009-11-12T01:15:38Z</dcterms:modified>
  <cp:revision>34</cp:revision>
  <dc:subject/>
  <dc:title>推</dc:title>
</cp:coreProperties>
</file>