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A29A-FBDE-4ED8-8980-BC10624F6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72741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826920" y="3736800"/>
            <a:ext cx="72741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85B6-34AB-43BC-BD03-A5E7952EF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35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54360" y="1125000"/>
            <a:ext cx="35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26920" y="3736800"/>
            <a:ext cx="35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4360" y="3736800"/>
            <a:ext cx="35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04D2-FEB5-44F6-A762-135636017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23421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86440" y="1125000"/>
            <a:ext cx="23421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746320" y="1125000"/>
            <a:ext cx="23421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826920" y="3736800"/>
            <a:ext cx="23421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86440" y="3736800"/>
            <a:ext cx="23421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746320" y="3736800"/>
            <a:ext cx="23421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B5BE-022F-4152-AA44-9B0800CA9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2527C-F27F-48BB-BAEE-DD73374FA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26920" y="1125000"/>
            <a:ext cx="727416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4017B-F1AF-4D80-AB57-E7F929A78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72741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51D57-7654-4A4E-AF76-FF6778AD6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354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54360" y="1125000"/>
            <a:ext cx="354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A3BD1-D59A-4C0E-907A-87EC485FA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DD576-45AF-43BF-8A50-36B2AE23B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038240" y="82080"/>
            <a:ext cx="706752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E920C-FA3E-4C98-9B41-615A47F73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35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54360" y="1125000"/>
            <a:ext cx="354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26920" y="3736800"/>
            <a:ext cx="35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2E097-7418-4D73-BA56-28F0E234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826920" y="1125000"/>
            <a:ext cx="727416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091E-9392-4B09-9111-B1CBE8525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354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54360" y="1125000"/>
            <a:ext cx="35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360" y="3736800"/>
            <a:ext cx="35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F62BE-6515-4938-A976-118812DD5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35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54360" y="1125000"/>
            <a:ext cx="35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6920" y="3736800"/>
            <a:ext cx="72741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B54FA-A00E-4AFF-A0A9-EF1CD6729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72741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26920" y="3736800"/>
            <a:ext cx="72741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FD86A-6705-472E-80DE-02AB04F87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35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54360" y="1125000"/>
            <a:ext cx="35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26920" y="3736800"/>
            <a:ext cx="35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54360" y="3736800"/>
            <a:ext cx="35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5255B-7224-44E7-887E-5BB347024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23421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86440" y="1125000"/>
            <a:ext cx="23421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746320" y="1125000"/>
            <a:ext cx="23421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26920" y="3736800"/>
            <a:ext cx="23421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86440" y="3736800"/>
            <a:ext cx="23421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746320" y="3736800"/>
            <a:ext cx="23421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6232C-2D24-44F0-9B9E-FAA876850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72741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8263-C296-4367-A64C-86B0905A0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354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54360" y="1125000"/>
            <a:ext cx="354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0A68-B4E9-4E66-908E-AE5C3837C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0143-3F1B-4649-90A9-1B1F35B74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038240" y="82080"/>
            <a:ext cx="706752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89DB-62CA-4CBB-9EBD-E865ED672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35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54360" y="1125000"/>
            <a:ext cx="354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26920" y="3736800"/>
            <a:ext cx="35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473F-F364-411A-8C6E-B344DA6E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354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54360" y="1125000"/>
            <a:ext cx="35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4360" y="3736800"/>
            <a:ext cx="35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C705-A1F3-4401-A76C-56CBDA558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35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4360" y="1125000"/>
            <a:ext cx="35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26920" y="3736800"/>
            <a:ext cx="72741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60AC-B905-448E-A68D-0D8CB30D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018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6948360" y="3603600"/>
            <a:ext cx="1944720" cy="26766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gradFill rotWithShape="0">
            <a:gsLst>
              <a:gs pos="0">
                <a:srgbClr val="005775"/>
              </a:gs>
              <a:gs pos="100000">
                <a:srgbClr val="0099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240" y="645336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649908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826920" y="1125000"/>
            <a:ext cx="72741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7040" indent="-43704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44000" indent="-432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439640" indent="-22140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835280" indent="-22140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31280" indent="-22140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231280" indent="-22140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231280" indent="-22140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6840" y="6481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F9B58-AC1A-4A75-ABE5-E92403B1686D}" type="datetime">
              <a:rPr b="0" lang="zh-TW" sz="2400" spc="-1" strike="noStrike">
                <a:solidFill>
                  <a:srgbClr val="ffffff"/>
                </a:solidFill>
                <a:latin typeface="Times New Roman"/>
              </a:rPr>
              <a:t>115/0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481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2720" y="6481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6C613-4264-440A-9864-4C8824CCA42C}" type="slidenum">
              <a:rPr b="0" lang="zh-TW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24382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89cf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200400" y="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rcRect l="0" t="0" r="0" b="31522"/>
          <a:stretch/>
        </p:blipFill>
        <p:spPr>
          <a:xfrm>
            <a:off x="5770440" y="3357720"/>
            <a:ext cx="3373560" cy="34732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491920"/>
            <a:ext cx="77724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D76E6-7433-4B97-8EE5-60E0B0CC8320}" type="datetime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115/0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50D4D-3ED4-4F9C-82AB-3B93331B91C5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4"/>
          <a:srcRect l="0" t="0" r="0" b="24291"/>
          <a:stretch/>
        </p:blipFill>
        <p:spPr>
          <a:xfrm>
            <a:off x="0" y="0"/>
            <a:ext cx="3200400" cy="24224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2362320"/>
            <a:ext cx="91440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28600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341280" algn="ctr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291960" algn="ctr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243000" algn="ctr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2430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2430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491920"/>
            <a:ext cx="77724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推甄履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星光中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趙子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得獎紀錄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68360" y="1292400"/>
          <a:ext cx="8207280" cy="4224240"/>
        </p:xfrm>
        <a:graphic>
          <a:graphicData uri="http://schemas.openxmlformats.org/drawingml/2006/table">
            <a:tbl>
              <a:tblPr/>
              <a:tblGrid>
                <a:gridCol w="5616360"/>
                <a:gridCol w="2590920"/>
              </a:tblGrid>
              <a:tr h="64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項目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ccff"/>
                      </a:solidFill>
                    </a:lnL>
                    <a:lnR w="13680">
                      <a:solidFill>
                        <a:srgbClr val="99ccff"/>
                      </a:solidFill>
                    </a:lnR>
                    <a:lnT w="13680">
                      <a:solidFill>
                        <a:srgbClr val="99ccff"/>
                      </a:solidFill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成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ccff"/>
                      </a:solidFill>
                    </a:lnL>
                    <a:lnR w="13680">
                      <a:solidFill>
                        <a:srgbClr val="99ccff"/>
                      </a:solidFill>
                    </a:lnR>
                    <a:lnT w="13680">
                      <a:solidFill>
                        <a:srgbClr val="99ccff"/>
                      </a:solidFill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</a:tr>
              <a:tr h="56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全國高中職組啦啦隊大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ccff"/>
                      </a:solidFill>
                    </a:lnL>
                    <a:lnR w="13680">
                      <a:solidFill>
                        <a:srgbClr val="99cc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ccff"/>
                      </a:solidFill>
                    </a:lnL>
                    <a:lnR w="13680">
                      <a:solidFill>
                        <a:srgbClr val="99cc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6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全縣反盜版海報設計比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ccff"/>
                      </a:solidFill>
                    </a:lnL>
                    <a:lnR w="13680">
                      <a:solidFill>
                        <a:srgbClr val="99cc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ccff"/>
                      </a:solidFill>
                    </a:lnL>
                    <a:lnR w="13680">
                      <a:solidFill>
                        <a:srgbClr val="99cc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</a:tr>
              <a:tr h="61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校際網頁設計比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ccff"/>
                      </a:solidFill>
                    </a:lnL>
                    <a:lnR w="13680">
                      <a:solidFill>
                        <a:srgbClr val="99cc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ccff"/>
                      </a:solidFill>
                    </a:lnL>
                    <a:lnR w="13680">
                      <a:solidFill>
                        <a:srgbClr val="99cc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1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校際英文演說比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ccff"/>
                      </a:solidFill>
                    </a:lnL>
                    <a:lnR w="13680">
                      <a:solidFill>
                        <a:srgbClr val="99cc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ccff"/>
                      </a:solidFill>
                    </a:lnL>
                    <a:lnR w="13680">
                      <a:solidFill>
                        <a:srgbClr val="99cc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校際飲料調酒比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ccff"/>
                      </a:solidFill>
                    </a:lnL>
                    <a:lnR w="13680">
                      <a:solidFill>
                        <a:srgbClr val="99cc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ccff"/>
                      </a:solidFill>
                    </a:lnL>
                    <a:lnR w="13680">
                      <a:solidFill>
                        <a:srgbClr val="99cc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校際英文作文比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ccff"/>
                      </a:solidFill>
                    </a:lnL>
                    <a:lnR w="13680">
                      <a:solidFill>
                        <a:srgbClr val="99ccff"/>
                      </a:solidFill>
                    </a:lnR>
                    <a:lnT>
                      <a:noFill/>
                    </a:lnT>
                    <a:lnB w="13680">
                      <a:solidFill>
                        <a:srgbClr val="99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佳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ccff"/>
                      </a:solidFill>
                    </a:lnL>
                    <a:lnR w="13680">
                      <a:solidFill>
                        <a:srgbClr val="99ccff"/>
                      </a:solidFill>
                    </a:lnR>
                    <a:lnT>
                      <a:noFill/>
                    </a:lnT>
                    <a:lnB w="13680">
                      <a:solidFill>
                        <a:srgbClr val="99ccff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推甄履歷簡報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E4FB-CEB4-4C67-A8FB-E68140C7504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未來學習計畫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72741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新細明體"/>
              </a:rPr>
              <a:t>課業目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76400" indent="-4460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新細明體"/>
              </a:rPr>
              <a:t>成績保持班上前</a:t>
            </a:r>
            <a:r>
              <a:rPr b="1" lang="zh-TW" sz="2800" spc="-1" strike="noStrike">
                <a:solidFill>
                  <a:srgbClr val="000000"/>
                </a:solidFill>
                <a:latin typeface="新細明體"/>
              </a:rPr>
              <a:t>5</a:t>
            </a:r>
            <a:r>
              <a:rPr b="1" lang="zh-TW" sz="2800" spc="-1" strike="noStrike">
                <a:solidFill>
                  <a:srgbClr val="000000"/>
                </a:solidFill>
                <a:latin typeface="新細明體"/>
              </a:rPr>
              <a:t>名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新細明體"/>
              </a:rPr>
              <a:t>語言學習目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76400" indent="-4460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新細明體"/>
              </a:rPr>
              <a:t>通過全民英檢中高級檢定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新細明體"/>
              </a:rPr>
              <a:t>其他目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76400" indent="-4460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新細明體"/>
              </a:rPr>
              <a:t>爭取資訊公司工讀機會，預先了解業界實務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推甄履歷簡報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27A4-60E0-46C5-9C82-D82AD818CF10}" type="slidenum">
              <a:t>1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簡報內容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6560" y="1125000"/>
            <a:ext cx="3560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009999"/>
                </a:solidFill>
                <a:uFillTx/>
                <a:latin typeface="Arial"/>
              </a:rPr>
              <a:t>個人基本資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009999"/>
                </a:solidFill>
                <a:uFillTx/>
                <a:latin typeface="Arial"/>
              </a:rPr>
              <a:t>求學過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009999"/>
                </a:solidFill>
                <a:uFillTx/>
                <a:latin typeface="Arial"/>
              </a:rPr>
              <a:t>幹部經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009999"/>
                </a:solidFill>
                <a:uFillTx/>
                <a:latin typeface="Arial"/>
              </a:rPr>
              <a:t>專長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009999"/>
                </a:solidFill>
                <a:uFillTx/>
                <a:latin typeface="Arial"/>
              </a:rPr>
              <a:t>社團經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39960" y="1125000"/>
            <a:ext cx="3560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009999"/>
                </a:solidFill>
                <a:uFillTx/>
                <a:latin typeface="Arial"/>
              </a:rPr>
              <a:t>志工經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檢定與證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009999"/>
                </a:solidFill>
                <a:uFillTx/>
                <a:latin typeface="Arial"/>
              </a:rPr>
              <a:t>得獎紀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009999"/>
                </a:solidFill>
                <a:uFillTx/>
                <a:latin typeface="Arial"/>
              </a:rPr>
              <a:t>未來學習計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推甄履歷簡報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6CEA-8A74-407B-B46A-4C294611EF0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個人基本資料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72741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姓名：趙子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學歷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76400" indent="-4460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星光中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76400" indent="-4460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仁愛國中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76400" indent="-4460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仁愛國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推甄科系：資訊管理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072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推甄履歷簡報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A2E0-89A5-40BC-9025-DF9C993C41D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求學過程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72741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國小</a:t>
            </a: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~</a:t>
            </a: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國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76400" indent="-4460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新細明體"/>
              </a:rPr>
              <a:t>從小喜歡玩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電腦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TW" sz="2800" spc="-1" strike="noStrike">
                <a:solidFill>
                  <a:srgbClr val="000000"/>
                </a:solidFill>
                <a:latin typeface="新細明體"/>
              </a:rPr>
              <a:t>對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資訊</a:t>
            </a:r>
            <a:r>
              <a:rPr b="1" lang="zh-TW" sz="2800" spc="-1" strike="noStrike">
                <a:solidFill>
                  <a:srgbClr val="000000"/>
                </a:solidFill>
                <a:latin typeface="新細明體"/>
              </a:rPr>
              <a:t>很有興趣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高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76400" indent="-4460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新細明體"/>
              </a:rPr>
              <a:t>利用空閒時間來研讀各種電腦書籍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76400" indent="-4460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考取多項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證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推甄履歷簡報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96B3-818D-4574-8431-65F7366D73A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幹部經歷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72741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高一：電腦小老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76400" indent="-4460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協助解決同學疑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76400" indent="-4460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協助老師整理教材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高二：體育股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76400" indent="-4460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帶領全班同學獲得啦啦隊比賽第一名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高三：班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76400" indent="-4460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帶領同學得到學年精神總錦標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推甄履歷簡報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0FA7-9511-4121-90A2-BB95A7FA3B5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專長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72741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文書處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程式設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英文演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美術設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舞蹈表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飲料調酒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推甄履歷簡報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97D0-F78E-4E1A-BF47-D4D9E0DB8B5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社團經歷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72741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數位影像編修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熱舞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啦啦隊校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飲料調酒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推甄履歷簡報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48C4-E628-45E2-BDB6-DEDE2A66A34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志工經歷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72741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台北市立動物園志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教育部資訊志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內政部消防署鳳凰志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推甄履歷簡報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5A9B-1DB6-4BC2-BFA1-93D5E77E1E2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檢定與證照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推甄履歷簡報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A7DE-AE4B-4DE0-8F86-AEBB00126E8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5T03:52:41Z</dcterms:created>
  <dc:creator>E063</dc:creator>
  <dc:description/>
  <dc:language>en-US</dc:language>
  <cp:lastModifiedBy>user</cp:lastModifiedBy>
  <dcterms:modified xsi:type="dcterms:W3CDTF">2009-11-12T01:15:38Z</dcterms:modified>
  <cp:revision>34</cp:revision>
  <dc:subject/>
  <dc:title>推</dc:title>
</cp:coreProperties>
</file>