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8E1-B35C-4D17-9AF9-64CBAB4E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9FD-DE02-4E99-9548-376C5239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46A-CF80-4FC7-884B-E9C8FE81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716-D102-402B-BF6A-AB981260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2F4-9CC9-444A-8657-73938EA4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2D6-3B7A-433E-9315-62EB93F8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B3C-E212-48FC-B793-F007D0CB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920-AFC3-4A09-B0CD-0EF925A5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10E-6227-4794-9174-1E1F091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AF1-8370-4687-BDA4-7DA1A25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995-C518-4CEA-BDD9-11AF869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23C-80A2-4399-B30F-8CA733CF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2929-7973-4380-8C0B-5F22E9FE03C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630360"/>
            <a:ext cx="6480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新細明體"/>
              </a:rPr>
              <a:t>老師，謝謝您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年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班全體同學  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143920" y="6138720"/>
            <a:ext cx="1000080" cy="9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-108000" y="6184800"/>
            <a:ext cx="1000080" cy="9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2:12:44Z</dcterms:created>
  <dc:creator>user</dc:creator>
  <dc:description/>
  <dc:language>en-US</dc:language>
  <cp:lastModifiedBy>user</cp:lastModifiedBy>
  <dcterms:modified xsi:type="dcterms:W3CDTF">2009-10-29T03:50:27Z</dcterms:modified>
  <cp:revision>12</cp:revision>
  <dc:subject/>
  <dc:title>投影片 1</dc:title>
</cp:coreProperties>
</file>